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DD00-9AF2-4CE6-BA02-C5DF9BD6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9D9-8FE3-42B4-BCB0-81FCACFB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F94-3DC6-4671-B868-DDFCE0FAF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C95-38CB-4E2B-A517-B8E90A8A2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76B-1B24-4B74-AE38-9AFB0793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1D8-894A-4A8B-8001-21043D347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C601-25E2-4C54-9EE9-54959C0A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51F-C034-43D1-B480-20BF71EB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C1D4-E9A6-4074-B727-7163CD76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99A2-F0C2-4C24-9FA3-DC6001E4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41C-145C-41BC-A27F-3B809BDF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7BF8-2A56-4D91-81C7-D38005F2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D232FA-9689-41A5-89FF-1EA8AA578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0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- High Speed PHY in the 5 GHz band PH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, 802.11 TGa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ezeCOM Ltd., ISRA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B53D-C912-4156-8015-CAFC9050BEC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ambl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ne repetitions of short sequence in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Detection, AGC convergence, Diversity resolution, Timing estimation, Coarse frequency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repetitions of long sequence with Guard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e frequency estimation, Channel Est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868680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BDA-3A17-4B39-A5DD-5064D289E12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nelization in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66840" y="1447920"/>
            <a:ext cx="831996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FA27-CB7D-45E8-8B04-742B94E9CF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tral Mask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sk determines worst case A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ed to pass local regulatory requirements is explicitly men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7315200" cy="33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5DB3-BA2F-4732-8763-6626F9B0866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ination with other Standards Committ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 TGa cooperates with the European ETSI BRAN (Broadband Radio Access Networks) and with Japanese MMAC (Mobile Multimedia Advisory Council) to achieve commonality in PHY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Wireless Ethernet group will adopt 802.11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AC Wireless ATM group and BRAN agreed on basic parameters (52 subcarrier OFDM, channel spacing), but adapt some details such as preamble structure and rate signaling to their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C567-3CEB-4D81-87FC-36E3D3BA3F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802.1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ized a standard for Wireless LANs in the 2.4 GHz ISM band in July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MAC, three PHYs: FHSS, DSSS,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less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 the group work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peed PHY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speed PHY in the 2.4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PAN (Personal Area Network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249A-8C6B-4A2D-B4C6-62C7B72F09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TGa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sk Group a formed in July 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selected in July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finalized in Nov 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letter ballot issued Nov 98, processed Jan 99, 82% support after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firmation ballot issued Jan 99, to be processed in March 99, initially 92%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52C-F79D-447C-A282-0C1681CE21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 - 5 GHz High Speed PHY 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, Modulations, Preamble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ization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al mask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cooperation with other standards bodies (BRAN, MMA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F99-B993-4896-8717-7CFC037505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in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 MHz channel spa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6 MHz signal bandwid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data rates-  6 to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of 6, 12 and 24 Mbit/s rates is mand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mod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SK, QPSK, 16QAM or 64QAM on each subcar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assisted coherent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multirate mechanis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973-A35B-4632-9F5D-47F1BF451B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Frame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pacing is 312.5 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 performed over 3.2 microsec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8 microsecond Guard Interval for ISI re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438280" y="4038480"/>
          <a:ext cx="431964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038480"/>
                    <a:ext cx="43196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C484-07E7-4E08-9CF0-4642F14F9C1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and Pilot subcarr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non zero subcarr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 data sub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arrier pilot sub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er frequency subcarrier not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kage in quadrature modulators may corrupt th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09480" y="3885840"/>
            <a:ext cx="8153640" cy="2590920"/>
            <a:chOff x="609480" y="3885840"/>
            <a:chExt cx="8153640" cy="2590920"/>
          </a:xfrm>
        </p:grpSpPr>
        <p:sp>
          <p:nvSpPr>
            <p:cNvPr id="62" name=""/>
            <p:cNvSpPr/>
            <p:nvPr/>
          </p:nvSpPr>
          <p:spPr>
            <a:xfrm>
              <a:off x="8953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386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81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4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677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064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53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68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9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826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59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68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121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50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980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12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1842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271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704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1332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62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99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2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853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286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71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614840" y="5715000"/>
              <a:ext cx="0" cy="152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57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9006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439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86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298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730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1600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589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022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451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880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313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742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175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604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033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4664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895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324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7576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680" y="4647960"/>
              <a:ext cx="0" cy="121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616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90488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478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9072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34000" y="4647960"/>
              <a:ext cx="0" cy="1218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09480" y="5867280"/>
              <a:ext cx="81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614840" y="388584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0DC-79ED-4223-85E4-6425731696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Correction Co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s a must - some subcarriers may f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 Interleaved Convolutional Coding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obust that trellis in Rayleigh f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standard K=7, R=1/2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coding rates (2/3, 3/4) derived by punct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il zero bits added to message (trellis termin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leaver spans one OFDM 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ncy and complexity consid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BB1-08E0-4BFC-9747-39B5FB10CC9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ed Rates and Modu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ation of the data subcarriers by ei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PSK, QPSK, 16QAM or 64Q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, 2, 4, or 6 bits/subcarrier, correspon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Msubcarriers/sec (48 subcarriers each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1752480" y="1752480"/>
          <a:ext cx="12877560" cy="26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52480" y="1752480"/>
                    <a:ext cx="12877560" cy="26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aftali Chayat, Breeze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B09B-C152-4E2F-B3E1-2B29A2ED5D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23:36:41Z</dcterms:created>
  <dc:creator>Naftali Chayat</dc:creator>
  <dc:description/>
  <dc:language>en-US</dc:language>
  <cp:lastModifiedBy>vichayes</cp:lastModifiedBy>
  <cp:lastPrinted>1999-03-09T05:40:21Z</cp:lastPrinted>
  <dcterms:modified xsi:type="dcterms:W3CDTF">1999-03-09T05:41:07Z</dcterms:modified>
  <cp:revision>10</cp:revision>
  <dc:subject/>
  <dc:title>No Slide Title</dc:title>
</cp:coreProperties>
</file>