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7A1-1F2F-4584-8798-958FE6DF3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C8D-98C6-492A-A74E-FF4CB49F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A199-5AE4-4BC2-A82D-E7255E51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183F-8148-42D1-8B05-95B76D57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8C14-28AC-44D0-B941-8C6BE43B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8421-4CFE-4F75-A47A-E305262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3329-B051-4EF1-93ED-EB14355F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89D7-BD5E-4666-8F12-34517367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BDC-8323-43D2-AE35-8197480B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D4F3-A8AD-4E14-A4D6-3FBDE94A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8A33-62C3-49E5-A104-53DB599C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696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F6B2-9C7E-4767-AF61-8EA44C7B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3D1F6E-9627-4D4B-A5FA-2B50B88B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ellation Bit Encodings for IEEE 802.11 OFDM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1424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Ward in Cooperation with Symbol Technologi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1FC-16B0-4A3B-B3D1-F17C9AFC0DF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39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ontribution provides the OFDM Constellations as per IEEE Standards conventional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echnical content change i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6DF8-7AF2-4814-935C-F66FD656DEA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crip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and Q mappings to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s existing Tables 81, 82, 83,8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 integer locations without power normal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y Code Mapp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hange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ransmitted earlier in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Norm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rve same normalizations for unity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QPSK and Pilot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105520" y="4800600"/>
                <a:ext cx="4572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863800" y="5105520"/>
                <a:ext cx="520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859120" y="5410080"/>
                <a:ext cx="531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4D0-11ED-4C01-ACFF-6597D7D93D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PSK,QPSK and 16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SK and Pi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5533920" cy="8334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3505320"/>
            <a:ext cx="5540400" cy="839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066680" y="4876920"/>
            <a:ext cx="5540400" cy="136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387-8264-4FAF-8803-66CC90F5C3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 QAM Constellation En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20800" y="2236680"/>
            <a:ext cx="5702400" cy="238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5E9F-ED5F-4DC9-A422-7AFD974BAC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fy Bit Encoding with constellation encoding diagrams provided in thi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in 17.3.5.7, the reference to the necessary power normalization factors (as was in earlier drafts) included in a separate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lows IEEE Standard conventions for bit encoding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storage of bit encoding tables (since @ integer loc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s bit encoding and power normaliz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219-3836-4AD5-8C50-1D20EA698B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posed text clau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nstellation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each constellation, symbols are located at integer points, within the following 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(1,1) and (-1,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PSK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4 QAM, {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 = {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d I and Q values are normalized by power scaling to achieve unity average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he clause on norm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Ward - Sci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496-AE39-4A62-9EB6-3BAAEB0530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1999-03-10T15:02:39Z</dcterms:modified>
  <cp:revision>28</cp:revision>
  <dc:subject/>
  <dc:title>No Slide Title</dc:title>
</cp:coreProperties>
</file>