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1E970-B36C-4550-9437-F82C013B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314BA-1A81-4D0F-B533-BFD2CBD3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E859-BBF8-441D-AE08-D137C3FA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AEF2D-1CD3-49C0-919B-D1B99DAE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5A787-53DD-4813-BE4B-796F774C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11FA1-76E4-4B37-BEAD-367B17E6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29241-D4D5-4300-A5FC-59EF4406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7588-A1C3-4A9B-8ECE-79AC6231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9EAA-40F0-4569-BE6E-47EB1A86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47121-6230-4318-8F5F-40083EA8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9074-8D15-4917-AF86-7A67ACB6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FA11A-933D-421C-A241-BEF6FA43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9864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C6847F-58B9-4ED3-AB8E-170AD30B7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7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2280" y="60948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92280" y="6477120"/>
            <a:ext cx="784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584676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2.4 GHz High Rate D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tele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9,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4067B-DAC9-4C74-8661-F0AC1D9C788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isting draft has an approval rate of 94% at the working group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expecting approval at 802.11 to submit the draft for sponsor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BFF68-5CBF-41BB-A167-16111744F79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evant Submi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has been approved by the FCC with the CCK wave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d in the current draft standard is an optional modulation, PBCC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same modulation that was presented to the FCC in Nov, 9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5896-182C-404C-9AEF-B002EFE310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K expla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uses 64-ary (nearly) orthogonal keying using a complementary cod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mensionality of the CCK codes requires 16 chips per symbol to describ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3D1E-8986-4B5C-AD69-79619F298A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CK 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028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allows the use of a fast walsh transform for the correlator in the demodulator greatly simplifying the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0282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CK modulation code words possess an underlying structure which can be exploited by a symbol-decision-based equalizer.  This allows the equalizer to operate at low SNR condition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arl Andren, Harris Semiconducto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E1D3-921F-41DF-B16D-413D2B2781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9-03-09T05:35:00Z</cp:lastPrinted>
  <dcterms:modified xsi:type="dcterms:W3CDTF">1999-03-09T15:02:58Z</dcterms:modified>
  <cp:revision>53</cp:revision>
  <dc:subject/>
  <dc:title>Document 98/116</dc:title>
</cp:coreProperties>
</file>