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EF183C-ABC4-4DC8-B190-88F0D6CEE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5348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520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19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EDCBD95-DC42-4CD1-A0C3-A8DFC780E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90600" y="771480"/>
            <a:ext cx="4287960" cy="321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480" y="4344840"/>
            <a:ext cx="535788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o improve the  preamble detection probability and time acquisition accuracy we propose to use the structure of the A-field as depicted in this slid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length of the A-field is not changed by the alternative structure (still 96 samples in total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A-field consists of 6 repetitive short OFDM symbo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complex samples of the last short symbol are phase-shifted by 180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Several advantages are achieved with this structur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granularity of the short symbols is higher, which leads to a larger AC windo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A shorter AC delay allows the detection of larger frequency offse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For CC the structure allows correlation over 16- or 32 s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proposal is almost identical to current IEEE proposal which is advantageous for harmonis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Overall this  provides more flexibility and better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70020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34484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o show the improved acquisition reliability we want to consider the synchronisation using auto-correlation (AC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received signal is delayed by the correlation delay D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  <a:ea typeface="?l?r ??fc"/>
              </a:rPr>
              <a:t>ac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conjugate complex samples of the delayed version are multiplied with the received samples. The products are feed into the moving average of window size W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Times New Roman"/>
                <a:ea typeface="?l?r ??fc"/>
              </a:rPr>
              <a:t>ac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 and are then post-processed for a threshold detection and/or maximum search to find the correct tim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complex correlation result at the peak position can be used to estimate the frequency offs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maximum detectable frequency offset is different for both structures, the current WA has a detection range of 208kHz, the new proposal can detect up to 635k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Considering frequency allocation of H/2 systems (e.g. 5.15G-5.35G) max. frequency offset is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214kHz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 (5.35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Current A-field structure can not be used for Frequency offset detection and coarse frequency synchronis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The new proposal achieves reliable FO det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A9A-0B45-4C14-8A54-A1BFB3B7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2CD-0797-4254-8D16-1D48EB64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C298-999D-4367-8337-07A7DE61B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FEA-EDB8-4DB1-BD5C-99A08299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F82-81EE-45E5-B876-0C1BD76B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0A7-6372-44CF-868F-6A9F1A1C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E06-74C3-43CA-81BC-E17A1071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A7D-C713-4991-9C09-23B6147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D3F1-1382-4105-89BC-8BB1241D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126E-8E7C-4EAE-8CBD-90B7DC52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25C0-8420-4ED4-B99B-F8856C4C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E656-A4B9-410B-A5AC-CA35CF59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E73AE3-0058-48B1-8CEC-7D45B2F4F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IPERLAN-2 PHY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35809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ordinator of HIPERLAN-2 Standard Are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B47-BFA6-4676-B403-70D0273F059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ambl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C89-B599-46C7-BDA4-688F1189BA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amble -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2286000"/>
          <a:ext cx="85345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534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539640" y="1752480"/>
            <a:ext cx="8001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implified HIPERLAN-2 MAC-Fram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6E2-E3CE-4A88-B155-5704B49BCA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amble - II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re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different preambles for HIPERLAN-2 due to the centralised DLC protocol applied to HIPERLAN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the beginning of MAC-Frame (for BC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hort symbols for AGC setting, (coarse) frequency acquisition as well as timing acquisition and long symbols for channel estimation (and fine frequency acquisition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urrently no need for the IEEE PLCP Header, because the signalling of LENGTH,  PHY mode and SERVICE are performed in the other part of protocol (in FC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each downlink burst and one for each uplink burst including long symbols C64 (T1/T2 in IEEE 802.11a). Not agreed ye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s for coarse frequency and timing acquisition for downlink bursts needed? (most likely NO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s for coarse frequency and timing acquisition and/or AGC symbol(s) in uplink bur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D1D-D677-49F6-B3F6-2579938297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amble - I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007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-2 preamble structure for BroadCast Channel (BC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295280" y="3048120"/>
          <a:ext cx="7315200" cy="11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73152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533520" y="4292640"/>
            <a:ext cx="80010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ly two proposals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ssue will be resolved in  BRAN#13 meeting on April 13-16, in Stockhol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2CA-1A74-4208-B054-A0F21FF7BCC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CCH Pream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1828800"/>
            <a:ext cx="815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reamble introduced at the IEEE/BRAN joint meeting in Orlando by Ericsson/Nok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2971800"/>
            <a:ext cx="7765560" cy="1218960"/>
            <a:chOff x="762120" y="2971800"/>
            <a:chExt cx="7765560" cy="1218960"/>
          </a:xfrm>
        </p:grpSpPr>
        <p:sp>
          <p:nvSpPr>
            <p:cNvPr id="73" name=""/>
            <p:cNvSpPr/>
            <p:nvPr/>
          </p:nvSpPr>
          <p:spPr>
            <a:xfrm>
              <a:off x="3129120" y="3618000"/>
              <a:ext cx="2611080" cy="57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Times New Roman"/>
                </a:rPr>
                <a:t>AGC settling, frequency offset estimation, and time synchron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762120" y="2971800"/>
              <a:ext cx="7765560" cy="1209600"/>
              <a:chOff x="762120" y="2971800"/>
              <a:chExt cx="7765560" cy="1209600"/>
            </a:xfrm>
          </p:grpSpPr>
          <p:sp>
            <p:nvSpPr>
              <p:cNvPr id="75" name=""/>
              <p:cNvSpPr/>
              <p:nvPr/>
            </p:nvSpPr>
            <p:spPr>
              <a:xfrm>
                <a:off x="1311840" y="3628800"/>
                <a:ext cx="1587600" cy="55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GC and coarse time synchronizat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9040" y="3498120"/>
                <a:ext cx="22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2120" y="2971800"/>
                <a:ext cx="448920" cy="31644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210680" y="2978280"/>
                <a:ext cx="645480" cy="3114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46440" y="2978280"/>
                <a:ext cx="455400" cy="3114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1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302200" y="2978280"/>
                <a:ext cx="758520" cy="3114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A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060720" y="2978280"/>
                <a:ext cx="68328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744360" y="2978280"/>
                <a:ext cx="68400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428720" y="2978280"/>
                <a:ext cx="68328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35880" y="3505320"/>
                <a:ext cx="279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121720" y="2980080"/>
                <a:ext cx="683640" cy="31140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800" spc="-1" strike="noStrike">
                    <a:solidFill>
                      <a:srgbClr val="000000"/>
                    </a:solidFill>
                    <a:latin typeface="Times New Roman"/>
                  </a:rPr>
                  <a:t>B3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5808240" y="2978280"/>
                <a:ext cx="2719440" cy="975600"/>
                <a:chOff x="5808240" y="2978280"/>
                <a:chExt cx="2719440" cy="97560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171120" y="3585600"/>
                  <a:ext cx="192888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hannel estima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7600" y="3503880"/>
                  <a:ext cx="2710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5808240" y="2978280"/>
                  <a:ext cx="684000" cy="311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3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492240" y="2978280"/>
                  <a:ext cx="1053360" cy="311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6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7545960" y="2982240"/>
                  <a:ext cx="973440" cy="31140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800" spc="-1" strike="noStrike">
                      <a:solidFill>
                        <a:srgbClr val="000000"/>
                      </a:solidFill>
                      <a:latin typeface="Times New Roman"/>
                    </a:rPr>
                    <a:t>C6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" name=""/>
          <p:cNvSpPr/>
          <p:nvPr/>
        </p:nvSpPr>
        <p:spPr>
          <a:xfrm>
            <a:off x="533520" y="4343400"/>
            <a:ext cx="808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reamble proposed by SONY based on 1/4 symbols for A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981080" y="5486400"/>
          <a:ext cx="5562720" cy="47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86400"/>
                    <a:ext cx="556272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6D09-7325-4A9C-912A-55F8800CE2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Y proposal -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repetitive symbols of length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pattern is phase-shifted by 180° (sign-bit fl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antages (SONY claims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uto-correlation receiver implement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synchronization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ains excellent False Alarm/Detection Failure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oss-correlation receiver implement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identification of last repetition (CC-peak phase shift) for length 16 cross 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r CC peak in case of length 32 cross-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 commonality to IEEE802.11 pream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5C1-CC01-48FB-A9F6-B56C3A36A9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520" y="129492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quence proposal for A16, sub-carrier mapping, generation same as in IEEE (see [BRAN12.5, HL12.5SON2.a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nimize Peak-to-Average-Power-Ratio and dynamic range to improve AGC lock-in speed and reduce nonlinear distor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EE: PAPR=3dB, Dynamic Range=30.8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8640" indent="-210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6 proposal: PAPR=2.2dB, Dynamic Range=7.0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4038480" cy="274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" y="3581280"/>
          <a:ext cx="3276720" cy="2590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581280"/>
                    <a:ext cx="32767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886200" y="6172200"/>
            <a:ext cx="457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6000"/>
          </a:bodyPr>
          <a:p>
            <a:pPr marL="191880" indent="-191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tact: Ralf Boehnke (boehnke@sony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440" y="761760"/>
            <a:ext cx="775188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NY proposal -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58CC-A987-4325-95C2-A25768F9D4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Other Deci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64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ntent of T1/T2 symbol in 802.11a i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ta interlea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ame block size and permutation rule as 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 data scram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MAC-frame synchronous scrambler with the generator polynomial used in 802.11a. Only 16 initial states are needed which are defined by the first four bits of BC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olutional code and puncturing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rate-1/2 “mother code” with generator polynomials  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133 and g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=171 in octal representation as used in 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or code rate 3/4 the same pattern as 802.11a (2/3 is currently not  used in HIPERLAN-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787-000B-4E35-9095-620F5E1AA1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3-31T08:38:34Z</cp:lastPrinted>
  <dcterms:modified xsi:type="dcterms:W3CDTF">1999-03-31T08:40:03Z</dcterms:modified>
  <cp:revision>16</cp:revision>
  <dc:subject/>
  <dc:title>No Slide Title</dc:title>
</cp:coreProperties>
</file>