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2879C05-EA04-4494-85E1-14524134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C6171F8-6A98-432C-B358-CA1AFACE1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90600" y="771480"/>
            <a:ext cx="4287960" cy="3216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27B-5D7E-459A-818C-001C883A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D5F-9B46-4391-9597-1DAE216C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3BB-8802-4F5A-98CF-287F0A2B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75AC-FF56-48D9-9587-A9FAE816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7BF-51C7-426D-9C73-34A4D5AC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11E0-3857-45C0-BD2A-BBFB4776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817-8C24-4609-8704-B88AA219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C07-6531-40F4-9ADA-7062BD8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7403-B82A-4C3F-BD98-21E8E2C2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7EC-4426-4C63-88BF-8F27F265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C0E-2C61-44BA-B320-2AD552A0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D3A6-C65D-4BFD-91C0-73CC7D08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E2E6EE-4F93-47DC-86C4-9570541DE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0/0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inkage of RF Generation and Time-base Clo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DB2-620E-4CE5-AEF8-DA5576A6087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Non-linked 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st case drift between carrier frequency source and timing clock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40 p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phase shift for 16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4*17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8*22,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+ 4*4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/16 = 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lerable time sh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et the numbering of subcarriers be from -32 to 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ampling time shift (50 ns) corresponds to 26/32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hase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tolerable phase shift results in a tolerable time shift (50ns*26.7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32)/(26*18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) = 9.1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imum burst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lnSpc>
                <a:spcPct val="89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9.15ns/40ppm = 229 us corresponding to 57 OFDM sym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ctr">
              <a:lnSpc>
                <a:spcPct val="89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t is too shor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nd necessitates the use a (very) fast closed loop for tracking of symbol ti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A23-F3E3-4040-8F50-5D800E40A6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inked Sour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suming a frequency acquisition accuracy in the order 2% of sub-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a max. frequency error 20ppm*5GHz, the 2%*(20MHz/64) frequency error after fine frequency acquisition corresponds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1.25 ppm frequency error which allows a much longer max. burst length and makes the use of a very slow closed loop for tracking of symbol timing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Times New Roman"/>
              </a:rPr>
              <a:t>Conclusion: The linkage of clocks enables a reduced complexity receiver implemen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28BA-1E41-4C52-8D06-1536916C2A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rodane</cp:lastModifiedBy>
  <cp:lastPrinted>1999-03-31T08:42:42Z</cp:lastPrinted>
  <dcterms:modified xsi:type="dcterms:W3CDTF">1999-03-31T08:43:38Z</dcterms:modified>
  <cp:revision>14</cp:revision>
  <dc:subject/>
  <dc:title>No Slide Title</dc:title>
</cp:coreProperties>
</file>