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73920" y="396720"/>
            <a:ext cx="2384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0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981080"/>
            <a:ext cx="6472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omment on line spectra at pilot sub-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720" y="3886200"/>
            <a:ext cx="503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sahiro Morikura  and  Masato Mizogu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67080" y="4572000"/>
            <a:ext cx="776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884760" cy="5892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0" y="609480"/>
            <a:ext cx="3890880" cy="5892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641920" y="3124080"/>
            <a:ext cx="1368360" cy="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19320" y="903240"/>
            <a:ext cx="6959520" cy="5337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55720" y="4648320"/>
            <a:ext cx="2282760" cy="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03840" y="5715000"/>
            <a:ext cx="1139760" cy="0"/>
          </a:xfrm>
          <a:prstGeom prst="line">
            <a:avLst/>
          </a:prstGeom>
          <a:ln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143000"/>
            <a:ext cx="2287800" cy="1221120"/>
          </a:xfrm>
          <a:custGeom>
            <a:avLst/>
            <a:gdLst/>
            <a:ahLst/>
            <a:rect l="0" t="0" r="r" b="b"/>
            <a:pathLst>
              <a:path w="6355" h="3392">
                <a:moveTo>
                  <a:pt x="3372" y="679"/>
                </a:moveTo>
                <a:lnTo>
                  <a:pt x="2859" y="295"/>
                </a:lnTo>
                <a:lnTo>
                  <a:pt x="2515" y="1002"/>
                </a:lnTo>
                <a:lnTo>
                  <a:pt x="1323" y="569"/>
                </a:lnTo>
                <a:lnTo>
                  <a:pt x="1579" y="1227"/>
                </a:lnTo>
                <a:lnTo>
                  <a:pt x="344" y="1298"/>
                </a:lnTo>
                <a:lnTo>
                  <a:pt x="1156" y="1820"/>
                </a:lnTo>
                <a:lnTo>
                  <a:pt x="0" y="2023"/>
                </a:lnTo>
                <a:lnTo>
                  <a:pt x="979" y="2411"/>
                </a:lnTo>
                <a:lnTo>
                  <a:pt x="379" y="2800"/>
                </a:lnTo>
                <a:lnTo>
                  <a:pt x="1412" y="2866"/>
                </a:lnTo>
                <a:lnTo>
                  <a:pt x="1447" y="3392"/>
                </a:lnTo>
                <a:lnTo>
                  <a:pt x="2215" y="2844"/>
                </a:lnTo>
                <a:lnTo>
                  <a:pt x="2559" y="3096"/>
                </a:lnTo>
                <a:lnTo>
                  <a:pt x="2903" y="2729"/>
                </a:lnTo>
                <a:lnTo>
                  <a:pt x="3416" y="2959"/>
                </a:lnTo>
                <a:lnTo>
                  <a:pt x="3584" y="2504"/>
                </a:lnTo>
                <a:lnTo>
                  <a:pt x="4396" y="2729"/>
                </a:lnTo>
                <a:lnTo>
                  <a:pt x="4307" y="2252"/>
                </a:lnTo>
                <a:lnTo>
                  <a:pt x="5552" y="2455"/>
                </a:lnTo>
                <a:lnTo>
                  <a:pt x="4819" y="1934"/>
                </a:lnTo>
                <a:lnTo>
                  <a:pt x="5375" y="1771"/>
                </a:lnTo>
                <a:lnTo>
                  <a:pt x="4996" y="1474"/>
                </a:lnTo>
                <a:lnTo>
                  <a:pt x="6355" y="1042"/>
                </a:lnTo>
                <a:lnTo>
                  <a:pt x="4819" y="1024"/>
                </a:lnTo>
                <a:lnTo>
                  <a:pt x="5296" y="498"/>
                </a:lnTo>
                <a:lnTo>
                  <a:pt x="4272" y="905"/>
                </a:lnTo>
                <a:lnTo>
                  <a:pt x="4352" y="0"/>
                </a:lnTo>
                <a:lnTo>
                  <a:pt x="3372" y="679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799320" y="1584360"/>
            <a:ext cx="973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600200" y="3386160"/>
            <a:ext cx="6273720" cy="2658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14600" y="3048120"/>
            <a:ext cx="4038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cause  line spectra at the pilot sub-carrie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95520" y="914400"/>
            <a:ext cx="594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ant phase pilot signal in current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057400" y="1671480"/>
            <a:ext cx="5359320" cy="1173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590920" y="6019920"/>
            <a:ext cx="4008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ilot signal allocation and signal power spect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33720" y="2014560"/>
            <a:ext cx="4470480" cy="4106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755640" y="861840"/>
            <a:ext cx="770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spectrum of modulated signal with constant phase pilot t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95480" y="2286000"/>
            <a:ext cx="99072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lution band width  40 k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8120" y="6095880"/>
            <a:ext cx="3051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wer spectrum of modulated 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23880" y="1447920"/>
            <a:ext cx="6324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constant phase pilot tones generate line spectra at the pilot sub-carrie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895480" y="958680"/>
            <a:ext cx="341784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rambled pilot sig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47920" y="1676520"/>
            <a:ext cx="640080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o avoid generating line spectra,  the pilot signal is desired to be  modulated by scrambled pattern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causes no performance degradation in demod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ra hardware is negligible (simple random pattern gener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pattern generation method in tk’s comment is a good so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743200" y="5867280"/>
            <a:ext cx="362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ilot signal modulated by scrambled patte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447920" y="3051000"/>
            <a:ext cx="62229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dane</dc:creator>
  <dc:description/>
  <dc:language>en-US</dc:language>
  <cp:lastModifiedBy>rodane</cp:lastModifiedBy>
  <cp:revision>0</cp:revision>
  <dc:subject/>
  <dc:title>No Slide Title</dc:title>
</cp:coreProperties>
</file>