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1066022-D923-4288-9866-9B4CED537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49480" y="692280"/>
            <a:ext cx="4559040" cy="3416040"/>
          </a:xfrm>
          <a:prstGeom prst="rect">
            <a:avLst/>
          </a:prstGeom>
          <a:ln w="0">
            <a:noFill/>
          </a:ln>
        </p:spPr>
      </p:sp>
      <p:sp>
        <p:nvSpPr>
          <p:cNvPr id="18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49480" y="692280"/>
            <a:ext cx="455904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49480" y="692280"/>
            <a:ext cx="455904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0920" y="692280"/>
            <a:ext cx="455616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49480" y="692280"/>
            <a:ext cx="455904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50920" y="692280"/>
            <a:ext cx="4556160" cy="3416040"/>
          </a:xfrm>
          <a:prstGeom prst="rect">
            <a:avLst/>
          </a:prstGeom>
          <a:ln w="0">
            <a:noFill/>
          </a:ln>
        </p:spPr>
      </p:sp>
      <p:sp>
        <p:nvSpPr>
          <p:cNvPr id="24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sldImg"/>
          </p:nvPr>
        </p:nvSpPr>
        <p:spPr>
          <a:xfrm>
            <a:off x="1149480" y="692280"/>
            <a:ext cx="4559040" cy="3416040"/>
          </a:xfrm>
          <a:prstGeom prst="rect">
            <a:avLst/>
          </a:prstGeom>
          <a:ln w="0">
            <a:noFill/>
          </a:ln>
        </p:spPr>
      </p:sp>
      <p:sp>
        <p:nvSpPr>
          <p:cNvPr id="24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31CCE-20B6-4DF6-8BA7-DECE9CB6F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98D8C-DFED-4C26-AAFD-31CB54A3C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410DE-CF28-423A-9845-9E4C2844B3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2CA37-9F16-449C-A0D2-826ABE634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B437-814F-4143-9119-DC1A6913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7712C-5F24-4FA9-BAAC-0CB234929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B7A5B-BCF1-47D2-A591-A42E72B01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0A2A4-A517-4DC1-83F3-C0D397006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4DAFD-506C-4AD6-A4F4-D3D275B67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D412B-8F81-48C6-A747-E14B25195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81EFE-ED31-49FB-8DB8-1EE0EE8BE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7E676-D834-4D11-A951-562977D86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87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A8627D-C808-4D42-8D77-EDF8F9EB6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695480" y="396000"/>
            <a:ext cx="37695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03</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0480" y="647532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7000"/>
          </a:bodyPr>
          <a:p>
            <a:pPr marL="332640" indent="-3326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2640" indent="-3326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y 3-7, 1999</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iba, (Tokyo), Japan</a:t>
            </a:r>
            <a:endParaRPr b="0" lang="en-US" sz="2800" spc="-1" strike="noStrike">
              <a:solidFill>
                <a:srgbClr val="000000"/>
              </a:solidFill>
              <a:latin typeface="Times New Roman"/>
            </a:endParaRPr>
          </a:p>
          <a:p>
            <a:pPr marL="332640" indent="-3326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May 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3-7 - Makuhari Prince Hotel, Chiba (Tokyo), Japan, Interim (NTT, Clarion, NE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5-9 - Queen Elizabeth, Montreal, PQ</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TBD -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1" name=""/>
          <p:cNvGraphicFramePr/>
          <p:nvPr/>
        </p:nvGraphicFramePr>
        <p:xfrm>
          <a:off x="1728720" y="1523880"/>
          <a:ext cx="5587920" cy="2419560"/>
        </p:xfrm>
        <a:graphic>
          <a:graphicData uri="http://schemas.openxmlformats.org/presentationml/2006/ole">
            <p:oleObj r:id="rId1" spid="">
              <p:embed/>
              <p:pic>
                <p:nvPicPr>
                  <p:cNvPr id="11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1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work of TGd (Regulatory domai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r part of the band is also allocated globally to the Mobile Satelite Service for Earth- to-space links</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ago, ETSI did approve the co-existence of MSS in the lower 5 GHz band based on calculation</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e MSS industry is requiring regulatory agencies to reduce the RLAN allocations effectively eliminating RLAN from the 5150-5250 MHz band </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482840"/>
          <a:ext cx="8255160" cy="3917880"/>
        </p:xfrm>
        <a:graphic>
          <a:graphicData uri="http://schemas.openxmlformats.org/presentationml/2006/ole">
            <p:oleObj progId="Excel.Sheet.12" r:id="rId1" spid="">
              <p:embed/>
              <p:pic>
                <p:nvPicPr>
                  <p:cNvPr id="68" name="" descr=""/>
                  <p:cNvPicPr/>
                  <p:nvPr/>
                </p:nvPicPr>
                <p:blipFill>
                  <a:blip r:embed="rId2"/>
                  <a:stretch/>
                </p:blipFill>
                <p:spPr>
                  <a:xfrm>
                    <a:off x="457200" y="1482840"/>
                    <a:ext cx="8255160" cy="39178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April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0000"/>
          </a:bodyPr>
          <a:p>
            <a:pPr marL="308520" indent="-3085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668520" indent="-2570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an Kruys (Chair of ETSI BRAN) is single advocate for the RLAN industry. Please assist him by:</a:t>
            </a:r>
            <a:endParaRPr b="0" lang="en-US" sz="28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ing the meetings off CEPT SE and its Project Team SE28 as well as the ITU-R JRG 8A/9B, WP 8D and others involved in this subject.  </a:t>
            </a:r>
            <a:endParaRPr b="0" lang="en-US" sz="2400" spc="-1" strike="noStrike">
              <a:solidFill>
                <a:srgbClr val="000000"/>
              </a:solidFill>
              <a:latin typeface="Times New Roman"/>
            </a:endParaRPr>
          </a:p>
          <a:p>
            <a:pPr lvl="2" marL="977040" indent="-20556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ustin meeting</a:t>
            </a:r>
            <a:r>
              <a:rPr b="0" lang="en-US" sz="2800" spc="-1" strike="noStrike">
                <a:solidFill>
                  <a:srgbClr val="000000"/>
                </a:solidFill>
                <a:latin typeface="Times New Roman"/>
              </a:rPr>
              <a:t>	</a:t>
            </a:r>
            <a:r>
              <a:rPr b="0" lang="en-US" sz="2800" spc="-1" strike="noStrike">
                <a:solidFill>
                  <a:srgbClr val="000000"/>
                </a:solidFill>
                <a:latin typeface="Times New Roman"/>
              </a:rPr>
              <a:t>11-99/93</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March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financial report of the Waltha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Lake Buena Vista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0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d</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 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April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4-12T08:51:08Z</dcterms:modified>
  <cp:revision>28</cp:revision>
  <dc:subject/>
  <dc:title>No Slide Title</dc:title>
</cp:coreProperties>
</file>