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8E9-988B-48AA-B3A2-96C36FFE4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4C4-B17B-4BED-8266-508D2BD7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4C4-DE12-4B35-86AD-DDDE7803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D1C4-1B27-43DC-88B8-E1A1451E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0DA1-8B55-406E-A2CA-E5301B89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58DB-7806-4331-987A-2BAE164D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4A7-55D9-4E2F-B005-58F4B06F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8B47-3C26-411B-B642-DF959ED5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5EC-5B76-4FC9-B5BF-129B2374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80D5-4085-411F-B154-DB294DD5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C2A-57AE-4D11-9AB9-98768A0E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C61-87B1-42A9-A9A4-01E10999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51EDE8-5724-477C-B8EE-043A6D173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00200" y="1676520"/>
            <a:ext cx="5867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3300"/>
                </a:solidFill>
                <a:latin typeface="Times New Roman"/>
              </a:rPr>
              <a:t>Preamble for HIPERLAN</a:t>
            </a:r>
            <a:r>
              <a:rPr b="0" lang="en-US" sz="3400" spc="-1" strike="noStrike">
                <a:solidFill>
                  <a:srgbClr val="ff3300"/>
                </a:solidFill>
                <a:latin typeface="Times New Roman"/>
              </a:rPr>
              <a:t>-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65200" y="4323960"/>
            <a:ext cx="6307200" cy="12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Jamshid Khun-Jush, Ericss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oordinator of HIPERLAN type 2 &amp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E59-E8AC-4845-BCEA-0326A892C4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roving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880" y="2209680"/>
          <a:ext cx="41148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1148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4648320" y="2209680"/>
          <a:ext cx="412884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09680"/>
                    <a:ext cx="412884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arper auto-correlation p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31C-09C4-4582-9879-9C52C8389F5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609480" y="144792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38088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uto-Correlation P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590920" y="3124080"/>
          <a:ext cx="3886200" cy="3056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124080"/>
                    <a:ext cx="3886200" cy="30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14BF-D429-49CC-B042-D7BBDA3EC6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04920" y="2362320"/>
          <a:ext cx="4363920" cy="327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36392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648320" y="2362320"/>
          <a:ext cx="4154400" cy="3273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362320"/>
                    <a:ext cx="4154400" cy="32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07EE-5AD0-4452-BDD5-C53494F387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1219320" y="1676520"/>
          <a:ext cx="6629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6294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685800" y="4267080"/>
          <a:ext cx="7467480" cy="18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7467480" cy="18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8088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3AA-7C62-4C76-A2DC-AF0A8494002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733920" y="1828800"/>
          <a:ext cx="507204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828800"/>
                    <a:ext cx="50720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-990720" y="1849320"/>
          <a:ext cx="5334120" cy="394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990720" y="1849320"/>
                    <a:ext cx="5334120" cy="39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1C8-51F4-4874-BC8E-5FDE060854B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-1143000" y="1828800"/>
          <a:ext cx="5562720" cy="405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1828800"/>
                    <a:ext cx="556272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200400" y="1828800"/>
          <a:ext cx="5583240" cy="405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28800"/>
                    <a:ext cx="5583240" cy="40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oss-Correlation for A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797-9EEF-4A33-BD8B-0DB7659D07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220968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0968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4572000" y="2209680"/>
          <a:ext cx="421020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4210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ower Spectral Density: left (inverted), right (non-invert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081-064B-44D6-A6D9-610EB052894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04920" y="2362320"/>
          <a:ext cx="42670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42670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572000" y="2362320"/>
          <a:ext cx="4210200" cy="38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62320"/>
                    <a:ext cx="421020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523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FIR filter): only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8 MHz cut-off frequency, -60 dB stop-b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136E-FB10-42B9-A501-B9FBA9D657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04920" y="2286000"/>
          <a:ext cx="434340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0"/>
                    <a:ext cx="43434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648320" y="2286000"/>
          <a:ext cx="4209840" cy="3886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286000"/>
                    <a:ext cx="42098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 (only preamble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73A-89CF-4A32-B976-17CAA0DB74F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380880" y="2133720"/>
          <a:ext cx="426744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42674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648320" y="2133720"/>
          <a:ext cx="419256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133720"/>
                    <a:ext cx="419256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trum Issues - 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X signal filtering: data and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F49-C5C1-4ADA-980E-63075F5840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PERLAN-2/MMAC-WATM MAC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1600200"/>
            <a:ext cx="8989920" cy="4295880"/>
            <a:chOff x="380880" y="1600200"/>
            <a:chExt cx="8989920" cy="4295880"/>
          </a:xfrm>
        </p:grpSpPr>
        <p:sp>
          <p:nvSpPr>
            <p:cNvPr id="49" name=""/>
            <p:cNvSpPr/>
            <p:nvPr/>
          </p:nvSpPr>
          <p:spPr>
            <a:xfrm>
              <a:off x="6059520" y="476244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380880" y="1600200"/>
              <a:ext cx="8989920" cy="4295880"/>
              <a:chOff x="380880" y="1600200"/>
              <a:chExt cx="8989920" cy="4295880"/>
            </a:xfrm>
          </p:grpSpPr>
          <p:sp>
            <p:nvSpPr>
              <p:cNvPr id="51" name=""/>
              <p:cNvSpPr/>
              <p:nvPr/>
            </p:nvSpPr>
            <p:spPr>
              <a:xfrm>
                <a:off x="2983320" y="2424960"/>
                <a:ext cx="0" cy="55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380880" y="1600200"/>
                <a:ext cx="8989920" cy="4295880"/>
                <a:chOff x="380880" y="1600200"/>
                <a:chExt cx="8989920" cy="42958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3693240" y="2424960"/>
                  <a:ext cx="0" cy="55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380880" y="1600200"/>
                  <a:ext cx="8989920" cy="4295880"/>
                  <a:chOff x="380880" y="1600200"/>
                  <a:chExt cx="8989920" cy="4295880"/>
                </a:xfrm>
              </p:grpSpPr>
              <p:grpSp>
                <p:nvGrpSpPr>
                  <p:cNvPr id="55" name=""/>
                  <p:cNvGrpSpPr/>
                  <p:nvPr/>
                </p:nvGrpSpPr>
                <p:grpSpPr>
                  <a:xfrm>
                    <a:off x="380880" y="1600200"/>
                    <a:ext cx="8989920" cy="4295880"/>
                    <a:chOff x="380880" y="1600200"/>
                    <a:chExt cx="8989920" cy="4295880"/>
                  </a:xfrm>
                </p:grpSpPr>
                <p:grpSp>
                  <p:nvGrpSpPr>
                    <p:cNvPr id="56" name=""/>
                    <p:cNvGrpSpPr/>
                    <p:nvPr/>
                  </p:nvGrpSpPr>
                  <p:grpSpPr>
                    <a:xfrm>
                      <a:off x="380880" y="2424960"/>
                      <a:ext cx="8358480" cy="550080"/>
                      <a:chOff x="380880" y="2424960"/>
                      <a:chExt cx="8358480" cy="550080"/>
                    </a:xfrm>
                  </p:grpSpPr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380880" y="2424960"/>
                        <a:ext cx="945720" cy="550080"/>
                        <a:chOff x="380880" y="2424960"/>
                        <a:chExt cx="945720" cy="55008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380880" y="2424960"/>
                          <a:ext cx="94572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Broadcast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1326960" y="2424960"/>
                        <a:ext cx="1261080" cy="550080"/>
                        <a:chOff x="1326960" y="2424960"/>
                        <a:chExt cx="1261080" cy="55008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1326960" y="2424960"/>
                          <a:ext cx="126108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Frame control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588760" y="2424960"/>
                        <a:ext cx="2365200" cy="550080"/>
                        <a:chOff x="2588760" y="2424960"/>
                        <a:chExt cx="2365200" cy="55008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588760" y="2424960"/>
                          <a:ext cx="236520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2590560" y="2563920"/>
                          <a:ext cx="236052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</a:t>
                          </a: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down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4951440" y="2424960"/>
                        <a:ext cx="2368440" cy="550080"/>
                        <a:chOff x="4951440" y="2424960"/>
                        <a:chExt cx="2368440" cy="55008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4954320" y="2424960"/>
                          <a:ext cx="236556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4951440" y="2563920"/>
                          <a:ext cx="2367000" cy="307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uplink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7317360" y="2424960"/>
                        <a:ext cx="1422000" cy="550080"/>
                        <a:chOff x="7317360" y="2424960"/>
                        <a:chExt cx="1422000" cy="55008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7319880" y="2424960"/>
                          <a:ext cx="1419120" cy="550080"/>
                        </a:xfrm>
                        <a:prstGeom prst="rect">
                          <a:avLst/>
                        </a:prstGeom>
                        <a:noFill/>
                        <a:ln w="41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7317360" y="2424960"/>
                          <a:ext cx="1422000" cy="5202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 algn="ctr">
                            <a:spcBef>
                              <a:spcPts val="876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Random access channel</a:t>
                          </a:r>
                          <a:endParaRPr b="0" lang="en-US" sz="1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4718160" y="2691720"/>
                      <a:ext cx="2838600" cy="0"/>
                      <a:chOff x="4718160" y="2691720"/>
                      <a:chExt cx="2838600" cy="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471816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7083720" y="2691720"/>
                        <a:ext cx="47304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  <a:headEnd len="med" type="triangle" w="med"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" name=""/>
                    <p:cNvSpPr/>
                    <p:nvPr/>
                  </p:nvSpPr>
                  <p:spPr>
                    <a:xfrm flipV="1">
                      <a:off x="5033520" y="1943640"/>
                      <a:ext cx="94608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5979600" y="1944000"/>
                      <a:ext cx="1261800" cy="687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5270040" y="160020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H="1">
                      <a:off x="2667600" y="3043800"/>
                      <a:ext cx="31536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3692880" y="3043800"/>
                      <a:ext cx="2602440" cy="13748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1484640" y="4487400"/>
                      <a:ext cx="4810680" cy="481320"/>
                    </a:xfrm>
                    <a:prstGeom prst="rect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2667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>
                      <a:off x="1484640" y="4556160"/>
                      <a:ext cx="11826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am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361404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4323600" y="4487400"/>
                      <a:ext cx="0" cy="4813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266760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295320" y="5030640"/>
                      <a:ext cx="0" cy="27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2667600" y="5175000"/>
                      <a:ext cx="36277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4165920" y="5312520"/>
                      <a:ext cx="10252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d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3614040" y="4556160"/>
                      <a:ext cx="7095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 flipV="1">
                      <a:off x="6374160" y="4280760"/>
                      <a:ext cx="473040" cy="412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531840" y="3937680"/>
                      <a:ext cx="17348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ynamic bound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058800" y="5589000"/>
                      <a:ext cx="283896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: Protocol Data Unit (54 byt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689520" y="4627800"/>
                      <a:ext cx="2681280" cy="63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er burst consisting of 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D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4" name=""/>
                  <p:cNvSpPr/>
                  <p:nvPr/>
                </p:nvSpPr>
                <p:spPr>
                  <a:xfrm>
                    <a:off x="2904120" y="2562840"/>
                    <a:ext cx="867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User data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BA8-248D-4EC1-985C-83D70F578C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wn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CH Preamb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2514600"/>
            <a:ext cx="8153280" cy="457200"/>
            <a:chOff x="533520" y="2514600"/>
            <a:chExt cx="8153280" cy="457200"/>
          </a:xfrm>
        </p:grpSpPr>
        <p:sp>
          <p:nvSpPr>
            <p:cNvPr id="98" name=""/>
            <p:cNvSpPr/>
            <p:nvPr/>
          </p:nvSpPr>
          <p:spPr>
            <a:xfrm>
              <a:off x="533520" y="251748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644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8496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5348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R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22000" y="2514600"/>
              <a:ext cx="668160" cy="4359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A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05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4212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940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5680" y="2514600"/>
              <a:ext cx="65052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97640" y="2514600"/>
              <a:ext cx="701640" cy="43596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16200" y="2514600"/>
              <a:ext cx="1470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80880" y="3733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ther Downlink Channels Preamble (FCH,SCH,LC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85800" y="4952880"/>
            <a:ext cx="6248160" cy="457200"/>
            <a:chOff x="685800" y="4952880"/>
            <a:chExt cx="6248160" cy="457200"/>
          </a:xfrm>
        </p:grpSpPr>
        <p:sp>
          <p:nvSpPr>
            <p:cNvPr id="111" name=""/>
            <p:cNvSpPr/>
            <p:nvPr/>
          </p:nvSpPr>
          <p:spPr>
            <a:xfrm>
              <a:off x="685800" y="4952880"/>
              <a:ext cx="1157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284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8400" y="4952880"/>
              <a:ext cx="25455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9480" y="52578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1C9-2A97-4DE0-BBFD-8D959FE28B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523880"/>
            <a:ext cx="8382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6/RA16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5080" indent="-194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Times New Roman"/>
              </a:rPr>
              <a:t>The sign reversal of every second A16 symbol is automatically achieved by the specified subcarrier loading.</a:t>
            </a:r>
            <a:r>
              <a:rPr b="1" lang="fi-FI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2666880"/>
          <a:ext cx="8047080" cy="102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66880"/>
                    <a:ext cx="80470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380880" y="37339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6 Symbol (subcarrier loading as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imes New Roman"/>
              </a:rPr>
              <a:t>-26…2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symbol in PLC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57200" y="4419720"/>
          <a:ext cx="8229600" cy="96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4419720"/>
                    <a:ext cx="822960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80880" y="55627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64 Symbol: the same content as T1/T2 in 802.11a PLCP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1663-E15C-452A-A5B4-6B06AB6BD3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2971800"/>
          <a:ext cx="845820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971800"/>
                    <a:ext cx="845820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3000"/>
          </a:bodyPr>
          <a:p>
            <a:pPr marL="113040" indent="-113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Auto-Correlation (AC) Receiver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Correlation delay 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Times New Roman"/>
                <a:ea typeface="?l?r ??fc"/>
              </a:rPr>
              <a:t>ac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45160" indent="-9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  <a:ea typeface="?l?r ??fc"/>
              </a:rPr>
              <a:t>Moving Average (MAV) window size of AC =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60E9-901C-4BFD-ADE7-984425A4A4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tection-Failure and False-Alarm Rates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8120" y="1676520"/>
          <a:ext cx="578628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7862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380880" y="1752480"/>
            <a:ext cx="26672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1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only takes the absolute value of the A-field correlation peak (as well as the phase at the peak position to verify the peak belonging to the BCH A-field) and compares it with a defined threshol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724280"/>
            <a:ext cx="2590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Detector-2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takes into account both peaks (A-field and B-field) being above a certain threshol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16D0-1B23-43B2-AF47-C1031BA7FE7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ymbol PAPR and Dynamic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676520"/>
          <a:ext cx="396252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9625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609480" y="1676520"/>
          <a:ext cx="4114800" cy="4038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76520"/>
                    <a:ext cx="41148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5715000"/>
            <a:ext cx="4724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Current 802.11a symbol S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, PAPR = 3.00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5715000"/>
            <a:ext cx="3733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B16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Times New Roman"/>
              </a:rPr>
              <a:t>-26...26</a:t>
            </a: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symbol, PAPR = 2.24 d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6C7-F194-422E-B09F-83B50937BF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plink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685800" y="2590920"/>
            <a:ext cx="6705000" cy="457200"/>
            <a:chOff x="685800" y="2590920"/>
            <a:chExt cx="6705000" cy="457200"/>
          </a:xfrm>
        </p:grpSpPr>
        <p:sp>
          <p:nvSpPr>
            <p:cNvPr id="142" name=""/>
            <p:cNvSpPr/>
            <p:nvPr/>
          </p:nvSpPr>
          <p:spPr>
            <a:xfrm>
              <a:off x="685800" y="259416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262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616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97040" y="2590920"/>
              <a:ext cx="63432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2080" y="2590920"/>
              <a:ext cx="651240" cy="4518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I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872880" y="2594160"/>
              <a:ext cx="3517920" cy="453960"/>
              <a:chOff x="3872880" y="2594160"/>
              <a:chExt cx="3517920" cy="453960"/>
            </a:xfrm>
          </p:grpSpPr>
          <p:sp>
            <p:nvSpPr>
              <p:cNvPr id="148" name=""/>
              <p:cNvSpPr/>
              <p:nvPr/>
            </p:nvSpPr>
            <p:spPr>
              <a:xfrm>
                <a:off x="3872880" y="2594160"/>
                <a:ext cx="65124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2412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957640" y="2594160"/>
                <a:ext cx="1433160" cy="45396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C6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533520" y="4952880"/>
            <a:ext cx="8076600" cy="457200"/>
            <a:chOff x="533520" y="4952880"/>
            <a:chExt cx="8076600" cy="457200"/>
          </a:xfrm>
        </p:grpSpPr>
        <p:sp>
          <p:nvSpPr>
            <p:cNvPr id="152" name=""/>
            <p:cNvSpPr/>
            <p:nvPr/>
          </p:nvSpPr>
          <p:spPr>
            <a:xfrm>
              <a:off x="533520" y="4952880"/>
              <a:ext cx="64764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81880" y="4952880"/>
              <a:ext cx="665280" cy="457200"/>
            </a:xfrm>
            <a:prstGeom prst="rect">
              <a:avLst/>
            </a:prstGeom>
            <a:solidFill>
              <a:srgbClr val="00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843920" y="4968000"/>
              <a:ext cx="2611440" cy="438840"/>
              <a:chOff x="1843920" y="4968000"/>
              <a:chExt cx="2611440" cy="438840"/>
            </a:xfrm>
          </p:grpSpPr>
          <p:sp>
            <p:nvSpPr>
              <p:cNvPr id="155" name=""/>
              <p:cNvSpPr/>
              <p:nvPr/>
            </p:nvSpPr>
            <p:spPr>
              <a:xfrm>
                <a:off x="184392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9264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141000" y="496800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790080" y="496800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468320" y="4964040"/>
              <a:ext cx="2611440" cy="438840"/>
              <a:chOff x="4468320" y="4964040"/>
              <a:chExt cx="2611440" cy="438840"/>
            </a:xfrm>
          </p:grpSpPr>
          <p:sp>
            <p:nvSpPr>
              <p:cNvPr id="160" name=""/>
              <p:cNvSpPr/>
              <p:nvPr/>
            </p:nvSpPr>
            <p:spPr>
              <a:xfrm>
                <a:off x="446832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11704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65400" y="4964040"/>
                <a:ext cx="64764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14480" y="4964040"/>
                <a:ext cx="665280" cy="4388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Times New Roman"/>
                  </a:rPr>
                  <a:t>IB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068960" y="4966920"/>
              <a:ext cx="1541160" cy="441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380880" y="38862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ng Preamble (very similar to 802.11a PLCP preambl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A05-A531-4FC7-9CAE-7509ECFEBE7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83808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gn Inversion of the Last Re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neficial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mproving timing detection accuracy (sharper auto-correlation peak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increasing the receiver implementation flexibility (e.g. auto-correlation based or cross-correlation based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Times New Roman"/>
              </a:rPr>
              <a:t>providing unique identification possibilities of the last short symbol repet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0E76-E375-4B55-9120-16FCB0A4A4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6-03T12:31:42Z</cp:lastPrinted>
  <dcterms:modified xsi:type="dcterms:W3CDTF">1999-06-03T12:33:57Z</dcterms:modified>
  <cp:revision>21</cp:revision>
  <dc:subject/>
  <dc:title>No Slide Title</dc:title>
</cp:coreProperties>
</file>