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2BB5-E6F4-4DC4-9A98-EFCB33431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11C9-F1F4-497D-BE99-DFAD9D58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78EB-460A-43F1-8CAF-F7BD1C28B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4D2C-194F-431E-9D5D-72F37533B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0B8D-E863-4C60-9B31-EA8DFA2C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BBF2-F85E-4AAC-BAE5-A141C8D6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10D7-D693-4F8E-904D-EE32CA6D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6E5B-0ADC-4A8E-8FF6-17F3CC2E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BEBC-75E7-4BCC-8330-080DE3A1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545F-3440-41A2-B240-B0692F47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2EC3-BBC5-4B1D-802B-A95A47F7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A383-FEF5-4619-AE20-3F9FB959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75839F4-83D6-412E-8389-53F172E14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c.: IEEE 802.11-99/1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ympathy Cards and Donation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mory of Valerie Zelen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ympathy Cards can be sent Valerie’s Mom addres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rie Zelen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22 New Market Ro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unellen, NJ  088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nations, checks sent in memory of Valerie Zelenty to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rch of Dimes Birth Defects Found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entral Jersey Chap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010 East Park Bouleva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anbury, NJ  085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 Petrick, Har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5061-7E56-4988-9DED-8BE32FE7630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 Petrick</cp:lastModifiedBy>
  <dcterms:modified xsi:type="dcterms:W3CDTF">1999-05-07T00:51:59Z</dcterms:modified>
  <cp:revision>6</cp:revision>
  <dc:subject/>
  <dc:title>Sympathy Cards and Donations</dc:title>
</cp:coreProperties>
</file>