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90BA-EDB5-457C-8086-78BDA2EF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EDF-AD04-4FB9-A9BA-D17B565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3A1-0D1A-42F6-9001-DBF49F86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C49-8F00-45B4-88C7-A55DD7DD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8B5-442E-4CF5-BDA5-80D15C6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EBD-04AF-4BA0-87F2-534E3B7D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654-34B5-440B-BF9C-641D836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DB1-522E-4DD4-B76F-EABDA59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5C3-89FC-495D-84AE-1C62A133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819-430B-4CEE-AA8D-E3DBF32E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1A53-6227-462F-B026-0A86A06D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F25C-0803-4015-92F2-92E10890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1B36A5-339D-43A7-8281-D717FE014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date on RF Lighting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vised Proposal on In Band Emissions for RF Lights in 2.45 GHz ISM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950-FFD9-446F-B4EA-FBF01E2DF1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ect of New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RF Lights to use low (relatively) ripple DC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bilizes magnetron operat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from Fusion demonstrates that lights eqipeed in this manner can comply with new proposed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ng BW of stabilized magnetron is &lt;1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imit restricts hi power to 2460 - 248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 of band limited to 10 mV/m @ 3m (av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average power of -15 d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E64-A7E7-417A-8083-54CDAF09D124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PRM 98-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ed authorization of RF Lights operating in 2.45 GHz ISM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 on in-band emiss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FDA limits on human exposure a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OET recommendation sent to Commission in December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 15 Interests appealed directly to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delayed final resolution pending efforts of interested parties to seek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46E-CCDC-4EC2-8871-E87989631F1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by public without special preca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 microwave o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occupational limit is 1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d at 20 cm from any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using point source approximation, de facto limit can be estim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 = 20 cm, surface of sp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a = 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RP of unrestricted de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RP = 5026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1 mW/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=  5 Watt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651-3DDC-4AD0-8874-2E129E4BB3D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tricted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radiate at much higher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access must be bar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limit applies (1 mW/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array of lights on a 12 meter ma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s include stadium lights, parking lo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wer is equipped with ladder, access is barred with a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no one can come within 10 meters of 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rface of sphere with 10 m radius is 12.5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able EIRP is 12.5 kW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724-E49B-40F8-AF36-0113F5C3759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itial Proposal (Ja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15880" y="2544840"/>
          <a:ext cx="7940880" cy="23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544840"/>
                    <a:ext cx="794088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A69-3EC9-43C4-91A7-8DA5BF76327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Proposal (Mar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80960" y="1573200"/>
          <a:ext cx="801072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1573200"/>
                    <a:ext cx="801072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49E-6C5C-4FFE-8E2B-71746260B27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test Proposal (Jun 9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65280" y="1850760"/>
            <a:ext cx="7002360" cy="1579320"/>
            <a:chOff x="1565280" y="1850760"/>
            <a:chExt cx="7002360" cy="1579320"/>
          </a:xfrm>
        </p:grpSpPr>
        <p:sp>
          <p:nvSpPr>
            <p:cNvPr id="61" name=""/>
            <p:cNvSpPr/>
            <p:nvPr/>
          </p:nvSpPr>
          <p:spPr>
            <a:xfrm>
              <a:off x="1565280" y="3295800"/>
              <a:ext cx="700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09700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956720" y="1850760"/>
              <a:ext cx="0" cy="15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796080" y="3017880"/>
            <a:ext cx="118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11400" y="3027240"/>
            <a:ext cx="35323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7516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8992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1264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704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99800" y="343224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4200" y="364500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64280" y="176544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48320" y="172404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0" y="52"/>
                </a:moveTo>
                <a:lnTo>
                  <a:pt x="9" y="26"/>
                </a:lnTo>
                <a:lnTo>
                  <a:pt x="0" y="0"/>
                </a:lnTo>
                <a:lnTo>
                  <a:pt x="60" y="26"/>
                </a:lnTo>
                <a:lnTo>
                  <a:pt x="0" y="5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81760" y="1766880"/>
            <a:ext cx="31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10480" y="1725480"/>
            <a:ext cx="96840" cy="84240"/>
          </a:xfrm>
          <a:custGeom>
            <a:avLst/>
            <a:gdLst/>
            <a:ahLst/>
            <a:rect l="l" t="t" r="r" b="b"/>
            <a:pathLst>
              <a:path w="61" h="53">
                <a:moveTo>
                  <a:pt x="60" y="0"/>
                </a:moveTo>
                <a:lnTo>
                  <a:pt x="51" y="26"/>
                </a:lnTo>
                <a:lnTo>
                  <a:pt x="60" y="52"/>
                </a:lnTo>
                <a:lnTo>
                  <a:pt x="0" y="26"/>
                </a:lnTo>
                <a:lnTo>
                  <a:pt x="60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73520" y="1614600"/>
            <a:ext cx="1553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 - 2480 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5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62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624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608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9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57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5632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54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52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51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49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48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46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44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43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433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418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99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38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35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33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32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30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28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7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25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23960" y="1978200"/>
            <a:ext cx="51120" cy="26640"/>
          </a:xfrm>
          <a:custGeom>
            <a:avLst/>
            <a:gdLst/>
            <a:ahLst/>
            <a:rect l="l" t="t" r="r" b="b"/>
            <a:pathLst>
              <a:path w="32" h="17">
                <a:moveTo>
                  <a:pt x="31" y="16"/>
                </a:moveTo>
                <a:lnTo>
                  <a:pt x="31" y="0"/>
                </a:lnTo>
                <a:lnTo>
                  <a:pt x="0" y="0"/>
                </a:lnTo>
                <a:lnTo>
                  <a:pt x="0" y="16"/>
                </a:lnTo>
                <a:lnTo>
                  <a:pt x="31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092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1940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1788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1600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1448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296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1440" y="1978200"/>
            <a:ext cx="5220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9560" y="1978200"/>
            <a:ext cx="52560" cy="2664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2896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5560" y="3017880"/>
            <a:ext cx="5256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404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22520" y="3017880"/>
            <a:ext cx="52200" cy="27000"/>
          </a:xfrm>
          <a:custGeom>
            <a:avLst/>
            <a:gdLst/>
            <a:ahLst/>
            <a:rect l="l" t="t" r="r" b="b"/>
            <a:pathLst>
              <a:path w="33" h="17">
                <a:moveTo>
                  <a:pt x="32" y="16"/>
                </a:moveTo>
                <a:lnTo>
                  <a:pt x="32" y="0"/>
                </a:lnTo>
                <a:lnTo>
                  <a:pt x="0" y="0"/>
                </a:lnTo>
                <a:lnTo>
                  <a:pt x="0" y="16"/>
                </a:lnTo>
                <a:lnTo>
                  <a:pt x="32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63840" y="301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16" y="0"/>
                </a:lnTo>
                <a:lnTo>
                  <a:pt x="0" y="0"/>
                </a:lnTo>
                <a:lnTo>
                  <a:pt x="0" y="16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1840" y="231156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57760" y="16574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7760" y="175896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57760" y="18604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7760" y="1962000"/>
            <a:ext cx="2700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7760" y="2062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7760" y="2163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57760" y="226548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57760" y="236700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7760" y="246852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7760" y="25700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57760" y="2671920"/>
            <a:ext cx="2700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277164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57760" y="287352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57760" y="2975040"/>
            <a:ext cx="2700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57760" y="307656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57760" y="317808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57760" y="3279600"/>
            <a:ext cx="2700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78800" y="16574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78800" y="175896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78800" y="18604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78800" y="1962000"/>
            <a:ext cx="26640" cy="51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78800" y="2062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78800" y="2163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8800" y="226548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78800" y="236700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800" y="246852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78800" y="25700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78800" y="2671920"/>
            <a:ext cx="26640" cy="50760"/>
          </a:xfrm>
          <a:custGeom>
            <a:avLst/>
            <a:gdLst/>
            <a:ahLst/>
            <a:rect l="l" t="t" r="r" b="b"/>
            <a:pathLst>
              <a:path w="17" h="32">
                <a:moveTo>
                  <a:pt x="16" y="0"/>
                </a:moveTo>
                <a:lnTo>
                  <a:pt x="0" y="0"/>
                </a:lnTo>
                <a:lnTo>
                  <a:pt x="0" y="31"/>
                </a:lnTo>
                <a:lnTo>
                  <a:pt x="16" y="31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78800" y="277164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78800" y="287352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78800" y="2975040"/>
            <a:ext cx="26640" cy="5220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78800" y="307656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78800" y="317808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78800" y="3279600"/>
            <a:ext cx="26640" cy="52560"/>
          </a:xfrm>
          <a:custGeom>
            <a:avLst/>
            <a:gdLst/>
            <a:ahLst/>
            <a:rect l="l" t="t" r="r" b="b"/>
            <a:pathLst>
              <a:path w="17" h="33">
                <a:moveTo>
                  <a:pt x="16" y="0"/>
                </a:moveTo>
                <a:lnTo>
                  <a:pt x="0" y="0"/>
                </a:lnTo>
                <a:lnTo>
                  <a:pt x="0" y="32"/>
                </a:lnTo>
                <a:lnTo>
                  <a:pt x="16" y="32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67480" y="1995480"/>
            <a:ext cx="11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34680" y="2293920"/>
            <a:ext cx="38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26480" y="2265480"/>
            <a:ext cx="4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4400" y="1854360"/>
            <a:ext cx="1027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6680" y="2036880"/>
            <a:ext cx="72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0960" y="2895480"/>
            <a:ext cx="942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 dBuV/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2520" y="3078000"/>
            <a:ext cx="637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3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30680" y="3919680"/>
            <a:ext cx="1113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480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81520" y="3919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65760" y="3919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95720" y="3963960"/>
            <a:ext cx="4982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00 - 2460 MHz.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31400" y="4468680"/>
            <a:ext cx="121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4880" y="446868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8240" y="446868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2120" y="446868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34240" y="4513320"/>
            <a:ext cx="580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60 - 2480 MHz. RF Light emission limit of 100 dBuV/m @ 10 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51200" y="4772160"/>
            <a:ext cx="594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quivalent to 330 mVm @ 3m).  Consistent with CISPR15 limi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33200" y="5016600"/>
            <a:ext cx="235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31040" y="5261040"/>
            <a:ext cx="1311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on 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53520" y="526104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16520" y="5261040"/>
            <a:ext cx="2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04360" y="5305320"/>
            <a:ext cx="5083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480 - 2500 MHz.  RF lighting restricted to 10 mV/m (av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48680" y="5608800"/>
            <a:ext cx="4665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portion of the band includes satellite servi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27080" y="5564160"/>
            <a:ext cx="249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83800" y="341136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98200" y="3624120"/>
            <a:ext cx="550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89C-0CD3-4915-9D8B-B28F37E25F1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gnetrons Sweep in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533520" y="1600200"/>
          <a:ext cx="784692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78469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25D-5AC0-41C5-86E2-8EE0C175884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 Ripple Power is Worst C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251000" y="1741320"/>
          <a:ext cx="61675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1000" y="174132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295280" y="4038480"/>
          <a:ext cx="6167520" cy="18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038480"/>
                    <a:ext cx="61675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724480" y="3489480"/>
            <a:ext cx="356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8520" y="5943600"/>
            <a:ext cx="3516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Wave Rectifi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302-B39F-40B1-BE3D-2855D7148B8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7-15T08:29:54Z</cp:lastPrinted>
  <dcterms:modified xsi:type="dcterms:W3CDTF">1999-07-15T08:30:33Z</dcterms:modified>
  <cp:revision>10</cp:revision>
  <dc:subject/>
  <dc:title>No Slide Title</dc:title>
</cp:coreProperties>
</file>