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3D3-F3ED-48A2-9CD5-542509E9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EB0-3AF2-4FF7-9675-6ABFDCFE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2FCC-FEE1-474D-9B88-C3E8B916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E328-037B-4D30-8398-53778569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E59-34D2-42C9-993C-15EF27A5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23B-C072-4B50-AAE4-13000C44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878-3A65-4702-AAF8-490F463F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25F-60B4-4C1A-AC3C-346F026D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6E1-F3EC-4281-AC8F-83473DF6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F177-44E9-487E-9C2B-5C4582A3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4163-59A6-48CA-B4C8-CD1B5427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B53B-880C-43BD-AA61-DAC90965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2239EBE-5BCC-4339-8C81-06BF378FB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99/1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al for an improved B16 sequen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98640" y="3657600"/>
            <a:ext cx="5459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NT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asahiro Morikura and Masato Mizogu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morikura@ansl.ntt.co.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DA8B-DE67-49C2-853A-F72CA84FD0A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ymbol timing detection sche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7720" y="3632040"/>
            <a:ext cx="11556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67040" y="4268880"/>
            <a:ext cx="1215720" cy="86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77920" y="4387680"/>
            <a:ext cx="105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tched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5360" y="4268880"/>
            <a:ext cx="1216080" cy="83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4378320"/>
            <a:ext cx="930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411880" y="4268880"/>
            <a:ext cx="1751040" cy="834840"/>
            <a:chOff x="5411880" y="4268880"/>
            <a:chExt cx="1751040" cy="834840"/>
          </a:xfrm>
        </p:grpSpPr>
        <p:sp>
          <p:nvSpPr>
            <p:cNvPr id="54" name=""/>
            <p:cNvSpPr/>
            <p:nvPr/>
          </p:nvSpPr>
          <p:spPr>
            <a:xfrm>
              <a:off x="5411880" y="4268880"/>
              <a:ext cx="1673280" cy="834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70560" y="4381560"/>
              <a:ext cx="1692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ymbol timing dec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373040" y="4724280"/>
            <a:ext cx="608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1840" y="4724280"/>
            <a:ext cx="532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4680" y="4724280"/>
            <a:ext cx="455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8040" y="472428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4726080"/>
            <a:ext cx="0" cy="9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01640" y="5638680"/>
            <a:ext cx="502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426708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d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2920" y="5335560"/>
            <a:ext cx="1573200" cy="63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5334120"/>
            <a:ext cx="1752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e cyclic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472608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199360" y="5638680"/>
            <a:ext cx="335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4381560"/>
            <a:ext cx="9144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cted symbol 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16280" y="228744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86280" y="228744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2000" y="228744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1320" y="228600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51320" y="266688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00680" y="2284560"/>
            <a:ext cx="78120" cy="385560"/>
          </a:xfrm>
          <a:custGeom>
            <a:avLst/>
            <a:gdLst/>
            <a:ahLst/>
            <a:rect l="l" t="t" r="r" b="b"/>
            <a:pathLst>
              <a:path w="49" h="243">
                <a:moveTo>
                  <a:pt x="48" y="0"/>
                </a:moveTo>
                <a:lnTo>
                  <a:pt x="14" y="24"/>
                </a:lnTo>
                <a:lnTo>
                  <a:pt x="7" y="38"/>
                </a:lnTo>
                <a:lnTo>
                  <a:pt x="0" y="48"/>
                </a:lnTo>
                <a:lnTo>
                  <a:pt x="7" y="62"/>
                </a:lnTo>
                <a:lnTo>
                  <a:pt x="28" y="73"/>
                </a:lnTo>
                <a:lnTo>
                  <a:pt x="41" y="86"/>
                </a:lnTo>
                <a:lnTo>
                  <a:pt x="48" y="97"/>
                </a:lnTo>
                <a:lnTo>
                  <a:pt x="41" y="110"/>
                </a:lnTo>
                <a:lnTo>
                  <a:pt x="28" y="121"/>
                </a:lnTo>
                <a:lnTo>
                  <a:pt x="7" y="134"/>
                </a:lnTo>
                <a:lnTo>
                  <a:pt x="0" y="145"/>
                </a:lnTo>
                <a:lnTo>
                  <a:pt x="7" y="159"/>
                </a:lnTo>
                <a:lnTo>
                  <a:pt x="21" y="169"/>
                </a:lnTo>
                <a:lnTo>
                  <a:pt x="41" y="183"/>
                </a:lnTo>
                <a:lnTo>
                  <a:pt x="48" y="194"/>
                </a:lnTo>
                <a:lnTo>
                  <a:pt x="48" y="218"/>
                </a:lnTo>
                <a:lnTo>
                  <a:pt x="48" y="24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93920" y="2286000"/>
            <a:ext cx="2436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93920" y="2666880"/>
            <a:ext cx="2436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14720" y="2284560"/>
            <a:ext cx="88920" cy="385560"/>
          </a:xfrm>
          <a:custGeom>
            <a:avLst/>
            <a:gdLst/>
            <a:ahLst/>
            <a:rect l="l" t="t" r="r" b="b"/>
            <a:pathLst>
              <a:path w="56" h="243">
                <a:moveTo>
                  <a:pt x="48" y="0"/>
                </a:moveTo>
                <a:lnTo>
                  <a:pt x="32" y="13"/>
                </a:lnTo>
                <a:lnTo>
                  <a:pt x="16" y="24"/>
                </a:lnTo>
                <a:lnTo>
                  <a:pt x="3" y="38"/>
                </a:lnTo>
                <a:lnTo>
                  <a:pt x="0" y="48"/>
                </a:lnTo>
                <a:lnTo>
                  <a:pt x="3" y="54"/>
                </a:lnTo>
                <a:lnTo>
                  <a:pt x="6" y="62"/>
                </a:lnTo>
                <a:lnTo>
                  <a:pt x="26" y="73"/>
                </a:lnTo>
                <a:lnTo>
                  <a:pt x="42" y="86"/>
                </a:lnTo>
                <a:lnTo>
                  <a:pt x="45" y="91"/>
                </a:lnTo>
                <a:lnTo>
                  <a:pt x="48" y="97"/>
                </a:lnTo>
                <a:lnTo>
                  <a:pt x="45" y="102"/>
                </a:lnTo>
                <a:lnTo>
                  <a:pt x="42" y="110"/>
                </a:lnTo>
                <a:lnTo>
                  <a:pt x="26" y="121"/>
                </a:lnTo>
                <a:lnTo>
                  <a:pt x="6" y="134"/>
                </a:lnTo>
                <a:lnTo>
                  <a:pt x="3" y="140"/>
                </a:lnTo>
                <a:lnTo>
                  <a:pt x="0" y="145"/>
                </a:lnTo>
                <a:lnTo>
                  <a:pt x="3" y="151"/>
                </a:lnTo>
                <a:lnTo>
                  <a:pt x="6" y="159"/>
                </a:lnTo>
                <a:lnTo>
                  <a:pt x="22" y="169"/>
                </a:lnTo>
                <a:lnTo>
                  <a:pt x="39" y="183"/>
                </a:lnTo>
                <a:lnTo>
                  <a:pt x="45" y="188"/>
                </a:lnTo>
                <a:lnTo>
                  <a:pt x="48" y="194"/>
                </a:lnTo>
                <a:lnTo>
                  <a:pt x="52" y="207"/>
                </a:lnTo>
                <a:lnTo>
                  <a:pt x="55" y="218"/>
                </a:lnTo>
                <a:lnTo>
                  <a:pt x="48" y="24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36400" y="2300400"/>
            <a:ext cx="36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15640" y="2300400"/>
            <a:ext cx="47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02160" y="2286000"/>
            <a:ext cx="5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63560" y="2286000"/>
            <a:ext cx="43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5920" y="228744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72920" y="2300400"/>
            <a:ext cx="36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0840" y="3100320"/>
            <a:ext cx="1910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tched filt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61200" y="2295360"/>
            <a:ext cx="2160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d training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9880" y="1906560"/>
            <a:ext cx="7388280" cy="19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039840" y="2897280"/>
            <a:ext cx="3164040" cy="590400"/>
            <a:chOff x="3039840" y="2897280"/>
            <a:chExt cx="3164040" cy="590400"/>
          </a:xfrm>
        </p:grpSpPr>
        <p:sp>
          <p:nvSpPr>
            <p:cNvPr id="87" name=""/>
            <p:cNvSpPr/>
            <p:nvPr/>
          </p:nvSpPr>
          <p:spPr>
            <a:xfrm>
              <a:off x="5248440" y="2897280"/>
              <a:ext cx="68040" cy="51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5316480" y="3335040"/>
              <a:ext cx="4464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64000" y="3335400"/>
              <a:ext cx="5400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176800" y="2897280"/>
              <a:ext cx="69840" cy="519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5128920" y="3335040"/>
              <a:ext cx="44280" cy="8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5076720" y="3335400"/>
              <a:ext cx="5256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5048280" y="3417840"/>
              <a:ext cx="2520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4984920" y="3417840"/>
              <a:ext cx="633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4933440" y="3335040"/>
              <a:ext cx="4932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419800" y="3417840"/>
              <a:ext cx="237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45000" y="3417840"/>
              <a:ext cx="651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511960" y="3335040"/>
              <a:ext cx="4896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62720" y="3335400"/>
              <a:ext cx="3960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603760" y="3335040"/>
              <a:ext cx="52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711760" y="3335400"/>
              <a:ext cx="3816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5657760" y="3335040"/>
              <a:ext cx="5256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5749560" y="3335040"/>
              <a:ext cx="257400" cy="144720"/>
              <a:chOff x="5749560" y="3335040"/>
              <a:chExt cx="257400" cy="144720"/>
            </a:xfrm>
          </p:grpSpPr>
          <p:sp>
            <p:nvSpPr>
              <p:cNvPr id="104" name=""/>
              <p:cNvSpPr/>
              <p:nvPr/>
            </p:nvSpPr>
            <p:spPr>
              <a:xfrm flipH="1" flipV="1">
                <a:off x="5866920" y="3417840"/>
                <a:ext cx="2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5803920" y="3417840"/>
                <a:ext cx="633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flipV="1">
                <a:off x="5749560" y="3335040"/>
                <a:ext cx="5076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5894280" y="3417840"/>
                <a:ext cx="507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948280" y="3417840"/>
                <a:ext cx="5868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618080" y="2897280"/>
              <a:ext cx="312840" cy="582480"/>
              <a:chOff x="4618080" y="2897280"/>
              <a:chExt cx="312840" cy="582480"/>
            </a:xfrm>
          </p:grpSpPr>
          <p:sp>
            <p:nvSpPr>
              <p:cNvPr id="110" name=""/>
              <p:cNvSpPr/>
              <p:nvPr/>
            </p:nvSpPr>
            <p:spPr>
              <a:xfrm>
                <a:off x="4618080" y="2897280"/>
                <a:ext cx="698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4687920" y="3335040"/>
                <a:ext cx="4428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735440" y="3335400"/>
                <a:ext cx="5256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4788000" y="3417840"/>
                <a:ext cx="2520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816440" y="3417840"/>
                <a:ext cx="633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4879800" y="3335040"/>
                <a:ext cx="5112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flipV="1">
              <a:off x="6111720" y="3417840"/>
              <a:ext cx="255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40520" y="3417840"/>
              <a:ext cx="633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6062760" y="3417840"/>
              <a:ext cx="489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00480" y="3417840"/>
              <a:ext cx="6012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3669840" y="2897280"/>
              <a:ext cx="629280" cy="582480"/>
              <a:chOff x="3669840" y="2897280"/>
              <a:chExt cx="629280" cy="582480"/>
            </a:xfrm>
          </p:grpSpPr>
          <p:sp>
            <p:nvSpPr>
              <p:cNvPr id="121" name=""/>
              <p:cNvSpPr/>
              <p:nvPr/>
            </p:nvSpPr>
            <p:spPr>
              <a:xfrm flipH="1">
                <a:off x="3916440" y="2897280"/>
                <a:ext cx="698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3868560" y="3335040"/>
                <a:ext cx="4464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3814560" y="3335400"/>
                <a:ext cx="5364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flipV="1">
                <a:off x="3789360" y="3417840"/>
                <a:ext cx="237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3723840" y="3417840"/>
                <a:ext cx="6372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3669840" y="3335040"/>
                <a:ext cx="5076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987720" y="2897280"/>
                <a:ext cx="311400" cy="582480"/>
                <a:chOff x="3987720" y="2897280"/>
                <a:chExt cx="311400" cy="58248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987720" y="2897280"/>
                  <a:ext cx="69840" cy="51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V="1">
                  <a:off x="4057560" y="3335040"/>
                  <a:ext cx="4464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105440" y="3335400"/>
                  <a:ext cx="5220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V="1">
                  <a:off x="4159080" y="3417840"/>
                  <a:ext cx="24120" cy="6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184640" y="3417840"/>
                  <a:ext cx="63360" cy="6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4248000" y="3335040"/>
                  <a:ext cx="5112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" name=""/>
            <p:cNvGrpSpPr/>
            <p:nvPr/>
          </p:nvGrpSpPr>
          <p:grpSpPr>
            <a:xfrm>
              <a:off x="4300200" y="2905200"/>
              <a:ext cx="316080" cy="582480"/>
              <a:chOff x="4300200" y="2905200"/>
              <a:chExt cx="316080" cy="582480"/>
            </a:xfrm>
          </p:grpSpPr>
          <p:sp>
            <p:nvSpPr>
              <p:cNvPr id="135" name=""/>
              <p:cNvSpPr/>
              <p:nvPr/>
            </p:nvSpPr>
            <p:spPr>
              <a:xfrm flipH="1">
                <a:off x="4546440" y="2905200"/>
                <a:ext cx="698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flipV="1">
                <a:off x="4498920" y="3342960"/>
                <a:ext cx="4464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446360" y="3343320"/>
                <a:ext cx="5220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flipV="1">
                <a:off x="4417560" y="3425760"/>
                <a:ext cx="255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4354560" y="3425760"/>
                <a:ext cx="633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flipV="1">
                <a:off x="4300200" y="3342960"/>
                <a:ext cx="5076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039840" y="2897280"/>
              <a:ext cx="628920" cy="582480"/>
              <a:chOff x="3039840" y="2897280"/>
              <a:chExt cx="628920" cy="582480"/>
            </a:xfrm>
          </p:grpSpPr>
          <p:sp>
            <p:nvSpPr>
              <p:cNvPr id="142" name=""/>
              <p:cNvSpPr/>
              <p:nvPr/>
            </p:nvSpPr>
            <p:spPr>
              <a:xfrm flipH="1">
                <a:off x="3286080" y="2897280"/>
                <a:ext cx="69840" cy="519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flipV="1">
                <a:off x="3238200" y="3335040"/>
                <a:ext cx="44280" cy="81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3184560" y="3335400"/>
                <a:ext cx="5400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 flipV="1">
                <a:off x="3159000" y="3417840"/>
                <a:ext cx="237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3094200" y="3417840"/>
                <a:ext cx="63360" cy="61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flipV="1">
                <a:off x="3039840" y="3335040"/>
                <a:ext cx="5076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3357720" y="2897280"/>
                <a:ext cx="311040" cy="582480"/>
                <a:chOff x="3357720" y="2897280"/>
                <a:chExt cx="311040" cy="5824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357720" y="2897280"/>
                  <a:ext cx="69840" cy="519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3427560" y="3335040"/>
                  <a:ext cx="44280" cy="81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475080" y="3335400"/>
                  <a:ext cx="5220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3529080" y="3417840"/>
                  <a:ext cx="23760" cy="6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554280" y="3417840"/>
                  <a:ext cx="63720" cy="6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3618000" y="3335040"/>
                  <a:ext cx="5076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5" name=""/>
          <p:cNvSpPr/>
          <p:nvPr/>
        </p:nvSpPr>
        <p:spPr>
          <a:xfrm>
            <a:off x="5246640" y="228744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21360" y="2898720"/>
            <a:ext cx="2055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tecting disappearance of correlation peak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603840" y="3436920"/>
            <a:ext cx="182880" cy="752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08640" y="2895480"/>
            <a:ext cx="461880" cy="390600"/>
          </a:xfrm>
          <a:custGeom>
            <a:avLst/>
            <a:gdLst/>
            <a:ahLst/>
            <a:rect l="l" t="t" r="r" b="b"/>
            <a:pathLst>
              <a:path w="291" h="246">
                <a:moveTo>
                  <a:pt x="0" y="3"/>
                </a:moveTo>
                <a:lnTo>
                  <a:pt x="47" y="0"/>
                </a:lnTo>
                <a:lnTo>
                  <a:pt x="95" y="3"/>
                </a:lnTo>
                <a:lnTo>
                  <a:pt x="148" y="10"/>
                </a:lnTo>
                <a:lnTo>
                  <a:pt x="172" y="13"/>
                </a:lnTo>
                <a:lnTo>
                  <a:pt x="189" y="23"/>
                </a:lnTo>
                <a:lnTo>
                  <a:pt x="207" y="33"/>
                </a:lnTo>
                <a:lnTo>
                  <a:pt x="219" y="50"/>
                </a:lnTo>
                <a:lnTo>
                  <a:pt x="237" y="70"/>
                </a:lnTo>
                <a:lnTo>
                  <a:pt x="249" y="93"/>
                </a:lnTo>
                <a:lnTo>
                  <a:pt x="255" y="109"/>
                </a:lnTo>
                <a:lnTo>
                  <a:pt x="260" y="129"/>
                </a:lnTo>
                <a:lnTo>
                  <a:pt x="272" y="172"/>
                </a:lnTo>
                <a:lnTo>
                  <a:pt x="278" y="212"/>
                </a:lnTo>
                <a:lnTo>
                  <a:pt x="284" y="232"/>
                </a:lnTo>
                <a:lnTo>
                  <a:pt x="290" y="24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C359-5CD2-494A-9316-F491E79CF5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85800" y="4572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mbol Cont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5238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hort symbol 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9718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B16 symbol(This modified B16 symbol pattern was accepted by the last ETSI BRAN meeting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5760" y="4091040"/>
          <a:ext cx="8246880" cy="93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4091040"/>
                    <a:ext cx="82468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433800" y="5234040"/>
            <a:ext cx="784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Generated by 4 points cyclic time shift and    rad rotation from current B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2133720"/>
          <a:ext cx="8242200" cy="979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133720"/>
                    <a:ext cx="8242200" cy="97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3340440" y="5791320"/>
            <a:ext cx="5249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PAPR and dynamic range with current B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5791320"/>
            <a:ext cx="611280" cy="398520"/>
          </a:xfrm>
          <a:custGeom>
            <a:avLst/>
            <a:gdLst/>
            <a:ahLst/>
            <a:rect l="l" t="t" r="r" b="b"/>
            <a:pathLst>
              <a:path w="385" h="251">
                <a:moveTo>
                  <a:pt x="199" y="0"/>
                </a:moveTo>
                <a:lnTo>
                  <a:pt x="199" y="63"/>
                </a:lnTo>
                <a:lnTo>
                  <a:pt x="0" y="63"/>
                </a:lnTo>
                <a:lnTo>
                  <a:pt x="0" y="187"/>
                </a:lnTo>
                <a:lnTo>
                  <a:pt x="199" y="187"/>
                </a:lnTo>
                <a:lnTo>
                  <a:pt x="199" y="250"/>
                </a:lnTo>
                <a:lnTo>
                  <a:pt x="384" y="125"/>
                </a:lnTo>
                <a:lnTo>
                  <a:pt x="19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5257800"/>
            <a:ext cx="30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280" y="5111640"/>
            <a:ext cx="8316720" cy="1216080"/>
          </a:xfrm>
          <a:custGeom>
            <a:avLst/>
            <a:gdLst/>
            <a:ahLst/>
            <a:rect l="l" t="t" r="r" b="b"/>
            <a:pathLst>
              <a:path w="5239" h="766">
                <a:moveTo>
                  <a:pt x="97" y="0"/>
                </a:moveTo>
                <a:lnTo>
                  <a:pt x="62" y="6"/>
                </a:lnTo>
                <a:lnTo>
                  <a:pt x="26" y="32"/>
                </a:lnTo>
                <a:lnTo>
                  <a:pt x="9" y="57"/>
                </a:lnTo>
                <a:lnTo>
                  <a:pt x="0" y="96"/>
                </a:lnTo>
                <a:lnTo>
                  <a:pt x="0" y="669"/>
                </a:lnTo>
                <a:lnTo>
                  <a:pt x="9" y="708"/>
                </a:lnTo>
                <a:lnTo>
                  <a:pt x="26" y="739"/>
                </a:lnTo>
                <a:lnTo>
                  <a:pt x="62" y="759"/>
                </a:lnTo>
                <a:lnTo>
                  <a:pt x="97" y="765"/>
                </a:lnTo>
                <a:lnTo>
                  <a:pt x="5141" y="765"/>
                </a:lnTo>
                <a:lnTo>
                  <a:pt x="5176" y="759"/>
                </a:lnTo>
                <a:lnTo>
                  <a:pt x="5211" y="739"/>
                </a:lnTo>
                <a:lnTo>
                  <a:pt x="5229" y="708"/>
                </a:lnTo>
                <a:lnTo>
                  <a:pt x="5238" y="669"/>
                </a:lnTo>
                <a:lnTo>
                  <a:pt x="5238" y="96"/>
                </a:lnTo>
                <a:lnTo>
                  <a:pt x="5229" y="57"/>
                </a:lnTo>
                <a:lnTo>
                  <a:pt x="5211" y="32"/>
                </a:lnTo>
                <a:lnTo>
                  <a:pt x="5176" y="6"/>
                </a:lnTo>
                <a:lnTo>
                  <a:pt x="5141" y="0"/>
                </a:lnTo>
                <a:lnTo>
                  <a:pt x="9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472E-223A-4F67-BAF0-B082CF5C0B7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 rot="16200000">
            <a:off x="138600" y="2836800"/>
            <a:ext cx="213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ched filter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12800" y="762120"/>
            <a:ext cx="45072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ched filter outp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96960" y="5446800"/>
            <a:ext cx="5002200" cy="461880"/>
            <a:chOff x="696960" y="5446800"/>
            <a:chExt cx="5002200" cy="461880"/>
          </a:xfrm>
        </p:grpSpPr>
        <p:sp>
          <p:nvSpPr>
            <p:cNvPr id="174" name=""/>
            <p:cNvSpPr/>
            <p:nvPr/>
          </p:nvSpPr>
          <p:spPr>
            <a:xfrm>
              <a:off x="696960" y="5446800"/>
              <a:ext cx="158760" cy="423720"/>
            </a:xfrm>
            <a:custGeom>
              <a:avLst/>
              <a:gdLst/>
              <a:ahLst/>
              <a:rect l="l" t="t" r="r" b="b"/>
              <a:pathLst>
                <a:path w="100" h="267">
                  <a:moveTo>
                    <a:pt x="49" y="0"/>
                  </a:moveTo>
                  <a:lnTo>
                    <a:pt x="29" y="23"/>
                  </a:lnTo>
                  <a:lnTo>
                    <a:pt x="20" y="35"/>
                  </a:lnTo>
                  <a:lnTo>
                    <a:pt x="12" y="47"/>
                  </a:lnTo>
                  <a:lnTo>
                    <a:pt x="6" y="53"/>
                  </a:lnTo>
                  <a:lnTo>
                    <a:pt x="1" y="65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4" y="94"/>
                  </a:lnTo>
                  <a:lnTo>
                    <a:pt x="7" y="100"/>
                  </a:lnTo>
                  <a:lnTo>
                    <a:pt x="13" y="106"/>
                  </a:lnTo>
                  <a:lnTo>
                    <a:pt x="19" y="112"/>
                  </a:lnTo>
                  <a:lnTo>
                    <a:pt x="33" y="124"/>
                  </a:lnTo>
                  <a:lnTo>
                    <a:pt x="49" y="136"/>
                  </a:lnTo>
                  <a:lnTo>
                    <a:pt x="66" y="142"/>
                  </a:lnTo>
                  <a:lnTo>
                    <a:pt x="80" y="154"/>
                  </a:lnTo>
                  <a:lnTo>
                    <a:pt x="86" y="160"/>
                  </a:lnTo>
                  <a:lnTo>
                    <a:pt x="91" y="165"/>
                  </a:lnTo>
                  <a:lnTo>
                    <a:pt x="95" y="171"/>
                  </a:lnTo>
                  <a:lnTo>
                    <a:pt x="97" y="177"/>
                  </a:lnTo>
                  <a:lnTo>
                    <a:pt x="99" y="189"/>
                  </a:lnTo>
                  <a:lnTo>
                    <a:pt x="97" y="201"/>
                  </a:lnTo>
                  <a:lnTo>
                    <a:pt x="93" y="213"/>
                  </a:lnTo>
                  <a:lnTo>
                    <a:pt x="87" y="225"/>
                  </a:lnTo>
                  <a:lnTo>
                    <a:pt x="79" y="231"/>
                  </a:lnTo>
                  <a:lnTo>
                    <a:pt x="69" y="242"/>
                  </a:lnTo>
                  <a:lnTo>
                    <a:pt x="49" y="26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8360" y="5472000"/>
              <a:ext cx="251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8360" y="5892840"/>
              <a:ext cx="251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31480" y="5506920"/>
              <a:ext cx="565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48040" y="5472000"/>
              <a:ext cx="266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48040" y="5892840"/>
              <a:ext cx="266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17480" y="5541840"/>
              <a:ext cx="565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1600" y="5506920"/>
              <a:ext cx="565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1560" y="5470560"/>
              <a:ext cx="147600" cy="425520"/>
            </a:xfrm>
            <a:custGeom>
              <a:avLst/>
              <a:gdLst/>
              <a:ahLst/>
              <a:rect l="l" t="t" r="r" b="b"/>
              <a:pathLst>
                <a:path w="93" h="268">
                  <a:moveTo>
                    <a:pt x="46" y="0"/>
                  </a:moveTo>
                  <a:lnTo>
                    <a:pt x="23" y="23"/>
                  </a:lnTo>
                  <a:lnTo>
                    <a:pt x="6" y="47"/>
                  </a:lnTo>
                  <a:lnTo>
                    <a:pt x="0" y="65"/>
                  </a:lnTo>
                  <a:lnTo>
                    <a:pt x="0" y="89"/>
                  </a:lnTo>
                  <a:lnTo>
                    <a:pt x="6" y="101"/>
                  </a:lnTo>
                  <a:lnTo>
                    <a:pt x="18" y="113"/>
                  </a:lnTo>
                  <a:lnTo>
                    <a:pt x="46" y="136"/>
                  </a:lnTo>
                  <a:lnTo>
                    <a:pt x="75" y="154"/>
                  </a:lnTo>
                  <a:lnTo>
                    <a:pt x="87" y="166"/>
                  </a:lnTo>
                  <a:lnTo>
                    <a:pt x="92" y="178"/>
                  </a:lnTo>
                  <a:lnTo>
                    <a:pt x="92" y="202"/>
                  </a:lnTo>
                  <a:lnTo>
                    <a:pt x="87" y="225"/>
                  </a:lnTo>
                  <a:lnTo>
                    <a:pt x="69" y="243"/>
                  </a:lnTo>
                  <a:lnTo>
                    <a:pt x="46" y="26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74640" y="54738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46240" y="54738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287880" y="5086440"/>
            <a:ext cx="66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600200" y="1525680"/>
            <a:ext cx="3911760" cy="35733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638680" y="2743200"/>
            <a:ext cx="30164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Search was carried out to obtain low sidelobe at the neighborhood of mainlobe (around t=0) and the next short symbol period (t=1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33840" y="3505320"/>
            <a:ext cx="490680" cy="990360"/>
          </a:xfrm>
          <a:prstGeom prst="ellipse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1360" y="3657600"/>
            <a:ext cx="490320" cy="990720"/>
          </a:xfrm>
          <a:prstGeom prst="ellipse">
            <a:avLst/>
          </a:prstGeom>
          <a:noFill/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0B6C-B716-4ADC-9F43-50B21FC9769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415120" y="4240080"/>
            <a:ext cx="3271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rge correlation side-lobe degrades symbol timing detection accu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08360" y="2832120"/>
            <a:ext cx="146160" cy="10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854520" y="3753000"/>
            <a:ext cx="9504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0" y="3754440"/>
            <a:ext cx="1144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559320" y="2832120"/>
            <a:ext cx="147600" cy="10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460320" y="3753000"/>
            <a:ext cx="9540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346200" y="3754440"/>
            <a:ext cx="1141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292200" y="3927600"/>
            <a:ext cx="5220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153960" y="3927600"/>
            <a:ext cx="13644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3046320" y="3753000"/>
            <a:ext cx="10656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068720" y="3927600"/>
            <a:ext cx="5256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22720" y="3927600"/>
            <a:ext cx="13644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260960" y="3753000"/>
            <a:ext cx="106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68960" y="3754440"/>
            <a:ext cx="83880" cy="30492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452840" y="3425400"/>
            <a:ext cx="101520" cy="6318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680000" y="3754440"/>
            <a:ext cx="84240" cy="30492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4565160" y="3425400"/>
            <a:ext cx="112680" cy="63180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4763880" y="3753000"/>
            <a:ext cx="538200" cy="306360"/>
            <a:chOff x="4763880" y="3753000"/>
            <a:chExt cx="538200" cy="306360"/>
          </a:xfrm>
        </p:grpSpPr>
        <p:sp>
          <p:nvSpPr>
            <p:cNvPr id="208" name=""/>
            <p:cNvSpPr/>
            <p:nvPr/>
          </p:nvSpPr>
          <p:spPr>
            <a:xfrm flipH="1" flipV="1">
              <a:off x="5013000" y="3927600"/>
              <a:ext cx="522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874760" y="392760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4763880" y="3753000"/>
              <a:ext cx="10764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5065560" y="3927600"/>
              <a:ext cx="108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76800" y="3927600"/>
              <a:ext cx="12528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384280" y="2832120"/>
            <a:ext cx="147960" cy="10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532240" y="3753000"/>
            <a:ext cx="9504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630520" y="3754440"/>
            <a:ext cx="1126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744640" y="3927600"/>
            <a:ext cx="5256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98640" y="3927600"/>
            <a:ext cx="13680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935440" y="3753000"/>
            <a:ext cx="1076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526000" y="3927600"/>
            <a:ext cx="5256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80000" y="3927600"/>
            <a:ext cx="13644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5414760" y="3927600"/>
            <a:ext cx="10764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5289120" y="3927600"/>
            <a:ext cx="12564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3147840"/>
            <a:ext cx="1765080" cy="51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ched filter output for direct path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3120" y="4211640"/>
            <a:ext cx="1725480" cy="51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ched filter outpu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delayed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73160" y="4289400"/>
            <a:ext cx="3327120" cy="477720"/>
            <a:chOff x="1973160" y="4289400"/>
            <a:chExt cx="3327120" cy="477720"/>
          </a:xfrm>
        </p:grpSpPr>
        <p:sp>
          <p:nvSpPr>
            <p:cNvPr id="226" name=""/>
            <p:cNvSpPr/>
            <p:nvPr/>
          </p:nvSpPr>
          <p:spPr>
            <a:xfrm>
              <a:off x="4398840" y="4648320"/>
              <a:ext cx="11268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3914280" y="4289400"/>
              <a:ext cx="483120" cy="425520"/>
              <a:chOff x="3914280" y="4289400"/>
              <a:chExt cx="483120" cy="425520"/>
            </a:xfrm>
          </p:grpSpPr>
          <p:sp>
            <p:nvSpPr>
              <p:cNvPr id="228" name=""/>
              <p:cNvSpPr/>
              <p:nvPr/>
            </p:nvSpPr>
            <p:spPr>
              <a:xfrm>
                <a:off x="4157640" y="4289400"/>
                <a:ext cx="144360" cy="42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4303800" y="4646160"/>
                <a:ext cx="9360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012920" y="4289400"/>
                <a:ext cx="142920" cy="42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3914280" y="4646160"/>
                <a:ext cx="9540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 flipH="1">
              <a:off x="3805200" y="4648320"/>
              <a:ext cx="10944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3508200" y="4648320"/>
              <a:ext cx="10656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699080" y="4648320"/>
              <a:ext cx="10476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07080" y="4648320"/>
              <a:ext cx="83880" cy="1188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890960" y="4470480"/>
              <a:ext cx="108000" cy="2952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5195520" y="4648320"/>
              <a:ext cx="10476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111640" y="4648320"/>
              <a:ext cx="84240" cy="1188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5000400" y="4470480"/>
              <a:ext cx="107640" cy="2952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60560" y="4289400"/>
              <a:ext cx="144720" cy="42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3005280" y="4646160"/>
              <a:ext cx="91800" cy="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00320" y="4648320"/>
              <a:ext cx="11268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403440" y="4648320"/>
              <a:ext cx="10332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714400" y="4289400"/>
              <a:ext cx="144360" cy="42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2207880" y="4646160"/>
              <a:ext cx="505080" cy="120960"/>
              <a:chOff x="2207880" y="4646160"/>
              <a:chExt cx="505080" cy="120960"/>
            </a:xfrm>
          </p:grpSpPr>
          <p:sp>
            <p:nvSpPr>
              <p:cNvPr id="246" name=""/>
              <p:cNvSpPr/>
              <p:nvPr/>
            </p:nvSpPr>
            <p:spPr>
              <a:xfrm flipH="1" flipV="1">
                <a:off x="2619360" y="4646160"/>
                <a:ext cx="9360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2504880" y="4648320"/>
                <a:ext cx="112680" cy="11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flipV="1">
                <a:off x="2450880" y="4714560"/>
                <a:ext cx="5076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315880" y="4716360"/>
                <a:ext cx="13500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>
                <a:off x="2207880" y="4648320"/>
                <a:ext cx="104760" cy="11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 flipV="1">
              <a:off x="2109960" y="4648320"/>
              <a:ext cx="10296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flipV="1">
              <a:off x="3751200" y="4714560"/>
              <a:ext cx="525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3615840" y="4716360"/>
              <a:ext cx="1335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511520" y="4714560"/>
              <a:ext cx="511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65520" y="4716360"/>
              <a:ext cx="1335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213000" y="4714560"/>
              <a:ext cx="507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67000" y="4716360"/>
              <a:ext cx="1350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73160" y="4716360"/>
              <a:ext cx="1350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714680" y="4883040"/>
            <a:ext cx="4451040" cy="408240"/>
            <a:chOff x="1714680" y="4883040"/>
            <a:chExt cx="4451040" cy="408240"/>
          </a:xfrm>
        </p:grpSpPr>
        <p:sp>
          <p:nvSpPr>
            <p:cNvPr id="260" name=""/>
            <p:cNvSpPr/>
            <p:nvPr/>
          </p:nvSpPr>
          <p:spPr>
            <a:xfrm>
              <a:off x="1784520" y="4884840"/>
              <a:ext cx="212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784520" y="5288040"/>
              <a:ext cx="22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780640" y="4917960"/>
              <a:ext cx="477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33920" y="4884840"/>
              <a:ext cx="234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3920" y="5288040"/>
              <a:ext cx="234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77840" y="4917960"/>
              <a:ext cx="43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66240" y="4917960"/>
              <a:ext cx="363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14680" y="4883040"/>
              <a:ext cx="137880" cy="408240"/>
            </a:xfrm>
            <a:custGeom>
              <a:avLst/>
              <a:gdLst/>
              <a:ahLst/>
              <a:rect l="l" t="t" r="r" b="b"/>
              <a:pathLst>
                <a:path w="87" h="257">
                  <a:moveTo>
                    <a:pt x="43" y="0"/>
                  </a:moveTo>
                  <a:lnTo>
                    <a:pt x="26" y="21"/>
                  </a:lnTo>
                  <a:lnTo>
                    <a:pt x="11" y="43"/>
                  </a:lnTo>
                  <a:lnTo>
                    <a:pt x="6" y="53"/>
                  </a:lnTo>
                  <a:lnTo>
                    <a:pt x="2" y="64"/>
                  </a:lnTo>
                  <a:lnTo>
                    <a:pt x="0" y="75"/>
                  </a:lnTo>
                  <a:lnTo>
                    <a:pt x="0" y="85"/>
                  </a:lnTo>
                  <a:lnTo>
                    <a:pt x="6" y="96"/>
                  </a:lnTo>
                  <a:lnTo>
                    <a:pt x="15" y="107"/>
                  </a:lnTo>
                  <a:lnTo>
                    <a:pt x="28" y="117"/>
                  </a:lnTo>
                  <a:lnTo>
                    <a:pt x="43" y="128"/>
                  </a:lnTo>
                  <a:lnTo>
                    <a:pt x="58" y="139"/>
                  </a:lnTo>
                  <a:lnTo>
                    <a:pt x="71" y="149"/>
                  </a:lnTo>
                  <a:lnTo>
                    <a:pt x="81" y="160"/>
                  </a:lnTo>
                  <a:lnTo>
                    <a:pt x="86" y="171"/>
                  </a:lnTo>
                  <a:lnTo>
                    <a:pt x="86" y="181"/>
                  </a:lnTo>
                  <a:lnTo>
                    <a:pt x="86" y="192"/>
                  </a:lnTo>
                  <a:lnTo>
                    <a:pt x="83" y="203"/>
                  </a:lnTo>
                  <a:lnTo>
                    <a:pt x="77" y="213"/>
                  </a:lnTo>
                  <a:lnTo>
                    <a:pt x="62" y="235"/>
                  </a:lnTo>
                  <a:lnTo>
                    <a:pt x="43" y="2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26040" y="4883040"/>
              <a:ext cx="139680" cy="408240"/>
            </a:xfrm>
            <a:custGeom>
              <a:avLst/>
              <a:gdLst/>
              <a:ahLst/>
              <a:rect l="l" t="t" r="r" b="b"/>
              <a:pathLst>
                <a:path w="88" h="257">
                  <a:moveTo>
                    <a:pt x="43" y="0"/>
                  </a:moveTo>
                  <a:lnTo>
                    <a:pt x="12" y="43"/>
                  </a:lnTo>
                  <a:lnTo>
                    <a:pt x="0" y="64"/>
                  </a:lnTo>
                  <a:lnTo>
                    <a:pt x="0" y="85"/>
                  </a:lnTo>
                  <a:lnTo>
                    <a:pt x="6" y="96"/>
                  </a:lnTo>
                  <a:lnTo>
                    <a:pt x="18" y="107"/>
                  </a:lnTo>
                  <a:lnTo>
                    <a:pt x="43" y="128"/>
                  </a:lnTo>
                  <a:lnTo>
                    <a:pt x="74" y="149"/>
                  </a:lnTo>
                  <a:lnTo>
                    <a:pt x="81" y="160"/>
                  </a:lnTo>
                  <a:lnTo>
                    <a:pt x="87" y="171"/>
                  </a:lnTo>
                  <a:lnTo>
                    <a:pt x="87" y="192"/>
                  </a:lnTo>
                  <a:lnTo>
                    <a:pt x="74" y="213"/>
                  </a:lnTo>
                  <a:lnTo>
                    <a:pt x="43" y="25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82840" y="4886280"/>
              <a:ext cx="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06920" y="4886280"/>
              <a:ext cx="0" cy="40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706920" y="2808360"/>
            <a:ext cx="0" cy="2394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19840" y="2808360"/>
            <a:ext cx="0" cy="2076480"/>
          </a:xfrm>
          <a:prstGeom prst="line">
            <a:avLst/>
          </a:prstGeom>
          <a:ln w="255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230560" y="2841480"/>
            <a:ext cx="147600" cy="109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82840" y="2841480"/>
            <a:ext cx="0" cy="2394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05520" y="3160800"/>
            <a:ext cx="2055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appearance of correlation peak sig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1187280"/>
            <a:ext cx="7239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uence of the high correlation side-lo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iming detection 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7000" y="2816280"/>
            <a:ext cx="1218960" cy="691920"/>
          </a:xfrm>
          <a:custGeom>
            <a:avLst/>
            <a:gdLst/>
            <a:ahLst/>
            <a:rect l="l" t="t" r="r" b="b"/>
            <a:pathLst>
              <a:path w="768" h="436">
                <a:moveTo>
                  <a:pt x="0" y="4"/>
                </a:moveTo>
                <a:lnTo>
                  <a:pt x="40" y="4"/>
                </a:lnTo>
                <a:lnTo>
                  <a:pt x="91" y="0"/>
                </a:lnTo>
                <a:lnTo>
                  <a:pt x="157" y="0"/>
                </a:lnTo>
                <a:lnTo>
                  <a:pt x="228" y="4"/>
                </a:lnTo>
                <a:lnTo>
                  <a:pt x="269" y="7"/>
                </a:lnTo>
                <a:lnTo>
                  <a:pt x="320" y="7"/>
                </a:lnTo>
                <a:lnTo>
                  <a:pt x="426" y="14"/>
                </a:lnTo>
                <a:lnTo>
                  <a:pt x="528" y="25"/>
                </a:lnTo>
                <a:lnTo>
                  <a:pt x="574" y="32"/>
                </a:lnTo>
                <a:lnTo>
                  <a:pt x="614" y="46"/>
                </a:lnTo>
                <a:lnTo>
                  <a:pt x="645" y="64"/>
                </a:lnTo>
                <a:lnTo>
                  <a:pt x="670" y="85"/>
                </a:lnTo>
                <a:lnTo>
                  <a:pt x="706" y="135"/>
                </a:lnTo>
                <a:lnTo>
                  <a:pt x="731" y="191"/>
                </a:lnTo>
                <a:lnTo>
                  <a:pt x="752" y="244"/>
                </a:lnTo>
                <a:lnTo>
                  <a:pt x="767" y="297"/>
                </a:lnTo>
                <a:lnTo>
                  <a:pt x="767" y="350"/>
                </a:lnTo>
                <a:lnTo>
                  <a:pt x="767" y="396"/>
                </a:lnTo>
                <a:lnTo>
                  <a:pt x="767" y="417"/>
                </a:lnTo>
                <a:lnTo>
                  <a:pt x="767" y="43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E0B-7AE6-4058-904C-3290714FF0AB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4460760" cy="40939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85800" y="838080"/>
            <a:ext cx="78487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 error rate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37760" y="5398920"/>
            <a:ext cx="1020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ja-JP" sz="16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i="1" lang="ja-JP" sz="1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[dB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244440" y="3072600"/>
            <a:ext cx="1523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cket error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64240" y="5796000"/>
            <a:ext cx="31932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Packet error rate versus 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ja-JP" sz="20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i="1" lang="ja-JP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91320" y="3733920"/>
            <a:ext cx="26668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irreducible error caused by miss/false timing detection is much improved by using proposed B16 sequ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5791320" y="2438280"/>
            <a:ext cx="2743200" cy="52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60ED-E7EF-4F6B-8D9B-A3CC2D0B4EA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839520" y="843120"/>
            <a:ext cx="7037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propose to adopt the modified B16 sh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 pattern which was accepted by the ET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 Morikura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48CF-463C-4E34-832E-AD1C65CBE7D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dane</cp:lastModifiedBy>
  <cp:lastPrinted>1999-07-15T08:33:35Z</cp:lastPrinted>
  <dcterms:modified xsi:type="dcterms:W3CDTF">1999-07-15T08:34:16Z</dcterms:modified>
  <cp:revision>2</cp:revision>
  <dc:subject/>
  <dc:title>No Slide Title</dc:title>
</cp:coreProperties>
</file>