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1412-4996-4C1E-AF43-5116C0085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9565-79DC-447A-B04A-EA3100BB1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8549-6C42-40F0-8492-1AFE26050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4481-1488-40AA-8E94-86ECD4910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B209-59FD-41A6-8901-B1B911972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EEB7-CF7D-45AC-9F87-9D22A873E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429F-E8F3-4320-92A0-635A7C4D8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F960-8439-476E-BF7C-55D5BA8AA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7F0C-25B8-4398-BE1D-B31FAC84E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6C90-4FC8-4881-8D96-B744698A9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2D20-1891-4CE7-95C8-7E55CD913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B8D4-F1A6-43F6-9781-8772455E6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228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39936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ob O’Hara, Chairm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657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44B2E867-E5C6-4555-94A2-03D851E050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2286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ctr">
            <a:no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99/15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94360" y="6446880"/>
            <a:ext cx="9745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Gd Agen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Gd Agen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ly 1999 Me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treal, Quebec, Can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O'Hara, Chair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BCDA-1CD8-4A93-BB84-CC409AB2DC2C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5105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ret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l to 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roval of the agen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roval of min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nounc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l for Submis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entation of submis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ld busi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busi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jour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562720" y="2057400"/>
            <a:ext cx="30477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eting Ti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uesday 8:30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O'Hara, Chair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B838-F946-46AF-9E00-13CB58912A9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nounc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 for TGd was approved at NeSCom in Ju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O'Hara, Chair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B8AD-C67B-452C-8575-EAFC240AF83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ll for Submis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an Kawaguchi: 99/159 FH Hop sequences for new regulatory domain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ftali Chayat: 98/22 FH Sequences for Australia, Israel, Canada outdoors (will be revised to include band limit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ob O'Hara, Chair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610B-54CF-4C5F-9664-78AA61295DC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5T13:03:53Z</dcterms:created>
  <dc:creator>Bob O'Hara</dc:creator>
  <dc:description/>
  <dc:language>en-US</dc:language>
  <cp:lastModifiedBy>rodane</cp:lastModifiedBy>
  <cp:lastPrinted>1999-07-15T08:39:25Z</cp:lastPrinted>
  <dcterms:modified xsi:type="dcterms:W3CDTF">1999-07-15T08:39:55Z</dcterms:modified>
  <cp:revision>7</cp:revision>
  <dc:subject/>
  <dc:title>TGd Agenda</dc:title>
</cp:coreProperties>
</file>