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8E7E-AC26-45B5-BC93-A1A756D60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A548-B084-4159-9443-7DB2D6C74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306E-633E-4B23-96F8-BB5834EBB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F4BB-677C-4221-BDE8-CEB56767B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FEA5-49F8-4CDE-AD70-18496EABD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207C-23F2-41DB-A0B6-DC486C7A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5D0B-5826-4E12-9DBF-0CE85F06F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5063-CA7A-40F9-8F45-980A7B0CE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65F5-999B-4A3B-83BE-35BAE164A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6572-DE33-4E0E-BBB6-46705937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6F71-838C-4DEB-8469-B110F3F3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4A36-7A8A-40DA-AA42-DC6A8226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2FEDC37-F589-46C3-B55A-CFF5926850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9/1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4000" y="6446880"/>
            <a:ext cx="916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Gd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Gd Re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ly 1999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treal, Quebec, Can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O'Hara, Chair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81B1-82E0-4ACB-A125-AD6FC1B35C3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ret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to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val of the ag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val of min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for Submi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ation of submi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ou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562720" y="2057400"/>
            <a:ext cx="3047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eting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esday 8:30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O'Hara, Chair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3009-7D0F-40E5-A097-4916A9EE255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 for TGd was approved at NeSCom in Ju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O'Hara, Chair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F29A-5FE2-464E-B2A7-AE028AD8578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an Kawaguchi: 99/159 FH Hop sequences for new regulatory domai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ftali Chayat: 98/22 FH Sequences for Australia, Israel, Canada outdoors (will be revised to include band limi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O'Hara, Chair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0874-FF71-4007-AC0A-BE51E4936E7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ll for Submi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an Kawaguchi: Algorithmic determination of hop sequ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an Kawaguchi/Naftali Chayat: International Mo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rwin Engwer: Algorithmic determination of hop sequ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O'Hara, Chair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A1A3-E307-4CAC-A2B1-F5075DA5F1D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s for Next Me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Methods to begin to converge to a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bout D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O'Hara, Chair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4B23-393D-4A65-8F4B-9E69FCCBF4D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3:03:53Z</dcterms:created>
  <dc:creator>Bob O'Hara</dc:creator>
  <dc:description/>
  <dc:language>en-US</dc:language>
  <cp:lastModifiedBy>rodane</cp:lastModifiedBy>
  <cp:lastPrinted>1999-07-15T08:43:17Z</cp:lastPrinted>
  <dcterms:modified xsi:type="dcterms:W3CDTF">1999-07-15T08:43:51Z</dcterms:modified>
  <cp:revision>7</cp:revision>
  <dc:subject/>
  <dc:title>TGd Agenda</dc:title>
</cp:coreProperties>
</file>