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DF7F2A-AEA0-42E0-BDBB-BF4AD3F62C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865E51-1724-45F9-997A-F8180FFA6E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4CA2A3-6CA5-469A-A118-D94292B14C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12BBAC-C746-4FDC-A04D-0AF75F5D97D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FA4328-8332-47D5-889F-B03A041E275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72B3C0-5F43-4A7F-AE5B-E965BBF4CE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D989A5-26CE-4C9A-A19F-1ADE8A9F46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361EE1-8BCF-4EAD-A760-470DCB6485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51219D-3120-4A3E-884C-2A0E44C12A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264529-40DC-414A-817C-D224265FE4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16E9BD-0DEC-42A4-9E57-D7E24B26E5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D3EF37-C8A7-4625-AB0F-55C2DA79FE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663AD2A7-E2F0-4046-ABCA-D851FE584D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4191120" y="396000"/>
            <a:ext cx="3962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 99/16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68160" y="3160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uly 199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580800" y="6438960"/>
            <a:ext cx="2227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uce Kraemer, Al Petrick Harr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09480" y="593640"/>
            <a:ext cx="8153640" cy="57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ederal Communications Commi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PRM: NOTICE OF PROPOSED RULE MAK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mendment of Regulations for Part 15 Spread Spectrum De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T Docket No. 99-231        FCC 99-14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leased:  June 24, 199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mment Date: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75 days after publication in the Federal Register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ly Comment Date: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105 days after publication in the Federal Register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CC proposes to amend the Part 15  Section 247 rules regarding the operation of ISM spread spectrum system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equency hopping systems operating in the 2.4 GHz band (2400 - 2483.5 MHz) to allow for wider operational bandwidth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fine the method for measuring the processing gain of direct sequence systems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al: Facilitate development and deployment of spread spectrum technology, particularly for high data rate wireless applicatio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1E612C-139F-44CD-85FF-05C6D01E181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"/>
          <p:cNvGraphicFramePr/>
          <p:nvPr/>
        </p:nvGraphicFramePr>
        <p:xfrm>
          <a:off x="177840" y="1752480"/>
          <a:ext cx="8877240" cy="3822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7840" y="1752480"/>
                    <a:ext cx="8877240" cy="38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"/>
          <p:cNvSpPr/>
          <p:nvPr/>
        </p:nvSpPr>
        <p:spPr>
          <a:xfrm>
            <a:off x="1748160" y="857160"/>
            <a:ext cx="548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ummary of WBFH Propos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833A6B-17F4-41F1-A9AD-045DBD42D83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71520" y="1295280"/>
            <a:ext cx="85611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cessing gain (PG) shall b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10d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G = improvement in SNR after filtering from coding and sprea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day: PG (dB) =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NR with spread 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NR with spread 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posed Method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hanges If chip rat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10 chips/symbo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chip rate &lt; 10 chips/symb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ditional CW jammer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hematical calculation of processing g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amming margin test using Guassian No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665080" y="609480"/>
            <a:ext cx="362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S Processing Ga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B4D1F2-CF07-4586-BDDE-0C634BD0569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533520" y="593640"/>
            <a:ext cx="8610480" cy="610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CC Invites Comment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(9)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CC does not believe new rules will result in any significant increase in interference to direct sequence spread spectrum systems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Aft>
                <a:spcPts val="9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BFH interference on DS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7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SSS can compensate by improving processing g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BFH interference to Amateur Rad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(10)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CC believes that WBFH systems will achieve data rates substantially greater than 1 MHz system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ffects of multipath interference and subsequent retransmis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(14)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current jamming margin test is based on use of a CW signal as an interference source but propose to use a Guassian interferer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ffect of using a Guassian interferer in the current jamming margin test set-up and detailed measurement procedur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(15)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CC proposes that results of jamming margin test be submitted along with a mathematical calculation of processing gain, if the DS system uses fewer than 10 chips per symbo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quirements to submit the results of the jamming margin test as well as a calculation of processing gain to verify compliance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B5AD83-4D34-4226-8E31-F57B638AA27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77640" y="1371600"/>
            <a:ext cx="86558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otion 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m a 802.11 WBFH study group (liaison with 802.1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alyze interference impact on legacy 802.11 system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ort findings/recommendations to 802.11 by Thurs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ggest further 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otion 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m a 802.11 DS Processing Gain study group (liaison with 802.1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lly understand rule chan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e Gaussian noise 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ort findings/recommendations to 802.11 by Thurs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ggest further 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A88072-C81D-4871-B12D-229B6A1E992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05T16:59:08Z</dcterms:created>
  <dc:creator>Bruce Kraemer</dc:creator>
  <dc:description/>
  <dc:language>en-US</dc:language>
  <cp:lastModifiedBy>Al Petrick</cp:lastModifiedBy>
  <dcterms:modified xsi:type="dcterms:W3CDTF">1999-07-07T21:08:22Z</dcterms:modified>
  <cp:revision>19</cp:revision>
  <dc:subject/>
  <dc:title>No Slide Title</dc:title>
</cp:coreProperties>
</file>