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B550-20BF-4BB6-A9D9-296488FD4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DC1A-74FD-42D9-A0E5-F454EDD31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C3DE7-4A52-40BA-B9A8-F2176BC64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67789-3075-4F59-8789-8C06B64D48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18C5-6D01-4E9E-B94C-4E2CBF65CB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C43D7-744A-4208-B52B-F5A43F37C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EA01A-B021-48EE-834C-13DC22653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3970-C1A1-488B-8D5E-DEE67450A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6F9E-4AE3-44FB-BEB0-FB49C7997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415E0-45BB-419E-A7DB-564D7A545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EBED-FBF6-4BF0-9B4D-F44E7E73D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E6B8-BEFB-4327-864C-9B9DFD612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D8151F6-AA4F-4971-8191-7C926972A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191120" y="396000"/>
            <a:ext cx="39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 99/1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68160" y="3160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78280" y="6438960"/>
            <a:ext cx="195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Zyren, Al Petrick, Harr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16680" y="1847880"/>
            <a:ext cx="60696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RM 99-149 Study Group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FH - Jim Zy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 Processing Gain - Al Petr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5B53-96A7-41A7-8DBA-7FC2D774D4A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09480" y="593640"/>
            <a:ext cx="8153640" cy="57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Communications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PRM: NOTICE OF PROPOSED RULE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ndment of Regulations for Part 15 Spread Spectrum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 Docket No. 99-231        FCC 99-1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leased:  June 24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7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 Comment Date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105 days after publication in the Federal Register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CC proposes to amend the Part 15  Section 247 rules regarding the operation of ISM spread spectrum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hopping systems operating in the 2.4 GHz band (2400 - 2483.5 MHz) to allow for wider operational bandwidth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ne the method for measuring the processing gain of direct sequence system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: Facilitate development and deployment of spread spectrum technology, particularly for high data rate wireless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6AC9-0D10-47E4-8EC6-4C2D4472EB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77840" y="1752480"/>
          <a:ext cx="8877240" cy="38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752480"/>
                    <a:ext cx="887724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748160" y="857160"/>
            <a:ext cx="548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 of WBFH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6341-4DD1-433B-BDD5-8D1A6FC752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533520" y="1143000"/>
          <a:ext cx="8254800" cy="79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254800" cy="79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670040" y="609480"/>
            <a:ext cx="59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 Evening WBFH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7B857-2F41-4ECF-BBF4-D76B94B722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tudy group to draft a letter on behalf of 802.11 in opposition of WBFH as defined in NPRM 99-231. This document after approval of 802.11 plenary will be forwarded to ExCom for approval for release to the FC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C182-65D6-4A3B-8F2F-0B4F19E57B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71520" y="1295280"/>
            <a:ext cx="8561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 gain (PG) shall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 = improvement in SNR after filtering from coding and sp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: PG (dB)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R with sprea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NR with sprea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posed Metho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If chip rat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 chips/symb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hip rate &lt; 10 chips/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CW jamm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ematical calculation of processing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ming margin test using Gau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6858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S Processing G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4E3F-EAE5-40F1-84C9-0378791372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80880" y="1219320"/>
          <a:ext cx="8229600" cy="853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229600" cy="853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755640" y="682560"/>
            <a:ext cx="660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uesday Evening DS Processing Gain Summar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3844-55D3-4F4C-BA41-A39994FBDA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plenary adopts the recommendation as stated in the summary on slide 7 of doc 99/16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0CE2-D2F4-47F0-A450-3D15B12876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6:59:08Z</dcterms:created>
  <dc:creator>Jim Zyren, Al Petrick</dc:creator>
  <dc:description/>
  <dc:language>en-US</dc:language>
  <cp:lastModifiedBy>Al Petrick</cp:lastModifiedBy>
  <dcterms:modified xsi:type="dcterms:W3CDTF">1999-07-08T13:47:17Z</dcterms:modified>
  <cp:revision>41</cp:revision>
  <dc:subject/>
  <dc:title>No Slide Title</dc:title>
</cp:coreProperties>
</file>