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3285-5D04-4D2A-9EBA-63D197ED3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4B01-8250-489E-AC4C-2B6C0E9A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7ABC-FBFC-4A3F-B5B2-58C717025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E6BF-D8FA-45E3-81D1-2E32172BF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921B-7EF3-427E-8881-B5281D54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7F2F-261C-425B-B51E-E7B524EC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68FA-5654-4BB5-B468-F982ABDC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821A-08B9-49F3-95FB-B2ACB764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D169-B966-469A-9B7A-08E00442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71A2-ECF0-4EE5-9834-5BE98E25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F9B8-0AD9-4119-BC37-D4CD211E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A7BB-FCE0-445C-B1CE-B2E9D3BB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16C5EC6-925A-4079-A179-FB655F3A0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c.: IEEE 802.11-99/16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320" y="21333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Enhancements to the IEEE 802.11 MAC Lay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 Petri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ris Semicond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7-729-49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etrick@harris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Harris Semicondu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74EF-7481-4E37-BDEB-D356306C465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urrent Situa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802.11 working group is approaching closure on the a 2.4GHz 802.11HR - PHY extension, And a new 5GHz PHY standar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posed PHY drafts support data rates applicable for application payloads beyo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ata file transfe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ssible payloads…..packetized  voice, multimedia, and Isochronous, VoIP traffi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Harris Semicondu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961F-79E0-4B11-82F1-35A928892E8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Current Situation….co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1 MAC layer supports an optional mechanism which has basic foundation support these types of application payloads….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CF - Point Coordination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Harris Semicondu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F1E9-17A5-4434-9126-CF678B5F995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PCF and Security Enhancement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metrics are missing in the MAC layer’s PCF mechanism for supporting such applica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Quality of Service - Q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ass of Service - C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hanced Security mechanisms for supporting longer security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Key management…key negotiation &amp; distribu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gate enhancements to the authentication proc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Harris Semicondu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0B2D-D983-49F6-811F-6BA4C22EFD9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Other Competing Standards and SIG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ers robust QoS and CoS metric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ETF - Internet Engineering Task For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ed on the IP world and currently defining QoS metrics and strategies for VoIP, integrated and differentiate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Harris Semicondu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6349-ED93-4EE0-81E2-D9B0E64384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Other Competing Standards and SIGs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eto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tocol supports 2 types of Lin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ynchronous Connection Oriented (Voice traffic) and Asynchronou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ering QoS and CoS for voice an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802.15 entertaining papers comparing 802.11 vs Bluetooth networks supporting such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tocol similar to the CSMA/CA 802.11 and support both a voice/Isochronous traffic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Harris Semicondu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5B47-89E1-4AD5-94E8-B601FBDCFE3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Recommended Acti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urage support from 802.11 MAC member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.11 reflector to spawn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ck off study group at the next interim meeting in September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towards a completing a PAR  by January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Harris Semicondu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64CC-FB23-4884-A0C6-475FE07974C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Times New Roman"/>
              </a:rPr>
              <a:t>Motion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1 plenary adopt the recommended actions  as stated in on page 7 of doc 99/16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Harris Semicondu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B959-0352-425D-97B6-98EB7B495C1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 Petrick, Harris Semiconductor</dc:creator>
  <dc:description/>
  <dc:language>en-US</dc:language>
  <cp:lastModifiedBy>rodane</cp:lastModifiedBy>
  <cp:lastPrinted>1999-07-15T08:54:29Z</cp:lastPrinted>
  <dcterms:modified xsi:type="dcterms:W3CDTF">1999-07-15T08:54:51Z</dcterms:modified>
  <cp:revision>16</cp:revision>
  <dc:subject/>
  <dc:title>No Slide Title</dc:title>
</cp:coreProperties>
</file>