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10E0D-27CD-4A92-A52F-323F570C5D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180DD-2760-4CC0-A510-5B51A673D3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1EFED-B99A-4C39-8F36-E00230132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6C7AA-6F67-404B-B635-AF7CDE9FD2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25E00-07CB-4E2C-AF28-E5D8D89B17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124FD-59E4-480D-BEB7-69841FB04F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B7DA5-9FCE-4684-B401-6B9150B4C5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7EE7F-10FD-4F8B-BED5-C93ABF5D18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2FCA4-12DE-44B9-B681-635908A62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E6EF5-4E60-4698-ADDF-8920DB15F2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F7D5E-98A4-454E-AE97-BF0381C13E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AB801-2A79-470D-860E-2EDBA27B23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5151563-DBC4-445B-ADAF-30D3B60B2C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191120" y="396000"/>
            <a:ext cx="3962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 99/1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68160" y="3160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77200" y="6438960"/>
            <a:ext cx="122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Zyren Ha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17400" y="2438280"/>
            <a:ext cx="586512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PRM 98-42 Study Group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im Zy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87AF5-0E79-45C5-A469-B03164DEC1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PRM 98-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ed authorization of RF Lights operating in 2.45 GHz ISM 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 on in-band emissio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FDA limits on human exposure 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OET recommendation sent to Commission in December,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15 Interests appealed directly to Com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ssion delayed final resolution pending efforts of interested parties to seek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0919F-974C-46B3-84FB-9827C3D495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est Proposal (July 9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565280" y="1850760"/>
            <a:ext cx="7002360" cy="1579320"/>
            <a:chOff x="1565280" y="1850760"/>
            <a:chExt cx="7002360" cy="1579320"/>
          </a:xfrm>
        </p:grpSpPr>
        <p:sp>
          <p:nvSpPr>
            <p:cNvPr id="50" name=""/>
            <p:cNvSpPr/>
            <p:nvPr/>
          </p:nvSpPr>
          <p:spPr>
            <a:xfrm>
              <a:off x="1565280" y="3295800"/>
              <a:ext cx="700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2097000" y="1850760"/>
              <a:ext cx="0" cy="157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7956720" y="1850760"/>
              <a:ext cx="0" cy="157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6796080" y="3017880"/>
            <a:ext cx="118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11400" y="3027240"/>
            <a:ext cx="353232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75160" y="343224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89920" y="364500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712640" y="343224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27040" y="364500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99800" y="343224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14200" y="364500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264280" y="1765440"/>
            <a:ext cx="31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48320" y="1724040"/>
            <a:ext cx="96840" cy="84240"/>
          </a:xfrm>
          <a:custGeom>
            <a:avLst/>
            <a:gdLst/>
            <a:ahLst/>
            <a:rect l="l" t="t" r="r" b="b"/>
            <a:pathLst>
              <a:path w="61" h="53">
                <a:moveTo>
                  <a:pt x="0" y="52"/>
                </a:moveTo>
                <a:lnTo>
                  <a:pt x="9" y="26"/>
                </a:lnTo>
                <a:lnTo>
                  <a:pt x="0" y="0"/>
                </a:lnTo>
                <a:lnTo>
                  <a:pt x="60" y="26"/>
                </a:lnTo>
                <a:lnTo>
                  <a:pt x="0" y="5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81760" y="1766880"/>
            <a:ext cx="31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10480" y="1725480"/>
            <a:ext cx="96840" cy="84240"/>
          </a:xfrm>
          <a:custGeom>
            <a:avLst/>
            <a:gdLst/>
            <a:ahLst/>
            <a:rect l="l" t="t" r="r" b="b"/>
            <a:pathLst>
              <a:path w="61" h="53">
                <a:moveTo>
                  <a:pt x="60" y="0"/>
                </a:moveTo>
                <a:lnTo>
                  <a:pt x="51" y="26"/>
                </a:lnTo>
                <a:lnTo>
                  <a:pt x="60" y="52"/>
                </a:lnTo>
                <a:lnTo>
                  <a:pt x="0" y="26"/>
                </a:lnTo>
                <a:lnTo>
                  <a:pt x="6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73520" y="1614600"/>
            <a:ext cx="1553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60 - 2480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65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64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62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624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608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93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578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5632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544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5292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5140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9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48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46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449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434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433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418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3996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384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3692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3540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33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32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30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289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274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2556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240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23960" y="1978200"/>
            <a:ext cx="51120" cy="26640"/>
          </a:xfrm>
          <a:custGeom>
            <a:avLst/>
            <a:gdLst/>
            <a:ahLst/>
            <a:rect l="l" t="t" r="r" b="b"/>
            <a:pathLst>
              <a:path w="32" h="17">
                <a:moveTo>
                  <a:pt x="31" y="16"/>
                </a:moveTo>
                <a:lnTo>
                  <a:pt x="31" y="0"/>
                </a:lnTo>
                <a:lnTo>
                  <a:pt x="0" y="0"/>
                </a:lnTo>
                <a:lnTo>
                  <a:pt x="0" y="16"/>
                </a:lnTo>
                <a:lnTo>
                  <a:pt x="31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224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2092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1940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17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16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14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129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114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956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28960" y="30178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27080" y="301788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25560" y="301788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24040" y="30178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22520" y="30178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63840" y="3017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16" y="0"/>
                </a:lnTo>
                <a:lnTo>
                  <a:pt x="0" y="0"/>
                </a:lnTo>
                <a:lnTo>
                  <a:pt x="0" y="16"/>
                </a:lnTo>
                <a:lnTo>
                  <a:pt x="1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21840" y="2311560"/>
            <a:ext cx="287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57760" y="165744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57760" y="175896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57760" y="18604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57760" y="1962000"/>
            <a:ext cx="27000" cy="51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57760" y="20620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657760" y="216360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57760" y="226548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57760" y="236700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57760" y="246852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57760" y="257004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57760" y="2671920"/>
            <a:ext cx="2700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57760" y="277164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57760" y="287352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57760" y="297504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57760" y="307656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57760" y="31780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57760" y="327960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78800" y="165744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78800" y="175896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78800" y="186048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78800" y="1962000"/>
            <a:ext cx="26640" cy="51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78800" y="206208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78800" y="216360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78800" y="226548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78800" y="236700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78800" y="246852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78800" y="257004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78800" y="2671920"/>
            <a:ext cx="2664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78800" y="277164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78800" y="287352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78800" y="297504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78800" y="307656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78800" y="317808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78800" y="327960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67480" y="1995480"/>
            <a:ext cx="11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34680" y="2293920"/>
            <a:ext cx="38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26480" y="2265480"/>
            <a:ext cx="491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080" y="1854360"/>
            <a:ext cx="1031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dB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6680" y="2036880"/>
            <a:ext cx="722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@ 1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7640" y="2895480"/>
            <a:ext cx="945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 dB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2520" y="3078000"/>
            <a:ext cx="63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@ 3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30680" y="3919680"/>
            <a:ext cx="1113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54800" y="3919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81520" y="391968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165760" y="3919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8880" y="3963960"/>
            <a:ext cx="4880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00 - 2460 MHz. RF lighting restricted to 1 mV/m (av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31400" y="4468680"/>
            <a:ext cx="121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4880" y="4468680"/>
            <a:ext cx="24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18240" y="446868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02120" y="4468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25960" y="4513320"/>
            <a:ext cx="5820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60 - 2480 MHz. RF Light emission limit of 100 dB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/m @ 10 m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51200" y="4772160"/>
            <a:ext cx="594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quivalent to 330 mVm @ 3m).  Consistent with CISPR15 limi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33200" y="5016600"/>
            <a:ext cx="235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31040" y="5261040"/>
            <a:ext cx="1311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53520" y="5261040"/>
            <a:ext cx="24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16520" y="526104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97160" y="5305320"/>
            <a:ext cx="4981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80 - 2500 MHz.  RF lighting restricted to 1 mV/m (av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48680" y="5608800"/>
            <a:ext cx="4665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portion of the band includes satellite servi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27080" y="5564160"/>
            <a:ext cx="24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83800" y="341136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98200" y="362412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CA829-360A-4464-93E9-BE53F1B61F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mit a revised letter to the FCC and Fusion Lighting on spurious emission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3BBF3-E1E4-4996-B4D2-8B9ECA8B19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6:59:08Z</dcterms:created>
  <dc:creator>Jim Zyren</dc:creator>
  <dc:description/>
  <dc:language>en-US</dc:language>
  <cp:lastModifiedBy>Al Petrick</cp:lastModifiedBy>
  <dcterms:modified xsi:type="dcterms:W3CDTF">1999-07-08T13:04:17Z</dcterms:modified>
  <cp:revision>37</cp:revision>
  <dc:subject/>
  <dc:title>No Slide Title</dc:title>
</cp:coreProperties>
</file>