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68F9-F342-401C-BDE0-87D7ACDB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DBF2-8164-43D2-B1D9-B008FAB7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77C4-F93F-4387-AF61-6AF3EDEA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489D-516B-4630-BBAE-801D467F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D1A0-C3C7-45DA-A180-6A2E7824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BDF3-5A7C-4CB5-9457-B9431213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D93C-4EF8-44A7-B527-F76F8A81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6CB2-370A-423A-BD9B-FA7F66D8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0FA5-5260-4965-86E4-D6587017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45BE-BBBA-4BD5-868F-DCF1B88A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58F5-2D08-428C-8C50-243BEEA4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CC6E-B319-4574-A474-4B02A90F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C9A5337-C749-4460-8F6E-685FFF6F1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1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itics of IEEE P802.11 response to FCC NPRM 99-14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ftali Chay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eze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ftalic@breezecom.co.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E521-D8D5-442E-B3C7-15E32EF4037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ference of WBFH to NBF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BFH interferer needs more received power than NBFH, to fail a desired NBFH sig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llision probability for WBFH is higher, but the percentage of stations within range is sma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685800" y="4495320"/>
            <a:ext cx="7772040" cy="2076120"/>
            <a:chOff x="685800" y="4495320"/>
            <a:chExt cx="7772040" cy="2076120"/>
          </a:xfrm>
        </p:grpSpPr>
        <p:sp>
          <p:nvSpPr>
            <p:cNvPr id="124" name=""/>
            <p:cNvSpPr/>
            <p:nvPr/>
          </p:nvSpPr>
          <p:spPr>
            <a:xfrm>
              <a:off x="685800" y="5797800"/>
              <a:ext cx="777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2010960" y="4495320"/>
              <a:ext cx="173520" cy="1302120"/>
              <a:chOff x="2010960" y="4495320"/>
              <a:chExt cx="173520" cy="1302120"/>
            </a:xfrm>
          </p:grpSpPr>
          <p:sp>
            <p:nvSpPr>
              <p:cNvPr id="126" name=""/>
              <p:cNvSpPr/>
              <p:nvPr/>
            </p:nvSpPr>
            <p:spPr>
              <a:xfrm flipV="1">
                <a:off x="2010960" y="4495320"/>
                <a:ext cx="32400" cy="1302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043360" y="4495680"/>
                <a:ext cx="1087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 flipV="1">
                <a:off x="2152080" y="4495320"/>
                <a:ext cx="32400" cy="1302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549440" y="5761440"/>
              <a:ext cx="161244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BFH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BFH interfer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2010960" y="5093640"/>
              <a:ext cx="173520" cy="667440"/>
              <a:chOff x="2010960" y="5093640"/>
              <a:chExt cx="173520" cy="66744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2010960" y="5093640"/>
                <a:ext cx="32400" cy="6674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43360" y="5093640"/>
                <a:ext cx="10872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2152080" y="5093640"/>
                <a:ext cx="32400" cy="6674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5435640" y="5551920"/>
              <a:ext cx="634320" cy="209160"/>
              <a:chOff x="5435640" y="5551920"/>
              <a:chExt cx="634320" cy="209160"/>
            </a:xfrm>
          </p:grpSpPr>
          <p:sp>
            <p:nvSpPr>
              <p:cNvPr id="135" name=""/>
              <p:cNvSpPr/>
              <p:nvPr/>
            </p:nvSpPr>
            <p:spPr>
              <a:xfrm flipV="1">
                <a:off x="5435640" y="5551920"/>
                <a:ext cx="118440" cy="2091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554080" y="5552280"/>
                <a:ext cx="3978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flipV="1">
                <a:off x="5951520" y="5551920"/>
                <a:ext cx="118440" cy="2091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5695920" y="4495320"/>
              <a:ext cx="170640" cy="1302120"/>
              <a:chOff x="5695920" y="4495320"/>
              <a:chExt cx="170640" cy="1302120"/>
            </a:xfrm>
          </p:grpSpPr>
          <p:sp>
            <p:nvSpPr>
              <p:cNvPr id="139" name=""/>
              <p:cNvSpPr/>
              <p:nvPr/>
            </p:nvSpPr>
            <p:spPr>
              <a:xfrm flipV="1">
                <a:off x="5695920" y="4495320"/>
                <a:ext cx="31680" cy="1302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727600" y="4495680"/>
                <a:ext cx="107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5834880" y="4495320"/>
                <a:ext cx="31680" cy="1302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976280" y="5727600"/>
              <a:ext cx="1670040" cy="80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BFH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BFH interfer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ADF1-88D2-471F-AA34-FB0A4C144B1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BFH interference to itself - overlapping or disjoint channe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verlapping WBFH interferer creates slightly less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ollision probability for overlapping WBFH channels is  twice as hig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channel signals can use CCA to yield to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CA is not efficient with overlapping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4800600"/>
            <a:ext cx="7772040" cy="1751760"/>
            <a:chOff x="685800" y="4800600"/>
            <a:chExt cx="7772040" cy="1751760"/>
          </a:xfrm>
        </p:grpSpPr>
        <p:sp>
          <p:nvSpPr>
            <p:cNvPr id="146" name=""/>
            <p:cNvSpPr/>
            <p:nvPr/>
          </p:nvSpPr>
          <p:spPr>
            <a:xfrm>
              <a:off x="685800" y="5918760"/>
              <a:ext cx="777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5435280" y="5616000"/>
              <a:ext cx="632880" cy="302040"/>
              <a:chOff x="5435280" y="5616000"/>
              <a:chExt cx="632880" cy="302040"/>
            </a:xfrm>
          </p:grpSpPr>
          <p:sp>
            <p:nvSpPr>
              <p:cNvPr id="148" name=""/>
              <p:cNvSpPr/>
              <p:nvPr/>
            </p:nvSpPr>
            <p:spPr>
              <a:xfrm flipV="1">
                <a:off x="5435280" y="5616000"/>
                <a:ext cx="118080" cy="302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553360" y="5616360"/>
                <a:ext cx="39636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 flipV="1">
                <a:off x="5950080" y="5616000"/>
                <a:ext cx="118080" cy="302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5435280" y="4800600"/>
              <a:ext cx="632880" cy="1118160"/>
              <a:chOff x="5435280" y="4800600"/>
              <a:chExt cx="632880" cy="1118160"/>
            </a:xfrm>
          </p:grpSpPr>
          <p:sp>
            <p:nvSpPr>
              <p:cNvPr id="152" name=""/>
              <p:cNvSpPr/>
              <p:nvPr/>
            </p:nvSpPr>
            <p:spPr>
              <a:xfrm flipV="1">
                <a:off x="5435280" y="4800600"/>
                <a:ext cx="118080" cy="1118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553360" y="4800600"/>
                <a:ext cx="3963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flipV="1">
                <a:off x="5950080" y="4800600"/>
                <a:ext cx="118080" cy="1118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4256280" y="5859000"/>
              <a:ext cx="284904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BFH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-channel WBFH interfer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2325960" y="5616000"/>
              <a:ext cx="634320" cy="302040"/>
              <a:chOff x="2325960" y="5616000"/>
              <a:chExt cx="634320" cy="302040"/>
            </a:xfrm>
          </p:grpSpPr>
          <p:sp>
            <p:nvSpPr>
              <p:cNvPr id="157" name=""/>
              <p:cNvSpPr/>
              <p:nvPr/>
            </p:nvSpPr>
            <p:spPr>
              <a:xfrm flipV="1">
                <a:off x="2325960" y="5616000"/>
                <a:ext cx="118440" cy="302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444400" y="5616360"/>
                <a:ext cx="397800" cy="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2841840" y="5616000"/>
                <a:ext cx="118440" cy="3020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2499480" y="4800600"/>
              <a:ext cx="632880" cy="1118160"/>
              <a:chOff x="2499480" y="4800600"/>
              <a:chExt cx="632880" cy="1118160"/>
            </a:xfrm>
          </p:grpSpPr>
          <p:sp>
            <p:nvSpPr>
              <p:cNvPr id="161" name=""/>
              <p:cNvSpPr/>
              <p:nvPr/>
            </p:nvSpPr>
            <p:spPr>
              <a:xfrm flipV="1">
                <a:off x="2499480" y="4800600"/>
                <a:ext cx="118080" cy="1118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617560" y="4800600"/>
                <a:ext cx="3963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3014280" y="4800600"/>
                <a:ext cx="118080" cy="11181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1318320" y="5859000"/>
              <a:ext cx="2851200" cy="6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BFH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verlapping WBFH interfer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DCA9-3108-4D96-99F9-EEC7DD0D98B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 should not issue a negative response to the FCC NPRM 99-14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5 may benefit from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terference to/from current systems is about same as among current incompatibl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should not block inno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EEE decides to issue a negative response, it should remove the misleading assumptions about WBFH system transmit power compared to legacy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2134-D868-4F86-819F-41309FAEA28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EEE802.11 response to NPRM 99-14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ponse in document P802.11-99/162 tries to protect the 802.11 investment, which is 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802.11 response contains speculative arguments which are inappropriate for IEEE sponsored respon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ponse blocks new innovative uses of the ISM b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sponse fails to address the potential benefit of wider channels to W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8751-95F8-4DEB-8211-BB2E1B29FC7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FCC NPRM 99-149 in a nutsh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llow FH with channels which are ei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Hz wide, allowed power reduced from 1 W to 33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MHz wide, allowed power reduced from 1 W to 2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tain 75 hopping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s overlapping FH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BFH will be required to hop f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A832-ED8A-43B7-BA49-181BF5E07A9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tential uses of wider chann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data rates are achiev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signaling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ovative modulation schemes increase rates even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tter sensitivity for FSK due to possibility to use higher dev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 in 802.11 h=0.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um is at h=0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in of 4-5 dB in sensitivity and interference robus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cial to low power transmitters (W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1C1E-662D-4AAA-8984-DC56C3A3D0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ll WBFH use more power than 802.11 system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urrent regulations allow FH and DS 1 Wa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posed WBFH maximal power is 330 or 200 mW for 3 or 5 MHz wide channels, res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rt C of the response of 802.11 claims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 devices typically use 1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BFH devices will use full allowe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argument is an ab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wer used will be about same (at expense of ran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power consumption and amplifie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2003-E7A8-4948-BD61-6FEAEE7E51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deband FH interference is almost same as NBFH without power re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PRM intends to allow less power to WBFH than to NBF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practice, the power will be simi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power is seldom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e interference to existing NBFH and DS users is not significantly different from the interference that this users cause to themselves and to each oth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slides address few scenari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7F77-EF4B-474D-BB28-55B62B226C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alysis assum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rferer transmitting from same distance at same power will be received at same total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al density will depend on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sired signal will be received at the power needed for demod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ly same spectral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B signals need more received power, however it does not mean higher transmitted power, it means smaller useful 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B2E5-5273-4AA3-84D3-1A5F7D01B0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BFH interference to 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INR depends (almost) only on FH signal power, not its bandwid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DS-FH collision probability depends on DS BW and width of the hopping band, not on FH B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2120" y="4190760"/>
            <a:ext cx="7749720" cy="2342520"/>
            <a:chOff x="762120" y="4190760"/>
            <a:chExt cx="7749720" cy="2342520"/>
          </a:xfrm>
        </p:grpSpPr>
        <p:sp>
          <p:nvSpPr>
            <p:cNvPr id="62" name=""/>
            <p:cNvSpPr/>
            <p:nvPr/>
          </p:nvSpPr>
          <p:spPr>
            <a:xfrm>
              <a:off x="762120" y="5728680"/>
              <a:ext cx="774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3862440" y="4190760"/>
              <a:ext cx="3070080" cy="1537560"/>
              <a:chOff x="3862440" y="4190760"/>
              <a:chExt cx="3070080" cy="1537560"/>
            </a:xfrm>
          </p:grpSpPr>
          <p:sp>
            <p:nvSpPr>
              <p:cNvPr id="64" name=""/>
              <p:cNvSpPr/>
              <p:nvPr/>
            </p:nvSpPr>
            <p:spPr>
              <a:xfrm flipV="1">
                <a:off x="3862440" y="4190760"/>
                <a:ext cx="573480" cy="153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435920" y="4191120"/>
                <a:ext cx="192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flipV="1">
                <a:off x="6358680" y="4190760"/>
                <a:ext cx="573840" cy="153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4666680" y="4374360"/>
              <a:ext cx="170280" cy="1354320"/>
              <a:chOff x="4666680" y="4374360"/>
              <a:chExt cx="170280" cy="1354320"/>
            </a:xfrm>
          </p:grpSpPr>
          <p:sp>
            <p:nvSpPr>
              <p:cNvPr id="68" name=""/>
              <p:cNvSpPr/>
              <p:nvPr/>
            </p:nvSpPr>
            <p:spPr>
              <a:xfrm flipV="1">
                <a:off x="4666680" y="4374360"/>
                <a:ext cx="31680" cy="1354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698360" y="4374360"/>
                <a:ext cx="10656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flipV="1">
                <a:off x="4805280" y="4374360"/>
                <a:ext cx="31680" cy="13543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4980960" y="5213520"/>
              <a:ext cx="459720" cy="514440"/>
              <a:chOff x="4980960" y="5213520"/>
              <a:chExt cx="459720" cy="514440"/>
            </a:xfrm>
          </p:grpSpPr>
          <p:sp>
            <p:nvSpPr>
              <p:cNvPr id="72" name=""/>
              <p:cNvSpPr/>
              <p:nvPr/>
            </p:nvSpPr>
            <p:spPr>
              <a:xfrm flipV="1">
                <a:off x="4980960" y="5213520"/>
                <a:ext cx="85680" cy="514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66640" y="5213880"/>
                <a:ext cx="288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flipV="1">
                <a:off x="5354640" y="5213520"/>
                <a:ext cx="86040" cy="514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5554800" y="5362200"/>
              <a:ext cx="630360" cy="366480"/>
              <a:chOff x="5554800" y="5362200"/>
              <a:chExt cx="630360" cy="366480"/>
            </a:xfrm>
          </p:grpSpPr>
          <p:sp>
            <p:nvSpPr>
              <p:cNvPr id="76" name=""/>
              <p:cNvSpPr/>
              <p:nvPr/>
            </p:nvSpPr>
            <p:spPr>
              <a:xfrm flipV="1">
                <a:off x="5554800" y="5362200"/>
                <a:ext cx="117720" cy="3664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672520" y="5362200"/>
                <a:ext cx="395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flipV="1">
                <a:off x="6067440" y="5362200"/>
                <a:ext cx="117720" cy="3664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6502680" y="4336200"/>
              <a:ext cx="11476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S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06600" y="5690880"/>
              <a:ext cx="100404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BF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354640" y="5690880"/>
              <a:ext cx="100404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BF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4DE6-AB0C-49AB-A370-E09C9CF021C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S interference to NB and WB F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BFH needs more received power than NBFH, however SINR degradation due to DS jamer is sa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DS-FH collision probability depends on DS BW and width of the hopping band, not on FH B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85800" y="4343400"/>
            <a:ext cx="7768800" cy="2152080"/>
            <a:chOff x="685800" y="4343400"/>
            <a:chExt cx="7768800" cy="2152080"/>
          </a:xfrm>
        </p:grpSpPr>
        <p:sp>
          <p:nvSpPr>
            <p:cNvPr id="85" name=""/>
            <p:cNvSpPr/>
            <p:nvPr/>
          </p:nvSpPr>
          <p:spPr>
            <a:xfrm>
              <a:off x="685800" y="5856480"/>
              <a:ext cx="776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3794040" y="5420520"/>
              <a:ext cx="3077640" cy="435600"/>
              <a:chOff x="3794040" y="5420520"/>
              <a:chExt cx="3077640" cy="435600"/>
            </a:xfrm>
          </p:grpSpPr>
          <p:sp>
            <p:nvSpPr>
              <p:cNvPr id="87" name=""/>
              <p:cNvSpPr/>
              <p:nvPr/>
            </p:nvSpPr>
            <p:spPr>
              <a:xfrm flipV="1">
                <a:off x="3794040" y="5420520"/>
                <a:ext cx="574920" cy="43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368960" y="5420520"/>
                <a:ext cx="192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 flipV="1">
                <a:off x="6296400" y="5420520"/>
                <a:ext cx="575280" cy="43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2010240" y="4779000"/>
              <a:ext cx="173520" cy="1077120"/>
              <a:chOff x="2010240" y="4779000"/>
              <a:chExt cx="173520" cy="1077120"/>
            </a:xfrm>
          </p:grpSpPr>
          <p:sp>
            <p:nvSpPr>
              <p:cNvPr id="91" name=""/>
              <p:cNvSpPr/>
              <p:nvPr/>
            </p:nvSpPr>
            <p:spPr>
              <a:xfrm flipV="1">
                <a:off x="2010240" y="4779000"/>
                <a:ext cx="3240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042640" y="4779000"/>
                <a:ext cx="1087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flipV="1">
                <a:off x="2151360" y="4779000"/>
                <a:ext cx="3240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2328120" y="4779000"/>
              <a:ext cx="458640" cy="1077120"/>
              <a:chOff x="2328120" y="4779000"/>
              <a:chExt cx="458640" cy="1077120"/>
            </a:xfrm>
          </p:grpSpPr>
          <p:sp>
            <p:nvSpPr>
              <p:cNvPr id="95" name=""/>
              <p:cNvSpPr/>
              <p:nvPr/>
            </p:nvSpPr>
            <p:spPr>
              <a:xfrm flipV="1">
                <a:off x="2328120" y="4779000"/>
                <a:ext cx="8568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13800" y="4779000"/>
                <a:ext cx="2872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flipV="1">
                <a:off x="2701080" y="4779000"/>
                <a:ext cx="8568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903400" y="4779000"/>
              <a:ext cx="632160" cy="1077120"/>
              <a:chOff x="2903400" y="4779000"/>
              <a:chExt cx="632160" cy="1077120"/>
            </a:xfrm>
          </p:grpSpPr>
          <p:sp>
            <p:nvSpPr>
              <p:cNvPr id="99" name=""/>
              <p:cNvSpPr/>
              <p:nvPr/>
            </p:nvSpPr>
            <p:spPr>
              <a:xfrm flipV="1">
                <a:off x="2903400" y="4779000"/>
                <a:ext cx="11808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21480" y="4779000"/>
                <a:ext cx="3960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 flipV="1">
                <a:off x="3417480" y="4779000"/>
                <a:ext cx="11808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440400" y="5275080"/>
              <a:ext cx="115056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S 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49080" y="5826240"/>
              <a:ext cx="1006560" cy="6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BF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00000" y="5826240"/>
              <a:ext cx="1007280" cy="66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BF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4543200" y="4343400"/>
              <a:ext cx="170640" cy="1077120"/>
              <a:chOff x="4543200" y="4343400"/>
              <a:chExt cx="170640" cy="1077120"/>
            </a:xfrm>
          </p:grpSpPr>
          <p:sp>
            <p:nvSpPr>
              <p:cNvPr id="106" name=""/>
              <p:cNvSpPr/>
              <p:nvPr/>
            </p:nvSpPr>
            <p:spPr>
              <a:xfrm flipV="1">
                <a:off x="4543200" y="4343400"/>
                <a:ext cx="3168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74880" y="4343400"/>
                <a:ext cx="1069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flipV="1">
                <a:off x="4682160" y="4343400"/>
                <a:ext cx="3168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4858200" y="4343400"/>
              <a:ext cx="460800" cy="1077120"/>
              <a:chOff x="4858200" y="4343400"/>
              <a:chExt cx="460800" cy="1077120"/>
            </a:xfrm>
          </p:grpSpPr>
          <p:sp>
            <p:nvSpPr>
              <p:cNvPr id="110" name=""/>
              <p:cNvSpPr/>
              <p:nvPr/>
            </p:nvSpPr>
            <p:spPr>
              <a:xfrm flipV="1">
                <a:off x="4858200" y="4343400"/>
                <a:ext cx="8604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944240" y="4343400"/>
                <a:ext cx="2887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flipV="1">
                <a:off x="5232960" y="4343400"/>
                <a:ext cx="8604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480" y="4343400"/>
              <a:ext cx="634320" cy="1077120"/>
              <a:chOff x="5433480" y="4343400"/>
              <a:chExt cx="634320" cy="1077120"/>
            </a:xfrm>
          </p:grpSpPr>
          <p:sp>
            <p:nvSpPr>
              <p:cNvPr id="114" name=""/>
              <p:cNvSpPr/>
              <p:nvPr/>
            </p:nvSpPr>
            <p:spPr>
              <a:xfrm flipV="1">
                <a:off x="5433480" y="4343400"/>
                <a:ext cx="11844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551920" y="4343400"/>
                <a:ext cx="3974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flipV="1">
                <a:off x="5949360" y="4343400"/>
                <a:ext cx="118440" cy="107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 flipH="1">
              <a:off x="1233720" y="4343400"/>
              <a:ext cx="322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234080" y="4779000"/>
              <a:ext cx="805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492200" y="4343400"/>
              <a:ext cx="0" cy="43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49080" y="4343400"/>
              <a:ext cx="210060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NR Degrad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1697-0F1B-4174-83D3-D36419FB84D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8T09:56:23Z</dcterms:created>
  <dc:creator>Naftali Chayat</dc:creator>
  <dc:description/>
  <dc:language>en-US</dc:language>
  <cp:lastModifiedBy>Harry R. Worstell</cp:lastModifiedBy>
  <cp:lastPrinted>1998-02-10T13:28:06Z</cp:lastPrinted>
  <dcterms:modified xsi:type="dcterms:W3CDTF">1999-07-08T13:38:48Z</dcterms:modified>
  <cp:revision>13</cp:revision>
  <dc:subject/>
  <dc:title>IEEE802.11 response to FCC  NPRM 99-149</dc:title>
</cp:coreProperties>
</file>