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2825-B213-499D-9CA7-64E054BEB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C13-B64F-4A27-9D0D-D015302C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DA5-3E79-4705-A4E1-82FD11A9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F20-58B4-465D-98FC-CD0A9BEB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194-743F-4E48-88BB-77FA2FFE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087-62E3-4B9D-89B0-039BE86C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DA4B-C629-4DE8-BA51-3E726B44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572-9F40-4654-AC05-0D14227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938-FF77-4EAD-A343-F78C0B84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6993-929F-47A3-8747-070EEFF7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F2E-3044-4ED6-8DF4-4C47E8EF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75C8-8C0B-4B7E-87D6-BA5D1A0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Informed Technology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3091F9-8A14-4E4C-B545-1D70E675C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9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versal DS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O’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Technology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F8F-E299-4AA8-B59B-C889815CFFA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Algorithm to Assign Chann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 parameters are all that are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band edge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and lower guard band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U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L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bandwidth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pac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t can be determined through simple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66B2-196E-483D-A8E4-F04A6C5722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600200" y="2057400"/>
          <a:ext cx="5943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5943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EA21-386B-49B9-A691-12CE98F181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qu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066680" y="2057400"/>
                <a:ext cx="26672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5956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066680" y="2666880"/>
                <a:ext cx="48006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38289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66680" y="3200400"/>
                <a:ext cx="342900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U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W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space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01472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066680" y="4419720"/>
                <a:ext cx="26672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567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066680" y="4952880"/>
                <a:ext cx="4648320" cy="94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U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×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599-1AB7-4196-8DB7-AD4F5831B55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(U.S. Channe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910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914400" y="1752480"/>
                <a:ext cx="2565360" cy="373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8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4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G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W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pa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9ED-520A-43E4-BDF6-BA248D6D48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8:29:19Z</dcterms:created>
  <dc:creator>Bob O'Hara</dc:creator>
  <dc:description/>
  <dc:language>en-US</dc:language>
  <cp:lastModifiedBy>Bob O'Hara</cp:lastModifiedBy>
  <cp:lastPrinted>1998-02-10T13:28:06Z</cp:lastPrinted>
  <dcterms:modified xsi:type="dcterms:W3CDTF">1999-09-13T21:01:14Z</dcterms:modified>
  <cp:revision>2</cp:revision>
  <dc:subject/>
  <dc:title>Universal DS Channelization</dc:title>
</cp:coreProperties>
</file>