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74A4-7D65-4611-B4FE-3A18F5B28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C584-216B-4DFA-AF67-C80EFF69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024B-0BF0-41D5-A0E8-606E1A84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D77-8EDC-4874-BF2A-1DC38352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D61-2852-43F0-A633-B36B422A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240-DAEC-47B8-90A9-D098632D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360-4B93-48AC-B57E-B640034C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3310-69B0-4C09-8636-E795B02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C044-93A5-47AE-952C-A098676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55A-F001-4A77-9F50-F450173B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0AF-9533-43D0-BDED-87C7528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8AC5-B991-4F99-B126-3B920A91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3DF308-8700-4ABF-BCB0-ADDECD00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ing 802.11 With Q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ory Discu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762-6418-4621-AAC2-1A1E54A6EE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ly more complicated design, how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ized scheduling makes it easier to meet certain service require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ntegrate legacy devices, because they already adhere to PCF ru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powerful plat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143-66B5-495C-8DCE-55AE0CCBA7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C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upstream scheduling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Queue state of s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 on a set of services and specify a mechanism for negotiating ser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a balance between flexibility and complex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complexity in Access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036-76E9-4D00-B8C4-8F982F3C36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we want to enhance 802.1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with modern LAN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 performance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/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933-D06B-4634-86D1-C540DC35C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? –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ing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g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T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B55C-E71C-4870-BAD2-EDF9DD5915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drop straight into the fundamental discu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498-ECE2-4A9E-944B-1035A0359D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makes wireless diffe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 we want to achie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ossib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technology is available and feasibl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feasible for a wireless L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e want to adapt the applications as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sibl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E87D-6927-4952-884D-5321299747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akes wireless differ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mediu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andwidth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guarante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ss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1B1-860B-4817-A10E-5F83B2063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we want to achie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on’t want to achieve hard – real-time guarant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easib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pplications don’t requir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nt to maintain wireless’ unique quality: mo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bandwidth reservation may not be desir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2E4-BD36-489B-B2D4-60384C49AE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ervices ? - NWN’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ossib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 real-tim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 with playbac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ing video/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ive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re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delivery: bitrate, loss-rate (retry and fragmentation strategi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855-D4C7-455C-AD58-43D63B5191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ing backoff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ontention mech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ajor modification of the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with both approaches it is difficult to integrate legacy devi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2FA6-975E-4B7F-ABF1-480CB70DE2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9:45:34Z</dcterms:created>
  <dc:creator>Maarten Hoeben</dc:creator>
  <dc:description/>
  <dc:language>en-US</dc:language>
  <cp:lastModifiedBy>Maarten Hoeben</cp:lastModifiedBy>
  <dcterms:modified xsi:type="dcterms:W3CDTF">1999-09-14T15:16:27Z</dcterms:modified>
  <cp:revision>13</cp:revision>
  <dc:subject/>
  <dc:title>Enhancing 802.11 With QoS</dc:title>
</cp:coreProperties>
</file>