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wmf" ContentType="image/x-wmf"/>
  <Override PartName="/ppt/media/image1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pptx" ContentType="application/vnd.openxmlformats-officedocument.presentationml.presentation"/>
  <Override PartName="/ppt/embeddings/oleObject5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200240" y="682560"/>
            <a:ext cx="4535280" cy="340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5EBC-4DAD-4911-B750-32E91BAE2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3927600" y="-324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927600" y="8621640"/>
            <a:ext cx="300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8621640"/>
            <a:ext cx="30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0" y="-3240"/>
            <a:ext cx="3005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212840" y="67788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85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"/>
          <p:cNvSpPr/>
          <p:nvPr/>
        </p:nvSpPr>
        <p:spPr>
          <a:xfrm>
            <a:off x="3927600" y="-3240"/>
            <a:ext cx="3006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927600" y="8621640"/>
            <a:ext cx="300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0" y="8621640"/>
            <a:ext cx="300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0" y="-3240"/>
            <a:ext cx="3005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212840" y="677880"/>
            <a:ext cx="4510080" cy="338292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23400" y="4311720"/>
            <a:ext cx="50850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A0173-26EF-4CC7-BD53-996A83693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386000" y="925560"/>
            <a:ext cx="4160880" cy="312084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BB8-C1A7-4B56-A2B5-7A6D4989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F46-969A-4FDC-AFF6-9BE12379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9139-EB63-473D-B4D3-0C4F3019A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B870-3AAE-455D-8D84-0E94E7AD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2F4-12E7-4E87-AE00-42578AF7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A4D-4BC9-4780-99FA-C7558FFD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FBE-5946-48C5-8E73-1911B246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6C97-96F7-4CC6-8C25-140DB195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96DA-87F9-4CAE-8CD4-015538A6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662-5ADA-471A-A3C5-A3777C4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8AB-1230-4378-B25C-8AD4A01A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0FC-A775-43D8-9393-221B4A3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B199-02DA-46E4-8586-4D7F4C383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19720" y="106668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3040" y="828720"/>
            <a:ext cx="1257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ntom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70600" y="981000"/>
            <a:ext cx="384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s &amp; Compu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429000" y="5562720"/>
            <a:ext cx="2496960" cy="536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606240" y="39600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233120" y="64753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C6AE53F-2AB8-492F-B861-E7477656D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16240" y="601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18240" y="1523520"/>
            <a:ext cx="699336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rements for an IA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1981440" cy="111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772400" y="2362320"/>
            <a:ext cx="876240" cy="121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705720" y="4267080"/>
            <a:ext cx="80964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924680" y="4952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5562720" y="2971800"/>
            <a:ext cx="1085760" cy="117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1390680" cy="1028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28600" y="4495680"/>
            <a:ext cx="288612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751400" y="1752480"/>
            <a:ext cx="64940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authentication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ecurity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Mechanisms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Multicast/IGMP Snooping through 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05320" y="609480"/>
            <a:ext cx="481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3295800" y="30492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r Devices Tr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990720" y="1378080"/>
          <a:ext cx="7315200" cy="5479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8080"/>
                    <a:ext cx="7315200" cy="54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3295800" y="22860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User Devices Tr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9" name=""/>
          <p:cNvGraphicFramePr/>
          <p:nvPr/>
        </p:nvGraphicFramePr>
        <p:xfrm>
          <a:off x="609480" y="1371600"/>
          <a:ext cx="762012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62012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438280" y="2192400"/>
            <a:ext cx="457200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01028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294560" y="2192400"/>
            <a:ext cx="1143000" cy="27432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276720" y="533520"/>
            <a:ext cx="54864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merging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t 4: Client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ions in Client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438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81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724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867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7010280" y="2198520"/>
            <a:ext cx="0" cy="273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736640" y="4950000"/>
            <a:ext cx="598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9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231560" y="2178000"/>
            <a:ext cx="3664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Unix clients (i.e. RS-6000, Sun, etc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53160" y="26049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H="1" rot="13200000">
            <a:off x="3033720" y="2730240"/>
            <a:ext cx="644760" cy="74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H="1" rot="13200000">
            <a:off x="3528720" y="3161880"/>
            <a:ext cx="681120" cy="745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 rot="7800000">
            <a:off x="2253960" y="4371120"/>
            <a:ext cx="959040" cy="77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281240" y="4740120"/>
            <a:ext cx="34239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05440" y="3083040"/>
            <a:ext cx="281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T Workstation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295280" y="2938320"/>
            <a:ext cx="36831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295280" y="2516040"/>
            <a:ext cx="3668760" cy="7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805120" y="4389480"/>
            <a:ext cx="4845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Windows 9x and NT Workstation 4 &amp; 5 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Por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 rot="10800000">
            <a:off x="6248880" y="3421080"/>
            <a:ext cx="1616040" cy="604800"/>
          </a:xfrm>
          <a:prstGeom prst="parallelogram">
            <a:avLst>
              <a:gd name="adj" fmla="val 99285"/>
            </a:avLst>
          </a:prstGeom>
          <a:gradFill rotWithShape="0">
            <a:gsLst>
              <a:gs pos="0">
                <a:srgbClr val="3333cc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81960" y="3689280"/>
            <a:ext cx="4471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Ultra-portable fusion* devices (Windows 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1271520" y="3419640"/>
            <a:ext cx="6872400" cy="642600"/>
            <a:chOff x="1271520" y="3419640"/>
            <a:chExt cx="6872400" cy="642600"/>
          </a:xfrm>
        </p:grpSpPr>
        <p:sp>
          <p:nvSpPr>
            <p:cNvPr id="1094" name=""/>
            <p:cNvSpPr/>
            <p:nvPr/>
          </p:nvSpPr>
          <p:spPr>
            <a:xfrm>
              <a:off x="3003480" y="3419640"/>
              <a:ext cx="51404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271520" y="4062240"/>
              <a:ext cx="685008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971280" y="2049480"/>
            <a:ext cx="331200" cy="14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77760" y="3600360"/>
            <a:ext cx="31932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316160" y="5197320"/>
            <a:ext cx="7056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Fusion devices combine elements of portable computers, personal digital assistants (PDAs), 2 way pagers, and cellular phones.  There will be thin clients that bring elements of fusion hardware technology to at least some desk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883240" y="2603520"/>
            <a:ext cx="446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rial"/>
              </a:rPr>
              <a:t>Windows 9x and NT Workstation 4 </a:t>
            </a:r>
            <a:r>
              <a:rPr b="1" lang="en-US" sz="1600" spc="-1" strike="noStrike" u="sng">
                <a:solidFill>
                  <a:srgbClr val="ccccff"/>
                </a:solidFill>
                <a:uFillTx/>
                <a:latin typeface="Arial"/>
              </a:rPr>
              <a:t>Deskt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654440" y="460368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930920" y="281304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916520" y="2381400"/>
            <a:ext cx="86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Sun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301760" y="49212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1301760" y="2192400"/>
            <a:ext cx="685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"/>
          <p:cNvGrpSpPr/>
          <p:nvPr/>
        </p:nvGrpSpPr>
        <p:grpSpPr>
          <a:xfrm>
            <a:off x="1600200" y="1828800"/>
            <a:ext cx="6171840" cy="4343040"/>
            <a:chOff x="1600200" y="1828800"/>
            <a:chExt cx="6171840" cy="4343040"/>
          </a:xfrm>
        </p:grpSpPr>
        <p:graphicFrame>
          <p:nvGraphicFramePr>
            <p:cNvPr id="1106" name=""/>
            <p:cNvGraphicFramePr/>
            <p:nvPr/>
          </p:nvGraphicFramePr>
          <p:xfrm>
            <a:off x="1600200" y="1828800"/>
            <a:ext cx="6171840" cy="434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00200" y="1828800"/>
                      <a:ext cx="6171840" cy="43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8" name=""/>
            <p:cNvSpPr/>
            <p:nvPr/>
          </p:nvSpPr>
          <p:spPr>
            <a:xfrm>
              <a:off x="1942200" y="4983840"/>
              <a:ext cx="904320" cy="938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9" name=""/>
          <p:cNvSpPr/>
          <p:nvPr/>
        </p:nvSpPr>
        <p:spPr>
          <a:xfrm>
            <a:off x="3295800" y="22860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3295800" y="22860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he Propos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983960" y="1752480"/>
            <a:ext cx="525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ignore IAPP in th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IAPP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PP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PP Section Added to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APP Finalized 7/0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2" name=""/>
          <p:cNvGrpSpPr/>
          <p:nvPr/>
        </p:nvGrpSpPr>
        <p:grpSpPr>
          <a:xfrm>
            <a:off x="3205080" y="2392200"/>
            <a:ext cx="960120" cy="2430360"/>
            <a:chOff x="3205080" y="2392200"/>
            <a:chExt cx="960120" cy="2430360"/>
          </a:xfrm>
        </p:grpSpPr>
        <p:sp>
          <p:nvSpPr>
            <p:cNvPr id="1113" name=""/>
            <p:cNvSpPr/>
            <p:nvPr/>
          </p:nvSpPr>
          <p:spPr>
            <a:xfrm flipH="1">
              <a:off x="3205080" y="2916360"/>
              <a:ext cx="39528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793680" y="2916360"/>
              <a:ext cx="371520" cy="19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533400" y="3179520"/>
              <a:ext cx="394200" cy="4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3474000" y="3185280"/>
              <a:ext cx="367200" cy="41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594600" y="2392200"/>
              <a:ext cx="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463560" y="3616200"/>
              <a:ext cx="567720" cy="52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>
              <a:off x="3347640" y="3625200"/>
              <a:ext cx="591840" cy="5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68520" y="4139280"/>
              <a:ext cx="79668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3205080" y="4139280"/>
              <a:ext cx="829440" cy="68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3588480" y="2910600"/>
              <a:ext cx="20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204840" y="2492280"/>
            <a:ext cx="2712600" cy="2473200"/>
            <a:chOff x="204840" y="2492280"/>
            <a:chExt cx="2712600" cy="2473200"/>
          </a:xfrm>
        </p:grpSpPr>
        <p:sp>
          <p:nvSpPr>
            <p:cNvPr id="1124" name=""/>
            <p:cNvSpPr/>
            <p:nvPr/>
          </p:nvSpPr>
          <p:spPr>
            <a:xfrm>
              <a:off x="204840" y="2777040"/>
              <a:ext cx="1446480" cy="147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05680" y="2492280"/>
              <a:ext cx="1645920" cy="1530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33800" y="3577320"/>
              <a:ext cx="1559520" cy="138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357920" y="3301560"/>
              <a:ext cx="1559520" cy="1387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2520" y="2770920"/>
              <a:ext cx="1772640" cy="182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29320" y="334224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80160" y="355248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961920" y="2619360"/>
              <a:ext cx="599760" cy="57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304280" y="4161960"/>
              <a:ext cx="599760" cy="571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"/>
          <p:cNvSpPr/>
          <p:nvPr/>
        </p:nvSpPr>
        <p:spPr>
          <a:xfrm>
            <a:off x="1046160" y="3105000"/>
            <a:ext cx="104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7688160" y="4565520"/>
            <a:ext cx="1447920" cy="2284560"/>
            <a:chOff x="7688160" y="4565520"/>
            <a:chExt cx="1447920" cy="2284560"/>
          </a:xfrm>
        </p:grpSpPr>
        <p:sp>
          <p:nvSpPr>
            <p:cNvPr id="1135" name=""/>
            <p:cNvSpPr/>
            <p:nvPr/>
          </p:nvSpPr>
          <p:spPr>
            <a:xfrm flipH="1">
              <a:off x="7905240" y="5175360"/>
              <a:ext cx="54612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16760" y="5402160"/>
              <a:ext cx="750960" cy="1436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8678880" y="6610320"/>
              <a:ext cx="446040" cy="23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8439120" y="5162040"/>
              <a:ext cx="696960" cy="145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8210520" y="5168880"/>
              <a:ext cx="24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7752960" y="5175360"/>
              <a:ext cx="46836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765920" y="5402160"/>
              <a:ext cx="749520" cy="1436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528040" y="6843600"/>
              <a:ext cx="139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7765920" y="5397480"/>
              <a:ext cx="139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993080" y="5402160"/>
              <a:ext cx="141120" cy="217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8147160" y="5468400"/>
              <a:ext cx="368280" cy="163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8362440" y="5238720"/>
              <a:ext cx="165240" cy="24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7981560" y="5251320"/>
              <a:ext cx="392040" cy="139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602560" y="6546960"/>
              <a:ext cx="141480" cy="215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755200" y="6610320"/>
              <a:ext cx="293400" cy="16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8896320" y="6381720"/>
              <a:ext cx="163440" cy="23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8591400" y="6392880"/>
              <a:ext cx="317520" cy="141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298000" y="5935680"/>
              <a:ext cx="293400" cy="52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8602560" y="6305040"/>
              <a:ext cx="293760" cy="165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 flipV="1">
              <a:off x="8591400" y="5772240"/>
              <a:ext cx="317520" cy="544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8286480" y="5783400"/>
              <a:ext cx="315720" cy="141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373960" y="5935680"/>
              <a:ext cx="651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528040" y="5859360"/>
              <a:ext cx="633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451720" y="6089760"/>
              <a:ext cx="63720" cy="63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602560" y="6013440"/>
              <a:ext cx="65160" cy="633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528040" y="6240600"/>
              <a:ext cx="63360" cy="64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678880" y="6164280"/>
              <a:ext cx="651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602560" y="6392880"/>
              <a:ext cx="6516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755200" y="6316560"/>
              <a:ext cx="64800" cy="65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8069400" y="5468760"/>
              <a:ext cx="446040" cy="239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8210160" y="5708520"/>
              <a:ext cx="46836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528040" y="5479920"/>
              <a:ext cx="139680" cy="216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765920" y="4641840"/>
              <a:ext cx="368280" cy="59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688160" y="4565520"/>
              <a:ext cx="65160" cy="637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6870240" y="5786280"/>
            <a:ext cx="1003320" cy="763560"/>
            <a:chOff x="6870240" y="5786280"/>
            <a:chExt cx="1003320" cy="763560"/>
          </a:xfrm>
        </p:grpSpPr>
        <p:sp>
          <p:nvSpPr>
            <p:cNvPr id="1170" name=""/>
            <p:cNvSpPr/>
            <p:nvPr/>
          </p:nvSpPr>
          <p:spPr>
            <a:xfrm>
              <a:off x="7105680" y="6015600"/>
              <a:ext cx="0" cy="52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7111440" y="6385680"/>
              <a:ext cx="750240" cy="163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7868160" y="5928120"/>
              <a:ext cx="0" cy="469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7099560" y="5939640"/>
              <a:ext cx="774000" cy="64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6947640" y="6544080"/>
              <a:ext cx="163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6953760" y="6004080"/>
              <a:ext cx="0" cy="545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959880" y="6010200"/>
              <a:ext cx="139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181640" y="6091920"/>
              <a:ext cx="0" cy="140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7187400" y="6156000"/>
              <a:ext cx="598320" cy="8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7792200" y="6003720"/>
              <a:ext cx="0" cy="163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7187400" y="6004080"/>
              <a:ext cx="598320" cy="8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644600" y="6244200"/>
              <a:ext cx="65160" cy="64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56864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722000" y="6244200"/>
              <a:ext cx="64080" cy="640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44600" y="6320160"/>
              <a:ext cx="65160" cy="658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959880" y="5927760"/>
              <a:ext cx="672480" cy="87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644600" y="5933880"/>
              <a:ext cx="217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6870240" y="6473880"/>
              <a:ext cx="165240" cy="64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6876360" y="5850000"/>
              <a:ext cx="0" cy="699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870600" y="57862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7232760" y="2803320"/>
            <a:ext cx="1898640" cy="1231560"/>
            <a:chOff x="7232760" y="2803320"/>
            <a:chExt cx="1898640" cy="1231560"/>
          </a:xfrm>
        </p:grpSpPr>
        <p:sp>
          <p:nvSpPr>
            <p:cNvPr id="1191" name=""/>
            <p:cNvSpPr/>
            <p:nvPr/>
          </p:nvSpPr>
          <p:spPr>
            <a:xfrm>
              <a:off x="7851600" y="3502080"/>
              <a:ext cx="640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613640" y="3881880"/>
              <a:ext cx="673920" cy="65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7613640" y="3412440"/>
              <a:ext cx="82692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452800" y="3424320"/>
              <a:ext cx="672480" cy="65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613640" y="3959280"/>
              <a:ext cx="673920" cy="64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8299440" y="3490560"/>
              <a:ext cx="825840" cy="46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8299440" y="3565800"/>
              <a:ext cx="82584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232760" y="3272760"/>
              <a:ext cx="292680" cy="597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7308360" y="2803320"/>
              <a:ext cx="82692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7232760" y="2803320"/>
              <a:ext cx="825480" cy="469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08360" y="3272760"/>
              <a:ext cx="292680" cy="597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7383960" y="2879280"/>
              <a:ext cx="751320" cy="392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V="1">
              <a:off x="7613640" y="3336480"/>
              <a:ext cx="749880" cy="392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83960" y="3272760"/>
              <a:ext cx="217080" cy="445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8147880" y="2891160"/>
              <a:ext cx="215640" cy="445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147880" y="2815560"/>
              <a:ext cx="292680" cy="597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537680" y="3876120"/>
              <a:ext cx="63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607520" y="3881880"/>
              <a:ext cx="0" cy="65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855920" y="3586680"/>
              <a:ext cx="0" cy="369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232760" y="3266640"/>
              <a:ext cx="63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9131400" y="3502080"/>
              <a:ext cx="0" cy="64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"/>
          <p:cNvSpPr/>
          <p:nvPr/>
        </p:nvSpPr>
        <p:spPr>
          <a:xfrm>
            <a:off x="6356160" y="4871880"/>
            <a:ext cx="14515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gital  Voice, Pag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d 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8062920" y="1109520"/>
            <a:ext cx="966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428160" y="2693880"/>
            <a:ext cx="1102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993640" y="6111720"/>
            <a:ext cx="74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160" rIns="4716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6" name=""/>
          <p:cNvGrpSpPr/>
          <p:nvPr/>
        </p:nvGrpSpPr>
        <p:grpSpPr>
          <a:xfrm>
            <a:off x="3606840" y="1422000"/>
            <a:ext cx="3758760" cy="960480"/>
            <a:chOff x="3606840" y="1422000"/>
            <a:chExt cx="3758760" cy="960480"/>
          </a:xfrm>
        </p:grpSpPr>
        <p:sp>
          <p:nvSpPr>
            <p:cNvPr id="1217" name=""/>
            <p:cNvSpPr/>
            <p:nvPr/>
          </p:nvSpPr>
          <p:spPr>
            <a:xfrm flipV="1">
              <a:off x="3606840" y="1751040"/>
              <a:ext cx="1701720" cy="63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339520" y="1760040"/>
              <a:ext cx="83160" cy="30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5434920" y="1422000"/>
              <a:ext cx="1930680" cy="65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3567240" y="2422440"/>
            <a:ext cx="3341160" cy="3417480"/>
            <a:chOff x="3567240" y="2422440"/>
            <a:chExt cx="3341160" cy="3417480"/>
          </a:xfrm>
        </p:grpSpPr>
        <p:sp>
          <p:nvSpPr>
            <p:cNvPr id="1221" name=""/>
            <p:cNvSpPr/>
            <p:nvPr/>
          </p:nvSpPr>
          <p:spPr>
            <a:xfrm>
              <a:off x="3567240" y="2422440"/>
              <a:ext cx="1809000" cy="194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5087160" y="4375800"/>
              <a:ext cx="30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099400" y="4381920"/>
              <a:ext cx="1809000" cy="145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2720880" y="4664160"/>
            <a:ext cx="301680" cy="331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463840" y="4633920"/>
            <a:ext cx="24588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044880" y="4829040"/>
            <a:ext cx="14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606840" y="2406600"/>
            <a:ext cx="2473200" cy="156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H="1">
            <a:off x="5594040" y="3971880"/>
            <a:ext cx="49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605560" y="3978360"/>
            <a:ext cx="210492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606840" y="2406600"/>
            <a:ext cx="2446200" cy="41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448400" y="1521000"/>
            <a:ext cx="0" cy="674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7454880" y="1355400"/>
            <a:ext cx="1206360" cy="165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526160" y="1596960"/>
            <a:ext cx="0" cy="674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31200" y="1432080"/>
            <a:ext cx="1206360" cy="164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7531200" y="2119320"/>
            <a:ext cx="1206360" cy="163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454880" y="1521000"/>
            <a:ext cx="65160" cy="64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454880" y="2206800"/>
            <a:ext cx="65160" cy="64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8744040" y="1442880"/>
            <a:ext cx="0" cy="676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8674200" y="1366920"/>
            <a:ext cx="63360" cy="651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601040" y="1673280"/>
            <a:ext cx="0" cy="369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7607160" y="1509840"/>
            <a:ext cx="1054080" cy="163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8667720" y="1521000"/>
            <a:ext cx="0" cy="368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H="1">
            <a:off x="7596360" y="1901880"/>
            <a:ext cx="1077840" cy="141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7683480" y="1661760"/>
            <a:ext cx="522360" cy="874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683480" y="1736280"/>
            <a:ext cx="749160" cy="88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59800" y="1895400"/>
            <a:ext cx="21564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7759800" y="1888920"/>
            <a:ext cx="520560" cy="88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372440" y="1442880"/>
            <a:ext cx="0" cy="446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378560" y="1895400"/>
            <a:ext cx="141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302600" y="1366920"/>
            <a:ext cx="63360" cy="65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257480" y="133200"/>
            <a:ext cx="7743600" cy="8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523880" y="533520"/>
            <a:ext cx="7620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gional Low Speed Wir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H="1">
            <a:off x="5708520" y="2833560"/>
            <a:ext cx="355680" cy="16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721480" y="3006720"/>
            <a:ext cx="215892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95120" y="6257880"/>
            <a:ext cx="1209960" cy="0"/>
          </a:xfrm>
          <a:prstGeom prst="line">
            <a:avLst/>
          </a:prstGeom>
          <a:ln w="507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546200" y="6022800"/>
            <a:ext cx="417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Encryption Envel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498720" y="1789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631560" y="367020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8148960" y="4576680"/>
            <a:ext cx="6483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C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CMCI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8624880" y="2333520"/>
            <a:ext cx="428400" cy="771120"/>
            <a:chOff x="8624880" y="2333520"/>
            <a:chExt cx="428400" cy="771120"/>
          </a:xfrm>
        </p:grpSpPr>
        <p:sp>
          <p:nvSpPr>
            <p:cNvPr id="1261" name=""/>
            <p:cNvSpPr/>
            <p:nvPr/>
          </p:nvSpPr>
          <p:spPr>
            <a:xfrm>
              <a:off x="9009000" y="243576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8624880" y="2333520"/>
              <a:ext cx="428400" cy="771120"/>
              <a:chOff x="8624880" y="2333520"/>
              <a:chExt cx="428400" cy="771120"/>
            </a:xfrm>
          </p:grpSpPr>
          <p:sp>
            <p:nvSpPr>
              <p:cNvPr id="1263" name=""/>
              <p:cNvSpPr/>
              <p:nvPr/>
            </p:nvSpPr>
            <p:spPr>
              <a:xfrm flipH="1">
                <a:off x="8688240" y="2539440"/>
                <a:ext cx="1616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692560" y="2616480"/>
                <a:ext cx="22176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8918280" y="3024000"/>
                <a:ext cx="13176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 flipV="1">
                <a:off x="8846640" y="2535120"/>
                <a:ext cx="20664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H="1">
                <a:off x="8778960" y="253728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H="1">
                <a:off x="8643600" y="253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8647200" y="2616480"/>
                <a:ext cx="22212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872920" y="310284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47200" y="261432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8714880" y="261648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8760240" y="2637720"/>
                <a:ext cx="10908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 flipV="1">
                <a:off x="8823960" y="256068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>
                <a:off x="8711280" y="2565000"/>
                <a:ext cx="11664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895600" y="300276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8940960" y="302364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 flipV="1">
                <a:off x="8982360" y="2946960"/>
                <a:ext cx="489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8891640" y="295128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8805240" y="2796840"/>
                <a:ext cx="8640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8895600" y="2920680"/>
                <a:ext cx="8640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 flipV="1">
                <a:off x="8891640" y="2741040"/>
                <a:ext cx="9396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H="1">
                <a:off x="8801280" y="2745360"/>
                <a:ext cx="9396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827920" y="279684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872920" y="27709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850600" y="28483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895600" y="28224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872920" y="289980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8918280" y="28738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8895600" y="295128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940960" y="29253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8737560" y="2638080"/>
                <a:ext cx="13176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flipH="1">
                <a:off x="8778960" y="2719440"/>
                <a:ext cx="13896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872920" y="26424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8624880" y="23335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6" name=""/>
            <p:cNvSpPr/>
            <p:nvPr/>
          </p:nvSpPr>
          <p:spPr>
            <a:xfrm>
              <a:off x="8647200" y="2359080"/>
              <a:ext cx="9000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8526600" y="4965480"/>
            <a:ext cx="500040" cy="350280"/>
            <a:chOff x="8526600" y="4965480"/>
            <a:chExt cx="500040" cy="350280"/>
          </a:xfrm>
        </p:grpSpPr>
        <p:sp>
          <p:nvSpPr>
            <p:cNvPr id="1298" name=""/>
            <p:cNvSpPr/>
            <p:nvPr/>
          </p:nvSpPr>
          <p:spPr>
            <a:xfrm>
              <a:off x="8577360" y="50281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8579520" y="496548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602560" y="5056560"/>
              <a:ext cx="0" cy="25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V="1">
              <a:off x="8604720" y="499428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8604720" y="525348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579520" y="502812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579520" y="5287680"/>
              <a:ext cx="2088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9026640" y="4999320"/>
              <a:ext cx="0" cy="25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9002520" y="497052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8629200" y="50857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8631360" y="502308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9000360" y="502812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8626320" y="5172480"/>
              <a:ext cx="375480" cy="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V="1">
              <a:off x="8658360" y="50806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8658360" y="510948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684640" y="516996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8684640" y="516708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550720" y="499932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552880" y="516996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526600" y="497052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1319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7284960" y="3997440"/>
            <a:ext cx="497880" cy="350280"/>
            <a:chOff x="7284960" y="3997440"/>
            <a:chExt cx="497880" cy="350280"/>
          </a:xfrm>
        </p:grpSpPr>
        <p:sp>
          <p:nvSpPr>
            <p:cNvPr id="1342" name=""/>
            <p:cNvSpPr/>
            <p:nvPr/>
          </p:nvSpPr>
          <p:spPr>
            <a:xfrm>
              <a:off x="7401600" y="410256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7404840" y="4272120"/>
              <a:ext cx="3726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7780320" y="406116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7398000" y="4067280"/>
              <a:ext cx="38484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7322400" y="4345200"/>
              <a:ext cx="8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7325640" y="4096440"/>
              <a:ext cx="0" cy="25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328880" y="4099680"/>
              <a:ext cx="6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7440480" y="413748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443360" y="416664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V="1">
              <a:off x="7742520" y="409608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7443360" y="4096080"/>
              <a:ext cx="2959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6698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63200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707960" y="420768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669800" y="424296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7328880" y="4061160"/>
              <a:ext cx="3344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669800" y="4064400"/>
              <a:ext cx="10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7284960" y="431316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V="1">
              <a:off x="7287840" y="4026240"/>
              <a:ext cx="0" cy="32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291080" y="3997440"/>
              <a:ext cx="3132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5570640" y="5470560"/>
            <a:ext cx="785880" cy="553680"/>
            <a:chOff x="5570640" y="5470560"/>
            <a:chExt cx="785880" cy="553680"/>
          </a:xfrm>
        </p:grpSpPr>
        <p:graphicFrame>
          <p:nvGraphicFramePr>
            <p:cNvPr id="1363" name=""/>
            <p:cNvGraphicFramePr/>
            <p:nvPr/>
          </p:nvGraphicFramePr>
          <p:xfrm>
            <a:off x="5570640" y="5576760"/>
            <a:ext cx="785880" cy="447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70640" y="5576760"/>
                      <a:ext cx="78588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5" name=""/>
            <p:cNvSpPr/>
            <p:nvPr/>
          </p:nvSpPr>
          <p:spPr>
            <a:xfrm>
              <a:off x="6186600" y="549936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171840" y="547056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3016080" y="1052640"/>
            <a:ext cx="6299280" cy="5715000"/>
          </a:xfrm>
          <a:custGeom>
            <a:avLst/>
            <a:gdLst/>
            <a:ahLst/>
            <a:rect l="l" t="t" r="r" b="b"/>
            <a:pathLst>
              <a:path w="4234" h="3912">
                <a:moveTo>
                  <a:pt x="397" y="912"/>
                </a:moveTo>
                <a:cubicBezTo>
                  <a:pt x="416" y="817"/>
                  <a:pt x="459" y="739"/>
                  <a:pt x="541" y="684"/>
                </a:cubicBezTo>
                <a:cubicBezTo>
                  <a:pt x="577" y="630"/>
                  <a:pt x="620" y="588"/>
                  <a:pt x="673" y="552"/>
                </a:cubicBezTo>
                <a:cubicBezTo>
                  <a:pt x="715" y="490"/>
                  <a:pt x="782" y="453"/>
                  <a:pt x="841" y="408"/>
                </a:cubicBezTo>
                <a:cubicBezTo>
                  <a:pt x="857" y="396"/>
                  <a:pt x="871" y="381"/>
                  <a:pt x="889" y="372"/>
                </a:cubicBezTo>
                <a:cubicBezTo>
                  <a:pt x="945" y="344"/>
                  <a:pt x="974" y="320"/>
                  <a:pt x="1033" y="300"/>
                </a:cubicBezTo>
                <a:cubicBezTo>
                  <a:pt x="1060" y="291"/>
                  <a:pt x="1129" y="280"/>
                  <a:pt x="1153" y="264"/>
                </a:cubicBezTo>
                <a:cubicBezTo>
                  <a:pt x="1194" y="237"/>
                  <a:pt x="1304" y="215"/>
                  <a:pt x="1357" y="204"/>
                </a:cubicBezTo>
                <a:cubicBezTo>
                  <a:pt x="1386" y="190"/>
                  <a:pt x="1412" y="169"/>
                  <a:pt x="1441" y="156"/>
                </a:cubicBezTo>
                <a:cubicBezTo>
                  <a:pt x="1498" y="131"/>
                  <a:pt x="1551" y="124"/>
                  <a:pt x="1609" y="108"/>
                </a:cubicBezTo>
                <a:cubicBezTo>
                  <a:pt x="1750" y="69"/>
                  <a:pt x="1735" y="62"/>
                  <a:pt x="1897" y="48"/>
                </a:cubicBezTo>
                <a:cubicBezTo>
                  <a:pt x="1913" y="44"/>
                  <a:pt x="1929" y="41"/>
                  <a:pt x="1945" y="36"/>
                </a:cubicBezTo>
                <a:cubicBezTo>
                  <a:pt x="1969" y="29"/>
                  <a:pt x="2017" y="12"/>
                  <a:pt x="2017" y="12"/>
                </a:cubicBezTo>
                <a:cubicBezTo>
                  <a:pt x="2261" y="26"/>
                  <a:pt x="2306" y="35"/>
                  <a:pt x="2593" y="12"/>
                </a:cubicBezTo>
                <a:cubicBezTo>
                  <a:pt x="2593" y="12"/>
                  <a:pt x="2743" y="18"/>
                  <a:pt x="2761" y="12"/>
                </a:cubicBezTo>
                <a:cubicBezTo>
                  <a:pt x="2773" y="8"/>
                  <a:pt x="2893" y="0"/>
                  <a:pt x="2893" y="0"/>
                </a:cubicBezTo>
                <a:cubicBezTo>
                  <a:pt x="3257" y="15"/>
                  <a:pt x="3489" y="20"/>
                  <a:pt x="3853" y="36"/>
                </a:cubicBezTo>
                <a:cubicBezTo>
                  <a:pt x="3900" y="38"/>
                  <a:pt x="3931" y="90"/>
                  <a:pt x="3961" y="120"/>
                </a:cubicBezTo>
                <a:cubicBezTo>
                  <a:pt x="3973" y="156"/>
                  <a:pt x="3985" y="192"/>
                  <a:pt x="3997" y="228"/>
                </a:cubicBezTo>
                <a:cubicBezTo>
                  <a:pt x="4001" y="240"/>
                  <a:pt x="4005" y="252"/>
                  <a:pt x="4009" y="264"/>
                </a:cubicBezTo>
                <a:cubicBezTo>
                  <a:pt x="4013" y="276"/>
                  <a:pt x="4021" y="300"/>
                  <a:pt x="4021" y="300"/>
                </a:cubicBezTo>
                <a:cubicBezTo>
                  <a:pt x="4077" y="911"/>
                  <a:pt x="4033" y="381"/>
                  <a:pt x="4021" y="1872"/>
                </a:cubicBezTo>
                <a:cubicBezTo>
                  <a:pt x="4018" y="2293"/>
                  <a:pt x="4234" y="3239"/>
                  <a:pt x="3889" y="3756"/>
                </a:cubicBezTo>
                <a:cubicBezTo>
                  <a:pt x="3889" y="3756"/>
                  <a:pt x="3799" y="3786"/>
                  <a:pt x="3781" y="3792"/>
                </a:cubicBezTo>
                <a:cubicBezTo>
                  <a:pt x="3689" y="3823"/>
                  <a:pt x="3602" y="3864"/>
                  <a:pt x="3505" y="3888"/>
                </a:cubicBezTo>
                <a:cubicBezTo>
                  <a:pt x="3388" y="3878"/>
                  <a:pt x="3284" y="3871"/>
                  <a:pt x="3169" y="3900"/>
                </a:cubicBezTo>
                <a:cubicBezTo>
                  <a:pt x="2891" y="3894"/>
                  <a:pt x="2619" y="3846"/>
                  <a:pt x="2353" y="3912"/>
                </a:cubicBezTo>
                <a:cubicBezTo>
                  <a:pt x="2289" y="3908"/>
                  <a:pt x="2224" y="3910"/>
                  <a:pt x="2161" y="3900"/>
                </a:cubicBezTo>
                <a:cubicBezTo>
                  <a:pt x="2126" y="3894"/>
                  <a:pt x="2120" y="3862"/>
                  <a:pt x="2101" y="3840"/>
                </a:cubicBezTo>
                <a:cubicBezTo>
                  <a:pt x="2041" y="3773"/>
                  <a:pt x="2048" y="3780"/>
                  <a:pt x="1993" y="3744"/>
                </a:cubicBezTo>
                <a:cubicBezTo>
                  <a:pt x="1971" y="3679"/>
                  <a:pt x="1940" y="3597"/>
                  <a:pt x="1861" y="3588"/>
                </a:cubicBezTo>
                <a:cubicBezTo>
                  <a:pt x="1805" y="3581"/>
                  <a:pt x="1809" y="3472"/>
                  <a:pt x="1753" y="3468"/>
                </a:cubicBezTo>
                <a:cubicBezTo>
                  <a:pt x="1663" y="3408"/>
                  <a:pt x="1462" y="3438"/>
                  <a:pt x="1357" y="3420"/>
                </a:cubicBezTo>
                <a:cubicBezTo>
                  <a:pt x="1213" y="3396"/>
                  <a:pt x="1118" y="3384"/>
                  <a:pt x="973" y="3360"/>
                </a:cubicBezTo>
                <a:cubicBezTo>
                  <a:pt x="942" y="3339"/>
                  <a:pt x="884" y="3303"/>
                  <a:pt x="853" y="3276"/>
                </a:cubicBezTo>
                <a:cubicBezTo>
                  <a:pt x="786" y="3219"/>
                  <a:pt x="762" y="3186"/>
                  <a:pt x="673" y="3168"/>
                </a:cubicBezTo>
                <a:cubicBezTo>
                  <a:pt x="619" y="3132"/>
                  <a:pt x="591" y="3109"/>
                  <a:pt x="541" y="3084"/>
                </a:cubicBezTo>
                <a:cubicBezTo>
                  <a:pt x="503" y="3065"/>
                  <a:pt x="459" y="3031"/>
                  <a:pt x="421" y="3012"/>
                </a:cubicBezTo>
                <a:cubicBezTo>
                  <a:pt x="385" y="2994"/>
                  <a:pt x="359" y="2951"/>
                  <a:pt x="325" y="2928"/>
                </a:cubicBezTo>
                <a:cubicBezTo>
                  <a:pt x="321" y="2908"/>
                  <a:pt x="312" y="2909"/>
                  <a:pt x="301" y="2892"/>
                </a:cubicBezTo>
                <a:cubicBezTo>
                  <a:pt x="290" y="2875"/>
                  <a:pt x="268" y="2869"/>
                  <a:pt x="253" y="2856"/>
                </a:cubicBezTo>
                <a:cubicBezTo>
                  <a:pt x="192" y="2803"/>
                  <a:pt x="239" y="2840"/>
                  <a:pt x="193" y="2784"/>
                </a:cubicBezTo>
                <a:cubicBezTo>
                  <a:pt x="182" y="2771"/>
                  <a:pt x="170" y="2758"/>
                  <a:pt x="157" y="2748"/>
                </a:cubicBezTo>
                <a:cubicBezTo>
                  <a:pt x="134" y="2730"/>
                  <a:pt x="85" y="2616"/>
                  <a:pt x="85" y="2616"/>
                </a:cubicBezTo>
                <a:cubicBezTo>
                  <a:pt x="59" y="2537"/>
                  <a:pt x="47" y="2543"/>
                  <a:pt x="37" y="2460"/>
                </a:cubicBezTo>
                <a:cubicBezTo>
                  <a:pt x="43" y="2173"/>
                  <a:pt x="0" y="2020"/>
                  <a:pt x="73" y="1800"/>
                </a:cubicBezTo>
                <a:cubicBezTo>
                  <a:pt x="84" y="1689"/>
                  <a:pt x="101" y="1574"/>
                  <a:pt x="121" y="1464"/>
                </a:cubicBezTo>
                <a:cubicBezTo>
                  <a:pt x="129" y="1421"/>
                  <a:pt x="136" y="1430"/>
                  <a:pt x="157" y="1392"/>
                </a:cubicBezTo>
                <a:cubicBezTo>
                  <a:pt x="174" y="1361"/>
                  <a:pt x="193" y="1248"/>
                  <a:pt x="193" y="1248"/>
                </a:cubicBezTo>
                <a:cubicBezTo>
                  <a:pt x="197" y="1188"/>
                  <a:pt x="234" y="1164"/>
                  <a:pt x="241" y="1104"/>
                </a:cubicBezTo>
                <a:cubicBezTo>
                  <a:pt x="248" y="1044"/>
                  <a:pt x="312" y="945"/>
                  <a:pt x="361" y="912"/>
                </a:cubicBezTo>
                <a:cubicBezTo>
                  <a:pt x="378" y="886"/>
                  <a:pt x="404" y="866"/>
                  <a:pt x="421" y="840"/>
                </a:cubicBezTo>
                <a:cubicBezTo>
                  <a:pt x="448" y="800"/>
                  <a:pt x="416" y="804"/>
                  <a:pt x="445" y="804"/>
                </a:cubicBezTo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784920" y="1332000"/>
            <a:ext cx="569880" cy="71280"/>
          </a:xfrm>
          <a:custGeom>
            <a:avLst/>
            <a:gdLst/>
            <a:ahLst/>
            <a:rect l="l" t="t" r="r" b="b"/>
            <a:pathLst>
              <a:path w="576" h="48">
                <a:moveTo>
                  <a:pt x="0" y="0"/>
                </a:moveTo>
                <a:lnTo>
                  <a:pt x="336" y="0"/>
                </a:lnTo>
                <a:lnTo>
                  <a:pt x="240" y="48"/>
                </a:lnTo>
                <a:lnTo>
                  <a:pt x="576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926480" y="2314440"/>
            <a:ext cx="714240" cy="1192320"/>
          </a:xfrm>
          <a:custGeom>
            <a:avLst/>
            <a:gdLst/>
            <a:ahLst/>
            <a:rect l="l" t="t" r="r" b="b"/>
            <a:pathLst>
              <a:path w="480" h="816">
                <a:moveTo>
                  <a:pt x="0" y="816"/>
                </a:moveTo>
                <a:lnTo>
                  <a:pt x="144" y="528"/>
                </a:lnTo>
                <a:lnTo>
                  <a:pt x="144" y="624"/>
                </a:lnTo>
                <a:lnTo>
                  <a:pt x="48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284960" y="3506760"/>
            <a:ext cx="569880" cy="49068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0" y="336"/>
                </a:moveTo>
                <a:lnTo>
                  <a:pt x="240" y="48"/>
                </a:lnTo>
                <a:lnTo>
                  <a:pt x="192" y="240"/>
                </a:lnTo>
                <a:lnTo>
                  <a:pt x="38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711920" y="4557600"/>
            <a:ext cx="857520" cy="420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lnTo>
                  <a:pt x="336" y="144"/>
                </a:lnTo>
                <a:lnTo>
                  <a:pt x="240" y="192"/>
                </a:lnTo>
                <a:lnTo>
                  <a:pt x="576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141960" y="5470560"/>
            <a:ext cx="785880" cy="35064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lnTo>
                  <a:pt x="288" y="96"/>
                </a:lnTo>
                <a:lnTo>
                  <a:pt x="192" y="144"/>
                </a:lnTo>
                <a:lnTo>
                  <a:pt x="528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26960" y="11923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26960" y="35067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7511760" y="24541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8011800" y="441792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584040" y="547056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95800" y="304920"/>
            <a:ext cx="584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3440" y="1676520"/>
            <a:ext cx="6606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eing Wireless LAN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us Network (Multiple wireless L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Network (Wireless LAN/flo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s of an IAP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 Sub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ropped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09720" y="457200"/>
            <a:ext cx="733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oeing Wireless Mobility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271760" y="3043080"/>
            <a:ext cx="1836000" cy="2211480"/>
            <a:chOff x="4271760" y="3043080"/>
            <a:chExt cx="1836000" cy="2211480"/>
          </a:xfrm>
        </p:grpSpPr>
        <p:sp>
          <p:nvSpPr>
            <p:cNvPr id="75" name=""/>
            <p:cNvSpPr/>
            <p:nvPr/>
          </p:nvSpPr>
          <p:spPr>
            <a:xfrm>
              <a:off x="4479840" y="3139920"/>
              <a:ext cx="1452600" cy="1765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71760" y="4941720"/>
              <a:ext cx="1836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72160" y="3855960"/>
              <a:ext cx="146160" cy="108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668920" y="3854520"/>
              <a:ext cx="1688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9080" bIns="190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02160" y="3201840"/>
              <a:ext cx="6033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03640" y="3778200"/>
              <a:ext cx="346320" cy="26352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8164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16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0440" y="42530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16480" y="420840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04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8164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16480" y="452124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276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16480" y="362592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8164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276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16480" y="3938760"/>
              <a:ext cx="612720" cy="480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276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64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2768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81640" y="3311640"/>
              <a:ext cx="612720" cy="47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164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38880" y="3043080"/>
              <a:ext cx="612720" cy="4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7520" rIns="47520" tIns="18720" bIns="187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520" rIns="4752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177920" y="1434960"/>
            <a:ext cx="7816680" cy="5273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78080" y="2151000"/>
            <a:ext cx="33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 - Regional 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7136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0120" y="5680080"/>
            <a:ext cx="328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- Campus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572080" y="1824120"/>
          <a:ext cx="1461960" cy="9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824120"/>
                    <a:ext cx="146196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961320" y="3564000"/>
          <a:ext cx="1409400" cy="133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61320" y="3564000"/>
                    <a:ext cx="140940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401840" y="3516480"/>
          <a:ext cx="205416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1840" y="3516480"/>
                    <a:ext cx="20541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45120" y="5513400"/>
          <a:ext cx="1985760" cy="773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45120" y="5513400"/>
                    <a:ext cx="19857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01680" y="1303200"/>
          <a:ext cx="2403360" cy="16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1680" y="1303200"/>
                    <a:ext cx="240336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0240" y="1001880"/>
            <a:ext cx="369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 - National/Intl 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03360" y="-5201640"/>
            <a:ext cx="889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3720" y="49212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3720" y="3524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3720" y="28584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46640" y="42696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56664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31080" y="70632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3160" y="1692360"/>
            <a:ext cx="547560" cy="536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917440" y="1622520"/>
            <a:ext cx="9540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41520" y="169236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13200" y="2112840"/>
            <a:ext cx="1188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488680" y="218268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35440" y="217656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714840" y="293652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714840" y="286668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20960" y="2878200"/>
            <a:ext cx="34452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69120" y="1762200"/>
            <a:ext cx="2333520" cy="404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03280" y="6087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512040" y="442764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26240" y="455616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84360" y="3584520"/>
            <a:ext cx="1833480" cy="2782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33040" y="63691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84480" y="46371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01400" y="465624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28600" y="444672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67280" y="180972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6000" y="145584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708440" y="1897200"/>
            <a:ext cx="15552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35600" y="1897200"/>
            <a:ext cx="129960" cy="75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63960" y="203688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92680" y="2025360"/>
            <a:ext cx="13032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7840" y="168588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92680" y="217656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780080" y="217656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92680" y="2387520"/>
            <a:ext cx="2728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708080" y="2387520"/>
            <a:ext cx="29844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08720" y="110952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63960" y="167940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422680" y="1685880"/>
            <a:ext cx="83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35640" y="175104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63920" y="1405080"/>
            <a:ext cx="34452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565160" y="160956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8480" y="1616040"/>
            <a:ext cx="27288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493880" y="1685880"/>
            <a:ext cx="3697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06840" y="189072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4350960" y="1897200"/>
            <a:ext cx="29844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851360" y="189072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35640" y="2668680"/>
            <a:ext cx="558720" cy="47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64800" y="272268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63960" y="168588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8624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92720" y="1967040"/>
            <a:ext cx="701640" cy="68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2040" y="38656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91800" y="35845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26240" y="398952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78000" y="2106720"/>
            <a:ext cx="141624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351320" y="252720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63920" y="2597040"/>
            <a:ext cx="105912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09560" y="252720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2160" y="259236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923760" y="251568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732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01880" y="238752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30240" y="2317680"/>
            <a:ext cx="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30240" y="2597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25280" y="286236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896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30240" y="2597040"/>
            <a:ext cx="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2597040"/>
            <a:ext cx="1774800" cy="33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2995560" y="29480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06720" y="301788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78440" y="3089160"/>
            <a:ext cx="701640" cy="47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9920" y="307188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63800" y="364968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64520" y="370368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352680" y="3510000"/>
            <a:ext cx="72576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34280" y="30891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35000" y="31431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792680" y="336384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05520" y="3159000"/>
            <a:ext cx="48888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565160" y="168588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78480" y="2234880"/>
            <a:ext cx="12996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422600" y="224640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22160" y="1897200"/>
            <a:ext cx="5904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787320" y="1954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3800" y="196704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63920" y="3719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2680" y="421020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35520" y="3930480"/>
            <a:ext cx="1201680" cy="10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86160" y="385452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49920" y="426420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92560" y="4765680"/>
            <a:ext cx="76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779800" y="455616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14760" y="14050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720880" y="153324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86040" y="154620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8400" y="1174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89520" y="496800"/>
            <a:ext cx="889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03720" y="35712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20880" y="435132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6600" y="526248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20880" y="5753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05600" y="3017880"/>
            <a:ext cx="1060560" cy="96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19840" y="231768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19720" y="161604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05600" y="49816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1480" y="435132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05600" y="4351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19720" y="428148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738840" y="2072880"/>
            <a:ext cx="736560" cy="50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99520" y="21240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23280" y="2797200"/>
            <a:ext cx="809640" cy="4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38840" y="4835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499520" y="4087800"/>
            <a:ext cx="0" cy="1355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34320" y="35100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06600" y="4842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49560" y="343836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92520" y="3438360"/>
            <a:ext cx="7729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00200" y="3807000"/>
            <a:ext cx="0" cy="7952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02000" y="3780000"/>
            <a:ext cx="3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54080" y="5181480"/>
            <a:ext cx="522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882800" y="5673600"/>
            <a:ext cx="5936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523960" y="6164280"/>
            <a:ext cx="667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00200" y="4995720"/>
            <a:ext cx="0" cy="1149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40120" y="4765680"/>
            <a:ext cx="108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934320" y="1458720"/>
            <a:ext cx="27468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5280" y="13143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83360" y="3720960"/>
            <a:ext cx="833400" cy="327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84400" y="4632480"/>
            <a:ext cx="833400" cy="326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16760" y="628560"/>
            <a:ext cx="4758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reless LANs minus Cell Hand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03360" y="-5317560"/>
            <a:ext cx="889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4792680" y="3282840"/>
            <a:ext cx="1542960" cy="2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5779800" y="4761000"/>
            <a:ext cx="647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500120" y="3639960"/>
            <a:ext cx="2058840" cy="3220560"/>
            <a:chOff x="1500120" y="3639960"/>
            <a:chExt cx="2058840" cy="3220560"/>
          </a:xfrm>
        </p:grpSpPr>
        <p:sp>
          <p:nvSpPr>
            <p:cNvPr id="341" name=""/>
            <p:cNvSpPr/>
            <p:nvPr/>
          </p:nvSpPr>
          <p:spPr>
            <a:xfrm>
              <a:off x="1577160" y="3785760"/>
              <a:ext cx="1833120" cy="2782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32320" y="6570000"/>
              <a:ext cx="1725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oeing Camp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6920" y="4838040"/>
              <a:ext cx="190440" cy="187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99960" y="4857120"/>
              <a:ext cx="1411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56960" y="3850200"/>
              <a:ext cx="487800" cy="408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63440" y="3904560"/>
              <a:ext cx="5144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480" bIns="15480" anchor="t">
              <a:spAutoFit/>
            </a:bodyPr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Boeing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9000"/>
                </a:lnSpc>
                <a:tabLst>
                  <a:tab algn="l" pos="0"/>
                  <a:tab algn="l" pos="851040"/>
                  <a:tab algn="l" pos="1701720"/>
                  <a:tab algn="l" pos="2552760"/>
                  <a:tab algn="l" pos="3403440"/>
                  <a:tab algn="l" pos="4254480"/>
                  <a:tab algn="l" pos="5105520"/>
                  <a:tab algn="l" pos="5956200"/>
                  <a:tab algn="l" pos="6807240"/>
                  <a:tab algn="l" pos="7658280"/>
                  <a:tab algn="l" pos="8508960"/>
                  <a:tab algn="l" pos="9360000"/>
                  <a:tab algn="l" pos="1021068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14040" y="455184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500120" y="546372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14040" y="595440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00120" y="5042880"/>
              <a:ext cx="773640" cy="759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427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85320" y="3639960"/>
              <a:ext cx="773640" cy="75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4080" y="4008240"/>
              <a:ext cx="0" cy="794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95160" y="3980520"/>
              <a:ext cx="33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46160" y="5383080"/>
              <a:ext cx="523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4880" y="5874480"/>
              <a:ext cx="595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17480" y="6365520"/>
              <a:ext cx="6667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94080" y="5196240"/>
              <a:ext cx="0" cy="1149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32920" y="4966920"/>
              <a:ext cx="1083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77200" y="4833720"/>
              <a:ext cx="833040" cy="327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3816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 flipH="1">
            <a:off x="2285640" y="45529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143080" y="4483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784600" y="5745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14720" y="3990960"/>
            <a:ext cx="14256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64168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14680" y="3921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14680" y="4692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55880" y="476244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85960" y="6024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00160" y="59547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928880" y="51134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214720" y="616572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27520" y="60958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927520" y="50436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55880" y="5324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41680" y="5394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55880" y="553392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70080" y="5675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357280" y="623556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98800" y="62355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98760" y="581508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98760" y="5464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98760" y="56037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98760" y="57452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857240" y="58849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2071800" y="588492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000160" y="5253120"/>
            <a:ext cx="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57240" y="476244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498400" y="4483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7280" y="406224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57240" y="399096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98760" y="53942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69040" y="1774800"/>
            <a:ext cx="2333520" cy="4044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4280" y="610092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11960" y="4738680"/>
            <a:ext cx="190440" cy="18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626160" y="4867200"/>
            <a:ext cx="190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429600" y="47577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411960" y="3878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92800" y="359712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6160" y="4003560"/>
            <a:ext cx="47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335640" y="3102120"/>
            <a:ext cx="487440" cy="40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334920" y="315612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07240" y="3171960"/>
            <a:ext cx="48708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905520" y="3032280"/>
            <a:ext cx="1060560" cy="965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0120" y="2330280"/>
            <a:ext cx="106020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21440" y="162864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905520" y="49957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69140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905520" y="43639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121440" y="429408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570720" y="2085480"/>
            <a:ext cx="806400" cy="1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400880" y="2136600"/>
            <a:ext cx="0" cy="1567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24640" y="2811600"/>
            <a:ext cx="808200" cy="2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38760" y="48499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7377120" y="4100400"/>
            <a:ext cx="23760" cy="1363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4240" y="3522600"/>
            <a:ext cx="34596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834240" y="1473120"/>
            <a:ext cx="27468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135920" y="1328760"/>
            <a:ext cx="14335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ireless Cel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983280" y="3733920"/>
            <a:ext cx="833400" cy="328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1077840" y="4054320"/>
            <a:ext cx="657360" cy="42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2240" y="4575240"/>
            <a:ext cx="11811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10480" y="46227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781760" y="4202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67560" y="4272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781760" y="44118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994520" y="45529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24640" y="469260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424640" y="4341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24640" y="448308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24640" y="4622760"/>
            <a:ext cx="56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7424640" y="4272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91400" y="25401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63040" y="21193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548480" y="2190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763040" y="2330280"/>
            <a:ext cx="14256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977240" y="247032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05560" y="2611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05560" y="22604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405560" y="240048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405560" y="25401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7405200" y="2190600"/>
            <a:ext cx="35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173720" y="301464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294336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102440" y="24526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602400" y="23828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02400" y="3154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45320" y="322416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245360" y="252252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45320" y="245268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7162560" y="474516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020000" y="46753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91280" y="41846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591240" y="41148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591240" y="4886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734160" y="495612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34200" y="42544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34160" y="4184640"/>
            <a:ext cx="6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943600" y="5638680"/>
            <a:ext cx="99072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83440" y="6172200"/>
            <a:ext cx="507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 Cross Subn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81040" y="685800"/>
            <a:ext cx="449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reless LANs with Cell Hand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03360" y="-5317560"/>
            <a:ext cx="88920" cy="121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246640" y="633240"/>
            <a:ext cx="889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89560" y="77328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31080" y="912960"/>
            <a:ext cx="9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513160" y="1898640"/>
            <a:ext cx="547560" cy="536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917440" y="1827360"/>
            <a:ext cx="95400" cy="117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41520" y="1898640"/>
            <a:ext cx="119160" cy="1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13200" y="2319480"/>
            <a:ext cx="118800" cy="45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488680" y="2389320"/>
            <a:ext cx="95400" cy="46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35440" y="2382840"/>
            <a:ext cx="77292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714840" y="3142800"/>
            <a:ext cx="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3714840" y="3071520"/>
            <a:ext cx="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20960" y="3084480"/>
            <a:ext cx="344520" cy="40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69120" y="1968480"/>
            <a:ext cx="2333520" cy="404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803280" y="629460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512040" y="46324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726240" y="4328640"/>
            <a:ext cx="547560" cy="44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84360" y="3790800"/>
            <a:ext cx="1833480" cy="2783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733040" y="6573960"/>
            <a:ext cx="17380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Camp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84480" y="491328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101400" y="493236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28600" y="4651200"/>
            <a:ext cx="153360" cy="1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67280" y="2016000"/>
            <a:ext cx="9169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96000" y="166068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4708440" y="2101680"/>
            <a:ext cx="15552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35600" y="2101680"/>
            <a:ext cx="129960" cy="76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863960" y="2243160"/>
            <a:ext cx="13032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4792680" y="2230200"/>
            <a:ext cx="130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57840" y="1892160"/>
            <a:ext cx="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92680" y="2382840"/>
            <a:ext cx="2016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780080" y="2382840"/>
            <a:ext cx="22680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92680" y="2593800"/>
            <a:ext cx="27288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4708080" y="259380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8720" y="1314360"/>
            <a:ext cx="60444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863960" y="1886040"/>
            <a:ext cx="63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5422680" y="1892160"/>
            <a:ext cx="83880" cy="5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435640" y="1955880"/>
            <a:ext cx="70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63920" y="1611360"/>
            <a:ext cx="34452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4565160" y="1816200"/>
            <a:ext cx="15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578480" y="1822320"/>
            <a:ext cx="272880" cy="5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4493880" y="1892160"/>
            <a:ext cx="369720" cy="1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506840" y="2097000"/>
            <a:ext cx="13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350960" y="2101680"/>
            <a:ext cx="298440" cy="12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4851360" y="2097000"/>
            <a:ext cx="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35640" y="2873520"/>
            <a:ext cx="558720" cy="47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64800" y="2927520"/>
            <a:ext cx="54792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63960" y="1892160"/>
            <a:ext cx="4161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528624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292720" y="2173320"/>
            <a:ext cx="70164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512040" y="4071960"/>
            <a:ext cx="190440" cy="18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91800" y="3789360"/>
            <a:ext cx="50976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n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26240" y="4200480"/>
            <a:ext cx="547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78000" y="2313000"/>
            <a:ext cx="141624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4351320" y="2733840"/>
            <a:ext cx="15552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63920" y="2803680"/>
            <a:ext cx="105912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709560" y="273384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2160" y="2797200"/>
            <a:ext cx="3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923760" y="2722320"/>
            <a:ext cx="15408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732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001880" y="2593800"/>
            <a:ext cx="0" cy="40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30240" y="252252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30240" y="28036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025280" y="3068640"/>
            <a:ext cx="8816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ul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5896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930240" y="2803680"/>
            <a:ext cx="0" cy="11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34960" y="2803680"/>
            <a:ext cx="177480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2995560" y="3154320"/>
            <a:ext cx="225360" cy="58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006720" y="3224160"/>
            <a:ext cx="1058760" cy="4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78440" y="3294000"/>
            <a:ext cx="701640" cy="47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039920" y="3278160"/>
            <a:ext cx="74628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863800" y="3855960"/>
            <a:ext cx="488880" cy="408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864520" y="390996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352680" y="3714840"/>
            <a:ext cx="725760" cy="33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34280" y="3294000"/>
            <a:ext cx="488880" cy="40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35000" y="3348000"/>
            <a:ext cx="5266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oe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92680" y="3568680"/>
            <a:ext cx="163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05520" y="3365640"/>
            <a:ext cx="488880" cy="82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4565160" y="1892160"/>
            <a:ext cx="29844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578480" y="2441160"/>
            <a:ext cx="1299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4422600" y="2452680"/>
            <a:ext cx="298800" cy="83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2160" y="2101680"/>
            <a:ext cx="5904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20" y="2160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93800" y="2173320"/>
            <a:ext cx="58680" cy="26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363920" y="3925800"/>
            <a:ext cx="105912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92680" y="4416480"/>
            <a:ext cx="987480" cy="900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35520" y="4135320"/>
            <a:ext cx="1201680" cy="10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86160" y="4060800"/>
            <a:ext cx="1143000" cy="981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949920" y="4470480"/>
            <a:ext cx="167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oeing Int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92560" y="504180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779800" y="4761000"/>
            <a:ext cx="72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714760" y="161136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2720880" y="1739520"/>
            <a:ext cx="60480" cy="8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86040" y="175104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863800" y="5041800"/>
            <a:ext cx="20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38400" y="1380960"/>
            <a:ext cx="124128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oeing Off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mpus Port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oice/Da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889520" y="703440"/>
            <a:ext cx="8892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103720" y="561960"/>
            <a:ext cx="88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38480" y="4784760"/>
            <a:ext cx="452160" cy="444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81360" y="4276800"/>
            <a:ext cx="225360" cy="54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20880" y="45561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20880" y="553896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77920" y="55389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506600" y="546876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7792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20880" y="5959440"/>
            <a:ext cx="77328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506600" y="595944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791480" y="182232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791480" y="3224160"/>
            <a:ext cx="10587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05600" y="32241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19720" y="3154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719840" y="252252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05600" y="25225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91360" y="2522520"/>
            <a:ext cx="106020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00560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19720" y="182232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00560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7862760" y="5187960"/>
            <a:ext cx="105912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219720" y="518796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91480" y="4556160"/>
            <a:ext cx="10587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005600" y="4556160"/>
            <a:ext cx="1060560" cy="971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219720" y="4486320"/>
            <a:ext cx="1060560" cy="96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91480" y="3925800"/>
            <a:ext cx="10587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00560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19720" y="3855960"/>
            <a:ext cx="1060560" cy="970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38840" y="230652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499520" y="2330280"/>
            <a:ext cx="0" cy="1495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38840" y="3008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38840" y="371016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38840" y="44100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8840" y="5041800"/>
            <a:ext cx="1594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810480" y="5673600"/>
            <a:ext cx="1593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99520" y="4363920"/>
            <a:ext cx="0" cy="1285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934320" y="3714840"/>
            <a:ext cx="34596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4956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506600" y="455616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20880" y="5048280"/>
            <a:ext cx="77328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4956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506600" y="5048280"/>
            <a:ext cx="774720" cy="758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14956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0660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149560" y="4065480"/>
            <a:ext cx="77472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720880" y="4065480"/>
            <a:ext cx="773280" cy="760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06600" y="3645000"/>
            <a:ext cx="7747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92520" y="3645000"/>
            <a:ext cx="772920" cy="760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00200" y="4013280"/>
            <a:ext cx="0" cy="725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882800" y="3989520"/>
            <a:ext cx="1236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54080" y="448164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54080" y="4971960"/>
            <a:ext cx="2365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54080" y="5392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54080" y="588312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54080" y="6373800"/>
            <a:ext cx="1236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00200" y="5275440"/>
            <a:ext cx="0" cy="1076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738520" y="4971960"/>
            <a:ext cx="309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308720" y="3873600"/>
            <a:ext cx="452520" cy="444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783560" y="2805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54840" y="23842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40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54840" y="25938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069400" y="273528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497720" y="287496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497720" y="2523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97720" y="266544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97720" y="280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497720" y="24541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783560" y="35766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854840" y="3156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640640" y="32259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54840" y="33656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069400" y="3506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497720" y="3646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497720" y="3295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497720" y="3436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497720" y="3576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497720" y="322596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78356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854840" y="448776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640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854840" y="469908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806940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97720" y="49784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49772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97720" y="4768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497720" y="490860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7497720" y="45576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7284600" y="30862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01608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13680" y="2523960"/>
            <a:ext cx="1411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713640" y="245412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354800" y="25938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56560" y="252396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7284600" y="504972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42040" y="497844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13680" y="4629240"/>
            <a:ext cx="1411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1364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354800" y="469908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56560" y="462924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2285640" y="4699080"/>
            <a:ext cx="21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143080" y="462924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784600" y="589104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214720" y="413712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641680" y="4557600"/>
            <a:ext cx="142920" cy="14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714680" y="4067280"/>
            <a:ext cx="14256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14680" y="483876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855880" y="490860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927520" y="624204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27520" y="5189400"/>
            <a:ext cx="14256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55880" y="547056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641680" y="5540400"/>
            <a:ext cx="14292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5680080"/>
            <a:ext cx="142920" cy="141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70080" y="5821200"/>
            <a:ext cx="14292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57280" y="638172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998800" y="638172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98760" y="5961240"/>
            <a:ext cx="28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498760" y="5610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98760" y="574992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498760" y="589104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857240" y="490860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2498400" y="462924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357280" y="4208400"/>
            <a:ext cx="1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857240" y="4137120"/>
            <a:ext cx="64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498760" y="5540400"/>
            <a:ext cx="35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943600" y="5638680"/>
            <a:ext cx="99072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5600" y="6172200"/>
            <a:ext cx="4007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Subn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028760" y="685800"/>
            <a:ext cx="449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Wireless LANs with Cell Hando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2437200" y="609480"/>
            <a:ext cx="6707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 + WPAN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28920" y="1822320"/>
            <a:ext cx="0" cy="4405320"/>
          </a:xfrm>
          <a:prstGeom prst="line">
            <a:avLst/>
          </a:prstGeom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94400" y="1262160"/>
            <a:ext cx="299880" cy="477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578480" y="1120680"/>
            <a:ext cx="1355400" cy="2101680"/>
            <a:chOff x="4578480" y="1120680"/>
            <a:chExt cx="1355400" cy="2101680"/>
          </a:xfrm>
        </p:grpSpPr>
        <p:sp>
          <p:nvSpPr>
            <p:cNvPr id="691" name=""/>
            <p:cNvSpPr/>
            <p:nvPr/>
          </p:nvSpPr>
          <p:spPr>
            <a:xfrm flipH="1">
              <a:off x="4780440" y="1681560"/>
              <a:ext cx="51120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92320" y="1891800"/>
              <a:ext cx="701640" cy="1318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5505840" y="3002040"/>
              <a:ext cx="416160" cy="220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5279760" y="1669680"/>
              <a:ext cx="654120" cy="1343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065560" y="1675800"/>
              <a:ext cx="225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4637520" y="1681560"/>
              <a:ext cx="43992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649400" y="1891800"/>
              <a:ext cx="701640" cy="1318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363280" y="3216600"/>
              <a:ext cx="130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49400" y="1886040"/>
              <a:ext cx="130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63600" y="1891800"/>
              <a:ext cx="13068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5006520" y="1950120"/>
              <a:ext cx="34488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5208120" y="1739880"/>
              <a:ext cx="154440" cy="22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4851720" y="1751400"/>
              <a:ext cx="36864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34560" y="2943720"/>
              <a:ext cx="130680" cy="198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577480" y="3002040"/>
              <a:ext cx="27324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5707800" y="2791800"/>
              <a:ext cx="154440" cy="22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422680" y="2803320"/>
              <a:ext cx="29736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49080" y="2382480"/>
              <a:ext cx="273240" cy="47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434560" y="2721240"/>
              <a:ext cx="27324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5422680" y="2230560"/>
              <a:ext cx="297360" cy="502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5137200" y="2242440"/>
              <a:ext cx="29736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20720" y="23824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63280" y="231264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291640" y="2522880"/>
              <a:ext cx="5940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434560" y="24526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63280" y="266292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05840" y="259272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34560" y="28033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577480" y="2733480"/>
              <a:ext cx="5904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4934880" y="1950120"/>
              <a:ext cx="416160" cy="221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5065920" y="2172240"/>
              <a:ext cx="439920" cy="19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363280" y="1962000"/>
              <a:ext cx="130680" cy="198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78480" y="112068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6864480" y="1809720"/>
            <a:ext cx="1349280" cy="853920"/>
            <a:chOff x="6864480" y="1809720"/>
            <a:chExt cx="1349280" cy="853920"/>
          </a:xfrm>
        </p:grpSpPr>
        <p:sp>
          <p:nvSpPr>
            <p:cNvPr id="725" name=""/>
            <p:cNvSpPr/>
            <p:nvPr/>
          </p:nvSpPr>
          <p:spPr>
            <a:xfrm>
              <a:off x="7001280" y="1961640"/>
              <a:ext cx="0" cy="620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7007400" y="1809720"/>
              <a:ext cx="112896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69680" y="2030400"/>
              <a:ext cx="0" cy="62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7075800" y="1879200"/>
              <a:ext cx="1131480" cy="150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7075800" y="2511360"/>
              <a:ext cx="1131480" cy="152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07400" y="1961640"/>
              <a:ext cx="56160" cy="56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07400" y="2593440"/>
              <a:ext cx="56160" cy="58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213760" y="1891440"/>
              <a:ext cx="0" cy="61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148240" y="1821240"/>
              <a:ext cx="59040" cy="5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41320" y="2102040"/>
              <a:ext cx="0" cy="33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147080" y="1949400"/>
              <a:ext cx="989280" cy="152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142120" y="1961640"/>
              <a:ext cx="0" cy="33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34840" y="2313000"/>
              <a:ext cx="101268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7219800" y="2089800"/>
              <a:ext cx="48780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7219800" y="2160360"/>
              <a:ext cx="70200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91440" y="2306880"/>
              <a:ext cx="2023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7291440" y="2300400"/>
              <a:ext cx="48744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929640" y="1891440"/>
              <a:ext cx="0" cy="409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935760" y="2306880"/>
              <a:ext cx="1278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864480" y="182124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565680" y="5257800"/>
            <a:ext cx="939240" cy="701280"/>
            <a:chOff x="6565680" y="5257800"/>
            <a:chExt cx="939240" cy="701280"/>
          </a:xfrm>
        </p:grpSpPr>
        <p:sp>
          <p:nvSpPr>
            <p:cNvPr id="746" name=""/>
            <p:cNvSpPr/>
            <p:nvPr/>
          </p:nvSpPr>
          <p:spPr>
            <a:xfrm>
              <a:off x="6786000" y="5468040"/>
              <a:ext cx="0" cy="479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6791760" y="5807160"/>
              <a:ext cx="701640" cy="151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499520" y="5386320"/>
              <a:ext cx="0" cy="432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779520" y="5397840"/>
              <a:ext cx="725400" cy="5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637320" y="5953680"/>
              <a:ext cx="154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6643080" y="5455800"/>
              <a:ext cx="0" cy="502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49200" y="5462280"/>
              <a:ext cx="130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858720" y="5538240"/>
              <a:ext cx="0" cy="1285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864480" y="5596560"/>
              <a:ext cx="55728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V="1">
              <a:off x="7428240" y="5456160"/>
              <a:ext cx="0" cy="151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6864480" y="5455800"/>
              <a:ext cx="55728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144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19800" y="5678640"/>
              <a:ext cx="5940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362720" y="5678640"/>
              <a:ext cx="5904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91440" y="5748840"/>
              <a:ext cx="5904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6649200" y="5385960"/>
              <a:ext cx="630360" cy="81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91440" y="5392080"/>
              <a:ext cx="2019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6565680" y="5889240"/>
              <a:ext cx="154440" cy="58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6571800" y="5316120"/>
              <a:ext cx="0" cy="642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577560" y="5257800"/>
              <a:ext cx="5940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6" name=""/>
          <p:cNvSpPr/>
          <p:nvPr/>
        </p:nvSpPr>
        <p:spPr>
          <a:xfrm flipH="1">
            <a:off x="3850920" y="420048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143240" y="3843360"/>
            <a:ext cx="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3149640" y="3984480"/>
            <a:ext cx="2728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435480" y="398952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708000" y="3995640"/>
            <a:ext cx="29844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3138480" y="4270320"/>
            <a:ext cx="58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3720960" y="4194000"/>
            <a:ext cx="27324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006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714840" y="4276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078440" y="3786120"/>
            <a:ext cx="5868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7320" y="4278240"/>
            <a:ext cx="6364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436680" y="3703320"/>
            <a:ext cx="27288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2160" y="371016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995040" y="3714840"/>
            <a:ext cx="29700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23360" y="3989520"/>
            <a:ext cx="58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6680" y="4200480"/>
            <a:ext cx="55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1006560" y="3914640"/>
            <a:ext cx="27468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87360" y="371484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00188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49480" y="3919680"/>
            <a:ext cx="63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500040" y="3365640"/>
            <a:ext cx="1719360" cy="22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61520" y="3979800"/>
            <a:ext cx="54036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238400" y="3068640"/>
            <a:ext cx="96696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383480" y="1244520"/>
            <a:ext cx="54648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77880" y="4200480"/>
            <a:ext cx="163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6648480" y="3563640"/>
            <a:ext cx="1779480" cy="1133280"/>
            <a:chOff x="6648480" y="3563640"/>
            <a:chExt cx="1779480" cy="1133280"/>
          </a:xfrm>
        </p:grpSpPr>
        <p:sp>
          <p:nvSpPr>
            <p:cNvPr id="792" name=""/>
            <p:cNvSpPr/>
            <p:nvPr/>
          </p:nvSpPr>
          <p:spPr>
            <a:xfrm>
              <a:off x="8139240" y="370692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007040" y="4556880"/>
              <a:ext cx="62892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007040" y="4124880"/>
              <a:ext cx="771840" cy="43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91120" y="4136400"/>
              <a:ext cx="63036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007040" y="4627080"/>
              <a:ext cx="62892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7648200" y="4194360"/>
              <a:ext cx="773640" cy="43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648200" y="4264920"/>
              <a:ext cx="773640" cy="432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648480" y="3996360"/>
              <a:ext cx="275040" cy="54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719760" y="3563640"/>
              <a:ext cx="773640" cy="43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6648480" y="3563640"/>
              <a:ext cx="773640" cy="432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19760" y="3996360"/>
              <a:ext cx="275040" cy="54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6791040" y="3635280"/>
              <a:ext cx="702360" cy="36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007040" y="4054680"/>
              <a:ext cx="700560" cy="362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91040" y="3996360"/>
              <a:ext cx="204120" cy="408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505280" y="3647160"/>
              <a:ext cx="202320" cy="4071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05280" y="3575880"/>
              <a:ext cx="273600" cy="549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35400" y="4551120"/>
              <a:ext cx="59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4556880"/>
              <a:ext cx="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8142120" y="3786120"/>
              <a:ext cx="0" cy="3387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648480" y="3990240"/>
              <a:ext cx="59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433640" y="3569760"/>
              <a:ext cx="594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8427960" y="4206600"/>
              <a:ext cx="0" cy="5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430200" y="399564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34120" y="1595520"/>
            <a:ext cx="136476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gital  Digital Voice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, and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037640" y="2717640"/>
            <a:ext cx="8802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 Termina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801040" y="4557600"/>
            <a:ext cx="10008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book Digit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751720" y="5452920"/>
            <a:ext cx="682200" cy="4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wo W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ging &amp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4078440" y="2722680"/>
            <a:ext cx="129960" cy="113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21000" y="2733840"/>
            <a:ext cx="130320" cy="268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363920" y="1109520"/>
            <a:ext cx="273240" cy="190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V="1">
            <a:off x="4149720" y="2932200"/>
            <a:ext cx="2130480" cy="9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6066000" y="2862000"/>
            <a:ext cx="2253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6076800" y="1809360"/>
            <a:ext cx="847800" cy="106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4149720" y="3422520"/>
            <a:ext cx="263052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6566040" y="3435480"/>
            <a:ext cx="22536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576840" y="3575160"/>
            <a:ext cx="156060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49720" y="3855960"/>
            <a:ext cx="1344600" cy="8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5280120" y="469116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292720" y="4697280"/>
            <a:ext cx="1344600" cy="61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3149640" y="4481640"/>
            <a:ext cx="2087280" cy="1557000"/>
            <a:chOff x="3149640" y="4481640"/>
            <a:chExt cx="2087280" cy="1557000"/>
          </a:xfrm>
        </p:grpSpPr>
        <p:sp>
          <p:nvSpPr>
            <p:cNvPr id="832" name=""/>
            <p:cNvSpPr/>
            <p:nvPr/>
          </p:nvSpPr>
          <p:spPr>
            <a:xfrm>
              <a:off x="3149640" y="4481640"/>
              <a:ext cx="55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3" name=""/>
            <p:cNvGraphicFramePr/>
            <p:nvPr/>
          </p:nvGraphicFramePr>
          <p:xfrm>
            <a:off x="3457440" y="4808520"/>
            <a:ext cx="1779480" cy="12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57440" y="4808520"/>
                      <a:ext cx="1779480" cy="12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5" name=""/>
            <p:cNvSpPr/>
            <p:nvPr/>
          </p:nvSpPr>
          <p:spPr>
            <a:xfrm>
              <a:off x="4851720" y="459684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818960" y="4516200"/>
              <a:ext cx="5904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8467560" y="1611360"/>
            <a:ext cx="426960" cy="771120"/>
            <a:chOff x="8467560" y="1611360"/>
            <a:chExt cx="426960" cy="771120"/>
          </a:xfrm>
        </p:grpSpPr>
        <p:sp>
          <p:nvSpPr>
            <p:cNvPr id="838" name=""/>
            <p:cNvSpPr/>
            <p:nvPr/>
          </p:nvSpPr>
          <p:spPr>
            <a:xfrm>
              <a:off x="8850240" y="1713600"/>
              <a:ext cx="0" cy="7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9" name=""/>
            <p:cNvGrpSpPr/>
            <p:nvPr/>
          </p:nvGrpSpPr>
          <p:grpSpPr>
            <a:xfrm>
              <a:off x="8467560" y="1611360"/>
              <a:ext cx="426960" cy="771120"/>
              <a:chOff x="8467560" y="1611360"/>
              <a:chExt cx="426960" cy="771120"/>
            </a:xfrm>
          </p:grpSpPr>
          <p:sp>
            <p:nvSpPr>
              <p:cNvPr id="840" name=""/>
              <p:cNvSpPr/>
              <p:nvPr/>
            </p:nvSpPr>
            <p:spPr>
              <a:xfrm flipH="1">
                <a:off x="8530920" y="1817280"/>
                <a:ext cx="16128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534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8759880" y="2301840"/>
                <a:ext cx="131040" cy="8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8688240" y="1812960"/>
                <a:ext cx="206280" cy="49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8620920" y="1815120"/>
                <a:ext cx="7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8485560" y="181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89880" y="1894320"/>
                <a:ext cx="22104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714880" y="238068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489880" y="1892160"/>
                <a:ext cx="4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557200" y="189432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8602560" y="1915560"/>
                <a:ext cx="10872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 flipV="1">
                <a:off x="8665920" y="183852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8553240" y="1842840"/>
                <a:ext cx="11628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737560" y="228060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8782560" y="230148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 flipV="1">
                <a:off x="8823240" y="2224800"/>
                <a:ext cx="4860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8733600" y="222912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8647560" y="2074680"/>
                <a:ext cx="86040" cy="17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8737560" y="2198520"/>
                <a:ext cx="86040" cy="5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 flipV="1">
                <a:off x="8733600" y="2018880"/>
                <a:ext cx="93600" cy="18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8643600" y="2023200"/>
                <a:ext cx="9360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669880" y="207468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714880" y="20487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692560" y="212616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8737560" y="21002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714880" y="217764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759880" y="2151720"/>
                <a:ext cx="1872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737560" y="222912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782560" y="220320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8579880" y="1915920"/>
                <a:ext cx="131040" cy="8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8620920" y="1997280"/>
                <a:ext cx="13860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714880" y="1920240"/>
                <a:ext cx="41040" cy="7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8467560" y="1611360"/>
                <a:ext cx="183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3" name=""/>
            <p:cNvSpPr/>
            <p:nvPr/>
          </p:nvSpPr>
          <p:spPr>
            <a:xfrm>
              <a:off x="8489880" y="1636920"/>
              <a:ext cx="89640" cy="20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8497800" y="3785760"/>
            <a:ext cx="500040" cy="350640"/>
            <a:chOff x="8497800" y="3785760"/>
            <a:chExt cx="500040" cy="350640"/>
          </a:xfrm>
        </p:grpSpPr>
        <p:sp>
          <p:nvSpPr>
            <p:cNvPr id="875" name=""/>
            <p:cNvSpPr/>
            <p:nvPr/>
          </p:nvSpPr>
          <p:spPr>
            <a:xfrm>
              <a:off x="8548560" y="38484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550720" y="3785760"/>
              <a:ext cx="41832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573760" y="3876840"/>
              <a:ext cx="0" cy="2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8575920" y="3814560"/>
              <a:ext cx="4194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8575920" y="4074120"/>
              <a:ext cx="41940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550720" y="3848400"/>
              <a:ext cx="2088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550720" y="4108320"/>
              <a:ext cx="2088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997840" y="3819600"/>
              <a:ext cx="0" cy="25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973720" y="3790800"/>
              <a:ext cx="21960" cy="2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600400" y="390636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8602560" y="3843360"/>
              <a:ext cx="366480" cy="6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971560" y="3848400"/>
              <a:ext cx="0" cy="13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8597520" y="3992760"/>
              <a:ext cx="375480" cy="5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8629560" y="390096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8629560" y="3929760"/>
              <a:ext cx="26028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655840" y="399024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8655840" y="3987720"/>
              <a:ext cx="18072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8521920" y="3819600"/>
              <a:ext cx="0" cy="16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524080" y="3990240"/>
              <a:ext cx="4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497800" y="3790800"/>
              <a:ext cx="21960" cy="23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066000" y="1262160"/>
            <a:ext cx="785520" cy="377640"/>
            <a:chOff x="6066000" y="1262160"/>
            <a:chExt cx="785520" cy="377640"/>
          </a:xfrm>
        </p:grpSpPr>
        <p:sp>
          <p:nvSpPr>
            <p:cNvPr id="896" name=""/>
            <p:cNvSpPr/>
            <p:nvPr/>
          </p:nvSpPr>
          <p:spPr>
            <a:xfrm>
              <a:off x="6724080" y="1309680"/>
              <a:ext cx="25920" cy="19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224040" y="15930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224040" y="1449000"/>
              <a:ext cx="34056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570360" y="1452960"/>
              <a:ext cx="27828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24040" y="1616400"/>
              <a:ext cx="27756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6507360" y="14724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6507360" y="149580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06600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609732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066000" y="1262160"/>
              <a:ext cx="34128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97320" y="1406160"/>
              <a:ext cx="12132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6129000" y="1285920"/>
              <a:ext cx="309960" cy="12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6224040" y="1425240"/>
              <a:ext cx="30924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29000" y="1406160"/>
              <a:ext cx="90000" cy="13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444360" y="1289880"/>
              <a:ext cx="89280" cy="13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444360" y="1266120"/>
              <a:ext cx="120600" cy="1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92720" y="159120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221520" y="15930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725520" y="1335960"/>
              <a:ext cx="0" cy="11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066000" y="1404360"/>
              <a:ext cx="2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12680" y="1263960"/>
              <a:ext cx="2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51520" y="14763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935440" y="5189400"/>
            <a:ext cx="499680" cy="351000"/>
            <a:chOff x="2935440" y="5189400"/>
            <a:chExt cx="499680" cy="351000"/>
          </a:xfrm>
        </p:grpSpPr>
        <p:sp>
          <p:nvSpPr>
            <p:cNvPr id="919" name=""/>
            <p:cNvSpPr/>
            <p:nvPr/>
          </p:nvSpPr>
          <p:spPr>
            <a:xfrm>
              <a:off x="3052440" y="529452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3055680" y="5464080"/>
              <a:ext cx="3736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V="1">
              <a:off x="3432240" y="5253120"/>
              <a:ext cx="0" cy="21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049200" y="5259600"/>
              <a:ext cx="38592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>
              <a:off x="2973240" y="5537520"/>
              <a:ext cx="8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2976480" y="5288400"/>
              <a:ext cx="0" cy="25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979720" y="5291640"/>
              <a:ext cx="6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091320" y="5329800"/>
              <a:ext cx="0" cy="6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3094200" y="53586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3394440" y="528840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3094200" y="5288400"/>
              <a:ext cx="29664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2136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83560" y="5400000"/>
              <a:ext cx="3168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59520" y="540000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21360" y="5434920"/>
              <a:ext cx="31320" cy="29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V="1">
              <a:off x="2979720" y="5253120"/>
              <a:ext cx="335520" cy="4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321360" y="5256360"/>
              <a:ext cx="10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2935440" y="5505480"/>
              <a:ext cx="82080" cy="2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V="1">
              <a:off x="2938320" y="5218560"/>
              <a:ext cx="0" cy="32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941560" y="5189400"/>
              <a:ext cx="31680" cy="2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6848640" y="6039000"/>
            <a:ext cx="785520" cy="553680"/>
            <a:chOff x="6848640" y="6039000"/>
            <a:chExt cx="785520" cy="553680"/>
          </a:xfrm>
        </p:grpSpPr>
        <p:graphicFrame>
          <p:nvGraphicFramePr>
            <p:cNvPr id="940" name=""/>
            <p:cNvGraphicFramePr/>
            <p:nvPr/>
          </p:nvGraphicFramePr>
          <p:xfrm>
            <a:off x="6848640" y="6145200"/>
            <a:ext cx="785520" cy="447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48640" y="6145200"/>
                      <a:ext cx="785520" cy="44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2" name=""/>
            <p:cNvSpPr/>
            <p:nvPr/>
          </p:nvSpPr>
          <p:spPr>
            <a:xfrm>
              <a:off x="7464240" y="6067800"/>
              <a:ext cx="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449480" y="6039000"/>
              <a:ext cx="26640" cy="20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4641840" y="1122480"/>
            <a:ext cx="2143080" cy="209520"/>
          </a:xfrm>
          <a:custGeom>
            <a:avLst/>
            <a:gdLst/>
            <a:ahLst/>
            <a:rect l="l" t="t" r="r" b="b"/>
            <a:pathLst>
              <a:path w="1440" h="144">
                <a:moveTo>
                  <a:pt x="0" y="0"/>
                </a:moveTo>
                <a:lnTo>
                  <a:pt x="864" y="144"/>
                </a:lnTo>
                <a:lnTo>
                  <a:pt x="816" y="48"/>
                </a:lnTo>
                <a:lnTo>
                  <a:pt x="144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298840" y="98100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908760" y="1612800"/>
            <a:ext cx="1589040" cy="211320"/>
          </a:xfrm>
          <a:custGeom>
            <a:avLst/>
            <a:gdLst/>
            <a:ahLst/>
            <a:rect l="l" t="t" r="r" b="b"/>
            <a:pathLst>
              <a:path w="1068" h="144">
                <a:moveTo>
                  <a:pt x="0" y="144"/>
                </a:moveTo>
                <a:cubicBezTo>
                  <a:pt x="43" y="115"/>
                  <a:pt x="23" y="126"/>
                  <a:pt x="60" y="108"/>
                </a:cubicBezTo>
                <a:lnTo>
                  <a:pt x="588" y="0"/>
                </a:lnTo>
                <a:lnTo>
                  <a:pt x="492" y="96"/>
                </a:lnTo>
                <a:lnTo>
                  <a:pt x="106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211960" y="3716280"/>
            <a:ext cx="285840" cy="69840"/>
          </a:xfrm>
          <a:custGeom>
            <a:avLst/>
            <a:gdLst/>
            <a:ahLst/>
            <a:rect l="l" t="t" r="r" b="b"/>
            <a:pathLst>
              <a:path w="252" h="48">
                <a:moveTo>
                  <a:pt x="0" y="0"/>
                </a:moveTo>
                <a:cubicBezTo>
                  <a:pt x="56" y="0"/>
                  <a:pt x="112" y="0"/>
                  <a:pt x="168" y="0"/>
                </a:cubicBezTo>
                <a:lnTo>
                  <a:pt x="108" y="48"/>
                </a:lnTo>
                <a:lnTo>
                  <a:pt x="252" y="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155280" y="603108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083440" y="336564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368840" y="1473120"/>
            <a:ext cx="85428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570720" y="5259240"/>
            <a:ext cx="855720" cy="771840"/>
          </a:xfrm>
          <a:custGeom>
            <a:avLst/>
            <a:gdLst/>
            <a:ahLst/>
            <a:rect l="l" t="t" r="r" b="b"/>
            <a:pathLst>
              <a:path w="576" h="528">
                <a:moveTo>
                  <a:pt x="0" y="0"/>
                </a:moveTo>
                <a:lnTo>
                  <a:pt x="384" y="336"/>
                </a:lnTo>
                <a:lnTo>
                  <a:pt x="288" y="336"/>
                </a:lnTo>
                <a:lnTo>
                  <a:pt x="576" y="528"/>
                </a:lnTo>
              </a:path>
            </a:pathLst>
          </a:custGeom>
          <a:noFill/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941560" y="4699080"/>
            <a:ext cx="8542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luetooth-li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927520" y="4557600"/>
            <a:ext cx="1928520" cy="631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432"/>
                </a:moveTo>
                <a:lnTo>
                  <a:pt x="768" y="144"/>
                </a:lnTo>
                <a:lnTo>
                  <a:pt x="720" y="240"/>
                </a:lnTo>
                <a:lnTo>
                  <a:pt x="129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141800" y="3786120"/>
            <a:ext cx="714240" cy="771480"/>
          </a:xfrm>
          <a:custGeom>
            <a:avLst/>
            <a:gdLst/>
            <a:ahLst/>
            <a:rect l="l" t="t" r="r" b="b"/>
            <a:pathLst>
              <a:path w="480" h="528">
                <a:moveTo>
                  <a:pt x="0" y="0"/>
                </a:moveTo>
                <a:lnTo>
                  <a:pt x="192" y="336"/>
                </a:lnTo>
                <a:lnTo>
                  <a:pt x="192" y="240"/>
                </a:lnTo>
                <a:lnTo>
                  <a:pt x="480" y="5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755800" y="1000080"/>
            <a:ext cx="6413760" cy="5826240"/>
          </a:xfrm>
          <a:custGeom>
            <a:avLst/>
            <a:gdLst/>
            <a:ahLst/>
            <a:rect l="l" t="t" r="r" b="b"/>
            <a:pathLst>
              <a:path w="4311" h="3988">
                <a:moveTo>
                  <a:pt x="1244" y="108"/>
                </a:moveTo>
                <a:cubicBezTo>
                  <a:pt x="1223" y="115"/>
                  <a:pt x="1185" y="124"/>
                  <a:pt x="1172" y="144"/>
                </a:cubicBezTo>
                <a:cubicBezTo>
                  <a:pt x="1163" y="158"/>
                  <a:pt x="1165" y="176"/>
                  <a:pt x="1160" y="192"/>
                </a:cubicBezTo>
                <a:cubicBezTo>
                  <a:pt x="1148" y="235"/>
                  <a:pt x="1150" y="225"/>
                  <a:pt x="1124" y="264"/>
                </a:cubicBezTo>
                <a:cubicBezTo>
                  <a:pt x="1079" y="443"/>
                  <a:pt x="1002" y="607"/>
                  <a:pt x="944" y="780"/>
                </a:cubicBezTo>
                <a:cubicBezTo>
                  <a:pt x="912" y="877"/>
                  <a:pt x="899" y="979"/>
                  <a:pt x="884" y="1080"/>
                </a:cubicBezTo>
                <a:cubicBezTo>
                  <a:pt x="873" y="1152"/>
                  <a:pt x="847" y="1227"/>
                  <a:pt x="824" y="1296"/>
                </a:cubicBezTo>
                <a:cubicBezTo>
                  <a:pt x="803" y="1442"/>
                  <a:pt x="793" y="1529"/>
                  <a:pt x="812" y="1692"/>
                </a:cubicBezTo>
                <a:cubicBezTo>
                  <a:pt x="815" y="1717"/>
                  <a:pt x="828" y="1740"/>
                  <a:pt x="836" y="1764"/>
                </a:cubicBezTo>
                <a:cubicBezTo>
                  <a:pt x="840" y="1776"/>
                  <a:pt x="848" y="1800"/>
                  <a:pt x="848" y="1800"/>
                </a:cubicBezTo>
                <a:cubicBezTo>
                  <a:pt x="852" y="1840"/>
                  <a:pt x="853" y="1880"/>
                  <a:pt x="860" y="1920"/>
                </a:cubicBezTo>
                <a:cubicBezTo>
                  <a:pt x="865" y="1945"/>
                  <a:pt x="884" y="1992"/>
                  <a:pt x="884" y="1992"/>
                </a:cubicBezTo>
                <a:cubicBezTo>
                  <a:pt x="880" y="2068"/>
                  <a:pt x="887" y="2145"/>
                  <a:pt x="872" y="2220"/>
                </a:cubicBezTo>
                <a:cubicBezTo>
                  <a:pt x="855" y="2307"/>
                  <a:pt x="780" y="2324"/>
                  <a:pt x="728" y="2376"/>
                </a:cubicBezTo>
                <a:cubicBezTo>
                  <a:pt x="691" y="2413"/>
                  <a:pt x="659" y="2416"/>
                  <a:pt x="620" y="2448"/>
                </a:cubicBezTo>
                <a:cubicBezTo>
                  <a:pt x="534" y="2519"/>
                  <a:pt x="430" y="2554"/>
                  <a:pt x="320" y="2568"/>
                </a:cubicBezTo>
                <a:cubicBezTo>
                  <a:pt x="263" y="2606"/>
                  <a:pt x="298" y="2587"/>
                  <a:pt x="212" y="2616"/>
                </a:cubicBezTo>
                <a:cubicBezTo>
                  <a:pt x="185" y="2625"/>
                  <a:pt x="140" y="2664"/>
                  <a:pt x="140" y="2664"/>
                </a:cubicBezTo>
                <a:cubicBezTo>
                  <a:pt x="111" y="2707"/>
                  <a:pt x="76" y="2735"/>
                  <a:pt x="56" y="2784"/>
                </a:cubicBezTo>
                <a:cubicBezTo>
                  <a:pt x="47" y="2807"/>
                  <a:pt x="40" y="2832"/>
                  <a:pt x="32" y="2856"/>
                </a:cubicBezTo>
                <a:cubicBezTo>
                  <a:pt x="28" y="2868"/>
                  <a:pt x="20" y="2892"/>
                  <a:pt x="20" y="2892"/>
                </a:cubicBezTo>
                <a:cubicBezTo>
                  <a:pt x="23" y="2943"/>
                  <a:pt x="0" y="3170"/>
                  <a:pt x="80" y="3240"/>
                </a:cubicBezTo>
                <a:cubicBezTo>
                  <a:pt x="102" y="3259"/>
                  <a:pt x="140" y="3344"/>
                  <a:pt x="164" y="3360"/>
                </a:cubicBezTo>
                <a:cubicBezTo>
                  <a:pt x="237" y="3408"/>
                  <a:pt x="220" y="3423"/>
                  <a:pt x="284" y="3444"/>
                </a:cubicBezTo>
                <a:cubicBezTo>
                  <a:pt x="359" y="3557"/>
                  <a:pt x="334" y="3474"/>
                  <a:pt x="452" y="3552"/>
                </a:cubicBezTo>
                <a:cubicBezTo>
                  <a:pt x="476" y="3568"/>
                  <a:pt x="508" y="3560"/>
                  <a:pt x="536" y="3564"/>
                </a:cubicBezTo>
                <a:cubicBezTo>
                  <a:pt x="725" y="3627"/>
                  <a:pt x="1073" y="3603"/>
                  <a:pt x="1196" y="3600"/>
                </a:cubicBezTo>
                <a:cubicBezTo>
                  <a:pt x="1212" y="3588"/>
                  <a:pt x="1064" y="3612"/>
                  <a:pt x="1412" y="3624"/>
                </a:cubicBezTo>
                <a:cubicBezTo>
                  <a:pt x="1416" y="3624"/>
                  <a:pt x="1568" y="3610"/>
                  <a:pt x="1604" y="3612"/>
                </a:cubicBezTo>
                <a:cubicBezTo>
                  <a:pt x="1732" y="3619"/>
                  <a:pt x="1860" y="3620"/>
                  <a:pt x="1988" y="3624"/>
                </a:cubicBezTo>
                <a:cubicBezTo>
                  <a:pt x="2078" y="3654"/>
                  <a:pt x="1979" y="3589"/>
                  <a:pt x="2072" y="3636"/>
                </a:cubicBezTo>
                <a:cubicBezTo>
                  <a:pt x="2089" y="3645"/>
                  <a:pt x="2129" y="3680"/>
                  <a:pt x="2144" y="3684"/>
                </a:cubicBezTo>
                <a:cubicBezTo>
                  <a:pt x="2175" y="3715"/>
                  <a:pt x="2281" y="3843"/>
                  <a:pt x="2324" y="3864"/>
                </a:cubicBezTo>
                <a:cubicBezTo>
                  <a:pt x="2364" y="3884"/>
                  <a:pt x="2434" y="3884"/>
                  <a:pt x="2468" y="3888"/>
                </a:cubicBezTo>
                <a:cubicBezTo>
                  <a:pt x="2617" y="3988"/>
                  <a:pt x="2744" y="3918"/>
                  <a:pt x="2960" y="3912"/>
                </a:cubicBezTo>
                <a:cubicBezTo>
                  <a:pt x="3112" y="3861"/>
                  <a:pt x="3007" y="3889"/>
                  <a:pt x="3284" y="3876"/>
                </a:cubicBezTo>
                <a:cubicBezTo>
                  <a:pt x="3349" y="3854"/>
                  <a:pt x="3369" y="3815"/>
                  <a:pt x="3416" y="3768"/>
                </a:cubicBezTo>
                <a:cubicBezTo>
                  <a:pt x="3428" y="3707"/>
                  <a:pt x="3485" y="3709"/>
                  <a:pt x="3500" y="3648"/>
                </a:cubicBezTo>
                <a:cubicBezTo>
                  <a:pt x="3505" y="3628"/>
                  <a:pt x="3553" y="3559"/>
                  <a:pt x="3560" y="3540"/>
                </a:cubicBezTo>
                <a:cubicBezTo>
                  <a:pt x="3570" y="3513"/>
                  <a:pt x="3601" y="3427"/>
                  <a:pt x="3620" y="3408"/>
                </a:cubicBezTo>
                <a:cubicBezTo>
                  <a:pt x="3646" y="3331"/>
                  <a:pt x="3634" y="3298"/>
                  <a:pt x="3692" y="3240"/>
                </a:cubicBezTo>
                <a:cubicBezTo>
                  <a:pt x="3717" y="3166"/>
                  <a:pt x="3647" y="3225"/>
                  <a:pt x="3740" y="3132"/>
                </a:cubicBezTo>
                <a:cubicBezTo>
                  <a:pt x="3752" y="3120"/>
                  <a:pt x="3776" y="3096"/>
                  <a:pt x="3776" y="3096"/>
                </a:cubicBezTo>
                <a:cubicBezTo>
                  <a:pt x="3808" y="3000"/>
                  <a:pt x="3820" y="3012"/>
                  <a:pt x="3872" y="2940"/>
                </a:cubicBezTo>
                <a:cubicBezTo>
                  <a:pt x="3913" y="2882"/>
                  <a:pt x="3888" y="2864"/>
                  <a:pt x="3944" y="2808"/>
                </a:cubicBezTo>
                <a:cubicBezTo>
                  <a:pt x="3958" y="2751"/>
                  <a:pt x="3962" y="2719"/>
                  <a:pt x="4004" y="2664"/>
                </a:cubicBezTo>
                <a:cubicBezTo>
                  <a:pt x="4020" y="2642"/>
                  <a:pt x="4082" y="2562"/>
                  <a:pt x="4088" y="2544"/>
                </a:cubicBezTo>
                <a:cubicBezTo>
                  <a:pt x="4109" y="2481"/>
                  <a:pt x="4111" y="2420"/>
                  <a:pt x="4148" y="2364"/>
                </a:cubicBezTo>
                <a:cubicBezTo>
                  <a:pt x="4152" y="2332"/>
                  <a:pt x="4173" y="2322"/>
                  <a:pt x="4184" y="2292"/>
                </a:cubicBezTo>
                <a:cubicBezTo>
                  <a:pt x="4194" y="2265"/>
                  <a:pt x="4211" y="2223"/>
                  <a:pt x="4220" y="2196"/>
                </a:cubicBezTo>
                <a:cubicBezTo>
                  <a:pt x="4224" y="2184"/>
                  <a:pt x="4228" y="2004"/>
                  <a:pt x="4232" y="1992"/>
                </a:cubicBezTo>
                <a:cubicBezTo>
                  <a:pt x="4311" y="1440"/>
                  <a:pt x="4250" y="2409"/>
                  <a:pt x="4208" y="828"/>
                </a:cubicBezTo>
                <a:cubicBezTo>
                  <a:pt x="4207" y="782"/>
                  <a:pt x="4196" y="816"/>
                  <a:pt x="4160" y="672"/>
                </a:cubicBezTo>
                <a:cubicBezTo>
                  <a:pt x="4140" y="652"/>
                  <a:pt x="4124" y="588"/>
                  <a:pt x="4124" y="588"/>
                </a:cubicBezTo>
                <a:cubicBezTo>
                  <a:pt x="4096" y="546"/>
                  <a:pt x="4079" y="510"/>
                  <a:pt x="4040" y="480"/>
                </a:cubicBezTo>
                <a:cubicBezTo>
                  <a:pt x="3968" y="372"/>
                  <a:pt x="3896" y="324"/>
                  <a:pt x="3896" y="324"/>
                </a:cubicBezTo>
                <a:cubicBezTo>
                  <a:pt x="3856" y="264"/>
                  <a:pt x="3887" y="294"/>
                  <a:pt x="3824" y="252"/>
                </a:cubicBezTo>
                <a:cubicBezTo>
                  <a:pt x="3800" y="236"/>
                  <a:pt x="3780" y="209"/>
                  <a:pt x="3752" y="204"/>
                </a:cubicBezTo>
                <a:cubicBezTo>
                  <a:pt x="3648" y="187"/>
                  <a:pt x="3236" y="75"/>
                  <a:pt x="3116" y="60"/>
                </a:cubicBezTo>
                <a:cubicBezTo>
                  <a:pt x="2540" y="36"/>
                  <a:pt x="2877" y="33"/>
                  <a:pt x="2360" y="24"/>
                </a:cubicBezTo>
                <a:cubicBezTo>
                  <a:pt x="2132" y="20"/>
                  <a:pt x="1976" y="28"/>
                  <a:pt x="1748" y="24"/>
                </a:cubicBezTo>
                <a:cubicBezTo>
                  <a:pt x="1656" y="28"/>
                  <a:pt x="1736" y="0"/>
                  <a:pt x="1556" y="0"/>
                </a:cubicBezTo>
                <a:cubicBezTo>
                  <a:pt x="1533" y="4"/>
                  <a:pt x="1374" y="24"/>
                  <a:pt x="1364" y="36"/>
                </a:cubicBezTo>
                <a:cubicBezTo>
                  <a:pt x="1335" y="72"/>
                  <a:pt x="1278" y="74"/>
                  <a:pt x="1244" y="108"/>
                </a:cubicBezTo>
                <a:close/>
              </a:path>
            </a:pathLst>
          </a:custGeom>
          <a:noFill/>
          <a:ln w="63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 flipV="1">
            <a:off x="1496880" y="2230200"/>
            <a:ext cx="3992760" cy="80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489640" y="223056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3352680" y="2230560"/>
            <a:ext cx="4050000" cy="80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1496520" y="303372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1523880" y="4952880"/>
            <a:ext cx="399276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5433840" y="4911840"/>
            <a:ext cx="191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352680" y="4911840"/>
            <a:ext cx="4050000" cy="80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1496520" y="571644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V="1">
            <a:off x="1447920" y="4038480"/>
            <a:ext cx="399240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489640" y="400068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3352680" y="4000680"/>
            <a:ext cx="4050000" cy="80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496520" y="480528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V="1">
            <a:off x="1496880" y="3033720"/>
            <a:ext cx="399276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489640" y="303372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3296880" y="3033720"/>
            <a:ext cx="404820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1496520" y="383868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V="1">
            <a:off x="1496880" y="1371600"/>
            <a:ext cx="399276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489640" y="1371600"/>
            <a:ext cx="191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352680" y="1371600"/>
            <a:ext cx="4050000" cy="8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1496520" y="2176560"/>
            <a:ext cx="185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2176560"/>
            <a:ext cx="0" cy="35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7402680" y="1371600"/>
            <a:ext cx="0" cy="354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352680" y="2176560"/>
            <a:ext cx="0" cy="35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433840" y="1371600"/>
            <a:ext cx="0" cy="354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V="1">
            <a:off x="2033280" y="2260440"/>
            <a:ext cx="499968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600200" y="3048120"/>
            <a:ext cx="55627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1523880" y="3962520"/>
            <a:ext cx="57913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1523880" y="4952520"/>
            <a:ext cx="586764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572000" y="2666880"/>
            <a:ext cx="0" cy="262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1905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752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6765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52480" y="4419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23888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315200" y="3581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315200" y="4572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981080" y="25146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600200" y="33526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676520" y="434340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1676520" y="525780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238880" y="25909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315200" y="35053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315200" y="449568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18288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4572000" y="1828440"/>
            <a:ext cx="243828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4572000" y="2590560"/>
            <a:ext cx="28195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4572000" y="3504960"/>
            <a:ext cx="274320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4648320" y="4495680"/>
            <a:ext cx="266688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1752480" y="5181480"/>
            <a:ext cx="304812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1676520" y="4647960"/>
            <a:ext cx="304776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828800" y="3657240"/>
            <a:ext cx="27432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1676520" y="4267080"/>
            <a:ext cx="3047760" cy="152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1676520" y="2742840"/>
            <a:ext cx="304776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676520" y="3429000"/>
            <a:ext cx="274320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2057400" y="2361960"/>
            <a:ext cx="281952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2057400" y="2057400"/>
            <a:ext cx="23623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287080" y="609480"/>
            <a:ext cx="663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reless LAN Building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724280" y="1905120"/>
            <a:ext cx="236232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4876920" y="4571640"/>
            <a:ext cx="251460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4572000" y="2666520"/>
            <a:ext cx="27432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410080" y="220968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4724280" y="3580920"/>
            <a:ext cx="266724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7162920" y="1828800"/>
            <a:ext cx="1371600" cy="3200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28600" y="5105520"/>
            <a:ext cx="40075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Subne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7009920" y="3657600"/>
            <a:ext cx="121932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 rot="670800">
            <a:off x="1752480" y="2590560"/>
            <a:ext cx="4114800" cy="19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rot="823800">
            <a:off x="4266720" y="2514240"/>
            <a:ext cx="4114800" cy="19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6781680" y="3581280"/>
          <a:ext cx="385920" cy="5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581280"/>
                    <a:ext cx="38592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6" name=""/>
          <p:cNvSpPr/>
          <p:nvPr/>
        </p:nvSpPr>
        <p:spPr>
          <a:xfrm>
            <a:off x="2958480" y="461160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327000" y="46483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269600" y="182880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2437560" y="2666880"/>
            <a:ext cx="1033920" cy="699840"/>
            <a:chOff x="2437560" y="2666880"/>
            <a:chExt cx="1033920" cy="699840"/>
          </a:xfrm>
        </p:grpSpPr>
        <p:sp>
          <p:nvSpPr>
            <p:cNvPr id="1030" name=""/>
            <p:cNvSpPr/>
            <p:nvPr/>
          </p:nvSpPr>
          <p:spPr>
            <a:xfrm flipH="1">
              <a:off x="3173040" y="308124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3465360" y="272412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471760" y="2865240"/>
              <a:ext cx="27288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57600" y="28702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3030120" y="2876400"/>
              <a:ext cx="298440" cy="2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460600" y="3151080"/>
              <a:ext cx="58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46528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471760" y="33624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3043080" y="3074760"/>
              <a:ext cx="2732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322800" y="28764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03696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400560" y="2666880"/>
              <a:ext cx="5868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437560" y="3159000"/>
              <a:ext cx="6364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17640" bIns="17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5790600" y="2666880"/>
            <a:ext cx="1033560" cy="699840"/>
            <a:chOff x="5790600" y="2666880"/>
            <a:chExt cx="1033560" cy="699840"/>
          </a:xfrm>
        </p:grpSpPr>
        <p:sp>
          <p:nvSpPr>
            <p:cNvPr id="1044" name=""/>
            <p:cNvSpPr/>
            <p:nvPr/>
          </p:nvSpPr>
          <p:spPr>
            <a:xfrm flipH="1">
              <a:off x="6526080" y="3081240"/>
              <a:ext cx="29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6818040" y="272412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5824440" y="2865240"/>
              <a:ext cx="27252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110280" y="287028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6383160" y="2876400"/>
              <a:ext cx="298080" cy="26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5812920" y="3151080"/>
              <a:ext cx="58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1796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824440" y="3362400"/>
              <a:ext cx="55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395760" y="3074760"/>
              <a:ext cx="27288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75480" y="2876400"/>
              <a:ext cx="0" cy="19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89640" y="3157560"/>
              <a:ext cx="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753240" y="2666880"/>
              <a:ext cx="5832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90600" y="3159000"/>
              <a:ext cx="63648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4280" rIns="44280" tIns="17640" bIns="176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6640"/>
                  <a:tab algn="l" pos="1673280"/>
                  <a:tab algn="l" pos="2509920"/>
                  <a:tab algn="l" pos="3346560"/>
                  <a:tab algn="l" pos="4183200"/>
                  <a:tab algn="l" pos="5019840"/>
                  <a:tab algn="l" pos="5856120"/>
                  <a:tab algn="l" pos="6692760"/>
                  <a:tab algn="l" pos="7529400"/>
                  <a:tab algn="l" pos="8366040"/>
                  <a:tab algn="l" pos="9202680"/>
                  <a:tab algn="l" pos="10039320"/>
                  <a:tab algn="l" pos="1087596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7" name=""/>
          <p:cNvSpPr/>
          <p:nvPr/>
        </p:nvSpPr>
        <p:spPr>
          <a:xfrm>
            <a:off x="4114800" y="609480"/>
            <a:ext cx="4737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17640" bIns="17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Handoff Requir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3048120" y="2437920"/>
            <a:ext cx="304560" cy="381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3048120" y="24382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6324480" y="24382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8195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324480" y="2438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2T18:47:13Z</dcterms:created>
  <dc:creator>Mathematics &amp; Computing Technology</dc:creator>
  <dc:description/>
  <dc:language>en-US</dc:language>
  <cp:lastModifiedBy>Mathematics &amp; Computing Technology</cp:lastModifiedBy>
  <cp:lastPrinted>1999-05-14T21:37:40Z</cp:lastPrinted>
  <dcterms:modified xsi:type="dcterms:W3CDTF">1999-09-14T16:35:01Z</dcterms:modified>
  <cp:revision>2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N:\DEN\DEN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