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3B0A-5796-4ACB-A035-544AAF815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884760" y="-3240"/>
            <a:ext cx="2973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4760" y="868212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868212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-324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58840" y="68256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1600"/>
            <a:ext cx="50277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5C5A-42E9-4E0A-A26F-377D1D78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99B4-8E87-4102-9C2D-0A43B0F2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BFED-A130-4DF9-A92C-BA3E83295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692-801C-4795-B629-92ED351F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7F0-169B-4E09-9DB3-C973DCCC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9030-E99D-4190-9039-B942CB3E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F53-7C7E-4451-B031-D29F0474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38F-27A0-43E6-A5BC-6095409F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EFF-FA78-43E1-BE25-35DDD77A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9BEF-01A4-46B5-A8CB-9AAFA92C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8F9-8876-4C2F-BDD0-29E09012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E19-5228-4BCF-B09C-FA30E19E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E468-F5CC-4DE3-93CE-5ECD510F8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E081-6CE2-485C-A757-4291EB783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19720" y="1066680"/>
            <a:ext cx="403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63040" y="828720"/>
            <a:ext cx="1257120" cy="2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ntom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70600" y="981000"/>
            <a:ext cx="3840120" cy="2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hematics &amp; Computing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3429000" y="5562720"/>
            <a:ext cx="2496960" cy="53640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8230-3161-411D-9342-FA3056D77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6240" y="39600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233120" y="6475320"/>
            <a:ext cx="137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Paine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B42E1C6-21C4-4245-AEA8-E3B9B6ACE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16240" y="6010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280" y="1858680"/>
            <a:ext cx="793980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irement for &gt; 40 bit WE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1981080" cy="111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772400" y="3200400"/>
            <a:ext cx="876240" cy="1219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400800" y="5181480"/>
            <a:ext cx="809640" cy="1257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924680" y="4952880"/>
            <a:ext cx="895320" cy="1343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562720" y="2971800"/>
            <a:ext cx="1085760" cy="117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3581280" y="3429000"/>
            <a:ext cx="1390680" cy="10288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80880" y="4495680"/>
            <a:ext cx="2886120" cy="18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05320" y="228600"/>
            <a:ext cx="5638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ed for &gt;40 bit W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600200"/>
            <a:ext cx="762012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bit encryption can now be broken in less than a 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5 bit just broken with major computing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requiring &gt;40 bit encryption cannot just pay for higher bit 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- include several other options in addition to 40 bit 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5:56:27Z</dcterms:created>
  <dc:creator>Mathematics &amp; Computing Technology</dc:creator>
  <dc:description/>
  <dc:language>en-US</dc:language>
  <cp:lastModifiedBy>Mathematics &amp; Computing Technology</cp:lastModifiedBy>
  <dcterms:modified xsi:type="dcterms:W3CDTF">1999-09-14T16:33:46Z</dcterms:modified>
  <cp:revision>2</cp:revision>
  <dc:subject/>
  <dc:title>No Slide Title</dc:title>
</cp:coreProperties>
</file>