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2D5A4-B689-4661-AA01-BB2C224E25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71958-5FD5-4E71-A997-02CCB42D3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DEAE0-9376-43CA-8C95-1003D9A5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32B88-6F25-43CD-8D4B-F4561ED9D6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A13AF-85ED-4DE2-93EB-E7112C69F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C5769-991D-4546-989B-EE63080CE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FE5AE-0D57-4188-A1DC-FDB1067A5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58CC0-0F07-44D0-8F33-4187898C9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D3F9E-C400-404B-95C4-41B023D6B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70157-ED5D-4AE0-B50A-F4CE9152F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28E08-3D67-4DF3-AC21-442E1F1BD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C4808-E91D-4CD8-8A1A-82DDA8B63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750E1E0-B678-4FA0-B45C-D6EF6B0D70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9/2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94000" y="6446880"/>
            <a:ext cx="599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638680" y="6477120"/>
            <a:ext cx="292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b O’Hara, Chairman, Task Group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Tbaum@ee.rochester.edu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k Group 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tember 13-17,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ta Rosa, 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9C1EE-45A1-4F64-B8BD-0B84494742B6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 of Frequency Hop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9/195, “Algorithmically Derived Hop Sequences”, Darwin Engwer, Johnny Zwei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Tbaum@ee.rochester.ed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Edward Titlebau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 of Direct Sequ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9/191, “Universal DS Channelization”, Bob O’Ha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9437A-DC9A-4717-861F-CF600E7C5D0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ussion of International Mo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ied a set of parameters that can describe the channel allocation for FH, DS, HRDS, and OFDM PHY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d a new information element to carry the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other element, or extensions to this element will be necessary for support of hop sequence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C4D59-3E0A-4F18-835B-901419402C2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nnel Allocation El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ulatory identifier (2 octe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fetime (1 octe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sub-elements (1 oct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sub-element conta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channel center (2 oct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nel spacing (1 oct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channels (2 oct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cupied bandwidth per channel (1 oct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um transmitted power allowed (2 oct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8651E-7DBC-45F7-B333-8FE48418C69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p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fe default operation until a channel allocation element is received (1 mW Tx pow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BSS operation is in safe default mode until a channel allocation element is he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SS adopts channel allocation element heard from any(?) AP or other IBSS(?), lifetime is derivitive from original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 IBSS allow user to set regulatory inform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happens if conflicting information is received in different channel allocation elemen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EC76B-B1DF-40EB-8387-6CA1D9083DB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ldwide 5GHz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ed by Richard Paine, Boe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C 2000 does not have 5GHz on the ag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portunity to get 5GHz on the WRC 2002 agenda is during 6 weeks immediately after WRC 20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est to have 802.11 send a letter to SG8 and/or WR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D1211-57F8-43EE-B9C6-0A58D3BB190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have 802.11 send a letter to the US delegation of ITU SG8 and/or WRC suppporting the global allocation of the 5GHz band for unlicensed u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ed unanimous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8FC38-F22A-4CDA-B2A6-F5520D05B89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3T15:47:32Z</dcterms:created>
  <dc:creator>Bob O'Hara</dc:creator>
  <dc:description/>
  <cp:keywords>September 1999</cp:keywords>
  <dc:language>en-US</dc:language>
  <cp:lastModifiedBy>Bob O'Hara</cp:lastModifiedBy>
  <cp:lastPrinted>1998-02-10T13:28:06Z</cp:lastPrinted>
  <dcterms:modified xsi:type="dcterms:W3CDTF">1999-09-15T22:51:31Z</dcterms:modified>
  <cp:revision>18</cp:revision>
  <dc:subject>doc.: IEEE 802.11-99/212</dc:subject>
  <dc:title>Report from Task Group d</dc:title>
</cp:coreProperties>
</file>