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5C6EA-EFAB-4DBD-A114-B6A0D1731B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76160" y="304560"/>
            <a:ext cx="6986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31280" y="1606680"/>
            <a:ext cx="8307720" cy="217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1280" y="3986640"/>
            <a:ext cx="8307720" cy="217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99F94-1D91-4EF9-84BA-116991C617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304560"/>
            <a:ext cx="6986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31280" y="1606680"/>
            <a:ext cx="4053960" cy="217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8280" y="1606680"/>
            <a:ext cx="4053960" cy="217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31280" y="3986640"/>
            <a:ext cx="4053960" cy="217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8280" y="3986640"/>
            <a:ext cx="4053960" cy="217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584AE-976B-4289-8608-2E93EC692D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76160" y="304560"/>
            <a:ext cx="6986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31280" y="1606680"/>
            <a:ext cx="2674800" cy="217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40360" y="1606680"/>
            <a:ext cx="2674800" cy="217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49080" y="1606680"/>
            <a:ext cx="2674800" cy="217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31280" y="3986640"/>
            <a:ext cx="2674800" cy="217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40360" y="3986640"/>
            <a:ext cx="2674800" cy="217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49080" y="3986640"/>
            <a:ext cx="2674800" cy="217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B2CC8-32A1-4AC2-94DF-4E0BFA9504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26B952-6CF4-46E7-A771-296E62203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76160" y="304560"/>
            <a:ext cx="6986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31280" y="1606680"/>
            <a:ext cx="8307720" cy="45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18FB56-CD07-46EC-929B-D283C5D22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76160" y="304560"/>
            <a:ext cx="6986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31280" y="1606680"/>
            <a:ext cx="8307720" cy="455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042915-66DA-4A46-8A93-212276D03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76160" y="304560"/>
            <a:ext cx="6986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31280" y="1606680"/>
            <a:ext cx="4053960" cy="455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8280" y="1606680"/>
            <a:ext cx="4053960" cy="455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840271-56F1-440C-8684-2B190DAE6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160" y="304560"/>
            <a:ext cx="6986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56BD44-FB09-4D72-9AB3-6AB233B73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676160" y="304560"/>
            <a:ext cx="6986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E584B4-93AA-45BC-B7C4-B7A8CE6E5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76160" y="304560"/>
            <a:ext cx="6986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31280" y="1606680"/>
            <a:ext cx="4053960" cy="217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8280" y="1606680"/>
            <a:ext cx="4053960" cy="455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31280" y="3986640"/>
            <a:ext cx="4053960" cy="217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4ABA18-09DE-4CDD-9204-9BE3A854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160" y="304560"/>
            <a:ext cx="6986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31280" y="1606680"/>
            <a:ext cx="8307720" cy="45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88212-FC77-4083-AFEC-8545D58262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76160" y="304560"/>
            <a:ext cx="6986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31280" y="1606680"/>
            <a:ext cx="4053960" cy="455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8280" y="1606680"/>
            <a:ext cx="4053960" cy="217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88280" y="3986640"/>
            <a:ext cx="4053960" cy="217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35C3D9-7FB4-42FA-88B6-2B248031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304560"/>
            <a:ext cx="6986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31280" y="1606680"/>
            <a:ext cx="4053960" cy="217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8280" y="1606680"/>
            <a:ext cx="4053960" cy="217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31280" y="3986640"/>
            <a:ext cx="8307720" cy="217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CD3771-EDCE-47A6-98B2-D0BFB93FC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6160" y="304560"/>
            <a:ext cx="6986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31280" y="1606680"/>
            <a:ext cx="8307720" cy="217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1280" y="3986640"/>
            <a:ext cx="8307720" cy="217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8332C0-67F0-474A-B7EC-39FB53704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304560"/>
            <a:ext cx="6986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31280" y="1606680"/>
            <a:ext cx="4053960" cy="217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8280" y="1606680"/>
            <a:ext cx="4053960" cy="217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31280" y="3986640"/>
            <a:ext cx="4053960" cy="217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88280" y="3986640"/>
            <a:ext cx="4053960" cy="217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C4422F-2B28-4069-A4F2-D526B72DC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304560"/>
            <a:ext cx="6986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31280" y="1606680"/>
            <a:ext cx="2674800" cy="217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40360" y="1606680"/>
            <a:ext cx="2674800" cy="217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9080" y="1606680"/>
            <a:ext cx="2674800" cy="217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31280" y="3986640"/>
            <a:ext cx="2674800" cy="217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40360" y="3986640"/>
            <a:ext cx="2674800" cy="217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9080" y="3986640"/>
            <a:ext cx="2674800" cy="217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53CDC5-529A-42BC-ABDF-07308A407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160" y="304560"/>
            <a:ext cx="6986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31280" y="1606680"/>
            <a:ext cx="8307720" cy="455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C8394-D4F7-4F85-BDF9-549E831A13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160" y="304560"/>
            <a:ext cx="6986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31280" y="1606680"/>
            <a:ext cx="4053960" cy="455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8280" y="1606680"/>
            <a:ext cx="4053960" cy="455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C7001-0B79-4944-8214-1330676139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160" y="304560"/>
            <a:ext cx="6986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A6A94-E90F-4A9B-BF24-A5CC433D65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676160" y="304560"/>
            <a:ext cx="6986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9670F-DD6E-48FA-BD3C-965F22A2C2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160" y="304560"/>
            <a:ext cx="6986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1280" y="1606680"/>
            <a:ext cx="4053960" cy="217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8280" y="1606680"/>
            <a:ext cx="4053960" cy="455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31280" y="3986640"/>
            <a:ext cx="4053960" cy="217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8C052-E037-452D-9FB2-2B749D42EA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304560"/>
            <a:ext cx="6986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1280" y="1606680"/>
            <a:ext cx="4053960" cy="455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8280" y="1606680"/>
            <a:ext cx="4053960" cy="217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8280" y="3986640"/>
            <a:ext cx="4053960" cy="217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9CC91-36BA-4B6B-BBEB-89457D3904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160" y="304560"/>
            <a:ext cx="6986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1280" y="1606680"/>
            <a:ext cx="4053960" cy="217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8280" y="1606680"/>
            <a:ext cx="4053960" cy="217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31280" y="3986640"/>
            <a:ext cx="8307720" cy="217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E8078-C7DA-4595-93E7-AF2E0AFA95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304560"/>
            <a:ext cx="6986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1280" y="1606680"/>
            <a:ext cx="8307720" cy="455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380880" y="533520"/>
            <a:ext cx="990720" cy="7794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416520" y="227880"/>
            <a:ext cx="91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800600" y="3042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9/2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90720" y="5176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8BDB3EA-062D-400E-B253-EA7F406CE7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36560" y="4082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465360" y="582480"/>
            <a:ext cx="2203560" cy="17352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98C8FAC-95C5-4F6E-A31F-9727CFFEB4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dt" idx="5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9/2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7160" algn="ctr">
              <a:spcBef>
                <a:spcPts val="451"/>
              </a:spcBef>
              <a:buClr>
                <a:srgbClr val="006699"/>
              </a:buClr>
              <a:buFont typeface="Helvetic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00240" algn="ctr">
              <a:spcBef>
                <a:spcPts val="400"/>
              </a:spcBef>
              <a:buClr>
                <a:srgbClr val="006699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542960" algn="ctr">
              <a:spcBef>
                <a:spcPts val="349"/>
              </a:spcBef>
              <a:buClr>
                <a:srgbClr val="006699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54296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54296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36680" y="3946680"/>
            <a:ext cx="74674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596680"/>
            <a:ext cx="91440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ideband FH NPRM Motion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27320" y="4083120"/>
            <a:ext cx="6457680" cy="17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Ben Manny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Chair, HomeRF Working Group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ntel Corporation &lt; ben.manny@intel.com&gt;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IEEE 802.11&amp;15 Interim Meeting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eptember 15, 1999 - Santa Rosa, CA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Ben Manny, HomeRF Chai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A15CD1-3831-4B66-91C6-4B6914C5B22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76160" y="304560"/>
            <a:ext cx="6986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ground Prior to 9/13/99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33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eRF working group desires to scale performance of SWAP-CA to expand capabilities and usage 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mitted FCC letter in the Fall ‘98 requesting Part 15.247 waiver or rule change to permit wider channels with reduced power and dwell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e to waver opposition, FCC issued Part 15 NPRM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 802 issued letter opposing this rule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) Overlapped channels cause “increased interferenc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) Faster hopping “represents a more severe interference threa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) The proportional reduction in transmitted RF power will not “effectively offset the impact of wider occupied channel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) Changing the 15.247 rules to allow WBFH is not necessary, since there is “already…a standard for high speed wireless networking” that will meet all of HomeRF’s objecti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en Manny, HomeRF Chai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EED71-B4D2-49B9-90C8-A35A0BDE63E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EEE 802.11 9/13 Meeting A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712360" cy="455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eRF Working Group presented and defended paper on 9/13 that addresses these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tion included Call to Action to re-call IEEE 802 letter based on addressing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2.11 moved the HomeRF Call to Action discussion to 9/15 to permit time to reflect and discuss new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al interference impact papers presented to 802.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rther comments and papers to FCC NPRM exp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to action amend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lects need to review new interference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nt call from IEEE EMC (Electro Magnetic Compatibility)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en Manny, HomeRF Chai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5DCAE-14E0-40F8-8A53-622E8373C97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240" y="380520"/>
            <a:ext cx="69865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839080" cy="52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 to recall first letter and send in a letter of support for the rule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ligned with IEEE 802 goals of supporting regulations that permit greatest selection of best technology to meet specific market nee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does not impact the performance of existing Part 15 compliant products over current reg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enable US consumers to benefit from new wireless devices that are currently allowed in most other countries but not in the US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 to recall first letter and remain neu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individual companies comment on rule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 to request IEEE’s EMC committee to review NPRM interference impact papers and publish a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d practice to engage appropriate IEEE committ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C committee members are interested in doing the stu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en Manny, HomeRF Chai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D9314-2A88-4B29-AEE2-5B8705E0B1C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Ben Manny, HomeRF Chair</dc:creator>
  <dc:description/>
  <dc:language>en-US</dc:language>
  <cp:lastModifiedBy>Tim Godfrey</cp:lastModifiedBy>
  <cp:lastPrinted>1998-09-11T21:46:02Z</cp:lastPrinted>
  <dcterms:modified xsi:type="dcterms:W3CDTF">1999-09-15T00:32:25Z</dcterms:modified>
  <cp:revision>335</cp:revision>
  <dc:subject/>
  <dc:title>Wideband FH NPRM Motions</dc:title>
</cp:coreProperties>
</file>