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6C9D-128A-471E-BC22-F0F478038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085B-9AA0-4ABF-861B-5038EFCE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A48A-39EA-42E5-88C7-4C2C5749C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977D-69FD-4CD3-B138-EA708B9CA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7D82-A440-4CAA-AA7E-DD8E056C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CA1D-5AF8-4DEF-971C-2144A797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CA72-0046-4A00-8ABB-617960D3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B5F6-4FC5-4643-B271-2AF78C2B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F135-AC10-49F0-82AE-98AB3236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6D6C-26F5-437E-ACDB-DA5D328C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4995-0168-4BA5-8A97-496F18E8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B46D-02B3-4287-B075-91BA3243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2133A24-CD9C-477E-9585-15A5E65BF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0" y="396000"/>
            <a:ext cx="617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070r0 {802.11-99/221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838840" y="2514600"/>
            <a:ext cx="2820960" cy="3124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1066680"/>
            <a:ext cx="8305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37800" bIns="37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NOKIA HARDWARE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7800" y="3251160"/>
            <a:ext cx="31352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laf Joere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kia 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laf.Joeressen@nmp.noki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7800" y="4508640"/>
            <a:ext cx="3392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lger Hussma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kia 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lger.Hussmann@nmp.noki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960" y="1994040"/>
            <a:ext cx="2835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omas Mü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kia Mobile Ph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mas.T.Muller@noki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8428-5FFF-4C4F-BFA4-0E0A34385F6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Common Bluetooth Interfaces needed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69344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rs for common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interoperability between components (HW/SW) from different vendors (Example: H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e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/BB: most important HW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vendors on both sides of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BB solutions require stable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W/S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ly hidden in BB A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depend on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E49A-5242-44B8-A500-7E5DED5EBE1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ndard RF/BB Interface driv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dor-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-architectur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-pin 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BB integration into other A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device pin 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e proof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data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F953-48C9-4033-B6FA-C93629472EC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ies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89B2-AF40-4E2E-A3A0-3D014F97192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KIA Module: Fa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ip-Chips: RF ASIC, BB ASIC, Fl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&lt; 500 m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cl. Crys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ght: 2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ly shiel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supply: 3.0 .. 5.2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ing: 1.8 .. 3.3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3D28-9569-4F3C-BAE7-D7F1B7E116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KIA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high-IF R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time-to-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 oriented BB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MIPS consuming tasks done in H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low-level features can be added in S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HW buffers dedicated to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flexibility w.r.t. interfaces and buffer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BAA6-AD64-4F45-9801-6817C3AA522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W Bloc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17560" y="1523880"/>
            <a:ext cx="6124680" cy="44388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31120" y="4930920"/>
            <a:ext cx="1000080" cy="677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92680" y="2629080"/>
            <a:ext cx="1801800" cy="1447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33440" y="2629080"/>
            <a:ext cx="1757520" cy="1447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0960" y="2603520"/>
            <a:ext cx="1095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23000" y="2603520"/>
            <a:ext cx="1120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55760" y="2437920"/>
            <a:ext cx="362520" cy="638280"/>
            <a:chOff x="455760" y="2437920"/>
            <a:chExt cx="362520" cy="638280"/>
          </a:xfrm>
        </p:grpSpPr>
        <p:sp>
          <p:nvSpPr>
            <p:cNvPr id="64" name=""/>
            <p:cNvSpPr/>
            <p:nvPr/>
          </p:nvSpPr>
          <p:spPr>
            <a:xfrm>
              <a:off x="636120" y="2468520"/>
              <a:ext cx="0" cy="60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455760" y="2437920"/>
              <a:ext cx="194400" cy="39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623520" y="2468520"/>
              <a:ext cx="194760" cy="333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537280" y="3019320"/>
            <a:ext cx="129564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x/T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gul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clo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60720" y="3019320"/>
            <a:ext cx="1632240" cy="9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x/Tx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ARM7T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CVSD co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Applic.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69040" y="4073400"/>
            <a:ext cx="0" cy="790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9720" y="3078000"/>
            <a:ext cx="157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14720" y="3370320"/>
            <a:ext cx="165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481880" y="2986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985920" y="2913120"/>
            <a:ext cx="1700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74440" y="2579760"/>
            <a:ext cx="995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75520" y="3036960"/>
            <a:ext cx="6753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37840" y="3900600"/>
            <a:ext cx="1687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15560" y="1668600"/>
            <a:ext cx="275544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uetooth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7516440" y="3718080"/>
            <a:ext cx="1306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854840" y="3797280"/>
            <a:ext cx="12222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p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8V, 2.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3.3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932600" y="2593800"/>
            <a:ext cx="1213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.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640" y="3992400"/>
            <a:ext cx="1287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 .. 5.2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98880" y="3822840"/>
            <a:ext cx="165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61120" y="3489480"/>
            <a:ext cx="903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91400" y="4083120"/>
            <a:ext cx="0" cy="823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639960" y="4449600"/>
            <a:ext cx="318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654360" y="4083120"/>
            <a:ext cx="0" cy="36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98520" y="4175280"/>
            <a:ext cx="714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8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294080" y="2820960"/>
            <a:ext cx="9216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294080" y="3278160"/>
            <a:ext cx="9216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03720" y="29131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03720" y="3370320"/>
            <a:ext cx="307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57440" y="554688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02680" y="5454720"/>
            <a:ext cx="72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 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711760" y="4896000"/>
            <a:ext cx="558720" cy="558720"/>
            <a:chOff x="5711760" y="4896000"/>
            <a:chExt cx="558720" cy="558720"/>
          </a:xfrm>
        </p:grpSpPr>
        <p:sp>
          <p:nvSpPr>
            <p:cNvPr id="95" name=""/>
            <p:cNvSpPr/>
            <p:nvPr/>
          </p:nvSpPr>
          <p:spPr>
            <a:xfrm rot="5400000">
              <a:off x="5711760" y="4896000"/>
              <a:ext cx="558720" cy="55872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5773320" y="5037120"/>
              <a:ext cx="416160" cy="273960"/>
              <a:chOff x="5773320" y="5037120"/>
              <a:chExt cx="416160" cy="273960"/>
            </a:xfrm>
          </p:grpSpPr>
          <p:sp>
            <p:nvSpPr>
              <p:cNvPr id="97" name=""/>
              <p:cNvSpPr/>
              <p:nvPr/>
            </p:nvSpPr>
            <p:spPr>
              <a:xfrm rot="5400000">
                <a:off x="5885640" y="5119920"/>
                <a:ext cx="193320" cy="113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5880240" y="5041800"/>
                <a:ext cx="2880" cy="26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5773320" y="5176800"/>
                <a:ext cx="1112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6081840" y="5037120"/>
                <a:ext cx="2880" cy="26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6078600" y="5187600"/>
                <a:ext cx="110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2649600" y="5000760"/>
            <a:ext cx="558720" cy="558720"/>
            <a:chOff x="2649600" y="5000760"/>
            <a:chExt cx="558720" cy="558720"/>
          </a:xfrm>
        </p:grpSpPr>
        <p:sp>
          <p:nvSpPr>
            <p:cNvPr id="103" name=""/>
            <p:cNvSpPr/>
            <p:nvPr/>
          </p:nvSpPr>
          <p:spPr>
            <a:xfrm rot="5400000">
              <a:off x="2649600" y="5000760"/>
              <a:ext cx="558720" cy="55872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2711160" y="5141880"/>
              <a:ext cx="416160" cy="273960"/>
              <a:chOff x="2711160" y="5141880"/>
              <a:chExt cx="416160" cy="273960"/>
            </a:xfrm>
          </p:grpSpPr>
          <p:sp>
            <p:nvSpPr>
              <p:cNvPr id="105" name=""/>
              <p:cNvSpPr/>
              <p:nvPr/>
            </p:nvSpPr>
            <p:spPr>
              <a:xfrm rot="5400000">
                <a:off x="2823480" y="5224680"/>
                <a:ext cx="193320" cy="113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2818080" y="5146560"/>
                <a:ext cx="2880" cy="26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2711160" y="5281560"/>
                <a:ext cx="1112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3019680" y="5141880"/>
                <a:ext cx="2880" cy="269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3016440" y="5292360"/>
                <a:ext cx="1108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0" name=""/>
          <p:cNvGrpSpPr/>
          <p:nvPr/>
        </p:nvGrpSpPr>
        <p:grpSpPr>
          <a:xfrm>
            <a:off x="2739960" y="4083120"/>
            <a:ext cx="367920" cy="918360"/>
            <a:chOff x="2739960" y="4083120"/>
            <a:chExt cx="367920" cy="918360"/>
          </a:xfrm>
        </p:grpSpPr>
        <p:sp>
          <p:nvSpPr>
            <p:cNvPr id="111" name=""/>
            <p:cNvSpPr/>
            <p:nvPr/>
          </p:nvSpPr>
          <p:spPr>
            <a:xfrm>
              <a:off x="2739960" y="4083120"/>
              <a:ext cx="1440" cy="91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05720" y="4083120"/>
              <a:ext cx="2160" cy="91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848200" y="4083120"/>
            <a:ext cx="367560" cy="826200"/>
            <a:chOff x="5848200" y="4083120"/>
            <a:chExt cx="367560" cy="826200"/>
          </a:xfrm>
        </p:grpSpPr>
        <p:sp>
          <p:nvSpPr>
            <p:cNvPr id="114" name=""/>
            <p:cNvSpPr/>
            <p:nvPr/>
          </p:nvSpPr>
          <p:spPr>
            <a:xfrm>
              <a:off x="5848200" y="4083120"/>
              <a:ext cx="2160" cy="82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14320" y="4083120"/>
              <a:ext cx="1440" cy="82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4099-97BB-4E3A-AACB-92F8BF6BA3B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KIA RF P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30400" y="1600200"/>
            <a:ext cx="5345280" cy="45720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12920" y="3316320"/>
            <a:ext cx="43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112920" y="331596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12920" y="4383000"/>
            <a:ext cx="43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4000" y="2233440"/>
            <a:ext cx="471600" cy="41760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778200" y="2376360"/>
            <a:ext cx="415440" cy="1381320"/>
            <a:chOff x="3778200" y="2376360"/>
            <a:chExt cx="415440" cy="1381320"/>
          </a:xfrm>
        </p:grpSpPr>
        <p:sp>
          <p:nvSpPr>
            <p:cNvPr id="123" name=""/>
            <p:cNvSpPr/>
            <p:nvPr/>
          </p:nvSpPr>
          <p:spPr>
            <a:xfrm>
              <a:off x="3778200" y="3530520"/>
              <a:ext cx="1141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892320" y="2376360"/>
              <a:ext cx="1440" cy="11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92320" y="2376360"/>
              <a:ext cx="3013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4031280" y="2521080"/>
              <a:ext cx="1440" cy="123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31280" y="2521080"/>
              <a:ext cx="162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78200" y="3755880"/>
              <a:ext cx="2530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657680" y="2376360"/>
            <a:ext cx="415440" cy="1381320"/>
            <a:chOff x="4657680" y="2376360"/>
            <a:chExt cx="415440" cy="1381320"/>
          </a:xfrm>
        </p:grpSpPr>
        <p:sp>
          <p:nvSpPr>
            <p:cNvPr id="130" name=""/>
            <p:cNvSpPr/>
            <p:nvPr/>
          </p:nvSpPr>
          <p:spPr>
            <a:xfrm flipH="1">
              <a:off x="4958280" y="3530520"/>
              <a:ext cx="1141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4958640" y="2376360"/>
              <a:ext cx="1800" cy="1154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4657680" y="2376360"/>
              <a:ext cx="3009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819680" y="2521080"/>
              <a:ext cx="1800" cy="123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4657680" y="2521080"/>
              <a:ext cx="16200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819680" y="3755880"/>
              <a:ext cx="2534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264200" y="2274840"/>
            <a:ext cx="323280" cy="328680"/>
            <a:chOff x="4264200" y="2274840"/>
            <a:chExt cx="323280" cy="328680"/>
          </a:xfrm>
        </p:grpSpPr>
        <p:sp>
          <p:nvSpPr>
            <p:cNvPr id="137" name=""/>
            <p:cNvSpPr/>
            <p:nvPr/>
          </p:nvSpPr>
          <p:spPr>
            <a:xfrm>
              <a:off x="4264200" y="2370240"/>
              <a:ext cx="323280" cy="13320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64200" y="2370240"/>
              <a:ext cx="323280" cy="13320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64200" y="2468520"/>
              <a:ext cx="323280" cy="135000"/>
            </a:xfrm>
            <a:custGeom>
              <a:avLst/>
              <a:gdLst/>
              <a:ahLst/>
              <a:rect l="l" t="t" r="r" b="b"/>
              <a:pathLst>
                <a:path w="181" h="85">
                  <a:moveTo>
                    <a:pt x="0" y="33"/>
                  </a:moveTo>
                  <a:lnTo>
                    <a:pt x="1" y="31"/>
                  </a:lnTo>
                  <a:lnTo>
                    <a:pt x="3" y="28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6" y="19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4"/>
                  </a:lnTo>
                  <a:lnTo>
                    <a:pt x="53" y="4"/>
                  </a:lnTo>
                  <a:lnTo>
                    <a:pt x="53" y="7"/>
                  </a:lnTo>
                  <a:lnTo>
                    <a:pt x="55" y="7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2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8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2"/>
                  </a:lnTo>
                  <a:lnTo>
                    <a:pt x="72" y="22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7"/>
                  </a:lnTo>
                  <a:lnTo>
                    <a:pt x="78" y="28"/>
                  </a:lnTo>
                  <a:lnTo>
                    <a:pt x="78" y="30"/>
                  </a:lnTo>
                  <a:lnTo>
                    <a:pt x="78" y="31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7"/>
                  </a:lnTo>
                  <a:lnTo>
                    <a:pt x="83" y="37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3"/>
                  </a:lnTo>
                  <a:lnTo>
                    <a:pt x="87" y="43"/>
                  </a:lnTo>
                  <a:lnTo>
                    <a:pt x="87" y="44"/>
                  </a:lnTo>
                  <a:lnTo>
                    <a:pt x="89" y="45"/>
                  </a:lnTo>
                  <a:lnTo>
                    <a:pt x="89" y="49"/>
                  </a:lnTo>
                  <a:lnTo>
                    <a:pt x="90" y="49"/>
                  </a:lnTo>
                  <a:lnTo>
                    <a:pt x="92" y="50"/>
                  </a:lnTo>
                  <a:lnTo>
                    <a:pt x="92" y="52"/>
                  </a:lnTo>
                  <a:lnTo>
                    <a:pt x="93" y="52"/>
                  </a:lnTo>
                  <a:lnTo>
                    <a:pt x="93" y="53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8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7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2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11" y="75"/>
                  </a:lnTo>
                  <a:lnTo>
                    <a:pt x="113" y="75"/>
                  </a:lnTo>
                  <a:lnTo>
                    <a:pt x="115" y="75"/>
                  </a:lnTo>
                  <a:lnTo>
                    <a:pt x="115" y="78"/>
                  </a:lnTo>
                  <a:lnTo>
                    <a:pt x="117" y="78"/>
                  </a:lnTo>
                  <a:lnTo>
                    <a:pt x="117" y="80"/>
                  </a:lnTo>
                  <a:lnTo>
                    <a:pt x="117" y="80"/>
                  </a:lnTo>
                  <a:lnTo>
                    <a:pt x="117" y="81"/>
                  </a:lnTo>
                  <a:lnTo>
                    <a:pt x="120" y="81"/>
                  </a:lnTo>
                  <a:lnTo>
                    <a:pt x="120" y="83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5"/>
                  </a:lnTo>
                  <a:lnTo>
                    <a:pt x="148" y="85"/>
                  </a:lnTo>
                  <a:lnTo>
                    <a:pt x="148" y="84"/>
                  </a:lnTo>
                  <a:lnTo>
                    <a:pt x="152" y="84"/>
                  </a:lnTo>
                  <a:lnTo>
                    <a:pt x="152" y="83"/>
                  </a:lnTo>
                  <a:lnTo>
                    <a:pt x="153" y="82"/>
                  </a:lnTo>
                  <a:lnTo>
                    <a:pt x="156" y="82"/>
                  </a:lnTo>
                  <a:lnTo>
                    <a:pt x="159" y="79"/>
                  </a:lnTo>
                  <a:lnTo>
                    <a:pt x="160" y="79"/>
                  </a:lnTo>
                  <a:lnTo>
                    <a:pt x="160" y="77"/>
                  </a:lnTo>
                  <a:lnTo>
                    <a:pt x="161" y="77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8"/>
                  </a:lnTo>
                  <a:lnTo>
                    <a:pt x="172" y="67"/>
                  </a:lnTo>
                  <a:lnTo>
                    <a:pt x="172" y="65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50"/>
                  </a:lnTo>
                  <a:lnTo>
                    <a:pt x="181" y="50"/>
                  </a:lnTo>
                  <a:lnTo>
                    <a:pt x="181" y="48"/>
                  </a:lnTo>
                  <a:lnTo>
                    <a:pt x="181" y="48"/>
                  </a:lnTo>
                  <a:lnTo>
                    <a:pt x="181" y="44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4200" y="2468520"/>
              <a:ext cx="323280" cy="135000"/>
            </a:xfrm>
            <a:custGeom>
              <a:avLst/>
              <a:gdLst/>
              <a:ahLst/>
              <a:rect l="l" t="t" r="r" b="b"/>
              <a:pathLst>
                <a:path w="181" h="85">
                  <a:moveTo>
                    <a:pt x="0" y="33"/>
                  </a:moveTo>
                  <a:lnTo>
                    <a:pt x="1" y="31"/>
                  </a:lnTo>
                  <a:lnTo>
                    <a:pt x="3" y="28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6" y="19"/>
                  </a:lnTo>
                  <a:lnTo>
                    <a:pt x="8" y="17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4"/>
                  </a:lnTo>
                  <a:lnTo>
                    <a:pt x="53" y="4"/>
                  </a:lnTo>
                  <a:lnTo>
                    <a:pt x="53" y="7"/>
                  </a:lnTo>
                  <a:lnTo>
                    <a:pt x="55" y="7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2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8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2"/>
                  </a:lnTo>
                  <a:lnTo>
                    <a:pt x="72" y="22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7"/>
                  </a:lnTo>
                  <a:lnTo>
                    <a:pt x="78" y="28"/>
                  </a:lnTo>
                  <a:lnTo>
                    <a:pt x="78" y="30"/>
                  </a:lnTo>
                  <a:lnTo>
                    <a:pt x="78" y="31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7"/>
                  </a:lnTo>
                  <a:lnTo>
                    <a:pt x="83" y="37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3"/>
                  </a:lnTo>
                  <a:lnTo>
                    <a:pt x="87" y="43"/>
                  </a:lnTo>
                  <a:lnTo>
                    <a:pt x="87" y="44"/>
                  </a:lnTo>
                  <a:lnTo>
                    <a:pt x="89" y="45"/>
                  </a:lnTo>
                  <a:lnTo>
                    <a:pt x="89" y="49"/>
                  </a:lnTo>
                  <a:lnTo>
                    <a:pt x="90" y="49"/>
                  </a:lnTo>
                  <a:lnTo>
                    <a:pt x="92" y="50"/>
                  </a:lnTo>
                  <a:lnTo>
                    <a:pt x="92" y="52"/>
                  </a:lnTo>
                  <a:lnTo>
                    <a:pt x="93" y="52"/>
                  </a:lnTo>
                  <a:lnTo>
                    <a:pt x="93" y="53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8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7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2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11" y="75"/>
                  </a:lnTo>
                  <a:lnTo>
                    <a:pt x="113" y="75"/>
                  </a:lnTo>
                  <a:lnTo>
                    <a:pt x="115" y="75"/>
                  </a:lnTo>
                  <a:lnTo>
                    <a:pt x="115" y="78"/>
                  </a:lnTo>
                  <a:lnTo>
                    <a:pt x="117" y="78"/>
                  </a:lnTo>
                  <a:lnTo>
                    <a:pt x="117" y="80"/>
                  </a:lnTo>
                  <a:lnTo>
                    <a:pt x="117" y="80"/>
                  </a:lnTo>
                  <a:lnTo>
                    <a:pt x="117" y="81"/>
                  </a:lnTo>
                  <a:lnTo>
                    <a:pt x="120" y="81"/>
                  </a:lnTo>
                  <a:lnTo>
                    <a:pt x="120" y="83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5"/>
                  </a:lnTo>
                  <a:lnTo>
                    <a:pt x="148" y="85"/>
                  </a:lnTo>
                  <a:lnTo>
                    <a:pt x="148" y="84"/>
                  </a:lnTo>
                  <a:lnTo>
                    <a:pt x="152" y="84"/>
                  </a:lnTo>
                  <a:lnTo>
                    <a:pt x="152" y="83"/>
                  </a:lnTo>
                  <a:lnTo>
                    <a:pt x="153" y="82"/>
                  </a:lnTo>
                  <a:lnTo>
                    <a:pt x="156" y="82"/>
                  </a:lnTo>
                  <a:lnTo>
                    <a:pt x="159" y="79"/>
                  </a:lnTo>
                  <a:lnTo>
                    <a:pt x="160" y="79"/>
                  </a:lnTo>
                  <a:lnTo>
                    <a:pt x="160" y="77"/>
                  </a:lnTo>
                  <a:lnTo>
                    <a:pt x="161" y="77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1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8"/>
                  </a:lnTo>
                  <a:lnTo>
                    <a:pt x="172" y="67"/>
                  </a:lnTo>
                  <a:lnTo>
                    <a:pt x="172" y="65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50"/>
                  </a:lnTo>
                  <a:lnTo>
                    <a:pt x="181" y="50"/>
                  </a:lnTo>
                  <a:lnTo>
                    <a:pt x="181" y="48"/>
                  </a:lnTo>
                  <a:lnTo>
                    <a:pt x="181" y="48"/>
                  </a:lnTo>
                  <a:lnTo>
                    <a:pt x="181" y="4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4380480" y="2520720"/>
              <a:ext cx="112320" cy="60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64200" y="2274840"/>
              <a:ext cx="323280" cy="13356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64200" y="2274840"/>
              <a:ext cx="323280" cy="133560"/>
            </a:xfrm>
            <a:custGeom>
              <a:avLst/>
              <a:gdLst/>
              <a:ahLst/>
              <a:rect l="l" t="t" r="r" b="b"/>
              <a:pathLst>
                <a:path w="181" h="84">
                  <a:moveTo>
                    <a:pt x="0" y="33"/>
                  </a:moveTo>
                  <a:lnTo>
                    <a:pt x="1" y="30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8" y="16"/>
                  </a:lnTo>
                  <a:lnTo>
                    <a:pt x="8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7" y="2"/>
                  </a:lnTo>
                  <a:lnTo>
                    <a:pt x="28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58" y="9"/>
                  </a:lnTo>
                  <a:lnTo>
                    <a:pt x="59" y="10"/>
                  </a:lnTo>
                  <a:lnTo>
                    <a:pt x="61" y="10"/>
                  </a:lnTo>
                  <a:lnTo>
                    <a:pt x="62" y="11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4"/>
                  </a:lnTo>
                  <a:lnTo>
                    <a:pt x="66" y="15"/>
                  </a:lnTo>
                  <a:lnTo>
                    <a:pt x="67" y="15"/>
                  </a:lnTo>
                  <a:lnTo>
                    <a:pt x="69" y="17"/>
                  </a:lnTo>
                  <a:lnTo>
                    <a:pt x="69" y="19"/>
                  </a:lnTo>
                  <a:lnTo>
                    <a:pt x="70" y="19"/>
                  </a:lnTo>
                  <a:lnTo>
                    <a:pt x="70" y="21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5" y="24"/>
                  </a:lnTo>
                  <a:lnTo>
                    <a:pt x="76" y="24"/>
                  </a:lnTo>
                  <a:lnTo>
                    <a:pt x="76" y="25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80" y="33"/>
                  </a:lnTo>
                  <a:lnTo>
                    <a:pt x="81" y="33"/>
                  </a:lnTo>
                  <a:lnTo>
                    <a:pt x="81" y="35"/>
                  </a:lnTo>
                  <a:lnTo>
                    <a:pt x="83" y="35"/>
                  </a:lnTo>
                  <a:lnTo>
                    <a:pt x="83" y="39"/>
                  </a:lnTo>
                  <a:lnTo>
                    <a:pt x="85" y="39"/>
                  </a:lnTo>
                  <a:lnTo>
                    <a:pt x="85" y="41"/>
                  </a:lnTo>
                  <a:lnTo>
                    <a:pt x="87" y="42"/>
                  </a:lnTo>
                  <a:lnTo>
                    <a:pt x="87" y="42"/>
                  </a:lnTo>
                  <a:lnTo>
                    <a:pt x="87" y="43"/>
                  </a:lnTo>
                  <a:lnTo>
                    <a:pt x="89" y="45"/>
                  </a:lnTo>
                  <a:lnTo>
                    <a:pt x="89" y="47"/>
                  </a:lnTo>
                  <a:lnTo>
                    <a:pt x="90" y="47"/>
                  </a:lnTo>
                  <a:lnTo>
                    <a:pt x="92" y="49"/>
                  </a:lnTo>
                  <a:lnTo>
                    <a:pt x="92" y="51"/>
                  </a:lnTo>
                  <a:lnTo>
                    <a:pt x="93" y="51"/>
                  </a:lnTo>
                  <a:lnTo>
                    <a:pt x="93" y="52"/>
                  </a:lnTo>
                  <a:lnTo>
                    <a:pt x="96" y="54"/>
                  </a:lnTo>
                  <a:lnTo>
                    <a:pt x="96" y="55"/>
                  </a:lnTo>
                  <a:lnTo>
                    <a:pt x="97" y="56"/>
                  </a:lnTo>
                  <a:lnTo>
                    <a:pt x="97" y="59"/>
                  </a:lnTo>
                  <a:lnTo>
                    <a:pt x="99" y="60"/>
                  </a:lnTo>
                  <a:lnTo>
                    <a:pt x="100" y="60"/>
                  </a:lnTo>
                  <a:lnTo>
                    <a:pt x="100" y="61"/>
                  </a:lnTo>
                  <a:lnTo>
                    <a:pt x="102" y="63"/>
                  </a:lnTo>
                  <a:lnTo>
                    <a:pt x="102" y="65"/>
                  </a:lnTo>
                  <a:lnTo>
                    <a:pt x="103" y="65"/>
                  </a:lnTo>
                  <a:lnTo>
                    <a:pt x="105" y="66"/>
                  </a:lnTo>
                  <a:lnTo>
                    <a:pt x="106" y="69"/>
                  </a:lnTo>
                  <a:lnTo>
                    <a:pt x="106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09" y="71"/>
                  </a:lnTo>
                  <a:lnTo>
                    <a:pt x="109" y="72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5" y="77"/>
                  </a:lnTo>
                  <a:lnTo>
                    <a:pt x="117" y="77"/>
                  </a:lnTo>
                  <a:lnTo>
                    <a:pt x="117" y="79"/>
                  </a:lnTo>
                  <a:lnTo>
                    <a:pt x="117" y="79"/>
                  </a:lnTo>
                  <a:lnTo>
                    <a:pt x="117" y="80"/>
                  </a:lnTo>
                  <a:lnTo>
                    <a:pt x="120" y="80"/>
                  </a:lnTo>
                  <a:lnTo>
                    <a:pt x="120" y="82"/>
                  </a:lnTo>
                  <a:lnTo>
                    <a:pt x="122" y="83"/>
                  </a:lnTo>
                  <a:lnTo>
                    <a:pt x="127" y="83"/>
                  </a:lnTo>
                  <a:lnTo>
                    <a:pt x="129" y="84"/>
                  </a:lnTo>
                  <a:lnTo>
                    <a:pt x="148" y="84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2" y="83"/>
                  </a:lnTo>
                  <a:lnTo>
                    <a:pt x="153" y="81"/>
                  </a:lnTo>
                  <a:lnTo>
                    <a:pt x="156" y="81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0" y="76"/>
                  </a:lnTo>
                  <a:lnTo>
                    <a:pt x="161" y="76"/>
                  </a:lnTo>
                  <a:lnTo>
                    <a:pt x="162" y="75"/>
                  </a:lnTo>
                  <a:lnTo>
                    <a:pt x="165" y="75"/>
                  </a:lnTo>
                  <a:lnTo>
                    <a:pt x="165" y="73"/>
                  </a:lnTo>
                  <a:lnTo>
                    <a:pt x="166" y="73"/>
                  </a:lnTo>
                  <a:lnTo>
                    <a:pt x="166" y="72"/>
                  </a:lnTo>
                  <a:lnTo>
                    <a:pt x="168" y="72"/>
                  </a:lnTo>
                  <a:lnTo>
                    <a:pt x="169" y="70"/>
                  </a:lnTo>
                  <a:lnTo>
                    <a:pt x="169" y="70"/>
                  </a:lnTo>
                  <a:lnTo>
                    <a:pt x="171" y="70"/>
                  </a:lnTo>
                  <a:lnTo>
                    <a:pt x="171" y="67"/>
                  </a:lnTo>
                  <a:lnTo>
                    <a:pt x="172" y="66"/>
                  </a:lnTo>
                  <a:lnTo>
                    <a:pt x="172" y="64"/>
                  </a:lnTo>
                  <a:lnTo>
                    <a:pt x="175" y="64"/>
                  </a:lnTo>
                  <a:lnTo>
                    <a:pt x="176" y="64"/>
                  </a:lnTo>
                  <a:lnTo>
                    <a:pt x="176" y="61"/>
                  </a:lnTo>
                  <a:lnTo>
                    <a:pt x="178" y="61"/>
                  </a:lnTo>
                  <a:lnTo>
                    <a:pt x="178" y="55"/>
                  </a:lnTo>
                  <a:lnTo>
                    <a:pt x="178" y="53"/>
                  </a:lnTo>
                  <a:lnTo>
                    <a:pt x="178" y="49"/>
                  </a:lnTo>
                  <a:lnTo>
                    <a:pt x="181" y="49"/>
                  </a:lnTo>
                  <a:lnTo>
                    <a:pt x="181" y="46"/>
                  </a:lnTo>
                  <a:lnTo>
                    <a:pt x="181" y="46"/>
                  </a:lnTo>
                  <a:lnTo>
                    <a:pt x="181" y="44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380480" y="2295360"/>
              <a:ext cx="112320" cy="58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5621400" y="2233440"/>
            <a:ext cx="469800" cy="41760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51440" y="2644920"/>
            <a:ext cx="3240" cy="24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872320" y="2436840"/>
            <a:ext cx="1378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75200" y="2481120"/>
            <a:ext cx="1396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2160" y="2332080"/>
            <a:ext cx="1440" cy="1047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942160" y="2476080"/>
            <a:ext cx="1440" cy="103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5686560" y="2311560"/>
            <a:ext cx="144360" cy="271080"/>
            <a:chOff x="5686560" y="2311560"/>
            <a:chExt cx="144360" cy="271080"/>
          </a:xfrm>
        </p:grpSpPr>
        <p:sp>
          <p:nvSpPr>
            <p:cNvPr id="152" name=""/>
            <p:cNvSpPr/>
            <p:nvPr/>
          </p:nvSpPr>
          <p:spPr>
            <a:xfrm>
              <a:off x="5686560" y="2314440"/>
              <a:ext cx="144360" cy="8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" y="10421"/>
                  </a:moveTo>
                  <a:arcTo wR="10800" hR="10800" stAng="-10679427" swAng="5197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7" y="10421"/>
                  </a:moveTo>
                  <a:arcTo wR="10800" hR="10800" stAng="-10679427" swAng="5197040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86560" y="2314440"/>
              <a:ext cx="144360" cy="8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" y="10421"/>
                  </a:moveTo>
                  <a:arcTo wR="10800" hR="10800" stAng="-10679427" swAng="5197040"/>
                  <a:lnTo>
                    <a:pt x="10800" y="10800"/>
                  </a:lnTo>
                  <a:close/>
                </a:path>
                <a:path fill="none" w="21600" h="21600">
                  <a:moveTo>
                    <a:pt x="7" y="10421"/>
                  </a:moveTo>
                  <a:arcTo wR="10800" hR="10800" stAng="-10679427" swAng="5197040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86560" y="231156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686560" y="231156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86560" y="240336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86560" y="240336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86560" y="239868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86560" y="2398680"/>
              <a:ext cx="14400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2" y="21597"/>
                  </a:moveTo>
                  <a:arcTo wR="10800" hR="10800" stAng="5485327" swAng="54352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2" y="21597"/>
                  </a:moveTo>
                  <a:arcTo wR="10800" hR="10800" stAng="5485327" swAng="5435246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86560" y="249084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86560" y="2490840"/>
              <a:ext cx="1443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4"/>
                  </a:moveTo>
                  <a:arcTo wR="10800" hR="10800" stAng="-10683511" swAng="5201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4"/>
                  </a:moveTo>
                  <a:arcTo wR="10800" hR="10800" stAng="-10683511" swAng="5201077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86560" y="2495880"/>
              <a:ext cx="144000" cy="8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7" y="21597"/>
                  </a:moveTo>
                  <a:arcTo wR="10800" hR="10800" stAng="5483831" swAng="54434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7" y="21597"/>
                  </a:moveTo>
                  <a:arcTo wR="10800" hR="10800" stAng="5483831" swAng="5443434"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86560" y="2495880"/>
              <a:ext cx="144000" cy="84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7" y="21597"/>
                  </a:moveTo>
                  <a:arcTo wR="10800" hR="10800" stAng="5483831" swAng="54434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7" y="21597"/>
                  </a:moveTo>
                  <a:arcTo wR="10800" hR="10800" stAng="5483831" swAng="5443434"/>
                </a:path>
              </a:pathLst>
            </a:cu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3916080" y="1832040"/>
            <a:ext cx="109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W 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718240" y="1647720"/>
            <a:ext cx="1472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rim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1487160" y="560232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84040" y="1792440"/>
            <a:ext cx="981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3240" y="5678640"/>
            <a:ext cx="1287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 .. 5.2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65360" y="3040200"/>
            <a:ext cx="1440" cy="83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65360" y="3882960"/>
            <a:ext cx="482400" cy="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665360" y="3039840"/>
            <a:ext cx="120600" cy="20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7640" y="3040200"/>
            <a:ext cx="117720" cy="207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63800" y="3675240"/>
            <a:ext cx="471600" cy="41724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27280" y="3882960"/>
            <a:ext cx="23040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157480" y="3675240"/>
            <a:ext cx="472680" cy="417240"/>
            <a:chOff x="2157480" y="3675240"/>
            <a:chExt cx="472680" cy="417240"/>
          </a:xfrm>
        </p:grpSpPr>
        <p:sp>
          <p:nvSpPr>
            <p:cNvPr id="176" name=""/>
            <p:cNvSpPr/>
            <p:nvPr/>
          </p:nvSpPr>
          <p:spPr>
            <a:xfrm>
              <a:off x="2157480" y="3675240"/>
              <a:ext cx="472680" cy="41724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2221200" y="3727440"/>
              <a:ext cx="324720" cy="326160"/>
              <a:chOff x="2221200" y="3727440"/>
              <a:chExt cx="324720" cy="326160"/>
            </a:xfrm>
          </p:grpSpPr>
          <p:sp>
            <p:nvSpPr>
              <p:cNvPr id="178" name=""/>
              <p:cNvSpPr/>
              <p:nvPr/>
            </p:nvSpPr>
            <p:spPr>
              <a:xfrm>
                <a:off x="2221200" y="3822120"/>
                <a:ext cx="324720" cy="13320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6"/>
                    </a:lnTo>
                    <a:lnTo>
                      <a:pt x="59" y="6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6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6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221200" y="3822120"/>
                <a:ext cx="324720" cy="13320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6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6"/>
                    </a:lnTo>
                    <a:lnTo>
                      <a:pt x="59" y="6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6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6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</a:path>
                </a:pathLst>
              </a:custGeom>
              <a:solidFill>
                <a:srgbClr val="ffff99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221200" y="3920760"/>
                <a:ext cx="324720" cy="13284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3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9" y="17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7" y="2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2"/>
                    </a:lnTo>
                    <a:lnTo>
                      <a:pt x="51" y="2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6"/>
                    </a:lnTo>
                    <a:lnTo>
                      <a:pt x="55" y="6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9"/>
                    </a:lnTo>
                    <a:lnTo>
                      <a:pt x="60" y="10"/>
                    </a:lnTo>
                    <a:lnTo>
                      <a:pt x="61" y="10"/>
                    </a:lnTo>
                    <a:lnTo>
                      <a:pt x="63" y="11"/>
                    </a:lnTo>
                    <a:lnTo>
                      <a:pt x="63" y="13"/>
                    </a:lnTo>
                    <a:lnTo>
                      <a:pt x="64" y="13"/>
                    </a:lnTo>
                    <a:lnTo>
                      <a:pt x="66" y="14"/>
                    </a:lnTo>
                    <a:lnTo>
                      <a:pt x="66" y="16"/>
                    </a:lnTo>
                    <a:lnTo>
                      <a:pt x="67" y="16"/>
                    </a:lnTo>
                    <a:lnTo>
                      <a:pt x="70" y="18"/>
                    </a:lnTo>
                    <a:lnTo>
                      <a:pt x="70" y="19"/>
                    </a:lnTo>
                    <a:lnTo>
                      <a:pt x="71" y="19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3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6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2"/>
                    </a:lnTo>
                    <a:lnTo>
                      <a:pt x="81" y="33"/>
                    </a:lnTo>
                    <a:lnTo>
                      <a:pt x="82" y="33"/>
                    </a:lnTo>
                    <a:lnTo>
                      <a:pt x="82" y="36"/>
                    </a:lnTo>
                    <a:lnTo>
                      <a:pt x="84" y="36"/>
                    </a:lnTo>
                    <a:lnTo>
                      <a:pt x="84" y="39"/>
                    </a:lnTo>
                    <a:lnTo>
                      <a:pt x="85" y="39"/>
                    </a:lnTo>
                    <a:lnTo>
                      <a:pt x="85" y="41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6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4"/>
                    </a:lnTo>
                    <a:lnTo>
                      <a:pt x="96" y="56"/>
                    </a:lnTo>
                    <a:lnTo>
                      <a:pt x="97" y="57"/>
                    </a:lnTo>
                    <a:lnTo>
                      <a:pt x="97" y="59"/>
                    </a:lnTo>
                    <a:lnTo>
                      <a:pt x="100" y="60"/>
                    </a:lnTo>
                    <a:lnTo>
                      <a:pt x="100" y="60"/>
                    </a:lnTo>
                    <a:lnTo>
                      <a:pt x="100" y="61"/>
                    </a:lnTo>
                    <a:lnTo>
                      <a:pt x="103" y="63"/>
                    </a:lnTo>
                    <a:lnTo>
                      <a:pt x="103" y="66"/>
                    </a:lnTo>
                    <a:lnTo>
                      <a:pt x="103" y="66"/>
                    </a:lnTo>
                    <a:lnTo>
                      <a:pt x="105" y="67"/>
                    </a:lnTo>
                    <a:lnTo>
                      <a:pt x="106" y="69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6"/>
                    </a:lnTo>
                    <a:lnTo>
                      <a:pt x="114" y="78"/>
                    </a:lnTo>
                    <a:lnTo>
                      <a:pt x="116" y="78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3"/>
                    </a:lnTo>
                    <a:lnTo>
                      <a:pt x="127" y="83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3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7"/>
                    </a:lnTo>
                    <a:lnTo>
                      <a:pt x="162" y="77"/>
                    </a:lnTo>
                    <a:lnTo>
                      <a:pt x="163" y="76"/>
                    </a:lnTo>
                    <a:lnTo>
                      <a:pt x="165" y="76"/>
                    </a:lnTo>
                    <a:lnTo>
                      <a:pt x="165" y="73"/>
                    </a:lnTo>
                    <a:lnTo>
                      <a:pt x="166" y="73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8"/>
                    </a:lnTo>
                    <a:lnTo>
                      <a:pt x="172" y="67"/>
                    </a:lnTo>
                    <a:lnTo>
                      <a:pt x="172" y="64"/>
                    </a:lnTo>
                    <a:lnTo>
                      <a:pt x="175" y="64"/>
                    </a:lnTo>
                    <a:lnTo>
                      <a:pt x="175" y="64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6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7"/>
                    </a:lnTo>
                    <a:lnTo>
                      <a:pt x="182" y="47"/>
                    </a:lnTo>
                    <a:lnTo>
                      <a:pt x="182" y="44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221200" y="3920760"/>
                <a:ext cx="324720" cy="13284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3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6"/>
                    </a:lnTo>
                    <a:lnTo>
                      <a:pt x="5" y="24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9"/>
                    </a:lnTo>
                    <a:lnTo>
                      <a:pt x="9" y="17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3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3"/>
                    </a:lnTo>
                    <a:lnTo>
                      <a:pt x="22" y="3"/>
                    </a:lnTo>
                    <a:lnTo>
                      <a:pt x="22" y="2"/>
                    </a:lnTo>
                    <a:lnTo>
                      <a:pt x="27" y="2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2"/>
                    </a:lnTo>
                    <a:lnTo>
                      <a:pt x="51" y="2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6"/>
                    </a:lnTo>
                    <a:lnTo>
                      <a:pt x="55" y="6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9"/>
                    </a:lnTo>
                    <a:lnTo>
                      <a:pt x="60" y="10"/>
                    </a:lnTo>
                    <a:lnTo>
                      <a:pt x="61" y="10"/>
                    </a:lnTo>
                    <a:lnTo>
                      <a:pt x="63" y="11"/>
                    </a:lnTo>
                    <a:lnTo>
                      <a:pt x="63" y="13"/>
                    </a:lnTo>
                    <a:lnTo>
                      <a:pt x="64" y="13"/>
                    </a:lnTo>
                    <a:lnTo>
                      <a:pt x="66" y="14"/>
                    </a:lnTo>
                    <a:lnTo>
                      <a:pt x="66" y="16"/>
                    </a:lnTo>
                    <a:lnTo>
                      <a:pt x="67" y="16"/>
                    </a:lnTo>
                    <a:lnTo>
                      <a:pt x="70" y="18"/>
                    </a:lnTo>
                    <a:lnTo>
                      <a:pt x="70" y="19"/>
                    </a:lnTo>
                    <a:lnTo>
                      <a:pt x="71" y="19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3"/>
                    </a:lnTo>
                    <a:lnTo>
                      <a:pt x="75" y="24"/>
                    </a:lnTo>
                    <a:lnTo>
                      <a:pt x="75" y="24"/>
                    </a:lnTo>
                    <a:lnTo>
                      <a:pt x="75" y="26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2"/>
                    </a:lnTo>
                    <a:lnTo>
                      <a:pt x="81" y="33"/>
                    </a:lnTo>
                    <a:lnTo>
                      <a:pt x="82" y="33"/>
                    </a:lnTo>
                    <a:lnTo>
                      <a:pt x="82" y="36"/>
                    </a:lnTo>
                    <a:lnTo>
                      <a:pt x="84" y="36"/>
                    </a:lnTo>
                    <a:lnTo>
                      <a:pt x="84" y="39"/>
                    </a:lnTo>
                    <a:lnTo>
                      <a:pt x="85" y="39"/>
                    </a:lnTo>
                    <a:lnTo>
                      <a:pt x="85" y="41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6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4"/>
                    </a:lnTo>
                    <a:lnTo>
                      <a:pt x="96" y="56"/>
                    </a:lnTo>
                    <a:lnTo>
                      <a:pt x="97" y="57"/>
                    </a:lnTo>
                    <a:lnTo>
                      <a:pt x="97" y="59"/>
                    </a:lnTo>
                    <a:lnTo>
                      <a:pt x="100" y="60"/>
                    </a:lnTo>
                    <a:lnTo>
                      <a:pt x="100" y="60"/>
                    </a:lnTo>
                    <a:lnTo>
                      <a:pt x="100" y="61"/>
                    </a:lnTo>
                    <a:lnTo>
                      <a:pt x="103" y="63"/>
                    </a:lnTo>
                    <a:lnTo>
                      <a:pt x="103" y="66"/>
                    </a:lnTo>
                    <a:lnTo>
                      <a:pt x="103" y="66"/>
                    </a:lnTo>
                    <a:lnTo>
                      <a:pt x="105" y="67"/>
                    </a:lnTo>
                    <a:lnTo>
                      <a:pt x="106" y="69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6"/>
                    </a:lnTo>
                    <a:lnTo>
                      <a:pt x="114" y="78"/>
                    </a:lnTo>
                    <a:lnTo>
                      <a:pt x="116" y="78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3"/>
                    </a:lnTo>
                    <a:lnTo>
                      <a:pt x="127" y="83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3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7"/>
                    </a:lnTo>
                    <a:lnTo>
                      <a:pt x="162" y="77"/>
                    </a:lnTo>
                    <a:lnTo>
                      <a:pt x="163" y="76"/>
                    </a:lnTo>
                    <a:lnTo>
                      <a:pt x="165" y="76"/>
                    </a:lnTo>
                    <a:lnTo>
                      <a:pt x="165" y="73"/>
                    </a:lnTo>
                    <a:lnTo>
                      <a:pt x="166" y="73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8"/>
                    </a:lnTo>
                    <a:lnTo>
                      <a:pt x="172" y="67"/>
                    </a:lnTo>
                    <a:lnTo>
                      <a:pt x="172" y="64"/>
                    </a:lnTo>
                    <a:lnTo>
                      <a:pt x="175" y="64"/>
                    </a:lnTo>
                    <a:lnTo>
                      <a:pt x="175" y="64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6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7"/>
                    </a:lnTo>
                    <a:lnTo>
                      <a:pt x="182" y="47"/>
                    </a:lnTo>
                    <a:lnTo>
                      <a:pt x="182" y="44"/>
                    </a:lnTo>
                  </a:path>
                </a:pathLst>
              </a:custGeom>
              <a:solidFill>
                <a:srgbClr val="ffff99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2337120" y="3972960"/>
                <a:ext cx="110160" cy="583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221200" y="3727440"/>
                <a:ext cx="324720" cy="13284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7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221200" y="3727440"/>
                <a:ext cx="324720" cy="132840"/>
              </a:xfrm>
              <a:custGeom>
                <a:avLst/>
                <a:gdLst/>
                <a:ahLst/>
                <a:rect l="l" t="t" r="r" b="b"/>
                <a:pathLst>
                  <a:path w="182" h="84">
                    <a:moveTo>
                      <a:pt x="0" y="32"/>
                    </a:moveTo>
                    <a:lnTo>
                      <a:pt x="2" y="30"/>
                    </a:lnTo>
                    <a:lnTo>
                      <a:pt x="3" y="28"/>
                    </a:lnTo>
                    <a:lnTo>
                      <a:pt x="3" y="24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6" y="21"/>
                    </a:lnTo>
                    <a:lnTo>
                      <a:pt x="6" y="18"/>
                    </a:lnTo>
                    <a:lnTo>
                      <a:pt x="9" y="15"/>
                    </a:lnTo>
                    <a:lnTo>
                      <a:pt x="9" y="13"/>
                    </a:lnTo>
                    <a:lnTo>
                      <a:pt x="10" y="13"/>
                    </a:lnTo>
                    <a:lnTo>
                      <a:pt x="10" y="12"/>
                    </a:lnTo>
                    <a:lnTo>
                      <a:pt x="14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7" y="4"/>
                    </a:lnTo>
                    <a:lnTo>
                      <a:pt x="19" y="4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44" y="0"/>
                    </a:lnTo>
                    <a:lnTo>
                      <a:pt x="44" y="1"/>
                    </a:lnTo>
                    <a:lnTo>
                      <a:pt x="47" y="1"/>
                    </a:lnTo>
                    <a:lnTo>
                      <a:pt x="49" y="1"/>
                    </a:lnTo>
                    <a:lnTo>
                      <a:pt x="51" y="1"/>
                    </a:lnTo>
                    <a:lnTo>
                      <a:pt x="52" y="3"/>
                    </a:lnTo>
                    <a:lnTo>
                      <a:pt x="54" y="3"/>
                    </a:lnTo>
                    <a:lnTo>
                      <a:pt x="54" y="5"/>
                    </a:lnTo>
                    <a:lnTo>
                      <a:pt x="55" y="5"/>
                    </a:lnTo>
                    <a:lnTo>
                      <a:pt x="56" y="7"/>
                    </a:lnTo>
                    <a:lnTo>
                      <a:pt x="59" y="7"/>
                    </a:lnTo>
                    <a:lnTo>
                      <a:pt x="59" y="8"/>
                    </a:lnTo>
                    <a:lnTo>
                      <a:pt x="60" y="9"/>
                    </a:lnTo>
                    <a:lnTo>
                      <a:pt x="61" y="9"/>
                    </a:lnTo>
                    <a:lnTo>
                      <a:pt x="63" y="11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6" y="14"/>
                    </a:lnTo>
                    <a:lnTo>
                      <a:pt x="66" y="14"/>
                    </a:lnTo>
                    <a:lnTo>
                      <a:pt x="67" y="14"/>
                    </a:lnTo>
                    <a:lnTo>
                      <a:pt x="70" y="17"/>
                    </a:lnTo>
                    <a:lnTo>
                      <a:pt x="70" y="18"/>
                    </a:lnTo>
                    <a:lnTo>
                      <a:pt x="71" y="18"/>
                    </a:lnTo>
                    <a:lnTo>
                      <a:pt x="71" y="21"/>
                    </a:lnTo>
                    <a:lnTo>
                      <a:pt x="72" y="21"/>
                    </a:lnTo>
                    <a:lnTo>
                      <a:pt x="72" y="22"/>
                    </a:lnTo>
                    <a:lnTo>
                      <a:pt x="75" y="23"/>
                    </a:lnTo>
                    <a:lnTo>
                      <a:pt x="75" y="23"/>
                    </a:lnTo>
                    <a:lnTo>
                      <a:pt x="75" y="25"/>
                    </a:lnTo>
                    <a:lnTo>
                      <a:pt x="77" y="27"/>
                    </a:lnTo>
                    <a:lnTo>
                      <a:pt x="77" y="29"/>
                    </a:lnTo>
                    <a:lnTo>
                      <a:pt x="79" y="30"/>
                    </a:lnTo>
                    <a:lnTo>
                      <a:pt x="79" y="31"/>
                    </a:lnTo>
                    <a:lnTo>
                      <a:pt x="81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84" y="35"/>
                    </a:lnTo>
                    <a:lnTo>
                      <a:pt x="84" y="38"/>
                    </a:lnTo>
                    <a:lnTo>
                      <a:pt x="85" y="38"/>
                    </a:lnTo>
                    <a:lnTo>
                      <a:pt x="85" y="40"/>
                    </a:lnTo>
                    <a:lnTo>
                      <a:pt x="87" y="42"/>
                    </a:lnTo>
                    <a:lnTo>
                      <a:pt x="87" y="42"/>
                    </a:lnTo>
                    <a:lnTo>
                      <a:pt x="87" y="43"/>
                    </a:lnTo>
                    <a:lnTo>
                      <a:pt x="90" y="44"/>
                    </a:lnTo>
                    <a:lnTo>
                      <a:pt x="90" y="48"/>
                    </a:lnTo>
                    <a:lnTo>
                      <a:pt x="91" y="48"/>
                    </a:lnTo>
                    <a:lnTo>
                      <a:pt x="93" y="49"/>
                    </a:lnTo>
                    <a:lnTo>
                      <a:pt x="93" y="51"/>
                    </a:lnTo>
                    <a:lnTo>
                      <a:pt x="94" y="51"/>
                    </a:lnTo>
                    <a:lnTo>
                      <a:pt x="94" y="52"/>
                    </a:lnTo>
                    <a:lnTo>
                      <a:pt x="96" y="53"/>
                    </a:lnTo>
                    <a:lnTo>
                      <a:pt x="96" y="54"/>
                    </a:lnTo>
                    <a:lnTo>
                      <a:pt x="97" y="56"/>
                    </a:lnTo>
                    <a:lnTo>
                      <a:pt x="97" y="58"/>
                    </a:lnTo>
                    <a:lnTo>
                      <a:pt x="100" y="59"/>
                    </a:lnTo>
                    <a:lnTo>
                      <a:pt x="100" y="59"/>
                    </a:lnTo>
                    <a:lnTo>
                      <a:pt x="100" y="61"/>
                    </a:lnTo>
                    <a:lnTo>
                      <a:pt x="103" y="62"/>
                    </a:lnTo>
                    <a:lnTo>
                      <a:pt x="103" y="64"/>
                    </a:lnTo>
                    <a:lnTo>
                      <a:pt x="103" y="64"/>
                    </a:lnTo>
                    <a:lnTo>
                      <a:pt x="105" y="66"/>
                    </a:lnTo>
                    <a:lnTo>
                      <a:pt x="106" y="68"/>
                    </a:lnTo>
                    <a:lnTo>
                      <a:pt x="106" y="70"/>
                    </a:lnTo>
                    <a:lnTo>
                      <a:pt x="109" y="70"/>
                    </a:lnTo>
                    <a:lnTo>
                      <a:pt x="109" y="71"/>
                    </a:lnTo>
                    <a:lnTo>
                      <a:pt x="110" y="71"/>
                    </a:lnTo>
                    <a:lnTo>
                      <a:pt x="110" y="72"/>
                    </a:lnTo>
                    <a:lnTo>
                      <a:pt x="112" y="74"/>
                    </a:lnTo>
                    <a:lnTo>
                      <a:pt x="114" y="74"/>
                    </a:lnTo>
                    <a:lnTo>
                      <a:pt x="114" y="75"/>
                    </a:lnTo>
                    <a:lnTo>
                      <a:pt x="114" y="76"/>
                    </a:lnTo>
                    <a:lnTo>
                      <a:pt x="116" y="76"/>
                    </a:lnTo>
                    <a:lnTo>
                      <a:pt x="116" y="79"/>
                    </a:lnTo>
                    <a:lnTo>
                      <a:pt x="117" y="79"/>
                    </a:lnTo>
                    <a:lnTo>
                      <a:pt x="117" y="80"/>
                    </a:lnTo>
                    <a:lnTo>
                      <a:pt x="120" y="80"/>
                    </a:lnTo>
                    <a:lnTo>
                      <a:pt x="121" y="82"/>
                    </a:lnTo>
                    <a:lnTo>
                      <a:pt x="123" y="82"/>
                    </a:lnTo>
                    <a:lnTo>
                      <a:pt x="127" y="82"/>
                    </a:lnTo>
                    <a:lnTo>
                      <a:pt x="130" y="84"/>
                    </a:lnTo>
                    <a:lnTo>
                      <a:pt x="147" y="84"/>
                    </a:lnTo>
                    <a:lnTo>
                      <a:pt x="149" y="83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4" y="81"/>
                    </a:lnTo>
                    <a:lnTo>
                      <a:pt x="156" y="81"/>
                    </a:lnTo>
                    <a:lnTo>
                      <a:pt x="160" y="78"/>
                    </a:lnTo>
                    <a:lnTo>
                      <a:pt x="161" y="78"/>
                    </a:lnTo>
                    <a:lnTo>
                      <a:pt x="161" y="75"/>
                    </a:lnTo>
                    <a:lnTo>
                      <a:pt x="162" y="75"/>
                    </a:lnTo>
                    <a:lnTo>
                      <a:pt x="163" y="75"/>
                    </a:lnTo>
                    <a:lnTo>
                      <a:pt x="165" y="75"/>
                    </a:lnTo>
                    <a:lnTo>
                      <a:pt x="165" y="72"/>
                    </a:lnTo>
                    <a:lnTo>
                      <a:pt x="166" y="72"/>
                    </a:lnTo>
                    <a:lnTo>
                      <a:pt x="166" y="72"/>
                    </a:lnTo>
                    <a:lnTo>
                      <a:pt x="169" y="72"/>
                    </a:lnTo>
                    <a:lnTo>
                      <a:pt x="170" y="70"/>
                    </a:lnTo>
                    <a:lnTo>
                      <a:pt x="170" y="70"/>
                    </a:lnTo>
                    <a:lnTo>
                      <a:pt x="172" y="70"/>
                    </a:lnTo>
                    <a:lnTo>
                      <a:pt x="172" y="66"/>
                    </a:lnTo>
                    <a:lnTo>
                      <a:pt x="172" y="66"/>
                    </a:lnTo>
                    <a:lnTo>
                      <a:pt x="172" y="64"/>
                    </a:lnTo>
                    <a:lnTo>
                      <a:pt x="175" y="63"/>
                    </a:lnTo>
                    <a:lnTo>
                      <a:pt x="175" y="63"/>
                    </a:lnTo>
                    <a:lnTo>
                      <a:pt x="175" y="61"/>
                    </a:lnTo>
                    <a:lnTo>
                      <a:pt x="177" y="61"/>
                    </a:lnTo>
                    <a:lnTo>
                      <a:pt x="177" y="54"/>
                    </a:lnTo>
                    <a:lnTo>
                      <a:pt x="179" y="53"/>
                    </a:lnTo>
                    <a:lnTo>
                      <a:pt x="179" y="49"/>
                    </a:lnTo>
                    <a:lnTo>
                      <a:pt x="181" y="49"/>
                    </a:lnTo>
                    <a:lnTo>
                      <a:pt x="181" y="46"/>
                    </a:lnTo>
                    <a:lnTo>
                      <a:pt x="182" y="46"/>
                    </a:lnTo>
                    <a:lnTo>
                      <a:pt x="182" y="44"/>
                    </a:lnTo>
                  </a:path>
                </a:pathLst>
              </a:custGeom>
              <a:solidFill>
                <a:srgbClr val="ffff99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2337120" y="3746160"/>
                <a:ext cx="110160" cy="597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" name=""/>
          <p:cNvSpPr/>
          <p:nvPr/>
        </p:nvSpPr>
        <p:spPr>
          <a:xfrm>
            <a:off x="2908800" y="3814920"/>
            <a:ext cx="339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17800" y="270684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4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21160" y="2803680"/>
            <a:ext cx="3578040" cy="22651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43600" y="2809800"/>
            <a:ext cx="1095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 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03960" y="3011400"/>
            <a:ext cx="3138120" cy="20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high IF limiting R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analog FM discrimin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x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pen loop T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ternal VCO tank &amp; vari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dig. pulse sha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nal regul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pin-count RF/BB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293000" y="5373720"/>
            <a:ext cx="472680" cy="419040"/>
            <a:chOff x="4293000" y="5373720"/>
            <a:chExt cx="472680" cy="419040"/>
          </a:xfrm>
        </p:grpSpPr>
        <p:sp>
          <p:nvSpPr>
            <p:cNvPr id="192" name=""/>
            <p:cNvSpPr/>
            <p:nvPr/>
          </p:nvSpPr>
          <p:spPr>
            <a:xfrm rot="5400000">
              <a:off x="4319640" y="5346720"/>
              <a:ext cx="419040" cy="472680"/>
            </a:xfrm>
            <a:prstGeom prst="rect">
              <a:avLst/>
            </a:prstGeom>
            <a:solidFill>
              <a:srgbClr val="ffff99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5400000">
              <a:off x="4460040" y="5542920"/>
              <a:ext cx="146160" cy="96480"/>
            </a:xfrm>
            <a:prstGeom prst="rect">
              <a:avLst/>
            </a:prstGeom>
            <a:solidFill>
              <a:srgbClr val="ffff9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4624560" y="5497560"/>
              <a:ext cx="1440" cy="183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4440240" y="5497560"/>
              <a:ext cx="1440" cy="206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26000" y="5600520"/>
              <a:ext cx="9504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4348800" y="5600520"/>
              <a:ext cx="92880" cy="1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4378320" y="5068800"/>
            <a:ext cx="144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22840" y="5068800"/>
            <a:ext cx="144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06960" y="583092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863880" y="50688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65680" y="5373720"/>
            <a:ext cx="471600" cy="419040"/>
          </a:xfrm>
          <a:prstGeom prst="rect">
            <a:avLst/>
          </a:prstGeom>
          <a:solidFill>
            <a:srgbClr val="ffff99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21280" y="5580000"/>
            <a:ext cx="1396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21280" y="5621400"/>
            <a:ext cx="13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91120" y="5478480"/>
            <a:ext cx="1800" cy="101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991120" y="5621400"/>
            <a:ext cx="1800" cy="102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35520" y="5454720"/>
            <a:ext cx="145080" cy="271440"/>
            <a:chOff x="5735520" y="5454720"/>
            <a:chExt cx="145080" cy="271440"/>
          </a:xfrm>
        </p:grpSpPr>
        <p:sp>
          <p:nvSpPr>
            <p:cNvPr id="208" name=""/>
            <p:cNvSpPr/>
            <p:nvPr/>
          </p:nvSpPr>
          <p:spPr>
            <a:xfrm>
              <a:off x="5736960" y="545796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36960" y="545796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35520" y="545472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29" y="21597"/>
                  </a:moveTo>
                  <a:arcTo wR="10800" hR="10800" stAng="5486380" swAng="5432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29" y="21597"/>
                  </a:moveTo>
                  <a:arcTo wR="10800" hR="10800" stAng="5486380" swAng="5432724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35520" y="545472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29" y="21597"/>
                  </a:moveTo>
                  <a:arcTo wR="10800" hR="10800" stAng="5486380" swAng="54327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29" y="21597"/>
                  </a:moveTo>
                  <a:arcTo wR="10800" hR="10800" stAng="5486380" swAng="5432724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36960" y="554688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36960" y="554688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35520" y="554220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35520" y="5542200"/>
              <a:ext cx="145080" cy="88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36960" y="563436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36960" y="5634360"/>
              <a:ext cx="14220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" y="10439"/>
                  </a:moveTo>
                  <a:arcTo wR="10800" hR="10800" stAng="-10684930" swAng="5201479"/>
                  <a:lnTo>
                    <a:pt x="10800" y="10800"/>
                  </a:lnTo>
                  <a:close/>
                </a:path>
                <a:path fill="none" w="21600" h="21600">
                  <a:moveTo>
                    <a:pt x="6" y="10439"/>
                  </a:moveTo>
                  <a:arcTo wR="10800" hR="10800" stAng="-10684930" swAng="5201479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35520" y="5637960"/>
              <a:ext cx="145080" cy="8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35520" y="5637960"/>
              <a:ext cx="145080" cy="8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33" y="21597"/>
                  </a:moveTo>
                  <a:arcTo wR="10800" hR="10800" stAng="5484866" swAng="54363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33" y="21597"/>
                  </a:moveTo>
                  <a:arcTo wR="10800" hR="10800" stAng="5484866" swAng="5436364"/>
                </a:path>
              </a:pathLst>
            </a:cu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5751360" y="5068800"/>
            <a:ext cx="180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440" y="5068800"/>
            <a:ext cx="144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22560" y="5830920"/>
            <a:ext cx="49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120080" y="3594240"/>
            <a:ext cx="15573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7094520" y="3164040"/>
            <a:ext cx="1595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746480" y="2882880"/>
            <a:ext cx="81396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46120" y="3316320"/>
            <a:ext cx="5670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732440" y="3720960"/>
            <a:ext cx="7452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MH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7593120" y="3087720"/>
            <a:ext cx="856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7574040" y="3517920"/>
            <a:ext cx="8568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87640" y="320184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87640" y="3645000"/>
            <a:ext cx="2667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64120" y="4178160"/>
            <a:ext cx="5990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8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59600" y="3998880"/>
            <a:ext cx="1555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59600" y="4459320"/>
            <a:ext cx="1555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51480" y="2462040"/>
            <a:ext cx="171360" cy="354240"/>
          </a:xfrm>
          <a:custGeom>
            <a:avLst/>
            <a:gdLst/>
            <a:ahLst/>
            <a:rect l="l" t="t" r="r" b="b"/>
            <a:pathLst>
              <a:path w="108" h="223">
                <a:moveTo>
                  <a:pt x="108" y="0"/>
                </a:moveTo>
                <a:lnTo>
                  <a:pt x="0" y="0"/>
                </a:lnTo>
                <a:lnTo>
                  <a:pt x="0" y="22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7FFA-4CCA-47A3-8AEE-D8256730568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KIA RF/BB Interf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ed for low pin count to aid integration of the BB functionality into existing system AS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-directional data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bus can be shared with other A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control supported in the RF ASIC (e.g. synth. settl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04B0-61F3-4862-B3F5-2AE72E2490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KIA Baseband ASIC Fa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ipChip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7 @ 13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 kHz Sleep clock oscil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-level (MIPS consuming) protocols in H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buffer RAM (no dedicated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B5F8-1806-4962-B486-69B21BE7330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919080" y="1515960"/>
            <a:ext cx="7724880" cy="480852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band ASIC - Block Dia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92320" y="3341520"/>
            <a:ext cx="1457280" cy="789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7520" y="5183280"/>
            <a:ext cx="1433520" cy="853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chd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16240" y="5178600"/>
            <a:ext cx="1433520" cy="853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03640" y="2873520"/>
            <a:ext cx="1496880" cy="1325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W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57960" y="1738440"/>
            <a:ext cx="1457280" cy="788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ffer/M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37080" y="3027240"/>
            <a:ext cx="1446480" cy="2967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C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b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78560" y="3736800"/>
            <a:ext cx="1025640" cy="1273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9280" y="5367240"/>
            <a:ext cx="51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1960" y="3894120"/>
            <a:ext cx="6429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4680" y="3557520"/>
            <a:ext cx="63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01640" y="5794200"/>
            <a:ext cx="512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60" y="501804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13680" y="54720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705040" y="388944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74800" y="355284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705040" y="580716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674800" y="5470560"/>
            <a:ext cx="51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727440" y="4210200"/>
            <a:ext cx="293400" cy="983880"/>
            <a:chOff x="3727440" y="4210200"/>
            <a:chExt cx="293400" cy="983880"/>
          </a:xfrm>
        </p:grpSpPr>
        <p:sp>
          <p:nvSpPr>
            <p:cNvPr id="260" name=""/>
            <p:cNvSpPr/>
            <p:nvPr/>
          </p:nvSpPr>
          <p:spPr>
            <a:xfrm>
              <a:off x="3727440" y="4210200"/>
              <a:ext cx="0" cy="98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20840" y="4210200"/>
              <a:ext cx="0" cy="98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4686480" y="320688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86480" y="339732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86480" y="379080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86480" y="398160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67400" y="546732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67400" y="5657760"/>
            <a:ext cx="7347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896160" y="4251240"/>
            <a:ext cx="511200" cy="177840"/>
            <a:chOff x="6896160" y="4251240"/>
            <a:chExt cx="511200" cy="177840"/>
          </a:xfrm>
        </p:grpSpPr>
        <p:sp>
          <p:nvSpPr>
            <p:cNvPr id="269" name=""/>
            <p:cNvSpPr/>
            <p:nvPr/>
          </p:nvSpPr>
          <p:spPr>
            <a:xfrm>
              <a:off x="6896160" y="425124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896160" y="442908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5948280" y="2533680"/>
            <a:ext cx="473040" cy="485640"/>
          </a:xfrm>
          <a:prstGeom prst="upDownArrow">
            <a:avLst>
              <a:gd name="adj1" fmla="val 50000"/>
              <a:gd name="adj2" fmla="val 2043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2400480" y="4908240"/>
            <a:ext cx="0" cy="27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22480" y="451944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Rese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60160" y="3067200"/>
            <a:ext cx="2641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441440" y="4933800"/>
            <a:ext cx="276120" cy="249480"/>
          </a:xfrm>
          <a:prstGeom prst="upArrow">
            <a:avLst>
              <a:gd name="adj1" fmla="val 40231"/>
              <a:gd name="adj2" fmla="val 5159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47960" y="4281480"/>
            <a:ext cx="8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415360" y="4259160"/>
            <a:ext cx="511200" cy="177840"/>
            <a:chOff x="8415360" y="4259160"/>
            <a:chExt cx="511200" cy="177840"/>
          </a:xfrm>
        </p:grpSpPr>
        <p:sp>
          <p:nvSpPr>
            <p:cNvPr id="278" name=""/>
            <p:cNvSpPr/>
            <p:nvPr/>
          </p:nvSpPr>
          <p:spPr>
            <a:xfrm>
              <a:off x="8415360" y="425916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415360" y="4437000"/>
              <a:ext cx="51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homas Müller, Noki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7626-41D9-4DBE-8AAF-5CCE41D92B8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05:10:25Z</dcterms:created>
  <dc:creator>Thomas Müller</dc:creator>
  <dc:description>070r0</dc:description>
  <dc:language>en-US</dc:language>
  <cp:lastModifiedBy>Tim Godfrey</cp:lastModifiedBy>
  <cp:lastPrinted>1998-02-10T13:28:06Z</cp:lastPrinted>
  <dcterms:modified xsi:type="dcterms:W3CDTF">1999-09-15T02:56:45Z</dcterms:modified>
  <cp:revision>3</cp:revision>
  <dc:subject>IEEE 802.15 Tutorial</dc:subject>
  <dc:title>Nokia Hardware Overview</dc:title>
</cp:coreProperties>
</file>