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A86-A374-4E73-8642-49DBE603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CA2-4A8B-478B-BA5D-215E9C42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87A-D294-44DA-A4B8-A7C57C5C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563-E67D-435F-85A8-A8B2CDC5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B220-0550-4258-859E-BD85BD91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AB4-3122-49C9-AA24-97D341C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C28-A2D1-4C3E-8C41-50ABDFC0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CAB-9CB9-4569-875D-9B6956DF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56D-8467-40BB-986C-963EDC4D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74E-F854-4BE2-888F-BB171CF6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F39-9ED0-455A-B207-2D7DC978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40ED-4CC9-48F6-8783-A69ADB6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B6E524-B6DD-460E-A270-E859623A7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39600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1r0 {802.11-99/223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Bluetooth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Siep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ep@ti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mllieee" descr=""/>
          <p:cNvPicPr/>
          <p:nvPr/>
        </p:nvPicPr>
        <p:blipFill>
          <a:blip r:embed="rId1"/>
          <a:stretch/>
        </p:blipFill>
        <p:spPr>
          <a:xfrm>
            <a:off x="3276720" y="1143000"/>
            <a:ext cx="628560" cy="714240"/>
          </a:xfrm>
          <a:prstGeom prst="rect">
            <a:avLst/>
          </a:prstGeom>
          <a:ln w="0">
            <a:noFill/>
          </a:ln>
        </p:spPr>
      </p:pic>
      <p:pic>
        <p:nvPicPr>
          <p:cNvPr id="48" name="IEEE%20802" descr=""/>
          <p:cNvPicPr/>
          <p:nvPr/>
        </p:nvPicPr>
        <p:blipFill>
          <a:blip r:embed="rId2"/>
          <a:stretch/>
        </p:blipFill>
        <p:spPr>
          <a:xfrm>
            <a:off x="5029200" y="1066680"/>
            <a:ext cx="739800" cy="76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3EA-79CB-4B6E-B029-3D0C659D02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Layer Manag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371600" y="1752480"/>
          <a:ext cx="632448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52480"/>
                    <a:ext cx="632448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BC60-5003-474A-B36C-9B35592F0E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Anne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2666880"/>
          <a:ext cx="579096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579096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E2AB-4AE1-41B2-A95C-96027F38D7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9059r4P802-15_Mapping-Between-Bluetooth-802-15-1.d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Will be on Flash after this meeting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Comic Sans MS"/>
              </a:rPr>
              <a:t>may be updated this wee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8FF-ADB1-4254-881F-D63C5BD6945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Bluetooth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CIFIC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FREQUENCY BANDS AND CHANNEL ARRAN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TRANSMITT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RECEIVER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BAND SPEC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GENERAL 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YSICAL 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 PHYSICAL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4 P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5 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6 LOGICAL CHA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7 DATA WHITEN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8 TRANSMIT/RECEIVE 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9 TRANSMIT/RECEIVE TI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0 CHANNEL CONTROL B11 HOP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2 VOICE CO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3 BLUETOOTH AD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4 BLUETOOTH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9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K MANAGER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 FORMAT OF L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3 THE PROCEDURE RULES AND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4 CONNECTION ESTABL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5 SUMMARY OF PD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6 TEST M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7 ERROR HAND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2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 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 GENERAL OPE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3 STATE MACH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 DATA PACKE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5 SIGNAL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6 CONFIGURATION PARAMETER OP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7 SERVICE PRIM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8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A: CONFIGURATION MS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2CAP APPENDIX B: IMPLEMENTATION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06A-6DF6-4570-BC2A-CC730602AA53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 of an 802 MAC/PHY 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verview</a:t>
            </a:r>
            <a:r>
              <a:rPr b="0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Normative 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3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4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bbreviations and Acrony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)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Gener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Access Control (M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Physical Layer (PH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P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rotocol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I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mplementatio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C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nformance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S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atement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MAC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 Description of PHY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 Management Information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F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7AD-4B66-4310-9F25-47BBD89AC2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71600" y="2057400"/>
          <a:ext cx="642636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64263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733920" y="5029200"/>
          <a:ext cx="2197080" cy="54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5029200"/>
                    <a:ext cx="219708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09880" y="3505320"/>
          <a:ext cx="2370240" cy="146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9880" y="3505320"/>
                    <a:ext cx="237024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809880" y="3048120"/>
          <a:ext cx="3054600" cy="14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048120"/>
                    <a:ext cx="30546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3048120" y="2743200"/>
          <a:ext cx="4255920" cy="1317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2743200"/>
                    <a:ext cx="4255920" cy="13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057400" y="2743200"/>
          <a:ext cx="3970440" cy="1508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7400" y="2743200"/>
                    <a:ext cx="397044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AEA-ED04-4CED-BC0C-6F92329380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      and        ML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90720" y="1828800"/>
            <a:ext cx="6629400" cy="4291560"/>
            <a:chOff x="990720" y="1828800"/>
            <a:chExt cx="6629400" cy="4291560"/>
          </a:xfrm>
        </p:grpSpPr>
        <p:sp>
          <p:nvSpPr>
            <p:cNvPr id="69" name=""/>
            <p:cNvSpPr/>
            <p:nvPr/>
          </p:nvSpPr>
          <p:spPr>
            <a:xfrm>
              <a:off x="4359600" y="1828800"/>
              <a:ext cx="0" cy="40132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71" idx="3"/>
              <a:endCxn id="72" idx="0"/>
            </p:cNvCxnSpPr>
            <p:nvPr/>
          </p:nvCxnSpPr>
          <p:spPr>
            <a:xfrm>
              <a:off x="5963040" y="2351880"/>
              <a:ext cx="27360" cy="2559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5174640" y="246852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174640" y="3224520"/>
              <a:ext cx="1630080" cy="3488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-level 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74640" y="3748320"/>
              <a:ext cx="1630080" cy="5234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conet &amp; Li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74640" y="438804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nk Inform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4640" y="4911480"/>
              <a:ext cx="1630080" cy="4071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wer 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70880" y="5086080"/>
              <a:ext cx="1901520" cy="523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iming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equency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70880" y="4717440"/>
              <a:ext cx="1901520" cy="3099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Co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70880" y="4388040"/>
              <a:ext cx="1901520" cy="2714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cry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0880" y="4038840"/>
              <a:ext cx="190152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86280" y="3690000"/>
              <a:ext cx="1086480" cy="2905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99080" y="3282480"/>
              <a:ext cx="2282040" cy="348840"/>
            </a:xfrm>
            <a:custGeom>
              <a:avLst/>
              <a:gdLst>
                <a:gd name="textAreaLeft" fmla="*/ 354240 w 2282040"/>
                <a:gd name="textAreaRight" fmla="*/ 1927800 w 2282040"/>
                <a:gd name="textAreaTop" fmla="*/ 54000 h 348840"/>
                <a:gd name="textAreaBottom" fmla="*/ 29484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715" y="21600"/>
                  </a:lnTo>
                  <a:lnTo>
                    <a:pt x="2885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/ACL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99080" y="2817360"/>
              <a:ext cx="760680" cy="4071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oi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de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68840" y="2933640"/>
              <a:ext cx="1412640" cy="2908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rag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97040" y="2526480"/>
              <a:ext cx="1738800" cy="348840"/>
            </a:xfrm>
            <a:custGeom>
              <a:avLst/>
              <a:gdLst>
                <a:gd name="textAreaLeft" fmla="*/ 293400 w 1738800"/>
                <a:gd name="textAreaRight" fmla="*/ 1445400 w 1738800"/>
                <a:gd name="textAreaTop" fmla="*/ 58680 h 348840"/>
                <a:gd name="textAreaBottom" fmla="*/ 290160 h 34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83" y="21600"/>
                  </a:lnTo>
                  <a:lnTo>
                    <a:pt x="3417" y="21600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X/ DE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62000" y="2410200"/>
              <a:ext cx="1358280" cy="581760"/>
            </a:xfrm>
            <a:prstGeom prst="leftRightArrow">
              <a:avLst>
                <a:gd name="adj1" fmla="val 63750"/>
                <a:gd name="adj2" fmla="val 48641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2CAP Signa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44560" y="3166560"/>
              <a:ext cx="1303920" cy="523440"/>
            </a:xfrm>
            <a:prstGeom prst="leftRightArrow">
              <a:avLst>
                <a:gd name="adj1" fmla="val 69444"/>
                <a:gd name="adj2" fmla="val 51666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MP PD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49000" y="1886760"/>
              <a:ext cx="760680" cy="581760"/>
            </a:xfrm>
            <a:prstGeom prst="upDownArrow">
              <a:avLst>
                <a:gd name="adj1" fmla="val 55657"/>
                <a:gd name="adj2" fmla="val 32815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934560" y="2105280"/>
              <a:ext cx="872280" cy="434520"/>
            </a:xfrm>
            <a:prstGeom prst="leftRightArrow">
              <a:avLst>
                <a:gd name="adj1" fmla="val 71870"/>
                <a:gd name="adj2" fmla="val 40084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90720" y="1886760"/>
              <a:ext cx="282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77200" y="5609520"/>
              <a:ext cx="380160" cy="290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5080" y="5725800"/>
              <a:ext cx="29343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64360" y="5834880"/>
              <a:ext cx="546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H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3200" y="5551200"/>
              <a:ext cx="21189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48360" y="5633640"/>
              <a:ext cx="665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81320" y="5318640"/>
              <a:ext cx="0" cy="46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35840" y="2468520"/>
              <a:ext cx="162720" cy="3141000"/>
            </a:xfrm>
            <a:custGeom>
              <a:avLst/>
              <a:gdLst>
                <a:gd name="textAreaLeft" fmla="*/ 0 w 162720"/>
                <a:gd name="textAreaRight" fmla="*/ 58680 w 162720"/>
                <a:gd name="textAreaTop" fmla="*/ 81720 h 3141000"/>
                <a:gd name="textAreaBottom" fmla="*/ 3059280 h 314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11967"/>
                  </a:lnTo>
                  <a:cubicBezTo>
                    <a:pt x="10800" y="12867"/>
                    <a:pt x="16200" y="13767"/>
                    <a:pt x="21600" y="13767"/>
                  </a:cubicBezTo>
                  <a:cubicBezTo>
                    <a:pt x="16200" y="13767"/>
                    <a:pt x="10800" y="14667"/>
                    <a:pt x="10800" y="15567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07640" y="4446360"/>
              <a:ext cx="108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17800" y="4236480"/>
              <a:ext cx="75528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913800" y="2410200"/>
              <a:ext cx="271440" cy="302472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78840 h 3024720"/>
                <a:gd name="textAreaBottom" fmla="*/ 2945880 h 302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39960" y="3922560"/>
              <a:ext cx="38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7560" y="3166560"/>
              <a:ext cx="108360" cy="2210040"/>
            </a:xfrm>
            <a:custGeom>
              <a:avLst/>
              <a:gdLst>
                <a:gd name="textAreaLeft" fmla="*/ 31680 w 108360"/>
                <a:gd name="textAreaRight" fmla="*/ 108720 w 108360"/>
                <a:gd name="textAreaTop" fmla="*/ 91800 h 2210040"/>
                <a:gd name="textAreaBottom" fmla="*/ 21182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97040" y="3690000"/>
              <a:ext cx="325800" cy="290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55160" y="1944720"/>
              <a:ext cx="815040" cy="4071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02680" y="2642760"/>
              <a:ext cx="0" cy="261756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4020840" y="5165640"/>
              <a:ext cx="5846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00000">
              <a:off x="4237560" y="5104080"/>
              <a:ext cx="7034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ccccff"/>
                  </a:solidFill>
                  <a:latin typeface="Arial"/>
                </a:rPr>
                <a:t>ML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DD1-4197-487C-B2CF-4EFABE7CFB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ory 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743200"/>
          <a:ext cx="564192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4192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D02-6D7B-47BC-BC60-9AE9ADBFCC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71600" y="1523880"/>
          <a:ext cx="655308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55308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689-99AF-48AC-A2D9-5FB6F097AD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MAC</a:t>
            </a:r>
            <a:br>
              <a:rPr sz="3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 of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523880"/>
          <a:ext cx="6476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476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8F0-E3FB-4A0C-8DC0-3DAF17D82F3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EEE 802.15.1 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600200" y="2209680"/>
          <a:ext cx="5734080" cy="419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5734080" cy="41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om Siep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77B0-91CE-4B65-8B9D-18570760EA4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21:17:05Z</dcterms:created>
  <dc:creator>Tom Siep</dc:creator>
  <dc:description>071r0</dc:description>
  <dc:language>en-US</dc:language>
  <cp:lastModifiedBy>Tim Godfrey</cp:lastModifiedBy>
  <cp:lastPrinted>1998-02-10T13:28:06Z</cp:lastPrinted>
  <dcterms:modified xsi:type="dcterms:W3CDTF">1999-09-15T02:59:59Z</dcterms:modified>
  <cp:revision>6</cp:revision>
  <dc:subject>IEEE 802.15 Tutorial</dc:subject>
  <dc:title>Mapping the Bluetooth Specification to IEEE 802.15.1</dc:title>
</cp:coreProperties>
</file>