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D0A-0118-462C-917E-0B1DE633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4D12-5BEA-4AE3-BF9E-BB400001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9CB-F78F-4294-AEF3-FB089DE0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AA3-5193-4B3C-A448-D2C67844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F48-BE60-4E8A-A053-FC28093B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794-09B4-43A9-BCE4-FDA29CFB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6F6-B794-493C-8A9E-CFA38A45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D9C2-4C8F-4FB9-B64C-F8CFD3CA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E841-652A-432D-B03D-23B91F94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5CB5-6481-45E6-93C8-6EFFD96E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944-D7D9-49D1-ACD3-6BB4731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180-E822-460D-BC52-687BAEDA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FACF2C-0B19-48D2-A8EB-D679B5B0E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92AE-46FB-42ED-A0D1-6F8E7AF209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balancing is importa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tations enhances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no provisions for load balanc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leads to proprietary solu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rietary solutions prevent interoper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for the industry and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1453-A807-4A81-8852-F394912C68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load balancing information to the Beac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the Access Point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ad of neighbor Access Po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10A-2171-447E-A6DB-EAA97CA4D8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broader sens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will invent new (proprietary) features that require extensions to the Beac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olates conformanc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D20-1442-42AC-BC2D-AE37417C61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on Custom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the Beacon (based on elements) allows for exten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 an element that vendors can use to accommodate their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oct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dor 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 oct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C97-A558-4103-B58A-51E45EC6A6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1T19:45:34Z</dcterms:created>
  <dc:creator>Maarten Hoeben</dc:creator>
  <dc:description/>
  <dc:language>en-US</dc:language>
  <cp:lastModifiedBy>Maarten Hoeben</cp:lastModifiedBy>
  <dcterms:modified xsi:type="dcterms:W3CDTF">1999-09-15T08:31:00Z</dcterms:modified>
  <cp:revision>16</cp:revision>
  <dc:subject/>
  <dc:title>Enhancing 802.11 With QoS</dc:title>
</cp:coreProperties>
</file>