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06D6B-E266-4E37-80A6-4091A5F22B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FA7BE-796B-4611-870E-F4DFC45F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7947C-70A3-4BAF-B2BE-445E0F53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939A5-0762-482E-9C91-DB0C8936D9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1AEA6-2D9F-4807-979F-DEBECA5F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50FCF-FFCB-4889-A1B3-CE33206D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748C4-8B72-433E-BC32-7361CFBB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FA573-32B1-4258-A6E9-6173175E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0AFE2-B3F5-4125-951B-4B2CE91B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9368F-AB0B-439E-B1DC-1DE925FD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5E1F7-EED4-4382-88F0-34979A41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4BD8E-4E42-4DB0-B526-F2DEC5E4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CA7C8DA-3A00-4BE3-B8B6-55DC7DE12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96880" y="6446880"/>
            <a:ext cx="1270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tative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638680" y="6477120"/>
            <a:ext cx="292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O’Hara, Chairman, Task Group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Tbaum@ee.rochester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tative Agen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Group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13-17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a Rosa,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FD51E-E7A2-49D5-AA95-95B0CA53BC6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for Task Group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minutes from July meeting, document 99/1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for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33E6C-D428-4D14-8BD7-5E51309CDD3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for Task Group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 of Frequency Hop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/195, “Algorithmically Derived Hop Sequences”, Darwin Engwer, Johnny Zwe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baum@ee.rochester.ed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Edward Titleba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/xxx, “Algorithmic Determination of Hop Sequences”, Dean Kawagu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 of Direct Seq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/191, “Universal DS Channelization”, Bob O’H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ons of MAC and MAC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9/xxx, “Support for International Mobility”, Naftali Chayat, Dean Kawagu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49527-EDEF-4255-9162-75BDCA5E6A5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for Task Group 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ED7BB-F5F6-4E0E-8D56-6B00196274D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5:47:32Z</dcterms:created>
  <dc:creator>Bob O'Hara</dc:creator>
  <dc:description/>
  <dc:language>en-US</dc:language>
  <cp:lastModifiedBy>Bob O'Hara</cp:lastModifiedBy>
  <cp:lastPrinted>1998-02-10T13:28:06Z</cp:lastPrinted>
  <dcterms:modified xsi:type="dcterms:W3CDTF">1999-09-15T22:53:17Z</dcterms:modified>
  <cp:revision>8</cp:revision>
  <dc:subject/>
  <dc:title>Agenda for Task Group d</dc:title>
</cp:coreProperties>
</file>