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576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576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28600" y="698040"/>
            <a:ext cx="460224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87320"/>
            <a:ext cx="5029200" cy="415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94204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94204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CAAE08-775E-49A7-8426-C479FA27E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942400"/>
            <a:ext cx="225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tative agenda Full WG, Jul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6560" y="8940960"/>
            <a:ext cx="540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2040" y="295200"/>
            <a:ext cx="555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84760" y="-14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77248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877248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-14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912960" y="4385880"/>
            <a:ext cx="50306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2240" cy="3451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84760" y="-14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4760" y="877248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77248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4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2960" y="4385880"/>
            <a:ext cx="503064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1128600" y="698400"/>
            <a:ext cx="4602240" cy="34513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BEC-2D8B-4D9C-8DEF-6BCE72A8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473-2F96-4C97-9669-4100AA25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2B3-AB2B-4011-BB4B-58DD47AA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4856-CDC9-4546-B2D8-3AD840BE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EDB-49A5-4F9F-8463-13D85B4F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7B56-D8E4-40C1-8F33-58B95AD2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F30F-8724-4105-B542-EA8C98DB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7BC-32A8-4F38-84F5-0132A782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C060-5FDB-42BE-89C5-BC49C541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E56-7409-46B8-9176-15AA4865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5C4-D416-427D-9650-2522F07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025-CA6C-42F7-820E-79EEC34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73560" y="6474960"/>
            <a:ext cx="67464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lid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F8700C9-D28E-4FD0-8C83-2C6B43A3AC9A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42884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43-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320" y="609480"/>
            <a:ext cx="775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289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tative agenda Full WG, Nov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06320" y="6477120"/>
            <a:ext cx="782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59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ession of meetings of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EEE P802.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Loc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vember 8-12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loa, 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ssion starts on Monday, Nov 8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:0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ess Code: ca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 algn="ctr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d tool to follow discussions: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BA4-D92D-42D6-BF00-98AEBE8D82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ture Meeting Sche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8-12 - Hyatt Regency, Kauai, Koloa, HI, Ple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10-14 - Tel Aviv, Israel, Interim (Breeze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6-10 - Hyatt Regency, Albuquerque, NM, Ple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8-12 - Renaissance Madison Hotel, Seattle, WA (Boe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ly 10-14 - Hyatt Regency La Jolla, San Diego, CA, Ple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Sept 18-22 - Memphis, TN (FedEx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6-10 - Hyatt Regency, Tampa, F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DEF-AD4B-4141-B0E7-F7982A4E38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4.1 Awards for 8802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nald Brock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ri Moel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Eng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hny Zwe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B1E-CF2A-477A-B885-E43AE25448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39D-1D48-4565-8096-28351D06357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ives for this S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text for 802.11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PAR and 5 Criteria for SG MAC Enhance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letters to liaison groups and to regulatory agencies as needed, 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NPRM ET Docket No. 99-23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NPRM ET Docket No. 99-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C 2000/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961-D50B-413D-9AD8-612A9CDB4C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ic out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28600" y="1349280"/>
          <a:ext cx="8686800" cy="498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49280"/>
                    <a:ext cx="868680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816-85C7-4CBF-90B5-758C2649705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:30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list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da adju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3C4-A34A-48FF-A126-3B7E799E98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nd a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rom sub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ubmit the draft standard 11d to WG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mpower the group to resolve LB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to UK-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to FCC Reply Comments on 99-2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ter to ITU-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to d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DF2-792B-49DA-A20B-8E79904A3A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3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y group Enhanced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for SG MAC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to submit PAR to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5.4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G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Chair to form Sponsor Ballot Group as soon as PAR has been ap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to start WG Letter Ballot so that Sponsor Ballot can start from the March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5037-6CB2-44F9-90C1-8C99CC2752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inishe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 802.11b CO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tter to UK-RA re Consultatio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tter to FCC re 99-231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etter to ITU-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2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ension for SG MAC enhance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raft PAR MAC enhance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9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8E3-70A2-481A-A4FC-E88206EBB4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 for next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solve LB results of TG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work on the PAR and 5 Cr to be ready for submission to SEC, 30 days before March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solve LB results of TG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spond to Reg ulatory events and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ling dates as soon as possible, weekly uploads, as the need arises in diskette format for those that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81E-4378-4672-9025-F017DCF41A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enda, Thursday, 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interim meeting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:00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Chai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BD9-AFCD-4B4C-90A9-87C9180081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vichayes</cp:lastModifiedBy>
  <cp:lastPrinted>1999-11-08T20:44:23Z</cp:lastPrinted>
  <dcterms:modified xsi:type="dcterms:W3CDTF">1999-11-11T23:02:57Z</dcterms:modified>
  <cp:revision>65</cp:revision>
  <dc:subject/>
  <dc:title>No Slide Title</dc:title>
</cp:coreProperties>
</file>