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EDD3-FB22-497B-9949-F6D5AEB0F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EFA7-8A2A-4836-9B87-78EDD52DA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F7AC-82B0-4BCB-A401-4AA90E3AB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3682-2EF9-4CDA-87B5-7CED3FFB7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9D35-9639-40E9-93A7-345A98FC9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0A43-A245-4BA7-AB3C-899C0B1E2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B971-F27F-4B3D-93CB-647C46F69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46B4-D8D0-4397-9D37-59E9BB8FB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2DC7-1803-46C8-B613-88B7C5C53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52C6-F440-4F04-BCD9-5F7582CA8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43F5-80BC-4210-8FE1-9923ACC20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7340-9FA3-4B82-88EB-3E7B68457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3993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ob O’Hara, Chair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57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DB8945F-9F96-44CA-A496-23F81F056B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9/24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94360" y="6446880"/>
            <a:ext cx="974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Gd Ag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Gd 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vember 1999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uai Hawa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608F-2E9D-494D-AB3E-82F34FE06AA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ret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l to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roval of the age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roval of min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nou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l for Submi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ation of submi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d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ou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E582-4D6E-4D6C-875C-A4BD551DC89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ll for Submi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b O’Hara: 99/244 Communication of PHY Specific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ris Zegelin: 99/257 International Roam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593F-89EE-4E54-A02E-2E3A419848D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osed Action for Tues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eak into one or more small groups to draft text for the stand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nvene Wednesday morning at 10:30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931D-A31A-4DB0-96DB-54C3A0FC3DD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Busi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option of proposed text for the draft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DCDE-4E90-4BA4-965D-D8FBAF36D46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5T13:03:53Z</dcterms:created>
  <dc:creator>Bob O'Hara</dc:creator>
  <dc:description/>
  <dc:language>en-US</dc:language>
  <cp:lastModifiedBy>Bob O'Hara</cp:lastModifiedBy>
  <cp:lastPrinted>1998-02-10T13:28:06Z</cp:lastPrinted>
  <dcterms:modified xsi:type="dcterms:W3CDTF">1999-11-11T22:30:22Z</dcterms:modified>
  <cp:revision>11</cp:revision>
  <dc:subject/>
  <dc:title>TGd Agenda</dc:title>
</cp:coreProperties>
</file>