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BD0-26CF-4D30-9B1E-7291C888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B28A-6B87-44B2-91C1-EF487883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BA3-0481-4FC1-9D89-4F1A61DA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DB1-9378-45EE-81D1-00F02D008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01A4-84C5-4873-996A-784CA702A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40A-68B2-418A-9BDB-7634423C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452-2146-40B9-A36E-DDC79A8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7406-F1B8-4795-92C0-0DDEF7C8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FF3-5597-44A9-A279-1D3AF69B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F5F8-C49B-4C9D-9523-1D1CAC97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F80-BC41-4DB3-86DB-789E454D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042D-EB33-463E-884B-D4B9912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0C5202-9285-407A-9158-C50C5860E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BE4-4E0D-4C13-AFAB-3ACEE98535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a draft for WG lette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27C6-F1D0-432F-B904-9F10025248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: 99/244 Communication of PHY 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egelin: 99/257 International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DD8D-36AC-405B-9ED3-1C1BB0AFDD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ssue TGd draft 0.2 contained in document P802.11d Draft0.2.doc to working group lette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735-69A4-4BEA-8C1C-32C23FFC1E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mpower the January interim meeting to process comments on the TGd letter ballot and to issue a new draft to working group lette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274-0E6B-415A-804F-19498D52C9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1999-11-11T22:28:03Z</dcterms:modified>
  <cp:revision>11</cp:revision>
  <dc:subject/>
  <dc:title>TGd Agenda</dc:title>
</cp:coreProperties>
</file>