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4BC-ACD7-47BF-87FD-66DC5D7A5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25D-B963-4DD2-B06B-21186EB1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8DA-E0D1-4D87-8E54-6E6D0FB6E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B1B-9CCE-41E0-8D37-39E5EF52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04F6-2F23-483F-83C1-DCE50548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A0A7-C651-41A6-A81C-8093BFAB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7B6B-52F1-445B-8925-E64D4034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DDE-D71E-4569-B434-763B1789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CC0B-E896-4428-B415-132C0C23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BCC-98AA-42DE-AE6B-301E3F93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0E85-779A-4B4C-92E8-121702B4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00CA-B0BE-4163-B9EB-13BCD95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6BE59C-1B92-4B75-96CA-489CFC7EE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9/2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1066680"/>
            <a:ext cx="5867280" cy="2210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81080" y="167652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ed-Solomon Coding for IEEE 802.11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4960" y="3581280"/>
            <a:ext cx="6434280" cy="193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 Heegard &amp; Matthew Shoe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antro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jugopal Gubb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858B-9A67-4EBB-9D15-AA35D6AD794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066680" y="828720"/>
          <a:ext cx="6912000" cy="5156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828720"/>
                    <a:ext cx="691200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838080" y="91440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6648-DF4D-4C10-8205-0FE45E14C4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54160" y="898560"/>
          <a:ext cx="6923160" cy="51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898560"/>
                    <a:ext cx="692316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838080" y="91440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48C-701B-4A12-A2AF-FC8156D9952F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219320" y="942840"/>
          <a:ext cx="6759360" cy="5042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42840"/>
                    <a:ext cx="6759360" cy="50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838080" y="914400"/>
            <a:ext cx="7543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F4F-0A8E-4429-AC66-411F5115C65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Parameters of Reed-Solomon Codes for MPEG Video Packe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F256 (8 bit byte symb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 &lt;= 257, k = n-2*t, d = 2*t+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rrect t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-2 Packets, k = 188, n = 188+2*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645-23CD-4FE5-A411-BDC1E1ED4AE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CK at 11 Mbps, Es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752480" y="1752480"/>
            <a:ext cx="5295960" cy="4348440"/>
            <a:chOff x="1752480" y="1752480"/>
            <a:chExt cx="5295960" cy="4348440"/>
          </a:xfrm>
        </p:grpSpPr>
        <p:pic>
          <p:nvPicPr>
            <p:cNvPr id="61" name="CCK11EsPreview" descr=""/>
            <p:cNvPicPr/>
            <p:nvPr/>
          </p:nvPicPr>
          <p:blipFill>
            <a:blip r:embed="rId1"/>
            <a:stretch/>
          </p:blipFill>
          <p:spPr>
            <a:xfrm>
              <a:off x="1752480" y="1752480"/>
              <a:ext cx="5295960" cy="43484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2" name=""/>
            <p:cNvGraphicFramePr/>
            <p:nvPr/>
          </p:nvGraphicFramePr>
          <p:xfrm>
            <a:off x="5791320" y="2857680"/>
            <a:ext cx="117000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91320" y="2857680"/>
                      <a:ext cx="1170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41C7-9EAD-491F-B725-9EEC6DB3CF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BCC at 11 Mbps, Es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752480" y="1609560"/>
            <a:ext cx="5372280" cy="4410360"/>
            <a:chOff x="1752480" y="1609560"/>
            <a:chExt cx="5372280" cy="4410360"/>
          </a:xfrm>
        </p:grpSpPr>
        <p:pic>
          <p:nvPicPr>
            <p:cNvPr id="66" name="PBCC11EsPreview" descr=""/>
            <p:cNvPicPr/>
            <p:nvPr/>
          </p:nvPicPr>
          <p:blipFill>
            <a:blip r:embed="rId1"/>
            <a:stretch/>
          </p:blipFill>
          <p:spPr>
            <a:xfrm>
              <a:off x="1752480" y="1609560"/>
              <a:ext cx="5372280" cy="4410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7" name=""/>
            <p:cNvGraphicFramePr/>
            <p:nvPr/>
          </p:nvGraphicFramePr>
          <p:xfrm>
            <a:off x="5840280" y="2743200"/>
            <a:ext cx="117000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840280" y="2743200"/>
                      <a:ext cx="1170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1FE-1B82-40DB-A68A-5203B52594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CK at 11 Mbps, Eb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05120" y="1633680"/>
            <a:ext cx="5327640" cy="4329000"/>
            <a:chOff x="1905120" y="1633680"/>
            <a:chExt cx="5327640" cy="4329000"/>
          </a:xfrm>
        </p:grpSpPr>
        <p:pic>
          <p:nvPicPr>
            <p:cNvPr id="71" name="CCK11EbPreview" descr=""/>
            <p:cNvPicPr/>
            <p:nvPr/>
          </p:nvPicPr>
          <p:blipFill>
            <a:blip r:embed="rId1"/>
            <a:stretch/>
          </p:blipFill>
          <p:spPr>
            <a:xfrm>
              <a:off x="1905120" y="1633680"/>
              <a:ext cx="5327640" cy="43290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2" name=""/>
            <p:cNvGraphicFramePr/>
            <p:nvPr/>
          </p:nvGraphicFramePr>
          <p:xfrm>
            <a:off x="5916600" y="2705040"/>
            <a:ext cx="1170000" cy="41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16600" y="2705040"/>
                      <a:ext cx="1170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0FC-B680-45E5-ABDC-5CF283B254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BCC at 11 Mbps, Eb/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52480" y="1519200"/>
            <a:ext cx="5632560" cy="4576680"/>
            <a:chOff x="1752480" y="1519200"/>
            <a:chExt cx="5632560" cy="4576680"/>
          </a:xfrm>
        </p:grpSpPr>
        <p:pic>
          <p:nvPicPr>
            <p:cNvPr id="76" name="PBCC11EbPreview" descr=""/>
            <p:cNvPicPr/>
            <p:nvPr/>
          </p:nvPicPr>
          <p:blipFill>
            <a:blip r:embed="rId1"/>
            <a:stretch/>
          </p:blipFill>
          <p:spPr>
            <a:xfrm>
              <a:off x="1752480" y="1519200"/>
              <a:ext cx="5632560" cy="4576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7" name=""/>
            <p:cNvGraphicFramePr/>
            <p:nvPr/>
          </p:nvGraphicFramePr>
          <p:xfrm>
            <a:off x="6068880" y="2666880"/>
            <a:ext cx="1170000" cy="419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068880" y="2666880"/>
                      <a:ext cx="11700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 Communications and Sharewav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3FBA-3C4A-45EF-B3CF-7A4D8AA673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5T17:06:24Z</dcterms:created>
  <dc:creator>CH</dc:creator>
  <dc:description/>
  <dc:language>en-US</dc:language>
  <cp:lastModifiedBy>Bozo T. Clown</cp:lastModifiedBy>
  <cp:lastPrinted>1999-10-15T02:12:22Z</cp:lastPrinted>
  <dcterms:modified xsi:type="dcterms:W3CDTF">1999-11-10T19:04:11Z</dcterms:modified>
  <cp:revision>109</cp:revision>
  <dc:subject/>
  <dc:title>No Slide Title</dc:title>
</cp:coreProperties>
</file>