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0D1F-AD2A-42CF-8C0E-DECF78EC1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3291-06E5-4247-8C74-27565E45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4B95-EE14-454C-8DB0-84B939DE3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EE39-574B-46B3-B630-3FDDE1767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EB32-F27E-4884-B5DC-A48B84FC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A604-0FDD-4144-BB54-65728A8A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586B-BD83-4201-9451-934013C6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5A33-C139-454A-B9B6-F7C0D521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41F3-A50E-4A7C-9DE2-0742003A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1882-B23A-4343-ACB0-E80FB0F5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29A7-81A7-44A9-B519-F89B4813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66E1-BFDC-4CC9-895D-3BA4281D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8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93690FD-2D83-43D6-90C9-784FA731F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25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ad Balanc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 Cri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arten Hoe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nowires" descr=""/>
          <p:cNvPicPr/>
          <p:nvPr/>
        </p:nvPicPr>
        <p:blipFill>
          <a:blip r:embed="rId1"/>
          <a:stretch/>
        </p:blipFill>
        <p:spPr>
          <a:xfrm>
            <a:off x="2438280" y="4568760"/>
            <a:ext cx="3886200" cy="91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Broad Market Potent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ly not part of the 802.11 MAC, but very often an important evaluation criter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arded as essential for application of 802.11 based systems in densely populated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vendors already incorporate proprietary solutions in their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Compatibility with IEEE Standard 8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ad balancing is just another parameter in the roaming decision made by the station based on extra information about the load of an access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a pure MAC change (PHY is un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does not change the LLC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ad balancing aware implementations will benefit from new function, current implementations will continue to work as bef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Distinct ident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pplic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’re simply adding something that improves the performance of 802.11 based systems in densely populated a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echnical feasi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extra information fields in the Beacon and Probe Response frames is en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st another parameter in the roaming decision of s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this is more an implementation 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imple modifications to the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en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rietary systems already implement load balancing sche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Economical feasi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ightforward implementation, backward compatibility and proven technology make load balancing economical fea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7T05:07:03Z</dcterms:created>
  <dc:creator>Maarten Hoeben</dc:creator>
  <dc:description/>
  <dc:language>en-US</dc:language>
  <cp:lastModifiedBy>Maarten Hoeben</cp:lastModifiedBy>
  <dcterms:modified xsi:type="dcterms:W3CDTF">1999-11-09T08:12:13Z</dcterms:modified>
  <cp:revision>7</cp:revision>
  <dc:subject/>
  <dc:title>Load Balancing PAR Criteria</dc:title>
</cp:coreProperties>
</file>