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4FC2-CA3C-40F0-B8B8-F97560DA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8856-E3C6-4BC0-A23F-5AD5DC73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B24F-E8AD-4DC4-9677-12739E552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611B-073E-4786-ACC3-B91856650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9DBF-DD82-46F1-9A09-81D09773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617C-1F4E-43AB-AE9B-04C4FD58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7B0D-5DF9-48F5-9E07-0F7E6841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329F-EA23-419B-8B6F-9D85EF4A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FB85-20D7-41AD-BE02-5F005FCE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FDA3-8869-486C-A01E-AB66A399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9650-9E32-4145-B209-D8101C17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0957-C41F-4DAE-9AFF-E67BCC9D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8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6EAA646-C138-4875-8218-D6611EC85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2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 customiza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arten Hoe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owires" descr=""/>
          <p:cNvPicPr/>
          <p:nvPr/>
        </p:nvPicPr>
        <p:blipFill>
          <a:blip r:embed="rId1"/>
          <a:stretch/>
        </p:blipFill>
        <p:spPr>
          <a:xfrm>
            <a:off x="2438280" y="4568760"/>
            <a:ext cx="3886200" cy="91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Broad Market Potent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ors need to incorporate new develop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er then IEEE can standardiz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ors need differ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ket requires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operability requires mechanisms to accommodate these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/3. Compatibility with IEEE Standard 80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ppli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’re simply adding something improves interoperability of systems with proprietary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echnical feas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ructure of management frames already allows frame customization through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reserve element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explicit that the extension of managements frames with additional elements is allo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implementations require no or minor modifications to be compat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Economical feas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current implementations are already compatible with extended management fr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imp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ong market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Hoeben - No 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7T05:30:38Z</dcterms:created>
  <dc:creator>Maarten Hoeben</dc:creator>
  <dc:description/>
  <dc:language>en-US</dc:language>
  <cp:lastModifiedBy>Maarten Hoeben</cp:lastModifiedBy>
  <dcterms:modified xsi:type="dcterms:W3CDTF">1999-11-09T08:12:16Z</dcterms:modified>
  <cp:revision>5</cp:revision>
  <dc:subject/>
  <dc:title>Frame customization PAR Criteria</dc:title>
</cp:coreProperties>
</file>