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2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4880" y="609480"/>
            <a:ext cx="775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4880" y="6477120"/>
            <a:ext cx="7829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59092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access procedures for supporting real-time traffic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bur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tions on Blackbur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ão L. Sobrinho and A.S.Krishnakumar, Real-Time Traffic over the IEEE 802.11 Medium Access Control Layer, Bell Labs Technical Journal, Autumn 19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ão L. Sobrinho and A.S.Krishnakumar, Quality-of-Service in Ad Hoc Carrier Sense Multiple Access Wireless Networks, IEEE Journal on Selected Areas in Communications, Vol. 17, No. 8, August 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4572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5238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sh to support real-time applications with QoS guarantees, e.g., voice,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ccess method - CSMA/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provide QoS guaran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ized access method - p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not operate simultaneously in adjace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an access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9051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interframe spacings, as in the IEEE 802.11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HO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cknowledgment mini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real-time (RT)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data 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ng capabilities, as in CSMA/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ility of RT stations to se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52388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station has an access i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s for at least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K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s the next access instant to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station has a scheduled access i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hannel has been idle fo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,  it trans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wise, waits until channel has been idle for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. and enters into black burst con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352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urst con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75248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of black burst is proportional to delay in accessing the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instants of distinct stations differ by at least T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K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 bursts differ by at least a blac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 winner after a black burst contention period - the station that has been waiting the long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3505320"/>
            <a:ext cx="457560" cy="228960"/>
          </a:xfrm>
          <a:custGeom>
            <a:avLst/>
            <a:gdLst/>
            <a:ahLst/>
            <a:rect l="0" t="0" r="r" b="b"/>
            <a:pathLst>
              <a:path fill="none" w="1271" h="636">
                <a:moveTo>
                  <a:pt x="0" y="212"/>
                </a:moveTo>
                <a:lnTo>
                  <a:pt x="0" y="423"/>
                </a:lnTo>
                <a:lnTo>
                  <a:pt x="889" y="423"/>
                </a:lnTo>
                <a:lnTo>
                  <a:pt x="889" y="636"/>
                </a:lnTo>
                <a:lnTo>
                  <a:pt x="1271" y="318"/>
                </a:lnTo>
                <a:lnTo>
                  <a:pt x="889" y="0"/>
                </a:lnTo>
                <a:lnTo>
                  <a:pt x="889" y="212"/>
                </a:lnTo>
                <a:lnTo>
                  <a:pt x="0" y="21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7240" y="1440000"/>
            <a:ext cx="8037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094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Acknowled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0512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reception of an RT packet, a receiver knows when to expect the next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y of using a negative acknowledgment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ness against hidden stations (implied RTS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80880" y="533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16765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with IEEE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traffic has priority over data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stations access the channel in round-robin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 packets are not subject to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RT stations with distinct bandwidth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hidden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38080" y="990720"/>
            <a:ext cx="73152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 over 802.11 DS 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98600" y="2432160"/>
            <a:ext cx="628956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2 Mbps 802.11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114ffb"/>
                </a:solidFill>
                <a:latin typeface="Times New Roman"/>
                <a:ea typeface="Times New Roman"/>
              </a:rPr>
              <a:t>Average data packet delay = 10 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</a:rPr>
              <a:t>Data Load = 2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voice st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64 Kbps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32 Kbps = 21 </a:t>
            </a:r>
            <a:r>
              <a:rPr b="0" i="1" lang="en-US" sz="28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</a:rPr>
              <a:t>Data load = 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voice sta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64 Kbps =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32 Kbps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Jan Boer</cp:lastModifiedBy>
  <cp:revision>0</cp:revision>
  <dc:subject>Blackburst</dc:subject>
  <dc:title>No Slide Title</dc:title>
</cp:coreProperties>
</file>