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9DB2-4EF0-40BF-B5BC-61697263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045-0546-43BC-8439-13FB465F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A52-F777-4586-AF34-69D6F537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C29-81D4-4172-8B81-272DC74F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759A-1ABA-46CC-B17D-ECC6833C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01D2-6D1C-4D99-A14C-CA97166E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5D9-3465-4E71-B156-EB843F5B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484-24E2-494C-BD61-FC2F7159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FC33-6694-45CD-8290-6D5F5E52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521-9C65-41AE-BACE-5EED7EB9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2A9-3FAC-4252-849A-70EB8120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EEB-91FD-4C24-B2E4-F07226F1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an Winkowski, BreezeCOM Lt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5C0676-B105-4D7C-85CD-0176FC2165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doc.: IEEE 802.11-99/25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on of Protocol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an Winkow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 Lt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61AD-6765-4A22-BA3F-ABC4E5C8304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New PHY’s defined lately in 802.11, while MAC remained stati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Efficiency was analyzed for different packet sizes as well as different transaction scenari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0000"/>
                </a:solidFill>
                <a:latin typeface="Times New Roman"/>
              </a:rPr>
              <a:t>Analisys was performed on a transaction b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  <a:ea typeface="Miriam"/>
              </a:rPr>
              <a:t>Substantial degradation in protocol effici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C25-1BE2-4127-8FC6-7102238F33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ficiency calc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Amount of Network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, 400 and 1500 bytes Data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Transaction d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FC (Data-Ack and  RTS-CTS-Data-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F (CF-Poll{+Data}-CF-Ack{+Data}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D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Nominal Data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Mbps, 11Mbps, 24Mbps and 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90920" y="1676520"/>
          <a:ext cx="3047760" cy="107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676520"/>
                    <a:ext cx="3047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8D78-AA2F-4E1F-89B2-C7E624EE4F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C Efficiency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like Collisions and Backoff were not considered, thus efficiency is actually 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04920" y="1600200"/>
          <a:ext cx="883908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88390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E07-F828-4A78-B3F9-537115121D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: Data-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95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28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4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7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19320" y="1828800"/>
          <a:ext cx="701028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28800"/>
                    <a:ext cx="701028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436-EDFA-4D3E-8D35-D7469665FA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FC: RTS-CTS-Data-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91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143000" y="1685880"/>
          <a:ext cx="7086600" cy="46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85880"/>
                    <a:ext cx="708660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BE6-D095-4CA9-9BE7-16DD8804BD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 performance depends on protocol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simulation i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length: 400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 of different transac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Data (CF-Poll) - Data (CF-Ac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CF-Poll - Data (with CF-Ack on next po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Data (CF-Poll) - CF-Ack (No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F-Poll (No Data) - P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072-D133-4EFC-8C32-3951E4174C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fficiency -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676520"/>
          <a:ext cx="8153280" cy="146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815328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2286000" y="2971800"/>
          <a:ext cx="4648320" cy="358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971800"/>
                    <a:ext cx="46483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4392-06EA-4609-9646-2E8193D357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Quantitative efficiency degradation in all scenarios analy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ssible improvements proposed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frames for Data and Control information (specially in short fram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regation of feedback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in advance by the AP (PCF improveme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619-CEA5-4C5A-BC28-A64A676C33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8:29:19Z</dcterms:created>
  <dc:creator>Alan Winkowski</dc:creator>
  <dc:description/>
  <dc:language>en-US</dc:language>
  <cp:lastModifiedBy>Alan Winkowski</cp:lastModifiedBy>
  <cp:lastPrinted>1998-02-10T13:28:06Z</cp:lastPrinted>
  <dcterms:modified xsi:type="dcterms:W3CDTF">1999-11-09T19:11:27Z</dcterms:modified>
  <cp:revision>8</cp:revision>
  <dc:subject/>
  <dc:title>Protocol Efficiency</dc:title>
</cp:coreProperties>
</file>