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ts val="2999"/>
              </a:lnSpc>
              <a:buClr>
                <a:srgbClr val="0066ff"/>
              </a:buClr>
              <a:buFont typeface="Arial"/>
              <a:buChar char="~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ts val="2999"/>
              </a:lnSpc>
              <a:buClr>
                <a:srgbClr val="0066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Slide </a:t>
            </a:r>
            <a:fld id="{773E63DB-97C7-4074-B83F-077BAA47D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Dr. Rajugopal Gubbi,ShareW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09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76320"/>
            <a:ext cx="906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, 1999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doc.:IEEE P802.11-99/2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2057400"/>
            <a:ext cx="883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ff"/>
                </a:solidFill>
                <a:latin typeface="Arial"/>
              </a:rPr>
              <a:t>Streaming Support for 802.11b MAC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4343400"/>
            <a:ext cx="263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r. Rajugopal Gub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Nov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4E0F4-ACD7-4EDD-BE77-5542D4F0C5C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Is Stream Different From (Async) Data?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or no latency restri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delivery not an iss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data frames are treated equ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latency in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hroughput is an issue as it controls how many streams can be effectively transported at any given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500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s from different streams can NOT be treated equ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19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8579D-F79A-4D8A-BC44-E4AE7ABFA87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at is a Stream?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 are virtual connections over the data frame based MAC/PHY servi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eam is also a set of frames from one application requiring specific services and a specific range of parameter values for the required services. Some of the examples of the services ar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ncy: How often the stream frames are transmitted independent of the network traffic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: How many stream frames are transmitted per second independent of the network traffic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: How important is this stream compared to other traffic o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protection: How much error correction or retransmission is carried out on the frames of the str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39180-57AC-47B3-A053-C05B972A88A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y Streaming?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ources of streams requiring Qos over 802.11B LANs 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ble modem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SL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 data generated inside 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quality 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 or other Video streams from camcorders/P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ll these data are treated equally at 802.11B MAC, the effort of these layers to provide QoS will be undone at 802.11B MA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21710C-ED57-407B-9CF6-482F01D05DA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Some Delivery Requirements</a:t>
            </a:r>
            <a:endParaRPr b="1" lang="en-US" sz="28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 needs 4-5Mbps bandwidth for reasonable quality video and can afford latency of about 3 video frames (approx. 100mse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P needs 64Kbps (or less) but has the latency requirements in the order of 10ms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 could have varying bandwidth requirement depending on the information exchanged but strict latenc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retransmissions of a video or voice data frame is limited due to the required large bandwidth and/or the latency involved. Hence need good channel pro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re are data frames of different types at the same STA, their transmission needs to be prioritized to provide better service to more important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D6D0A-507C-4CCA-8B0F-7E202ED7042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transmission requirements of different data types demand support for str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requires peer-peer communication during CF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ing to broadband needs preservation of Quality of service (Qo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6480" algn="just">
              <a:lnSpc>
                <a:spcPts val="4000"/>
              </a:lnSpc>
              <a:buClr>
                <a:srgbClr val="0066ff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Classes, BW reservation , Bounded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in the wireless channel demands better mechanisms to improve the channel through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coordinators of different BSSs in a nearby locations need to share channel in an efficient, organized m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y is Enhancement Requi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41AE8-2BA3-42A3-B209-B5A6149D24D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14475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upport at the MAC level for streams and priority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sion free channel sharing by multiple overlapping BS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ccess mechanism for Beac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correction based on type of str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based retransmissions based in type of str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 algn="just">
              <a:lnSpc>
                <a:spcPts val="4000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agility to move over to a better channel from a severe chan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What are the Required Enhance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E882F-4527-40EF-9880-5107D0147A3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12680" indent="0" algn="just">
              <a:lnSpc>
                <a:spcPts val="4499"/>
              </a:lnSpc>
              <a:buNone/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. They are compatible. There is NO CHANGE to the existing DCF and PCF ST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con, CFP and NAV currently exist in 802.1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mechanism for Beacon can be overlaid over DC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correction can be made available only for stre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228600" algn="just">
              <a:lnSpc>
                <a:spcPts val="4499"/>
              </a:lnSpc>
              <a:buClr>
                <a:srgbClr val="0066ff"/>
              </a:buClr>
              <a:buFont typeface="Arial"/>
              <a:buChar char="•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ntrol frames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in them can be defined without affecting the compatibility with the existing 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re These Enhancements Compat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A0177A-4985-4E09-824C-BFFE80C2AD8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ts val="3498"/>
              </a:lnSpc>
              <a:buNone/>
              <a:tabLst>
                <a:tab algn="l" pos="0"/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stream enhancements to the 802.11 are possib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imple but efficient scheduling mechanism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complexity error correction schemes with little bandwidth overhead are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, low complexity selective retransmission mechanism is 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form of channel agility is already present in 802.11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ts val="3498"/>
              </a:lnSpc>
              <a:buClr>
                <a:srgbClr val="808080"/>
              </a:buClr>
              <a:buFont typeface="Arial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quired co-ordinations can be achieved by simple control information exchange between the devices based on the dem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Are the Enhancements Fea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F4B65-A575-4D8C-9854-8DB544B8C66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1:29:48Z</dcterms:created>
  <dc:creator>Dr. Rajugopal Gubbi, Network Architecture Manager</dc:creator>
  <dc:description/>
  <cp:keywords>wireless networks architecture whitecap home networks isochronous streams network services</cp:keywords>
  <dc:language>en-US</dc:language>
  <cp:lastModifiedBy>Harry R. Worstell</cp:lastModifiedBy>
  <cp:lastPrinted>1999-09-09T16:30:38Z</cp:lastPrinted>
  <dcterms:modified xsi:type="dcterms:W3CDTF">1999-11-10T20:15:28Z</dcterms:modified>
  <cp:revision>747</cp:revision>
  <dc:subject>Overall multimedia streaming Proposal for 802.11B</dc:subject>
  <dc:title>Overall multimedia streaming Proposal presentation to 802.11B</dc:title>
</cp:coreProperties>
</file>