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lide </a:t>
            </a:r>
            <a:fld id="{8CE6DE13-F91B-417C-A370-CA643651E2E8}" type="slidenum">
              <a:rPr b="0" lang="en-US" sz="1400" spc="-1" strike="noStrike">
                <a:solidFill>
                  <a:srgbClr val="000000"/>
                </a:solidFill>
                <a:latin typeface="Times New Roman"/>
              </a:rPr>
              <a:t>&lt;number&gt;</a:t>
            </a:fld>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Dr. Rajugopal Gubbi,ShareWave</a:t>
            </a:r>
            <a:endParaRPr b="0" lang="en-US" sz="14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1999</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doc.: IEEE P802.11-99/260</a:t>
            </a:r>
            <a:endParaRPr b="0" lang="en-US" sz="1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utorial: Efficient Scheduling Overlay for 802.11b MAC</a:t>
            </a:r>
            <a:endParaRPr b="0" lang="en-US" sz="3400" spc="-1" strike="noStrike">
              <a:solidFill>
                <a:srgbClr val="000000"/>
              </a:solidFill>
              <a:latin typeface="Times New Roman"/>
            </a:endParaRPr>
          </a:p>
        </p:txBody>
      </p:sp>
      <p:sp>
        <p:nvSpPr>
          <p:cNvPr id="45" name=""/>
          <p:cNvSpPr/>
          <p:nvPr/>
        </p:nvSpPr>
        <p:spPr>
          <a:xfrm>
            <a:off x="3124080" y="4343400"/>
            <a:ext cx="263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Nov,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69A211F1-FF0C-40FA-BB97-4E14C2787353}"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Scheduling?</a:t>
            </a:r>
            <a:endParaRPr b="1" lang="en-US" sz="2800" spc="-1" strike="noStrike">
              <a:solidFill>
                <a:srgbClr val="0066ff"/>
              </a:solidFill>
              <a:latin typeface="Arial"/>
            </a:endParaRPr>
          </a:p>
        </p:txBody>
      </p:sp>
      <p:sp>
        <p:nvSpPr>
          <p:cNvPr id="47" name="PlaceHolder 2"/>
          <p:cNvSpPr>
            <a:spLocks noGrp="1"/>
          </p:cNvSpPr>
          <p:nvPr>
            <p:ph/>
          </p:nvPr>
        </p:nvSpPr>
        <p:spPr>
          <a:xfrm>
            <a:off x="152280" y="1219320"/>
            <a:ext cx="8763120" cy="5029200"/>
          </a:xfrm>
          <a:prstGeom prst="rect">
            <a:avLst/>
          </a:prstGeom>
          <a:noFill/>
          <a:ln w="0">
            <a:noFill/>
          </a:ln>
        </p:spPr>
        <p:txBody>
          <a:bodyPr lIns="92160" rIns="92160" tIns="46080" bIns="46080" anchor="t">
            <a:normAutofit fontScale="99000"/>
          </a:bodyPr>
          <a:p>
            <a:pPr marL="17136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eduling can be defined as an organized way of sharing the channel by the STAs for real time data transmission with little bandwidth overhead</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send beacon without having to contend for the channel each time</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balance between the CFP and CP operation of a network</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STA to transmit its stream at certain interval without having to contend for the channel each time.</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cater to different priority and retransmission requirements of different streams</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network to provide all the above without additional bandwidth overhead</a:t>
            </a:r>
            <a:endParaRPr b="1" lang="en-US" sz="2000" spc="-1" strike="noStrike">
              <a:solidFill>
                <a:srgbClr val="000000"/>
              </a:solidFill>
              <a:latin typeface="Arial"/>
            </a:endParaRPr>
          </a:p>
          <a:p>
            <a:pPr marL="171360" indent="-17136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 coordinator to efficiently share CFP with other coordinator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52556D7B-E640-4108-A4C1-5CB070052BAC}"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Coordination Needed?</a:t>
            </a:r>
            <a:endParaRPr b="1" lang="en-US" sz="2800" spc="-1" strike="noStrike">
              <a:solidFill>
                <a:srgbClr val="0066ff"/>
              </a:solidFill>
              <a:latin typeface="Arial"/>
            </a:endParaRPr>
          </a:p>
        </p:txBody>
      </p:sp>
      <p:sp>
        <p:nvSpPr>
          <p:cNvPr id="49" name="PlaceHolder 2"/>
          <p:cNvSpPr>
            <a:spLocks noGrp="1"/>
          </p:cNvSpPr>
          <p:nvPr>
            <p:ph/>
          </p:nvPr>
        </p:nvSpPr>
        <p:spPr>
          <a:xfrm>
            <a:off x="304560" y="1143000"/>
            <a:ext cx="8381880" cy="510552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ion based scheduling requires only one STA in the BSS to be able to perform scheduling. Pure distributed scheduling requires that all STAs to be able to perform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scheduling can easily identify the differences between two types of data with different transmission requirements (like Voice and Video) unlike the distributed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scheduling is prone to be easily de-synchronized than the coordinated scheduling. One example is when two or more STA’s wants to make use of the distributed scheduling and the first STA’s scheduling is disturbed by interference or a frame from a DCF STA.</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ted scheduling provides lot more control for scheduling</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od neighbor policies are easy to implement in coordinated scheduling than in distributed scheduling.</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AA1874F2-6EB8-4C04-8EBB-FD7501994809}"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Required for Efficient Scheduling?</a:t>
            </a:r>
            <a:endParaRPr b="1" lang="en-US" sz="2800" spc="-1" strike="noStrike">
              <a:solidFill>
                <a:srgbClr val="0066ff"/>
              </a:solidFill>
              <a:latin typeface="Arial"/>
            </a:endParaRPr>
          </a:p>
        </p:txBody>
      </p:sp>
      <p:sp>
        <p:nvSpPr>
          <p:cNvPr id="51" name="PlaceHolder 2"/>
          <p:cNvSpPr>
            <a:spLocks noGrp="1"/>
          </p:cNvSpPr>
          <p:nvPr>
            <p:ph/>
          </p:nvPr>
        </p:nvSpPr>
        <p:spPr>
          <a:xfrm>
            <a:off x="380880" y="1143000"/>
            <a:ext cx="8305920" cy="502920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free operation</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peer communication during CFP for best throughput</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the coordinator to synchronize transmissions of STAs taking into account the type of stream transmitted </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the coordinator to limit the transmission of an STA to a particular time duration</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an STA to transmit only during certain time duration within CFP as dictated by the coordinator.</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of coordinator and STAs to negotiate the transmission duration and intervals between such transmission opportunities</a:t>
            </a:r>
            <a:endParaRPr b="1"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indicate the end of transmission by STA and end of CFP by coordinator so as to be a GOOD neighbors to other STAs/BSS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B8801D06-3ABB-4779-AA48-5F24D31A5E36}"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Scheduling Feasible?</a:t>
            </a:r>
            <a:endParaRPr b="1" lang="en-US" sz="2800" spc="-1" strike="noStrike">
              <a:solidFill>
                <a:srgbClr val="0066ff"/>
              </a:solidFill>
              <a:latin typeface="Arial"/>
            </a:endParaRPr>
          </a:p>
        </p:txBody>
      </p:sp>
      <p:sp>
        <p:nvSpPr>
          <p:cNvPr id="53" name="PlaceHolder 2"/>
          <p:cNvSpPr>
            <a:spLocks noGrp="1"/>
          </p:cNvSpPr>
          <p:nvPr>
            <p:ph/>
          </p:nvPr>
        </p:nvSpPr>
        <p:spPr>
          <a:xfrm>
            <a:off x="228600" y="1371240"/>
            <a:ext cx="8763120" cy="4876920"/>
          </a:xfrm>
          <a:prstGeom prst="rect">
            <a:avLst/>
          </a:prstGeom>
          <a:noFill/>
          <a:ln w="0">
            <a:noFill/>
          </a:ln>
        </p:spPr>
        <p:txBody>
          <a:bodyPr lIns="90000" rIns="90000" tIns="46800" bIns="46800" anchor="t">
            <a:normAutofit/>
          </a:bodyPr>
          <a:p>
            <a:pPr marL="230040" indent="0" algn="just">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YES</a:t>
            </a:r>
            <a:r>
              <a:rPr b="0" lang="en-US" sz="2000" spc="-1" strike="noStrike">
                <a:solidFill>
                  <a:srgbClr val="000000"/>
                </a:solidFill>
                <a:latin typeface="Arial"/>
              </a:rPr>
              <a:t>,</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P already exists in 802.11.  </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peer communication exists in 802.11. Needs to be extended to CFP</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ssion synchronization can be easily achieved by extending the concept of NAV within CFP</a:t>
            </a:r>
            <a:endParaRPr b="1" lang="en-US" sz="2000" spc="-1" strike="noStrike">
              <a:solidFill>
                <a:srgbClr val="000000"/>
              </a:solidFill>
              <a:latin typeface="Arial"/>
            </a:endParaRPr>
          </a:p>
          <a:p>
            <a:pPr marL="230040" indent="-230040" algn="just">
              <a:lnSpc>
                <a:spcPts val="4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otiations between STA and the coordinator can be easily achieved by exchanging control information between them at the beginning of the session.</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07A4F489-EB4D-4DC8-B628-1C5D51B7E1E6}"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Network Architecture Manager</dc:creator>
  <dc:description/>
  <cp:keywords>wireless networks architecture whitecap home networks isochronous streams network services</cp:keywords>
  <dc:language>en-US</dc:language>
  <cp:lastModifiedBy>Harry R. Worstell</cp:lastModifiedBy>
  <cp:lastPrinted>1999-09-09T16:30:38Z</cp:lastPrinted>
  <dcterms:modified xsi:type="dcterms:W3CDTF">1999-11-10T20:42:35Z</dcterms:modified>
  <cp:revision>690</cp:revision>
  <dc:subject>Dyanamic TDM based scehduling for 802.11B</dc:subject>
  <dc:title>Scheduling Overlay for 802.11B</dc:title>
</cp:coreProperties>
</file>