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08A94-4CEB-4DE0-8B44-058FBC2719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0BE57-86CD-46D1-9434-01B12AFA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DD59F-F1DB-4B57-942C-F01042CB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AED98-DB56-40BB-B6FD-519F24B7B1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97E06-3DBB-45C7-9279-387A0ECA2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B33EC-E536-42F8-B134-B324C937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0887F-1746-4F20-829E-C9734439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51C69-5ED2-482B-8817-470D82F5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44388-4323-4647-B50C-3A204393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21F3-28B8-444D-A30E-05268E7F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438BF-922D-4618-A5FF-2051D78B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0EA16-0955-4CB3-85E4-55C30568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334120" y="624852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Beach, Symbol Technolog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6320" y="609480"/>
            <a:ext cx="7751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248520"/>
            <a:ext cx="782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6D4C-18BF-4E1B-ADF7-795C1D7277D4}" type="datetime5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429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9392852-FCD2-4454-AB31-41FBD857C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Issues with IEEE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B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mbol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3664E-2F8C-461B-82B5-78E7853FE99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A6A5D9-43E6-4A51-847B-2A94F93DED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ual User Access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buys AP and attaches it to office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xperiment/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ssist others in breaking into corporate 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ttached, the corporate net is wide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Admins are unaware of new 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at corporate security has now been completely compromi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60185-A7E1-43FF-AE81-415C3F7B329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CB171-1013-4FB1-9C81-736AAB7E9F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ection of Access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means to detect presence of 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Administrators can detect all 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be disab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52AD1-C3F3-434E-B34B-E7806D16A52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3140C-9374-46F4-9A39-82069364B4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Authenticatio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enterprise authentication solutions on the horiz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 2000 uses Kerb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h mechanisms may support WLAN authentication and key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authentication may interfere with such mechani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58619-D4A1-46A7-8C77-2B3EE222743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665D8-5C06-49A6-B9B2-A80EA8FA41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Authenticatio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levels of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r n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uthenticate, then associate model prevents limited access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 may communicate with authentication servers but nothing el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Kerberos may use Network Time Protocol to obtain timesta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95C63-3DDF-4CB7-AAF8-79F0A6CC183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1D1D0-1DE4-4CA9-A1F4-F072378C72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hentication Improv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levels of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authentication servers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te out authentication and encryption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erprise authentication, but WEP for priv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9AA64-7A48-4999-A77B-F6950781190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BFD455-CE52-4E7B-B05C-8607441C36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EE 802.11 was designed for a generally benign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LANs are very tempting to hac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ing attached to corporate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types of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issues that need addr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than just WEP key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2943D-9EC6-461F-A579-405F7E9584C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69052-888B-4E17-BC45-9D45F847DE9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ptations of W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thing is available for the t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physical access to corporate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passes corporate firew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 and AP technology readily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still learning to install/use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is moderately defens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A9472-A827-4887-8EAC-FA793A7B97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6513BA-23A7-4DAF-AD4E-AA72657325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tacks and Attackers are Var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ing into Ente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al data, corrupt 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 IP addresses for other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disruptions are as bad as break-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d Ex, UPS use wireless LANs for package sor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kers are worldwide and organ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schief/fun, ideological, commerc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E0C21-C2A7-4F63-9F47-D20C1206955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1540CF-1A31-475F-BC75-9A814ECEB2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Security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a relatively benign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weight Authorization/encryp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Problem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ity of RF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Address Forg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ion of Unauthorized 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of 802.11 authorization mechanism and other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C6343-9D0F-4CD9-B3AE-9EDF03315D5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A0E72-C30B-407C-BE3B-62FD5EB0C3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ity of RF Protoco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ion of phony management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eans to verify identity of s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completely (or partially) disrupt netwo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172D8-BDBF-4596-873B-DBD6E99A723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6432C-AE57-4B3D-AA09-CEB5830A8A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RF Protocol Attack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y associate requests consume AP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y power management mod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y RTS/CTS Packets waste bandwid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y Disassociate requests disconnect 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y beacons to consume MU battery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y probe responses confuse MU ro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ny poll requests steal MU’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C7704-3A23-4C52-B8D7-B0950089552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9A7D8-69E5-4752-A937-F0F36BC243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F Protocol Integrity Reqm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to verify identity of s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s to prevent replay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 and retransmission of “good packet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F5A7C-E68A-4B64-B53C-A5A36401A6E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2C288-C113-40A8-9446-ECB96E4E09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 Address Forg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 Addresses are subject to Forge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Vendors NIC cards can be reprogramm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y development kits from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vendors rely on Access Control Lists for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means to verify MAC address/MU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2DA75-A647-4771-8272-7D3032CBA03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AB145-855A-4604-BB27-1885F1A78B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uthorized Access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 in the parking lo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e MAC address as real A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acts Mobile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may be simple mischief  or wo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 Disrupt operation of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looks okay, but nothing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k Mobile Unit weakn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ed to MU, break in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C24F6-2116-4CCD-A7B3-5C174ABA3BA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3219A-FFE8-4524-8447-B372E06E81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0T19:06:16Z</dcterms:created>
  <dc:creator>Bob Beach</dc:creator>
  <dc:description/>
  <dc:language>en-US</dc:language>
  <cp:lastModifiedBy>Bob Beach</cp:lastModifiedBy>
  <cp:lastPrinted>1999-09-29T19:25:50Z</cp:lastPrinted>
  <dcterms:modified xsi:type="dcterms:W3CDTF">1999-11-10T19:04:27Z</dcterms:modified>
  <cp:revision>28</cp:revision>
  <dc:subject/>
  <dc:title>Security Issues with IEEE 802.11</dc:title>
</cp:coreProperties>
</file>