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EA-1DC2-4324-9811-AAA61127B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A3D3-AA12-4480-9C9F-BD5D71A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910-A845-48D6-B27F-266BAE16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BC4E-4717-4D3D-B86C-1A7B1656F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BA9F-A848-4D41-93D6-1F656280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A76D-C79E-4D3E-BC1C-EA909040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D41-2E86-422F-99A7-50FA467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6CF5-C442-42F3-8C0F-E8F3EE0A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0AFA-0356-483E-83AF-77B954AE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84B-668F-4FE4-98E4-A8233C94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24C-00A3-4392-BF5F-D9CB200D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E98-0832-4071-B221-4B01CE5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5F93-B839-4A15-BC17-5181B9B87B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16FC90-A50A-44FE-9AD7-96193B4BC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F Ligh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ion if this is 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Action at This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4 GHz NPRM Com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NPRM Com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4 Comments, 14 with Support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futing Data F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d Draft Reply -- in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 -- RA Consult D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feels need for coexist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ETSI/IEEE coexiste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y to UK RA RF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Carlo, Fred Lucas, Vic Ha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GHz World W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is still in 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Position to US SG8a/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C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Standard Software Service</cp:lastModifiedBy>
  <dcterms:modified xsi:type="dcterms:W3CDTF">1999-11-11T02:47:34Z</dcterms:modified>
  <cp:revision>5</cp:revision>
  <dc:subject/>
  <dc:title>802.11 Regulatory Issues  Study Group</dc:title>
</cp:coreProperties>
</file>