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83F7097-A654-4D0F-8272-208CE889A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pitching this report -99/64r0 on Monday at 9:19am to the P802.15 Full W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itch is specifically for the following agenda -99/54r2  it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3.3 II REPORT ON TG1 ACTIVITIES AND PLANS - GIFFORD 10 09:19 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update this report to r1 and r2 for Wednesday &amp; Friday Full WG Updates.  I will need help on the Friday Report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CD5-6BFE-4DA9-B048-804904940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C919-3850-460B-9CC3-00586800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078-B645-4140-A3D5-72838E32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CCF1-10A4-46D8-8272-139EA99B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DCE9-D499-4867-A04C-18259F34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9BBE-D029-4C57-9182-1BFEC8FA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0F7-D2FE-40E5-B96B-20DF01F3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ED4-C9C4-4917-91A8-495B5CB0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BBC-1E43-4AE0-AE32-C8AA1138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EFF7-AA48-43D9-B1F1-1144F60A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CAA-32BA-4BA1-B05A-96E54575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8A08-E6D3-48FC-9AE5-661DEF88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B0E036E-1218-4778-8F51-474B98F24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2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image" Target="../media/image7.wmf"/><Relationship Id="rId1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G1 Report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att Regency Kaua'i, 1571 Poipu Road Koloa, HI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7C43-68C2-42D0-93CE-58464F503A0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as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uetooth SIG Letter of Intent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1 July 5-9, 1999 Montreal, PQ, Can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Finalize the Copyright License Agreement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2 September 13-17, 1999 Santa Rosa, CA USA Hilton 802.15 Interim Meetin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Finalize Draft Standard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-IEEE WG Submit Draft Standard to BSIG Program Management (C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Review Derivative Draft Standard Submission (BS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IG Disposition Draft Standard/Submit to IEEE P802.15, if ok (J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Compose P802.15 WG Electronic Letter #1 Ballot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Upload Draft Standard to the private Web Site (I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3 November 8-12, 1999 Kauai, Hawaii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Authorize P802.15 WG LB #1 between the 11Nov99 - 10Dec99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WG Letter Ballot #1 Package Distribution (B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Letter Balloting 11Nov99 - 10Dec99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Process, Consolidate, and Distribute Draft Comments 13-16Dec99 (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802.15 Electronic WG LB #1 Comment Resolution (W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4 January 10-14, 2000 Tel-Aviv, IL InterContinental, 802.15 Interim Meetin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ing #5 March 6-10, 2000 Albuquerque, NM Hyatt Regency, 802 Plenary Meet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572000"/>
            <a:ext cx="71629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ACED-CEF9-4427-A089-F5BFA99FAE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verview of the TG1 Time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35800" y="5043600"/>
            <a:ext cx="739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urrent plan is to have TG1 make a motion to the P802.15 Full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November Plenary on Wednesday, 10Nov99 to authorize the LB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start on Thursday, 11Nov99 with the Bluetooth Draft 0.6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8Nov99" descr=""/>
          <p:cNvPicPr/>
          <p:nvPr/>
        </p:nvPicPr>
        <p:blipFill>
          <a:blip r:embed="rId1"/>
          <a:stretch/>
        </p:blipFill>
        <p:spPr>
          <a:xfrm>
            <a:off x="282600" y="1528920"/>
            <a:ext cx="8556480" cy="3232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781680" y="32004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248520" y="3428640"/>
            <a:ext cx="91440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1440" y="6208560"/>
            <a:ext cx="187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Project6.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EB1-2A21-4BDF-ACE1-64818E0380D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’i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VIDE A MOTION TO SUBMIT THE DRAFT TO WG LETTER BALLOT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PROVIDE A MOTION TO REVIEW THE COMMENTS FROM WG LB #1 ON OR BEFORE 10-14JAN00 INTE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PROVIDE AN UPDATE ON TG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ROVIDE AN OVERVIEW OF THE IEEE DRAFT DERIVED FROM THE BLUETOOTH SPECIFICATION(S) &lt;TUTORIAL 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PROVIDE A MOTION TO WG TO INVOKE "OR" STATUS FOR BSIG, IF APPROVED FWD TO SEC AS A 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. DRAFT TG1 OPERATING RULES AND PROVIDE A MOTION RESULT TO WG, WG APPRO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. PROVIDE A MOTION TO REPLACE PARVIZ KERMANI WITH CHATSCHIK BISDIK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A77B-7579-43B3-8BBB-57B6B17B6F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Submi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Sub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Draft Submission v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P802-15/D0.6 [...P802-15-1_D0-6…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“how to” review the P802.15.1 Draft v0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ing Plenary Conference Tutorial #3 on Tuesday 9Nov99 from 6:30 to 8:00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OF THE P802.15 v0.6 DRAFT STANDARD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TOOTH ARCHITECTURE OVERVIEW -99/069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THE BLUETOOTH SPEC. TO IEEE 802.15.1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2200" indent="-2192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802.15.1 V0.6 DRAFT STANDARD OVERVIEW -99/xxx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EC7-23E0-4F12-9662-65AB246B1A5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740560" y="3200400"/>
            <a:ext cx="1498320" cy="7621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77960" y="4648320"/>
            <a:ext cx="1460520" cy="9903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51040" y="3962520"/>
            <a:ext cx="17017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40160" y="2514600"/>
            <a:ext cx="1498320" cy="685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WG vs. TG1 S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762120"/>
            <a:ext cx="228600" cy="2286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9720" y="76212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Task Group 1 in 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20" y="1295280"/>
            <a:ext cx="8963280" cy="52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Monday    |  Tuesday  |Wednesday    |   Thursday |   Frida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ExCom    |    HR     |     MC      |    MC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AM |             |...........|.............|............|    802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.............|           |             |            |  Closing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802     |    TG1    |     SG      |    SG      |  Plenary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Full 802.15 |    SG     | Joint.11/.15|    TG1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PM |.............|           |.............|. . . . . .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TG1     |           | Full 802.15 |Full 802.15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           | 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Eve-|             |  BT-IEEE  |   Social    | Doc Editing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ning|             |  Tutorial |             |............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    |             |6:30p-8:00p|             |    ExCom   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G1 = Bluetooth Submission, SG = Coexistence, MC = 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8A30-1D7A-445F-ABC0-8276B33728E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G1 Motion Schedu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G1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1 - Vice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G 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2 - LB #1 Commen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3 - Electronic or empower Tel-Aviv for Comment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#4 - OR Status for 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F11A-9675-4C04-ADF7-F76DB40A182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1: Posted P802.15.1 Draft 4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743200" y="27432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her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d to the P802.15 Private 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F00-E45E-48D6-B708-84C4BB3336A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2: Our plan is to start the Letter Ballot #1 Process on 11Nov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297180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make a motion 10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to  release LB#1 on 11Nov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3D92-13A7-49B6-806B-B7592EB2EA3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ep 3: Our plan is to stop the Letter Ballot #1 Process on 10Dec9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280" y="2106720"/>
          <a:ext cx="784872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06720"/>
                    <a:ext cx="784872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784680"/>
            <a:ext cx="6019920" cy="1523880"/>
          </a:xfrm>
          <a:prstGeom prst="leftArrow">
            <a:avLst>
              <a:gd name="adj1" fmla="val 50000"/>
              <a:gd name="adj2" fmla="val 9876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plan is to be here 10Dec99 and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LB Comments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DDD-B30E-4B24-8B63-C4331ACEBB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Nov99 the P802.15 Working Group will be comprised of 42 voting member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ouman Alborz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imitri Alexandro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imon Baatz (Simo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dul Batliwala (Edu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an Bien (Al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Chatschik Bisdikia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ve Carlson (Da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Harshal Chhaya (Harsha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m. Caldwell Crossw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William Cruz (Bil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Ditch (Ric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ichard Eckard (D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urt Fischer (Ku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atthias Frank (Matthi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an Gifford (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. Nada Golmie (Nad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llen Heberling (Alle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Robert Heile (Bob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John Paul Jones (Joh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rinivas Kanda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Parviz Kermani (Parviz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uart Kerry (Stuar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atrick Kinney (Pa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uce P. Kraemer (Bruc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Yunxin Li (Yunx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Daniel R. McGlyn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chael D. McInnis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Akira Miura (Akira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Thomas Müller (Thoma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Peter Murry (Pete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Erwin R. Noble (Erwi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Mike Paczonay (Mik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rto Palin (Art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Davis Pan (Davi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Ivan Reede (Iv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Carlos A. Rios (Carlo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Brian E. Roan (Brian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Karlheinz Schwarz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Stephen J. Shellhamm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Thomas Siep (To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Nick Stapleton (Nick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Steve Torp (Stev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. Fujio Watanabe (Fujio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3784680"/>
            <a:ext cx="4038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2286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19080" y="112680"/>
            <a:ext cx="24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Resignation prior to the LB #1 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71F-EE53-4213-8C8E-83B73B6CE5DD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Santa 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G1 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iew of Kaua’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on Schedu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B#1 Motion Detail &amp; WG Ballot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T-IEEE Editorial Working Group Drafting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530-8E74-4970-B4C2-8449836B4A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T-IEEE Editorial Working Group Drafting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0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1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2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3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3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4 - Tom Siep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5 - BT-IEEE Editorial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1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hief Editor/6 Technical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Bluetooth Promoter Company Reviewers w/ internal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300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ft 0.6 - BT-IEEE Editorial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8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0FA-0989-4667-B0A6-A520B2351C2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nta Rosa -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N OVERVIEW OF THE BLUETOOTH SPECIFICATION(S), VIA TUTO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A PLAN FOR AN INITIAL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SUBMIT THE DRAFT TO WG LETTER BALLOT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 TO REVIEW THE COMMENTS FROM WG LB #1 IN NOV99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OTE TO EMPOWER THE TG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F96D-FDF1-471E-B35C-5633D3A6874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74880" y="1619280"/>
            <a:ext cx="795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on: To empower the TG1 Chair and Vice Chair to release the Bluetooth submission on behalf of TG1 to the 802.15 WG and to make a motion to the 802.15 WG to submit the Draft to Lette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30040" y="3643200"/>
            <a:ext cx="2480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ed:Tom Si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ond:Chatschik Bisdik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in Favor: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Opposed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taining: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 - Vote on TG1 Draft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01680" y="3138480"/>
            <a:ext cx="16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7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65320" y="547848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4E6F-3EDC-4EAF-A818-8948C67F42D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a Rosa - Mapping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371600" y="2057400"/>
            <a:ext cx="6426360" cy="3809880"/>
            <a:chOff x="1371600" y="2057400"/>
            <a:chExt cx="6426360" cy="3809880"/>
          </a:xfrm>
        </p:grpSpPr>
        <p:graphicFrame>
          <p:nvGraphicFramePr>
            <p:cNvPr id="68" name=""/>
            <p:cNvGraphicFramePr/>
            <p:nvPr/>
          </p:nvGraphicFramePr>
          <p:xfrm>
            <a:off x="1371600" y="2057400"/>
            <a:ext cx="6426360" cy="3809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71600" y="2057400"/>
                      <a:ext cx="6426360" cy="380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3733920" y="5029200"/>
            <a:ext cx="2197080" cy="547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3920" y="5029200"/>
                      <a:ext cx="2197080" cy="547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3809880" y="3505320"/>
            <a:ext cx="2370240" cy="1469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09880" y="3505320"/>
                      <a:ext cx="237024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3809880" y="3048120"/>
            <a:ext cx="3054600" cy="1481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9880" y="3048120"/>
                      <a:ext cx="3054600" cy="1481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3048120" y="2743200"/>
            <a:ext cx="4255920" cy="131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048120" y="2743200"/>
                      <a:ext cx="4255920" cy="131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2057400" y="2743200"/>
            <a:ext cx="3970440" cy="1508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057400" y="2743200"/>
                      <a:ext cx="3970440" cy="15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" name=""/>
          <p:cNvSpPr/>
          <p:nvPr/>
        </p:nvSpPr>
        <p:spPr>
          <a:xfrm>
            <a:off x="639720" y="6208560"/>
            <a:ext cx="685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802.15-99/071r0, "Mapping the Bluetooth Specification to IEEE 802.15.1", Tom Siep, 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3827520" y="2685960"/>
            <a:ext cx="1488960" cy="14842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98520" y="35053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44080" y="1828800"/>
            <a:ext cx="26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5.1 Abstract Networ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884C-37E8-43D5-B7F3-8D885A827D8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TG1 Issues 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think that our efforts would really be wasted if we develop an 802.15.1 standard th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oo late to be relevant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s (but not leveraged by) the original Bluetooth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onfusing to the people that are already familiar with the Bluetooth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ntentionally deviates from the original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the v0.6 standard is 1:1 Bluetoo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5FAD-AF96-4D06-8F84-F13E591E3E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Main Outline Overview (D0.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s 1 through 4: IEEE-required reference materi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5: Over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6: PHY (Direct copy of Part A, Radio Specification [1.0a]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7: MAC Short introduction, followed b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1 (Direct copy of Part B, Baseband Specification [1.0a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34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2 (Direct copy of Part C, Link Manager Protocol [1.0a]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Arial"/>
              </a:rPr>
              <a:t>Section 7.3 (Direct copy of Part D, Logical Link Control and Adaptation Protocol [1.0a]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use 8: Service Access Points (General Material and one example of how SAPs will be documented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A: Placeholder for Protocol Implementation Conformance Statement (PIC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B: Placeholder for MAC Formal 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C: Placeholder for PHY Formal Defin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cc"/>
                </a:solidFill>
                <a:latin typeface="Arial"/>
              </a:rPr>
              <a:t>Annex D: Generic Access Profile (Direct copy [1.0a]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ex E: Bibliography (incomplet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C569-5740-436F-9487-35089747A2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OSI RF to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06560" y="1981080"/>
            <a:ext cx="7121160" cy="4149360"/>
            <a:chOff x="1006560" y="1981080"/>
            <a:chExt cx="7121160" cy="4149360"/>
          </a:xfrm>
        </p:grpSpPr>
        <p:sp>
          <p:nvSpPr>
            <p:cNvPr id="91" name=""/>
            <p:cNvSpPr/>
            <p:nvPr/>
          </p:nvSpPr>
          <p:spPr>
            <a:xfrm>
              <a:off x="1200600" y="4574520"/>
              <a:ext cx="2201040" cy="259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L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00600" y="4834080"/>
              <a:ext cx="2201040" cy="258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00600" y="5093280"/>
              <a:ext cx="1488960" cy="518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00600" y="4574520"/>
              <a:ext cx="1488960" cy="51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ata 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00600" y="405612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00600" y="3537000"/>
              <a:ext cx="1488960" cy="51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rans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00600" y="301860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s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00600" y="2499840"/>
              <a:ext cx="148896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es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00600" y="1981080"/>
              <a:ext cx="1488960" cy="51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06560" y="5612040"/>
              <a:ext cx="1877400" cy="51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3401640" y="3990600"/>
              <a:ext cx="1424160" cy="84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89560" y="5612040"/>
              <a:ext cx="213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911120" y="1981080"/>
              <a:ext cx="3216600" cy="3630600"/>
              <a:chOff x="4911120" y="1981080"/>
              <a:chExt cx="3216600" cy="3630600"/>
            </a:xfrm>
          </p:grpSpPr>
          <p:sp>
            <p:nvSpPr>
              <p:cNvPr id="104" name=""/>
              <p:cNvSpPr/>
              <p:nvPr/>
            </p:nvSpPr>
            <p:spPr>
              <a:xfrm>
                <a:off x="4911120" y="5250960"/>
                <a:ext cx="2462400" cy="360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11120" y="4808160"/>
                <a:ext cx="2462400" cy="38736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Arial"/>
                  </a:rPr>
                  <a:t>Baseb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11120" y="3975840"/>
                <a:ext cx="602640" cy="776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Aud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63800" y="4392360"/>
                <a:ext cx="1809720" cy="360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Arial"/>
                  </a:rPr>
                  <a:t>Link Manag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63800" y="3975840"/>
                <a:ext cx="1155600" cy="360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00"/>
                    </a:solidFill>
                    <a:latin typeface="Arial"/>
                  </a:rPr>
                  <a:t>L2CA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11120" y="2868480"/>
                <a:ext cx="2311560" cy="1051920"/>
              </a:xfrm>
              <a:custGeom>
                <a:avLst/>
                <a:gdLst/>
                <a:ahLst/>
                <a:rect l="l" t="t" r="r" b="b"/>
                <a:pathLst>
                  <a:path w="2208" h="912">
                    <a:moveTo>
                      <a:pt x="624" y="912"/>
                    </a:moveTo>
                    <a:lnTo>
                      <a:pt x="0" y="0"/>
                    </a:lnTo>
                    <a:lnTo>
                      <a:pt x="2208" y="0"/>
                    </a:lnTo>
                    <a:lnTo>
                      <a:pt x="1728" y="912"/>
                    </a:lnTo>
                    <a:lnTo>
                      <a:pt x="624" y="91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911120" y="2424240"/>
                <a:ext cx="67428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652720" y="2424240"/>
                <a:ext cx="46368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HI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167880" y="2424240"/>
                <a:ext cx="1078560" cy="38880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RFCOM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70600" y="2424240"/>
                <a:ext cx="1256760" cy="1922040"/>
              </a:xfrm>
              <a:custGeom>
                <a:avLst/>
                <a:gdLst/>
                <a:ahLst/>
                <a:rect l="l" t="t" r="r" b="b"/>
                <a:pathLst>
                  <a:path w="1296" h="1632">
                    <a:moveTo>
                      <a:pt x="0" y="1632"/>
                    </a:moveTo>
                    <a:lnTo>
                      <a:pt x="0" y="1296"/>
                    </a:lnTo>
                    <a:lnTo>
                      <a:pt x="528" y="336"/>
                    </a:lnTo>
                    <a:lnTo>
                      <a:pt x="528" y="0"/>
                    </a:lnTo>
                    <a:lnTo>
                      <a:pt x="1296" y="0"/>
                    </a:lnTo>
                    <a:lnTo>
                      <a:pt x="1296" y="288"/>
                    </a:lnTo>
                    <a:lnTo>
                      <a:pt x="576" y="1632"/>
                    </a:lnTo>
                    <a:lnTo>
                      <a:pt x="0" y="163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11120" y="1981080"/>
                <a:ext cx="3216600" cy="360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00"/>
                    </a:solidFill>
                    <a:latin typeface="Arial"/>
                  </a:rPr>
                  <a:t>Applic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916960" y="3248280"/>
                <a:ext cx="71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7809800">
                <a:off x="7033680" y="3229200"/>
                <a:ext cx="100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6120" y="160020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7320" y="1752480"/>
            <a:ext cx="180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/OSI Referenc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8753-33A9-4D34-8B65-14BB3D8D5CB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aua'i - Bluetooth to IEEE P802.15.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62120" y="1905120"/>
            <a:ext cx="7520040" cy="4266720"/>
            <a:chOff x="762120" y="1905120"/>
            <a:chExt cx="7520040" cy="4266720"/>
          </a:xfrm>
        </p:grpSpPr>
        <p:grpSp>
          <p:nvGrpSpPr>
            <p:cNvPr id="122" name=""/>
            <p:cNvGrpSpPr/>
            <p:nvPr/>
          </p:nvGrpSpPr>
          <p:grpSpPr>
            <a:xfrm>
              <a:off x="762120" y="1905120"/>
              <a:ext cx="3786120" cy="4266720"/>
              <a:chOff x="762120" y="1905120"/>
              <a:chExt cx="3786120" cy="4266720"/>
            </a:xfrm>
          </p:grpSpPr>
          <p:sp>
            <p:nvSpPr>
              <p:cNvPr id="123" name=""/>
              <p:cNvSpPr/>
              <p:nvPr/>
            </p:nvSpPr>
            <p:spPr>
              <a:xfrm>
                <a:off x="762120" y="5748120"/>
                <a:ext cx="2898720" cy="42372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R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62120" y="5227560"/>
                <a:ext cx="2898720" cy="4550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00"/>
                    </a:solidFill>
                    <a:latin typeface="Arial"/>
                  </a:rPr>
                  <a:t>Baseba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62120" y="4249440"/>
                <a:ext cx="709560" cy="9126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00"/>
                    </a:solidFill>
                    <a:latin typeface="Arial"/>
                  </a:rPr>
                  <a:t>Audi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30360" y="4738680"/>
                <a:ext cx="2130480" cy="423360"/>
              </a:xfrm>
              <a:prstGeom prst="rect">
                <a:avLst/>
              </a:prstGeom>
              <a:solidFill>
                <a:srgbClr val="063de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Arial"/>
                  </a:rPr>
                  <a:t>Link Mana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530360" y="4249440"/>
                <a:ext cx="1360440" cy="423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Arial"/>
                  </a:rPr>
                  <a:t>L2C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2120" y="2948040"/>
                <a:ext cx="2720880" cy="1236240"/>
              </a:xfrm>
              <a:custGeom>
                <a:avLst/>
                <a:gdLst/>
                <a:ahLst/>
                <a:rect l="l" t="t" r="r" b="b"/>
                <a:pathLst>
                  <a:path w="2208" h="912">
                    <a:moveTo>
                      <a:pt x="624" y="912"/>
                    </a:moveTo>
                    <a:lnTo>
                      <a:pt x="0" y="0"/>
                    </a:lnTo>
                    <a:lnTo>
                      <a:pt x="2208" y="0"/>
                    </a:lnTo>
                    <a:lnTo>
                      <a:pt x="1728" y="912"/>
                    </a:lnTo>
                    <a:lnTo>
                      <a:pt x="624" y="91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2120" y="2425680"/>
                <a:ext cx="79380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TCP/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35120" y="2425680"/>
                <a:ext cx="54612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HI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241720" y="2425680"/>
                <a:ext cx="1269720" cy="456840"/>
              </a:xfrm>
              <a:prstGeom prst="rect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Arial"/>
                  </a:rPr>
                  <a:t>RFCO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68640" y="2425680"/>
                <a:ext cx="1479600" cy="2258640"/>
              </a:xfrm>
              <a:custGeom>
                <a:avLst/>
                <a:gdLst/>
                <a:ahLst/>
                <a:rect l="l" t="t" r="r" b="b"/>
                <a:pathLst>
                  <a:path w="1296" h="1632">
                    <a:moveTo>
                      <a:pt x="0" y="1632"/>
                    </a:moveTo>
                    <a:lnTo>
                      <a:pt x="0" y="1296"/>
                    </a:lnTo>
                    <a:lnTo>
                      <a:pt x="528" y="336"/>
                    </a:lnTo>
                    <a:lnTo>
                      <a:pt x="528" y="0"/>
                    </a:lnTo>
                    <a:lnTo>
                      <a:pt x="1296" y="0"/>
                    </a:lnTo>
                    <a:lnTo>
                      <a:pt x="1296" y="288"/>
                    </a:lnTo>
                    <a:lnTo>
                      <a:pt x="576" y="1632"/>
                    </a:lnTo>
                    <a:lnTo>
                      <a:pt x="0" y="1632"/>
                    </a:lnTo>
                    <a:close/>
                  </a:path>
                </a:pathLst>
              </a:custGeom>
              <a:solidFill>
                <a:srgbClr val="0033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62120" y="1905120"/>
                <a:ext cx="3786120" cy="423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00"/>
                    </a:solidFill>
                    <a:latin typeface="Arial"/>
                  </a:rPr>
                  <a:t>Applic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45440" y="3462120"/>
                <a:ext cx="55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7809800">
                <a:off x="3363480" y="363744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462640" y="2361960"/>
              <a:ext cx="2819520" cy="4568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6 (R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2640" y="2819160"/>
              <a:ext cx="2819520" cy="1523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Baseband, Link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anager, L2CA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62640" y="1905120"/>
              <a:ext cx="2819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1-5 (Intro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62640" y="4343400"/>
              <a:ext cx="281952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lause 8 (SA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62640" y="4800600"/>
              <a:ext cx="2819520" cy="12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A: Placeholder for P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B: Placeholder for MAC De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C: Placeholder for PHY Def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D: Generic Access Pro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nnex E: Bibliography (incomplete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4807080" y="2438280"/>
              <a:ext cx="426960" cy="182844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440"/>
                <a:gd name="textAreaBottom" fmla="*/ 1780920 h 182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32880" y="6208560"/>
            <a:ext cx="224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doc.: IEEE P802-15/D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1320" y="152388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 Protocol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5480" y="1676520"/>
            <a:ext cx="25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5.1 Draft 0.6 Abstract T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1274-2619-4E82-AD4A-8E97BDBB60B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2T05:58:24Z</dcterms:created>
  <dc:creator>Ian C. Gifford</dc:creator>
  <dc:description>-99/123</dc:description>
  <dc:language>en-US</dc:language>
  <cp:lastModifiedBy>Ian C. Gifford</cp:lastModifiedBy>
  <cp:lastPrinted>1998-02-10T13:28:06Z</cp:lastPrinted>
  <dcterms:modified xsi:type="dcterms:W3CDTF">1999-11-08T23:08:38Z</dcterms:modified>
  <cp:revision>44</cp:revision>
  <dc:subject>IEEE 802.15 TG1 Report #2</dc:subject>
  <dc:title>IEEE P802.15 Working Group for Wireless Personal Area Networks</dc:title>
</cp:coreProperties>
</file>