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9B1-5368-4493-9842-F611301D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C1AF-F4F5-470E-A859-D4104243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6A4-DF18-4DA0-8A11-1523E87C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2A36-F85A-4EB0-9484-CE7855257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31D7-8366-4565-80A0-F708F970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34B-E3CE-42F9-86E0-1CC8EA33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450-0C01-4F06-95DC-2EB7D771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184-630C-4302-AB26-152FDC9C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69C-73F9-4687-8963-FDAA6A8D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C7B-172B-44E4-B615-570FD98E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170-A08E-4D7B-9CAF-BE593E08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9B4C-64E4-44F5-8198-1E8EE03A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A869CD-0494-42AA-92A2-D8AF526F4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5-99/12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EEE P802.15 Working Group for Wireless Personal Area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Report #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vember, 1999 Kaua'i Koloa, HI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8880" y="5181480"/>
            <a:ext cx="6941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1 -99/00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05r0P802-15_Liaison-Report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2 -99/02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29r0P802-15_Liaison-Report-2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aison Report #3 -99/06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9063r1P802-15_Liaison-Report-3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Server &amp; Flash C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0119-BC7E-4891-9481-8673E5D598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/IEEE Proposed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nitial Discussion on Proposal submi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1999 - IEEE initial vote of support to draft 802.15 based on Bluetooth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 1999 - Overview the draft 802.15.1 based on the current  Bluetooth specification to the time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1999 - Initial draft ready for WG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n 2000 - First Ballot complete, second ballot kicked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 2000 - Draft ready for IEEE sponso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l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 2000 - Approval by IEEE Standards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84A3-0B97-4390-9E9A-B21DF722E6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EEE and Bluetooth SIG have a very strong Liais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uetooth Special Interest Group Formed May 20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 07Jul98 -98/2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2 15Sep98 -98/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3 26Oct98 -98/350 (Minutes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4 14Dec98 J. Carlo 802 Overview to Bluetooth S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5 09Mar99 -99/053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6 01Jul99 -99/028 Letter Of I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7 15Jul99 -99/028r1 LOI #2, License, CD-ROM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8 26Jul99 Bluetooth v1.0A Foundation Specification Available via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9 31Aug99 -99/085 IEEE/ETSI/Bluetooth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0 31Aug99 -99/085 Proposal to IEEE &amp; ET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1 3Sep99 CD-ROM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2 9Sep99 Signed &amp; Initialed Copyright License Agre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3 13Sep99 -99/068 BT-IEEE Editorial WG Report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4 14Sep99 -99/069 to 073 Overview of the Bluetooth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5 16Sep99 -99/082r1 Outline and Technical Over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6 4Nov99 -99/028r2 #3 Letter of 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7 4Nov99 -99/xxx Draft Standard v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8 8Nov99 -99/xxx BT-IEEE Editorial WG Report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 #19 9Nov99 -99/xxx Using Bluetooth v1.0A Basis For Standard, Tutorial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50C-67AF-4410-9F8D-0F7286759F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SI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con &amp;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Nov99 Lou Delaverson to P802.15 W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to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Mail’s from ET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99 Lou Delav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#16 30Nov99 to 3Dec99 Athens, 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6B9B-3D41-4BAA-8F8E-9DF4140B4A1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4CCC-AAD0-4CB2-A69B-A6ECCC7BB4A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802.11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ocated Meetings/Various both Informal/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P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ember 10, 1999 Joint Meeting 1:00pm to 3:00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ing May00 Interim Meeting, Venu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st Sep00 Interim Meeting Submiss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791320"/>
            <a:ext cx="830592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ruce Kraemer, Stuart Kerry &amp; Peter Murray for more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D94D-7B32-46FC-B462-096DA0B88B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uetooth S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e on LB #1 Stat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Date?,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DC62-8764-4F83-B0A8-DA7BF51046C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num7" descr=""/>
          <p:cNvPicPr/>
          <p:nvPr/>
        </p:nvPicPr>
        <p:blipFill>
          <a:blip r:embed="rId1"/>
          <a:stretch/>
        </p:blipFill>
        <p:spPr>
          <a:xfrm>
            <a:off x="3708360" y="2895480"/>
            <a:ext cx="1800360" cy="505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1905120"/>
            <a:ext cx="27432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200400"/>
            <a:ext cx="3427560" cy="323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92520" y="1538280"/>
            <a:ext cx="5146560" cy="4862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96920" y="4786200"/>
            <a:ext cx="1432080" cy="1157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796640" y="4622760"/>
            <a:ext cx="302112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1200 Bluetooth Prom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opters or SIG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4720" y="1752480"/>
            <a:ext cx="2477160" cy="100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 Vo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1 W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802.15.x WPAN-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9040" y="4089240"/>
            <a:ext cx="2976840" cy="70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90 HomeRF Adopte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nts/Cor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luetooth%20logo%20(tm)" descr=""/>
          <p:cNvPicPr/>
          <p:nvPr/>
        </p:nvPicPr>
        <p:blipFill>
          <a:blip r:embed="rId3"/>
          <a:stretch/>
        </p:blipFill>
        <p:spPr>
          <a:xfrm>
            <a:off x="4968720" y="5372280"/>
            <a:ext cx="2651400" cy="571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95760" y="3441600"/>
            <a:ext cx="904680" cy="851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DE7-5CA9-478D-A469-506EA26499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REL" descr=""/>
          <p:cNvPicPr/>
          <p:nvPr/>
        </p:nvPicPr>
        <p:blipFill>
          <a:blip r:embed="rId1"/>
          <a:stretch/>
        </p:blipFill>
        <p:spPr>
          <a:xfrm>
            <a:off x="1328760" y="1828800"/>
            <a:ext cx="6481800" cy="3236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5486400"/>
            <a:ext cx="83059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of 8Nov99 we are not aware of any progress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 and ETSI…IEEE may want to consider BT Upp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106-A4D6-4824-8AB4-10AF7583BEC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7162920" y="1752480"/>
            <a:ext cx="1752480" cy="4419720"/>
            <a:chOff x="7162920" y="1752480"/>
            <a:chExt cx="1752480" cy="4419720"/>
          </a:xfrm>
        </p:grpSpPr>
        <p:sp>
          <p:nvSpPr>
            <p:cNvPr id="221" name=""/>
            <p:cNvSpPr/>
            <p:nvPr/>
          </p:nvSpPr>
          <p:spPr>
            <a:xfrm>
              <a:off x="7162920" y="1752480"/>
              <a:ext cx="1752480" cy="44197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PAN-H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540920" y="3736800"/>
              <a:ext cx="1098360" cy="13986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1720" y="5213520"/>
              <a:ext cx="1067040" cy="77616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51720" y="3733920"/>
              <a:ext cx="1138320" cy="137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igher data rate enhancement in 2.4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02.15.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8040" y="5216400"/>
              <a:ext cx="99072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&lt;1Mbit/s 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Mbit/s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8073720" y="3124080"/>
              <a:ext cx="3240" cy="606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servation 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5840" y="2514600"/>
            <a:ext cx="4971960" cy="2799720"/>
            <a:chOff x="285840" y="2514600"/>
            <a:chExt cx="4971960" cy="2799720"/>
          </a:xfrm>
        </p:grpSpPr>
        <p:sp>
          <p:nvSpPr>
            <p:cNvPr id="229" name=""/>
            <p:cNvSpPr/>
            <p:nvPr/>
          </p:nvSpPr>
          <p:spPr>
            <a:xfrm>
              <a:off x="341640" y="3525480"/>
              <a:ext cx="118368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5840" y="3483720"/>
              <a:ext cx="12927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req. Ho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2560" y="3525480"/>
              <a:ext cx="122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52680" y="3483720"/>
              <a:ext cx="1285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.4 GHz ra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irect Sequ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pread Spectru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01960" y="3525480"/>
              <a:ext cx="55332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2560" y="3791160"/>
              <a:ext cx="660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ra-R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82080" y="3311280"/>
              <a:ext cx="3795480" cy="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2040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840" y="3202560"/>
              <a:ext cx="0" cy="111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56160" y="3331440"/>
              <a:ext cx="0" cy="17928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213640" y="3337560"/>
              <a:ext cx="0" cy="17964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4720" y="4633200"/>
              <a:ext cx="59868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66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1680" y="4633200"/>
              <a:ext cx="6001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35000" y="4632120"/>
              <a:ext cx="565920" cy="33588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01960" y="4633200"/>
              <a:ext cx="553320" cy="37512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2240" y="4631040"/>
              <a:ext cx="565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0000"/>
                  </a:solidFill>
                  <a:latin typeface="Arial"/>
                </a:rPr>
                <a:t>2 Mbit/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0320" y="5100120"/>
              <a:ext cx="1823400" cy="214200"/>
            </a:xfrm>
            <a:prstGeom prst="rect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egend: 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Arial"/>
                </a:rPr>
                <a:t>italic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(and </a:t>
              </a:r>
              <a:r>
                <a:rPr b="1" lang="en-US" sz="800" spc="-1" strike="noStrike">
                  <a:solidFill>
                    <a:srgbClr val="ff0000"/>
                  </a:solidFill>
                  <a:latin typeface="Arial"/>
                </a:rPr>
                <a:t>red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) = op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56840" y="3337560"/>
              <a:ext cx="0" cy="1857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74320" y="3337560"/>
              <a:ext cx="0" cy="156960"/>
            </a:xfrm>
            <a:prstGeom prst="line">
              <a:avLst/>
            </a:prstGeom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48520" y="3525480"/>
              <a:ext cx="77760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95240" y="3525480"/>
              <a:ext cx="824040" cy="104904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26280" y="4633200"/>
              <a:ext cx="639360" cy="39996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19440" y="4633200"/>
              <a:ext cx="598680" cy="582480"/>
            </a:xfrm>
            <a:prstGeom prst="rect">
              <a:avLst/>
            </a:prstGeom>
            <a:noFill/>
            <a:ln w="507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89120" y="3521880"/>
              <a:ext cx="853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2.4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03880" y="3521880"/>
              <a:ext cx="85392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Higher data rate extension in 5 GH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2.11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79480" y="4622400"/>
              <a:ext cx="619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1 &amp; 5.5</a:t>
              </a:r>
              <a:br>
                <a:rPr sz="900"/>
              </a:b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Mbit/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39600" y="4635720"/>
              <a:ext cx="594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-12-18...54 Mbit/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4960" y="2514600"/>
              <a:ext cx="3434760" cy="690480"/>
            </a:xfrm>
            <a:prstGeom prst="ellipse">
              <a:avLst/>
            </a:prstGeom>
            <a:solidFill>
              <a:srgbClr val="ffffff"/>
            </a:solidFill>
            <a:ln w="507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Times New Roman"/>
                </a:rPr>
                <a:t>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1828800"/>
            <a:ext cx="1752480" cy="441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88080" y="3736800"/>
            <a:ext cx="1098360" cy="139860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9240" y="5213520"/>
            <a:ext cx="1066680" cy="776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9240" y="3733920"/>
            <a:ext cx="11379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 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2.1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875200" y="521640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1Mbit/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2438280"/>
            <a:ext cx="3429000" cy="7146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6321600" y="3124080"/>
            <a:ext cx="2880" cy="6066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996480" y="5105520"/>
            <a:ext cx="7995240" cy="1143000"/>
            <a:chOff x="996480" y="5105520"/>
            <a:chExt cx="7995240" cy="1143000"/>
          </a:xfrm>
        </p:grpSpPr>
        <p:sp>
          <p:nvSpPr>
            <p:cNvPr id="266" name=""/>
            <p:cNvSpPr/>
            <p:nvPr/>
          </p:nvSpPr>
          <p:spPr>
            <a:xfrm>
              <a:off x="5334120" y="5105520"/>
              <a:ext cx="3657600" cy="1143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6480" y="5867280"/>
              <a:ext cx="33476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802.15 Coexistence Study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43400" y="5714640"/>
              <a:ext cx="10666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6320" y="4572000"/>
            <a:ext cx="2971800" cy="1294920"/>
            <a:chOff x="76320" y="4572000"/>
            <a:chExt cx="2971800" cy="1294920"/>
          </a:xfrm>
        </p:grpSpPr>
        <p:sp>
          <p:nvSpPr>
            <p:cNvPr id="270" name=""/>
            <p:cNvSpPr/>
            <p:nvPr/>
          </p:nvSpPr>
          <p:spPr>
            <a:xfrm>
              <a:off x="76320" y="4572000"/>
              <a:ext cx="2971800" cy="533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600200" y="4800240"/>
              <a:ext cx="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E3DB-7992-48E1-B221-10AA238D40E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PAN Timeline Overview &amp;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egot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Observ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4E4C-11DD-4B0E-9C96-A70E3523A56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as a Valu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the IEEE 802 as a leader in Wireless Standards-Ma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P802.15 as an expert in WP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ceive Draft Standard Submissions from External and Internal (IEEE) from our Liaison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601-5AE1-4690-9D97-2B6DFD15B8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 Timeline -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867280"/>
            <a:ext cx="8381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63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20960" y="6110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56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97880" y="6095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09480" y="1676160"/>
            <a:ext cx="0" cy="419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240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63868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8001000" y="167616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62520" y="2438280"/>
            <a:ext cx="22860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1 Study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048120"/>
            <a:ext cx="2438280" cy="6094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P802.15 Wor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oup for WP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74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/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76520" y="2362320"/>
            <a:ext cx="0" cy="3504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60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62520" y="297144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73920" y="5904000"/>
            <a:ext cx="45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248520" y="32004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1828800"/>
            <a:ext cx="22860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Ad Hoc “Wearabl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ndards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321080" y="3733920"/>
            <a:ext cx="1927440" cy="2448000"/>
            <a:chOff x="4321080" y="3733920"/>
            <a:chExt cx="1927440" cy="2448000"/>
          </a:xfrm>
        </p:grpSpPr>
        <p:sp>
          <p:nvSpPr>
            <p:cNvPr id="72" name=""/>
            <p:cNvSpPr/>
            <p:nvPr/>
          </p:nvSpPr>
          <p:spPr>
            <a:xfrm>
              <a:off x="4533840" y="3962520"/>
              <a:ext cx="0" cy="1904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27720" y="3733920"/>
              <a:ext cx="17208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1 5/6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210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608720" y="4038480"/>
            <a:ext cx="1639800" cy="2145240"/>
            <a:chOff x="4608720" y="4038480"/>
            <a:chExt cx="1639800" cy="2145240"/>
          </a:xfrm>
        </p:grpSpPr>
        <p:sp>
          <p:nvSpPr>
            <p:cNvPr id="76" name=""/>
            <p:cNvSpPr/>
            <p:nvPr/>
          </p:nvSpPr>
          <p:spPr>
            <a:xfrm>
              <a:off x="4800600" y="403848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8720" y="5907240"/>
              <a:ext cx="45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00600" y="4038480"/>
              <a:ext cx="14479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A #1 7/24/98 to 3/12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089040" y="4495680"/>
            <a:ext cx="691200" cy="1906920"/>
            <a:chOff x="6089040" y="4495680"/>
            <a:chExt cx="691200" cy="1906920"/>
          </a:xfrm>
        </p:grpSpPr>
        <p:sp>
          <p:nvSpPr>
            <p:cNvPr id="80" name=""/>
            <p:cNvSpPr/>
            <p:nvPr/>
          </p:nvSpPr>
          <p:spPr>
            <a:xfrm>
              <a:off x="6118200" y="612612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6438960" y="49528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6089040" y="4495680"/>
              <a:ext cx="691200" cy="650520"/>
              <a:chOff x="6089040" y="4495680"/>
              <a:chExt cx="691200" cy="65052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6091200" y="4536360"/>
                <a:ext cx="685800" cy="609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089040" y="449568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" name=""/>
          <p:cNvGrpSpPr/>
          <p:nvPr/>
        </p:nvGrpSpPr>
        <p:grpSpPr>
          <a:xfrm>
            <a:off x="6708960" y="4343400"/>
            <a:ext cx="682560" cy="1838520"/>
            <a:chOff x="6708960" y="4343400"/>
            <a:chExt cx="682560" cy="1838520"/>
          </a:xfrm>
        </p:grpSpPr>
        <p:sp>
          <p:nvSpPr>
            <p:cNvPr id="86" name=""/>
            <p:cNvSpPr/>
            <p:nvPr/>
          </p:nvSpPr>
          <p:spPr>
            <a:xfrm>
              <a:off x="670896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8968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P #2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/14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7/1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9616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469280" y="4343400"/>
            <a:ext cx="682560" cy="1838520"/>
            <a:chOff x="7469280" y="4343400"/>
            <a:chExt cx="682560" cy="1838520"/>
          </a:xfrm>
        </p:grpSpPr>
        <p:sp>
          <p:nvSpPr>
            <p:cNvPr id="90" name=""/>
            <p:cNvSpPr/>
            <p:nvPr/>
          </p:nvSpPr>
          <p:spPr>
            <a:xfrm>
              <a:off x="7469280" y="5905440"/>
              <a:ext cx="452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50000" y="4343400"/>
              <a:ext cx="50184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FI #1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9/13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- 9/17/9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56480" y="47242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581240" y="1447920"/>
            <a:ext cx="569520" cy="4495320"/>
            <a:chOff x="7581240" y="1447920"/>
            <a:chExt cx="569520" cy="4495320"/>
          </a:xfrm>
        </p:grpSpPr>
        <p:sp>
          <p:nvSpPr>
            <p:cNvPr id="94" name=""/>
            <p:cNvSpPr/>
            <p:nvPr/>
          </p:nvSpPr>
          <p:spPr>
            <a:xfrm flipV="1">
              <a:off x="7883280" y="1676160"/>
              <a:ext cx="0" cy="426708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81240" y="1447920"/>
              <a:ext cx="569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To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FA2C-4053-492F-A36F-F3B90323F4E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39840" y="3833640"/>
            <a:ext cx="8559000" cy="801720"/>
            <a:chOff x="339840" y="3833640"/>
            <a:chExt cx="8559000" cy="801720"/>
          </a:xfrm>
        </p:grpSpPr>
        <p:sp>
          <p:nvSpPr>
            <p:cNvPr id="97" name=""/>
            <p:cNvSpPr/>
            <p:nvPr/>
          </p:nvSpPr>
          <p:spPr>
            <a:xfrm>
              <a:off x="49212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828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7320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54640" y="410220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840" y="4102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68280" y="3833640"/>
              <a:ext cx="223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. November 13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228600" y="685800"/>
            <a:ext cx="0" cy="5549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9840" y="5410080"/>
            <a:ext cx="8229600" cy="801720"/>
            <a:chOff x="339840" y="5410080"/>
            <a:chExt cx="8229600" cy="801720"/>
          </a:xfrm>
        </p:grpSpPr>
        <p:sp>
          <p:nvSpPr>
            <p:cNvPr id="105" name=""/>
            <p:cNvSpPr/>
            <p:nvPr/>
          </p:nvSpPr>
          <p:spPr>
            <a:xfrm>
              <a:off x="4921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320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/20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639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672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44832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/22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9840" y="567864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67200" y="5410080"/>
              <a:ext cx="185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. May 22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82840" y="567864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3/4/9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39840" y="3071880"/>
            <a:ext cx="8424360" cy="801720"/>
            <a:chOff x="339840" y="3071880"/>
            <a:chExt cx="8424360" cy="801720"/>
          </a:xfrm>
        </p:grpSpPr>
        <p:sp>
          <p:nvSpPr>
            <p:cNvPr id="114" name=""/>
            <p:cNvSpPr/>
            <p:nvPr/>
          </p:nvSpPr>
          <p:spPr>
            <a:xfrm>
              <a:off x="49212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828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7320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546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9840" y="334008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66120" y="3071880"/>
              <a:ext cx="209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4. January 15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26440" y="334008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9840" y="4572000"/>
            <a:ext cx="8229600" cy="801720"/>
            <a:chOff x="339840" y="4572000"/>
            <a:chExt cx="8229600" cy="801720"/>
          </a:xfrm>
        </p:grpSpPr>
        <p:sp>
          <p:nvSpPr>
            <p:cNvPr id="122" name=""/>
            <p:cNvSpPr/>
            <p:nvPr/>
          </p:nvSpPr>
          <p:spPr>
            <a:xfrm>
              <a:off x="4921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828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732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39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5464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4500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torol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9840" y="484020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66480" y="4572000"/>
              <a:ext cx="183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2. July 10, 1998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5720" y="484020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/A-C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 flipV="1">
            <a:off x="3123720" y="4559040"/>
            <a:ext cx="2778120" cy="70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276360" y="4483080"/>
            <a:ext cx="373356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895480" y="4559400"/>
            <a:ext cx="990720" cy="73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39840" y="2297160"/>
            <a:ext cx="8246160" cy="801720"/>
            <a:chOff x="339840" y="2297160"/>
            <a:chExt cx="8246160" cy="801720"/>
          </a:xfrm>
        </p:grpSpPr>
        <p:sp>
          <p:nvSpPr>
            <p:cNvPr id="135" name=""/>
            <p:cNvSpPr/>
            <p:nvPr/>
          </p:nvSpPr>
          <p:spPr>
            <a:xfrm>
              <a:off x="49212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EEE 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828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omeRF L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7320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54640" y="2565360"/>
              <a:ext cx="9144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erme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840" y="256536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67920" y="2297160"/>
              <a:ext cx="191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5. March 8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26440" y="2563920"/>
              <a:ext cx="914400" cy="533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33720" y="76320"/>
            <a:ext cx="4876560" cy="22860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ireless Personal Area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70080" y="6418440"/>
            <a:ext cx="1400040" cy="27648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Propos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21840" y="6323040"/>
            <a:ext cx="66528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662292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5240" y="635472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15080" y="6348240"/>
            <a:ext cx="168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gence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042080" y="6348240"/>
            <a:ext cx="152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Converg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43080" y="1676520"/>
            <a:ext cx="8229600" cy="801720"/>
            <a:chOff x="343080" y="1676520"/>
            <a:chExt cx="8229600" cy="801720"/>
          </a:xfrm>
        </p:grpSpPr>
        <p:sp>
          <p:nvSpPr>
            <p:cNvPr id="150" name=""/>
            <p:cNvSpPr/>
            <p:nvPr/>
          </p:nvSpPr>
          <p:spPr>
            <a:xfrm>
              <a:off x="2476440" y="19447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3080" y="19447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69360" y="1676520"/>
              <a:ext cx="1759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. July 1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0" y="6629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8480" y="662940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43080" y="1015920"/>
            <a:ext cx="8584560" cy="801720"/>
            <a:chOff x="343080" y="1015920"/>
            <a:chExt cx="8584560" cy="801720"/>
          </a:xfrm>
        </p:grpSpPr>
        <p:sp>
          <p:nvSpPr>
            <p:cNvPr id="156" name=""/>
            <p:cNvSpPr/>
            <p:nvPr/>
          </p:nvSpPr>
          <p:spPr>
            <a:xfrm>
              <a:off x="2476440" y="1284120"/>
              <a:ext cx="914400" cy="5335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luetoo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080" y="1284120"/>
              <a:ext cx="8229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71160" y="101592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7. September 13, 1999 or soon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43080" y="254160"/>
            <a:ext cx="8482680" cy="801000"/>
            <a:chOff x="343080" y="254160"/>
            <a:chExt cx="8482680" cy="801000"/>
          </a:xfrm>
        </p:grpSpPr>
        <p:grpSp>
          <p:nvGrpSpPr>
            <p:cNvPr id="160" name=""/>
            <p:cNvGrpSpPr/>
            <p:nvPr/>
          </p:nvGrpSpPr>
          <p:grpSpPr>
            <a:xfrm>
              <a:off x="343080" y="254160"/>
              <a:ext cx="8482680" cy="801000"/>
              <a:chOff x="343080" y="254160"/>
              <a:chExt cx="8482680" cy="801000"/>
            </a:xfrm>
          </p:grpSpPr>
          <p:sp>
            <p:nvSpPr>
              <p:cNvPr id="161" name=""/>
              <p:cNvSpPr/>
              <p:nvPr/>
            </p:nvSpPr>
            <p:spPr>
              <a:xfrm>
                <a:off x="2476440" y="522000"/>
                <a:ext cx="914400" cy="5331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Bluetoo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43080" y="52200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671520" y="254160"/>
                <a:ext cx="2154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. November 8, 1999 or soon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7429680" y="520560"/>
              <a:ext cx="914400" cy="533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oda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540560" y="6008760"/>
            <a:ext cx="1299960" cy="30600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all For 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3560" y="163440"/>
            <a:ext cx="6221160" cy="14385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IEEE P802.15.1 Draft v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Letter Ballot Issued to W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F9F-B418-4DDA-8A11-504D1ABD061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vergent WPAN Usage Models Are Starting to 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PAR W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1 = W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x = WPAN-HR (High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y = WPAN-LR (Low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52680" y="3581280"/>
            <a:ext cx="9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795800" y="2514600"/>
            <a:ext cx="13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-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8480" y="464832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WPAN-L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50480" y="36212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P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258880" y="2362320"/>
            <a:ext cx="691200" cy="1906560"/>
            <a:chOff x="5258880" y="2362320"/>
            <a:chExt cx="691200" cy="1906560"/>
          </a:xfrm>
        </p:grpSpPr>
        <p:sp>
          <p:nvSpPr>
            <p:cNvPr id="174" name=""/>
            <p:cNvSpPr/>
            <p:nvPr/>
          </p:nvSpPr>
          <p:spPr>
            <a:xfrm>
              <a:off x="5288040" y="3992400"/>
              <a:ext cx="646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/18/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608800" y="28188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5258880" y="2362320"/>
              <a:ext cx="691200" cy="650160"/>
              <a:chOff x="5258880" y="2362320"/>
              <a:chExt cx="691200" cy="65016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5261040" y="2403360"/>
                <a:ext cx="685800" cy="609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58880" y="2362320"/>
                <a:ext cx="691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pprove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A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216000" y="5715000"/>
            <a:ext cx="871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WPAN Draft v0.6 was received 4Nov99.  WPAN-HR Call For Interest submission -99/115r0 w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eived 2Nov99.  The WPAN-LR Usage Model has not yet been addressed via IE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380988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545800" y="3137040"/>
            <a:ext cx="2302920" cy="1358640"/>
            <a:chOff x="5545800" y="3137040"/>
            <a:chExt cx="2302920" cy="135864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5618160" y="3137040"/>
              <a:ext cx="223056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5545800" y="363384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P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F78-049A-4B58-9D74-6DD12B2140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e Liaison List Re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uetooth Special Interest Group (Kardach/Bisdiki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1 (Hayes/Kerry/Murr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TSI BRAN Project (Khun-Jush/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M Forum WATM (Delaver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PAN-High Rate (Allen/Heber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active Liaison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1 (Lindinsky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EE 802.2 (Carls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meRF Working Group (Mann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ETF MobileIP 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RC (Kurihar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P Forum (Parris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DA (McK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Liaiso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new" descr=""/>
          <p:cNvPicPr/>
          <p:nvPr/>
        </p:nvPicPr>
        <p:blipFill>
          <a:blip r:embed="rId1"/>
          <a:stretch/>
        </p:blipFill>
        <p:spPr>
          <a:xfrm>
            <a:off x="698400" y="29973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7" name="new" descr=""/>
          <p:cNvPicPr/>
          <p:nvPr/>
        </p:nvPicPr>
        <p:blipFill>
          <a:blip r:embed="rId2"/>
          <a:stretch/>
        </p:blipFill>
        <p:spPr>
          <a:xfrm>
            <a:off x="698400" y="3290760"/>
            <a:ext cx="520920" cy="201600"/>
          </a:xfrm>
          <a:prstGeom prst="rect">
            <a:avLst/>
          </a:prstGeom>
          <a:ln w="0">
            <a:noFill/>
          </a:ln>
        </p:spPr>
      </p:pic>
      <p:pic>
        <p:nvPicPr>
          <p:cNvPr id="188" name="new" descr=""/>
          <p:cNvPicPr/>
          <p:nvPr/>
        </p:nvPicPr>
        <p:blipFill>
          <a:blip r:embed="rId3"/>
          <a:stretch/>
        </p:blipFill>
        <p:spPr>
          <a:xfrm>
            <a:off x="698400" y="3557520"/>
            <a:ext cx="520920" cy="20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8D6-ED4B-43FD-A9CE-2D88184F5B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5 Working Group for Wireless Personal Area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E35-2E71-47BE-8035-8FA61AC733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luetooth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con &amp;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to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Mail’s from Bluetooth 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Nov99 Jim Kardach to Ian Gifford -99/028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mit new TG1 Operating Rules to WG &amp; BSIG fo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ise on LB #1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going Telecon’s &amp;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an Gifford, M/A-COM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B053-189F-4DEB-BD76-FADDE625B4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Ian Gifford</dc:creator>
  <dc:description>Ian Gifford, M/A-COM</dc:description>
  <cp:keywords>November 1999</cp:keywords>
  <dc:language>en-US</dc:language>
  <cp:lastModifiedBy>Ian C. Gifford</cp:lastModifiedBy>
  <cp:lastPrinted>1998-02-10T13:28:06Z</cp:lastPrinted>
  <dcterms:modified xsi:type="dcterms:W3CDTF">1999-11-08T23:08:33Z</dcterms:modified>
  <cp:revision>153</cp:revision>
  <dc:subject>#4</dc:subject>
  <dc:title>Liaison Report</dc:title>
</cp:coreProperties>
</file>