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C10-9D2A-45AF-982C-90DC8DC5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EF7-B5D5-49A6-87BB-A5D7A6A9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F442-6F01-4E60-ADEA-9B271B17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5FD-61AF-4843-9A6A-C81DEC6A5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9C4F-B96B-4DC1-AB7B-F6F69623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255-07E4-4223-8A95-3779A8FA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656-D020-46A7-BF19-52E97465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71F-20AE-43C0-B5F8-D749072E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0A0-3139-4D4C-B9FB-AF22FF9C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34C4-6A1D-4CA6-AE20-E74F37FF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D3F8-A7C8-42FD-92F5-FC4F134C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068-4FBC-4B15-AA13-E0069D10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4D8D-2CCE-45FA-9F34-321290C5C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600" y="396000"/>
            <a:ext cx="1241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s Kuwahara, 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D262249-335F-4918-BE4B-404AC1688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0/2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Stud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uai,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-11 Nov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Stud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Issu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 Delaverson    Motor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 Johnson         WLAN Consul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s Kuwahara   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Paine        Bo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iner Mim           Prox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Murray         N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Worstell      AT&amp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k Ostermiller    Aware I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4 GHz NPRM Com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 - RA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GHz World Wide (Request for Vo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07:57:46Z</dcterms:created>
  <dc:creator>Standard Software Service</dc:creator>
  <dc:description/>
  <dc:language>en-US</dc:language>
  <cp:lastModifiedBy>vichayes</cp:lastModifiedBy>
  <cp:lastPrinted>1999-12-20T15:53:14Z</cp:lastPrinted>
  <dcterms:modified xsi:type="dcterms:W3CDTF">1999-12-20T15:53:21Z</dcterms:modified>
  <cp:revision>9</cp:revision>
  <dc:subject/>
  <dc:title>802.11 Regulatory Issues  Study Group</dc:title>
</cp:coreProperties>
</file>