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2FE-08C7-4DEA-BDC6-8DE6C266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9DDB-9218-49C1-AD86-66973CAE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A6B9-7E38-4004-807D-8CC6B621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9A5-BFB3-4390-84A7-6AEB10A5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F15-3617-4FC1-A53F-6DD7CF10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9E6-D69F-4BB2-A913-9318E932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2D6F-38B1-40D2-B194-D81D87B4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E867-84BC-497C-B4E4-1CDAC505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3AE-A220-45C3-B2B9-B7E6F462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174-40A6-4481-AEB7-70BC847D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0B42-69BB-4843-ACDC-53E10D18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2EDC-4123-42E5-B32A-4DAE87B6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14B9-23B1-488F-A825-0E8B87429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600" y="396000"/>
            <a:ext cx="12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s Kuwahara, 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CB14CE6-8B38-4918-90AB-AF121E07D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0/2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Study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, Hawa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-11 Nov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Study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Issu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 Delaverson    Motor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 Johnson         WLAN Consul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 Kuwahara   Bo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hard Paine        Bo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er Mim           Prox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Murray         N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ry Worstell      AT&amp;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k Ostermiller    Aware In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4 GHz NPRM Com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 - RA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GHz World Wide (Request for Vo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07:57:46Z</dcterms:created>
  <dc:creator>Standard Software Service</dc:creator>
  <dc:description/>
  <dc:language>en-US</dc:language>
  <cp:lastModifiedBy>vichayes</cp:lastModifiedBy>
  <cp:lastPrinted>1999-12-20T15:53:14Z</cp:lastPrinted>
  <dcterms:modified xsi:type="dcterms:W3CDTF">1999-12-20T15:53:21Z</dcterms:modified>
  <cp:revision>9</cp:revision>
  <dc:subject/>
  <dc:title>802.11 Regulatory Issues  Study Group</dc:title>
</cp:coreProperties>
</file>