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0EB5DA5-DA87-4C80-98DE-300129145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75160" y="396720"/>
            <a:ext cx="398304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408-r1</a:t>
            </a:r>
            <a:endParaRPr b="0" lang="en-US" sz="1400" spc="-1" strike="noStrike">
              <a:solidFill>
                <a:srgbClr val="000000"/>
              </a:solidFill>
              <a:latin typeface="Arial"/>
            </a:endParaRPr>
          </a:p>
        </p:txBody>
      </p:sp>
      <p:sp>
        <p:nvSpPr>
          <p:cNvPr id="2" name=""/>
          <p:cNvSpPr/>
          <p:nvPr/>
        </p:nvSpPr>
        <p:spPr>
          <a:xfrm>
            <a:off x="696960" y="609480"/>
            <a:ext cx="776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2366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WG agenda, January 1999</a:t>
            </a:r>
            <a:endParaRPr b="0" lang="en-US" sz="1200" spc="-1" strike="noStrike">
              <a:solidFill>
                <a:srgbClr val="000000"/>
              </a:solidFill>
              <a:latin typeface="Arial"/>
            </a:endParaRPr>
          </a:p>
        </p:txBody>
      </p:sp>
      <p:sp>
        <p:nvSpPr>
          <p:cNvPr id="4" name=""/>
          <p:cNvSpPr/>
          <p:nvPr/>
        </p:nvSpPr>
        <p:spPr>
          <a:xfrm>
            <a:off x="696960" y="6477120"/>
            <a:ext cx="783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4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981080"/>
            <a:ext cx="7772400" cy="351684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January 11-15, 1999</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Lake Buenovista, Florida</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Jan 11, 8:30</a:t>
            </a:r>
            <a:br>
              <a:rPr sz="2800"/>
            </a:br>
            <a:r>
              <a:rPr b="1" lang="en-US" sz="2800" spc="-1" strike="noStrike">
                <a:solidFill>
                  <a:srgbClr val="000000"/>
                </a:solidFill>
                <a:latin typeface="Arial"/>
                <a:ea typeface="Arial"/>
              </a:rPr>
              <a:t>Includes meetings of the WPAN Study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802.11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11-15 - Lake Buena Vist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10-14 - Shinagawa? Prince Hotel, Tokyo, Japan, Interim (NTT, Clarion, NE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0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uary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6-10 - Hyatt Regency, Albuquerque, NM,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10-14 - Hyatt Regency La Jolla, San Diego, CA,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6-10 - Hyatt Regency, Tampa, F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8"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8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78</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1"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04" name="" descr=""/>
          <p:cNvPicPr/>
          <p:nvPr/>
        </p:nvPicPr>
        <p:blipFill>
          <a:blip r:embed="rId1"/>
          <a:stretch/>
        </p:blipFill>
        <p:spPr>
          <a:xfrm>
            <a:off x="1728720" y="1523880"/>
            <a:ext cx="5613480" cy="2444760"/>
          </a:xfrm>
          <a:prstGeom prst="rect">
            <a:avLst/>
          </a:prstGeom>
          <a:ln w="0">
            <a:noFill/>
          </a:ln>
        </p:spPr>
      </p:pic>
      <p:sp>
        <p:nvSpPr>
          <p:cNvPr id="105"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and resubmit for LB of the drafts of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of WPAN PAR + 5Criteria and submission to ExCo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Joint meetings with ETSI BRAN on OFDM and spectrum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eleconference with the FCC plus resulting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3"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14"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5 AM and 3:15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 1:3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19"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2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2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2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25"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2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2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30"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3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2 Status of publication of 802.11rev</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nex c, State Diagrams, is still not availa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EEE Editor has required the availability of Annex C in her checklist to RevCo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RevCom: 1 negative vote, 2 positive subject to availability of annex 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und a volunteer for Updating Annex c from Eastman Koda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an to have available first week of Octob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include editorials found causing compiler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7" name=""/>
          <p:cNvSpPr txBox="1"/>
          <p:nvPr/>
        </p:nvSpPr>
        <p:spPr>
          <a:xfrm>
            <a:off x="609480" y="1523880"/>
            <a:ext cx="7772400" cy="541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wer part of the band is also allocated globally to the Mobile Satelite Service for Earth- to-space link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ago, ETSI did approve the co-existence of MSS in the lower 5 GHz band based on calcul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w the MSS industry is requiring regulatory agencies to reduce the RLAN allocations effectively eliminating RLAN from the 5150-5250 MHz band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mW e.i.r.p. and AC operation (that is not on battery operated equi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1" name=""/>
          <p:cNvSpPr txBox="1"/>
          <p:nvPr/>
        </p:nvSpPr>
        <p:spPr>
          <a:xfrm>
            <a:off x="150840" y="1285920"/>
            <a:ext cx="8985240" cy="47260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TGb  !     |TGa   !      |    TGa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 .!  SG |. . . !  SG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TGb  !     |TGa   !      | TGa/BR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dhoc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TGa !     | Full 802.11 |    TGb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SG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     |TGa/ !     | TGb  !  SG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BRAN!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a/BRAN?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FCC teleconference and joint meeting with ETSI-Spectrum to be determ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 cont’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ad player is ICO Global Communications, an INMARSAT spin-off and Globalstar, in the backgrou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in battlefield is in CEPT Project Team SE28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K Radio Communications now supports the MSS clai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bbying is also taking place in Japan, US and Ca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1" name=""/>
          <p:cNvSpPr txBox="1"/>
          <p:nvPr/>
        </p:nvSpPr>
        <p:spPr>
          <a:xfrm>
            <a:off x="609480" y="1523880"/>
            <a:ext cx="7772400" cy="53694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 cont’d</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Jan Kruys (Chair of ETSI BRAN) is single advocate for the RLAN industry. Please assist him by:</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ing active either directly or via the national bodies for preparing CEPT and ITU-R decisions. All CEPT members have influence on the result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ing the meetings off CEPT SE and its Project Team SE28 as well as the ITU-R JRG 8A/9B, WP 8D and others involved in this subject.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moting the usage of the band for RLANs shared with the MSS in Japan MPT, USA-FCC and Industry Canada – these countries are (re-)considering regulations for RL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4 Use of MS-Office 95 applications, tall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5 Meeting of IEEE SAB in France </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also be used for a meeting of Executives of IEEE and ETSI</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LAN is on the agend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6 Announvements from th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2 E-mail reflector archive availa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accessible for memb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ttp://grouper.ieee.org/groups/11/private/index.html#reflector-archiv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 times accessed in December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Popularity of web materia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802.11revision was downloaded over 1600 tim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ssword only provided to 300 e-mail address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4 IP Statement for OFDM received from CSI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5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5 Use of MS-Office 95 applications, tall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6 Sponsor Ballot formation for 802.11a and .11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7 Announcements from th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2.2 Matters arising from the minutes</a:t>
            </a:r>
            <a:endParaRPr b="0" lang="en-US" sz="4000" spc="-1" strike="noStrike">
              <a:solidFill>
                <a:srgbClr val="000000"/>
              </a:solidFill>
              <a:latin typeface="Arial"/>
            </a:endParaRPr>
          </a:p>
        </p:txBody>
      </p:sp>
      <p:sp>
        <p:nvSpPr>
          <p:cNvPr id="15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 the Point of order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at we need one solution per application and that this looks like multiple solutions to the same par without answering the 5 ques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chair ruled th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extension to the high rate HR/DSSS/FH PHY  is not a second PHY and the session was not out of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2.2 Matters arising from the minutes</a:t>
            </a:r>
            <a:endParaRPr b="0" lang="en-US" sz="4000" spc="-1" strike="noStrike">
              <a:solidFill>
                <a:srgbClr val="000000"/>
              </a:solidFill>
              <a:latin typeface="Arial"/>
            </a:endParaRPr>
          </a:p>
        </p:txBody>
      </p:sp>
      <p:sp>
        <p:nvSpPr>
          <p:cNvPr id="15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issues:</a:t>
            </a:r>
            <a:br>
              <a:rPr sz="3200"/>
            </a:br>
            <a:r>
              <a:rPr b="0" lang="en-US" sz="3200" spc="-1" strike="noStrike">
                <a:solidFill>
                  <a:srgbClr val="000000"/>
                </a:solidFill>
                <a:latin typeface="Times New Roman"/>
                <a:ea typeface="Times New Roman"/>
              </a:rPr>
              <a:t>Chair should not have ruled on technical matters</a:t>
            </a:r>
            <a:br>
              <a:rPr sz="3200"/>
            </a:br>
            <a:r>
              <a:rPr b="0" lang="en-US" sz="3200" spc="-1" strike="noStrike">
                <a:solidFill>
                  <a:srgbClr val="000000"/>
                </a:solidFill>
                <a:latin typeface="Times New Roman"/>
                <a:ea typeface="Times New Roman"/>
              </a:rPr>
              <a:t>Chair has now seen in the Tables 1 and 2 that he would have ruled differently would he have known the table then</a:t>
            </a:r>
            <a:br>
              <a:rPr sz="3200"/>
            </a:br>
            <a:r>
              <a:rPr b="0" lang="en-US" sz="3200" spc="-1" strike="noStrike">
                <a:solidFill>
                  <a:srgbClr val="000000"/>
                </a:solidFill>
                <a:latin typeface="Times New Roman"/>
                <a:ea typeface="Times New Roman"/>
              </a:rPr>
              <a:t>The chair is ready to entertain a motion to rescind the ruling </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1 Report of the Sponsor reconfirmation Ballot</a:t>
            </a:r>
            <a:endParaRPr b="0" lang="en-US" sz="4000" spc="-1" strike="noStrike">
              <a:solidFill>
                <a:srgbClr val="000000"/>
              </a:solidFill>
              <a:latin typeface="Arial"/>
            </a:endParaRPr>
          </a:p>
        </p:txBody>
      </p:sp>
      <p:sp>
        <p:nvSpPr>
          <p:cNvPr id="15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ly two responses received voting Approve with comm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s made available on the website on January 6, 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Group met on January 8, 99 and decided the no new recinfirmation ballo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6"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 h</a:t>
            </a:r>
            <a:endParaRPr b="0" lang="en-US" sz="32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2 Report of Letter Ballot 16</a:t>
            </a:r>
            <a:endParaRPr b="0" lang="en-US" sz="4000" spc="-1" strike="noStrike">
              <a:solidFill>
                <a:srgbClr val="000000"/>
              </a:solidFill>
              <a:latin typeface="Arial"/>
            </a:endParaRPr>
          </a:p>
        </p:txBody>
      </p:sp>
      <p:sp>
        <p:nvSpPr>
          <p:cNvPr id="15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Ballot closed on January 8, 99, 11 PM UT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 hours later, chair collected all responses and left for Orlando</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 hours later the results were available on the we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air wished electronic ballot is available now</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port is in doc.: 99/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2 Report of Letter Ballot 16 (2)</a:t>
            </a:r>
            <a:endParaRPr b="0" lang="en-US" sz="4000" spc="-1" strike="noStrike">
              <a:solidFill>
                <a:srgbClr val="000000"/>
              </a:solidFill>
              <a:latin typeface="Arial"/>
            </a:endParaRPr>
          </a:p>
        </p:txBody>
      </p:sp>
      <p:sp>
        <p:nvSpPr>
          <p:cNvPr id="16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aft 802.11a approved by 54/19/5 or 73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aft 802.11b recirc. approved by 58/17/3 or 77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s to be reviewed with original vo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PAN PAR and 5 C approved by 60/14/4 or 81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files are respectively 99/16, 17 and 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3 Report of the Thursday ExCom mee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4 Financial report of the Waltham mee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5 Report of the RFID meetings in the CEPT</a:t>
            </a:r>
            <a:endParaRPr b="0" lang="en-US" sz="4000" spc="-1" strike="noStrike">
              <a:solidFill>
                <a:srgbClr val="000000"/>
              </a:solidFill>
              <a:latin typeface="Arial"/>
            </a:endParaRPr>
          </a:p>
        </p:txBody>
      </p:sp>
      <p:sp>
        <p:nvSpPr>
          <p:cNvPr id="16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the CEPT area, Spread Spectrum devices are limited to 100 mW EIRP</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mary users are Electronic News Gathering (ENG) and Fixed Servic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NG is an analogue syste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oth have awfully low receiver level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0 mW as already a bur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5 Report of the RFID meetings in the CEPT (2)</a:t>
            </a:r>
            <a:endParaRPr b="0" lang="en-US" sz="4000" spc="-1" strike="noStrike">
              <a:solidFill>
                <a:srgbClr val="000000"/>
              </a:solidFill>
              <a:latin typeface="Arial"/>
            </a:endParaRPr>
          </a:p>
        </p:txBody>
      </p:sp>
      <p:sp>
        <p:nvSpPr>
          <p:cNvPr id="16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FID devices have a request for being permitted 500 mW EIRP using Spread Spectru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s about 3 dB per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test report showed 5 W (10 W) EIR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it for power transfer to batteryless ta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cause interference to our de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5 Report of the RFID meetings in the CEPT (3)</a:t>
            </a:r>
            <a:endParaRPr b="0" lang="en-US" sz="4000" spc="-1" strike="noStrike">
              <a:solidFill>
                <a:srgbClr val="000000"/>
              </a:solidFill>
              <a:latin typeface="Arial"/>
            </a:endParaRPr>
          </a:p>
        </p:txBody>
      </p:sp>
      <p:sp>
        <p:nvSpPr>
          <p:cNvPr id="1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cent Technologies and Telxon are defending our ca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greement reached about interference mod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0 dB pathloss over 60 meter was original proposa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mary users might be our resc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ill looking for more suppor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8"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ogni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buquerque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75</a:t>
            </a:r>
            <a:br>
              <a:rPr sz="2800"/>
            </a:br>
            <a:r>
              <a:rPr b="0" lang="en-US" sz="2800" spc="-1" strike="noStrike">
                <a:solidFill>
                  <a:srgbClr val="000000"/>
                </a:solidFill>
                <a:latin typeface="Times New Roman"/>
                <a:ea typeface="Times New Roman"/>
              </a:rPr>
              <a:t>(quorum requir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 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Letter Ballot 16</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 of the Thursday ExCom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4 financial report of the Waltham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5 of the RFID meetings in the CEP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40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 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 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 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ic Hayes</cp:lastModifiedBy>
  <cp:revision>0</cp:revision>
  <dc:subject/>
  <dc:title>No Slide Title</dc:title>
</cp:coreProperties>
</file>