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944-42AD-4B82-AD38-C603E65A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E61A-0F25-4DE5-AB19-5818F044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BD4B-AC9D-4EFD-8DAC-4F57491B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3C7-E9B5-4CC8-86F6-75CDD2BD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8DA-733A-4D52-BAD6-F2F92139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81A-780F-4D32-9B92-E8A97E64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45FD-4A83-4293-A7EB-FD666F3C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DABE-EEC2-42E2-B3DA-0522DDF4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ECD9-9D6B-4BE2-9109-9DCC62C8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66D8-76AE-4059-B621-848DAC36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2AA2-77D2-48E4-BAE0-55BA37B3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A249-DFB2-420C-AFC1-D4BFB65E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A4C457E-AD09-4C36-9F9B-0B86C0F19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3720" y="609480"/>
            <a:ext cx="776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93720" y="6477120"/>
            <a:ext cx="784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Personal Area Networ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y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Group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January 13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9E0E-CF5D-4B17-8306-C52DFDA0CE5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dium Interoperability Continu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3800" y="1460520"/>
            <a:ext cx="8844120" cy="5016600"/>
            <a:chOff x="73800" y="1460520"/>
            <a:chExt cx="8844120" cy="5016600"/>
          </a:xfrm>
        </p:grpSpPr>
        <p:sp>
          <p:nvSpPr>
            <p:cNvPr id="67" name=""/>
            <p:cNvSpPr/>
            <p:nvPr/>
          </p:nvSpPr>
          <p:spPr>
            <a:xfrm>
              <a:off x="3370320" y="1460520"/>
              <a:ext cx="0" cy="485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33000" y="5108400"/>
              <a:ext cx="3371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ackground White nois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81560" y="5367240"/>
              <a:ext cx="455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3425760" y="1604880"/>
              <a:ext cx="3189240" cy="458280"/>
              <a:chOff x="3425760" y="1604880"/>
              <a:chExt cx="3189240" cy="458280"/>
            </a:xfrm>
          </p:grpSpPr>
          <p:sp>
            <p:nvSpPr>
              <p:cNvPr id="71" name=""/>
              <p:cNvSpPr/>
              <p:nvPr/>
            </p:nvSpPr>
            <p:spPr>
              <a:xfrm>
                <a:off x="4453200" y="1604880"/>
                <a:ext cx="2161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ull complian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425760" y="1870200"/>
                <a:ext cx="93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4395960" y="5649840"/>
              <a:ext cx="314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Destructive Interf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39440" y="5975280"/>
              <a:ext cx="3225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lvl="1" marL="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Significant Degrad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79560" y="1946160"/>
              <a:ext cx="0" cy="315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320" y="3657600"/>
              <a:ext cx="16383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800" y="3703680"/>
              <a:ext cx="164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exist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46440" y="2833560"/>
              <a:ext cx="301464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37920" y="2581200"/>
              <a:ext cx="2998440" cy="45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ceptable to 802.11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89200" y="1865160"/>
              <a:ext cx="0" cy="1779840"/>
            </a:xfrm>
            <a:prstGeom prst="line">
              <a:avLst/>
            </a:prstGeom>
            <a:ln w="50760">
              <a:solidFill>
                <a:srgbClr val="00cc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3754440" y="3240000"/>
              <a:ext cx="3073320" cy="1457280"/>
              <a:chOff x="3754440" y="3240000"/>
              <a:chExt cx="3073320" cy="1457280"/>
            </a:xfrm>
          </p:grpSpPr>
          <p:sp>
            <p:nvSpPr>
              <p:cNvPr id="82" name=""/>
              <p:cNvSpPr/>
              <p:nvPr/>
            </p:nvSpPr>
            <p:spPr>
              <a:xfrm>
                <a:off x="3811680" y="3968640"/>
                <a:ext cx="3016080" cy="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249080" y="3713040"/>
                <a:ext cx="2420640" cy="45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PAN proposal 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754440" y="3240000"/>
                <a:ext cx="0" cy="1457280"/>
              </a:xfrm>
              <a:prstGeom prst="line">
                <a:avLst/>
              </a:prstGeom>
              <a:ln w="50760">
                <a:solidFill>
                  <a:srgbClr val="00cc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92040" y="5181480"/>
              <a:ext cx="2538360" cy="1295640"/>
              <a:chOff x="392040" y="5181480"/>
              <a:chExt cx="2538360" cy="129564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392040" y="5264280"/>
                <a:ext cx="1762560" cy="1212840"/>
                <a:chOff x="392040" y="5264280"/>
                <a:chExt cx="1762560" cy="121284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1009800" y="5264280"/>
                  <a:ext cx="0" cy="1212840"/>
                </a:xfrm>
                <a:prstGeom prst="line">
                  <a:avLst/>
                </a:prstGeom>
                <a:ln w="12600">
                  <a:solidFill>
                    <a:srgbClr val="3333cc"/>
                  </a:solidFill>
                  <a:miter/>
                  <a:headEnd len="lg" type="stealth" w="med"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92040" y="5565600"/>
                  <a:ext cx="1762560" cy="45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interferenc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" name=""/>
              <p:cNvSpPr/>
              <p:nvPr/>
            </p:nvSpPr>
            <p:spPr>
              <a:xfrm flipH="1">
                <a:off x="573120" y="5181480"/>
                <a:ext cx="235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2270160" y="1946160"/>
              <a:ext cx="0" cy="1778040"/>
            </a:xfrm>
            <a:prstGeom prst="line">
              <a:avLst/>
            </a:prstGeom>
            <a:ln w="12600">
              <a:solidFill>
                <a:srgbClr val="ff33ff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76040" y="2362320"/>
              <a:ext cx="2202840" cy="71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ff"/>
                  </a:solidFill>
                  <a:latin typeface="Times New Roman"/>
                </a:rPr>
                <a:t>interoper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ff"/>
                  </a:solidFill>
                  <a:latin typeface="Times New Roman"/>
                </a:rPr>
                <a:t>commun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523160" y="3808440"/>
              <a:ext cx="1456200" cy="1373040"/>
              <a:chOff x="1523160" y="3808440"/>
              <a:chExt cx="1456200" cy="1373040"/>
            </a:xfrm>
          </p:grpSpPr>
          <p:sp>
            <p:nvSpPr>
              <p:cNvPr id="93" name=""/>
              <p:cNvSpPr/>
              <p:nvPr/>
            </p:nvSpPr>
            <p:spPr>
              <a:xfrm>
                <a:off x="2270160" y="3808440"/>
                <a:ext cx="0" cy="137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523160" y="4091040"/>
                <a:ext cx="1456200" cy="96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ectru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har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tiquet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352440" y="3022560"/>
              <a:ext cx="6254640" cy="652680"/>
              <a:chOff x="352440" y="3022560"/>
              <a:chExt cx="6254640" cy="652680"/>
            </a:xfrm>
          </p:grpSpPr>
          <p:sp>
            <p:nvSpPr>
              <p:cNvPr id="96" name=""/>
              <p:cNvSpPr/>
              <p:nvPr/>
            </p:nvSpPr>
            <p:spPr>
              <a:xfrm>
                <a:off x="3865680" y="3349800"/>
                <a:ext cx="2741400" cy="0"/>
              </a:xfrm>
              <a:prstGeom prst="line">
                <a:avLst/>
              </a:prstGeom>
              <a:ln w="25560">
                <a:solidFill>
                  <a:srgbClr val="ff003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52440" y="3022560"/>
                <a:ext cx="3786120" cy="652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236840" y="3139920"/>
              <a:ext cx="3053160" cy="45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transfer cap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19320" y="1623960"/>
              <a:ext cx="1074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33360" y="2241720"/>
              <a:ext cx="12276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 3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 3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 3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29040" y="5143680"/>
              <a:ext cx="1388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83000" y="5889600"/>
              <a:ext cx="455760" cy="14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320" y="3200400"/>
              <a:ext cx="1137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WPAN GO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4CB1-1142-4E72-8549-85D848BA4BF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PAN Interoperabil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4 - Full Compliance to the 802.11 MAC &amp; PHY 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ass 3 - Partial Interoperability: there is a way on the medium to exchange data without an intermediate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lass 3a Transmit and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lass 3b Receive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lass 3c Detect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2 - Bridge-like (1 MAC/2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1 - Gateway-like (&gt; 1 M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0 - Non Interope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A85A-CAD6-466B-AD20-1C77E17B7DE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ank you for your time and atten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AC4C-501F-49F1-97EF-57252CA89B5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 of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 of Comment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 T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FD3B-87A4-4DD6-9346-4D74890352D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PAN SG meeting from Monday to Wednes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the Albuquerque, NM Minutes -98/356r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 Ballot 16 -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3 passed with 60/14/4 or 81%. WPAN's PAR and 5 Criter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ed and Dispositioned the 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ed the Five Criteria -98/161r5 and PAR -98/162r8 for recirculation ballot and submission to Ex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ing for 802 Plenary in Austin, TX; the SG ends March 12, 199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B885-A12A-447D-98F8-08D7786E8D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Comment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“To submit the contents of documents IEEE 802.11-98/161-r4 and -98/162-r7 to Executive Committe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"Motion 3 passed with 60/14/4 or 81%. WPAN's PAR and 5 Criteri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5E35-23AE-4D29-919A-2188087DDC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t the approved PAR -98/162r7 and revised Five Criteria -98/161r4 to ExCom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t a revised PAR -98/162r8 and revised Five Criteria -98/161r5 to recirculation WG Letter Bal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DF2C-4D42-4775-89E5-22CE0F1E1C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"Motion 3 passed with 60/14/4 or 81%. WPAN's PAR and 5 Criteria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ere 88 Voting members. 78 submitted their vote. 3 aspirant members submitted their vote to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turn ratio is 78/88= 88 %. So the ballot is valid (50 % is requi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xt step is to resolve all com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Absten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 Comme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DED-7BD3-4375-852D-FC4A9DD778B8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62120" y="1784520"/>
          <a:ext cx="7818480" cy="440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84520"/>
                    <a:ext cx="781848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BEA6-993A-406C-B789-D6235515DC7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1: SG Agreed to incorporate the minor 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trick, Al - SG agreed to fix typo in the Five Criteria -98/161r4, abstract para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ramowitz, Jeff - SG agreed to add in the Five Criteria -98/161r4 WPAN Application examples, 1.1. Broad Market Potential, a) Broad sets of applic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ramowitz, Jeff - SG agreed to add “Bluetooth Specification” reference, Five Criteria -98/161r4 1.3 Distinct Id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yat, Naftali - SG agreed to proposed revision on cost target, Five Criteria -98/161r4, 1.1. Broad Market Potential, c) Balanced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ck, Simon - SG agreed with the proposed revision to have at least a verba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yes, Vic -  SG agreed to deal with Isochronous Traffic as a QoS issue, PAR -98/162r8, 7. Purp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yes, Vic -  SG agreed to add references to WPAN documents Functional Requirements, CFA Summary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8B1-961E-41A9-99DE-050AC20799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2: SG Agreed to add the following to the PA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in scope that a level of interoperability sufficient to transfer data between a WPAN device and an 802.11 device will be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” Tom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in scope that a level of interoperability sufficient to transfer data between a WPAN device and an 802.11 device will be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 go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” S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616-D207-44D9-9E93-662AC5591B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ob Heile</dc:creator>
  <dc:description>Bob Heile, GTE</dc:description>
  <cp:keywords>January 1999</cp:keywords>
  <dc:language>en-US</dc:language>
  <cp:lastModifiedBy>Harry R. Worstell</cp:lastModifiedBy>
  <cp:lastPrinted>1998-02-10T13:28:06Z</cp:lastPrinted>
  <dcterms:modified xsi:type="dcterms:W3CDTF">1999-01-14T03:40:23Z</dcterms:modified>
  <cp:revision>25</cp:revision>
  <dc:subject>Submission</dc:subject>
  <dc:title>doc.: IEEE 802.11-99/005</dc:title>
</cp:coreProperties>
</file>