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BAAE-68C0-416C-9426-C8AD5997A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52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8549-0328-4C08-BBA0-42F14D13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D77F-377C-4622-B862-207BCF11C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D873-5CEE-4517-8234-B7E451E7E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2605-CC44-46A9-AF39-888424BD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2350-4D33-4A6C-8350-CE5EA31C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85FA-F33F-4393-9DF1-2E6F615E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962B-AFB7-41CE-A9FC-41375BC4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FE23-70FF-45EF-8D4E-C9AD35F7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BBDB-A803-46D4-A75E-339C61F5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FF3C-5CC6-4418-9D4D-A9E6AA4E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41D8-5ECD-473D-B249-838AEAF6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25F75D6-8AB1-45E6-B6F8-18B9C0CDF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0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 Rectangular Time Windowing Analysis for IEEE 802.11 OFDM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1424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 Ward in Cooperation with Symbol Technologi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Ward, SciCom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9C4E-0FD8-4671-9308-977188480B0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39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ontribution examines the potential error caused by the non-rectangular window included in the OFDM stand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observed that phase rotation and spreading of the constellation points results after ideal demod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error can impact synchronization, modulation error measurements and data decoding unless mitig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Ward, SciCom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1483-2BAD-44E2-B9A3-E4AF162BDBF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39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ort Training Signal Window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 Standard’s defining equations includes wind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ansition time, defined as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s said to be “about” 100 nsec.  In fact, earlier draft versions, imply relationship to the rolloff parameter of the raised cosine wind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olloff parameter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an be related to two FFT samples.  With respect to the 4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 OFDM symbo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6240" indent="-203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tin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2/64 indicates tha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= 100 nsec exactly, where T = 3.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, is the active symbol dur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76520" y="1828800"/>
                <a:ext cx="2666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HORT</m:t>
                        </m:r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SHORT</m:t>
                        </m:r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kΔ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76520" y="2362320"/>
                <a:ext cx="58816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SHORT</m:t>
                        </m:r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TR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R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&lt;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&lt;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R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e/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R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&lt;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&lt;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SHORT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R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 </m:t>
                            </m:r>
                          </m:e>
                          <m:e/>
                        </m:d>
                      </m:e>
                    </m:eqArr>
                    <m:d>
                      <m:dPr>
                        <m:begChr m:val="{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Ward, SciCom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5781-B9EF-4F58-9083-84DDEECAE5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ndowed vs Ideal Short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the window transition causes dispersion from the ideal rectangular time window, after ideal demod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16 point short 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 from ideal approximately, -22.8 db (following standard’s MER equ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h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ength commensurate with short symbol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71800" y="3581280"/>
            <a:ext cx="3048120" cy="22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Ward, SciCom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6D9D-9E1F-4984-8DDD-AA5AA1BCE2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ndowed Long training Symbol with G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training symbol windowed shows less disp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impact of non unity multiplication applies to relatively less of the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 symbols long + windo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 training symbol can be viewed as a QPSK data 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 approximately -25.4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895480" y="3809880"/>
            <a:ext cx="3733920" cy="241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Ward, SciCom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E591-4447-4E90-8AAA-2617F1CE250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er effect on shorter 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ve examples are for QP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act anticipated to be greater for more dense constel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ias synchronization estim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to modulation error requirements of -18 or -21 db for QPSK and potentially make them not realiz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Ward, SciCom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C25E-4C89-40C8-8ADE-22DBEE3CB8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ommend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references to windowing in the standard are described as informative only and used for conven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nvenience is not necessary as appending time intervals over which a definition is valid is the usual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references to current time windowing.  Benefits inclu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for closer alignment with B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iminates con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oids potential for signal degradation due to this cau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Ward, SciCom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CA20-9C30-4318-9DD6-0C3E381AEA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Ward, SciCom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171D-8E79-430C-873A-BD3FB729D51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rodane</cp:lastModifiedBy>
  <cp:lastPrinted>1999-03-10T08:30:39Z</cp:lastPrinted>
  <dcterms:modified xsi:type="dcterms:W3CDTF">1999-03-10T08:31:13Z</dcterms:modified>
  <cp:revision>21</cp:revision>
  <dc:subject/>
  <dc:title>No Slide Title</dc:title>
</cp:coreProperties>
</file>