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F446-CF83-4732-A8AF-02BA4136E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955E-A102-4DAA-84B2-C91285520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EE69-56AB-4DCD-BB64-D64C84D61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4060-A042-45E6-A40F-93236C66E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7698-4CE8-46EE-B752-5454AB39B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A23A-64B4-4AD2-B299-02A2874B0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07DB-0DA9-4DE4-A0F2-D0C1B186F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0AAA-8BBA-416E-B0BC-72558ED4F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E500-ADB7-4778-A280-F43392FB0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C61F-EC80-48B2-864B-F44E9BBCA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392F-D813-4BAA-BE84-4A489C0EA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8EAD-FCFE-4497-AF10-36DE0E4DD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EFEEE4-64C8-4411-968E-A0898850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8531-5D52-4F9D-A74C-0AF5844720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74C1-C77B-4815-9AF4-DA62D8F49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6EB2-DC1B-4E66-AF62-2FAFDFACC2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D6EE-AB21-4BDB-BF27-A292703C2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8T13:04:17Z</dcterms:modified>
  <cp:revision>37</cp:revision>
  <dc:subject/>
  <dc:title>No Slide Title</dc:title>
</cp:coreProperties>
</file>