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D37-E7D1-4EC4-8EC3-AF76D402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7B3-E3E9-4327-BEFD-6027B37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996-0FB6-4134-8C76-A9217E86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73-DF7A-448B-B091-5F5EF68E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F89-84D9-490A-9941-61F1D82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040-DBCF-46B7-B037-6E45009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885-7EB7-4C41-99C7-5B52F15D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5F2-9791-447A-9DBA-F3FD727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234-5FED-4848-A8F6-6FA0F38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2AC-ED81-4AF8-AC09-F084A98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43-8CEC-43DA-BF56-CC50F57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068-6B7D-4B7E-9981-E405F30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1E223A-A4DE-4430-BBBB-CA779DA1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ics of IEEE P802.11 response to FCC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c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665-9E92-45D0-86D5-39B5846FF9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of WBFH to NB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interferer needs more received power than NBFH, to fail a desired NBFH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WBFH is higher, but the percentage of stations within range is sm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4495320"/>
            <a:ext cx="7772040" cy="2076120"/>
            <a:chOff x="685800" y="4495320"/>
            <a:chExt cx="7772040" cy="2076120"/>
          </a:xfrm>
        </p:grpSpPr>
        <p:sp>
          <p:nvSpPr>
            <p:cNvPr id="124" name=""/>
            <p:cNvSpPr/>
            <p:nvPr/>
          </p:nvSpPr>
          <p:spPr>
            <a:xfrm>
              <a:off x="685800" y="579780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010960" y="4495320"/>
              <a:ext cx="173520" cy="1302120"/>
              <a:chOff x="2010960" y="4495320"/>
              <a:chExt cx="173520" cy="130212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201096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43360" y="449568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215208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49440" y="5761440"/>
              <a:ext cx="161244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10960" y="5093640"/>
              <a:ext cx="173520" cy="667440"/>
              <a:chOff x="2010960" y="5093640"/>
              <a:chExt cx="173520" cy="6674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01096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360" y="5093640"/>
                <a:ext cx="10872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15208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435640" y="5551920"/>
              <a:ext cx="634320" cy="209160"/>
              <a:chOff x="5435640" y="5551920"/>
              <a:chExt cx="634320" cy="20916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543564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54080" y="555228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595152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695920" y="4495320"/>
              <a:ext cx="170640" cy="1302120"/>
              <a:chOff x="5695920" y="4495320"/>
              <a:chExt cx="170640" cy="130212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569592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27600" y="4495680"/>
                <a:ext cx="10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83488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76280" y="5727600"/>
              <a:ext cx="167004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C2F-DAAE-4154-9704-9AE90F87B8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itself - overlapping or disjoint channe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lapping WBFH interferer creates slightly le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overlapping WBFH channels is  twice as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channel signals can use CCA to yiel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CA is not efficient with overlapping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4800600"/>
            <a:ext cx="7772040" cy="1751760"/>
            <a:chOff x="685800" y="4800600"/>
            <a:chExt cx="7772040" cy="1751760"/>
          </a:xfrm>
        </p:grpSpPr>
        <p:sp>
          <p:nvSpPr>
            <p:cNvPr id="146" name=""/>
            <p:cNvSpPr/>
            <p:nvPr/>
          </p:nvSpPr>
          <p:spPr>
            <a:xfrm>
              <a:off x="685800" y="591876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435280" y="5616000"/>
              <a:ext cx="632880" cy="302040"/>
              <a:chOff x="5435280" y="5616000"/>
              <a:chExt cx="632880" cy="3020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54352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53360" y="5616360"/>
                <a:ext cx="39636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9500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435280" y="4800600"/>
              <a:ext cx="632880" cy="1118160"/>
              <a:chOff x="5435280" y="4800600"/>
              <a:chExt cx="632880" cy="11181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5435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33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59500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56280" y="5859000"/>
              <a:ext cx="28490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-channel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325960" y="5616000"/>
              <a:ext cx="634320" cy="302040"/>
              <a:chOff x="2325960" y="5616000"/>
              <a:chExt cx="634320" cy="3020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232596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44400" y="561636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284184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499480" y="4800600"/>
              <a:ext cx="632880" cy="1118160"/>
              <a:chOff x="2499480" y="4800600"/>
              <a:chExt cx="632880" cy="11181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24994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175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014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18320" y="5859000"/>
              <a:ext cx="28512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apping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B3D-926A-4A05-91C7-D222280C24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should not issue a negative response to the FCC NPRM 99-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may benefit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ference to/from current systems is about same as among current incompati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hould not block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EEE decides to issue a negative response, it should remove the misleading assumptions about WBFH system transmit power compared to legacy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0A8-2372-448A-BB49-7F64196F5A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802.11 response to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in document P802.11-99/162 tries to protect the 802.11 investment, which is 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response contains speculative arguments which are inappropriate for IEEE sponsored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blocks new innovative uses of the ISM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fails to address the potential benefit of wider channels to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A50-8B82-4C21-898E-2377ADCDE5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CC NPRM 99-149 in a nut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llow FH with channels which ar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wide, allowed power reduced from 1 W to 33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wide, allowed power reduced from 1 W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ain 75 hopping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overlapping FH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will be required to hop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FC6-2CEB-4FE6-96B9-683BD9BBA5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uses of wider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ata rates are ach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signa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ve modulation schemes increase rates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ensitivity for FSK due to possibility to use higher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in 802.11 h=0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is at h=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of 4-5 dB in sensitivity and interference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al to low power transmitters (W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61B-481E-4823-A936-121AD2E21D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 WBFH use more power than 802.11 syste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regulations allow FH and DS 1 W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WBFH maximal power is 330 or 200 mW for 3 or 5 MHz wide channels, re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 C of the response of 802.11 claim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vices typically use 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devices will use full allow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used will be about same (at expense of r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power consumption and amplifi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185-BD16-478E-8704-EFB29472D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deband FH interference is almost same as NBFH without power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PRM intends to allow less power to WBFH than to NBF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the power will b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power is seldom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interference to existing NBFH and DS users is not significantly different from the interference that this users cause to themselves and to each 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lides address few scen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132-89B9-426F-B834-FE57706C9A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erer transmitting from same distance at same power will be received at same total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density will depend 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red signal will be received at the power needed for de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same spectral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 signals need more received power, however it does not mean higher transmitted power, it means smaller useful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1D2-7400-426F-93E7-D5A82C14BD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INR depends (almost) only on FH signal power, not its band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4190760"/>
            <a:ext cx="7749720" cy="2342520"/>
            <a:chOff x="762120" y="4190760"/>
            <a:chExt cx="7749720" cy="2342520"/>
          </a:xfrm>
        </p:grpSpPr>
        <p:sp>
          <p:nvSpPr>
            <p:cNvPr id="62" name=""/>
            <p:cNvSpPr/>
            <p:nvPr/>
          </p:nvSpPr>
          <p:spPr>
            <a:xfrm>
              <a:off x="762120" y="5728680"/>
              <a:ext cx="77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62440" y="4190760"/>
              <a:ext cx="3070080" cy="1537560"/>
              <a:chOff x="3862440" y="4190760"/>
              <a:chExt cx="3070080" cy="153756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3862440" y="4190760"/>
                <a:ext cx="57348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35920" y="4191120"/>
                <a:ext cx="19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6358680" y="4190760"/>
                <a:ext cx="57384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666680" y="4374360"/>
              <a:ext cx="170280" cy="1354320"/>
              <a:chOff x="4666680" y="4374360"/>
              <a:chExt cx="170280" cy="135432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6666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98360" y="4374360"/>
                <a:ext cx="106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8052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980960" y="5213520"/>
              <a:ext cx="459720" cy="514440"/>
              <a:chOff x="4980960" y="5213520"/>
              <a:chExt cx="459720" cy="5144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980960" y="5213520"/>
                <a:ext cx="8568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66640" y="5213880"/>
                <a:ext cx="28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5354640" y="5213520"/>
                <a:ext cx="8604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554800" y="5362200"/>
              <a:ext cx="630360" cy="366480"/>
              <a:chOff x="5554800" y="5362200"/>
              <a:chExt cx="630360" cy="36648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555480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72520" y="5362200"/>
                <a:ext cx="395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606744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502680" y="4336200"/>
              <a:ext cx="114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0660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5464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D06-2BBE-4A3D-B5E7-357E049D44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 interference to NB and WB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needs more received power than NBFH, however SINR degradation due to DS jamer is s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4343400"/>
            <a:ext cx="7768800" cy="2152080"/>
            <a:chOff x="685800" y="4343400"/>
            <a:chExt cx="7768800" cy="2152080"/>
          </a:xfrm>
        </p:grpSpPr>
        <p:sp>
          <p:nvSpPr>
            <p:cNvPr id="85" name=""/>
            <p:cNvSpPr/>
            <p:nvPr/>
          </p:nvSpPr>
          <p:spPr>
            <a:xfrm>
              <a:off x="685800" y="5856480"/>
              <a:ext cx="776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794040" y="5420520"/>
              <a:ext cx="3077640" cy="435600"/>
              <a:chOff x="3794040" y="5420520"/>
              <a:chExt cx="3077640" cy="435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3794040" y="5420520"/>
                <a:ext cx="57492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68960" y="542052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6296400" y="5420520"/>
                <a:ext cx="57528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010240" y="4779000"/>
              <a:ext cx="173520" cy="1077120"/>
              <a:chOff x="2010240" y="4779000"/>
              <a:chExt cx="173520" cy="107712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01024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42640" y="477900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15136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328120" y="4779000"/>
              <a:ext cx="458640" cy="1077120"/>
              <a:chOff x="2328120" y="4779000"/>
              <a:chExt cx="458640" cy="107712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232812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13800" y="4779000"/>
                <a:ext cx="28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270108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903400" y="4779000"/>
              <a:ext cx="632160" cy="1077120"/>
              <a:chOff x="2903400" y="4779000"/>
              <a:chExt cx="632160" cy="1077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90340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21480" y="47790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341748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440400" y="5275080"/>
              <a:ext cx="1150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080" y="5826240"/>
              <a:ext cx="10065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0000" y="5826240"/>
              <a:ext cx="100728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543200" y="4343400"/>
              <a:ext cx="170640" cy="1077120"/>
              <a:chOff x="4543200" y="4343400"/>
              <a:chExt cx="170640" cy="10771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454320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4880" y="4343400"/>
                <a:ext cx="106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468216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858200" y="4343400"/>
              <a:ext cx="460800" cy="1077120"/>
              <a:chOff x="4858200" y="4343400"/>
              <a:chExt cx="460800" cy="107712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485820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44240" y="4343400"/>
                <a:ext cx="28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23296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480" y="4343400"/>
              <a:ext cx="634320" cy="1077120"/>
              <a:chOff x="5433480" y="4343400"/>
              <a:chExt cx="634320" cy="107712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43348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51920" y="4343400"/>
                <a:ext cx="39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594936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1233720" y="4343400"/>
              <a:ext cx="322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34080" y="4779000"/>
              <a:ext cx="80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2200" y="4343400"/>
              <a:ext cx="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9080" y="4343400"/>
              <a:ext cx="21006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R Degra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369-FA8E-47F3-AF6E-F1DE757C34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56:23Z</dcterms:created>
  <dc:creator>Naftali Chayat</dc:creator>
  <dc:description/>
  <dc:language>en-US</dc:language>
  <cp:lastModifiedBy>Harry R. Worstell</cp:lastModifiedBy>
  <cp:lastPrinted>1998-02-10T13:28:06Z</cp:lastPrinted>
  <dcterms:modified xsi:type="dcterms:W3CDTF">1999-07-08T13:38:48Z</dcterms:modified>
  <cp:revision>13</cp:revision>
  <dc:subject/>
  <dc:title>IEEE802.11 response to FCC  NPRM 99-149</dc:title>
</cp:coreProperties>
</file>