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CCB-7930-41D0-B297-8D13AFE2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731-5470-404B-B7C8-005A491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FFB-01EC-4B29-8963-BC20E406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D75-48B8-49A7-AC7B-8BDF87C8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EB8-71BE-4284-8F7D-A0BA53C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8AF-3CEA-4108-B1AB-16D5AB4C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133-689A-442E-A1DC-A8D17B4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19E-06D2-40EB-B5BE-01828905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E19-5D5B-4198-B6FD-9D2C9E2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21A-6324-4F95-92C8-2B47C9EF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495-E8DC-4F74-82BC-0F2A155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1DB-5B1B-41C4-9DB2-59D3B72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61775A-2A7A-407A-8817-F1C8C0F50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on RF Lighting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ised Proposal on In Band Emissions for RF Lights in 2.45 GHz ISM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88F-AD4B-467D-8ABB-1B3B6BA676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New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RF Lights to use low (relatively) ripple DC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es magnetron operat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Fusion demonstrates that lights eqipeed in this manner can comply with new proposed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BW of stabilized magnetron is &lt;1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imit restricts hi power to 2460 - 248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 of band limited to 10 mV/m @ 3m (av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average power of -15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812-2DC4-4570-B764-72AC525907F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FA6-5DC8-474C-AB21-780B1AD37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by public without special preca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 microwave o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occupational limit is 1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at 20 cm from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point source approximation, de facto limit can be estim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 = 20 cm, surface of sp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=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P of unrestricted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RP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1 mW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5 Wat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4E9-E0B9-483A-B495-87BB513BEC6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adiate at much highe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ccess must be ba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imit applies (1 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rray of lights on a 12 meter m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include stadium lights, parking lo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wer is equipped with ladder, access is barred with a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no one can come within 10 meters of 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of sphere with 10 m radius is 12.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able EIRP is 12.5 kW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4A2-D305-4C4C-932E-19BB64CB6F0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roposal (Ja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5880" y="2544840"/>
          <a:ext cx="794088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544840"/>
                    <a:ext cx="794088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FAB-4E87-4692-A395-E76160A31C8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Proposal (Mar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0960" y="1573200"/>
          <a:ext cx="801072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573200"/>
                    <a:ext cx="801072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B0E-719D-4F55-BF5E-A36CA923718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4400" y="1854360"/>
            <a:ext cx="102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0960" y="2895480"/>
            <a:ext cx="94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5720" y="3963960"/>
            <a:ext cx="49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34240" y="4513320"/>
            <a:ext cx="580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u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4360" y="5305320"/>
            <a:ext cx="5083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700-6D4F-4ED5-B458-6C09981A7D9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rons Sweep in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1600200"/>
          <a:ext cx="784692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8469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4A6-FDCE-4083-A8C6-35B0D08D47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 Ripple Power is Worst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51000" y="1741320"/>
          <a:ext cx="61675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4132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95280" y="4038480"/>
          <a:ext cx="616752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03848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724480" y="3489480"/>
            <a:ext cx="35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8520" y="5943600"/>
            <a:ext cx="351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0B7-0915-4BDE-8234-D6155BE6DD9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7-15T08:29:54Z</cp:lastPrinted>
  <dcterms:modified xsi:type="dcterms:W3CDTF">1999-07-15T08:30:33Z</dcterms:modified>
  <cp:revision>10</cp:revision>
  <dc:subject/>
  <dc:title>No Slide Title</dc:title>
</cp:coreProperties>
</file>