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1A8-8EA8-4196-ACD8-00F4B34D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A93-3C1F-43B9-8704-CB324DE2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926-8A7D-4F3A-975D-4A5304BD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F3E-50AE-4532-AFBA-BD666416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8FD-49AB-4A77-9444-56E87E59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173-274E-48D9-B676-F8537137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2DE-4973-46AE-8770-43F1AD17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F9E-6A8F-4302-9736-C1C9ED8F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481-0F8B-481C-90A2-0BA3F662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1D9-81B4-4A04-A946-A94460F3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6F9-785B-4493-BF20-2D31802B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CA2-A7C0-4059-840A-4405E779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A040BFD-CADD-4D01-B46D-BA0E75B56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9/1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2133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nhancements to the IEEE 802.11 MAC Lay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ris Semi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7-729-49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etrick@harri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4B0-3653-4ABE-B1EA-9BF15335478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urrent Situ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02.11 working group is approaching closure on the a 2.4GHz 802.11HR - PHY extension, And a new 5GHz PHY standa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sed PHY drafts support data rates applicable for application payloads beyo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ata file transf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ssible payloads…..packetized  voice, multimedia, and Isochronous, VoIP traff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C20-BB4C-413D-8BDE-A9182ABAFE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urrent Situation….co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MAC layer supports an optional mechanism which has basic foundation support these types of application payloads….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CF - Point Coordinati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8AB-8467-4722-83BB-CA47CA6080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CF and Security Enhancemen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etrics are missing in the MAC layer’s PCF mechanism for supporting such appli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ality of Service - Q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of Service - 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Security mechanisms for supporting longer security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 management…key negotiation &amp; distribu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e enhancements to the authentication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416-A0F4-47A0-B9B0-A6406040F8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Other Competing Standards and SIG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s robust QoS and CoS metric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ETF - Internet Engineering Task For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d on the IP world and currently defining QoS metrics and strategies for VoIP, integrated and differenti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5A2-EE26-4227-9618-56E1C19763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Other Competing Standards and SIG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col supports 2 types of Li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nchronous Connection Oriented (Voice traffic) and Asynchron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ring QoS and CoS for voice a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5 entertaining papers comparing 802.11 vs Bluetooth networks supporting such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col similar to the CSMA/CA 802.11 and support both a voice/Isochronous traffic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AD7-02B2-42C4-9217-6C412C94D5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Recommended Act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support from 802.11 MAC memb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 reflector to spawn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ck off study group at the next interim meeting in Septembe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owards a completing a PAR  by January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C83-6013-41BB-BD18-7DDBE3AE89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Motio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plenary adopt the recommended actions  as stated in on page 7 of doc 99/16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581-6FBA-4B8F-B091-ADACFF3B77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 Petrick, Harris Semiconductor</dc:creator>
  <dc:description/>
  <dc:language>en-US</dc:language>
  <cp:lastModifiedBy>rodane</cp:lastModifiedBy>
  <cp:lastPrinted>1999-07-15T08:54:29Z</cp:lastPrinted>
  <dcterms:modified xsi:type="dcterms:W3CDTF">1999-07-15T08:54:51Z</dcterms:modified>
  <cp:revision>16</cp:revision>
  <dc:subject/>
  <dc:title>No Slide Title</dc:title>
</cp:coreProperties>
</file>