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DFD-E43F-4BF3-9432-7B101A44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465-EF03-4A85-96E0-310133B6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F71-F80F-47AF-933C-2DF38C96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523-8D18-4D5E-B773-4DA684CE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163-69F5-40BD-B301-FA4C78EE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C81-CC33-4685-BD0C-76680ED9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AF5-9402-4422-A966-B1D7A45A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340-0A53-4963-AA3D-2A829824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AED-5ED2-4D9E-9C81-9875F8F5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8CD-C1C1-4E70-A33D-24CDC4AD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38E-772F-4389-9B2C-09E11C23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A0E-C8F5-46A8-A515-5E41C5C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8A8B40-37E4-4AEE-A62D-93319F957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real, Quebec,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144-5F45-4FE4-A7F1-A9899DD518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0574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 8:30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814-184D-4A6B-A662-C6DE47CCBF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 for TGd was approved at NeSCom in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5BB-9E1A-4204-AFF3-E859EB0747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: 99/159 FH Hop sequences for new regulatory dom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: 98/22 FH Sequences for Australia, Israel, Canada outdoors (will be revised to include band lim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A7E-844E-4281-99C8-3196A98950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rodane</cp:lastModifiedBy>
  <cp:lastPrinted>1999-07-15T08:39:25Z</cp:lastPrinted>
  <dcterms:modified xsi:type="dcterms:W3CDTF">1999-07-15T08:39:55Z</dcterms:modified>
  <cp:revision>7</cp:revision>
  <dc:subject/>
  <dc:title>TGd Agenda</dc:title>
</cp:coreProperties>
</file>