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F52-9DE2-4238-84A9-6F01D547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1F2-68EB-4C5B-9A78-BD67C7C2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0DF-B991-45E1-97DF-2DCE13F9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299-BA02-493B-9F8F-E49BF9C7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261-8129-43CD-B865-87AF1E4D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376-6E5D-4468-9E49-A856FA1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406-9526-41BF-8DD8-9FF70BF8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9B5-F150-4AFA-B73D-5DD9DA7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0B9-0F93-4DC6-B80E-58D0B49A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371-F081-4651-B4D7-9B02F95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D48-2B43-416A-93E5-5A13CA3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6AE-82B1-41B0-80B3-09FEC37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116274-CBB1-4F95-BE54-7B6541870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real, Quebe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888-46FF-4027-9B0E-CC7CBF6A3D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0574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8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5C9-FEBB-498F-B8F4-7EE851C83C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for TGd was approved at NeSCom in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F61-E34C-47B6-9D2F-EED1BAB9BC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99/159 FH Hop sequences for new regulator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: 98/22 FH Sequences for Australia, Israel, Canada outdoors (will be revised to include band lim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727-FEF2-44C4-B7E7-B1E1EB0A90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Algorithmic determination of hop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/Naftali Chayat: International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Engwer: Algorithmic determination of hop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F56-2BF9-4E05-A535-2766A0D62B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for 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Methods to begin to converge to a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262-B932-4545-BEF6-8AAD8F1A60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rodane</cp:lastModifiedBy>
  <cp:lastPrinted>1999-07-15T08:43:17Z</cp:lastPrinted>
  <dcterms:modified xsi:type="dcterms:W3CDTF">1999-07-15T08:43:51Z</dcterms:modified>
  <cp:revision>7</cp:revision>
  <dc:subject/>
  <dc:title>TGd Agenda</dc:title>
</cp:coreProperties>
</file>