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20DB-B1C4-45FC-92E8-47FD18B7D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49D1-956D-4030-B015-FB5CC8F10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F03E-82DA-44DC-94F0-A83691676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8E07-35C7-4EC0-B809-EA14CA9159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866E-3D14-43E6-B3FD-08ED3DB645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B447-9C05-4561-AA4C-0E5A2B036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896F-8FB6-4327-9E15-1019A2C6C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13A0-D25C-4C96-B210-F23D2138B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1869-A7B6-4560-9703-407B52A1F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BDD8-C039-4AC2-B6BD-9457C98D1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0D4A-3743-42EA-9697-59137ADF2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C81B-A422-4A03-8B7F-0433DDC64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2B302E-E3B8-4A42-BF7B-36245B51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8280" y="6438960"/>
            <a:ext cx="195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, Al Petrick,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6680" y="1847880"/>
            <a:ext cx="606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9-149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 - 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 Processing Gain -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C50F-3D9F-4797-9573-AD6240235F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E378-F546-477D-BC7E-A919534896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6C4A-55EB-4D0A-A3A5-FF998FE90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3520" y="1143000"/>
          <a:ext cx="8254800" cy="79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54800" cy="79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0040" y="60948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WBFH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0658-EBD1-49B8-825E-672595441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y group to draft a letter on behalf of 802.11 in opposition of WBFH as defined in NPRM 99-231. This document after approval of 802.11 plenary will be forwarded to ExCom for approval for release to the F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49DB-0FBF-4B53-A7E1-21E4D7F37A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685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DC34-C2E3-4E86-97EC-0D50ADB7A9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1219320"/>
          <a:ext cx="8229600" cy="853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229600" cy="85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55640" y="682560"/>
            <a:ext cx="660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uesday Evening DS Processing Gain Summ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6EFD-164E-42C9-8542-080AAC5F6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plenary adopts the recommendation as stated in the summary on slide 7 of doc 99/16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7D1C-F2D4-400C-AACF-CFADA1E231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, Al Petrick</dc:creator>
  <dc:description/>
  <dc:language>en-US</dc:language>
  <cp:lastModifiedBy>Al Petrick</cp:lastModifiedBy>
  <dcterms:modified xsi:type="dcterms:W3CDTF">1999-07-08T13:47:17Z</dcterms:modified>
  <cp:revision>41</cp:revision>
  <dc:subject/>
  <dc:title>No Slide Title</dc:title>
</cp:coreProperties>
</file>