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86E-834F-44CA-A3A7-8E3FA820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053-72A1-4416-AD4C-CCEB4EAD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410-2C3F-43EA-A465-DEF164C8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596-C434-48C4-B6C8-E402C374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DCA-E38E-4B68-82B8-CDDD135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69F-0CC4-4CF7-BC35-0536E3D2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3E7-B614-4560-8CC4-83D4B44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03C-A611-48F2-93B3-BD4F5B31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B80-1004-4317-8191-24713E4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8C3-81A0-446D-A808-9BF24F4A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541-2960-4D00-8CBE-0A0E18A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9C4-64AF-4D68-A87A-FEDF6138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6611D6-7670-4CFB-8ACB-D06D28CA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ellation Bit Encodings for IEEE 802.11 OFD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Ward in Cooperation with Symbol Technologi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1CE-2830-4074-8D6F-9B3016D1E1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tribution provides the OFDM Constellations as per IEEE Standards conventional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echnical content change i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C41-3A80-49C6-8D99-6A84BC9C4E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nd Q mappings to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existing Tables 81, 82, 83,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integer locations without power norm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 Code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hang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nsmitted earlier in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rve same normalizations for unity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,QPSK and Pilot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Q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05520" y="4800600"/>
                <a:ext cx="45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63800" y="5105520"/>
                <a:ext cx="520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859120" y="5410080"/>
                <a:ext cx="531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768-1320-4187-ACE1-EAE5E8711E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PSK,QPSK and 16 QAM Constellation En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SK and Pi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5533920" cy="83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5540400" cy="83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5540400" cy="136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A6A-FCAD-496B-BC1C-DB588C50F4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 QAM Constellation En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20800" y="2236680"/>
            <a:ext cx="5702400" cy="23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B65-B275-4C36-8337-B4D0F9D4C0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 Bit Encoding with constellation encoding diagrams provided in thi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in 17.3.5.7, the reference to the necessary power normalization factors (as was in earlier drafts) included in a separate para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s IEEE Standard conventions for bit encoding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storage of bit encoding tables (since @ integer lo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s bit encoding and power normaliz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7FE-3570-4CD7-9E07-1C95654379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text cla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stellatio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ach constellation, symbols are located at integer points, within the following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(1,1) and (-1,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PSK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QAM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QAM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 I and Q values are normalized by power scaling to achieve unity average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he clause on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922-6A61-404E-8937-37F75AB72A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1999-03-10T15:02:39Z</dcterms:modified>
  <cp:revision>28</cp:revision>
  <dc:subject/>
  <dc:title>No Slide Title</dc:title>
</cp:coreProperties>
</file>