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28640" y="92520"/>
            <a:ext cx="2784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45840" y="92520"/>
            <a:ext cx="2708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90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30320" y="8853120"/>
            <a:ext cx="24829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0720"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0720"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01960" y="8853120"/>
            <a:ext cx="79200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810F927-C444-448B-AE3D-9AB4D9CA8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040" y="8853480"/>
            <a:ext cx="703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6040" y="885204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1520" y="291960"/>
            <a:ext cx="557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901960" y="8853120"/>
            <a:ext cx="79200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FD6B879-BD37-4358-AB67-2FB4DFD68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730320" y="8853120"/>
            <a:ext cx="24829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0720"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428640" y="92520"/>
            <a:ext cx="2784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45840" y="92520"/>
            <a:ext cx="2708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290600" y="771480"/>
            <a:ext cx="4287960" cy="32162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DE7F-C09A-49C1-920C-D777BA378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0094-9258-474E-B1F6-C97E0E22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AFDB-A919-4F3C-B3D2-3FA0FABA1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0A64-F42C-468B-A6D0-D78F62868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ABB6-220A-476B-8226-24550047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32CE-DD7A-44A4-8A70-C63B725A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6E39-8842-473E-B95D-7D80F63B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FF6C-E250-4EBC-B983-FCB2BBCD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90FD-57F1-4519-926B-FC79A2EF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62D3-2BE9-4C12-9AC5-A2B5DC5B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CA55-FD15-409C-B707-AFCF16E8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C5F8-6F6E-49C8-AF39-97B6FCD6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AE7A8D4-8BEE-4670-A332-B4D49F333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0/0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Linkage of RF Generation and Time-base Cloc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3864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Jamshid Khun-Ju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ricsson Eurolab - Nürnbe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-ordinator of HIPERLAN-2 Standard Area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hair of Physical Layer Technical Specification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951E-41B0-4D64-AA24-26834A17E3B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Non-linked 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st case drift between carrier frequency source and timing clock sour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40 p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lerable phase shift for 16Q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4*17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+ 8*22,5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+ 4*45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/16 = 26.75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lerable time 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et the numbering of subcarriers be from -32 to 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 sampling time shift (50 ns) corresponds to 26/32*18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phase shi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6.75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tolerable phase shift results in a tolerable time shift (50ns*26.75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*32)/(26*18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 = 9.15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ximum burst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9.15ns/40ppm = 229 us corresponding to 57 OFDM symb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algn="ctr">
              <a:lnSpc>
                <a:spcPct val="89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It is too shor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and necessitates the use a (very) fast closed loop for tracking of symbol ti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3101-AF32-4798-8070-02F3812EA59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 1999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Linked Sour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suming a frequency acquisition accuracy in the order 2% of sub-carrier sp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ith a max. frequency error 20ppm*5GHz, the 2%*(20MHz/64) frequency error after fine frequency acquisition corresponds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601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1.25 ppm frequency error which allows a much longer max. burst length and makes the use of a very slow closed loop for tracking of symbol timing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cc"/>
                </a:solidFill>
                <a:latin typeface="Times New Roman"/>
              </a:rPr>
              <a:t>Conclusion: The linkage of clocks enables a reduced complexity receiver implemen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B32B-7FD2-4702-9681-F876015535F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rodane</cp:lastModifiedBy>
  <cp:lastPrinted>1999-03-31T08:42:42Z</cp:lastPrinted>
  <dcterms:modified xsi:type="dcterms:W3CDTF">1999-03-31T08:43:38Z</dcterms:modified>
  <cp:revision>14</cp:revision>
  <dc:subject/>
  <dc:title>No Slide Title</dc:title>
</cp:coreProperties>
</file>