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67F9-4615-4533-ADEE-D95EA1B2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2FC4-1A55-49D0-915A-5B4C856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5EC9-40A2-4689-ABA3-F6BD446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97AF-206C-4E88-9954-5D9426AF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F7DB-6B08-40B7-AE7E-6AB216F4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3D85-3781-4EFA-A688-B3117A08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B5E3-45A0-4117-8CC7-CDBFFBB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3A57-E714-4E81-B3A5-1F0A00A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8F23-662E-4224-BBEF-98AEAD6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B610-CD31-41AE-B8F7-DA758746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5D9A-B006-450B-87E7-788DE45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D40A-7024-4455-A5DF-86D4A40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9864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559A8B-955E-4252-8FD4-31CBEA58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584676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2.4 GHz High Rate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tele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9,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0977-178C-48C0-9C3E-1EE7D18D98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isting draft has an approval rate of 94% at the working group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expecting approval at 802.11 to submit the draft for sponso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490A-493D-48B0-B13E-2EEDB0E3A9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t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has been approved by the FCC with the CCK 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in the current draft standard is an optional modulation, PBC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same modulation that was presented to the FCC in Nov, 9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0F95-A1C2-4CB7-8D8D-6C59DE1FD4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uses 64-ary (nearly) orthogonal keying using a complementary cod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mensionality of the CCK codes requires 16 chips per symbol to descri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9C8A-A9F6-45DE-89A2-EB7B483154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allows the use of a fast walsh transform for the correlator in the demodulator greatly simplifying the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modulation code words possess an underlying structure which can be exploited by a symbol-decision-based equalizer.  This allows the equalizer to operate at low SNR condi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DD14-601C-47F7-8816-FF848FAB2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9-03-09T05:35:00Z</cp:lastPrinted>
  <dcterms:modified xsi:type="dcterms:W3CDTF">1999-03-09T15:02:58Z</dcterms:modified>
  <cp:revision>53</cp:revision>
  <dc:subject/>
  <dc:title>Document 98/116</dc:title>
</cp:coreProperties>
</file>