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A14842-F5E7-4FA7-A071-02700A683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920221-5A2F-4668-B341-EC8EDE456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58C-6547-4FE1-B1B0-62EE3A7D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24E-92E6-4286-9ACD-67B2A0E8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368-BAB1-43E8-A78E-3F55A6C1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C4A-4F03-4C8D-BFB2-7B8F2E3E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9DB-50AA-428C-B47E-992454EA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30B-5AB0-44BA-B73D-D7CCCD29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793-EC03-40E1-9AC1-3C21D46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75F-CCA9-4863-A63D-FD8F9976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C2F-B417-4A2B-A30F-7F3D6476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065-AA90-4C82-AED1-87A718B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231-CD2D-4A0A-82F4-667846B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343-D1E5-47CF-A5CC-2D41128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77737A-25D8-4C39-9634-20C4E27C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10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392-C560-4FEF-BECA-571405DE82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6 under Addi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hange as follows: A Personal Operating Space (POS) is the space about a pers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Reason: Clarification of i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61D-1AF7-4B35-B71C-72C66234E6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o approve the WPAN PAR “Rev 9” -98/162r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EF7-7409-495F-BEF7-F52CDE1960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hat the 802.11 WLAN Working Group recommends that The Executive Committee of 802 submit the WPAN PAR “Rev 9” -98/162r9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235-992D-4E1E-A8BD-AA124E9DEE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WLAN Group recommends that The Executive Committee of 802 establish a new Working Group for Wireless Person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1E0-AFBA-4DC3-8CC1-BC683F28F1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9C8-1492-4573-9BD0-66C59324D3D6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385-014C-4C8B-BFD3-9FF3C3D198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D21-E19B-48FE-A1CA-37E03B2A25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2E3-BA8E-45C5-977F-E1204C7A79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ame of WG:  Change from ‘WPAN Study Group’ to ‘Sponsor:  IEEE 802.11 WG for WLAN, Proposed Working Group:  IEEE 802.xx WG for Wireless Personal Area Networks”   Reason: greater c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 Name of Reporter and supporting info from Vic Hayes To Bob Heile.  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1F0-4DC1-4158-97D4-153C1864BB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 of WG Chair.  Add Vic Hayes.  Reason: no longer same as Repor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b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hange from Supplement to New Standard. Reason:  reflects change of recommendation from TG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 7 Change from Trial Use to Full Use. Reason: clerical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815-68A6-4FB1-BDE0-0F6D6A51B2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“[To define derivative versions of the 802.11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have been reviewed to determine their suitability to meet the Functional Requirements of the WPAN Applications as specified in IEEE documents –98/295-298 and –98/352.  Detailed suggestions on proposed changes to the IEEE 802.11 MAC &amp; PHY Standard have been reported in documents –98/322r2, 323, 324.]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117-88D7-445B-9BBC-2384F358C5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[To define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ndard 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en reviewed to determi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itability to meet the Functional Requirements of the WPAN Applications as specified in IEEE documents –98/295-298 and –98/352.  Detailed suggestions on proposed changes to the IEEE 802.11 MAC &amp; PHY Standard have been reported in documents –98/322r2, 323, 324.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: reflects change of recommendation from TG to 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AE0-803E-4E21-814C-3F4D4AD0D9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rop word “supplemental”.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following footnote “These groups are not standards organizations, but they have similar charters and the Working Group intends to establish liaisons with these groups as appropriate.” Reason: clarification and i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“[ISO/IEC JTC1/SC6] by [DR]”.  Reason: cleric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A13-2DE7-49D0-BA77-19CF03D6C3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dc:language>en-US</dc:language>
  <cp:lastModifiedBy>Ian C. Gifford</cp:lastModifiedBy>
  <cp:lastPrinted>1999-03-08T22:00:07Z</cp:lastPrinted>
  <dcterms:modified xsi:type="dcterms:W3CDTF">1999-03-10T18:54:36Z</dcterms:modified>
  <cp:revision>47</cp:revision>
  <dc:subject>doc.: IEEE 802.11-99/056</dc:subject>
  <dc:title>WPAN SG WG Report</dc:title>
</cp:coreProperties>
</file>