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9760" y="694800"/>
            <a:ext cx="457848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B3941C-DC85-4671-B745-53F3FB5F6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9776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9632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37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A998D7E-42B7-4DB8-94F4-B500AD1E7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25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8476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4760" y="8729640"/>
            <a:ext cx="2973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8729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2960" y="4363920"/>
            <a:ext cx="50306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41560" y="696960"/>
            <a:ext cx="4576680" cy="3432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720-24C7-4C97-AB67-3CDB3939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AD7-3E5A-4E93-B443-B1034883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BC8-35B6-4D1A-AD1C-735007AB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6D6-A4A5-486C-B178-4805B62B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F6A-C65A-4A89-980D-B35CBB16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E99-1B78-408C-A841-5EC15DE2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E20-E3AE-46C4-A83C-DF0F684A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BE5-22A0-412B-900B-23371575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090-8249-4A96-876B-08B5B1E9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CB8-B82E-4116-BBF9-E542B679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477-E444-4B42-85A1-5788232E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7E7-A544-4102-B5B7-86970CA1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C59BA0-AE3F-44A2-B134-3947D1084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Working Group Report to Ex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, March 11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s 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4257720" y="1143000"/>
            <a:ext cx="62856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692-C51B-4E08-B3EB-328FE191D87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coexistence and effective use of a shared medium is so critical to success, the WPAN Study Group suggests that the new WPAN Working Group keep very close ties with 802.11 including joint interactive meetings whenever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to recommend the formation of a Working Group rather than a Task Group under 802.11 required the Study Group to modify Rev8 of the WPAN PAR in the following 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61A-DEA6-4888-89C3-AC00358F27E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16) Motion made to approve the WPAN PAR “Rev 9” -98/162r9   Bob Heile/Tom Si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17) Motion made to amend the WPAN PAR to replace all occurrences indicating the formation of a Working Group with those forming a Task Group of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O’Hara/Naftali Chay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 Call Vote on the amendm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- 8 - 5  --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e on Amended Motion:  31/9/4 --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232-84FC-48B9-B4FD-64E8B4185E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-Rev 7 to Rev 10(9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Name of WG (Rev 9):  Change from ‘WPAN Study Group’ to ‘Sponsor:  IEEE 802.11 WG for WLAN, Proposed Task Group:   Wireless Personal Area Networks” 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greater clarit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5c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hange from Trial Use to Full Use. (Rev 8)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erical err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Delete from Scope (Rev 9) : “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erivative versions of the 802.11” Reason: Flexibil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Add to Scope (Rev 8): “A goal of the WPAN group will be to achieve a level of interoperability (see -99/5) which could allow the transfer of data between a WPAN device and an 802.11 device”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fication of intent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022-1139-4834-BFFA-15F3E48906C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dd to Scope (Rev 9): “standard” and repair grammar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9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dd following footnote (Rev 9) “These groups are not standards organizations, but they have similar charters and the Task Group intends to establish liaisons with these groups as appropriate.”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fication and inten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12b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dd (Rev 9) “[ISO/IEC JTC1/SC6] by [DR]”.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erical err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 under Additional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hange as follows (Rev 9): A Personal Operating Space (POS) is the space about a pers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or obj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that typically extends up to 10 meters in all directions and envelops the person whether stationary or in motion.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fication of inten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-Rev 7 to Rev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F07-74E9-483E-BF3E-211461ED73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19) Motion made to request for the ExCom to interpret rules that allow for significantly different multiple MACs in the Working Group. Dean/Tom Si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21) Motion made To amend the Motion to request from ExCom a ruling that allows for multiple MACs within a Working Group if required.  Tom Siep/P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-10-14 on the amendment--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-13-14 on the amended motion--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FED-234D-4CCF-A3FF-5962C709441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99/55P23)  move that the 802.11 WLAN Working Group recommends that The Executive Committee of 802 submit the WPAN PAR, “Rev 9” -98/162r9 amended, to NesCOM for appro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H./Greg 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: 36/0/7, P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03F-3F4C-4A55-B310-537534715D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 on the PAR Ve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the  802.11 W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the 802.11 WGSG Wireless Personal Area Networks (WPAN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ob He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198-AD33-465D-BBE7-C5509E81AE0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of Letter Ballots 16 and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PAR rev7 and 5 Criteria Rev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G Actions this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edits to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WG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11B-A41E-42F8-8448-EAAE76D9A4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Timeline vis a vis a Specification(s) or a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5720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1868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0800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62480" y="42242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52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57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10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625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149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198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22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531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056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580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524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48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38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90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3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71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471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804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329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384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9580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7632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57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377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43000" y="4213080"/>
            <a:ext cx="30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42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047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100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905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951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77080" y="4191120"/>
            <a:ext cx="27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8092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6324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434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988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32800" y="41990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04040" y="209088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96080" y="313200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32720" y="32083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23000" y="3962520"/>
            <a:ext cx="53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5240" y="3184560"/>
            <a:ext cx="1189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2018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75120" y="1905120"/>
            <a:ext cx="1320840" cy="141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523560" y="3184560"/>
            <a:ext cx="1173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F-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0400" y="3184560"/>
            <a:ext cx="1858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-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 Provi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5464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7160" y="5867280"/>
            <a:ext cx="4116240" cy="2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037040" y="5866920"/>
            <a:ext cx="5106960" cy="9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4520" y="5876640"/>
            <a:ext cx="304920" cy="126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smllieee" descr=""/>
          <p:cNvPicPr/>
          <p:nvPr/>
        </p:nvPicPr>
        <p:blipFill>
          <a:blip r:embed="rId3"/>
          <a:stretch/>
        </p:blipFill>
        <p:spPr>
          <a:xfrm>
            <a:off x="8001000" y="2079720"/>
            <a:ext cx="95076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720" y="4822920"/>
            <a:ext cx="86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12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AN 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1669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9240" y="4822920"/>
            <a:ext cx="144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4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d PAR to 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 WG LB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8080" y="4822920"/>
            <a:ext cx="85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4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P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96248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11512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595008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49568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136600" y="213372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1360" y="59436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91440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73392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8381880" y="586656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F6C-D673-44AB-BEB6-A8B14C92781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ter Ballots 16 and 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 Letter Ballot 16, ending Jan 7,1999, Approved PAR rev 7 and Five Criteria Rev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-14-4 or 8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 Letter Ballot 17, ending Mar 3, 1999, Approved PAR rev 8 and Five Criteria rev 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8-5-2 or 92% on  recircul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-8-3 or 90% over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9BF-937D-42AD-A7FA-309C54B600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PAR and Five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on 7 of the WPAN PAR and Revision 4 of the Five Criteria submitted to ExCom on Feb 4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54F-49B5-493B-AEC6-0C2603FFA7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G Objectives for this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resolution of WPAN PAR -98/162r8 &amp; Five Criteria -98/161r5 and submission to ExCom and Nes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Leadership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Up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Futur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805-0448-4BDA-A5D2-6F6537965E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SG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revised recommended  direction regarding the Wireless PAN initiative for approval by 802.11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ed Rev 9 of the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ed supporting cover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ught 3 motions to the 802.11 WG for 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B3E-78DB-4940-A078-5456373AA9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ed Dire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 9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The WPAN Study Group recommends that it become a Task Group of 802.11 with the understanding that this will likely require a change in the 802.11 charter and a rule change within 802 to allow multiple MAC Layers within a Working Group.  The motivation for becoming a Task Group within 802.11 is to ensure the best use of a shared medium.  If this is not feasible the SG recommends the formation of a separate Working Group under 802 which would include all PAN-related activity including Bluetooth, HomeRF, etc. should they also submit PAR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9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SG recommends the formation of a separate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2C7-460F-45AD-AF80-F5EC59E384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PAN Study Group respectfully submits, for approval, Rev 9 of the PAR and Rev 5 of the 5 Criteria for Wireless Personal Area Networks and recommends the formation of a separate Working Group under 802 that would include all PAN-related standards activ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tivation to create a Working Group is to independently consider technologically acceptable approaches that have broad market appeal.  We believe this is more efficiently and effectively done as a peer of 802.11 rather than as a Task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B88-B275-4AD6-8B8B-DBCC75174E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Bob Heile, GTE</dc:description>
  <dc:language>en-US</dc:language>
  <cp:lastModifiedBy>Ian C. Gifford</cp:lastModifiedBy>
  <cp:lastPrinted>1999-03-08T22:00:07Z</cp:lastPrinted>
  <dcterms:modified xsi:type="dcterms:W3CDTF">1999-03-11T22:49:08Z</dcterms:modified>
  <cp:revision>67</cp:revision>
  <dc:subject>doc.: IEEE 802.11-99/057</dc:subject>
  <dc:title>WPAN WG ExCom Report</dc:title>
</cp:coreProperties>
</file>