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9/0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0200" y="609480"/>
            <a:ext cx="7758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00200" y="6477120"/>
            <a:ext cx="7834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0666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ck Coupling in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R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66688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Jan B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 Web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ris Semicon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ris Semiconductor and Lucent Technologies independently analyzed timing recovery requirements and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LO oscillator and the sampling clock at transmit are not coupled the receiver will suffer severe performance degradation compared to a situation where the clocks are coupl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recovery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e zero crossings at the incomming CCK sig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crossings very noisy, especially in a real enviro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tracking becomes unreliable at about 50 ns delay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ly simple circuit, low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recovery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late detection after Channel Matched Filter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F has to run at twice the chiprate, extra circuitry to calculate the interchip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after CMF/ Walshcorrelation still very noisy; effect of channel estimation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tracking reliable up to 200-250 ns delayspre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recovery with coupled c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ion of phase error (easy on QPSK/C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tracking can be easily calculated from the phase error and clock can be adjus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circuitry; no performance limitations because of the sample 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(just because of the bill of materials) clocks are coupled. In some applications the clocks have to be uncoup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fy the receiver through the service field that the clocks are coupled, such that  receiver can make use of this for optimal perform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rodane</cp:lastModifiedBy>
  <cp:revision>0</cp:revision>
  <dc:subject/>
  <dc:title>No Slide Title</dc:title>
</cp:coreProperties>
</file>