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A90-815E-4D17-8BFC-8B971A2A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5D8-5D03-4E0B-A7F1-5DF8EFD1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FDB-5A0E-4674-AA29-28BBAFC7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D4D-2E0F-41CF-9E69-D8E5E778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007-D110-47C8-A8F6-23E46C8A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12F-574F-46F7-92AE-AE4E6331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F3E-2B48-42ED-BB80-98FF0832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2C0-FDB4-4960-9DFF-3B0B474F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8B7-F221-49C0-87C9-C697C372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73F-7821-45FE-AF26-7A9EDF9E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565-62C9-4351-8214-7FBBC16F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983-4053-491F-B05C-E6C6F43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BBC4D8-2EFA-4B1E-8BA4-B3A970BE4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a - High Speed PHY in the 5 GHz band PH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, 802.11 TGa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ezeCOM Ltd.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F1E-B5E7-449A-9819-42581A8B3F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ambl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e repetitions of short sequence in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Detection, AGC convergence, Diversity resolution, Timing estimation, Coarse frequency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repetitions of long sequence with Guard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frequency estimation, Channel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868680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9F8-AC89-4BAD-B12B-CFD7A3B251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ization in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6840" y="1447920"/>
            <a:ext cx="831996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9E8-9A5B-4FB1-B056-5106899F814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l Mask Requi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sk determines worst case 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ed to pass local regulatory requirements is explicitly men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315200" cy="33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4B5-9626-4F82-A2EF-C302A55A92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ination with other Standards Committ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TGa cooperates with the European ETSI BRAN (Broadband Radio Access Networks) and with Japanese MMAC (Mobile Multimedia Advisory Council) to achieve commonality in PHY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 Wireless Ethernet group will adopt 802.11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 Wireless ATM group and BRAN agreed on basic parameters (52 subcarrier OFDM, channel spacing), but adapt some details such as preamble structure and rate signaling to thei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2C4-DBC4-4A84-93C4-B00DD5871F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802.1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ized a standard for Wireless LANs in the 2.4 GHz ISM band in July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MAC, three PHYs: FHSS, DSSS,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les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the group works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peed PHY in the 5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speed PHY in the 2.4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PAN (Personal Area Networ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C51-81A7-4270-8E0D-6E563DC376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TGa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Group a formed in July 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selected in July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finalized in Nov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letter ballot issued Nov 98, processed Jan 99, 82% support after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firmation ballot issued Jan 99, to be processed in March 99, initially 92%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E86-E459-4A16-9E39-1AC011809B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a - 5 GHz High Speed PHY 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, Modulations, Preambl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iz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al mask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cooperation with other standards bodies (BRAN, MM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A42-C9A5-4EEF-8548-BC0CC93B55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MHz channel spa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6 MHz signal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data rates-  6 to 54 Mbit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f 6, 12 and 24 Mbit/s rates is mand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mod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SK, QPSK, 16QAM or 64QAM on each sub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assisted coherent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multirate mechanis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834-E5F2-490D-8634-02ED7E19C6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Fram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spacing is 312.5 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 performed over 3.2 micro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8 microsecond Guard Interval for ISI re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438280" y="4038480"/>
          <a:ext cx="431964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038480"/>
                    <a:ext cx="43196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D25-8DFB-45F3-851F-1A620DB062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d Pilot subc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non zero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data sub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arrier pilot sub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 frequency subcarrier not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kage in quadrature modulators may corrupt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3885840"/>
            <a:ext cx="8153640" cy="2590920"/>
            <a:chOff x="609480" y="3885840"/>
            <a:chExt cx="8153640" cy="2590920"/>
          </a:xfrm>
        </p:grpSpPr>
        <p:sp>
          <p:nvSpPr>
            <p:cNvPr id="62" name=""/>
            <p:cNvSpPr/>
            <p:nvPr/>
          </p:nvSpPr>
          <p:spPr>
            <a:xfrm>
              <a:off x="8953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386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815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44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77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1064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535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68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97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826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59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688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121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50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80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12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842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271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704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1332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62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995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424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853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286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715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14840" y="571500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577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006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439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68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298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730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600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589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022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451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80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313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42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175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604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033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466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895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324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757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68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616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48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478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907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340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480" y="5867280"/>
              <a:ext cx="81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614840" y="388584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DA1-8B99-4436-9728-D692C2FD36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Correction 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 is a must - some subcarriers may f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Interleaved Convolutional Coding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obust that trellis in Rayleigh f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standard K=7, R=1/2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coding rates (2/3, 3/4) derived by pun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il zero bits added to message (trellis termi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eaver spans one OFDM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cy and complexity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E37-48E4-4C3F-AC67-4275DA4E1C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ed Rates and Mod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ion of the data subcarriers by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SK, QPSK, 16QAM or 64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2, 4, or 6 bits/subcarrier, correspon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Msubcarriers/sec (48 subcarriers each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1752480" y="1752480"/>
          <a:ext cx="12877560" cy="26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52480" y="1752480"/>
                    <a:ext cx="1287756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633-1697-4FA3-A0F5-778B27B625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23:36:41Z</dcterms:created>
  <dc:creator>Naftali Chayat</dc:creator>
  <dc:description/>
  <dc:language>en-US</dc:language>
  <cp:lastModifiedBy>vichayes</cp:lastModifiedBy>
  <cp:lastPrinted>1999-03-09T05:40:21Z</cp:lastPrinted>
  <dcterms:modified xsi:type="dcterms:W3CDTF">1999-03-09T05:41:07Z</dcterms:modified>
  <cp:revision>10</cp:revision>
  <dc:subject/>
  <dc:title>No Slide Title</dc:title>
</cp:coreProperties>
</file>