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7B5472-71AC-4810-8C9A-09608F35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D563F7-06CB-4136-9124-9BB6F51A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A4F-18C4-467B-A0BA-BF0AEBC0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10B-8FB7-43B7-8151-482A17D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DEC-7496-4C8B-8DEE-C53A8312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7B5-616F-4B84-B32A-8759BD60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92D-2816-424B-83E3-FFCD5C7A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8CE-B64D-4EA0-ACD7-E82EC16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BC4-D3A8-4536-A943-F39512D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B45-95E4-4A3A-9392-727B818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B3D-DFE3-4E83-8F9A-C67848B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08E-80C7-458D-AA13-B756E710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9C2-2D58-40F6-9672-79B097E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04E-7D3D-4A9C-B3D0-555649C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F8ABCB-420C-4CB1-B0B0-D0136F72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0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525-0067-430F-A0C4-712A340B80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G and the WPAN S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need for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that there is a strong market demand for a consumer-cost, low pow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a PAR to accomplish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importance of Coexistence and the need for etiquette  in the use of a shared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venue to best create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839-94B2-4E98-8FB8-BCB25658D6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Relat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4 Companies Participa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-Jun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F/Firefly--  ~84 Compani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Dec 98/Dec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SG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 Companies Particip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tandard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c, Motorola, Butterfly, Kod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686-1CAC-40D3-B471-B85BBF890B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PAN Standard that does not involve Bluetooth as a participant will have a tough time gaining market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dependent efforts will aggravate coexistence and interferenc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02A-4D4B-4473-9A98-46C991348A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atives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that can attract members who feel they have equal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get active participation from Members of Bluetooth, HomeRF/Firefly, 802.11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which can take a fresh look, evaluate different proposals and find compromise solutions that address broad market applicability as well as technical me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is of the essence--1-2year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2D7-DF96-45A9-955B-5CB6CD27F1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 as a 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 of one MAC per WG eliminates a large class of potential solutions for developing a WPAN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erception that 802.11 has invested interests and will block non .11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G it is harder for non .11 participants to feel that they have equal standing, assuming they can be attract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ursue direct liaison with important outside interests/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0FF-AC69-472C-A8E9-A768185921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tages of a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tature required to work more effectively with significant exter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ct as the agent of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freedom of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urpose promotes speed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C69-8DF1-483E-9C92-0CCD038610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ly urge the SEC to pass a motion to form a WPAN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effective compromise solutions is imperative to shared use, interoperability, success and accep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ption of balance needs to be as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is not whether a lite version of .11 can do the job, more important is market acceptance of a standard that does the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982-0B38-4BAA-9C46-FEE2F1C4B4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March 1999</cp:keywords>
  <dc:language>en-US</dc:language>
  <cp:lastModifiedBy>rodane</cp:lastModifiedBy>
  <cp:lastPrinted>1999-03-30T09:54:55Z</cp:lastPrinted>
  <dcterms:modified xsi:type="dcterms:W3CDTF">1999-03-30T09:55:51Z</dcterms:modified>
  <cp:revision>8</cp:revision>
  <dc:subject>WPAN SG ExCom Report</dc:subject>
  <dc:title>doc.: IEEE 802.11-98/58</dc:title>
</cp:coreProperties>
</file>