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01BE-F382-40C7-8E22-36F9E3DD7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F1D4-0F0F-43A4-9C31-4F46D926A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46E2-50E9-42AE-A760-1E7F6D007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264D-DBA8-40A2-9245-4410CAA86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DFCA-A728-41C1-B801-0EE9B0F7D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CF4D-208A-4987-A523-C8B067162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31AE-EF0B-460B-B9CE-576ADD272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3AE7-9CF2-4C88-AAB9-65C9786D1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B111-3212-4177-9481-13EED9DDA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C178-F3DA-4046-8883-C75D985B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633B-A295-450F-BB26-CD3BD2578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6C06-23D1-4762-ADFB-EB5E2E024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D728704-C0E7-4931-96B3-14BBEF9166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9/06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RF Lighting Backgrou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r. ‘98: FCC NPRM (ET Docket 98-4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ules for RF lighting in 2.45 GHz ISM B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 limit on in-band emissions in 2.45 GHz ISM b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EEE 802.11 submitted comments in opposi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. ‘98:  OET Recommendation to Com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ET recommends adoption of proposed r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ET felt that Part 15 community had no standing in Part 18 mat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c. ‘98:  Part 15 direct appeal to Com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mission delayed approval of proposed r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rected parties (RF Lighting / Part 15) to seek re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an. ‘99:  Part 15 and RF Lighting Interests m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rt 15 proposed 20 mV/m @ 3 m limit  --- immediately rej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rt 15 provided data on impact of RF lights on ISM rad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r. ‘99:  Part 15 Submitted Alternative Propo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Harris Semiconduct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D5AC-8C6C-41D1-9ECB-142362DE5B6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nterested Par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ommunincations Inter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rt 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ics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luetooth Promo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tri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t 15 Coal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EE 802.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bile Satellite Service (M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irTou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F Lighting Inter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sion Ligh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Harris Semiconducto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EAB5-05D4-4509-8AF6-13659C2D13B5}" type="slidenum">
              <a:t>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Original Proposal (January ‘99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542960" y="1828800"/>
            <a:ext cx="7010640" cy="1828800"/>
            <a:chOff x="1542960" y="1828800"/>
            <a:chExt cx="7010640" cy="1828800"/>
          </a:xfrm>
        </p:grpSpPr>
        <p:sp>
          <p:nvSpPr>
            <p:cNvPr id="53" name=""/>
            <p:cNvSpPr/>
            <p:nvPr/>
          </p:nvSpPr>
          <p:spPr>
            <a:xfrm>
              <a:off x="1542960" y="3505320"/>
              <a:ext cx="7010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2076480" y="1828800"/>
              <a:ext cx="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7943760" y="1828800"/>
              <a:ext cx="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1755000" y="3679920"/>
            <a:ext cx="5814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98600" y="3679920"/>
            <a:ext cx="5814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1572840" y="2619360"/>
            <a:ext cx="6375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3000" y="2374920"/>
            <a:ext cx="9486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 mV/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@ 3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44953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m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niform 20 mV/m @ 3m across entire band (2400 - 2500 M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rresponds to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86 dBuV/m @ 3 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75 dBuV/m @ 10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Harris Semiconduct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46FE-5C48-4BFA-98E9-50B3F7D1585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Proposed RF Light PSD (2/23/99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529920" y="1905120"/>
            <a:ext cx="8021520" cy="4396680"/>
            <a:chOff x="529920" y="1905120"/>
            <a:chExt cx="8021520" cy="4396680"/>
          </a:xfrm>
        </p:grpSpPr>
        <p:grpSp>
          <p:nvGrpSpPr>
            <p:cNvPr id="63" name=""/>
            <p:cNvGrpSpPr/>
            <p:nvPr/>
          </p:nvGrpSpPr>
          <p:grpSpPr>
            <a:xfrm>
              <a:off x="1541160" y="2169360"/>
              <a:ext cx="7010280" cy="1581480"/>
              <a:chOff x="1541160" y="2169360"/>
              <a:chExt cx="7010280" cy="1581480"/>
            </a:xfrm>
          </p:grpSpPr>
          <p:sp>
            <p:nvSpPr>
              <p:cNvPr id="64" name=""/>
              <p:cNvSpPr/>
              <p:nvPr/>
            </p:nvSpPr>
            <p:spPr>
              <a:xfrm>
                <a:off x="1541160" y="3619440"/>
                <a:ext cx="7010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V="1">
                <a:off x="2074320" y="2169360"/>
                <a:ext cx="0" cy="1581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V="1">
                <a:off x="7941600" y="2169360"/>
                <a:ext cx="0" cy="1581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6646680" y="2169720"/>
              <a:ext cx="0" cy="158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48120" y="3340800"/>
              <a:ext cx="1311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087280" y="3349080"/>
              <a:ext cx="411300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752120" y="3770640"/>
              <a:ext cx="5814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4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695720" y="3770640"/>
              <a:ext cx="5814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5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251760" y="3770640"/>
              <a:ext cx="7308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483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820840" y="2027160"/>
              <a:ext cx="38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678360" y="2028600"/>
              <a:ext cx="38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52080" y="1905120"/>
              <a:ext cx="1852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478.5 - 2483.5 M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1542960" y="2304360"/>
              <a:ext cx="46000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1542600" y="3348000"/>
              <a:ext cx="5108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931200" y="2617560"/>
              <a:ext cx="2872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6194160" y="1936440"/>
              <a:ext cx="458280" cy="1698120"/>
              <a:chOff x="6194160" y="1936440"/>
              <a:chExt cx="458280" cy="1698120"/>
            </a:xfrm>
          </p:grpSpPr>
          <p:grpSp>
            <p:nvGrpSpPr>
              <p:cNvPr id="80" name=""/>
              <p:cNvGrpSpPr/>
              <p:nvPr/>
            </p:nvGrpSpPr>
            <p:grpSpPr>
              <a:xfrm>
                <a:off x="6194160" y="1936440"/>
                <a:ext cx="456840" cy="1698120"/>
                <a:chOff x="6194160" y="1936440"/>
                <a:chExt cx="456840" cy="169812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6194160" y="1936440"/>
                  <a:ext cx="0" cy="1698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6651000" y="1936440"/>
                  <a:ext cx="0" cy="1698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" name=""/>
              <p:cNvSpPr/>
              <p:nvPr/>
            </p:nvSpPr>
            <p:spPr>
              <a:xfrm>
                <a:off x="6195600" y="2302920"/>
                <a:ext cx="456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233400" y="2585520"/>
                <a:ext cx="38700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>
              <a:off x="7010280" y="2599560"/>
              <a:ext cx="491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I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29920" y="2189160"/>
              <a:ext cx="10278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0 dBuV/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@ 10 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6120" y="3232440"/>
              <a:ext cx="9424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0 dBuV/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@ 3 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013400" y="4259520"/>
              <a:ext cx="7414920" cy="204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gion I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400 - 2478.5 MHz. RF lighting restricted to Part 15, Class A limi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gion II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478.5 - 2483.5 MHz. RF Light emission limit of 100 dBuV/m @ 10 m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equivalent to 330 mVm @ 3m).  Consistent with CISPR15 limi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gion III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2483.5 - 2500 MHz.  RF lighting restricted to Part 15, Class A limi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is portion of the band includes satellite services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Harris Semiconducto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F715-2FE0-43CD-930B-94AE0E55FE6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mpact on DSSS WL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523880" y="2514600"/>
            <a:ext cx="5639040" cy="2039760"/>
            <a:chOff x="1523880" y="2514600"/>
            <a:chExt cx="5639040" cy="2039760"/>
          </a:xfrm>
        </p:grpSpPr>
        <p:sp>
          <p:nvSpPr>
            <p:cNvPr id="91" name=""/>
            <p:cNvSpPr/>
            <p:nvPr/>
          </p:nvSpPr>
          <p:spPr>
            <a:xfrm>
              <a:off x="1523880" y="3861000"/>
              <a:ext cx="563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2055960" y="2573280"/>
              <a:ext cx="1440" cy="144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6629400" y="2529000"/>
              <a:ext cx="1440" cy="148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734840" y="4035600"/>
              <a:ext cx="5814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4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234840" y="4035600"/>
              <a:ext cx="7308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483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6176880" y="2514600"/>
              <a:ext cx="457200" cy="1349280"/>
              <a:chOff x="6176880" y="2514600"/>
              <a:chExt cx="457200" cy="1349280"/>
            </a:xfrm>
          </p:grpSpPr>
          <p:sp>
            <p:nvSpPr>
              <p:cNvPr id="97" name=""/>
              <p:cNvSpPr/>
              <p:nvPr/>
            </p:nvSpPr>
            <p:spPr>
              <a:xfrm>
                <a:off x="6176880" y="2514600"/>
                <a:ext cx="0" cy="1349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6634080" y="2514600"/>
                <a:ext cx="0" cy="1349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 flipH="1">
              <a:off x="5745240" y="265284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689520" y="266400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920760" y="2519280"/>
              <a:ext cx="1852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478.5 - 2483.5 M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2090880" y="2966040"/>
              <a:ext cx="4405320" cy="914040"/>
              <a:chOff x="2090880" y="2966040"/>
              <a:chExt cx="4405320" cy="914040"/>
            </a:xfrm>
          </p:grpSpPr>
          <p:grpSp>
            <p:nvGrpSpPr>
              <p:cNvPr id="103" name=""/>
              <p:cNvGrpSpPr/>
              <p:nvPr/>
            </p:nvGrpSpPr>
            <p:grpSpPr>
              <a:xfrm>
                <a:off x="2090880" y="2966040"/>
                <a:ext cx="1441440" cy="904320"/>
                <a:chOff x="2090880" y="2966040"/>
                <a:chExt cx="1441440" cy="90432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2400120" y="2968560"/>
                  <a:ext cx="808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 flipH="1">
                  <a:off x="2090880" y="3087720"/>
                  <a:ext cx="201600" cy="765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3330720" y="3105360"/>
                  <a:ext cx="201600" cy="765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 rot="10800000">
                  <a:off x="2303640" y="2984760"/>
                  <a:ext cx="225720" cy="246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 rot="10800000">
                  <a:off x="3114720" y="2966040"/>
                  <a:ext cx="225000" cy="247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3585600" y="2975400"/>
                <a:ext cx="1442160" cy="904680"/>
                <a:chOff x="3585600" y="2975400"/>
                <a:chExt cx="1442160" cy="90468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3895560" y="2978280"/>
                  <a:ext cx="8067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 flipH="1">
                  <a:off x="3585600" y="3097440"/>
                  <a:ext cx="201960" cy="765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4825800" y="3114720"/>
                  <a:ext cx="201960" cy="765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 rot="10800000">
                  <a:off x="3798720" y="2994480"/>
                  <a:ext cx="225000" cy="247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 rot="10800000">
                  <a:off x="4606920" y="2975400"/>
                  <a:ext cx="228600" cy="247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649" y="21599"/>
                      </a:moveTo>
                      <a:arcTo wR="10800" hR="10800" stAng="5448077" swAng="53519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649" y="21599"/>
                      </a:moveTo>
                      <a:arcTo wR="10800" hR="10800" stAng="5448077" swAng="5351923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5054040" y="2966040"/>
                <a:ext cx="1442160" cy="904320"/>
                <a:chOff x="5054040" y="2966040"/>
                <a:chExt cx="1442160" cy="90432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5364000" y="2968560"/>
                  <a:ext cx="808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 flipH="1">
                  <a:off x="5054040" y="3087720"/>
                  <a:ext cx="201960" cy="765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6294240" y="3105360"/>
                  <a:ext cx="201960" cy="765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 rot="10800000">
                  <a:off x="5267160" y="2984760"/>
                  <a:ext cx="225000" cy="246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 rot="10800000">
                  <a:off x="6078600" y="2966040"/>
                  <a:ext cx="225000" cy="247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1" name=""/>
            <p:cNvSpPr/>
            <p:nvPr/>
          </p:nvSpPr>
          <p:spPr>
            <a:xfrm>
              <a:off x="2790720" y="3861000"/>
              <a:ext cx="0" cy="9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324320" y="3870360"/>
              <a:ext cx="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810400" y="3870360"/>
              <a:ext cx="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467800" y="3935520"/>
              <a:ext cx="5889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DSS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Ch.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020480" y="3944880"/>
              <a:ext cx="5889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DSS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Ch. 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497920" y="3925800"/>
              <a:ext cx="6012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DSS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Ch. 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Harris Semiconducto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E46B-C4A2-4B12-819D-49765965172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mpact on FHSS WL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539720" y="1890720"/>
            <a:ext cx="5585040" cy="2880000"/>
            <a:chOff x="1539720" y="1890720"/>
            <a:chExt cx="5585040" cy="2880000"/>
          </a:xfrm>
        </p:grpSpPr>
        <p:sp>
          <p:nvSpPr>
            <p:cNvPr id="129" name=""/>
            <p:cNvSpPr/>
            <p:nvPr/>
          </p:nvSpPr>
          <p:spPr>
            <a:xfrm>
              <a:off x="1552680" y="4152960"/>
              <a:ext cx="557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6590880" y="1943280"/>
              <a:ext cx="1800" cy="22096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523960" y="2590920"/>
              <a:ext cx="0" cy="155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36640" y="1890720"/>
              <a:ext cx="185220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478.5 - 2483.5 M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posed R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ighting B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029280" y="2232000"/>
              <a:ext cx="523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4199040" y="2232000"/>
              <a:ext cx="48888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819520" y="4162320"/>
              <a:ext cx="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1539720" y="3349800"/>
              <a:ext cx="397080" cy="53640"/>
              <a:chOff x="1539720" y="3349800"/>
              <a:chExt cx="397080" cy="53640"/>
            </a:xfrm>
          </p:grpSpPr>
          <p:sp>
            <p:nvSpPr>
              <p:cNvPr id="137" name=""/>
              <p:cNvSpPr/>
              <p:nvPr/>
            </p:nvSpPr>
            <p:spPr>
              <a:xfrm>
                <a:off x="1882800" y="3349800"/>
                <a:ext cx="54000" cy="53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711440" y="3349800"/>
                <a:ext cx="54000" cy="53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539720" y="3349800"/>
                <a:ext cx="54000" cy="53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2494440" y="4313160"/>
              <a:ext cx="6012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FH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Ch. 7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38320" y="2600280"/>
              <a:ext cx="0" cy="155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05080" y="4162320"/>
              <a:ext cx="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80000" y="4313160"/>
              <a:ext cx="6012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FH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Ch. 7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859400" y="2179800"/>
              <a:ext cx="17791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Affected FHSS Channe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611520" y="2682720"/>
              <a:ext cx="1603440" cy="14544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152960" y="2610000"/>
              <a:ext cx="0" cy="155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0080" y="2590920"/>
              <a:ext cx="0" cy="155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67200" y="2600280"/>
              <a:ext cx="0" cy="155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876840" y="41529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62400" y="41529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046680" y="4303800"/>
              <a:ext cx="6012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FH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Ch. 7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580200" y="4303800"/>
              <a:ext cx="6012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FH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Ch. 7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314880" y="2438280"/>
              <a:ext cx="579240" cy="74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227560" y="2603520"/>
              <a:ext cx="0" cy="155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684680" y="2584440"/>
              <a:ext cx="0" cy="155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951440" y="4146480"/>
              <a:ext cx="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37000" y="4146480"/>
              <a:ext cx="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121640" y="4297320"/>
              <a:ext cx="6012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FH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Ch. 7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654800" y="4297320"/>
              <a:ext cx="6012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FH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Ch. 8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60680" y="2448000"/>
              <a:ext cx="990720" cy="76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605040" y="2405160"/>
              <a:ext cx="1222560" cy="76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4149360" y="1986120"/>
              <a:ext cx="3240" cy="21524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Harris Semiconducto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9E9F-CB1E-458C-9FA7-36AB7D891AD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mpact on 2483.5 - 2500 MHz B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555920" y="2708280"/>
            <a:ext cx="6321240" cy="2086200"/>
            <a:chOff x="1555920" y="2708280"/>
            <a:chExt cx="6321240" cy="2086200"/>
          </a:xfrm>
        </p:grpSpPr>
        <p:sp>
          <p:nvSpPr>
            <p:cNvPr id="165" name=""/>
            <p:cNvSpPr/>
            <p:nvPr/>
          </p:nvSpPr>
          <p:spPr>
            <a:xfrm>
              <a:off x="1555920" y="4149720"/>
              <a:ext cx="63212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7242120" y="2708280"/>
              <a:ext cx="0" cy="155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3389400" y="2765160"/>
              <a:ext cx="0" cy="150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44520" y="4314960"/>
              <a:ext cx="6544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483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H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985440" y="4336920"/>
              <a:ext cx="5263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5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H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359240" y="2871720"/>
              <a:ext cx="19101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483.5 - 2500 MHz Ba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6259320" y="2951280"/>
              <a:ext cx="952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3409920" y="2946240"/>
              <a:ext cx="95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865160" y="3046320"/>
              <a:ext cx="1519560" cy="10954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389400" y="2751120"/>
              <a:ext cx="1440" cy="13986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1852560" y="2751120"/>
              <a:ext cx="6480" cy="14065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06560" y="3313080"/>
              <a:ext cx="149580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Arial"/>
                </a:rPr>
                <a:t>Proposed RF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Arial"/>
                </a:rPr>
                <a:t>Lighting Ban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Arial"/>
                </a:rPr>
                <a:t>2478.5 - 2483.5 MHz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005720" y="3559320"/>
              <a:ext cx="25516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Mobile Satellite Servi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Harris Semiconducto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DD55-FBCD-4AE5-9F4B-41DAF5A95E0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V. Hayes</dc:creator>
  <dc:description/>
  <dc:language>en-US</dc:language>
  <cp:lastModifiedBy>Harry R. Worstell</cp:lastModifiedBy>
  <cp:lastPrinted>1998-02-10T13:28:06Z</cp:lastPrinted>
  <dcterms:modified xsi:type="dcterms:W3CDTF">1999-03-08T22:23:12Z</dcterms:modified>
  <cp:revision>9</cp:revision>
  <dc:subject/>
  <dc:title>No Slide Title</dc:title>
</cp:coreProperties>
</file>