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076-F76A-4956-B929-F5552436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8D2-FFDC-4415-8D71-5B3E7430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05C-10EF-4135-9BA1-6DF16811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99F-26DE-483C-8B6D-049FE411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688-D70B-4B59-B55C-CFE5184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137A-AF59-4B67-9804-B84AB2B9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234-63B0-4990-A6CC-302B48D2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718-9450-4B79-B829-AD10B3AE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4D4-2B37-4FAA-95AC-21D1FA93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C4D-4EBD-4752-A44D-CAF9CAC5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75D-C44C-4049-B740-78DFD423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152-9B98-4328-8F0E-2B6CF60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02F799-4AB1-4A65-8455-28BBF77E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or an improved long training symbol pha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9800" y="3352680"/>
            <a:ext cx="5607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ahiro Morikura  and  Masato Mizo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ikura@ansl.ntt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ne:+81-468-59-31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x:+81-468-55-1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1ED-9E00-4DA0-A4DE-A4B2514C1E7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74280" y="1197000"/>
            <a:ext cx="77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ent on the long training symbol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1400" y="2346480"/>
            <a:ext cx="6713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e number; 17.3.3 PLCP preamble (SYN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hase relation between short preamble (t1-t10) and long preamble (T1,T2) in draft 5.0 causes degradation in timing detection accuracy. This is because the matched filter output for detecting the short preamble pattern has large side-lobe in boundary region between t10 and T1 when the phase relation in D5.0 is used. This large side-lobe badly affects the timing decision value when multi-path delayed signals are superimpo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8AD-2E5D-4777-A7C5-00D63B003A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ymbol timing detection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5920" y="3630600"/>
            <a:ext cx="117360" cy="94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5240" y="4267080"/>
            <a:ext cx="121932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77920" y="438768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4267080"/>
            <a:ext cx="1218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437832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410080" y="4267080"/>
            <a:ext cx="1752840" cy="838080"/>
            <a:chOff x="5410080" y="4267080"/>
            <a:chExt cx="1752840" cy="838080"/>
          </a:xfrm>
        </p:grpSpPr>
        <p:sp>
          <p:nvSpPr>
            <p:cNvPr id="56" name=""/>
            <p:cNvSpPr/>
            <p:nvPr/>
          </p:nvSpPr>
          <p:spPr>
            <a:xfrm>
              <a:off x="5410080" y="4267080"/>
              <a:ext cx="167652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70560" y="438156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mbol timing 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371600" y="4724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4724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47242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47242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5638680"/>
            <a:ext cx="502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1480" y="5334120"/>
            <a:ext cx="157644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5334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cyclic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47242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97920" y="5638680"/>
            <a:ext cx="336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438156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ed symbol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62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862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2860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4988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4988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97800" y="228600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76"/>
                  <a:pt x="48" y="192"/>
                </a:cubicBezTo>
                <a:cubicBezTo>
                  <a:pt x="56" y="208"/>
                  <a:pt x="52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2480" y="2286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92480" y="2666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16160" y="228600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76"/>
                  <a:pt x="48" y="192"/>
                </a:cubicBezTo>
                <a:cubicBezTo>
                  <a:pt x="56" y="208"/>
                  <a:pt x="52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38560" y="2300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17800" y="2300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04320" y="22860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65720" y="2286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59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74720" y="2300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63000" y="310032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3360" y="2295360"/>
            <a:ext cx="21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training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05120"/>
            <a:ext cx="739152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039840" y="2895480"/>
            <a:ext cx="3164040" cy="592200"/>
            <a:chOff x="3039840" y="2895480"/>
            <a:chExt cx="3164040" cy="592200"/>
          </a:xfrm>
        </p:grpSpPr>
        <p:sp>
          <p:nvSpPr>
            <p:cNvPr id="89" name=""/>
            <p:cNvSpPr/>
            <p:nvPr/>
          </p:nvSpPr>
          <p:spPr>
            <a:xfrm>
              <a:off x="5246640" y="2895480"/>
              <a:ext cx="6984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316480" y="3333600"/>
              <a:ext cx="46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62560" y="3333600"/>
              <a:ext cx="55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175360" y="2895480"/>
              <a:ext cx="7128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129280" y="3333600"/>
              <a:ext cx="46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075280" y="3333600"/>
              <a:ext cx="540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047920" y="341640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982760" y="3416400"/>
              <a:ext cx="651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932000" y="3333600"/>
              <a:ext cx="507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418000" y="3416400"/>
              <a:ext cx="25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3560" y="3416400"/>
              <a:ext cx="666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510160" y="3333600"/>
              <a:ext cx="507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60920" y="3333600"/>
              <a:ext cx="414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602320" y="3335040"/>
              <a:ext cx="540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710320" y="3333600"/>
              <a:ext cx="396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656320" y="3335040"/>
              <a:ext cx="540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749920" y="3333600"/>
              <a:ext cx="257040" cy="146160"/>
              <a:chOff x="5749920" y="3333600"/>
              <a:chExt cx="257040" cy="1461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586764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01400" y="3416400"/>
                <a:ext cx="658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5749920" y="3333600"/>
                <a:ext cx="5184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5893560" y="3416400"/>
                <a:ext cx="52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6480" y="3416400"/>
                <a:ext cx="604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616280" y="2895480"/>
              <a:ext cx="315720" cy="584280"/>
              <a:chOff x="4616280" y="2895480"/>
              <a:chExt cx="315720" cy="584280"/>
            </a:xfrm>
          </p:grpSpPr>
          <p:sp>
            <p:nvSpPr>
              <p:cNvPr id="112" name=""/>
              <p:cNvSpPr/>
              <p:nvPr/>
            </p:nvSpPr>
            <p:spPr>
              <a:xfrm>
                <a:off x="4616280" y="289548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687200" y="333396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33640" y="333396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478836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13920" y="341640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4879800" y="333396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6111720" y="341640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8720" y="3416400"/>
              <a:ext cx="651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060600" y="3416400"/>
              <a:ext cx="507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999040" y="3416400"/>
              <a:ext cx="61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669840" y="2895480"/>
              <a:ext cx="630360" cy="584280"/>
              <a:chOff x="3669840" y="2895480"/>
              <a:chExt cx="630360" cy="58428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3913920" y="289548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3868200" y="333396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813480" y="333396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378756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722400" y="341640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3669840" y="333396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3985200" y="2895480"/>
                <a:ext cx="315000" cy="584280"/>
                <a:chOff x="3985200" y="2895480"/>
                <a:chExt cx="315000" cy="584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85200" y="2895480"/>
                  <a:ext cx="70920" cy="52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4056120" y="3333960"/>
                  <a:ext cx="46080" cy="8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102200" y="3333960"/>
                  <a:ext cx="5436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156560" y="3416400"/>
                  <a:ext cx="255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182120" y="3416400"/>
                  <a:ext cx="655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248000" y="3333960"/>
                  <a:ext cx="5220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4300560" y="2903400"/>
              <a:ext cx="315360" cy="584280"/>
              <a:chOff x="4300560" y="2903400"/>
              <a:chExt cx="315360" cy="58428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4545000" y="290340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4498920" y="334188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444560" y="334188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4418640" y="342432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352760" y="342432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4300560" y="334188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039840" y="2895480"/>
              <a:ext cx="630360" cy="584280"/>
              <a:chOff x="3039840" y="2895480"/>
              <a:chExt cx="630360" cy="58428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3283920" y="289548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3238200" y="333396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183120" y="333396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315756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3092400" y="341640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3039840" y="333396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355200" y="2895480"/>
                <a:ext cx="315000" cy="584280"/>
                <a:chOff x="3355200" y="2895480"/>
                <a:chExt cx="315000" cy="58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355200" y="2895480"/>
                  <a:ext cx="70920" cy="52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3426120" y="3333960"/>
                  <a:ext cx="46080" cy="8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472200" y="3333960"/>
                  <a:ext cx="5436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526560" y="3416400"/>
                  <a:ext cx="255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2120" y="3416400"/>
                  <a:ext cx="655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3618000" y="3333960"/>
                  <a:ext cx="5220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" name=""/>
          <p:cNvSpPr/>
          <p:nvPr/>
        </p:nvSpPr>
        <p:spPr>
          <a:xfrm>
            <a:off x="524664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21360" y="2898720"/>
            <a:ext cx="20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cting 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602400" y="3436560"/>
            <a:ext cx="184320" cy="754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2895480"/>
            <a:ext cx="457200" cy="38736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0" y="4"/>
                </a:moveTo>
                <a:cubicBezTo>
                  <a:pt x="32" y="0"/>
                  <a:pt x="64" y="1"/>
                  <a:pt x="96" y="4"/>
                </a:cubicBezTo>
                <a:cubicBezTo>
                  <a:pt x="128" y="7"/>
                  <a:pt x="164" y="7"/>
                  <a:pt x="189" y="22"/>
                </a:cubicBezTo>
                <a:cubicBezTo>
                  <a:pt x="214" y="37"/>
                  <a:pt x="230" y="57"/>
                  <a:pt x="246" y="94"/>
                </a:cubicBezTo>
                <a:cubicBezTo>
                  <a:pt x="262" y="131"/>
                  <a:pt x="279" y="213"/>
                  <a:pt x="288" y="24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706-0B4C-48DD-92F8-E408385A29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800600" y="1919160"/>
            <a:ext cx="1522440" cy="1300320"/>
            <a:chOff x="4800600" y="1919160"/>
            <a:chExt cx="1522440" cy="1300320"/>
          </a:xfrm>
        </p:grpSpPr>
        <p:sp>
          <p:nvSpPr>
            <p:cNvPr id="162" name=""/>
            <p:cNvSpPr/>
            <p:nvPr/>
          </p:nvSpPr>
          <p:spPr>
            <a:xfrm flipV="1">
              <a:off x="5308560" y="2168280"/>
              <a:ext cx="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2693880"/>
              <a:ext cx="106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91680" y="26668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71480" y="191916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962240" y="2353680"/>
              <a:ext cx="70128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28840" y="2886120"/>
              <a:ext cx="10440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3160" y="2435040"/>
              <a:ext cx="104400" cy="104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479840" y="3836880"/>
            <a:ext cx="18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4260960"/>
            <a:ext cx="548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39880" y="3836880"/>
            <a:ext cx="14112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3836880"/>
            <a:ext cx="35424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836880"/>
            <a:ext cx="35424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6828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7840" y="3836880"/>
            <a:ext cx="34416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6200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0652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5104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9556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008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460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2760" y="3827520"/>
            <a:ext cx="12708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361040" y="3827520"/>
            <a:ext cx="118800" cy="42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81000" y="383688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021200" y="3836880"/>
            <a:ext cx="3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9560" y="3913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03560" y="3909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2760" y="3905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01960" y="3900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1800" y="3897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1000" y="3892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41840" y="390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86520" y="390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32280" y="390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0920" y="39132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42080" y="3913200"/>
            <a:ext cx="34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5360" y="164448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rt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905120" y="2052720"/>
            <a:ext cx="1522800" cy="1224000"/>
            <a:chOff x="1905120" y="2052720"/>
            <a:chExt cx="1522800" cy="1224000"/>
          </a:xfrm>
        </p:grpSpPr>
        <p:sp>
          <p:nvSpPr>
            <p:cNvPr id="199" name=""/>
            <p:cNvSpPr/>
            <p:nvPr/>
          </p:nvSpPr>
          <p:spPr>
            <a:xfrm flipV="1">
              <a:off x="2413080" y="2225520"/>
              <a:ext cx="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751120"/>
              <a:ext cx="106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96560" y="272412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27120" y="205272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67120" y="2409840"/>
              <a:ext cx="7016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067120" y="2410920"/>
              <a:ext cx="7016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2943360"/>
              <a:ext cx="104760" cy="10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2492280"/>
              <a:ext cx="104760" cy="1047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87680" y="2492280"/>
              <a:ext cx="104760" cy="10476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87680" y="2943360"/>
              <a:ext cx="104760" cy="104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338880" y="1928880"/>
            <a:ext cx="1584720" cy="1280520"/>
            <a:chOff x="6338880" y="1928880"/>
            <a:chExt cx="1584720" cy="1280520"/>
          </a:xfrm>
        </p:grpSpPr>
        <p:sp>
          <p:nvSpPr>
            <p:cNvPr id="210" name=""/>
            <p:cNvSpPr/>
            <p:nvPr/>
          </p:nvSpPr>
          <p:spPr>
            <a:xfrm>
              <a:off x="6338880" y="2695320"/>
              <a:ext cx="124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933960" y="2158920"/>
              <a:ext cx="0" cy="10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92240" y="269064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5400" y="192888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4640" y="2643120"/>
              <a:ext cx="104760" cy="104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8880" y="2644560"/>
              <a:ext cx="104760" cy="104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943600" y="5518080"/>
            <a:ext cx="254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mputer search is carried out to find the phase relation that generates low correlation side-l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3600" y="383688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3803760"/>
            <a:ext cx="75960" cy="45720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76"/>
                  <a:pt x="48" y="192"/>
                </a:cubicBezTo>
                <a:cubicBezTo>
                  <a:pt x="56" y="208"/>
                  <a:pt x="52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05320" y="4481640"/>
            <a:ext cx="3816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43480" y="4826160"/>
            <a:ext cx="25200" cy="64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68680" y="4826160"/>
            <a:ext cx="30240" cy="114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365720" y="4481640"/>
            <a:ext cx="3960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341960" y="4826160"/>
            <a:ext cx="2376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311720" y="4826160"/>
            <a:ext cx="302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297320" y="4890600"/>
            <a:ext cx="144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260600" y="4890960"/>
            <a:ext cx="3636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232160" y="4825800"/>
            <a:ext cx="2880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98920" y="4890600"/>
            <a:ext cx="1440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13320" y="4890960"/>
            <a:ext cx="3492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548240" y="4890600"/>
            <a:ext cx="2844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6680" y="4890960"/>
            <a:ext cx="2232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99000" y="4827240"/>
            <a:ext cx="30240" cy="11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657680" y="4826160"/>
            <a:ext cx="22320" cy="114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628880" y="4827240"/>
            <a:ext cx="28440" cy="11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80000" y="4825800"/>
            <a:ext cx="139680" cy="114480"/>
            <a:chOff x="4680000" y="4825800"/>
            <a:chExt cx="139680" cy="114480"/>
          </a:xfrm>
        </p:grpSpPr>
        <p:sp>
          <p:nvSpPr>
            <p:cNvPr id="236" name=""/>
            <p:cNvSpPr/>
            <p:nvPr/>
          </p:nvSpPr>
          <p:spPr>
            <a:xfrm flipH="1" flipV="1">
              <a:off x="4743360" y="4891320"/>
              <a:ext cx="14040" cy="48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708440" y="4891320"/>
              <a:ext cx="34920" cy="48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680000" y="4825800"/>
              <a:ext cx="28800" cy="114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757760" y="4891320"/>
              <a:ext cx="28800" cy="48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6560" y="4891320"/>
              <a:ext cx="331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060800" y="4481640"/>
            <a:ext cx="171360" cy="458640"/>
            <a:chOff x="4060800" y="4481640"/>
            <a:chExt cx="171360" cy="458640"/>
          </a:xfrm>
        </p:grpSpPr>
        <p:sp>
          <p:nvSpPr>
            <p:cNvPr id="242" name=""/>
            <p:cNvSpPr/>
            <p:nvPr/>
          </p:nvSpPr>
          <p:spPr>
            <a:xfrm>
              <a:off x="4060800" y="448164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099320" y="4825440"/>
              <a:ext cx="248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24520" y="4825800"/>
              <a:ext cx="295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154040" y="4890600"/>
              <a:ext cx="136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68080" y="489060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203720" y="4825440"/>
              <a:ext cx="284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544560" y="4481640"/>
            <a:ext cx="344520" cy="458640"/>
            <a:chOff x="3544560" y="4481640"/>
            <a:chExt cx="344520" cy="458640"/>
          </a:xfrm>
        </p:grpSpPr>
        <p:sp>
          <p:nvSpPr>
            <p:cNvPr id="249" name=""/>
            <p:cNvSpPr/>
            <p:nvPr/>
          </p:nvSpPr>
          <p:spPr>
            <a:xfrm flipH="1">
              <a:off x="3678120" y="448164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653280" y="4825440"/>
              <a:ext cx="252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623400" y="4825800"/>
              <a:ext cx="295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609000" y="4890600"/>
              <a:ext cx="140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573000" y="489060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544560" y="4825440"/>
              <a:ext cx="284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717000" y="4481640"/>
              <a:ext cx="172080" cy="458640"/>
              <a:chOff x="3717000" y="4481640"/>
              <a:chExt cx="172080" cy="458640"/>
            </a:xfrm>
          </p:grpSpPr>
          <p:sp>
            <p:nvSpPr>
              <p:cNvPr id="256" name=""/>
              <p:cNvSpPr/>
              <p:nvPr/>
            </p:nvSpPr>
            <p:spPr>
              <a:xfrm>
                <a:off x="3717000" y="4481640"/>
                <a:ext cx="38520" cy="40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755520" y="4825440"/>
                <a:ext cx="25200" cy="6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780720" y="4825800"/>
                <a:ext cx="29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3810600" y="4890600"/>
                <a:ext cx="140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824640" y="4890600"/>
                <a:ext cx="356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860640" y="4825440"/>
                <a:ext cx="284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3889440" y="4487760"/>
            <a:ext cx="171360" cy="459000"/>
            <a:chOff x="3889440" y="4487760"/>
            <a:chExt cx="171360" cy="459000"/>
          </a:xfrm>
        </p:grpSpPr>
        <p:sp>
          <p:nvSpPr>
            <p:cNvPr id="263" name=""/>
            <p:cNvSpPr/>
            <p:nvPr/>
          </p:nvSpPr>
          <p:spPr>
            <a:xfrm flipH="1">
              <a:off x="4022280" y="448776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3997440" y="4831920"/>
              <a:ext cx="248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967560" y="4832280"/>
              <a:ext cx="295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3953880" y="4896720"/>
              <a:ext cx="136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917880" y="489672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3889440" y="4832280"/>
              <a:ext cx="28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200040" y="4481640"/>
            <a:ext cx="344520" cy="458640"/>
            <a:chOff x="3200040" y="4481640"/>
            <a:chExt cx="344520" cy="458640"/>
          </a:xfrm>
        </p:grpSpPr>
        <p:sp>
          <p:nvSpPr>
            <p:cNvPr id="270" name=""/>
            <p:cNvSpPr/>
            <p:nvPr/>
          </p:nvSpPr>
          <p:spPr>
            <a:xfrm flipH="1">
              <a:off x="3333600" y="448164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308760" y="4825440"/>
              <a:ext cx="252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278880" y="4825800"/>
              <a:ext cx="295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264480" y="4890600"/>
              <a:ext cx="140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228480" y="489060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3200040" y="4825440"/>
              <a:ext cx="284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372480" y="4481640"/>
              <a:ext cx="172080" cy="458640"/>
              <a:chOff x="3372480" y="4481640"/>
              <a:chExt cx="172080" cy="458640"/>
            </a:xfrm>
          </p:grpSpPr>
          <p:sp>
            <p:nvSpPr>
              <p:cNvPr id="277" name=""/>
              <p:cNvSpPr/>
              <p:nvPr/>
            </p:nvSpPr>
            <p:spPr>
              <a:xfrm>
                <a:off x="3372480" y="4481640"/>
                <a:ext cx="38520" cy="40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3411000" y="4825440"/>
                <a:ext cx="25200" cy="6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36200" y="4825800"/>
                <a:ext cx="29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3466080" y="4890600"/>
                <a:ext cx="140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80120" y="4890600"/>
                <a:ext cx="356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516120" y="4825440"/>
                <a:ext cx="284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1727280" y="4487760"/>
            <a:ext cx="88416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14680" y="4489560"/>
            <a:ext cx="90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8080" y="479412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87760"/>
            <a:ext cx="87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d 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16120" y="4794120"/>
            <a:ext cx="463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081760" y="4831920"/>
            <a:ext cx="2376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051520" y="4832280"/>
            <a:ext cx="302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037120" y="4897080"/>
            <a:ext cx="144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00400" y="4897440"/>
            <a:ext cx="3636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4971960" y="4832280"/>
            <a:ext cx="2880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819680" y="4832280"/>
            <a:ext cx="4428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63960" y="4832280"/>
            <a:ext cx="302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894200" y="4897080"/>
            <a:ext cx="144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08600" y="4897440"/>
            <a:ext cx="3492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943520" y="4832280"/>
            <a:ext cx="28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534400" y="1895760"/>
            <a:ext cx="285840" cy="3376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87840 h 3376800"/>
              <a:gd name="textAreaBottom" fmla="*/ 3288960 h 337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5964480" y="1877040"/>
            <a:ext cx="285840" cy="3376440"/>
          </a:xfrm>
          <a:custGeom>
            <a:avLst/>
            <a:gdLst>
              <a:gd name="textAreaLeft" fmla="*/ 182520 w 285840"/>
              <a:gd name="textAreaRight" fmla="*/ 286200 w 285840"/>
              <a:gd name="textAreaTop" fmla="*/ 87840 h 3376440"/>
              <a:gd name="textAreaBottom" fmla="*/ 3288600 h 337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573200" y="5486400"/>
            <a:ext cx="3697200" cy="838080"/>
          </a:xfrm>
          <a:prstGeom prst="wedgeRectCallout">
            <a:avLst>
              <a:gd name="adj1" fmla="val 32824"/>
              <a:gd name="adj2" fmla="val 82384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atched filter output of this region depends on relative phase between short and long preamble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67440" y="5796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08480" y="2521080"/>
            <a:ext cx="1163520" cy="450720"/>
          </a:xfrm>
          <a:prstGeom prst="leftRightArrow">
            <a:avLst>
              <a:gd name="adj1" fmla="val 50000"/>
              <a:gd name="adj2" fmla="val 5139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11840" y="3168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1640" y="3168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2720" y="164448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5664240"/>
            <a:ext cx="498600" cy="431640"/>
          </a:xfrm>
          <a:prstGeom prst="rightArrow">
            <a:avLst>
              <a:gd name="adj1" fmla="val 50000"/>
              <a:gd name="adj2" fmla="val 4966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4551120" y="4931640"/>
            <a:ext cx="158760" cy="339840"/>
          </a:xfrm>
          <a:custGeom>
            <a:avLst/>
            <a:gdLst>
              <a:gd name="textAreaLeft" fmla="*/ 101520 w 158760"/>
              <a:gd name="textAreaRight" fmla="*/ 159120 w 158760"/>
              <a:gd name="textAreaTop" fmla="*/ 8640 h 339840"/>
              <a:gd name="textAreaBottom" fmla="*/ 331200 h 33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9144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ffect of the long training symbol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BC8-7D66-46EC-AA61-3574C8CBFDE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371600" y="1692360"/>
            <a:ext cx="4089240" cy="3717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rot="16200000">
            <a:off x="47880" y="316476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038480" y="2971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038480" y="3429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038480" y="4876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536256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he low sidelobe is obtained by the proposed long preambl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352680"/>
            <a:ext cx="530280" cy="422280"/>
          </a:xfrm>
          <a:prstGeom prst="downArrow">
            <a:avLst>
              <a:gd name="adj1" fmla="val 47972"/>
              <a:gd name="adj2" fmla="val 398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3200400"/>
            <a:ext cx="12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4 radian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28880" y="838080"/>
            <a:ext cx="68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ed results of Matched filte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5480" y="5761080"/>
            <a:ext cx="177840" cy="420480"/>
          </a:xfrm>
          <a:custGeom>
            <a:avLst/>
            <a:gdLst/>
            <a:ahLst/>
            <a:rect l="l" t="t" r="r" b="b"/>
            <a:pathLst>
              <a:path w="112" h="288">
                <a:moveTo>
                  <a:pt x="56" y="0"/>
                </a:moveTo>
                <a:cubicBezTo>
                  <a:pt x="28" y="32"/>
                  <a:pt x="0" y="64"/>
                  <a:pt x="8" y="96"/>
                </a:cubicBezTo>
                <a:cubicBezTo>
                  <a:pt x="16" y="128"/>
                  <a:pt x="96" y="160"/>
                  <a:pt x="104" y="192"/>
                </a:cubicBezTo>
                <a:cubicBezTo>
                  <a:pt x="112" y="224"/>
                  <a:pt x="84" y="256"/>
                  <a:pt x="5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14400" y="5761080"/>
            <a:ext cx="4978440" cy="438120"/>
            <a:chOff x="914400" y="5761080"/>
            <a:chExt cx="4978440" cy="438120"/>
          </a:xfrm>
        </p:grpSpPr>
        <p:sp>
          <p:nvSpPr>
            <p:cNvPr id="320" name=""/>
            <p:cNvSpPr/>
            <p:nvPr/>
          </p:nvSpPr>
          <p:spPr>
            <a:xfrm>
              <a:off x="914400" y="5761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4400" y="618156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11120" y="5796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4080" y="57610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618156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97120" y="58309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1240" y="5796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15000" y="5761080"/>
              <a:ext cx="177840" cy="42048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56" y="0"/>
                  </a:moveTo>
                  <a:cubicBezTo>
                    <a:pt x="28" y="32"/>
                    <a:pt x="0" y="64"/>
                    <a:pt x="8" y="96"/>
                  </a:cubicBezTo>
                  <a:cubicBezTo>
                    <a:pt x="16" y="128"/>
                    <a:pt x="96" y="160"/>
                    <a:pt x="104" y="192"/>
                  </a:cubicBezTo>
                  <a:cubicBezTo>
                    <a:pt x="112" y="224"/>
                    <a:pt x="84" y="256"/>
                    <a:pt x="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2480" y="576108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24080" y="576108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378480" y="3962520"/>
            <a:ext cx="1621080" cy="1344960"/>
            <a:chOff x="6378480" y="3962520"/>
            <a:chExt cx="1621080" cy="1344960"/>
          </a:xfrm>
        </p:grpSpPr>
        <p:sp>
          <p:nvSpPr>
            <p:cNvPr id="331" name=""/>
            <p:cNvSpPr/>
            <p:nvPr/>
          </p:nvSpPr>
          <p:spPr>
            <a:xfrm flipV="1">
              <a:off x="6937200" y="4152240"/>
              <a:ext cx="0" cy="11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8480" y="4730400"/>
              <a:ext cx="11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8200" y="470052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52320" y="396252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6320" y="4354920"/>
              <a:ext cx="772200" cy="76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29760" y="4440600"/>
              <a:ext cx="115200" cy="115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33040" y="4936680"/>
              <a:ext cx="115200" cy="115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248520" y="1695600"/>
            <a:ext cx="1689480" cy="1409040"/>
            <a:chOff x="6248520" y="1695600"/>
            <a:chExt cx="1689480" cy="1409040"/>
          </a:xfrm>
        </p:grpSpPr>
        <p:sp>
          <p:nvSpPr>
            <p:cNvPr id="339" name=""/>
            <p:cNvSpPr/>
            <p:nvPr/>
          </p:nvSpPr>
          <p:spPr>
            <a:xfrm>
              <a:off x="6248520" y="2539080"/>
              <a:ext cx="136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903000" y="1949040"/>
              <a:ext cx="0" cy="11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06640" y="25336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04800" y="169560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52640" y="2481480"/>
              <a:ext cx="115200" cy="115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38520" y="2482920"/>
              <a:ext cx="115200" cy="115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450320" y="48211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32004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 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27478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72600" y="16146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8880" y="39006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83600" y="54100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BD0-86E1-4A58-B56A-DB7D66ECB6A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415120" y="4240080"/>
            <a:ext cx="32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 correlation side-lobe degrades symbol timing detection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06920" y="2830680"/>
            <a:ext cx="147600" cy="10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854520" y="3753000"/>
            <a:ext cx="968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51360" y="3753000"/>
            <a:ext cx="11592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557160" y="2830680"/>
            <a:ext cx="149400" cy="10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460320" y="3753000"/>
            <a:ext cx="968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344760" y="3753000"/>
            <a:ext cx="11592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29076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152520" y="3925800"/>
            <a:ext cx="137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3044880" y="3752640"/>
            <a:ext cx="1080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06728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21280" y="3925800"/>
            <a:ext cx="137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259160" y="3752640"/>
            <a:ext cx="1080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7160" y="3753000"/>
            <a:ext cx="85680" cy="306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452840" y="3425760"/>
            <a:ext cx="103320" cy="633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677840" y="3753000"/>
            <a:ext cx="86040" cy="306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563720" y="3425760"/>
            <a:ext cx="114120" cy="633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764240" y="3752640"/>
            <a:ext cx="537480" cy="306360"/>
            <a:chOff x="4764240" y="3752640"/>
            <a:chExt cx="537480" cy="306360"/>
          </a:xfrm>
        </p:grpSpPr>
        <p:sp>
          <p:nvSpPr>
            <p:cNvPr id="369" name=""/>
            <p:cNvSpPr/>
            <p:nvPr/>
          </p:nvSpPr>
          <p:spPr>
            <a:xfrm flipH="1" flipV="1">
              <a:off x="5010840" y="3925800"/>
              <a:ext cx="536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872960" y="3926160"/>
              <a:ext cx="138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4764240" y="3752640"/>
              <a:ext cx="10872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064840" y="3925800"/>
              <a:ext cx="1101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75360" y="3926160"/>
              <a:ext cx="1263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382840" y="2830680"/>
            <a:ext cx="149400" cy="10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532240" y="3753000"/>
            <a:ext cx="968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29080" y="3753000"/>
            <a:ext cx="11412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74320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97200" y="3925800"/>
            <a:ext cx="13824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935440" y="3752640"/>
            <a:ext cx="10944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52456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3925800"/>
            <a:ext cx="137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415120" y="3925440"/>
            <a:ext cx="10944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287680" y="3925800"/>
            <a:ext cx="1270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3147840"/>
            <a:ext cx="1765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for direct path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120" y="4211640"/>
            <a:ext cx="1725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delayed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971720" y="4287960"/>
            <a:ext cx="3330000" cy="479160"/>
            <a:chOff x="1971720" y="4287960"/>
            <a:chExt cx="3330000" cy="479160"/>
          </a:xfrm>
        </p:grpSpPr>
        <p:sp>
          <p:nvSpPr>
            <p:cNvPr id="387" name=""/>
            <p:cNvSpPr/>
            <p:nvPr/>
          </p:nvSpPr>
          <p:spPr>
            <a:xfrm>
              <a:off x="4397400" y="4646520"/>
              <a:ext cx="11412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14640" y="4287960"/>
              <a:ext cx="482400" cy="426600"/>
              <a:chOff x="3914640" y="4287960"/>
              <a:chExt cx="482400" cy="426600"/>
            </a:xfrm>
          </p:grpSpPr>
          <p:sp>
            <p:nvSpPr>
              <p:cNvPr id="389" name=""/>
              <p:cNvSpPr/>
              <p:nvPr/>
            </p:nvSpPr>
            <p:spPr>
              <a:xfrm>
                <a:off x="4156560" y="4287960"/>
                <a:ext cx="145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302000" y="4646160"/>
                <a:ext cx="9504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011120" y="4287960"/>
                <a:ext cx="14544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3914640" y="4646160"/>
                <a:ext cx="9648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 flipH="1">
              <a:off x="3803760" y="4646520"/>
              <a:ext cx="1108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3506760" y="4646160"/>
              <a:ext cx="1080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99080" y="4646160"/>
              <a:ext cx="1062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05280" y="4646520"/>
              <a:ext cx="85680" cy="120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890960" y="4471200"/>
              <a:ext cx="109800" cy="295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5195520" y="4646160"/>
              <a:ext cx="1062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110200" y="4646520"/>
              <a:ext cx="85680" cy="120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5000760" y="4471200"/>
              <a:ext cx="109440" cy="295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59120" y="4287960"/>
              <a:ext cx="14616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005280" y="4646520"/>
              <a:ext cx="9360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8880" y="4646520"/>
              <a:ext cx="11412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402000" y="4646160"/>
              <a:ext cx="104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712960" y="4287960"/>
              <a:ext cx="14616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208240" y="4646160"/>
              <a:ext cx="504000" cy="120960"/>
              <a:chOff x="2208240" y="4646160"/>
              <a:chExt cx="504000" cy="120960"/>
            </a:xfrm>
          </p:grpSpPr>
          <p:sp>
            <p:nvSpPr>
              <p:cNvPr id="407" name=""/>
              <p:cNvSpPr/>
              <p:nvPr/>
            </p:nvSpPr>
            <p:spPr>
              <a:xfrm flipH="1" flipV="1">
                <a:off x="2616840" y="4646160"/>
                <a:ext cx="95400" cy="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503800" y="4646520"/>
                <a:ext cx="11304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2450880" y="4714920"/>
                <a:ext cx="5256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314800" y="4715280"/>
                <a:ext cx="13608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2208240" y="4646160"/>
                <a:ext cx="10656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 flipV="1">
              <a:off x="2108160" y="4646160"/>
              <a:ext cx="104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3749760" y="4714920"/>
              <a:ext cx="5400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614400" y="4714920"/>
              <a:ext cx="13500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4511520" y="4714920"/>
              <a:ext cx="5256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64080" y="4714920"/>
              <a:ext cx="13500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213000" y="4714920"/>
              <a:ext cx="5256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65560" y="4714920"/>
              <a:ext cx="13644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71720" y="4714920"/>
              <a:ext cx="13644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704960" y="4884840"/>
            <a:ext cx="4466880" cy="403200"/>
            <a:chOff x="1704960" y="4884840"/>
            <a:chExt cx="4466880" cy="403200"/>
          </a:xfrm>
        </p:grpSpPr>
        <p:sp>
          <p:nvSpPr>
            <p:cNvPr id="421" name=""/>
            <p:cNvSpPr/>
            <p:nvPr/>
          </p:nvSpPr>
          <p:spPr>
            <a:xfrm>
              <a:off x="1783080" y="4884840"/>
              <a:ext cx="212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83080" y="5288040"/>
              <a:ext cx="22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82080" y="49183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31040" y="4884840"/>
              <a:ext cx="23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31040" y="5288040"/>
              <a:ext cx="23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80000" y="49183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68040" y="4918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04960" y="4884840"/>
              <a:ext cx="156600" cy="403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56" y="0"/>
                  </a:moveTo>
                  <a:cubicBezTo>
                    <a:pt x="28" y="32"/>
                    <a:pt x="0" y="64"/>
                    <a:pt x="8" y="96"/>
                  </a:cubicBezTo>
                  <a:cubicBezTo>
                    <a:pt x="16" y="128"/>
                    <a:pt x="96" y="160"/>
                    <a:pt x="104" y="192"/>
                  </a:cubicBezTo>
                  <a:cubicBezTo>
                    <a:pt x="112" y="224"/>
                    <a:pt x="84" y="256"/>
                    <a:pt x="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15240" y="4884840"/>
              <a:ext cx="156600" cy="403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56" y="0"/>
                  </a:moveTo>
                  <a:cubicBezTo>
                    <a:pt x="28" y="32"/>
                    <a:pt x="0" y="64"/>
                    <a:pt x="8" y="96"/>
                  </a:cubicBezTo>
                  <a:cubicBezTo>
                    <a:pt x="16" y="128"/>
                    <a:pt x="96" y="160"/>
                    <a:pt x="104" y="192"/>
                  </a:cubicBezTo>
                  <a:cubicBezTo>
                    <a:pt x="112" y="224"/>
                    <a:pt x="84" y="256"/>
                    <a:pt x="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82120" y="4884840"/>
              <a:ext cx="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06200" y="4884840"/>
              <a:ext cx="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3706920" y="2806560"/>
            <a:ext cx="0" cy="23958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19840" y="2806560"/>
            <a:ext cx="0" cy="207828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228400" y="2840040"/>
            <a:ext cx="149400" cy="10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82840" y="2840040"/>
            <a:ext cx="0" cy="2395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520" y="3160800"/>
            <a:ext cx="205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187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e of the high correlation side-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iming 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2811600"/>
            <a:ext cx="1228680" cy="693720"/>
          </a:xfrm>
          <a:custGeom>
            <a:avLst/>
            <a:gdLst/>
            <a:ahLst/>
            <a:rect l="l" t="t" r="r" b="b"/>
            <a:pathLst>
              <a:path w="774" h="437">
                <a:moveTo>
                  <a:pt x="0" y="8"/>
                </a:moveTo>
                <a:cubicBezTo>
                  <a:pt x="38" y="8"/>
                  <a:pt x="124" y="0"/>
                  <a:pt x="226" y="7"/>
                </a:cubicBezTo>
                <a:cubicBezTo>
                  <a:pt x="328" y="14"/>
                  <a:pt x="523" y="9"/>
                  <a:pt x="610" y="49"/>
                </a:cubicBezTo>
                <a:cubicBezTo>
                  <a:pt x="697" y="89"/>
                  <a:pt x="722" y="182"/>
                  <a:pt x="748" y="247"/>
                </a:cubicBezTo>
                <a:cubicBezTo>
                  <a:pt x="774" y="312"/>
                  <a:pt x="763" y="398"/>
                  <a:pt x="767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1DB-B948-4DE9-B53A-BF24B4C2121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performance in multipath propagation with AW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16000" y="5118120"/>
            <a:ext cx="1015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345360" y="5149800"/>
            <a:ext cx="1015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-380880" y="33264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error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3873240" y="33004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error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52240" y="545472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Delay spread = 10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42640" y="545472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Delay spread = 15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53920" y="43876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97480" y="3517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8320" y="42354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21520" y="335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8720" y="239220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length = 64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16840" y="27306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56080" y="205740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4Mbit/s (16QAM,R=1/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56760" y="5851440"/>
            <a:ext cx="318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acket error rate versus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286000" y="4235040"/>
            <a:ext cx="32688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693520" y="3809880"/>
            <a:ext cx="2588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0480" y="239220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length = 64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88600" y="27288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40800" y="205596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4Mbit/s (16QAM,R=1/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6546960" y="4038480"/>
            <a:ext cx="338040" cy="22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885000" y="3587760"/>
            <a:ext cx="233280" cy="22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46120" y="1870200"/>
            <a:ext cx="3703680" cy="32796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792680" y="1827360"/>
            <a:ext cx="3741840" cy="332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EEB-6A2F-4FC1-8BAC-7873B7EF24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 search was carried out to find the long preamble phase that gives low correlation side-lo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commend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hange Eq.(8) so as to rotate the all signal phase +(3/4)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-26,26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{-1+j, -1+j, +1-j, +1-j, -1+j, -1+j, +1-j, -1+j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 ... , -1+j, -1+j}/sqrt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y only changing the preamble phase, the irreducible packet error is improved to less than 1/3 that of Draft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4662360"/>
            <a:ext cx="1095120" cy="519120"/>
          </a:xfrm>
          <a:prstGeom prst="downArrow">
            <a:avLst>
              <a:gd name="adj1" fmla="val 48407"/>
              <a:gd name="adj2" fmla="val 422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3F2-81C1-4ABB-B8F6-3DA39E45BD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M.Morikura &amp; M.Mizoguchi, NTT</dc:description>
  <cp:keywords>May 1999</cp:keywords>
  <dc:language>en-US</dc:language>
  <cp:lastModifiedBy>rodane</cp:lastModifiedBy>
  <cp:lastPrinted>1999-06-03T12:00:37Z</cp:lastPrinted>
  <dcterms:modified xsi:type="dcterms:W3CDTF">1999-06-03T12:01:19Z</dcterms:modified>
  <cp:revision>1</cp:revision>
  <dc:subject>Submission</dc:subject>
  <dc:title>doc.: IEEE 802.11-99/115 </dc:title>
</cp:coreProperties>
</file>