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CEB-39E0-4F63-B628-5EE9978F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BFC-8C2A-4BAC-8DFC-F6518288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BF7-17BC-4767-98EE-403E8364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208-057D-480E-B9B2-49B3FD4E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DC3-A127-4853-8EBA-67D34A1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770-F1AC-40A1-B398-05107DC0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4E6-D968-4679-AB59-5B30E9DB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5D8-3928-4267-AB50-453A7957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B31-7753-46B8-8792-B800CC16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96E-1E58-4712-9EB4-768BF57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1B1-CC03-40FF-92E1-FC6F03A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73B-E45A-43A6-B125-53310DD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A8B295-B45A-4696-A76B-9496DE5A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16765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3300"/>
                </a:solidFill>
                <a:latin typeface="Times New Roman"/>
              </a:rPr>
              <a:t>Preamble for HIPERLAN</a:t>
            </a:r>
            <a:r>
              <a:rPr b="0" lang="en-US" sz="34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65200" y="4323960"/>
            <a:ext cx="63072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Jamshid Khun-Jush, Erics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inator of HIPERLAN type 2 &amp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81C-1D71-42C6-B09C-910C67AD04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ing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2209680"/>
          <a:ext cx="41148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1148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2209680"/>
          <a:ext cx="412884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09680"/>
                    <a:ext cx="41288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per auto-correlation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E4D-8CAC-4AF4-A1FB-BAF7E88226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609480" y="144792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088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-Correlation 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90920" y="3124080"/>
          <a:ext cx="3886200" cy="305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124080"/>
                    <a:ext cx="388620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42D-3882-4014-BE35-DE5DDBBA119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2362320"/>
          <a:ext cx="4363920" cy="32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363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8320" y="2362320"/>
          <a:ext cx="4154400" cy="327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62320"/>
                    <a:ext cx="41544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2C2-571B-4DCA-A990-77F4217A4D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19320" y="1676520"/>
          <a:ext cx="66294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629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85800" y="4267080"/>
          <a:ext cx="7467480" cy="18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74674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88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52E-D23F-433A-8F62-8AEA8724019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for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33920" y="1828800"/>
          <a:ext cx="507204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28800"/>
                    <a:ext cx="5072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-990720" y="1849320"/>
          <a:ext cx="5334120" cy="394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849320"/>
                    <a:ext cx="533412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BB9-6756-495C-8B3F-86E895B7E8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-1143000" y="1828800"/>
          <a:ext cx="5562720" cy="40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828800"/>
                    <a:ext cx="55627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00400" y="1828800"/>
          <a:ext cx="5583240" cy="405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28800"/>
                    <a:ext cx="55832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for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646-D6D4-4BA2-8EA1-52365433E5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220968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0" y="2209680"/>
          <a:ext cx="421020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4210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er Spectral Density: left (inverted), right (non-inv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E2A-81D2-4292-8BBD-8D8FCFB905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2362320"/>
          <a:ext cx="42670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267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572000" y="2362320"/>
          <a:ext cx="4210200" cy="380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62320"/>
                    <a:ext cx="42102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523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 (FIR filter): only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8 MHz cut-off frequency, -60 dB stop-b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723-9205-4B84-AAE9-E9BFA25055C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920" y="228600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48320" y="2286000"/>
          <a:ext cx="420984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4209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 (only preambl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56D-6235-43FE-8C51-DCBD78152D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80880" y="2133720"/>
          <a:ext cx="42674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4267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648320" y="2133720"/>
          <a:ext cx="4192560" cy="403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33720"/>
                    <a:ext cx="4192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: data and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D04-2B8E-44B5-A618-A6DC509C75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ERLAN-2/MMAC-WATM MAC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600200"/>
            <a:ext cx="8989920" cy="4295880"/>
            <a:chOff x="380880" y="1600200"/>
            <a:chExt cx="8989920" cy="4295880"/>
          </a:xfrm>
        </p:grpSpPr>
        <p:sp>
          <p:nvSpPr>
            <p:cNvPr id="49" name=""/>
            <p:cNvSpPr/>
            <p:nvPr/>
          </p:nvSpPr>
          <p:spPr>
            <a:xfrm>
              <a:off x="6059520" y="4762440"/>
              <a:ext cx="4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80880" y="1600200"/>
              <a:ext cx="8989920" cy="4295880"/>
              <a:chOff x="380880" y="1600200"/>
              <a:chExt cx="8989920" cy="4295880"/>
            </a:xfrm>
          </p:grpSpPr>
          <p:sp>
            <p:nvSpPr>
              <p:cNvPr id="51" name=""/>
              <p:cNvSpPr/>
              <p:nvPr/>
            </p:nvSpPr>
            <p:spPr>
              <a:xfrm>
                <a:off x="2983320" y="2424960"/>
                <a:ext cx="0" cy="55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380880" y="1600200"/>
                <a:ext cx="8989920" cy="4295880"/>
                <a:chOff x="380880" y="1600200"/>
                <a:chExt cx="8989920" cy="42958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693240" y="2424960"/>
                  <a:ext cx="0" cy="55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380880" y="1600200"/>
                  <a:ext cx="8989920" cy="4295880"/>
                  <a:chOff x="380880" y="1600200"/>
                  <a:chExt cx="8989920" cy="429588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380880" y="1600200"/>
                    <a:ext cx="8989920" cy="4295880"/>
                    <a:chOff x="380880" y="1600200"/>
                    <a:chExt cx="8989920" cy="4295880"/>
                  </a:xfrm>
                </p:grpSpPr>
                <p:grpSp>
                  <p:nvGrpSpPr>
                    <p:cNvPr id="56" name=""/>
                    <p:cNvGrpSpPr/>
                    <p:nvPr/>
                  </p:nvGrpSpPr>
                  <p:grpSpPr>
                    <a:xfrm>
                      <a:off x="380880" y="2424960"/>
                      <a:ext cx="8358480" cy="550080"/>
                      <a:chOff x="380880" y="2424960"/>
                      <a:chExt cx="8358480" cy="550080"/>
                    </a:xfrm>
                  </p:grpSpPr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380880" y="2424960"/>
                        <a:ext cx="945720" cy="550080"/>
                        <a:chOff x="380880" y="2424960"/>
                        <a:chExt cx="945720" cy="55008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380880" y="2424960"/>
                          <a:ext cx="94572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380880" y="2424960"/>
                          <a:ext cx="94572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Broadcast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1326960" y="2424960"/>
                        <a:ext cx="1261080" cy="550080"/>
                        <a:chOff x="1326960" y="2424960"/>
                        <a:chExt cx="1261080" cy="55008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1326960" y="2424960"/>
                          <a:ext cx="126108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1326960" y="2424960"/>
                          <a:ext cx="126108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Frame control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588760" y="2424960"/>
                        <a:ext cx="2365200" cy="550080"/>
                        <a:chOff x="2588760" y="2424960"/>
                        <a:chExt cx="2365200" cy="55008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588760" y="2424960"/>
                          <a:ext cx="236520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2590560" y="2563920"/>
                          <a:ext cx="236052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</a:t>
                          </a: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downlin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4951440" y="2424960"/>
                        <a:ext cx="2368440" cy="550080"/>
                        <a:chOff x="4951440" y="2424960"/>
                        <a:chExt cx="2368440" cy="55008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4954320" y="2424960"/>
                          <a:ext cx="236556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4951440" y="2563920"/>
                          <a:ext cx="236700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uplin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7317360" y="2424960"/>
                        <a:ext cx="1422000" cy="550080"/>
                        <a:chOff x="7317360" y="2424960"/>
                        <a:chExt cx="1422000" cy="55008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7319880" y="2424960"/>
                          <a:ext cx="141912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7317360" y="2424960"/>
                          <a:ext cx="142200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Random access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4718160" y="2691720"/>
                      <a:ext cx="2838600" cy="0"/>
                      <a:chOff x="4718160" y="2691720"/>
                      <a:chExt cx="2838600" cy="0"/>
                    </a:xfrm>
                  </p:grpSpPr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4718160" y="2691720"/>
                        <a:ext cx="473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7083720" y="2691720"/>
                        <a:ext cx="473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" name=""/>
                    <p:cNvSpPr/>
                    <p:nvPr/>
                  </p:nvSpPr>
                  <p:spPr>
                    <a:xfrm flipV="1">
                      <a:off x="5033520" y="1943640"/>
                      <a:ext cx="946080" cy="687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5979600" y="1944000"/>
                      <a:ext cx="1261800" cy="687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5270040" y="1600200"/>
                      <a:ext cx="1734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H="1">
                      <a:off x="2667600" y="3043800"/>
                      <a:ext cx="315360" cy="137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692880" y="3043800"/>
                      <a:ext cx="2602440" cy="137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484640" y="4487400"/>
                      <a:ext cx="4810680" cy="48132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66760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1484640" y="4556160"/>
                      <a:ext cx="11826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am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361404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32360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2667600" y="5030640"/>
                      <a:ext cx="0" cy="27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295320" y="5030640"/>
                      <a:ext cx="0" cy="27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2667600" y="5175000"/>
                      <a:ext cx="3627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165920" y="5312520"/>
                      <a:ext cx="10252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3614040" y="4556160"/>
                      <a:ext cx="7095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V="1">
                      <a:off x="6374160" y="4280760"/>
                      <a:ext cx="473040" cy="41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531840" y="3937680"/>
                      <a:ext cx="1734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058800" y="5589000"/>
                      <a:ext cx="28389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: Protocol Data Unit (54 by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689520" y="4627800"/>
                      <a:ext cx="2681280" cy="63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burst consisting of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" name=""/>
                  <p:cNvSpPr/>
                  <p:nvPr/>
                </p:nvSpPr>
                <p:spPr>
                  <a:xfrm>
                    <a:off x="2904120" y="2562840"/>
                    <a:ext cx="8676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 da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699-0309-44BF-B939-DADE2D07F6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wnlink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CH Pream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514600"/>
            <a:ext cx="8153280" cy="457200"/>
            <a:chOff x="533520" y="2514600"/>
            <a:chExt cx="8153280" cy="457200"/>
          </a:xfrm>
        </p:grpSpPr>
        <p:sp>
          <p:nvSpPr>
            <p:cNvPr id="98" name=""/>
            <p:cNvSpPr/>
            <p:nvPr/>
          </p:nvSpPr>
          <p:spPr>
            <a:xfrm>
              <a:off x="533520" y="251748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644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496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348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200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052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4212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9408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568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7640" y="2514600"/>
              <a:ext cx="70164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16200" y="2514600"/>
              <a:ext cx="1470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0880" y="3733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Downlink Channels Preamble (FCH,SCH,L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4952880"/>
            <a:ext cx="6248160" cy="457200"/>
            <a:chOff x="685800" y="4952880"/>
            <a:chExt cx="6248160" cy="457200"/>
          </a:xfrm>
        </p:grpSpPr>
        <p:sp>
          <p:nvSpPr>
            <p:cNvPr id="111" name=""/>
            <p:cNvSpPr/>
            <p:nvPr/>
          </p:nvSpPr>
          <p:spPr>
            <a:xfrm>
              <a:off x="685800" y="4952880"/>
              <a:ext cx="1157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2840" y="4952880"/>
              <a:ext cx="25455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8400" y="4952880"/>
              <a:ext cx="25455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948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598-B351-42F5-BD2E-F84FAD3EA3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bol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5238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6/RA16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The sign reversal of every second A16 symbol is automatically achieved by the specified subcarrier loading.</a:t>
            </a:r>
            <a:r>
              <a:rPr b="1" lang="fi-F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666880"/>
          <a:ext cx="8047080" cy="10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470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0880" y="37339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6 Symbol (subcarrier loading a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-26…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ymbol in PL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4419720"/>
          <a:ext cx="8229600" cy="96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822960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0880" y="5562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64 Symbol: the same content as T1/T2 in 802.11a PLC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DC1-6C3A-4A47-88F2-C31DB18BE6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-Failure and False-Alarm Rates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97180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80880" y="1523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3000"/>
          </a:bodyPr>
          <a:p>
            <a:pPr marL="113040" indent="-113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Auto-Correlation (AC) Receiver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orrelation delay 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Moving Average (MAV) window size of AC =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6DD-B07D-44B7-B597-0D830F3BF6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-Failure and False-Alarm Rates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8120" y="1676520"/>
          <a:ext cx="578628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786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0880" y="1752480"/>
            <a:ext cx="2667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etector-1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only takes the absolute value of the A-field correlation peak (as well as the phase at the peak position to verify the peak belonging to the BCH A-field) and compares it with a defined thresho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724280"/>
            <a:ext cx="2590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etector-2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takes into account both peaks (A-field and B-field) being above a certain threshol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325-E982-4280-95A4-7AA08C694D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bol PAPR and Dynamic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676520"/>
          <a:ext cx="3962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962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09480" y="1676520"/>
          <a:ext cx="4114800" cy="403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76520"/>
                    <a:ext cx="4114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57150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urrent 802.11a symbol S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Times New Roman"/>
              </a:rPr>
              <a:t>-26...26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, PAPR = 3.00 d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7150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B16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Times New Roman"/>
              </a:rPr>
              <a:t>-26...26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symbol, PAPR = 2.24 d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A8E-5EAC-4064-9C0D-EEFC1476C6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link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6705000" cy="457200"/>
            <a:chOff x="685800" y="2590920"/>
            <a:chExt cx="6705000" cy="457200"/>
          </a:xfrm>
        </p:grpSpPr>
        <p:sp>
          <p:nvSpPr>
            <p:cNvPr id="142" name=""/>
            <p:cNvSpPr/>
            <p:nvPr/>
          </p:nvSpPr>
          <p:spPr>
            <a:xfrm>
              <a:off x="685800" y="259416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262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16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70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2080" y="2590920"/>
              <a:ext cx="65124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72880" y="2594160"/>
              <a:ext cx="3517920" cy="453960"/>
              <a:chOff x="3872880" y="2594160"/>
              <a:chExt cx="3517920" cy="453960"/>
            </a:xfrm>
          </p:grpSpPr>
          <p:sp>
            <p:nvSpPr>
              <p:cNvPr id="148" name=""/>
              <p:cNvSpPr/>
              <p:nvPr/>
            </p:nvSpPr>
            <p:spPr>
              <a:xfrm>
                <a:off x="3872880" y="2594160"/>
                <a:ext cx="65124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24120" y="2594160"/>
                <a:ext cx="143316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57640" y="2594160"/>
                <a:ext cx="143316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33520" y="4952880"/>
            <a:ext cx="8076600" cy="457200"/>
            <a:chOff x="533520" y="4952880"/>
            <a:chExt cx="8076600" cy="457200"/>
          </a:xfrm>
        </p:grpSpPr>
        <p:sp>
          <p:nvSpPr>
            <p:cNvPr id="152" name=""/>
            <p:cNvSpPr/>
            <p:nvPr/>
          </p:nvSpPr>
          <p:spPr>
            <a:xfrm>
              <a:off x="533520" y="4952880"/>
              <a:ext cx="647640" cy="4572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1880" y="4952880"/>
              <a:ext cx="665280" cy="4572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843920" y="4968000"/>
              <a:ext cx="2611440" cy="438840"/>
              <a:chOff x="1843920" y="4968000"/>
              <a:chExt cx="2611440" cy="438840"/>
            </a:xfrm>
          </p:grpSpPr>
          <p:sp>
            <p:nvSpPr>
              <p:cNvPr id="155" name=""/>
              <p:cNvSpPr/>
              <p:nvPr/>
            </p:nvSpPr>
            <p:spPr>
              <a:xfrm>
                <a:off x="184392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9264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4100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90080" y="4968000"/>
                <a:ext cx="66528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468320" y="4964040"/>
              <a:ext cx="2611440" cy="438840"/>
              <a:chOff x="4468320" y="4964040"/>
              <a:chExt cx="2611440" cy="438840"/>
            </a:xfrm>
          </p:grpSpPr>
          <p:sp>
            <p:nvSpPr>
              <p:cNvPr id="160" name=""/>
              <p:cNvSpPr/>
              <p:nvPr/>
            </p:nvSpPr>
            <p:spPr>
              <a:xfrm>
                <a:off x="446832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1704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6540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14480" y="4964040"/>
                <a:ext cx="66528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I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68960" y="4966920"/>
              <a:ext cx="1541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0880" y="3886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Preamble (very similar to 802.11a PLCP preamb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BEF-A0E6-4EF2-9753-B6330C3781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gn Inversion of the Last 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neficia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improving timing detection accuracy (sharper auto-correlation pe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increasing the receiver implementation flexibility (e.g. auto-correlation based or cross-correlation bas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providing unique identification possibilities of the last short symbol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866-60C9-4BA7-9C46-66D4242F11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6-03T12:31:42Z</cp:lastPrinted>
  <dcterms:modified xsi:type="dcterms:W3CDTF">1999-06-03T12:33:57Z</dcterms:modified>
  <cp:revision>21</cp:revision>
  <dc:subject/>
  <dc:title>No Slide Title</dc:title>
</cp:coreProperties>
</file>