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DAB-368E-4B7C-B500-F1EA50BC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4BD8-C7A8-4BD0-ABB8-4545CCF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100-E32B-4018-80F6-1C4BF435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69C-EFC0-4DB1-A1BF-04C5E9DA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4C9-C780-49B2-8137-DDE5F588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C49-FFFF-4DE4-8B8B-F78A91FF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942-B3C6-49EA-8A8F-6675385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F8C-C5D8-44A0-892F-E59A8772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104-05F8-4831-A1F2-2FD3F73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C28-77CA-40C9-B7ED-BE73B934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798-D0CF-49D4-B102-BF4AAAFE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DEC-B455-4841-A263-8CF72243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3CEC1C-9525-4655-83C4-C23D824F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pathy Cards and Don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ory of Valerie Zele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ympathy Cards can be sent Valerie’s Mom addres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ie Zele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2 New Market 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ellen, NJ  088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ations, checks sent in memory of Valerie Zelenty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ch of Dimes Birth Defects Foun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Jersey Chap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10 East Park Boulev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anbury, NJ  085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9EF-377C-4332-9AB7-57AB0B9B4C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 Petrick</cp:lastModifiedBy>
  <dcterms:modified xsi:type="dcterms:W3CDTF">1999-05-07T00:51:59Z</dcterms:modified>
  <cp:revision>6</cp:revision>
  <dc:subject/>
  <dc:title>Sympathy Cards and Donations</dc:title>
</cp:coreProperties>
</file>