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21ACA31-D80D-4754-934C-1695A10B1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3960" y="8985240"/>
            <a:ext cx="711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s for pitching this report -99/64r0 on Monday at 9:19am to the P802.15 Full W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itch is specifically for the following agenda -99/54r2  it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3.3 II REPORT ON TG1 ACTIVITIES AND PLANS - GIFFORD 10 09:19 A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ill update this report to r1 and r2 for Wednesday &amp; Friday Full WG Updates.  I will need help on the Friday Report to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st Regard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65C5-CEB7-4D80-A682-133185B3A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9F62-7DF5-42A0-8662-F5C1570ED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6396-8778-4209-AF05-CCD1BB490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4B47-8470-4195-A3F9-128DA06C3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5A5B-D29E-46DF-B148-05CF264C8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8D10-F78B-4C92-A233-CD67C322F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AF66-1D86-464C-B958-470850E91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65BD-49EF-4546-85AF-623987285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293B-A1F9-4AAB-B4BD-D00A4D8AB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2719-5447-4A80-916C-AF9C0869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79AA-957C-41C9-A722-457AF90D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738C-BF3A-4C24-B8BC-4CAC851B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31799BD-DA0D-4287-8153-818E11A7E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123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image" Target="../media/image7.wmf"/><Relationship Id="rId1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1 Report #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att Regency Kaua'i, 1571 Poipu Road Koloa, HI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5A3B-FAF7-40CA-885E-88465C50031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'i - Overview of the TG1 Tas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uetooth SIG Letter of Intent (J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1 July 5-9, 1999 Montreal, PQ, Can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Finalize the Copyright License Agreement (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2 September 13-17, 1999 Santa Rosa, CA USA Hilton 802.15 Interim Meeting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-IEEE WG Finalize Draft Standard (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-IEEE WG Submit Draft Standard to BSIG Program Management (C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IG Review Derivative Draft Standard Submission (BS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IG Disposition Draft Standard/Submit to IEEE P802.15, if ok (J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Compose P802.15 WG Electronic Letter #1 Ballot (B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Upload Draft Standard to the private Web Site (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3 November 8-12, 1999 Kauai, Hawaii Hyatt Regency, 802 Plenary Mee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Authorize P802.15 WG LB #1 between the 11Nov99 - 10Dec99 (B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WG Letter Ballot #1 Package Distribution (B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Letter Balloting 11Nov99 - 10Dec99 (W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Process, Consolidate, and Distribute Draft Comments 13-16Dec99 (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Electronic WG LB #1 Comment Resolution (W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4 January 10-14, 2000 Tel-Aviv, IL InterContinental, 802.15 Interim Meetin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5 March 6-10, 2000 Albuquerque, NM Hyatt Regency, 802 Plenary Mee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4572000"/>
            <a:ext cx="71629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293B-8273-45D4-A114-84D1E965A13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'i - Overview of the TG1 Time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35800" y="5043600"/>
            <a:ext cx="739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urrent plan is to have TG1 make a motion to the P802.15 Full W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uring the November Plenary on Wednesday, 10Nov99 to authorize the LB #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start on Thursday, 11Nov99 with the Bluetooth Draft 0.6 Standar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8Nov99" descr=""/>
          <p:cNvPicPr/>
          <p:nvPr/>
        </p:nvPicPr>
        <p:blipFill>
          <a:blip r:embed="rId1"/>
          <a:stretch/>
        </p:blipFill>
        <p:spPr>
          <a:xfrm>
            <a:off x="282600" y="1528920"/>
            <a:ext cx="8556480" cy="32320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781680" y="3200400"/>
            <a:ext cx="762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6248520" y="3428640"/>
            <a:ext cx="91440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1440" y="6208560"/>
            <a:ext cx="187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doc.: Project6.M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AD96-B411-4E5D-AC3C-028649CA864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’i Ob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PROVIDE A MOTION TO SUBMIT THE DRAFT TO WG LETTER BALLOT 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PROVIDE A MOTION TO REVIEW THE COMMENTS FROM WG LB #1 ON OR BEFORE 10-14JAN00 INTER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PROVIDE AN UPDATE ON TG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PROVIDE AN OVERVIEW OF THE IEEE DRAFT DERIVED FROM THE BLUETOOTH SPECIFICATION(S) &lt;TUTORIAL #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PROVIDE A MOTION TO WG TO INVOKE "OR" STATUS FOR BSIG, IF APPROVED FWD TO SEC AS A MO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6. DRAFT TG1 OPERATING RULES AND PROVIDE A MOTION RESULT TO WG, WG APPRO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7. PROVIDE A MOTION TO REPLACE PARVIZ KERMANI WITH CHATSCHIK BISDIK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1C64-6290-40A0-A5BB-57E04A3D657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'i - Submis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Sub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uetooth Draft Submission v0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P802-15/D0.6 [...P802-15-1_D0-6…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a “how to” review the P802.15.1 Draft v0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99/xxxr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sting Plenary Conference Tutorial #3 on Tuesday 9Nov99 from 6:30 to 8:00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VIEW OF THE P802.15 v0.6 DRAFT STANDARD -99/xxxr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UETOOTH ARCHITECTURE OVERVIEW -99/069r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PING THE BLUETOOTH SPEC. TO IEEE 802.15.1 -99/xxxr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802.15.1 V0.6 DRAFT STANDARD OVERVIEW -99/xxxr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8A30-5CB9-462A-8D06-C65C433EC54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740560" y="3200400"/>
            <a:ext cx="1498320" cy="7621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77960" y="4648320"/>
            <a:ext cx="1460520" cy="9903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51040" y="3962520"/>
            <a:ext cx="1701720" cy="685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40160" y="2514600"/>
            <a:ext cx="1498320" cy="685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'i - WG vs. TG1 Se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762120"/>
            <a:ext cx="228600" cy="228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9720" y="762120"/>
            <a:ext cx="17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Task Group 1 in 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7120" y="1295280"/>
            <a:ext cx="8963280" cy="52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Monday    |  Tuesday  |Wednesday    |   Thursday |   Friday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ExCom    |    HR     |     MC      |    MC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AM |             |...........|.............|............|    802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.............|           |             |            |  Closing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802     |    TG1    |     SG      |    SG      |  Plenary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Full 802.15 |    SG     | Joint.11/.15|    TG1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       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PM |.............|           |.............|. . . . . .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TG1     |           | Full 802.15 |Full 802.15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       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Eve-|             |  BT-IEEE  |   Social    | Doc Editing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ning|             |  Tutorial |             |............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6:30p-8:00p|             |    ExCom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G1 = Bluetooth Submission, SG = Coexistence, MC =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7A6B-19FD-412A-BDEF-74BCAE6A184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G1 Motion Schedu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G1 Mo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on #1 - Vice C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G Mo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on #2 - LB #1 Commen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on #3 - Electronic or empower Tel-Aviv for Comment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on #4 - OR Status for Blueto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5B3F-D9EB-45B3-8ADE-11FF02DA2C4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1: Posted P802.15.1 Draft 4Nov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52280" y="2106720"/>
          <a:ext cx="7848720" cy="42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106720"/>
                    <a:ext cx="784872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2743200" y="2743200"/>
            <a:ext cx="6019920" cy="1523880"/>
          </a:xfrm>
          <a:prstGeom prst="leftArrow">
            <a:avLst>
              <a:gd name="adj1" fmla="val 50000"/>
              <a:gd name="adj2" fmla="val 9876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are her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ed to the P802.15 Private Web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0C40-9B1A-46F1-A836-2EED8DA09C8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2: Our plan is to start the Letter Ballot #1 Process on 11Nov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43200" y="2971800"/>
            <a:ext cx="6019920" cy="1523880"/>
          </a:xfrm>
          <a:prstGeom prst="leftArrow">
            <a:avLst>
              <a:gd name="adj1" fmla="val 50000"/>
              <a:gd name="adj2" fmla="val 9876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lan is to make a motion 10Nov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ting to  release LB#1 on 11Nov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52280" y="2106720"/>
          <a:ext cx="7848720" cy="42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106720"/>
                    <a:ext cx="784872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7AAC-4AF7-4C35-BA16-1EF1BC7420A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3: Our plan is to stop the Letter Ballot #1 Process on 10Dec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52280" y="2106720"/>
          <a:ext cx="7848720" cy="42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106720"/>
                    <a:ext cx="784872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2743200" y="3784680"/>
            <a:ext cx="6019920" cy="1523880"/>
          </a:xfrm>
          <a:prstGeom prst="leftArrow">
            <a:avLst>
              <a:gd name="adj1" fmla="val 50000"/>
              <a:gd name="adj2" fmla="val 9876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lan is to be here 10Dec99 and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ase LB Comments the following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255D-B540-490D-8BE4-256ECA08CE5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0Nov99 the P802.15 Working Group will be comprised of 42 voting member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Houman Alborz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Dimitri Alexandrou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Simon Baatz (Simo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Edul Batliwala (Edul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Alan Bien (Ala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Chatschik Bisdikia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Dave Carlson (Dave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Harshal Chhaya (Harshal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Wm. Caldwell Crossw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William Cruz (Bill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Richard Ditch (Rich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Richard Eckard (Dick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Kurt Fischer (Kurt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Matthias Frank (Matthia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Ian Gifford (Ia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s. Nada Golmie (Nada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Allen Heberling (Alle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Robert Heile (Bob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John Paul Jones (Joh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Srinivas Kandal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Parviz Kermani (Parviz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Stuart Kerry (Stuart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242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Patrick Kinney (Pat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Bruce P. Kraemer (Bruce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Yunxin Li (Yunxi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Daniel R. McGlyn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Michael D. McInnis (Mike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Akira Miura (Akira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Thomas Müller (Thoma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Peter Murry (Peter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Erwin R. Noble (Erwi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Mike Paczonay (Mike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Arto Palin (Arto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Davis Pan (Davi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Ivan Reede (Iva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Carlos A. Rios (Carlo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Brian E. Roan (Bria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Karlheinz Schwar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Stephen J. Shellhamm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Thomas Siep (Tom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Nick Stapleton (Nick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Steve Torp (Steve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Fujio Watanabe (Fujio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3784680"/>
            <a:ext cx="4038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" y="2286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19080" y="112680"/>
            <a:ext cx="249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Resignation prior to the LB #1 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AC9E-EC34-4755-A99A-26D36DE74BD9}" type="slidenum">
              <a:t>1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view of Santa R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G1 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view of Kaua’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mi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ion Schedu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B#1 Motion Detail &amp; WG Ballot P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T-IEEE Editorial Working Group Drafting 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DA3D-008E-47BE-98A1-0BAB0BF5C4B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T-IEEE Editorial Working Group Drafting Hist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 0.0 - Tom Siep 10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 0.1 - Tom Siep 10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 0.2 - Tom Siep 10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 0.3 - Tom Siep 10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3 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 0.4 - Tom Siep 10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 0.5 - BT-IEEE Editorial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1 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Chief Editor/6 Technical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Bluetooth Promoter Company Reviewers w/ internal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300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 0.6 - BT-IEEE Editorial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8 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1445-4B21-4E95-9C70-7BEA6759237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nta Rosa - 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D AN OVERVIEW OF THE BLUETOOTH SPECIFICATION(S), VIA TUTO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D A PLAN FOR AN INITIAL DRAFT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TE TO SUBMIT THE DRAFT TO WG LETTER BALLOT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TE TO REVIEW THE COMMENTS FROM WG LB #1 IN NOV99 PLE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OTE TO EMPOWER THE TG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268F-0741-431D-A69C-DEDDCC2D3BA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74880" y="1619280"/>
            <a:ext cx="795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on: To empower the TG1 Chair and Vice Chair to release the Bluetooth submission on behalf of TG1 to the 802.15 WG and to make a motion to the 802.15 WG to submit the Draft to Letter Bal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30040" y="3643200"/>
            <a:ext cx="2480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Tom Si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Chatschik Bisdiki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ta Rosa - Vote on TG1 Draft Proc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01680" y="3138480"/>
            <a:ext cx="161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7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65320" y="5478480"/>
            <a:ext cx="34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DC15-8EE9-46DC-93CA-8CD5F9ADF786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ta Rosa - Mapping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371600" y="2057400"/>
            <a:ext cx="6426360" cy="3809880"/>
            <a:chOff x="1371600" y="2057400"/>
            <a:chExt cx="6426360" cy="3809880"/>
          </a:xfrm>
        </p:grpSpPr>
        <p:graphicFrame>
          <p:nvGraphicFramePr>
            <p:cNvPr id="68" name=""/>
            <p:cNvGraphicFramePr/>
            <p:nvPr/>
          </p:nvGraphicFramePr>
          <p:xfrm>
            <a:off x="1371600" y="2057400"/>
            <a:ext cx="6426360" cy="3809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71600" y="2057400"/>
                      <a:ext cx="6426360" cy="380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3733920" y="5029200"/>
            <a:ext cx="2197080" cy="547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733920" y="5029200"/>
                      <a:ext cx="2197080" cy="54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3809880" y="3505320"/>
            <a:ext cx="2370240" cy="1469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809880" y="3505320"/>
                      <a:ext cx="2370240" cy="146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3809880" y="3048120"/>
            <a:ext cx="3054600" cy="1481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809880" y="3048120"/>
                      <a:ext cx="3054600" cy="14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3048120" y="2743200"/>
            <a:ext cx="4255920" cy="13176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048120" y="2743200"/>
                      <a:ext cx="4255920" cy="131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2057400" y="2743200"/>
            <a:ext cx="3970440" cy="15080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057400" y="2743200"/>
                      <a:ext cx="3970440" cy="150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0" name=""/>
          <p:cNvSpPr/>
          <p:nvPr/>
        </p:nvSpPr>
        <p:spPr>
          <a:xfrm>
            <a:off x="639720" y="6208560"/>
            <a:ext cx="685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doc.: IEEE 802.15-99/071r0, "Mapping the Bluetooth Specification to IEEE 802.15.1", Tom Siep, 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3"/>
          <a:stretch/>
        </p:blipFill>
        <p:spPr>
          <a:xfrm>
            <a:off x="3827520" y="2685960"/>
            <a:ext cx="1488960" cy="1484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298520" y="3505320"/>
            <a:ext cx="171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tooth Protocol S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44080" y="1828800"/>
            <a:ext cx="264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EEE 802.15.1 Abstract Networ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3A67-2215-4ED5-B1BA-27F98260678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TG1 Issues ar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think that our efforts would really be wasted if we develop an 802.15.1 standard th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oo late to be relevant to the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s (but not leveraged by) the original Bluetooth sp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confusing to the people that are already familiar with the Bluetooth sp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ntentionally deviates from the original sp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 the v0.6 standard is 1:1 Blueto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2AF2-7839-4D4D-ADE5-D4EFDD8B4AD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'i - Main Outline Overview (D0.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uses 1 through 4: IEEE-required reference materi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use 5: Over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use 6: PHY (Direct copy of Part A, Radio Specification [1.0a]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use 7: MAC Short introduction, followed b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3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Section 7.1 (Direct copy of Part B, Baseband Specification [1.0a]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3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Section 7.2 (Direct copy of Part C, Link Manager Protocol [1.0a]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Section 7.3 (Direct copy of Part D, Logical Link Control and Adaptation Protocol [1.0a]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use 8: Service Access Points (General Material and one example of how SAPs will be documented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nex A: Placeholder for Protocol Implementation Conformance Statement (PIC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nex B: Placeholder for MAC Formal Defini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nex C: Placeholder for PHY Formal Defini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cc"/>
                </a:solidFill>
                <a:latin typeface="Arial"/>
              </a:rPr>
              <a:t>Annex D: Generic Access Profile (Direct copy [1.0a]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nex E: Bibliography (incomplete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2880" y="6208560"/>
            <a:ext cx="224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doc.: IEEE P802-15/D0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99A5-C23F-4133-B710-971040C52DC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'i - OSI RF to Bluetoo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006560" y="1981080"/>
            <a:ext cx="7121160" cy="4149360"/>
            <a:chOff x="1006560" y="1981080"/>
            <a:chExt cx="7121160" cy="4149360"/>
          </a:xfrm>
        </p:grpSpPr>
        <p:sp>
          <p:nvSpPr>
            <p:cNvPr id="91" name=""/>
            <p:cNvSpPr/>
            <p:nvPr/>
          </p:nvSpPr>
          <p:spPr>
            <a:xfrm>
              <a:off x="1200600" y="4574520"/>
              <a:ext cx="2201040" cy="25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L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200600" y="4834080"/>
              <a:ext cx="2201040" cy="2588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200600" y="5093280"/>
              <a:ext cx="1488960" cy="5187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hys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200600" y="4574520"/>
              <a:ext cx="1488960" cy="518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ta Li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200600" y="4056120"/>
              <a:ext cx="1488960" cy="51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200600" y="3537000"/>
              <a:ext cx="1488960" cy="518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ranspo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00600" y="3018600"/>
              <a:ext cx="1488960" cy="51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s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200600" y="2499840"/>
              <a:ext cx="1488960" cy="51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esent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00600" y="1981080"/>
              <a:ext cx="1488960" cy="518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06560" y="5612040"/>
              <a:ext cx="1877400" cy="51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edi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3401640" y="3990600"/>
              <a:ext cx="1424160" cy="84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689560" y="5612040"/>
              <a:ext cx="2136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4911120" y="1981080"/>
              <a:ext cx="3216600" cy="3630600"/>
              <a:chOff x="4911120" y="1981080"/>
              <a:chExt cx="3216600" cy="3630600"/>
            </a:xfrm>
          </p:grpSpPr>
          <p:sp>
            <p:nvSpPr>
              <p:cNvPr id="104" name=""/>
              <p:cNvSpPr/>
              <p:nvPr/>
            </p:nvSpPr>
            <p:spPr>
              <a:xfrm>
                <a:off x="4911120" y="5250960"/>
                <a:ext cx="2462400" cy="36072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Arial"/>
                  </a:rPr>
                  <a:t>R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911120" y="4808160"/>
                <a:ext cx="2462400" cy="387360"/>
              </a:xfrm>
              <a:prstGeom prst="rect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Arial"/>
                  </a:rPr>
                  <a:t>Baseban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911120" y="3975840"/>
                <a:ext cx="602640" cy="7765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Arial"/>
                  </a:rPr>
                  <a:t>Audi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563800" y="4392360"/>
                <a:ext cx="1809720" cy="360360"/>
              </a:xfrm>
              <a:prstGeom prst="rect">
                <a:avLst/>
              </a:prstGeom>
              <a:solidFill>
                <a:srgbClr val="063de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Link Manag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563800" y="3975840"/>
                <a:ext cx="1155600" cy="3607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00"/>
                    </a:solidFill>
                    <a:latin typeface="Arial"/>
                  </a:rPr>
                  <a:t>L2CA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911120" y="2868480"/>
                <a:ext cx="2311560" cy="1051920"/>
              </a:xfrm>
              <a:custGeom>
                <a:avLst/>
                <a:gdLst/>
                <a:ahLst/>
                <a:rect l="l" t="t" r="r" b="b"/>
                <a:pathLst>
                  <a:path w="2208" h="912">
                    <a:moveTo>
                      <a:pt x="624" y="912"/>
                    </a:moveTo>
                    <a:lnTo>
                      <a:pt x="0" y="0"/>
                    </a:lnTo>
                    <a:lnTo>
                      <a:pt x="2208" y="0"/>
                    </a:lnTo>
                    <a:lnTo>
                      <a:pt x="1728" y="912"/>
                    </a:lnTo>
                    <a:lnTo>
                      <a:pt x="624" y="912"/>
                    </a:lnTo>
                    <a:close/>
                  </a:path>
                </a:pathLst>
              </a:custGeom>
              <a:solidFill>
                <a:srgbClr val="0033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911120" y="2424240"/>
                <a:ext cx="674280" cy="388800"/>
              </a:xfrm>
              <a:prstGeom prst="rect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TCP/I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652720" y="2424240"/>
                <a:ext cx="463680" cy="388800"/>
              </a:xfrm>
              <a:prstGeom prst="rect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HI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167880" y="2424240"/>
                <a:ext cx="1078560" cy="388800"/>
              </a:xfrm>
              <a:prstGeom prst="rect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RFCOM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870600" y="2424240"/>
                <a:ext cx="1256760" cy="1922040"/>
              </a:xfrm>
              <a:custGeom>
                <a:avLst/>
                <a:gdLst/>
                <a:ahLst/>
                <a:rect l="l" t="t" r="r" b="b"/>
                <a:pathLst>
                  <a:path w="1296" h="1632">
                    <a:moveTo>
                      <a:pt x="0" y="1632"/>
                    </a:moveTo>
                    <a:lnTo>
                      <a:pt x="0" y="1296"/>
                    </a:lnTo>
                    <a:lnTo>
                      <a:pt x="528" y="336"/>
                    </a:lnTo>
                    <a:lnTo>
                      <a:pt x="528" y="0"/>
                    </a:lnTo>
                    <a:lnTo>
                      <a:pt x="1296" y="0"/>
                    </a:lnTo>
                    <a:lnTo>
                      <a:pt x="1296" y="288"/>
                    </a:lnTo>
                    <a:lnTo>
                      <a:pt x="576" y="1632"/>
                    </a:lnTo>
                    <a:lnTo>
                      <a:pt x="0" y="1632"/>
                    </a:lnTo>
                    <a:close/>
                  </a:path>
                </a:pathLst>
              </a:custGeom>
              <a:solidFill>
                <a:srgbClr val="0033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911120" y="1981080"/>
                <a:ext cx="3216600" cy="3607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ffff00"/>
                    </a:solidFill>
                    <a:latin typeface="Arial"/>
                  </a:rPr>
                  <a:t>Application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916960" y="3248280"/>
                <a:ext cx="71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7809800">
                <a:off x="7033680" y="3229200"/>
                <a:ext cx="100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7" name=""/>
          <p:cNvSpPr/>
          <p:nvPr/>
        </p:nvSpPr>
        <p:spPr>
          <a:xfrm>
            <a:off x="632880" y="6208560"/>
            <a:ext cx="224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doc.: IEEE P802-15/D0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56120" y="1600200"/>
            <a:ext cx="171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tooth Protocol S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47320" y="1752480"/>
            <a:ext cx="180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/OSI Reference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00BF-102B-445D-A6F7-307B1D27B6C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'i - Bluetooth to IEEE P802.15.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62120" y="1905120"/>
            <a:ext cx="7520040" cy="4266720"/>
            <a:chOff x="762120" y="1905120"/>
            <a:chExt cx="7520040" cy="4266720"/>
          </a:xfrm>
        </p:grpSpPr>
        <p:grpSp>
          <p:nvGrpSpPr>
            <p:cNvPr id="122" name=""/>
            <p:cNvGrpSpPr/>
            <p:nvPr/>
          </p:nvGrpSpPr>
          <p:grpSpPr>
            <a:xfrm>
              <a:off x="762120" y="1905120"/>
              <a:ext cx="3786120" cy="4266720"/>
              <a:chOff x="762120" y="1905120"/>
              <a:chExt cx="3786120" cy="4266720"/>
            </a:xfrm>
          </p:grpSpPr>
          <p:sp>
            <p:nvSpPr>
              <p:cNvPr id="123" name=""/>
              <p:cNvSpPr/>
              <p:nvPr/>
            </p:nvSpPr>
            <p:spPr>
              <a:xfrm>
                <a:off x="762120" y="5748120"/>
                <a:ext cx="2898720" cy="42372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R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62120" y="5227560"/>
                <a:ext cx="2898720" cy="455040"/>
              </a:xfrm>
              <a:prstGeom prst="rect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Baseban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62120" y="4249440"/>
                <a:ext cx="709560" cy="91260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00"/>
                    </a:solidFill>
                    <a:latin typeface="Arial"/>
                  </a:rPr>
                  <a:t>Audi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530360" y="4738680"/>
                <a:ext cx="2130480" cy="423360"/>
              </a:xfrm>
              <a:prstGeom prst="rect">
                <a:avLst/>
              </a:prstGeom>
              <a:solidFill>
                <a:srgbClr val="063de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ffff"/>
                    </a:solidFill>
                    <a:latin typeface="Arial"/>
                  </a:rPr>
                  <a:t>Link Manag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530360" y="4249440"/>
                <a:ext cx="1360440" cy="4237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ff00"/>
                    </a:solidFill>
                    <a:latin typeface="Arial"/>
                  </a:rPr>
                  <a:t>L2CA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62120" y="2948040"/>
                <a:ext cx="2720880" cy="1236240"/>
              </a:xfrm>
              <a:custGeom>
                <a:avLst/>
                <a:gdLst/>
                <a:ahLst/>
                <a:rect l="l" t="t" r="r" b="b"/>
                <a:pathLst>
                  <a:path w="2208" h="912">
                    <a:moveTo>
                      <a:pt x="624" y="912"/>
                    </a:moveTo>
                    <a:lnTo>
                      <a:pt x="0" y="0"/>
                    </a:lnTo>
                    <a:lnTo>
                      <a:pt x="2208" y="0"/>
                    </a:lnTo>
                    <a:lnTo>
                      <a:pt x="1728" y="912"/>
                    </a:lnTo>
                    <a:lnTo>
                      <a:pt x="624" y="912"/>
                    </a:lnTo>
                    <a:close/>
                  </a:path>
                </a:pathLst>
              </a:custGeom>
              <a:solidFill>
                <a:srgbClr val="0033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62120" y="2425680"/>
                <a:ext cx="793800" cy="456840"/>
              </a:xfrm>
              <a:prstGeom prst="rect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TCP/I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635120" y="2425680"/>
                <a:ext cx="546120" cy="456840"/>
              </a:xfrm>
              <a:prstGeom prst="rect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HI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241720" y="2425680"/>
                <a:ext cx="1269720" cy="456840"/>
              </a:xfrm>
              <a:prstGeom prst="rect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RFCOM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068640" y="2425680"/>
                <a:ext cx="1479600" cy="2258640"/>
              </a:xfrm>
              <a:custGeom>
                <a:avLst/>
                <a:gdLst/>
                <a:ahLst/>
                <a:rect l="l" t="t" r="r" b="b"/>
                <a:pathLst>
                  <a:path w="1296" h="1632">
                    <a:moveTo>
                      <a:pt x="0" y="1632"/>
                    </a:moveTo>
                    <a:lnTo>
                      <a:pt x="0" y="1296"/>
                    </a:lnTo>
                    <a:lnTo>
                      <a:pt x="528" y="336"/>
                    </a:lnTo>
                    <a:lnTo>
                      <a:pt x="528" y="0"/>
                    </a:lnTo>
                    <a:lnTo>
                      <a:pt x="1296" y="0"/>
                    </a:lnTo>
                    <a:lnTo>
                      <a:pt x="1296" y="288"/>
                    </a:lnTo>
                    <a:lnTo>
                      <a:pt x="576" y="1632"/>
                    </a:lnTo>
                    <a:lnTo>
                      <a:pt x="0" y="1632"/>
                    </a:lnTo>
                    <a:close/>
                  </a:path>
                </a:pathLst>
              </a:custGeom>
              <a:solidFill>
                <a:srgbClr val="0033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62120" y="1905120"/>
                <a:ext cx="3786120" cy="4237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ffff00"/>
                    </a:solidFill>
                    <a:latin typeface="Arial"/>
                  </a:rPr>
                  <a:t>Application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945440" y="3462120"/>
                <a:ext cx="55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7809800">
                <a:off x="3363480" y="363744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5462640" y="2361960"/>
              <a:ext cx="2819520" cy="4568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lause 6 (RF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462640" y="2819160"/>
              <a:ext cx="2819520" cy="1523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lause 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(Baseband, Link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anager, L2CAP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462640" y="1905120"/>
              <a:ext cx="2819520" cy="456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lause 1-5 (Intro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62640" y="4343400"/>
              <a:ext cx="2819520" cy="456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lause 8 (SAP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62640" y="4800600"/>
              <a:ext cx="2819520" cy="12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nnex A: Placeholder for PIC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nnex B: Placeholder for MAC Def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nnex C: Placeholder for PHY Def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nnex D: Generic Access Profi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nnex E: Bibliography (incomplete)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4807080" y="2438280"/>
              <a:ext cx="426960" cy="1828440"/>
            </a:xfrm>
            <a:custGeom>
              <a:avLst/>
              <a:gdLst>
                <a:gd name="textAreaLeft" fmla="*/ 0 w 426960"/>
                <a:gd name="textAreaRight" fmla="*/ 154080 w 426960"/>
                <a:gd name="textAreaTop" fmla="*/ 47520 h 1828440"/>
                <a:gd name="textAreaBottom" fmla="*/ 1780920 h 182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632880" y="6208560"/>
            <a:ext cx="224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doc.: IEEE P802-15/D0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41320" y="1523880"/>
            <a:ext cx="171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tooth Protocol S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15480" y="1676520"/>
            <a:ext cx="256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EEE 802.15.1 Draft 0.6 Abstract T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F7AA-8203-4D40-9EC2-EFA6280299C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2T05:58:24Z</dcterms:created>
  <dc:creator>Ian C. Gifford</dc:creator>
  <dc:description>-99/123</dc:description>
  <dc:language>en-US</dc:language>
  <cp:lastModifiedBy>Ian C. Gifford</cp:lastModifiedBy>
  <cp:lastPrinted>1998-02-10T13:28:06Z</cp:lastPrinted>
  <dcterms:modified xsi:type="dcterms:W3CDTF">1999-11-08T23:08:38Z</dcterms:modified>
  <cp:revision>44</cp:revision>
  <dc:subject>IEEE 802.15 TG1 Report #2</dc:subject>
  <dc:title>IEEE P802.15 Working Group for Wireless Personal Area Networks</dc:title>
</cp:coreProperties>
</file>