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948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FFC-156A-4A13-9A1E-3558457C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4DE-0E09-4A1D-A1D8-963B6E22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989-111F-48F3-9E3D-B24E0277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B3E-0840-4ACB-8B41-C1ED9413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78C-7CF4-4191-8BDB-48B69BB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035-F497-4AB2-B283-540CD72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3F6-0BA5-460E-BCDE-0857657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ACD-468C-4D9B-9286-19E14C5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F01-BCD8-4155-BA0C-7966E3F1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74D-A948-4201-8B08-DA779602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EAF-52F8-42A0-94CD-71B7C209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5FB-CF79-48D3-9CE0-07CE5373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762120"/>
            <a:ext cx="8508960" cy="5638680"/>
          </a:xfrm>
          <a:prstGeom prst="rect">
            <a:avLst/>
          </a:prstGeom>
          <a:noFill/>
          <a:ln w="12600">
            <a:solidFill>
              <a:srgbClr val="00c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858080" y="6299280"/>
            <a:ext cx="460440" cy="179280"/>
            <a:chOff x="7858080" y="6299280"/>
            <a:chExt cx="460440" cy="179280"/>
          </a:xfrm>
        </p:grpSpPr>
        <p:sp>
          <p:nvSpPr>
            <p:cNvPr id="2" name=""/>
            <p:cNvSpPr/>
            <p:nvPr/>
          </p:nvSpPr>
          <p:spPr>
            <a:xfrm>
              <a:off x="7858080" y="629928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33" y="92"/>
                  </a:moveTo>
                  <a:lnTo>
                    <a:pt x="27" y="112"/>
                  </a:lnTo>
                  <a:lnTo>
                    <a:pt x="0" y="112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7" y="112"/>
                  </a:lnTo>
                  <a:lnTo>
                    <a:pt x="69" y="112"/>
                  </a:lnTo>
                  <a:lnTo>
                    <a:pt x="64" y="92"/>
                  </a:lnTo>
                  <a:lnTo>
                    <a:pt x="33" y="92"/>
                  </a:lnTo>
                  <a:lnTo>
                    <a:pt x="39" y="68"/>
                  </a:lnTo>
                  <a:lnTo>
                    <a:pt x="50" y="31"/>
                  </a:lnTo>
                  <a:lnTo>
                    <a:pt x="59" y="68"/>
                  </a:lnTo>
                  <a:lnTo>
                    <a:pt x="39" y="68"/>
                  </a:lnTo>
                  <a:lnTo>
                    <a:pt x="3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85160" y="629928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26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23"/>
                  </a:lnTo>
                  <a:lnTo>
                    <a:pt x="52" y="23"/>
                  </a:lnTo>
                  <a:lnTo>
                    <a:pt x="52" y="112"/>
                  </a:lnTo>
                  <a:lnTo>
                    <a:pt x="26" y="112"/>
                  </a:lnTo>
                  <a:lnTo>
                    <a:pt x="2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94600" y="6334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3" y="54"/>
                  </a:moveTo>
                  <a:lnTo>
                    <a:pt x="40" y="70"/>
                  </a:lnTo>
                  <a:lnTo>
                    <a:pt x="30" y="71"/>
                  </a:lnTo>
                  <a:lnTo>
                    <a:pt x="25" y="69"/>
                  </a:lnTo>
                  <a:lnTo>
                    <a:pt x="22" y="64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8" y="39"/>
                  </a:lnTo>
                  <a:lnTo>
                    <a:pt x="1" y="51"/>
                  </a:lnTo>
                  <a:lnTo>
                    <a:pt x="0" y="68"/>
                  </a:lnTo>
                  <a:lnTo>
                    <a:pt x="7" y="81"/>
                  </a:lnTo>
                  <a:lnTo>
                    <a:pt x="22" y="89"/>
                  </a:lnTo>
                  <a:lnTo>
                    <a:pt x="44" y="90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7"/>
                  </a:lnTo>
                  <a:lnTo>
                    <a:pt x="67" y="88"/>
                  </a:lnTo>
                  <a:lnTo>
                    <a:pt x="69" y="89"/>
                  </a:lnTo>
                  <a:lnTo>
                    <a:pt x="70" y="89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3" y="59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55"/>
                  </a:lnTo>
                  <a:lnTo>
                    <a:pt x="31" y="34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6" y="19"/>
                  </a:lnTo>
                  <a:lnTo>
                    <a:pt x="30" y="18"/>
                  </a:lnTo>
                  <a:lnTo>
                    <a:pt x="34" y="19"/>
                  </a:lnTo>
                  <a:lnTo>
                    <a:pt x="36" y="24"/>
                  </a:lnTo>
                  <a:lnTo>
                    <a:pt x="36" y="35"/>
                  </a:lnTo>
                  <a:lnTo>
                    <a:pt x="55" y="35"/>
                  </a:lnTo>
                  <a:lnTo>
                    <a:pt x="55" y="16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3" y="21"/>
                  </a:lnTo>
                  <a:lnTo>
                    <a:pt x="9" y="39"/>
                  </a:lnTo>
                  <a:lnTo>
                    <a:pt x="2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94680" y="629928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5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51" y="23"/>
                  </a:lnTo>
                  <a:lnTo>
                    <a:pt x="51" y="112"/>
                  </a:lnTo>
                  <a:lnTo>
                    <a:pt x="25" y="112"/>
                  </a:lnTo>
                  <a:lnTo>
                    <a:pt x="2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8766000" y="6583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04040" y="6067440"/>
            <a:ext cx="10796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75400" y="5027760"/>
            <a:ext cx="4921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718320" y="546120"/>
            <a:ext cx="190512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Brush Script MT"/>
              </a:rPr>
              <a:t>AT&amp;T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0" y="1371600"/>
            <a:ext cx="775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416720" y="6006960"/>
            <a:ext cx="928800" cy="426960"/>
            <a:chOff x="7416720" y="6006960"/>
            <a:chExt cx="928800" cy="426960"/>
          </a:xfrm>
        </p:grpSpPr>
        <p:sp>
          <p:nvSpPr>
            <p:cNvPr id="12" name=""/>
            <p:cNvSpPr/>
            <p:nvPr/>
          </p:nvSpPr>
          <p:spPr>
            <a:xfrm>
              <a:off x="7521480" y="6006960"/>
              <a:ext cx="219240" cy="3168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93" y="19"/>
                  </a:moveTo>
                  <a:lnTo>
                    <a:pt x="137" y="19"/>
                  </a:lnTo>
                  <a:lnTo>
                    <a:pt x="135" y="18"/>
                  </a:lnTo>
                  <a:lnTo>
                    <a:pt x="133" y="17"/>
                  </a:lnTo>
                  <a:lnTo>
                    <a:pt x="131" y="15"/>
                  </a:lnTo>
                  <a:lnTo>
                    <a:pt x="128" y="14"/>
                  </a:lnTo>
                  <a:lnTo>
                    <a:pt x="126" y="13"/>
                  </a:lnTo>
                  <a:lnTo>
                    <a:pt x="125" y="12"/>
                  </a:lnTo>
                  <a:lnTo>
                    <a:pt x="122" y="12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2" y="7"/>
                  </a:lnTo>
                  <a:lnTo>
                    <a:pt x="109" y="7"/>
                  </a:lnTo>
                  <a:lnTo>
                    <a:pt x="107" y="6"/>
                  </a:lnTo>
                  <a:lnTo>
                    <a:pt x="105" y="5"/>
                  </a:lnTo>
                  <a:lnTo>
                    <a:pt x="103" y="5"/>
                  </a:lnTo>
                  <a:lnTo>
                    <a:pt x="101" y="4"/>
                  </a:lnTo>
                  <a:lnTo>
                    <a:pt x="99" y="3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1" y="16"/>
                  </a:lnTo>
                  <a:lnTo>
                    <a:pt x="33" y="15"/>
                  </a:lnTo>
                  <a:lnTo>
                    <a:pt x="40" y="15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4" y="18"/>
                  </a:lnTo>
                  <a:lnTo>
                    <a:pt x="86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93" y="19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481880" y="6045120"/>
              <a:ext cx="30456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4"/>
                  </a:move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1" y="12"/>
                  </a:lnTo>
                  <a:lnTo>
                    <a:pt x="83" y="12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5" y="12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2" y="13"/>
                  </a:lnTo>
                  <a:lnTo>
                    <a:pt x="105" y="13"/>
                  </a:lnTo>
                  <a:lnTo>
                    <a:pt x="106" y="13"/>
                  </a:lnTo>
                  <a:lnTo>
                    <a:pt x="108" y="13"/>
                  </a:lnTo>
                  <a:lnTo>
                    <a:pt x="110" y="14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7" y="15"/>
                  </a:lnTo>
                  <a:lnTo>
                    <a:pt x="119" y="15"/>
                  </a:lnTo>
                  <a:lnTo>
                    <a:pt x="121" y="15"/>
                  </a:lnTo>
                  <a:lnTo>
                    <a:pt x="122" y="15"/>
                  </a:lnTo>
                  <a:lnTo>
                    <a:pt x="124" y="16"/>
                  </a:lnTo>
                  <a:lnTo>
                    <a:pt x="125" y="16"/>
                  </a:lnTo>
                  <a:lnTo>
                    <a:pt x="126" y="16"/>
                  </a:lnTo>
                  <a:lnTo>
                    <a:pt x="128" y="16"/>
                  </a:lnTo>
                  <a:lnTo>
                    <a:pt x="129" y="16"/>
                  </a:lnTo>
                  <a:lnTo>
                    <a:pt x="130" y="16"/>
                  </a:lnTo>
                  <a:lnTo>
                    <a:pt x="131" y="16"/>
                  </a:lnTo>
                  <a:lnTo>
                    <a:pt x="132" y="16"/>
                  </a:lnTo>
                  <a:lnTo>
                    <a:pt x="133" y="16"/>
                  </a:lnTo>
                  <a:lnTo>
                    <a:pt x="134" y="16"/>
                  </a:lnTo>
                  <a:lnTo>
                    <a:pt x="135" y="16"/>
                  </a:lnTo>
                  <a:lnTo>
                    <a:pt x="136" y="17"/>
                  </a:lnTo>
                  <a:lnTo>
                    <a:pt x="137" y="17"/>
                  </a:lnTo>
                  <a:lnTo>
                    <a:pt x="138" y="17"/>
                  </a:lnTo>
                  <a:lnTo>
                    <a:pt x="191" y="17"/>
                  </a:lnTo>
                  <a:lnTo>
                    <a:pt x="188" y="14"/>
                  </a:lnTo>
                  <a:lnTo>
                    <a:pt x="187" y="13"/>
                  </a:lnTo>
                  <a:lnTo>
                    <a:pt x="185" y="12"/>
                  </a:lnTo>
                  <a:lnTo>
                    <a:pt x="185" y="11"/>
                  </a:lnTo>
                  <a:lnTo>
                    <a:pt x="184" y="10"/>
                  </a:lnTo>
                  <a:lnTo>
                    <a:pt x="183" y="10"/>
                  </a:lnTo>
                  <a:lnTo>
                    <a:pt x="182" y="9"/>
                  </a:lnTo>
                  <a:lnTo>
                    <a:pt x="181" y="8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79" y="6"/>
                  </a:lnTo>
                  <a:lnTo>
                    <a:pt x="178" y="5"/>
                  </a:lnTo>
                  <a:lnTo>
                    <a:pt x="177" y="5"/>
                  </a:lnTo>
                  <a:lnTo>
                    <a:pt x="177" y="4"/>
                  </a:lnTo>
                  <a:lnTo>
                    <a:pt x="176" y="4"/>
                  </a:lnTo>
                  <a:lnTo>
                    <a:pt x="175" y="3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3" y="1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1" y="1"/>
                  </a:lnTo>
                  <a:lnTo>
                    <a:pt x="120" y="1"/>
                  </a:lnTo>
                  <a:lnTo>
                    <a:pt x="118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7" y="3"/>
                  </a:lnTo>
                  <a:lnTo>
                    <a:pt x="95" y="4"/>
                  </a:lnTo>
                  <a:lnTo>
                    <a:pt x="94" y="4"/>
                  </a:lnTo>
                  <a:lnTo>
                    <a:pt x="92" y="4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453080" y="6080040"/>
              <a:ext cx="362160" cy="3024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0" y="14"/>
                  </a:move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97" y="6"/>
                  </a:lnTo>
                  <a:lnTo>
                    <a:pt x="98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2" y="6"/>
                  </a:lnTo>
                  <a:lnTo>
                    <a:pt x="114" y="5"/>
                  </a:lnTo>
                  <a:lnTo>
                    <a:pt x="115" y="5"/>
                  </a:lnTo>
                  <a:lnTo>
                    <a:pt x="118" y="5"/>
                  </a:lnTo>
                  <a:lnTo>
                    <a:pt x="119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5" y="4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2"/>
                  </a:lnTo>
                  <a:lnTo>
                    <a:pt x="149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6" y="3"/>
                  </a:lnTo>
                  <a:lnTo>
                    <a:pt x="217" y="4"/>
                  </a:lnTo>
                  <a:lnTo>
                    <a:pt x="218" y="5"/>
                  </a:lnTo>
                  <a:lnTo>
                    <a:pt x="219" y="6"/>
                  </a:lnTo>
                  <a:lnTo>
                    <a:pt x="219" y="7"/>
                  </a:lnTo>
                  <a:lnTo>
                    <a:pt x="220" y="7"/>
                  </a:lnTo>
                  <a:lnTo>
                    <a:pt x="220" y="8"/>
                  </a:lnTo>
                  <a:lnTo>
                    <a:pt x="221" y="9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11"/>
                  </a:lnTo>
                  <a:lnTo>
                    <a:pt x="222" y="12"/>
                  </a:lnTo>
                  <a:lnTo>
                    <a:pt x="223" y="12"/>
                  </a:lnTo>
                  <a:lnTo>
                    <a:pt x="223" y="13"/>
                  </a:lnTo>
                  <a:lnTo>
                    <a:pt x="224" y="13"/>
                  </a:lnTo>
                  <a:lnTo>
                    <a:pt x="224" y="14"/>
                  </a:lnTo>
                  <a:lnTo>
                    <a:pt x="225" y="15"/>
                  </a:lnTo>
                  <a:lnTo>
                    <a:pt x="225" y="16"/>
                  </a:lnTo>
                  <a:lnTo>
                    <a:pt x="226" y="16"/>
                  </a:lnTo>
                  <a:lnTo>
                    <a:pt x="226" y="17"/>
                  </a:lnTo>
                  <a:lnTo>
                    <a:pt x="227" y="18"/>
                  </a:lnTo>
                  <a:lnTo>
                    <a:pt x="189" y="18"/>
                  </a:lnTo>
                  <a:lnTo>
                    <a:pt x="187" y="18"/>
                  </a:lnTo>
                  <a:lnTo>
                    <a:pt x="185" y="18"/>
                  </a:lnTo>
                  <a:lnTo>
                    <a:pt x="182" y="18"/>
                  </a:lnTo>
                  <a:lnTo>
                    <a:pt x="180" y="17"/>
                  </a:lnTo>
                  <a:lnTo>
                    <a:pt x="177" y="17"/>
                  </a:lnTo>
                  <a:lnTo>
                    <a:pt x="175" y="17"/>
                  </a:lnTo>
                  <a:lnTo>
                    <a:pt x="173" y="17"/>
                  </a:lnTo>
                  <a:lnTo>
                    <a:pt x="171" y="17"/>
                  </a:lnTo>
                  <a:lnTo>
                    <a:pt x="168" y="17"/>
                  </a:lnTo>
                  <a:lnTo>
                    <a:pt x="166" y="17"/>
                  </a:lnTo>
                  <a:lnTo>
                    <a:pt x="164" y="17"/>
                  </a:lnTo>
                  <a:lnTo>
                    <a:pt x="162" y="17"/>
                  </a:lnTo>
                  <a:lnTo>
                    <a:pt x="160" y="17"/>
                  </a:lnTo>
                  <a:lnTo>
                    <a:pt x="158" y="17"/>
                  </a:lnTo>
                  <a:lnTo>
                    <a:pt x="156" y="16"/>
                  </a:lnTo>
                  <a:lnTo>
                    <a:pt x="154" y="16"/>
                  </a:lnTo>
                  <a:lnTo>
                    <a:pt x="152" y="16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46" y="16"/>
                  </a:lnTo>
                  <a:lnTo>
                    <a:pt x="144" y="16"/>
                  </a:lnTo>
                  <a:lnTo>
                    <a:pt x="143" y="15"/>
                  </a:lnTo>
                  <a:lnTo>
                    <a:pt x="141" y="15"/>
                  </a:lnTo>
                  <a:lnTo>
                    <a:pt x="139" y="15"/>
                  </a:lnTo>
                  <a:lnTo>
                    <a:pt x="137" y="15"/>
                  </a:lnTo>
                  <a:lnTo>
                    <a:pt x="136" y="15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30" y="14"/>
                  </a:lnTo>
                  <a:lnTo>
                    <a:pt x="128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3" y="14"/>
                  </a:lnTo>
                  <a:lnTo>
                    <a:pt x="120" y="13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12" y="13"/>
                  </a:lnTo>
                  <a:lnTo>
                    <a:pt x="110" y="13"/>
                  </a:lnTo>
                  <a:lnTo>
                    <a:pt x="108" y="13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97" y="12"/>
                  </a:lnTo>
                  <a:lnTo>
                    <a:pt x="95" y="12"/>
                  </a:lnTo>
                  <a:lnTo>
                    <a:pt x="93" y="12"/>
                  </a:lnTo>
                  <a:lnTo>
                    <a:pt x="91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32560" y="611640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197" y="0"/>
                  </a:moveTo>
                  <a:lnTo>
                    <a:pt x="243" y="0"/>
                  </a:lnTo>
                  <a:lnTo>
                    <a:pt x="244" y="1"/>
                  </a:lnTo>
                  <a:lnTo>
                    <a:pt x="244" y="2"/>
                  </a:lnTo>
                  <a:lnTo>
                    <a:pt x="245" y="3"/>
                  </a:lnTo>
                  <a:lnTo>
                    <a:pt x="245" y="4"/>
                  </a:lnTo>
                  <a:lnTo>
                    <a:pt x="245" y="5"/>
                  </a:lnTo>
                  <a:lnTo>
                    <a:pt x="246" y="5"/>
                  </a:lnTo>
                  <a:lnTo>
                    <a:pt x="246" y="6"/>
                  </a:lnTo>
                  <a:lnTo>
                    <a:pt x="247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11"/>
                  </a:lnTo>
                  <a:lnTo>
                    <a:pt x="249" y="11"/>
                  </a:lnTo>
                  <a:lnTo>
                    <a:pt x="249" y="12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0" y="15"/>
                  </a:lnTo>
                  <a:lnTo>
                    <a:pt x="251" y="16"/>
                  </a:lnTo>
                  <a:lnTo>
                    <a:pt x="251" y="17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7"/>
                  </a:lnTo>
                  <a:lnTo>
                    <a:pt x="190" y="17"/>
                  </a:lnTo>
                  <a:lnTo>
                    <a:pt x="187" y="16"/>
                  </a:lnTo>
                  <a:lnTo>
                    <a:pt x="184" y="16"/>
                  </a:lnTo>
                  <a:lnTo>
                    <a:pt x="182" y="16"/>
                  </a:lnTo>
                  <a:lnTo>
                    <a:pt x="179" y="16"/>
                  </a:lnTo>
                  <a:lnTo>
                    <a:pt x="177" y="16"/>
                  </a:lnTo>
                  <a:lnTo>
                    <a:pt x="174" y="16"/>
                  </a:lnTo>
                  <a:lnTo>
                    <a:pt x="172" y="15"/>
                  </a:lnTo>
                  <a:lnTo>
                    <a:pt x="169" y="15"/>
                  </a:lnTo>
                  <a:lnTo>
                    <a:pt x="167" y="15"/>
                  </a:lnTo>
                  <a:lnTo>
                    <a:pt x="165" y="15"/>
                  </a:lnTo>
                  <a:lnTo>
                    <a:pt x="163" y="15"/>
                  </a:lnTo>
                  <a:lnTo>
                    <a:pt x="161" y="15"/>
                  </a:lnTo>
                  <a:lnTo>
                    <a:pt x="159" y="15"/>
                  </a:lnTo>
                  <a:lnTo>
                    <a:pt x="156" y="15"/>
                  </a:lnTo>
                  <a:lnTo>
                    <a:pt x="155" y="14"/>
                  </a:lnTo>
                  <a:lnTo>
                    <a:pt x="153" y="14"/>
                  </a:lnTo>
                  <a:lnTo>
                    <a:pt x="151" y="14"/>
                  </a:lnTo>
                  <a:lnTo>
                    <a:pt x="149" y="14"/>
                  </a:lnTo>
                  <a:lnTo>
                    <a:pt x="147" y="13"/>
                  </a:lnTo>
                  <a:lnTo>
                    <a:pt x="146" y="13"/>
                  </a:lnTo>
                  <a:lnTo>
                    <a:pt x="144" y="13"/>
                  </a:lnTo>
                  <a:lnTo>
                    <a:pt x="143" y="13"/>
                  </a:lnTo>
                  <a:lnTo>
                    <a:pt x="141" y="13"/>
                  </a:lnTo>
                  <a:lnTo>
                    <a:pt x="140" y="12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3" y="12"/>
                  </a:lnTo>
                  <a:lnTo>
                    <a:pt x="132" y="12"/>
                  </a:lnTo>
                  <a:lnTo>
                    <a:pt x="131" y="12"/>
                  </a:lnTo>
                  <a:lnTo>
                    <a:pt x="130" y="11"/>
                  </a:lnTo>
                  <a:lnTo>
                    <a:pt x="128" y="11"/>
                  </a:lnTo>
                  <a:lnTo>
                    <a:pt x="127" y="11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39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121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5" y="6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5"/>
                  </a:lnTo>
                  <a:lnTo>
                    <a:pt x="136" y="5"/>
                  </a:lnTo>
                  <a:lnTo>
                    <a:pt x="138" y="5"/>
                  </a:lnTo>
                  <a:lnTo>
                    <a:pt x="139" y="5"/>
                  </a:lnTo>
                  <a:lnTo>
                    <a:pt x="141" y="4"/>
                  </a:lnTo>
                  <a:lnTo>
                    <a:pt x="143" y="4"/>
                  </a:lnTo>
                  <a:lnTo>
                    <a:pt x="145" y="4"/>
                  </a:lnTo>
                  <a:lnTo>
                    <a:pt x="147" y="4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53" y="3"/>
                  </a:lnTo>
                  <a:lnTo>
                    <a:pt x="154" y="3"/>
                  </a:lnTo>
                  <a:lnTo>
                    <a:pt x="156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5" y="2"/>
                  </a:lnTo>
                  <a:lnTo>
                    <a:pt x="168" y="2"/>
                  </a:lnTo>
                  <a:lnTo>
                    <a:pt x="170" y="2"/>
                  </a:lnTo>
                  <a:lnTo>
                    <a:pt x="171" y="2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79" y="1"/>
                  </a:lnTo>
                  <a:lnTo>
                    <a:pt x="181" y="1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7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23200" y="6153120"/>
              <a:ext cx="419040" cy="28440"/>
            </a:xfrm>
            <a:custGeom>
              <a:avLst/>
              <a:gdLst/>
              <a:ahLst/>
              <a:rect l="l" t="t" r="r" b="b"/>
              <a:pathLst>
                <a:path w="264" h="18">
                  <a:moveTo>
                    <a:pt x="0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130" y="6"/>
                  </a:lnTo>
                  <a:lnTo>
                    <a:pt x="131" y="6"/>
                  </a:lnTo>
                  <a:lnTo>
                    <a:pt x="134" y="6"/>
                  </a:lnTo>
                  <a:lnTo>
                    <a:pt x="136" y="5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0" y="5"/>
                  </a:lnTo>
                  <a:lnTo>
                    <a:pt x="142" y="5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47" y="5"/>
                  </a:lnTo>
                  <a:lnTo>
                    <a:pt x="149" y="5"/>
                  </a:lnTo>
                  <a:lnTo>
                    <a:pt x="151" y="4"/>
                  </a:lnTo>
                  <a:lnTo>
                    <a:pt x="152" y="4"/>
                  </a:lnTo>
                  <a:lnTo>
                    <a:pt x="155" y="4"/>
                  </a:lnTo>
                  <a:lnTo>
                    <a:pt x="156" y="4"/>
                  </a:lnTo>
                  <a:lnTo>
                    <a:pt x="158" y="4"/>
                  </a:lnTo>
                  <a:lnTo>
                    <a:pt x="161" y="3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70" y="3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7" y="2"/>
                  </a:lnTo>
                  <a:lnTo>
                    <a:pt x="179" y="2"/>
                  </a:lnTo>
                  <a:lnTo>
                    <a:pt x="181" y="2"/>
                  </a:lnTo>
                  <a:lnTo>
                    <a:pt x="182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2" y="1"/>
                  </a:lnTo>
                  <a:lnTo>
                    <a:pt x="194" y="1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1"/>
                  </a:lnTo>
                  <a:lnTo>
                    <a:pt x="259" y="2"/>
                  </a:lnTo>
                  <a:lnTo>
                    <a:pt x="260" y="3"/>
                  </a:lnTo>
                  <a:lnTo>
                    <a:pt x="260" y="4"/>
                  </a:lnTo>
                  <a:lnTo>
                    <a:pt x="260" y="5"/>
                  </a:lnTo>
                  <a:lnTo>
                    <a:pt x="260" y="6"/>
                  </a:lnTo>
                  <a:lnTo>
                    <a:pt x="260" y="7"/>
                  </a:lnTo>
                  <a:lnTo>
                    <a:pt x="261" y="7"/>
                  </a:lnTo>
                  <a:lnTo>
                    <a:pt x="261" y="8"/>
                  </a:lnTo>
                  <a:lnTo>
                    <a:pt x="261" y="9"/>
                  </a:lnTo>
                  <a:lnTo>
                    <a:pt x="261" y="10"/>
                  </a:lnTo>
                  <a:lnTo>
                    <a:pt x="262" y="11"/>
                  </a:lnTo>
                  <a:lnTo>
                    <a:pt x="262" y="12"/>
                  </a:lnTo>
                  <a:lnTo>
                    <a:pt x="262" y="13"/>
                  </a:lnTo>
                  <a:lnTo>
                    <a:pt x="263" y="14"/>
                  </a:lnTo>
                  <a:lnTo>
                    <a:pt x="263" y="15"/>
                  </a:lnTo>
                  <a:lnTo>
                    <a:pt x="263" y="16"/>
                  </a:lnTo>
                  <a:lnTo>
                    <a:pt x="263" y="17"/>
                  </a:lnTo>
                  <a:lnTo>
                    <a:pt x="210" y="17"/>
                  </a:lnTo>
                  <a:lnTo>
                    <a:pt x="208" y="17"/>
                  </a:lnTo>
                  <a:lnTo>
                    <a:pt x="206" y="17"/>
                  </a:lnTo>
                  <a:lnTo>
                    <a:pt x="205" y="17"/>
                  </a:lnTo>
                  <a:lnTo>
                    <a:pt x="203" y="17"/>
                  </a:lnTo>
                  <a:lnTo>
                    <a:pt x="201" y="17"/>
                  </a:lnTo>
                  <a:lnTo>
                    <a:pt x="200" y="17"/>
                  </a:lnTo>
                  <a:lnTo>
                    <a:pt x="198" y="17"/>
                  </a:lnTo>
                  <a:lnTo>
                    <a:pt x="196" y="17"/>
                  </a:lnTo>
                  <a:lnTo>
                    <a:pt x="194" y="16"/>
                  </a:lnTo>
                  <a:lnTo>
                    <a:pt x="192" y="16"/>
                  </a:lnTo>
                  <a:lnTo>
                    <a:pt x="190" y="16"/>
                  </a:lnTo>
                  <a:lnTo>
                    <a:pt x="188" y="16"/>
                  </a:lnTo>
                  <a:lnTo>
                    <a:pt x="186" y="16"/>
                  </a:lnTo>
                  <a:lnTo>
                    <a:pt x="184" y="16"/>
                  </a:lnTo>
                  <a:lnTo>
                    <a:pt x="181" y="16"/>
                  </a:lnTo>
                  <a:lnTo>
                    <a:pt x="179" y="15"/>
                  </a:lnTo>
                  <a:lnTo>
                    <a:pt x="177" y="15"/>
                  </a:lnTo>
                  <a:lnTo>
                    <a:pt x="175" y="15"/>
                  </a:lnTo>
                  <a:lnTo>
                    <a:pt x="172" y="15"/>
                  </a:lnTo>
                  <a:lnTo>
                    <a:pt x="169" y="14"/>
                  </a:lnTo>
                  <a:lnTo>
                    <a:pt x="167" y="14"/>
                  </a:lnTo>
                  <a:lnTo>
                    <a:pt x="164" y="14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4"/>
                  </a:lnTo>
                  <a:lnTo>
                    <a:pt x="153" y="13"/>
                  </a:lnTo>
                  <a:lnTo>
                    <a:pt x="151" y="13"/>
                  </a:lnTo>
                  <a:lnTo>
                    <a:pt x="148" y="13"/>
                  </a:lnTo>
                  <a:lnTo>
                    <a:pt x="145" y="13"/>
                  </a:lnTo>
                  <a:lnTo>
                    <a:pt x="143" y="12"/>
                  </a:lnTo>
                  <a:lnTo>
                    <a:pt x="141" y="12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3" y="12"/>
                  </a:lnTo>
                  <a:lnTo>
                    <a:pt x="131" y="12"/>
                  </a:lnTo>
                  <a:lnTo>
                    <a:pt x="130" y="12"/>
                  </a:lnTo>
                  <a:lnTo>
                    <a:pt x="128" y="11"/>
                  </a:lnTo>
                  <a:lnTo>
                    <a:pt x="127" y="11"/>
                  </a:lnTo>
                  <a:lnTo>
                    <a:pt x="126" y="11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416720" y="6188040"/>
              <a:ext cx="428760" cy="29880"/>
            </a:xfrm>
            <a:custGeom>
              <a:avLst/>
              <a:gdLst/>
              <a:ahLst/>
              <a:rect l="l" t="t" r="r" b="b"/>
              <a:pathLst>
                <a:path w="270" h="19">
                  <a:moveTo>
                    <a:pt x="0" y="15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6"/>
                  </a:lnTo>
                  <a:lnTo>
                    <a:pt x="126" y="6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2" y="5"/>
                  </a:lnTo>
                  <a:lnTo>
                    <a:pt x="144" y="5"/>
                  </a:lnTo>
                  <a:lnTo>
                    <a:pt x="146" y="5"/>
                  </a:lnTo>
                  <a:lnTo>
                    <a:pt x="149" y="5"/>
                  </a:lnTo>
                  <a:lnTo>
                    <a:pt x="151" y="5"/>
                  </a:lnTo>
                  <a:lnTo>
                    <a:pt x="154" y="5"/>
                  </a:lnTo>
                  <a:lnTo>
                    <a:pt x="156" y="4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3"/>
                  </a:lnTo>
                  <a:lnTo>
                    <a:pt x="167" y="3"/>
                  </a:lnTo>
                  <a:lnTo>
                    <a:pt x="170" y="3"/>
                  </a:lnTo>
                  <a:lnTo>
                    <a:pt x="173" y="3"/>
                  </a:lnTo>
                  <a:lnTo>
                    <a:pt x="176" y="3"/>
                  </a:lnTo>
                  <a:lnTo>
                    <a:pt x="178" y="3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86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68" y="0"/>
                  </a:lnTo>
                  <a:lnTo>
                    <a:pt x="268" y="1"/>
                  </a:lnTo>
                  <a:lnTo>
                    <a:pt x="268" y="2"/>
                  </a:lnTo>
                  <a:lnTo>
                    <a:pt x="268" y="3"/>
                  </a:lnTo>
                  <a:lnTo>
                    <a:pt x="268" y="4"/>
                  </a:lnTo>
                  <a:lnTo>
                    <a:pt x="268" y="6"/>
                  </a:lnTo>
                  <a:lnTo>
                    <a:pt x="269" y="6"/>
                  </a:lnTo>
                  <a:lnTo>
                    <a:pt x="269" y="7"/>
                  </a:lnTo>
                  <a:lnTo>
                    <a:pt x="269" y="8"/>
                  </a:lnTo>
                  <a:lnTo>
                    <a:pt x="269" y="9"/>
                  </a:lnTo>
                  <a:lnTo>
                    <a:pt x="269" y="10"/>
                  </a:lnTo>
                  <a:lnTo>
                    <a:pt x="269" y="11"/>
                  </a:lnTo>
                  <a:lnTo>
                    <a:pt x="269" y="12"/>
                  </a:lnTo>
                  <a:lnTo>
                    <a:pt x="269" y="14"/>
                  </a:lnTo>
                  <a:lnTo>
                    <a:pt x="269" y="15"/>
                  </a:lnTo>
                  <a:lnTo>
                    <a:pt x="269" y="16"/>
                  </a:lnTo>
                  <a:lnTo>
                    <a:pt x="269" y="17"/>
                  </a:lnTo>
                  <a:lnTo>
                    <a:pt x="269" y="18"/>
                  </a:lnTo>
                  <a:lnTo>
                    <a:pt x="217" y="18"/>
                  </a:lnTo>
                  <a:lnTo>
                    <a:pt x="215" y="18"/>
                  </a:lnTo>
                  <a:lnTo>
                    <a:pt x="213" y="18"/>
                  </a:lnTo>
                  <a:lnTo>
                    <a:pt x="211" y="18"/>
                  </a:lnTo>
                  <a:lnTo>
                    <a:pt x="209" y="18"/>
                  </a:lnTo>
                  <a:lnTo>
                    <a:pt x="207" y="18"/>
                  </a:lnTo>
                  <a:lnTo>
                    <a:pt x="205" y="17"/>
                  </a:lnTo>
                  <a:lnTo>
                    <a:pt x="203" y="17"/>
                  </a:lnTo>
                  <a:lnTo>
                    <a:pt x="201" y="17"/>
                  </a:lnTo>
                  <a:lnTo>
                    <a:pt x="199" y="17"/>
                  </a:lnTo>
                  <a:lnTo>
                    <a:pt x="197" y="17"/>
                  </a:lnTo>
                  <a:lnTo>
                    <a:pt x="195" y="17"/>
                  </a:lnTo>
                  <a:lnTo>
                    <a:pt x="193" y="17"/>
                  </a:lnTo>
                  <a:lnTo>
                    <a:pt x="191" y="17"/>
                  </a:lnTo>
                  <a:lnTo>
                    <a:pt x="189" y="16"/>
                  </a:lnTo>
                  <a:lnTo>
                    <a:pt x="187" y="16"/>
                  </a:lnTo>
                  <a:lnTo>
                    <a:pt x="184" y="16"/>
                  </a:lnTo>
                  <a:lnTo>
                    <a:pt x="182" y="16"/>
                  </a:lnTo>
                  <a:lnTo>
                    <a:pt x="180" y="16"/>
                  </a:lnTo>
                  <a:lnTo>
                    <a:pt x="178" y="15"/>
                  </a:lnTo>
                  <a:lnTo>
                    <a:pt x="175" y="15"/>
                  </a:lnTo>
                  <a:lnTo>
                    <a:pt x="173" y="15"/>
                  </a:lnTo>
                  <a:lnTo>
                    <a:pt x="171" y="15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4"/>
                  </a:lnTo>
                  <a:lnTo>
                    <a:pt x="154" y="14"/>
                  </a:lnTo>
                  <a:lnTo>
                    <a:pt x="152" y="13"/>
                  </a:lnTo>
                  <a:lnTo>
                    <a:pt x="150" y="13"/>
                  </a:lnTo>
                  <a:lnTo>
                    <a:pt x="148" y="13"/>
                  </a:lnTo>
                  <a:lnTo>
                    <a:pt x="146" y="13"/>
                  </a:lnTo>
                  <a:lnTo>
                    <a:pt x="144" y="13"/>
                  </a:lnTo>
                  <a:lnTo>
                    <a:pt x="142" y="13"/>
                  </a:lnTo>
                  <a:lnTo>
                    <a:pt x="139" y="13"/>
                  </a:lnTo>
                  <a:lnTo>
                    <a:pt x="138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2" y="12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2"/>
                  </a:lnTo>
                  <a:lnTo>
                    <a:pt x="124" y="12"/>
                  </a:lnTo>
                  <a:lnTo>
                    <a:pt x="122" y="12"/>
                  </a:lnTo>
                  <a:lnTo>
                    <a:pt x="121" y="12"/>
                  </a:lnTo>
                  <a:lnTo>
                    <a:pt x="119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6720" y="6224400"/>
              <a:ext cx="428760" cy="28800"/>
            </a:xfrm>
            <a:custGeom>
              <a:avLst/>
              <a:gdLst/>
              <a:ahLst/>
              <a:rect l="l" t="t" r="r" b="b"/>
              <a:pathLst>
                <a:path w="270" h="18">
                  <a:moveTo>
                    <a:pt x="211" y="17"/>
                  </a:moveTo>
                  <a:lnTo>
                    <a:pt x="205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8" y="17"/>
                  </a:lnTo>
                  <a:lnTo>
                    <a:pt x="196" y="17"/>
                  </a:lnTo>
                  <a:lnTo>
                    <a:pt x="194" y="17"/>
                  </a:lnTo>
                  <a:lnTo>
                    <a:pt x="192" y="17"/>
                  </a:lnTo>
                  <a:lnTo>
                    <a:pt x="190" y="16"/>
                  </a:lnTo>
                  <a:lnTo>
                    <a:pt x="188" y="16"/>
                  </a:lnTo>
                  <a:lnTo>
                    <a:pt x="186" y="16"/>
                  </a:lnTo>
                  <a:lnTo>
                    <a:pt x="183" y="16"/>
                  </a:lnTo>
                  <a:lnTo>
                    <a:pt x="180" y="16"/>
                  </a:lnTo>
                  <a:lnTo>
                    <a:pt x="177" y="15"/>
                  </a:lnTo>
                  <a:lnTo>
                    <a:pt x="174" y="15"/>
                  </a:lnTo>
                  <a:lnTo>
                    <a:pt x="171" y="15"/>
                  </a:lnTo>
                  <a:lnTo>
                    <a:pt x="167" y="14"/>
                  </a:lnTo>
                  <a:lnTo>
                    <a:pt x="163" y="14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49" y="13"/>
                  </a:lnTo>
                  <a:lnTo>
                    <a:pt x="146" y="13"/>
                  </a:lnTo>
                  <a:lnTo>
                    <a:pt x="143" y="13"/>
                  </a:lnTo>
                  <a:lnTo>
                    <a:pt x="140" y="12"/>
                  </a:lnTo>
                  <a:lnTo>
                    <a:pt x="137" y="12"/>
                  </a:lnTo>
                  <a:lnTo>
                    <a:pt x="134" y="12"/>
                  </a:lnTo>
                  <a:lnTo>
                    <a:pt x="132" y="12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2" y="11"/>
                  </a:lnTo>
                  <a:lnTo>
                    <a:pt x="121" y="11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6"/>
                  </a:lnTo>
                  <a:lnTo>
                    <a:pt x="114" y="6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20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39" y="4"/>
                  </a:lnTo>
                  <a:lnTo>
                    <a:pt x="141" y="4"/>
                  </a:lnTo>
                  <a:lnTo>
                    <a:pt x="143" y="4"/>
                  </a:lnTo>
                  <a:lnTo>
                    <a:pt x="145" y="4"/>
                  </a:lnTo>
                  <a:lnTo>
                    <a:pt x="148" y="4"/>
                  </a:lnTo>
                  <a:lnTo>
                    <a:pt x="150" y="4"/>
                  </a:lnTo>
                  <a:lnTo>
                    <a:pt x="152" y="3"/>
                  </a:lnTo>
                  <a:lnTo>
                    <a:pt x="154" y="3"/>
                  </a:lnTo>
                  <a:lnTo>
                    <a:pt x="156" y="3"/>
                  </a:lnTo>
                  <a:lnTo>
                    <a:pt x="159" y="3"/>
                  </a:lnTo>
                  <a:lnTo>
                    <a:pt x="161" y="3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69" y="2"/>
                  </a:lnTo>
                  <a:lnTo>
                    <a:pt x="171" y="2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7" y="2"/>
                  </a:lnTo>
                  <a:lnTo>
                    <a:pt x="180" y="1"/>
                  </a:lnTo>
                  <a:lnTo>
                    <a:pt x="182" y="1"/>
                  </a:lnTo>
                  <a:lnTo>
                    <a:pt x="184" y="1"/>
                  </a:lnTo>
                  <a:lnTo>
                    <a:pt x="186" y="1"/>
                  </a:lnTo>
                  <a:lnTo>
                    <a:pt x="188" y="1"/>
                  </a:lnTo>
                  <a:lnTo>
                    <a:pt x="190" y="1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69" y="0"/>
                  </a:lnTo>
                  <a:lnTo>
                    <a:pt x="269" y="1"/>
                  </a:lnTo>
                  <a:lnTo>
                    <a:pt x="269" y="2"/>
                  </a:lnTo>
                  <a:lnTo>
                    <a:pt x="269" y="4"/>
                  </a:lnTo>
                  <a:lnTo>
                    <a:pt x="269" y="5"/>
                  </a:lnTo>
                  <a:lnTo>
                    <a:pt x="269" y="6"/>
                  </a:lnTo>
                  <a:lnTo>
                    <a:pt x="269" y="7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69" y="11"/>
                  </a:lnTo>
                  <a:lnTo>
                    <a:pt x="269" y="12"/>
                  </a:lnTo>
                  <a:lnTo>
                    <a:pt x="268" y="13"/>
                  </a:lnTo>
                  <a:lnTo>
                    <a:pt x="268" y="14"/>
                  </a:lnTo>
                  <a:lnTo>
                    <a:pt x="268" y="15"/>
                  </a:lnTo>
                  <a:lnTo>
                    <a:pt x="268" y="16"/>
                  </a:lnTo>
                  <a:lnTo>
                    <a:pt x="268" y="17"/>
                  </a:lnTo>
                  <a:lnTo>
                    <a:pt x="211" y="17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419960" y="6259320"/>
              <a:ext cx="422280" cy="30240"/>
            </a:xfrm>
            <a:custGeom>
              <a:avLst/>
              <a:gdLst/>
              <a:ahLst/>
              <a:rect l="l" t="t" r="r" b="b"/>
              <a:pathLst>
                <a:path w="266" h="19">
                  <a:moveTo>
                    <a:pt x="260" y="18"/>
                  </a:moveTo>
                  <a:lnTo>
                    <a:pt x="261" y="17"/>
                  </a:lnTo>
                  <a:lnTo>
                    <a:pt x="261" y="16"/>
                  </a:lnTo>
                  <a:lnTo>
                    <a:pt x="261" y="15"/>
                  </a:lnTo>
                  <a:lnTo>
                    <a:pt x="262" y="15"/>
                  </a:lnTo>
                  <a:lnTo>
                    <a:pt x="262" y="14"/>
                  </a:lnTo>
                  <a:lnTo>
                    <a:pt x="262" y="13"/>
                  </a:lnTo>
                  <a:lnTo>
                    <a:pt x="262" y="12"/>
                  </a:lnTo>
                  <a:lnTo>
                    <a:pt x="262" y="11"/>
                  </a:lnTo>
                  <a:lnTo>
                    <a:pt x="263" y="11"/>
                  </a:lnTo>
                  <a:lnTo>
                    <a:pt x="263" y="10"/>
                  </a:lnTo>
                  <a:lnTo>
                    <a:pt x="263" y="9"/>
                  </a:lnTo>
                  <a:lnTo>
                    <a:pt x="263" y="8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4" y="6"/>
                  </a:lnTo>
                  <a:lnTo>
                    <a:pt x="264" y="5"/>
                  </a:lnTo>
                  <a:lnTo>
                    <a:pt x="264" y="4"/>
                  </a:lnTo>
                  <a:lnTo>
                    <a:pt x="265" y="4"/>
                  </a:lnTo>
                  <a:lnTo>
                    <a:pt x="265" y="3"/>
                  </a:lnTo>
                  <a:lnTo>
                    <a:pt x="265" y="2"/>
                  </a:lnTo>
                  <a:lnTo>
                    <a:pt x="265" y="1"/>
                  </a:lnTo>
                  <a:lnTo>
                    <a:pt x="265" y="0"/>
                  </a:lnTo>
                  <a:lnTo>
                    <a:pt x="191" y="0"/>
                  </a:lnTo>
                  <a:lnTo>
                    <a:pt x="189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7" y="1"/>
                  </a:lnTo>
                  <a:lnTo>
                    <a:pt x="165" y="1"/>
                  </a:lnTo>
                  <a:lnTo>
                    <a:pt x="163" y="1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7" y="2"/>
                  </a:lnTo>
                  <a:lnTo>
                    <a:pt x="155" y="2"/>
                  </a:lnTo>
                  <a:lnTo>
                    <a:pt x="153" y="2"/>
                  </a:lnTo>
                  <a:lnTo>
                    <a:pt x="151" y="3"/>
                  </a:lnTo>
                  <a:lnTo>
                    <a:pt x="148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40" y="3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2" y="4"/>
                  </a:lnTo>
                  <a:lnTo>
                    <a:pt x="130" y="4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20" y="5"/>
                  </a:lnTo>
                  <a:lnTo>
                    <a:pt x="118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1" y="5"/>
                  </a:lnTo>
                  <a:lnTo>
                    <a:pt x="110" y="5"/>
                  </a:lnTo>
                  <a:lnTo>
                    <a:pt x="108" y="5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2" y="6"/>
                  </a:lnTo>
                  <a:lnTo>
                    <a:pt x="99" y="6"/>
                  </a:lnTo>
                  <a:lnTo>
                    <a:pt x="97" y="6"/>
                  </a:lnTo>
                  <a:lnTo>
                    <a:pt x="95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7" y="12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4" y="13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4" y="14"/>
                  </a:lnTo>
                  <a:lnTo>
                    <a:pt x="127" y="14"/>
                  </a:lnTo>
                  <a:lnTo>
                    <a:pt x="130" y="15"/>
                  </a:lnTo>
                  <a:lnTo>
                    <a:pt x="134" y="15"/>
                  </a:lnTo>
                  <a:lnTo>
                    <a:pt x="137" y="15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4" y="16"/>
                  </a:lnTo>
                  <a:lnTo>
                    <a:pt x="157" y="16"/>
                  </a:lnTo>
                  <a:lnTo>
                    <a:pt x="161" y="16"/>
                  </a:lnTo>
                  <a:lnTo>
                    <a:pt x="164" y="16"/>
                  </a:lnTo>
                  <a:lnTo>
                    <a:pt x="168" y="17"/>
                  </a:lnTo>
                  <a:lnTo>
                    <a:pt x="171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2" y="17"/>
                  </a:lnTo>
                  <a:lnTo>
                    <a:pt x="185" y="18"/>
                  </a:lnTo>
                  <a:lnTo>
                    <a:pt x="189" y="18"/>
                  </a:lnTo>
                  <a:lnTo>
                    <a:pt x="192" y="18"/>
                  </a:lnTo>
                  <a:lnTo>
                    <a:pt x="260" y="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31120" y="6294240"/>
              <a:ext cx="401400" cy="3024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168" y="1"/>
                  </a:moveTo>
                  <a:lnTo>
                    <a:pt x="252" y="1"/>
                  </a:lnTo>
                  <a:lnTo>
                    <a:pt x="252" y="2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50" y="5"/>
                  </a:lnTo>
                  <a:lnTo>
                    <a:pt x="250" y="6"/>
                  </a:lnTo>
                  <a:lnTo>
                    <a:pt x="249" y="7"/>
                  </a:lnTo>
                  <a:lnTo>
                    <a:pt x="249" y="8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11"/>
                  </a:lnTo>
                  <a:lnTo>
                    <a:pt x="247" y="11"/>
                  </a:lnTo>
                  <a:lnTo>
                    <a:pt x="247" y="12"/>
                  </a:lnTo>
                  <a:lnTo>
                    <a:pt x="247" y="13"/>
                  </a:lnTo>
                  <a:lnTo>
                    <a:pt x="246" y="13"/>
                  </a:lnTo>
                  <a:lnTo>
                    <a:pt x="246" y="14"/>
                  </a:lnTo>
                  <a:lnTo>
                    <a:pt x="246" y="15"/>
                  </a:lnTo>
                  <a:lnTo>
                    <a:pt x="245" y="15"/>
                  </a:lnTo>
                  <a:lnTo>
                    <a:pt x="245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154" y="18"/>
                  </a:lnTo>
                  <a:lnTo>
                    <a:pt x="149" y="18"/>
                  </a:lnTo>
                  <a:lnTo>
                    <a:pt x="145" y="17"/>
                  </a:lnTo>
                  <a:lnTo>
                    <a:pt x="140" y="17"/>
                  </a:lnTo>
                  <a:lnTo>
                    <a:pt x="136" y="17"/>
                  </a:lnTo>
                  <a:lnTo>
                    <a:pt x="131" y="17"/>
                  </a:lnTo>
                  <a:lnTo>
                    <a:pt x="126" y="16"/>
                  </a:lnTo>
                  <a:lnTo>
                    <a:pt x="122" y="16"/>
                  </a:lnTo>
                  <a:lnTo>
                    <a:pt x="117" y="16"/>
                  </a:lnTo>
                  <a:lnTo>
                    <a:pt x="112" y="16"/>
                  </a:lnTo>
                  <a:lnTo>
                    <a:pt x="108" y="16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8" y="16"/>
                  </a:lnTo>
                  <a:lnTo>
                    <a:pt x="53" y="16"/>
                  </a:lnTo>
                  <a:lnTo>
                    <a:pt x="49" y="16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7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9" y="3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5" y="2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49" y="2"/>
                  </a:lnTo>
                  <a:lnTo>
                    <a:pt x="155" y="1"/>
                  </a:lnTo>
                  <a:lnTo>
                    <a:pt x="161" y="1"/>
                  </a:lnTo>
                  <a:lnTo>
                    <a:pt x="168" y="1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48400" y="6332400"/>
              <a:ext cx="366840" cy="28440"/>
            </a:xfrm>
            <a:custGeom>
              <a:avLst/>
              <a:gdLst/>
              <a:ahLst/>
              <a:rect l="l" t="t" r="r" b="b"/>
              <a:pathLst>
                <a:path w="231" h="18">
                  <a:moveTo>
                    <a:pt x="113" y="0"/>
                  </a:moveTo>
                  <a:lnTo>
                    <a:pt x="230" y="0"/>
                  </a:lnTo>
                  <a:lnTo>
                    <a:pt x="229" y="0"/>
                  </a:lnTo>
                  <a:lnTo>
                    <a:pt x="229" y="1"/>
                  </a:lnTo>
                  <a:lnTo>
                    <a:pt x="229" y="2"/>
                  </a:lnTo>
                  <a:lnTo>
                    <a:pt x="228" y="2"/>
                  </a:lnTo>
                  <a:lnTo>
                    <a:pt x="228" y="3"/>
                  </a:lnTo>
                  <a:lnTo>
                    <a:pt x="227" y="4"/>
                  </a:lnTo>
                  <a:lnTo>
                    <a:pt x="227" y="5"/>
                  </a:lnTo>
                  <a:lnTo>
                    <a:pt x="226" y="5"/>
                  </a:lnTo>
                  <a:lnTo>
                    <a:pt x="225" y="6"/>
                  </a:lnTo>
                  <a:lnTo>
                    <a:pt x="225" y="7"/>
                  </a:lnTo>
                  <a:lnTo>
                    <a:pt x="225" y="8"/>
                  </a:lnTo>
                  <a:lnTo>
                    <a:pt x="224" y="8"/>
                  </a:lnTo>
                  <a:lnTo>
                    <a:pt x="224" y="9"/>
                  </a:lnTo>
                  <a:lnTo>
                    <a:pt x="223" y="9"/>
                  </a:lnTo>
                  <a:lnTo>
                    <a:pt x="223" y="10"/>
                  </a:lnTo>
                  <a:lnTo>
                    <a:pt x="222" y="11"/>
                  </a:lnTo>
                  <a:lnTo>
                    <a:pt x="221" y="12"/>
                  </a:lnTo>
                  <a:lnTo>
                    <a:pt x="221" y="13"/>
                  </a:lnTo>
                  <a:lnTo>
                    <a:pt x="220" y="13"/>
                  </a:lnTo>
                  <a:lnTo>
                    <a:pt x="220" y="14"/>
                  </a:lnTo>
                  <a:lnTo>
                    <a:pt x="219" y="15"/>
                  </a:lnTo>
                  <a:lnTo>
                    <a:pt x="218" y="16"/>
                  </a:lnTo>
                  <a:lnTo>
                    <a:pt x="217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477200" y="6367320"/>
              <a:ext cx="30924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20" y="17"/>
                  </a:moveTo>
                  <a:lnTo>
                    <a:pt x="19" y="16"/>
                  </a:lnTo>
                  <a:lnTo>
                    <a:pt x="18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3" y="1"/>
                  </a:lnTo>
                  <a:lnTo>
                    <a:pt x="192" y="2"/>
                  </a:lnTo>
                  <a:lnTo>
                    <a:pt x="191" y="3"/>
                  </a:lnTo>
                  <a:lnTo>
                    <a:pt x="189" y="5"/>
                  </a:lnTo>
                  <a:lnTo>
                    <a:pt x="188" y="5"/>
                  </a:lnTo>
                  <a:lnTo>
                    <a:pt x="188" y="6"/>
                  </a:lnTo>
                  <a:lnTo>
                    <a:pt x="187" y="6"/>
                  </a:lnTo>
                  <a:lnTo>
                    <a:pt x="186" y="7"/>
                  </a:lnTo>
                  <a:lnTo>
                    <a:pt x="185" y="8"/>
                  </a:lnTo>
                  <a:lnTo>
                    <a:pt x="184" y="9"/>
                  </a:lnTo>
                  <a:lnTo>
                    <a:pt x="183" y="10"/>
                  </a:lnTo>
                  <a:lnTo>
                    <a:pt x="182" y="11"/>
                  </a:lnTo>
                  <a:lnTo>
                    <a:pt x="181" y="11"/>
                  </a:lnTo>
                  <a:lnTo>
                    <a:pt x="180" y="12"/>
                  </a:lnTo>
                  <a:lnTo>
                    <a:pt x="179" y="13"/>
                  </a:lnTo>
                  <a:lnTo>
                    <a:pt x="178" y="14"/>
                  </a:lnTo>
                  <a:lnTo>
                    <a:pt x="177" y="14"/>
                  </a:lnTo>
                  <a:lnTo>
                    <a:pt x="177" y="15"/>
                  </a:lnTo>
                  <a:lnTo>
                    <a:pt x="176" y="15"/>
                  </a:lnTo>
                  <a:lnTo>
                    <a:pt x="175" y="16"/>
                  </a:lnTo>
                  <a:lnTo>
                    <a:pt x="174" y="16"/>
                  </a:lnTo>
                  <a:lnTo>
                    <a:pt x="174" y="17"/>
                  </a:lnTo>
                  <a:lnTo>
                    <a:pt x="20" y="17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22920" y="6403680"/>
              <a:ext cx="217800" cy="3024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136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3" y="18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73" y="18"/>
                  </a:lnTo>
                  <a:lnTo>
                    <a:pt x="74" y="18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3" y="18"/>
                  </a:lnTo>
                  <a:lnTo>
                    <a:pt x="85" y="17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1" y="16"/>
                  </a:lnTo>
                  <a:lnTo>
                    <a:pt x="94" y="16"/>
                  </a:lnTo>
                  <a:lnTo>
                    <a:pt x="96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4" y="13"/>
                  </a:lnTo>
                  <a:lnTo>
                    <a:pt x="106" y="13"/>
                  </a:lnTo>
                  <a:lnTo>
                    <a:pt x="108" y="12"/>
                  </a:lnTo>
                  <a:lnTo>
                    <a:pt x="111" y="12"/>
                  </a:lnTo>
                  <a:lnTo>
                    <a:pt x="113" y="11"/>
                  </a:lnTo>
                  <a:lnTo>
                    <a:pt x="115" y="10"/>
                  </a:lnTo>
                  <a:lnTo>
                    <a:pt x="117" y="9"/>
                  </a:lnTo>
                  <a:lnTo>
                    <a:pt x="119" y="8"/>
                  </a:lnTo>
                  <a:lnTo>
                    <a:pt x="121" y="8"/>
                  </a:lnTo>
                  <a:lnTo>
                    <a:pt x="124" y="7"/>
                  </a:lnTo>
                  <a:lnTo>
                    <a:pt x="125" y="5"/>
                  </a:lnTo>
                  <a:lnTo>
                    <a:pt x="127" y="5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1"/>
                  </a:lnTo>
                  <a:lnTo>
                    <a:pt x="136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69240" y="613548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36" y="88"/>
                  </a:moveTo>
                  <a:lnTo>
                    <a:pt x="30" y="107"/>
                  </a:lnTo>
                  <a:lnTo>
                    <a:pt x="0" y="107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104" y="107"/>
                  </a:lnTo>
                  <a:lnTo>
                    <a:pt x="74" y="107"/>
                  </a:lnTo>
                  <a:lnTo>
                    <a:pt x="69" y="88"/>
                  </a:lnTo>
                  <a:lnTo>
                    <a:pt x="36" y="88"/>
                  </a:lnTo>
                  <a:lnTo>
                    <a:pt x="42" y="66"/>
                  </a:lnTo>
                  <a:lnTo>
                    <a:pt x="54" y="30"/>
                  </a:lnTo>
                  <a:lnTo>
                    <a:pt x="64" y="66"/>
                  </a:lnTo>
                  <a:lnTo>
                    <a:pt x="42" y="66"/>
                  </a:lnTo>
                  <a:lnTo>
                    <a:pt x="36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96320" y="6135480"/>
              <a:ext cx="13644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28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22"/>
                  </a:lnTo>
                  <a:lnTo>
                    <a:pt x="57" y="22"/>
                  </a:lnTo>
                  <a:lnTo>
                    <a:pt x="57" y="107"/>
                  </a:lnTo>
                  <a:lnTo>
                    <a:pt x="28" y="107"/>
                  </a:lnTo>
                  <a:lnTo>
                    <a:pt x="28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07200" y="6168960"/>
              <a:ext cx="13644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26" y="53"/>
                  </a:moveTo>
                  <a:lnTo>
                    <a:pt x="44" y="68"/>
                  </a:lnTo>
                  <a:lnTo>
                    <a:pt x="43" y="68"/>
                  </a:lnTo>
                  <a:lnTo>
                    <a:pt x="42" y="69"/>
                  </a:lnTo>
                  <a:lnTo>
                    <a:pt x="41" y="69"/>
                  </a:lnTo>
                  <a:lnTo>
                    <a:pt x="40" y="69"/>
                  </a:lnTo>
                  <a:lnTo>
                    <a:pt x="39" y="69"/>
                  </a:lnTo>
                  <a:lnTo>
                    <a:pt x="35" y="69"/>
                  </a:lnTo>
                  <a:lnTo>
                    <a:pt x="34" y="69"/>
                  </a:lnTo>
                  <a:lnTo>
                    <a:pt x="33" y="69"/>
                  </a:lnTo>
                  <a:lnTo>
                    <a:pt x="32" y="68"/>
                  </a:lnTo>
                  <a:lnTo>
                    <a:pt x="31" y="68"/>
                  </a:lnTo>
                  <a:lnTo>
                    <a:pt x="30" y="68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7" y="67"/>
                  </a:lnTo>
                  <a:lnTo>
                    <a:pt x="26" y="66"/>
                  </a:lnTo>
                  <a:lnTo>
                    <a:pt x="26" y="65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4" y="62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7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3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5" y="75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9" y="79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3" y="86"/>
                  </a:lnTo>
                  <a:lnTo>
                    <a:pt x="24" y="87"/>
                  </a:lnTo>
                  <a:lnTo>
                    <a:pt x="25" y="87"/>
                  </a:lnTo>
                  <a:lnTo>
                    <a:pt x="26" y="87"/>
                  </a:lnTo>
                  <a:lnTo>
                    <a:pt x="28" y="87"/>
                  </a:lnTo>
                  <a:lnTo>
                    <a:pt x="29" y="88"/>
                  </a:lnTo>
                  <a:lnTo>
                    <a:pt x="31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5" y="88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3" y="88"/>
                  </a:lnTo>
                  <a:lnTo>
                    <a:pt x="45" y="88"/>
                  </a:lnTo>
                  <a:lnTo>
                    <a:pt x="46" y="88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50" y="87"/>
                  </a:lnTo>
                  <a:lnTo>
                    <a:pt x="51" y="87"/>
                  </a:lnTo>
                  <a:lnTo>
                    <a:pt x="53" y="87"/>
                  </a:lnTo>
                  <a:lnTo>
                    <a:pt x="54" y="87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7" y="85"/>
                  </a:lnTo>
                  <a:lnTo>
                    <a:pt x="58" y="85"/>
                  </a:lnTo>
                  <a:lnTo>
                    <a:pt x="60" y="85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3" y="83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6" y="82"/>
                  </a:lnTo>
                  <a:lnTo>
                    <a:pt x="67" y="82"/>
                  </a:lnTo>
                  <a:lnTo>
                    <a:pt x="68" y="83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1" y="84"/>
                  </a:lnTo>
                  <a:lnTo>
                    <a:pt x="71" y="85"/>
                  </a:lnTo>
                  <a:lnTo>
                    <a:pt x="72" y="85"/>
                  </a:lnTo>
                  <a:lnTo>
                    <a:pt x="73" y="85"/>
                  </a:lnTo>
                  <a:lnTo>
                    <a:pt x="73" y="86"/>
                  </a:lnTo>
                  <a:lnTo>
                    <a:pt x="74" y="86"/>
                  </a:lnTo>
                  <a:lnTo>
                    <a:pt x="75" y="86"/>
                  </a:lnTo>
                  <a:lnTo>
                    <a:pt x="76" y="86"/>
                  </a:lnTo>
                  <a:lnTo>
                    <a:pt x="77" y="86"/>
                  </a:lnTo>
                  <a:lnTo>
                    <a:pt x="77" y="87"/>
                  </a:lnTo>
                  <a:lnTo>
                    <a:pt x="78" y="87"/>
                  </a:lnTo>
                  <a:lnTo>
                    <a:pt x="79" y="87"/>
                  </a:lnTo>
                  <a:lnTo>
                    <a:pt x="80" y="87"/>
                  </a:lnTo>
                  <a:lnTo>
                    <a:pt x="84" y="87"/>
                  </a:lnTo>
                  <a:lnTo>
                    <a:pt x="85" y="87"/>
                  </a:lnTo>
                  <a:lnTo>
                    <a:pt x="85" y="67"/>
                  </a:lnTo>
                  <a:lnTo>
                    <a:pt x="84" y="67"/>
                  </a:lnTo>
                  <a:lnTo>
                    <a:pt x="81" y="67"/>
                  </a:lnTo>
                  <a:lnTo>
                    <a:pt x="80" y="67"/>
                  </a:lnTo>
                  <a:lnTo>
                    <a:pt x="79" y="67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80" y="65"/>
                  </a:lnTo>
                  <a:lnTo>
                    <a:pt x="80" y="64"/>
                  </a:lnTo>
                  <a:lnTo>
                    <a:pt x="80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34"/>
                  </a:lnTo>
                  <a:lnTo>
                    <a:pt x="59" y="34"/>
                  </a:lnTo>
                  <a:lnTo>
                    <a:pt x="59" y="54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9" y="20"/>
                  </a:lnTo>
                  <a:lnTo>
                    <a:pt x="39" y="21"/>
                  </a:lnTo>
                  <a:lnTo>
                    <a:pt x="39" y="34"/>
                  </a:lnTo>
                  <a:lnTo>
                    <a:pt x="60" y="34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60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26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08720" y="6135480"/>
              <a:ext cx="13680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28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22"/>
                  </a:lnTo>
                  <a:lnTo>
                    <a:pt x="57" y="22"/>
                  </a:lnTo>
                  <a:lnTo>
                    <a:pt x="57" y="107"/>
                  </a:lnTo>
                  <a:lnTo>
                    <a:pt x="28" y="107"/>
                  </a:lnTo>
                  <a:lnTo>
                    <a:pt x="28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ABA0DB-82E6-4E31-982E-0CD49731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50000" y="64285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y Worstell, AT&amp;T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2A4-CD9B-42B1-BE3B-C321A45D7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488880"/>
            <a:ext cx="8508960" cy="5937480"/>
          </a:xfrm>
          <a:prstGeom prst="rect">
            <a:avLst/>
          </a:prstGeom>
          <a:noFill/>
          <a:ln w="12600">
            <a:solidFill>
              <a:srgbClr val="00c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794720" y="6380280"/>
            <a:ext cx="460440" cy="179280"/>
            <a:chOff x="7794720" y="6380280"/>
            <a:chExt cx="460440" cy="179280"/>
          </a:xfrm>
        </p:grpSpPr>
        <p:sp>
          <p:nvSpPr>
            <p:cNvPr id="78" name=""/>
            <p:cNvSpPr/>
            <p:nvPr/>
          </p:nvSpPr>
          <p:spPr>
            <a:xfrm>
              <a:off x="7794720" y="638028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33" y="92"/>
                  </a:moveTo>
                  <a:lnTo>
                    <a:pt x="27" y="112"/>
                  </a:lnTo>
                  <a:lnTo>
                    <a:pt x="0" y="112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7" y="112"/>
                  </a:lnTo>
                  <a:lnTo>
                    <a:pt x="69" y="112"/>
                  </a:lnTo>
                  <a:lnTo>
                    <a:pt x="64" y="92"/>
                  </a:lnTo>
                  <a:lnTo>
                    <a:pt x="33" y="92"/>
                  </a:lnTo>
                  <a:lnTo>
                    <a:pt x="39" y="68"/>
                  </a:lnTo>
                  <a:lnTo>
                    <a:pt x="50" y="31"/>
                  </a:lnTo>
                  <a:lnTo>
                    <a:pt x="59" y="68"/>
                  </a:lnTo>
                  <a:lnTo>
                    <a:pt x="39" y="68"/>
                  </a:lnTo>
                  <a:lnTo>
                    <a:pt x="3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1800" y="638028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26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23"/>
                  </a:lnTo>
                  <a:lnTo>
                    <a:pt x="52" y="23"/>
                  </a:lnTo>
                  <a:lnTo>
                    <a:pt x="52" y="112"/>
                  </a:lnTo>
                  <a:lnTo>
                    <a:pt x="26" y="112"/>
                  </a:lnTo>
                  <a:lnTo>
                    <a:pt x="2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31240" y="6415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3" y="54"/>
                  </a:moveTo>
                  <a:lnTo>
                    <a:pt x="40" y="70"/>
                  </a:lnTo>
                  <a:lnTo>
                    <a:pt x="30" y="71"/>
                  </a:lnTo>
                  <a:lnTo>
                    <a:pt x="25" y="69"/>
                  </a:lnTo>
                  <a:lnTo>
                    <a:pt x="22" y="64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8" y="39"/>
                  </a:lnTo>
                  <a:lnTo>
                    <a:pt x="1" y="51"/>
                  </a:lnTo>
                  <a:lnTo>
                    <a:pt x="0" y="68"/>
                  </a:lnTo>
                  <a:lnTo>
                    <a:pt x="7" y="81"/>
                  </a:lnTo>
                  <a:lnTo>
                    <a:pt x="22" y="89"/>
                  </a:lnTo>
                  <a:lnTo>
                    <a:pt x="44" y="90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7"/>
                  </a:lnTo>
                  <a:lnTo>
                    <a:pt x="67" y="88"/>
                  </a:lnTo>
                  <a:lnTo>
                    <a:pt x="69" y="89"/>
                  </a:lnTo>
                  <a:lnTo>
                    <a:pt x="70" y="89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3" y="59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55"/>
                  </a:lnTo>
                  <a:lnTo>
                    <a:pt x="31" y="34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6" y="19"/>
                  </a:lnTo>
                  <a:lnTo>
                    <a:pt x="30" y="18"/>
                  </a:lnTo>
                  <a:lnTo>
                    <a:pt x="34" y="19"/>
                  </a:lnTo>
                  <a:lnTo>
                    <a:pt x="36" y="24"/>
                  </a:lnTo>
                  <a:lnTo>
                    <a:pt x="36" y="35"/>
                  </a:lnTo>
                  <a:lnTo>
                    <a:pt x="55" y="35"/>
                  </a:lnTo>
                  <a:lnTo>
                    <a:pt x="55" y="16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3" y="21"/>
                  </a:lnTo>
                  <a:lnTo>
                    <a:pt x="9" y="39"/>
                  </a:lnTo>
                  <a:lnTo>
                    <a:pt x="2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31320" y="638028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5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51" y="23"/>
                  </a:lnTo>
                  <a:lnTo>
                    <a:pt x="51" y="112"/>
                  </a:lnTo>
                  <a:lnTo>
                    <a:pt x="25" y="112"/>
                  </a:lnTo>
                  <a:lnTo>
                    <a:pt x="2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766000" y="6583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73800" y="6114960"/>
            <a:ext cx="10796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364520" y="6178680"/>
          <a:ext cx="1044360" cy="54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64520" y="6178680"/>
                    <a:ext cx="10443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818480" y="6259680"/>
            <a:ext cx="4921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842240" y="6335640"/>
            <a:ext cx="457200" cy="166680"/>
            <a:chOff x="7842240" y="6335640"/>
            <a:chExt cx="457200" cy="166680"/>
          </a:xfrm>
        </p:grpSpPr>
        <p:sp>
          <p:nvSpPr>
            <p:cNvPr id="88" name=""/>
            <p:cNvSpPr/>
            <p:nvPr/>
          </p:nvSpPr>
          <p:spPr>
            <a:xfrm>
              <a:off x="7842240" y="6335640"/>
              <a:ext cx="154080" cy="16668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32" y="85"/>
                  </a:moveTo>
                  <a:lnTo>
                    <a:pt x="27" y="104"/>
                  </a:lnTo>
                  <a:lnTo>
                    <a:pt x="0" y="104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6" y="104"/>
                  </a:lnTo>
                  <a:lnTo>
                    <a:pt x="68" y="104"/>
                  </a:lnTo>
                  <a:lnTo>
                    <a:pt x="64" y="85"/>
                  </a:lnTo>
                  <a:lnTo>
                    <a:pt x="32" y="85"/>
                  </a:lnTo>
                  <a:lnTo>
                    <a:pt x="38" y="63"/>
                  </a:lnTo>
                  <a:lnTo>
                    <a:pt x="49" y="29"/>
                  </a:lnTo>
                  <a:lnTo>
                    <a:pt x="58" y="63"/>
                  </a:lnTo>
                  <a:lnTo>
                    <a:pt x="38" y="63"/>
                  </a:lnTo>
                  <a:lnTo>
                    <a:pt x="32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69320" y="6335640"/>
              <a:ext cx="123840" cy="166680"/>
            </a:xfrm>
            <a:custGeom>
              <a:avLst/>
              <a:gdLst/>
              <a:ahLst/>
              <a:rect l="l" t="t" r="r" b="b"/>
              <a:pathLst>
                <a:path w="78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2"/>
                  </a:lnTo>
                  <a:lnTo>
                    <a:pt x="52" y="22"/>
                  </a:lnTo>
                  <a:lnTo>
                    <a:pt x="52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77320" y="6369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23" y="50"/>
                  </a:moveTo>
                  <a:lnTo>
                    <a:pt x="40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22" y="59"/>
                  </a:lnTo>
                  <a:lnTo>
                    <a:pt x="22" y="53"/>
                  </a:lnTo>
                  <a:lnTo>
                    <a:pt x="23" y="50"/>
                  </a:lnTo>
                  <a:lnTo>
                    <a:pt x="8" y="36"/>
                  </a:lnTo>
                  <a:lnTo>
                    <a:pt x="1" y="47"/>
                  </a:lnTo>
                  <a:lnTo>
                    <a:pt x="0" y="63"/>
                  </a:lnTo>
                  <a:lnTo>
                    <a:pt x="7" y="74"/>
                  </a:lnTo>
                  <a:lnTo>
                    <a:pt x="22" y="82"/>
                  </a:lnTo>
                  <a:lnTo>
                    <a:pt x="44" y="83"/>
                  </a:lnTo>
                  <a:lnTo>
                    <a:pt x="59" y="78"/>
                  </a:lnTo>
                  <a:lnTo>
                    <a:pt x="59" y="77"/>
                  </a:lnTo>
                  <a:lnTo>
                    <a:pt x="61" y="78"/>
                  </a:lnTo>
                  <a:lnTo>
                    <a:pt x="62" y="79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81"/>
                  </a:lnTo>
                  <a:lnTo>
                    <a:pt x="67" y="81"/>
                  </a:lnTo>
                  <a:lnTo>
                    <a:pt x="68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77" y="64"/>
                  </a:lnTo>
                  <a:lnTo>
                    <a:pt x="73" y="64"/>
                  </a:lnTo>
                  <a:lnTo>
                    <a:pt x="70" y="63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2" y="59"/>
                  </a:lnTo>
                  <a:lnTo>
                    <a:pt x="72" y="57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51"/>
                  </a:lnTo>
                  <a:lnTo>
                    <a:pt x="72" y="33"/>
                  </a:lnTo>
                  <a:lnTo>
                    <a:pt x="54" y="33"/>
                  </a:lnTo>
                  <a:lnTo>
                    <a:pt x="54" y="51"/>
                  </a:lnTo>
                  <a:lnTo>
                    <a:pt x="31" y="32"/>
                  </a:lnTo>
                  <a:lnTo>
                    <a:pt x="27" y="26"/>
                  </a:lnTo>
                  <a:lnTo>
                    <a:pt x="25" y="22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4" y="18"/>
                  </a:lnTo>
                  <a:lnTo>
                    <a:pt x="35" y="22"/>
                  </a:lnTo>
                  <a:lnTo>
                    <a:pt x="35" y="32"/>
                  </a:lnTo>
                  <a:lnTo>
                    <a:pt x="54" y="32"/>
                  </a:lnTo>
                  <a:lnTo>
                    <a:pt x="54" y="1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12" y="5"/>
                  </a:lnTo>
                  <a:lnTo>
                    <a:pt x="3" y="20"/>
                  </a:lnTo>
                  <a:lnTo>
                    <a:pt x="8" y="36"/>
                  </a:lnTo>
                  <a:lnTo>
                    <a:pt x="23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77040" y="6335640"/>
              <a:ext cx="122400" cy="16668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51" y="22"/>
                  </a:lnTo>
                  <a:lnTo>
                    <a:pt x="51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00760" y="247680"/>
            <a:ext cx="15811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Brush Script MT"/>
              </a:rPr>
              <a:t>AT&amp;T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6120" y="3505320"/>
            <a:ext cx="7988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28560" y="2143080"/>
            <a:ext cx="8026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Times New Roman"/>
              </a:rPr>
              <a:t>802.11-Based Wireless  Technolog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to Enhance Pre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Voice and Dat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"/>
          <p:cNvSpPr/>
          <p:nvPr/>
        </p:nvSpPr>
        <p:spPr>
          <a:xfrm>
            <a:off x="1747800" y="2305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827000" y="2305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787400" y="2328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1747800" y="2355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1827000" y="2328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1827000" y="23526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1787400" y="23763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2836800" y="5218200"/>
            <a:ext cx="133560" cy="4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2257560" y="5097600"/>
            <a:ext cx="4680" cy="155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2970000" y="26398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2970000" y="26877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3445200" y="6134040"/>
            <a:ext cx="228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functional Commun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2" name=""/>
          <p:cNvGrpSpPr/>
          <p:nvPr/>
        </p:nvGrpSpPr>
        <p:grpSpPr>
          <a:xfrm>
            <a:off x="2743200" y="2016000"/>
            <a:ext cx="3633120" cy="4066200"/>
            <a:chOff x="2743200" y="2016000"/>
            <a:chExt cx="3633120" cy="4066200"/>
          </a:xfrm>
        </p:grpSpPr>
        <p:sp>
          <p:nvSpPr>
            <p:cNvPr id="6163" name=""/>
            <p:cNvSpPr/>
            <p:nvPr/>
          </p:nvSpPr>
          <p:spPr>
            <a:xfrm>
              <a:off x="2854440" y="2128320"/>
              <a:ext cx="3521880" cy="3953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43200" y="2016000"/>
              <a:ext cx="3541320" cy="397224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982960" y="3951360"/>
              <a:ext cx="324360" cy="147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137760" y="3053160"/>
              <a:ext cx="321120" cy="717480"/>
            </a:xfrm>
            <a:custGeom>
              <a:avLst/>
              <a:gdLst>
                <a:gd name="textAreaLeft" fmla="*/ 10440 w 321120"/>
                <a:gd name="textAreaRight" fmla="*/ 310680 w 321120"/>
                <a:gd name="textAreaTop" fmla="*/ 10440 h 717480"/>
                <a:gd name="textAreaBottom" fmla="*/ 707040 h 717480"/>
              </a:gdLst>
              <a:ahLst/>
              <a:rect l="textAreaLeft" t="textAreaTop" r="textAreaRight" b="textAreaBottom"/>
              <a:pathLst>
                <a:path w="21600" h="48231">
                  <a:moveTo>
                    <a:pt x="2445" y="0"/>
                  </a:moveTo>
                  <a:arcTo wR="2445" hR="2445" stAng="16200000" swAng="-5400000"/>
                  <a:lnTo>
                    <a:pt x="0" y="45786"/>
                  </a:lnTo>
                  <a:arcTo wR="2445" hR="2445" stAng="10800000" swAng="-5400000"/>
                  <a:lnTo>
                    <a:pt x="19155" y="48231"/>
                  </a:lnTo>
                  <a:arcTo wR="2445" hR="2445" stAng="5400000" swAng="-5400000"/>
                  <a:lnTo>
                    <a:pt x="21600" y="2445"/>
                  </a:lnTo>
                  <a:arcTo wR="2445" hR="2445" stAng="0" swAng="-5400000"/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156120" y="3306240"/>
              <a:ext cx="273240" cy="72000"/>
            </a:xfrm>
            <a:prstGeom prst="roundRect">
              <a:avLst>
                <a:gd name="adj" fmla="val 26921"/>
              </a:avLst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182040" y="3081960"/>
              <a:ext cx="232200" cy="19548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48" y="1"/>
                  </a:moveTo>
                  <a:lnTo>
                    <a:pt x="14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4" y="58"/>
                  </a:lnTo>
                  <a:lnTo>
                    <a:pt x="38" y="58"/>
                  </a:lnTo>
                  <a:lnTo>
                    <a:pt x="39" y="56"/>
                  </a:lnTo>
                  <a:lnTo>
                    <a:pt x="43" y="56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9" y="51"/>
                  </a:lnTo>
                  <a:lnTo>
                    <a:pt x="51" y="51"/>
                  </a:lnTo>
                  <a:lnTo>
                    <a:pt x="58" y="45"/>
                  </a:lnTo>
                  <a:lnTo>
                    <a:pt x="58" y="43"/>
                  </a:lnTo>
                  <a:lnTo>
                    <a:pt x="59" y="43"/>
                  </a:lnTo>
                  <a:lnTo>
                    <a:pt x="59" y="40"/>
                  </a:lnTo>
                  <a:lnTo>
                    <a:pt x="61" y="38"/>
                  </a:lnTo>
                  <a:lnTo>
                    <a:pt x="61" y="36"/>
                  </a:lnTo>
                  <a:lnTo>
                    <a:pt x="63" y="35"/>
                  </a:lnTo>
                  <a:lnTo>
                    <a:pt x="63" y="18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8" y="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414600" y="2914920"/>
              <a:ext cx="44280" cy="435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186360" y="3324240"/>
              <a:ext cx="213120" cy="399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7816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8932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280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27816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28932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32280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27816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28932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32280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166920" y="343368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59800" y="343368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1960" y="3433680"/>
              <a:ext cx="6264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156120" y="3415680"/>
              <a:ext cx="284040" cy="32184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13" y="0"/>
                  </a:moveTo>
                  <a:lnTo>
                    <a:pt x="5" y="5"/>
                  </a:lnTo>
                  <a:lnTo>
                    <a:pt x="0" y="13"/>
                  </a:lnTo>
                  <a:lnTo>
                    <a:pt x="0" y="81"/>
                  </a:lnTo>
                  <a:lnTo>
                    <a:pt x="5" y="91"/>
                  </a:lnTo>
                  <a:lnTo>
                    <a:pt x="13" y="96"/>
                  </a:lnTo>
                  <a:lnTo>
                    <a:pt x="65" y="96"/>
                  </a:lnTo>
                  <a:lnTo>
                    <a:pt x="75" y="91"/>
                  </a:lnTo>
                  <a:lnTo>
                    <a:pt x="78" y="81"/>
                  </a:lnTo>
                  <a:lnTo>
                    <a:pt x="78" y="13"/>
                  </a:lnTo>
                  <a:lnTo>
                    <a:pt x="75" y="5"/>
                  </a:lnTo>
                  <a:lnTo>
                    <a:pt x="65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166920" y="3472920"/>
              <a:ext cx="8100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259800" y="3472920"/>
              <a:ext cx="8100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351960" y="3472920"/>
              <a:ext cx="6264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166920" y="3531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259800" y="3531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351960" y="3531600"/>
              <a:ext cx="6264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166920" y="3585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59800" y="3585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51960" y="3585600"/>
              <a:ext cx="6264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166920" y="362916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259800" y="362916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351960" y="3629160"/>
              <a:ext cx="6264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166920" y="3686760"/>
              <a:ext cx="8100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59800" y="3686760"/>
              <a:ext cx="8100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351960" y="3686760"/>
              <a:ext cx="6264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315240" y="3781440"/>
              <a:ext cx="143640" cy="20268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0" y="50"/>
                  </a:moveTo>
                  <a:lnTo>
                    <a:pt x="0" y="6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148560" y="3940560"/>
              <a:ext cx="48240" cy="32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4" y="0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466440" y="3034080"/>
              <a:ext cx="50760" cy="736200"/>
            </a:xfrm>
            <a:custGeom>
              <a:avLst/>
              <a:gdLst/>
              <a:ahLst/>
              <a:rect l="l" t="t" r="r" b="b"/>
              <a:pathLst>
                <a:path w="14" h="218">
                  <a:moveTo>
                    <a:pt x="6" y="4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0" y="215"/>
                  </a:lnTo>
                  <a:lnTo>
                    <a:pt x="1" y="218"/>
                  </a:lnTo>
                  <a:lnTo>
                    <a:pt x="6" y="218"/>
                  </a:lnTo>
                  <a:lnTo>
                    <a:pt x="9" y="215"/>
                  </a:lnTo>
                  <a:lnTo>
                    <a:pt x="13" y="210"/>
                  </a:lnTo>
                  <a:lnTo>
                    <a:pt x="14" y="203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174480" y="3027600"/>
              <a:ext cx="342720" cy="32040"/>
            </a:xfrm>
            <a:custGeom>
              <a:avLst/>
              <a:gdLst/>
              <a:ahLst/>
              <a:rect l="l" t="t" r="r" b="b"/>
              <a:pathLst>
                <a:path w="94" h="10">
                  <a:moveTo>
                    <a:pt x="16" y="0"/>
                  </a:moveTo>
                  <a:lnTo>
                    <a:pt x="6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78" y="10"/>
                  </a:lnTo>
                  <a:lnTo>
                    <a:pt x="83" y="10"/>
                  </a:lnTo>
                  <a:lnTo>
                    <a:pt x="86" y="8"/>
                  </a:lnTo>
                  <a:lnTo>
                    <a:pt x="93" y="3"/>
                  </a:lnTo>
                  <a:lnTo>
                    <a:pt x="94" y="2"/>
                  </a:lnTo>
                  <a:lnTo>
                    <a:pt x="9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359520" y="2969280"/>
              <a:ext cx="106920" cy="903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" y="25"/>
                  </a:moveTo>
                  <a:lnTo>
                    <a:pt x="11" y="0"/>
                  </a:lnTo>
                  <a:lnTo>
                    <a:pt x="30" y="0"/>
                  </a:lnTo>
                  <a:lnTo>
                    <a:pt x="30" y="27"/>
                  </a:lnTo>
                  <a:lnTo>
                    <a:pt x="0" y="27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470040" y="2940480"/>
              <a:ext cx="44280" cy="12636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12"/>
                  </a:moveTo>
                  <a:lnTo>
                    <a:pt x="0" y="37"/>
                  </a:lnTo>
                  <a:lnTo>
                    <a:pt x="12" y="25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470040" y="2878920"/>
              <a:ext cx="44280" cy="903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0" y="26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407040" y="2878920"/>
              <a:ext cx="106920" cy="3600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12" y="0"/>
                  </a:moveTo>
                  <a:lnTo>
                    <a:pt x="0" y="10"/>
                  </a:lnTo>
                  <a:lnTo>
                    <a:pt x="18" y="10"/>
                  </a:lnTo>
                  <a:lnTo>
                    <a:pt x="3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440520" y="2577960"/>
              <a:ext cx="18360" cy="326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429720" y="2567160"/>
              <a:ext cx="58320" cy="61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3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429720" y="2555640"/>
              <a:ext cx="58320" cy="1800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" y="3"/>
                  </a:moveTo>
                  <a:lnTo>
                    <a:pt x="3" y="5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182040" y="349848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181320" y="359640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359520" y="359640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192480" y="3647160"/>
              <a:ext cx="1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Rcl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278520" y="364320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Sto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370680" y="364320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186360" y="3694320"/>
              <a:ext cx="21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Pw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286080" y="369432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Vol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370680" y="3694320"/>
              <a:ext cx="205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998080" y="3777120"/>
              <a:ext cx="449640" cy="184680"/>
            </a:xfrm>
            <a:custGeom>
              <a:avLst/>
              <a:gdLst/>
              <a:ahLst/>
              <a:rect l="l" t="t" r="r" b="b"/>
              <a:pathLst>
                <a:path w="123" h="54">
                  <a:moveTo>
                    <a:pt x="45" y="0"/>
                  </a:moveTo>
                  <a:lnTo>
                    <a:pt x="36" y="1"/>
                  </a:lnTo>
                  <a:lnTo>
                    <a:pt x="30" y="8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5" y="54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21" y="8"/>
                  </a:lnTo>
                  <a:lnTo>
                    <a:pt x="123" y="1"/>
                  </a:lnTo>
                  <a:lnTo>
                    <a:pt x="11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322800" y="3766320"/>
              <a:ext cx="91800" cy="295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6" y="0"/>
                  </a:moveTo>
                  <a:lnTo>
                    <a:pt x="0" y="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174480" y="3766320"/>
              <a:ext cx="92520" cy="295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6" y="0"/>
                  </a:moveTo>
                  <a:lnTo>
                    <a:pt x="0" y="9"/>
                  </a:lnTo>
                  <a:lnTo>
                    <a:pt x="20" y="9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594680" y="4212720"/>
              <a:ext cx="1158120" cy="1333080"/>
            </a:xfrm>
            <a:custGeom>
              <a:avLst/>
              <a:gdLst/>
              <a:ahLst/>
              <a:rect l="l" t="t" r="r" b="b"/>
              <a:pathLst>
                <a:path w="317" h="395">
                  <a:moveTo>
                    <a:pt x="299" y="0"/>
                  </a:moveTo>
                  <a:lnTo>
                    <a:pt x="306" y="2"/>
                  </a:lnTo>
                  <a:lnTo>
                    <a:pt x="312" y="7"/>
                  </a:lnTo>
                  <a:lnTo>
                    <a:pt x="316" y="13"/>
                  </a:lnTo>
                  <a:lnTo>
                    <a:pt x="317" y="20"/>
                  </a:lnTo>
                  <a:lnTo>
                    <a:pt x="317" y="377"/>
                  </a:lnTo>
                  <a:lnTo>
                    <a:pt x="316" y="384"/>
                  </a:lnTo>
                  <a:lnTo>
                    <a:pt x="312" y="390"/>
                  </a:lnTo>
                  <a:lnTo>
                    <a:pt x="306" y="394"/>
                  </a:lnTo>
                  <a:lnTo>
                    <a:pt x="299" y="395"/>
                  </a:lnTo>
                  <a:lnTo>
                    <a:pt x="20" y="395"/>
                  </a:lnTo>
                  <a:lnTo>
                    <a:pt x="14" y="394"/>
                  </a:lnTo>
                  <a:lnTo>
                    <a:pt x="7" y="390"/>
                  </a:lnTo>
                  <a:lnTo>
                    <a:pt x="2" y="384"/>
                  </a:lnTo>
                  <a:lnTo>
                    <a:pt x="0" y="37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628160" y="4179960"/>
              <a:ext cx="1157400" cy="1333800"/>
            </a:xfrm>
            <a:custGeom>
              <a:avLst/>
              <a:gdLst/>
              <a:ahLst/>
              <a:rect l="l" t="t" r="r" b="b"/>
              <a:pathLst>
                <a:path w="317" h="395">
                  <a:moveTo>
                    <a:pt x="297" y="0"/>
                  </a:moveTo>
                  <a:lnTo>
                    <a:pt x="303" y="2"/>
                  </a:lnTo>
                  <a:lnTo>
                    <a:pt x="310" y="7"/>
                  </a:lnTo>
                  <a:lnTo>
                    <a:pt x="315" y="13"/>
                  </a:lnTo>
                  <a:lnTo>
                    <a:pt x="317" y="20"/>
                  </a:lnTo>
                  <a:lnTo>
                    <a:pt x="317" y="377"/>
                  </a:lnTo>
                  <a:lnTo>
                    <a:pt x="315" y="384"/>
                  </a:lnTo>
                  <a:lnTo>
                    <a:pt x="310" y="390"/>
                  </a:lnTo>
                  <a:lnTo>
                    <a:pt x="303" y="394"/>
                  </a:lnTo>
                  <a:lnTo>
                    <a:pt x="297" y="395"/>
                  </a:lnTo>
                  <a:lnTo>
                    <a:pt x="18" y="395"/>
                  </a:lnTo>
                  <a:lnTo>
                    <a:pt x="11" y="394"/>
                  </a:lnTo>
                  <a:lnTo>
                    <a:pt x="5" y="390"/>
                  </a:lnTo>
                  <a:lnTo>
                    <a:pt x="1" y="384"/>
                  </a:lnTo>
                  <a:lnTo>
                    <a:pt x="0" y="37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753800" y="4288320"/>
              <a:ext cx="918360" cy="978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753800" y="4288320"/>
              <a:ext cx="918360" cy="252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635440" y="4292640"/>
              <a:ext cx="36720" cy="974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753800" y="4310640"/>
              <a:ext cx="899640" cy="956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830840" y="4357440"/>
              <a:ext cx="759960" cy="46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916160" y="4452120"/>
              <a:ext cx="146880" cy="2890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5063400" y="4552920"/>
              <a:ext cx="158760" cy="18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5222160" y="4622040"/>
              <a:ext cx="150480" cy="119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372640" y="4687200"/>
              <a:ext cx="140400" cy="54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254200" y="445536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384520" y="5350320"/>
              <a:ext cx="26172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5402880" y="5342760"/>
              <a:ext cx="25740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070600" y="5350320"/>
              <a:ext cx="26928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5081760" y="5342760"/>
              <a:ext cx="27252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767840" y="5350320"/>
              <a:ext cx="25092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779720" y="5342760"/>
              <a:ext cx="25740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843080" y="4882680"/>
              <a:ext cx="358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838040" y="4959000"/>
              <a:ext cx="339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843440" y="5035680"/>
              <a:ext cx="159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842000" y="5103720"/>
              <a:ext cx="22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843440" y="5183640"/>
              <a:ext cx="1774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5524200" y="4882680"/>
              <a:ext cx="357840" cy="3844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0" y="84"/>
                  </a:moveTo>
                  <a:lnTo>
                    <a:pt x="5" y="89"/>
                  </a:lnTo>
                  <a:lnTo>
                    <a:pt x="9" y="91"/>
                  </a:lnTo>
                  <a:lnTo>
                    <a:pt x="10" y="93"/>
                  </a:lnTo>
                  <a:lnTo>
                    <a:pt x="14" y="94"/>
                  </a:lnTo>
                  <a:lnTo>
                    <a:pt x="18" y="99"/>
                  </a:lnTo>
                  <a:lnTo>
                    <a:pt x="35" y="108"/>
                  </a:lnTo>
                  <a:lnTo>
                    <a:pt x="38" y="111"/>
                  </a:lnTo>
                  <a:lnTo>
                    <a:pt x="42" y="111"/>
                  </a:lnTo>
                  <a:lnTo>
                    <a:pt x="45" y="113"/>
                  </a:lnTo>
                  <a:lnTo>
                    <a:pt x="48" y="113"/>
                  </a:lnTo>
                  <a:lnTo>
                    <a:pt x="52" y="114"/>
                  </a:lnTo>
                  <a:lnTo>
                    <a:pt x="70" y="114"/>
                  </a:lnTo>
                  <a:lnTo>
                    <a:pt x="73" y="113"/>
                  </a:lnTo>
                  <a:lnTo>
                    <a:pt x="75" y="113"/>
                  </a:lnTo>
                  <a:lnTo>
                    <a:pt x="80" y="109"/>
                  </a:lnTo>
                  <a:lnTo>
                    <a:pt x="90" y="99"/>
                  </a:lnTo>
                  <a:lnTo>
                    <a:pt x="97" y="88"/>
                  </a:lnTo>
                  <a:lnTo>
                    <a:pt x="98" y="83"/>
                  </a:lnTo>
                  <a:lnTo>
                    <a:pt x="98" y="50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5" y="41"/>
                  </a:lnTo>
                  <a:lnTo>
                    <a:pt x="95" y="38"/>
                  </a:lnTo>
                  <a:lnTo>
                    <a:pt x="93" y="36"/>
                  </a:lnTo>
                  <a:lnTo>
                    <a:pt x="93" y="35"/>
                  </a:lnTo>
                  <a:lnTo>
                    <a:pt x="90" y="31"/>
                  </a:lnTo>
                  <a:lnTo>
                    <a:pt x="90" y="28"/>
                  </a:lnTo>
                  <a:lnTo>
                    <a:pt x="85" y="18"/>
                  </a:lnTo>
                  <a:lnTo>
                    <a:pt x="83" y="13"/>
                  </a:lnTo>
                  <a:lnTo>
                    <a:pt x="82" y="10"/>
                  </a:lnTo>
                  <a:lnTo>
                    <a:pt x="80" y="5"/>
                  </a:lnTo>
                  <a:lnTo>
                    <a:pt x="78" y="0"/>
                  </a:lnTo>
                  <a:lnTo>
                    <a:pt x="68" y="3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6"/>
                  </a:lnTo>
                  <a:lnTo>
                    <a:pt x="75" y="21"/>
                  </a:lnTo>
                  <a:lnTo>
                    <a:pt x="80" y="31"/>
                  </a:lnTo>
                  <a:lnTo>
                    <a:pt x="80" y="33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1"/>
                  </a:lnTo>
                  <a:lnTo>
                    <a:pt x="85" y="45"/>
                  </a:lnTo>
                  <a:lnTo>
                    <a:pt x="87" y="46"/>
                  </a:lnTo>
                  <a:lnTo>
                    <a:pt x="87" y="51"/>
                  </a:lnTo>
                  <a:lnTo>
                    <a:pt x="88" y="53"/>
                  </a:lnTo>
                  <a:lnTo>
                    <a:pt x="88" y="81"/>
                  </a:lnTo>
                  <a:lnTo>
                    <a:pt x="88" y="79"/>
                  </a:lnTo>
                  <a:lnTo>
                    <a:pt x="87" y="84"/>
                  </a:lnTo>
                  <a:lnTo>
                    <a:pt x="83" y="93"/>
                  </a:lnTo>
                  <a:lnTo>
                    <a:pt x="73" y="103"/>
                  </a:lnTo>
                  <a:lnTo>
                    <a:pt x="70" y="103"/>
                  </a:lnTo>
                  <a:lnTo>
                    <a:pt x="67" y="104"/>
                  </a:lnTo>
                  <a:lnTo>
                    <a:pt x="55" y="104"/>
                  </a:lnTo>
                  <a:lnTo>
                    <a:pt x="52" y="103"/>
                  </a:lnTo>
                  <a:lnTo>
                    <a:pt x="48" y="103"/>
                  </a:lnTo>
                  <a:lnTo>
                    <a:pt x="45" y="101"/>
                  </a:lnTo>
                  <a:lnTo>
                    <a:pt x="42" y="101"/>
                  </a:lnTo>
                  <a:lnTo>
                    <a:pt x="25" y="93"/>
                  </a:lnTo>
                  <a:lnTo>
                    <a:pt x="20" y="88"/>
                  </a:lnTo>
                  <a:lnTo>
                    <a:pt x="17" y="86"/>
                  </a:lnTo>
                  <a:lnTo>
                    <a:pt x="15" y="84"/>
                  </a:lnTo>
                  <a:lnTo>
                    <a:pt x="12" y="83"/>
                  </a:lnTo>
                  <a:lnTo>
                    <a:pt x="7" y="7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5092560" y="4755960"/>
              <a:ext cx="483120" cy="44208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5" y="0"/>
                  </a:moveTo>
                  <a:lnTo>
                    <a:pt x="15" y="1"/>
                  </a:lnTo>
                  <a:lnTo>
                    <a:pt x="0" y="14"/>
                  </a:lnTo>
                  <a:lnTo>
                    <a:pt x="115" y="131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32" y="117"/>
                  </a:lnTo>
                  <a:lnTo>
                    <a:pt x="132" y="114"/>
                  </a:lnTo>
                  <a:lnTo>
                    <a:pt x="130" y="114"/>
                  </a:lnTo>
                  <a:lnTo>
                    <a:pt x="17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3573720" y="3578400"/>
              <a:ext cx="873720" cy="583200"/>
            </a:xfrm>
            <a:custGeom>
              <a:avLst/>
              <a:gdLst/>
              <a:ahLst/>
              <a:rect l="l" t="t" r="r" b="b"/>
              <a:pathLst>
                <a:path w="239" h="172">
                  <a:moveTo>
                    <a:pt x="0" y="49"/>
                  </a:moveTo>
                  <a:lnTo>
                    <a:pt x="5" y="50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7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7"/>
                  </a:lnTo>
                  <a:lnTo>
                    <a:pt x="34" y="59"/>
                  </a:lnTo>
                  <a:lnTo>
                    <a:pt x="39" y="60"/>
                  </a:lnTo>
                  <a:lnTo>
                    <a:pt x="42" y="60"/>
                  </a:lnTo>
                  <a:lnTo>
                    <a:pt x="45" y="62"/>
                  </a:lnTo>
                  <a:lnTo>
                    <a:pt x="50" y="64"/>
                  </a:lnTo>
                  <a:lnTo>
                    <a:pt x="54" y="65"/>
                  </a:lnTo>
                  <a:lnTo>
                    <a:pt x="57" y="67"/>
                  </a:lnTo>
                  <a:lnTo>
                    <a:pt x="60" y="67"/>
                  </a:lnTo>
                  <a:lnTo>
                    <a:pt x="63" y="69"/>
                  </a:lnTo>
                  <a:lnTo>
                    <a:pt x="67" y="70"/>
                  </a:lnTo>
                  <a:lnTo>
                    <a:pt x="72" y="72"/>
                  </a:lnTo>
                  <a:lnTo>
                    <a:pt x="75" y="72"/>
                  </a:lnTo>
                  <a:lnTo>
                    <a:pt x="78" y="74"/>
                  </a:lnTo>
                  <a:lnTo>
                    <a:pt x="82" y="75"/>
                  </a:lnTo>
                  <a:lnTo>
                    <a:pt x="85" y="77"/>
                  </a:lnTo>
                  <a:lnTo>
                    <a:pt x="87" y="79"/>
                  </a:lnTo>
                  <a:lnTo>
                    <a:pt x="90" y="79"/>
                  </a:lnTo>
                  <a:lnTo>
                    <a:pt x="93" y="80"/>
                  </a:lnTo>
                  <a:lnTo>
                    <a:pt x="97" y="82"/>
                  </a:lnTo>
                  <a:lnTo>
                    <a:pt x="100" y="84"/>
                  </a:lnTo>
                  <a:lnTo>
                    <a:pt x="102" y="85"/>
                  </a:lnTo>
                  <a:lnTo>
                    <a:pt x="105" y="87"/>
                  </a:lnTo>
                  <a:lnTo>
                    <a:pt x="108" y="87"/>
                  </a:lnTo>
                  <a:lnTo>
                    <a:pt x="110" y="88"/>
                  </a:lnTo>
                  <a:lnTo>
                    <a:pt x="113" y="90"/>
                  </a:lnTo>
                  <a:lnTo>
                    <a:pt x="117" y="92"/>
                  </a:lnTo>
                  <a:lnTo>
                    <a:pt x="118" y="93"/>
                  </a:lnTo>
                  <a:lnTo>
                    <a:pt x="122" y="93"/>
                  </a:lnTo>
                  <a:lnTo>
                    <a:pt x="125" y="97"/>
                  </a:lnTo>
                  <a:lnTo>
                    <a:pt x="128" y="98"/>
                  </a:lnTo>
                  <a:lnTo>
                    <a:pt x="130" y="100"/>
                  </a:lnTo>
                  <a:lnTo>
                    <a:pt x="133" y="102"/>
                  </a:lnTo>
                  <a:lnTo>
                    <a:pt x="135" y="103"/>
                  </a:lnTo>
                  <a:lnTo>
                    <a:pt x="137" y="103"/>
                  </a:lnTo>
                  <a:lnTo>
                    <a:pt x="140" y="107"/>
                  </a:lnTo>
                  <a:lnTo>
                    <a:pt x="143" y="108"/>
                  </a:lnTo>
                  <a:lnTo>
                    <a:pt x="150" y="115"/>
                  </a:lnTo>
                  <a:lnTo>
                    <a:pt x="151" y="115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61" y="127"/>
                  </a:lnTo>
                  <a:lnTo>
                    <a:pt x="161" y="128"/>
                  </a:lnTo>
                  <a:lnTo>
                    <a:pt x="163" y="128"/>
                  </a:lnTo>
                  <a:lnTo>
                    <a:pt x="165" y="130"/>
                  </a:lnTo>
                  <a:lnTo>
                    <a:pt x="165" y="132"/>
                  </a:lnTo>
                  <a:lnTo>
                    <a:pt x="166" y="133"/>
                  </a:lnTo>
                  <a:lnTo>
                    <a:pt x="166" y="135"/>
                  </a:lnTo>
                  <a:lnTo>
                    <a:pt x="168" y="137"/>
                  </a:lnTo>
                  <a:lnTo>
                    <a:pt x="143" y="155"/>
                  </a:lnTo>
                  <a:lnTo>
                    <a:pt x="223" y="172"/>
                  </a:lnTo>
                  <a:lnTo>
                    <a:pt x="239" y="85"/>
                  </a:lnTo>
                  <a:lnTo>
                    <a:pt x="215" y="103"/>
                  </a:lnTo>
                  <a:lnTo>
                    <a:pt x="215" y="102"/>
                  </a:lnTo>
                  <a:lnTo>
                    <a:pt x="213" y="100"/>
                  </a:lnTo>
                  <a:lnTo>
                    <a:pt x="213" y="98"/>
                  </a:lnTo>
                  <a:lnTo>
                    <a:pt x="211" y="97"/>
                  </a:lnTo>
                  <a:lnTo>
                    <a:pt x="211" y="95"/>
                  </a:lnTo>
                  <a:lnTo>
                    <a:pt x="208" y="92"/>
                  </a:lnTo>
                  <a:lnTo>
                    <a:pt x="208" y="90"/>
                  </a:lnTo>
                  <a:lnTo>
                    <a:pt x="205" y="87"/>
                  </a:lnTo>
                  <a:lnTo>
                    <a:pt x="205" y="85"/>
                  </a:lnTo>
                  <a:lnTo>
                    <a:pt x="203" y="84"/>
                  </a:lnTo>
                  <a:lnTo>
                    <a:pt x="201" y="84"/>
                  </a:lnTo>
                  <a:lnTo>
                    <a:pt x="200" y="82"/>
                  </a:lnTo>
                  <a:lnTo>
                    <a:pt x="200" y="80"/>
                  </a:lnTo>
                  <a:lnTo>
                    <a:pt x="190" y="70"/>
                  </a:lnTo>
                  <a:lnTo>
                    <a:pt x="188" y="70"/>
                  </a:lnTo>
                  <a:lnTo>
                    <a:pt x="180" y="62"/>
                  </a:lnTo>
                  <a:lnTo>
                    <a:pt x="176" y="60"/>
                  </a:lnTo>
                  <a:lnTo>
                    <a:pt x="171" y="55"/>
                  </a:lnTo>
                  <a:lnTo>
                    <a:pt x="168" y="54"/>
                  </a:lnTo>
                  <a:lnTo>
                    <a:pt x="165" y="50"/>
                  </a:lnTo>
                  <a:lnTo>
                    <a:pt x="161" y="49"/>
                  </a:lnTo>
                  <a:lnTo>
                    <a:pt x="160" y="47"/>
                  </a:lnTo>
                  <a:lnTo>
                    <a:pt x="156" y="45"/>
                  </a:lnTo>
                  <a:lnTo>
                    <a:pt x="155" y="44"/>
                  </a:lnTo>
                  <a:lnTo>
                    <a:pt x="151" y="42"/>
                  </a:lnTo>
                  <a:lnTo>
                    <a:pt x="150" y="40"/>
                  </a:lnTo>
                  <a:lnTo>
                    <a:pt x="146" y="39"/>
                  </a:lnTo>
                  <a:lnTo>
                    <a:pt x="145" y="37"/>
                  </a:lnTo>
                  <a:lnTo>
                    <a:pt x="141" y="35"/>
                  </a:lnTo>
                  <a:lnTo>
                    <a:pt x="138" y="34"/>
                  </a:lnTo>
                  <a:lnTo>
                    <a:pt x="137" y="32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7" y="27"/>
                  </a:lnTo>
                  <a:lnTo>
                    <a:pt x="123" y="25"/>
                  </a:lnTo>
                  <a:lnTo>
                    <a:pt x="122" y="22"/>
                  </a:lnTo>
                  <a:lnTo>
                    <a:pt x="118" y="20"/>
                  </a:lnTo>
                  <a:lnTo>
                    <a:pt x="115" y="19"/>
                  </a:lnTo>
                  <a:lnTo>
                    <a:pt x="112" y="17"/>
                  </a:lnTo>
                  <a:lnTo>
                    <a:pt x="108" y="15"/>
                  </a:lnTo>
                  <a:lnTo>
                    <a:pt x="105" y="14"/>
                  </a:lnTo>
                  <a:lnTo>
                    <a:pt x="102" y="12"/>
                  </a:lnTo>
                  <a:lnTo>
                    <a:pt x="98" y="10"/>
                  </a:lnTo>
                  <a:lnTo>
                    <a:pt x="95" y="9"/>
                  </a:lnTo>
                  <a:lnTo>
                    <a:pt x="92" y="5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82" y="3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865240" y="2117880"/>
              <a:ext cx="71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eless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863080" y="2331360"/>
              <a:ext cx="101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ntral T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621680" y="5622480"/>
              <a:ext cx="100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reless = Part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4619880" y="5825520"/>
              <a:ext cx="93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ervice "Bundle"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982240" y="4096800"/>
              <a:ext cx="57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ndset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981880" y="42991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4583160" y="2426040"/>
              <a:ext cx="57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ndset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584600" y="263232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dem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583520" y="2835360"/>
              <a:ext cx="109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ssaging Pager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4584960" y="3041640"/>
              <a:ext cx="114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ferencing Tool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4583880" y="3244680"/>
              <a:ext cx="66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mputer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584600" y="345168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ata Bank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4584960" y="366120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te Control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4584960" y="386424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5" name=""/>
          <p:cNvGrpSpPr/>
          <p:nvPr/>
        </p:nvGrpSpPr>
        <p:grpSpPr>
          <a:xfrm>
            <a:off x="2735280" y="2041560"/>
            <a:ext cx="3646080" cy="3897000"/>
            <a:chOff x="2735280" y="2041560"/>
            <a:chExt cx="3646080" cy="3897000"/>
          </a:xfrm>
        </p:grpSpPr>
        <p:sp>
          <p:nvSpPr>
            <p:cNvPr id="6266" name=""/>
            <p:cNvSpPr/>
            <p:nvPr/>
          </p:nvSpPr>
          <p:spPr>
            <a:xfrm>
              <a:off x="2778480" y="2100600"/>
              <a:ext cx="3602880" cy="3837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735280" y="2041560"/>
              <a:ext cx="3549240" cy="378612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030480" y="269676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5412960" y="2764080"/>
              <a:ext cx="755280" cy="2288880"/>
            </a:xfrm>
            <a:custGeom>
              <a:avLst/>
              <a:gdLst/>
              <a:ahLst/>
              <a:rect l="l" t="t" r="r" b="b"/>
              <a:pathLst>
                <a:path w="257" h="742">
                  <a:moveTo>
                    <a:pt x="14" y="111"/>
                  </a:moveTo>
                  <a:lnTo>
                    <a:pt x="97" y="111"/>
                  </a:lnTo>
                  <a:lnTo>
                    <a:pt x="97" y="0"/>
                  </a:lnTo>
                  <a:lnTo>
                    <a:pt x="257" y="377"/>
                  </a:lnTo>
                  <a:lnTo>
                    <a:pt x="97" y="742"/>
                  </a:lnTo>
                  <a:lnTo>
                    <a:pt x="97" y="629"/>
                  </a:lnTo>
                  <a:lnTo>
                    <a:pt x="0" y="629"/>
                  </a:lnTo>
                  <a:lnTo>
                    <a:pt x="0" y="111"/>
                  </a:lnTo>
                  <a:lnTo>
                    <a:pt x="14" y="1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5576760" y="390204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869560" y="2056680"/>
              <a:ext cx="170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stinct  Media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801880" y="2261520"/>
              <a:ext cx="216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/Special Wireless Co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3843000" y="2463120"/>
              <a:ext cx="470880" cy="64692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0"/>
                  </a:lnTo>
                  <a:lnTo>
                    <a:pt x="51" y="198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3843000" y="3134160"/>
              <a:ext cx="470880" cy="64332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7"/>
                  </a:lnTo>
                  <a:lnTo>
                    <a:pt x="51" y="167"/>
                  </a:lnTo>
                  <a:lnTo>
                    <a:pt x="0" y="167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3843000" y="3819600"/>
              <a:ext cx="470880" cy="64656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8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843000" y="4493520"/>
              <a:ext cx="470880" cy="64368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7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843000" y="5154120"/>
              <a:ext cx="470880" cy="651960"/>
            </a:xfrm>
            <a:custGeom>
              <a:avLst/>
              <a:gdLst/>
              <a:ahLst/>
              <a:rect l="l" t="t" r="r" b="b"/>
              <a:pathLst>
                <a:path w="136" h="200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2"/>
                  </a:lnTo>
                  <a:lnTo>
                    <a:pt x="51" y="200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902320" y="319932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p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962440" y="340956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860920" y="386640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78560" y="4031280"/>
              <a:ext cx="97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016440" y="47642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024000" y="552024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788360" y="539100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ultimedia Sou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779720" y="5530680"/>
              <a:ext cx="84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Coding Same 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783680" y="5661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Wired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289760" y="2743920"/>
              <a:ext cx="1033560" cy="437040"/>
            </a:xfrm>
            <a:custGeom>
              <a:avLst/>
              <a:gdLst/>
              <a:ahLst/>
              <a:rect l="l" t="t" r="r" b="b"/>
              <a:pathLst>
                <a:path w="299" h="134">
                  <a:moveTo>
                    <a:pt x="0" y="78"/>
                  </a:moveTo>
                  <a:lnTo>
                    <a:pt x="27" y="78"/>
                  </a:lnTo>
                  <a:lnTo>
                    <a:pt x="32" y="76"/>
                  </a:lnTo>
                  <a:lnTo>
                    <a:pt x="77" y="76"/>
                  </a:lnTo>
                  <a:lnTo>
                    <a:pt x="82" y="78"/>
                  </a:lnTo>
                  <a:lnTo>
                    <a:pt x="115" y="78"/>
                  </a:lnTo>
                  <a:lnTo>
                    <a:pt x="118" y="79"/>
                  </a:lnTo>
                  <a:lnTo>
                    <a:pt x="135" y="79"/>
                  </a:lnTo>
                  <a:lnTo>
                    <a:pt x="138" y="81"/>
                  </a:lnTo>
                  <a:lnTo>
                    <a:pt x="148" y="81"/>
                  </a:lnTo>
                  <a:lnTo>
                    <a:pt x="151" y="83"/>
                  </a:lnTo>
                  <a:lnTo>
                    <a:pt x="161" y="83"/>
                  </a:lnTo>
                  <a:lnTo>
                    <a:pt x="165" y="84"/>
                  </a:lnTo>
                  <a:lnTo>
                    <a:pt x="171" y="84"/>
                  </a:lnTo>
                  <a:lnTo>
                    <a:pt x="173" y="86"/>
                  </a:lnTo>
                  <a:lnTo>
                    <a:pt x="180" y="86"/>
                  </a:lnTo>
                  <a:lnTo>
                    <a:pt x="181" y="88"/>
                  </a:lnTo>
                  <a:lnTo>
                    <a:pt x="185" y="88"/>
                  </a:lnTo>
                  <a:lnTo>
                    <a:pt x="186" y="89"/>
                  </a:lnTo>
                  <a:lnTo>
                    <a:pt x="190" y="89"/>
                  </a:lnTo>
                  <a:lnTo>
                    <a:pt x="193" y="91"/>
                  </a:lnTo>
                  <a:lnTo>
                    <a:pt x="196" y="91"/>
                  </a:lnTo>
                  <a:lnTo>
                    <a:pt x="199" y="93"/>
                  </a:lnTo>
                  <a:lnTo>
                    <a:pt x="201" y="93"/>
                  </a:lnTo>
                  <a:lnTo>
                    <a:pt x="203" y="94"/>
                  </a:lnTo>
                  <a:lnTo>
                    <a:pt x="206" y="94"/>
                  </a:lnTo>
                  <a:lnTo>
                    <a:pt x="208" y="96"/>
                  </a:lnTo>
                  <a:lnTo>
                    <a:pt x="209" y="96"/>
                  </a:lnTo>
                  <a:lnTo>
                    <a:pt x="211" y="98"/>
                  </a:lnTo>
                  <a:lnTo>
                    <a:pt x="213" y="98"/>
                  </a:lnTo>
                  <a:lnTo>
                    <a:pt x="216" y="101"/>
                  </a:lnTo>
                  <a:lnTo>
                    <a:pt x="218" y="101"/>
                  </a:lnTo>
                  <a:lnTo>
                    <a:pt x="219" y="103"/>
                  </a:lnTo>
                  <a:lnTo>
                    <a:pt x="221" y="103"/>
                  </a:lnTo>
                  <a:lnTo>
                    <a:pt x="223" y="104"/>
                  </a:lnTo>
                  <a:lnTo>
                    <a:pt x="203" y="134"/>
                  </a:lnTo>
                  <a:lnTo>
                    <a:pt x="299" y="123"/>
                  </a:lnTo>
                  <a:lnTo>
                    <a:pt x="282" y="28"/>
                  </a:lnTo>
                  <a:lnTo>
                    <a:pt x="261" y="56"/>
                  </a:lnTo>
                  <a:lnTo>
                    <a:pt x="251" y="46"/>
                  </a:lnTo>
                  <a:lnTo>
                    <a:pt x="249" y="46"/>
                  </a:lnTo>
                  <a:lnTo>
                    <a:pt x="246" y="43"/>
                  </a:lnTo>
                  <a:lnTo>
                    <a:pt x="244" y="43"/>
                  </a:lnTo>
                  <a:lnTo>
                    <a:pt x="243" y="41"/>
                  </a:lnTo>
                  <a:lnTo>
                    <a:pt x="239" y="40"/>
                  </a:lnTo>
                  <a:lnTo>
                    <a:pt x="238" y="40"/>
                  </a:lnTo>
                  <a:lnTo>
                    <a:pt x="236" y="38"/>
                  </a:lnTo>
                  <a:lnTo>
                    <a:pt x="234" y="38"/>
                  </a:lnTo>
                  <a:lnTo>
                    <a:pt x="233" y="36"/>
                  </a:lnTo>
                  <a:lnTo>
                    <a:pt x="229" y="35"/>
                  </a:lnTo>
                  <a:lnTo>
                    <a:pt x="228" y="35"/>
                  </a:lnTo>
                  <a:lnTo>
                    <a:pt x="226" y="33"/>
                  </a:lnTo>
                  <a:lnTo>
                    <a:pt x="223" y="31"/>
                  </a:lnTo>
                  <a:lnTo>
                    <a:pt x="221" y="31"/>
                  </a:lnTo>
                  <a:lnTo>
                    <a:pt x="218" y="30"/>
                  </a:lnTo>
                  <a:lnTo>
                    <a:pt x="216" y="30"/>
                  </a:lnTo>
                  <a:lnTo>
                    <a:pt x="213" y="28"/>
                  </a:lnTo>
                  <a:lnTo>
                    <a:pt x="211" y="28"/>
                  </a:lnTo>
                  <a:lnTo>
                    <a:pt x="208" y="26"/>
                  </a:lnTo>
                  <a:lnTo>
                    <a:pt x="204" y="26"/>
                  </a:lnTo>
                  <a:lnTo>
                    <a:pt x="203" y="25"/>
                  </a:lnTo>
                  <a:lnTo>
                    <a:pt x="199" y="25"/>
                  </a:lnTo>
                  <a:lnTo>
                    <a:pt x="196" y="23"/>
                  </a:lnTo>
                  <a:lnTo>
                    <a:pt x="193" y="21"/>
                  </a:lnTo>
                  <a:lnTo>
                    <a:pt x="190" y="21"/>
                  </a:lnTo>
                  <a:lnTo>
                    <a:pt x="186" y="20"/>
                  </a:lnTo>
                  <a:lnTo>
                    <a:pt x="181" y="20"/>
                  </a:lnTo>
                  <a:lnTo>
                    <a:pt x="178" y="18"/>
                  </a:lnTo>
                  <a:lnTo>
                    <a:pt x="175" y="18"/>
                  </a:lnTo>
                  <a:lnTo>
                    <a:pt x="170" y="16"/>
                  </a:lnTo>
                  <a:lnTo>
                    <a:pt x="166" y="16"/>
                  </a:lnTo>
                  <a:lnTo>
                    <a:pt x="163" y="15"/>
                  </a:lnTo>
                  <a:lnTo>
                    <a:pt x="160" y="15"/>
                  </a:lnTo>
                  <a:lnTo>
                    <a:pt x="156" y="13"/>
                  </a:lnTo>
                  <a:lnTo>
                    <a:pt x="153" y="13"/>
                  </a:lnTo>
                  <a:lnTo>
                    <a:pt x="148" y="11"/>
                  </a:lnTo>
                  <a:lnTo>
                    <a:pt x="141" y="11"/>
                  </a:lnTo>
                  <a:lnTo>
                    <a:pt x="136" y="10"/>
                  </a:lnTo>
                  <a:lnTo>
                    <a:pt x="133" y="10"/>
                  </a:lnTo>
                  <a:lnTo>
                    <a:pt x="128" y="8"/>
                  </a:lnTo>
                  <a:lnTo>
                    <a:pt x="120" y="8"/>
                  </a:lnTo>
                  <a:lnTo>
                    <a:pt x="117" y="6"/>
                  </a:lnTo>
                  <a:lnTo>
                    <a:pt x="107" y="6"/>
                  </a:lnTo>
                  <a:lnTo>
                    <a:pt x="103" y="5"/>
                  </a:lnTo>
                  <a:lnTo>
                    <a:pt x="93" y="5"/>
                  </a:lnTo>
                  <a:lnTo>
                    <a:pt x="90" y="3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90" y="3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4257720" y="4935600"/>
              <a:ext cx="1037520" cy="446760"/>
            </a:xfrm>
            <a:custGeom>
              <a:avLst/>
              <a:gdLst/>
              <a:ahLst/>
              <a:rect l="l" t="t" r="r" b="b"/>
              <a:pathLst>
                <a:path w="300" h="137">
                  <a:moveTo>
                    <a:pt x="0" y="59"/>
                  </a:moveTo>
                  <a:lnTo>
                    <a:pt x="12" y="59"/>
                  </a:lnTo>
                  <a:lnTo>
                    <a:pt x="17" y="60"/>
                  </a:lnTo>
                  <a:lnTo>
                    <a:pt x="115" y="60"/>
                  </a:lnTo>
                  <a:lnTo>
                    <a:pt x="118" y="59"/>
                  </a:lnTo>
                  <a:lnTo>
                    <a:pt x="134" y="59"/>
                  </a:lnTo>
                  <a:lnTo>
                    <a:pt x="138" y="57"/>
                  </a:lnTo>
                  <a:lnTo>
                    <a:pt x="148" y="57"/>
                  </a:lnTo>
                  <a:lnTo>
                    <a:pt x="151" y="55"/>
                  </a:lnTo>
                  <a:lnTo>
                    <a:pt x="161" y="55"/>
                  </a:lnTo>
                  <a:lnTo>
                    <a:pt x="164" y="54"/>
                  </a:lnTo>
                  <a:lnTo>
                    <a:pt x="171" y="54"/>
                  </a:lnTo>
                  <a:lnTo>
                    <a:pt x="173" y="52"/>
                  </a:lnTo>
                  <a:lnTo>
                    <a:pt x="176" y="52"/>
                  </a:lnTo>
                  <a:lnTo>
                    <a:pt x="179" y="50"/>
                  </a:lnTo>
                  <a:lnTo>
                    <a:pt x="184" y="50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6" y="42"/>
                  </a:lnTo>
                  <a:lnTo>
                    <a:pt x="207" y="42"/>
                  </a:lnTo>
                  <a:lnTo>
                    <a:pt x="211" y="40"/>
                  </a:lnTo>
                  <a:lnTo>
                    <a:pt x="212" y="39"/>
                  </a:lnTo>
                  <a:lnTo>
                    <a:pt x="214" y="39"/>
                  </a:lnTo>
                  <a:lnTo>
                    <a:pt x="216" y="37"/>
                  </a:lnTo>
                  <a:lnTo>
                    <a:pt x="217" y="37"/>
                  </a:lnTo>
                  <a:lnTo>
                    <a:pt x="221" y="34"/>
                  </a:lnTo>
                  <a:lnTo>
                    <a:pt x="222" y="34"/>
                  </a:lnTo>
                  <a:lnTo>
                    <a:pt x="224" y="32"/>
                  </a:lnTo>
                  <a:lnTo>
                    <a:pt x="222" y="30"/>
                  </a:lnTo>
                  <a:lnTo>
                    <a:pt x="203" y="0"/>
                  </a:lnTo>
                  <a:lnTo>
                    <a:pt x="300" y="14"/>
                  </a:lnTo>
                  <a:lnTo>
                    <a:pt x="284" y="108"/>
                  </a:lnTo>
                  <a:lnTo>
                    <a:pt x="261" y="80"/>
                  </a:lnTo>
                  <a:lnTo>
                    <a:pt x="259" y="82"/>
                  </a:lnTo>
                  <a:lnTo>
                    <a:pt x="259" y="83"/>
                  </a:lnTo>
                  <a:lnTo>
                    <a:pt x="257" y="83"/>
                  </a:lnTo>
                  <a:lnTo>
                    <a:pt x="256" y="85"/>
                  </a:lnTo>
                  <a:lnTo>
                    <a:pt x="256" y="87"/>
                  </a:lnTo>
                  <a:lnTo>
                    <a:pt x="254" y="88"/>
                  </a:lnTo>
                  <a:lnTo>
                    <a:pt x="252" y="88"/>
                  </a:lnTo>
                  <a:lnTo>
                    <a:pt x="249" y="92"/>
                  </a:lnTo>
                  <a:lnTo>
                    <a:pt x="247" y="92"/>
                  </a:lnTo>
                  <a:lnTo>
                    <a:pt x="244" y="95"/>
                  </a:lnTo>
                  <a:lnTo>
                    <a:pt x="242" y="95"/>
                  </a:lnTo>
                  <a:lnTo>
                    <a:pt x="237" y="100"/>
                  </a:lnTo>
                  <a:lnTo>
                    <a:pt x="236" y="100"/>
                  </a:lnTo>
                  <a:lnTo>
                    <a:pt x="232" y="102"/>
                  </a:lnTo>
                  <a:lnTo>
                    <a:pt x="231" y="102"/>
                  </a:lnTo>
                  <a:lnTo>
                    <a:pt x="229" y="103"/>
                  </a:lnTo>
                  <a:lnTo>
                    <a:pt x="226" y="105"/>
                  </a:lnTo>
                  <a:lnTo>
                    <a:pt x="224" y="105"/>
                  </a:lnTo>
                  <a:lnTo>
                    <a:pt x="222" y="107"/>
                  </a:lnTo>
                  <a:lnTo>
                    <a:pt x="219" y="108"/>
                  </a:lnTo>
                  <a:lnTo>
                    <a:pt x="217" y="108"/>
                  </a:lnTo>
                  <a:lnTo>
                    <a:pt x="214" y="110"/>
                  </a:lnTo>
                  <a:lnTo>
                    <a:pt x="212" y="110"/>
                  </a:lnTo>
                  <a:lnTo>
                    <a:pt x="209" y="112"/>
                  </a:lnTo>
                  <a:lnTo>
                    <a:pt x="206" y="112"/>
                  </a:lnTo>
                  <a:lnTo>
                    <a:pt x="204" y="113"/>
                  </a:lnTo>
                  <a:lnTo>
                    <a:pt x="201" y="113"/>
                  </a:lnTo>
                  <a:lnTo>
                    <a:pt x="198" y="115"/>
                  </a:lnTo>
                  <a:lnTo>
                    <a:pt x="194" y="117"/>
                  </a:lnTo>
                  <a:lnTo>
                    <a:pt x="191" y="117"/>
                  </a:lnTo>
                  <a:lnTo>
                    <a:pt x="188" y="118"/>
                  </a:lnTo>
                  <a:lnTo>
                    <a:pt x="186" y="118"/>
                  </a:lnTo>
                  <a:lnTo>
                    <a:pt x="183" y="120"/>
                  </a:lnTo>
                  <a:lnTo>
                    <a:pt x="179" y="120"/>
                  </a:lnTo>
                  <a:lnTo>
                    <a:pt x="174" y="122"/>
                  </a:lnTo>
                  <a:lnTo>
                    <a:pt x="168" y="122"/>
                  </a:lnTo>
                  <a:lnTo>
                    <a:pt x="164" y="123"/>
                  </a:lnTo>
                  <a:lnTo>
                    <a:pt x="161" y="123"/>
                  </a:lnTo>
                  <a:lnTo>
                    <a:pt x="158" y="125"/>
                  </a:lnTo>
                  <a:lnTo>
                    <a:pt x="153" y="125"/>
                  </a:lnTo>
                  <a:lnTo>
                    <a:pt x="149" y="127"/>
                  </a:lnTo>
                  <a:lnTo>
                    <a:pt x="146" y="127"/>
                  </a:lnTo>
                  <a:lnTo>
                    <a:pt x="141" y="128"/>
                  </a:lnTo>
                  <a:lnTo>
                    <a:pt x="133" y="128"/>
                  </a:lnTo>
                  <a:lnTo>
                    <a:pt x="129" y="130"/>
                  </a:lnTo>
                  <a:lnTo>
                    <a:pt x="121" y="130"/>
                  </a:lnTo>
                  <a:lnTo>
                    <a:pt x="116" y="132"/>
                  </a:lnTo>
                  <a:lnTo>
                    <a:pt x="113" y="132"/>
                  </a:lnTo>
                  <a:lnTo>
                    <a:pt x="108" y="133"/>
                  </a:lnTo>
                  <a:lnTo>
                    <a:pt x="95" y="133"/>
                  </a:lnTo>
                  <a:lnTo>
                    <a:pt x="90" y="135"/>
                  </a:lnTo>
                  <a:lnTo>
                    <a:pt x="80" y="135"/>
                  </a:lnTo>
                  <a:lnTo>
                    <a:pt x="75" y="137"/>
                  </a:lnTo>
                  <a:lnTo>
                    <a:pt x="70" y="137"/>
                  </a:lnTo>
                  <a:lnTo>
                    <a:pt x="71" y="137"/>
                  </a:lnTo>
                  <a:lnTo>
                    <a:pt x="90" y="10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4428720" y="4422960"/>
              <a:ext cx="1029600" cy="436680"/>
            </a:xfrm>
            <a:custGeom>
              <a:avLst/>
              <a:gdLst/>
              <a:ahLst/>
              <a:rect l="l" t="t" r="r" b="b"/>
              <a:pathLst>
                <a:path w="298" h="134">
                  <a:moveTo>
                    <a:pt x="0" y="56"/>
                  </a:moveTo>
                  <a:lnTo>
                    <a:pt x="11" y="56"/>
                  </a:lnTo>
                  <a:lnTo>
                    <a:pt x="16" y="58"/>
                  </a:lnTo>
                  <a:lnTo>
                    <a:pt x="114" y="58"/>
                  </a:lnTo>
                  <a:lnTo>
                    <a:pt x="117" y="56"/>
                  </a:lnTo>
                  <a:lnTo>
                    <a:pt x="134" y="56"/>
                  </a:lnTo>
                  <a:lnTo>
                    <a:pt x="137" y="55"/>
                  </a:lnTo>
                  <a:lnTo>
                    <a:pt x="147" y="55"/>
                  </a:lnTo>
                  <a:lnTo>
                    <a:pt x="151" y="53"/>
                  </a:lnTo>
                  <a:lnTo>
                    <a:pt x="161" y="53"/>
                  </a:lnTo>
                  <a:lnTo>
                    <a:pt x="164" y="51"/>
                  </a:lnTo>
                  <a:lnTo>
                    <a:pt x="170" y="51"/>
                  </a:lnTo>
                  <a:lnTo>
                    <a:pt x="172" y="50"/>
                  </a:lnTo>
                  <a:lnTo>
                    <a:pt x="175" y="50"/>
                  </a:lnTo>
                  <a:lnTo>
                    <a:pt x="179" y="48"/>
                  </a:lnTo>
                  <a:lnTo>
                    <a:pt x="184" y="48"/>
                  </a:lnTo>
                  <a:lnTo>
                    <a:pt x="185" y="46"/>
                  </a:lnTo>
                  <a:lnTo>
                    <a:pt x="189" y="46"/>
                  </a:lnTo>
                  <a:lnTo>
                    <a:pt x="192" y="45"/>
                  </a:lnTo>
                  <a:lnTo>
                    <a:pt x="194" y="45"/>
                  </a:lnTo>
                  <a:lnTo>
                    <a:pt x="195" y="43"/>
                  </a:lnTo>
                  <a:lnTo>
                    <a:pt x="199" y="43"/>
                  </a:lnTo>
                  <a:lnTo>
                    <a:pt x="200" y="41"/>
                  </a:lnTo>
                  <a:lnTo>
                    <a:pt x="202" y="41"/>
                  </a:lnTo>
                  <a:lnTo>
                    <a:pt x="205" y="40"/>
                  </a:lnTo>
                  <a:lnTo>
                    <a:pt x="207" y="40"/>
                  </a:lnTo>
                  <a:lnTo>
                    <a:pt x="210" y="36"/>
                  </a:lnTo>
                  <a:lnTo>
                    <a:pt x="212" y="36"/>
                  </a:lnTo>
                  <a:lnTo>
                    <a:pt x="214" y="35"/>
                  </a:lnTo>
                  <a:lnTo>
                    <a:pt x="215" y="35"/>
                  </a:lnTo>
                  <a:lnTo>
                    <a:pt x="219" y="31"/>
                  </a:lnTo>
                  <a:lnTo>
                    <a:pt x="220" y="31"/>
                  </a:lnTo>
                  <a:lnTo>
                    <a:pt x="222" y="30"/>
                  </a:lnTo>
                  <a:lnTo>
                    <a:pt x="202" y="0"/>
                  </a:lnTo>
                  <a:lnTo>
                    <a:pt x="298" y="12"/>
                  </a:lnTo>
                  <a:lnTo>
                    <a:pt x="282" y="106"/>
                  </a:lnTo>
                  <a:lnTo>
                    <a:pt x="260" y="80"/>
                  </a:lnTo>
                  <a:lnTo>
                    <a:pt x="250" y="90"/>
                  </a:lnTo>
                  <a:lnTo>
                    <a:pt x="248" y="90"/>
                  </a:lnTo>
                  <a:lnTo>
                    <a:pt x="245" y="93"/>
                  </a:lnTo>
                  <a:lnTo>
                    <a:pt x="244" y="93"/>
                  </a:lnTo>
                  <a:lnTo>
                    <a:pt x="242" y="95"/>
                  </a:lnTo>
                  <a:lnTo>
                    <a:pt x="239" y="96"/>
                  </a:lnTo>
                  <a:lnTo>
                    <a:pt x="237" y="96"/>
                  </a:lnTo>
                  <a:lnTo>
                    <a:pt x="235" y="98"/>
                  </a:lnTo>
                  <a:lnTo>
                    <a:pt x="234" y="98"/>
                  </a:lnTo>
                  <a:lnTo>
                    <a:pt x="232" y="100"/>
                  </a:lnTo>
                  <a:lnTo>
                    <a:pt x="229" y="101"/>
                  </a:lnTo>
                  <a:lnTo>
                    <a:pt x="227" y="101"/>
                  </a:lnTo>
                  <a:lnTo>
                    <a:pt x="225" y="103"/>
                  </a:lnTo>
                  <a:lnTo>
                    <a:pt x="222" y="105"/>
                  </a:lnTo>
                  <a:lnTo>
                    <a:pt x="220" y="105"/>
                  </a:lnTo>
                  <a:lnTo>
                    <a:pt x="217" y="106"/>
                  </a:lnTo>
                  <a:lnTo>
                    <a:pt x="215" y="106"/>
                  </a:lnTo>
                  <a:lnTo>
                    <a:pt x="212" y="108"/>
                  </a:lnTo>
                  <a:lnTo>
                    <a:pt x="210" y="108"/>
                  </a:lnTo>
                  <a:lnTo>
                    <a:pt x="207" y="110"/>
                  </a:lnTo>
                  <a:lnTo>
                    <a:pt x="204" y="110"/>
                  </a:lnTo>
                  <a:lnTo>
                    <a:pt x="202" y="111"/>
                  </a:lnTo>
                  <a:lnTo>
                    <a:pt x="199" y="111"/>
                  </a:lnTo>
                  <a:lnTo>
                    <a:pt x="195" y="113"/>
                  </a:lnTo>
                  <a:lnTo>
                    <a:pt x="192" y="115"/>
                  </a:lnTo>
                  <a:lnTo>
                    <a:pt x="189" y="115"/>
                  </a:lnTo>
                  <a:lnTo>
                    <a:pt x="185" y="116"/>
                  </a:lnTo>
                  <a:lnTo>
                    <a:pt x="180" y="116"/>
                  </a:lnTo>
                  <a:lnTo>
                    <a:pt x="177" y="118"/>
                  </a:lnTo>
                  <a:lnTo>
                    <a:pt x="174" y="118"/>
                  </a:lnTo>
                  <a:lnTo>
                    <a:pt x="169" y="119"/>
                  </a:lnTo>
                  <a:lnTo>
                    <a:pt x="165" y="119"/>
                  </a:lnTo>
                  <a:lnTo>
                    <a:pt x="162" y="121"/>
                  </a:lnTo>
                  <a:lnTo>
                    <a:pt x="159" y="121"/>
                  </a:lnTo>
                  <a:lnTo>
                    <a:pt x="156" y="123"/>
                  </a:lnTo>
                  <a:lnTo>
                    <a:pt x="152" y="123"/>
                  </a:lnTo>
                  <a:lnTo>
                    <a:pt x="147" y="124"/>
                  </a:lnTo>
                  <a:lnTo>
                    <a:pt x="141" y="124"/>
                  </a:lnTo>
                  <a:lnTo>
                    <a:pt x="136" y="126"/>
                  </a:lnTo>
                  <a:lnTo>
                    <a:pt x="132" y="126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6" y="129"/>
                  </a:lnTo>
                  <a:lnTo>
                    <a:pt x="106" y="129"/>
                  </a:lnTo>
                  <a:lnTo>
                    <a:pt x="102" y="131"/>
                  </a:lnTo>
                  <a:lnTo>
                    <a:pt x="92" y="131"/>
                  </a:lnTo>
                  <a:lnTo>
                    <a:pt x="89" y="133"/>
                  </a:lnTo>
                  <a:lnTo>
                    <a:pt x="79" y="133"/>
                  </a:lnTo>
                  <a:lnTo>
                    <a:pt x="74" y="134"/>
                  </a:lnTo>
                  <a:lnTo>
                    <a:pt x="69" y="134"/>
                  </a:lnTo>
                  <a:lnTo>
                    <a:pt x="71" y="134"/>
                  </a:lnTo>
                  <a:lnTo>
                    <a:pt x="89" y="10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4421160" y="3290400"/>
              <a:ext cx="1037520" cy="441360"/>
            </a:xfrm>
            <a:custGeom>
              <a:avLst/>
              <a:gdLst/>
              <a:ahLst/>
              <a:rect l="l" t="t" r="r" b="b"/>
              <a:pathLst>
                <a:path w="300" h="135">
                  <a:moveTo>
                    <a:pt x="0" y="78"/>
                  </a:moveTo>
                  <a:lnTo>
                    <a:pt x="11" y="78"/>
                  </a:lnTo>
                  <a:lnTo>
                    <a:pt x="16" y="77"/>
                  </a:lnTo>
                  <a:lnTo>
                    <a:pt x="114" y="77"/>
                  </a:lnTo>
                  <a:lnTo>
                    <a:pt x="118" y="78"/>
                  </a:lnTo>
                  <a:lnTo>
                    <a:pt x="134" y="78"/>
                  </a:lnTo>
                  <a:lnTo>
                    <a:pt x="138" y="80"/>
                  </a:lnTo>
                  <a:lnTo>
                    <a:pt x="148" y="80"/>
                  </a:lnTo>
                  <a:lnTo>
                    <a:pt x="151" y="81"/>
                  </a:lnTo>
                  <a:lnTo>
                    <a:pt x="161" y="81"/>
                  </a:lnTo>
                  <a:lnTo>
                    <a:pt x="164" y="83"/>
                  </a:lnTo>
                  <a:lnTo>
                    <a:pt x="171" y="83"/>
                  </a:lnTo>
                  <a:lnTo>
                    <a:pt x="172" y="85"/>
                  </a:lnTo>
                  <a:lnTo>
                    <a:pt x="176" y="85"/>
                  </a:lnTo>
                  <a:lnTo>
                    <a:pt x="179" y="86"/>
                  </a:lnTo>
                  <a:lnTo>
                    <a:pt x="184" y="86"/>
                  </a:lnTo>
                  <a:lnTo>
                    <a:pt x="187" y="88"/>
                  </a:lnTo>
                  <a:lnTo>
                    <a:pt x="189" y="88"/>
                  </a:lnTo>
                  <a:lnTo>
                    <a:pt x="192" y="90"/>
                  </a:lnTo>
                  <a:lnTo>
                    <a:pt x="194" y="90"/>
                  </a:lnTo>
                  <a:lnTo>
                    <a:pt x="197" y="91"/>
                  </a:lnTo>
                  <a:lnTo>
                    <a:pt x="199" y="91"/>
                  </a:lnTo>
                  <a:lnTo>
                    <a:pt x="202" y="93"/>
                  </a:lnTo>
                  <a:lnTo>
                    <a:pt x="204" y="93"/>
                  </a:lnTo>
                  <a:lnTo>
                    <a:pt x="206" y="95"/>
                  </a:lnTo>
                  <a:lnTo>
                    <a:pt x="207" y="95"/>
                  </a:lnTo>
                  <a:lnTo>
                    <a:pt x="211" y="96"/>
                  </a:lnTo>
                  <a:lnTo>
                    <a:pt x="212" y="98"/>
                  </a:lnTo>
                  <a:lnTo>
                    <a:pt x="214" y="98"/>
                  </a:lnTo>
                  <a:lnTo>
                    <a:pt x="216" y="100"/>
                  </a:lnTo>
                  <a:lnTo>
                    <a:pt x="217" y="100"/>
                  </a:lnTo>
                  <a:lnTo>
                    <a:pt x="221" y="103"/>
                  </a:lnTo>
                  <a:lnTo>
                    <a:pt x="222" y="103"/>
                  </a:lnTo>
                  <a:lnTo>
                    <a:pt x="224" y="105"/>
                  </a:lnTo>
                  <a:lnTo>
                    <a:pt x="222" y="105"/>
                  </a:lnTo>
                  <a:lnTo>
                    <a:pt x="202" y="135"/>
                  </a:lnTo>
                  <a:lnTo>
                    <a:pt x="300" y="123"/>
                  </a:lnTo>
                  <a:lnTo>
                    <a:pt x="284" y="28"/>
                  </a:lnTo>
                  <a:lnTo>
                    <a:pt x="260" y="57"/>
                  </a:lnTo>
                  <a:lnTo>
                    <a:pt x="255" y="52"/>
                  </a:lnTo>
                  <a:lnTo>
                    <a:pt x="255" y="50"/>
                  </a:lnTo>
                  <a:lnTo>
                    <a:pt x="254" y="50"/>
                  </a:lnTo>
                  <a:lnTo>
                    <a:pt x="250" y="47"/>
                  </a:lnTo>
                  <a:lnTo>
                    <a:pt x="249" y="47"/>
                  </a:lnTo>
                  <a:lnTo>
                    <a:pt x="246" y="43"/>
                  </a:lnTo>
                  <a:lnTo>
                    <a:pt x="244" y="43"/>
                  </a:lnTo>
                  <a:lnTo>
                    <a:pt x="242" y="42"/>
                  </a:lnTo>
                  <a:lnTo>
                    <a:pt x="241" y="42"/>
                  </a:lnTo>
                  <a:lnTo>
                    <a:pt x="237" y="38"/>
                  </a:lnTo>
                  <a:lnTo>
                    <a:pt x="236" y="38"/>
                  </a:lnTo>
                  <a:lnTo>
                    <a:pt x="232" y="37"/>
                  </a:lnTo>
                  <a:lnTo>
                    <a:pt x="231" y="35"/>
                  </a:lnTo>
                  <a:lnTo>
                    <a:pt x="229" y="35"/>
                  </a:lnTo>
                  <a:lnTo>
                    <a:pt x="226" y="33"/>
                  </a:lnTo>
                  <a:lnTo>
                    <a:pt x="224" y="33"/>
                  </a:lnTo>
                  <a:lnTo>
                    <a:pt x="222" y="32"/>
                  </a:lnTo>
                  <a:lnTo>
                    <a:pt x="219" y="30"/>
                  </a:lnTo>
                  <a:lnTo>
                    <a:pt x="217" y="30"/>
                  </a:lnTo>
                  <a:lnTo>
                    <a:pt x="214" y="28"/>
                  </a:lnTo>
                  <a:lnTo>
                    <a:pt x="212" y="28"/>
                  </a:lnTo>
                  <a:lnTo>
                    <a:pt x="209" y="27"/>
                  </a:lnTo>
                  <a:lnTo>
                    <a:pt x="206" y="27"/>
                  </a:lnTo>
                  <a:lnTo>
                    <a:pt x="204" y="25"/>
                  </a:lnTo>
                  <a:lnTo>
                    <a:pt x="201" y="25"/>
                  </a:lnTo>
                  <a:lnTo>
                    <a:pt x="197" y="23"/>
                  </a:lnTo>
                  <a:lnTo>
                    <a:pt x="194" y="22"/>
                  </a:lnTo>
                  <a:lnTo>
                    <a:pt x="191" y="22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2" y="18"/>
                  </a:lnTo>
                  <a:lnTo>
                    <a:pt x="179" y="18"/>
                  </a:lnTo>
                  <a:lnTo>
                    <a:pt x="174" y="17"/>
                  </a:lnTo>
                  <a:lnTo>
                    <a:pt x="171" y="17"/>
                  </a:lnTo>
                  <a:lnTo>
                    <a:pt x="167" y="15"/>
                  </a:lnTo>
                  <a:lnTo>
                    <a:pt x="161" y="15"/>
                  </a:lnTo>
                  <a:lnTo>
                    <a:pt x="158" y="13"/>
                  </a:lnTo>
                  <a:lnTo>
                    <a:pt x="153" y="13"/>
                  </a:lnTo>
                  <a:lnTo>
                    <a:pt x="149" y="12"/>
                  </a:lnTo>
                  <a:lnTo>
                    <a:pt x="146" y="12"/>
                  </a:lnTo>
                  <a:lnTo>
                    <a:pt x="141" y="10"/>
                  </a:lnTo>
                  <a:lnTo>
                    <a:pt x="138" y="10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21" y="7"/>
                  </a:lnTo>
                  <a:lnTo>
                    <a:pt x="116" y="7"/>
                  </a:lnTo>
                  <a:lnTo>
                    <a:pt x="113" y="5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0" y="2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89" y="3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4599720" y="3858120"/>
              <a:ext cx="853560" cy="43020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164" y="28"/>
                  </a:moveTo>
                  <a:lnTo>
                    <a:pt x="164" y="0"/>
                  </a:lnTo>
                  <a:lnTo>
                    <a:pt x="247" y="66"/>
                  </a:lnTo>
                  <a:lnTo>
                    <a:pt x="164" y="132"/>
                  </a:lnTo>
                  <a:lnTo>
                    <a:pt x="164" y="104"/>
                  </a:lnTo>
                  <a:lnTo>
                    <a:pt x="0" y="104"/>
                  </a:lnTo>
                  <a:lnTo>
                    <a:pt x="51" y="66"/>
                  </a:lnTo>
                  <a:lnTo>
                    <a:pt x="0" y="28"/>
                  </a:lnTo>
                  <a:lnTo>
                    <a:pt x="16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2" name=""/>
          <p:cNvSpPr/>
          <p:nvPr/>
        </p:nvSpPr>
        <p:spPr>
          <a:xfrm>
            <a:off x="2985840" y="599040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d-Network Compatible Source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6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2806560" y="2125800"/>
            <a:ext cx="3713400" cy="3908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2671920" y="2041560"/>
            <a:ext cx="3741480" cy="3881520"/>
          </a:xfrm>
          <a:prstGeom prst="rect">
            <a:avLst/>
          </a:prstGeom>
          <a:solidFill>
            <a:srgbClr val="33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3633840" y="4753080"/>
            <a:ext cx="676080" cy="668160"/>
          </a:xfrm>
          <a:custGeom>
            <a:avLst/>
            <a:gdLst/>
            <a:ahLst/>
            <a:rect l="l" t="t" r="r" b="b"/>
            <a:pathLst>
              <a:path w="180" h="201">
                <a:moveTo>
                  <a:pt x="56" y="9"/>
                </a:moveTo>
                <a:lnTo>
                  <a:pt x="53" y="10"/>
                </a:lnTo>
                <a:lnTo>
                  <a:pt x="49" y="12"/>
                </a:lnTo>
                <a:lnTo>
                  <a:pt x="46" y="14"/>
                </a:lnTo>
                <a:lnTo>
                  <a:pt x="44" y="15"/>
                </a:lnTo>
                <a:lnTo>
                  <a:pt x="41" y="17"/>
                </a:lnTo>
                <a:lnTo>
                  <a:pt x="38" y="20"/>
                </a:lnTo>
                <a:lnTo>
                  <a:pt x="34" y="22"/>
                </a:lnTo>
                <a:lnTo>
                  <a:pt x="23" y="33"/>
                </a:lnTo>
                <a:lnTo>
                  <a:pt x="21" y="37"/>
                </a:lnTo>
                <a:lnTo>
                  <a:pt x="16" y="42"/>
                </a:lnTo>
                <a:lnTo>
                  <a:pt x="14" y="45"/>
                </a:lnTo>
                <a:lnTo>
                  <a:pt x="13" y="48"/>
                </a:lnTo>
                <a:lnTo>
                  <a:pt x="11" y="52"/>
                </a:lnTo>
                <a:lnTo>
                  <a:pt x="10" y="55"/>
                </a:lnTo>
                <a:lnTo>
                  <a:pt x="8" y="58"/>
                </a:lnTo>
                <a:lnTo>
                  <a:pt x="6" y="62"/>
                </a:lnTo>
                <a:lnTo>
                  <a:pt x="6" y="65"/>
                </a:lnTo>
                <a:lnTo>
                  <a:pt x="5" y="68"/>
                </a:lnTo>
                <a:lnTo>
                  <a:pt x="3" y="72"/>
                </a:lnTo>
                <a:lnTo>
                  <a:pt x="3" y="75"/>
                </a:lnTo>
                <a:lnTo>
                  <a:pt x="1" y="78"/>
                </a:lnTo>
                <a:lnTo>
                  <a:pt x="1" y="85"/>
                </a:lnTo>
                <a:lnTo>
                  <a:pt x="0" y="88"/>
                </a:lnTo>
                <a:lnTo>
                  <a:pt x="0" y="110"/>
                </a:lnTo>
                <a:lnTo>
                  <a:pt x="1" y="115"/>
                </a:lnTo>
                <a:lnTo>
                  <a:pt x="1" y="120"/>
                </a:lnTo>
                <a:lnTo>
                  <a:pt x="3" y="125"/>
                </a:lnTo>
                <a:lnTo>
                  <a:pt x="5" y="130"/>
                </a:lnTo>
                <a:lnTo>
                  <a:pt x="6" y="135"/>
                </a:lnTo>
                <a:lnTo>
                  <a:pt x="8" y="140"/>
                </a:lnTo>
                <a:lnTo>
                  <a:pt x="10" y="145"/>
                </a:lnTo>
                <a:lnTo>
                  <a:pt x="11" y="148"/>
                </a:lnTo>
                <a:lnTo>
                  <a:pt x="13" y="153"/>
                </a:lnTo>
                <a:lnTo>
                  <a:pt x="16" y="156"/>
                </a:lnTo>
                <a:lnTo>
                  <a:pt x="19" y="161"/>
                </a:lnTo>
                <a:lnTo>
                  <a:pt x="21" y="165"/>
                </a:lnTo>
                <a:lnTo>
                  <a:pt x="38" y="181"/>
                </a:lnTo>
                <a:lnTo>
                  <a:pt x="43" y="185"/>
                </a:lnTo>
                <a:lnTo>
                  <a:pt x="46" y="186"/>
                </a:lnTo>
                <a:lnTo>
                  <a:pt x="49" y="190"/>
                </a:lnTo>
                <a:lnTo>
                  <a:pt x="54" y="191"/>
                </a:lnTo>
                <a:lnTo>
                  <a:pt x="58" y="193"/>
                </a:lnTo>
                <a:lnTo>
                  <a:pt x="63" y="195"/>
                </a:lnTo>
                <a:lnTo>
                  <a:pt x="68" y="196"/>
                </a:lnTo>
                <a:lnTo>
                  <a:pt x="73" y="198"/>
                </a:lnTo>
                <a:lnTo>
                  <a:pt x="76" y="200"/>
                </a:lnTo>
                <a:lnTo>
                  <a:pt x="81" y="200"/>
                </a:lnTo>
                <a:lnTo>
                  <a:pt x="86" y="201"/>
                </a:lnTo>
                <a:lnTo>
                  <a:pt x="109" y="201"/>
                </a:lnTo>
                <a:lnTo>
                  <a:pt x="111" y="200"/>
                </a:lnTo>
                <a:lnTo>
                  <a:pt x="117" y="200"/>
                </a:lnTo>
                <a:lnTo>
                  <a:pt x="119" y="198"/>
                </a:lnTo>
                <a:lnTo>
                  <a:pt x="122" y="198"/>
                </a:lnTo>
                <a:lnTo>
                  <a:pt x="124" y="196"/>
                </a:lnTo>
                <a:lnTo>
                  <a:pt x="129" y="196"/>
                </a:lnTo>
                <a:lnTo>
                  <a:pt x="129" y="195"/>
                </a:lnTo>
                <a:lnTo>
                  <a:pt x="131" y="195"/>
                </a:lnTo>
                <a:lnTo>
                  <a:pt x="126" y="193"/>
                </a:lnTo>
                <a:lnTo>
                  <a:pt x="129" y="191"/>
                </a:lnTo>
                <a:lnTo>
                  <a:pt x="132" y="190"/>
                </a:lnTo>
                <a:lnTo>
                  <a:pt x="134" y="188"/>
                </a:lnTo>
                <a:lnTo>
                  <a:pt x="137" y="186"/>
                </a:lnTo>
                <a:lnTo>
                  <a:pt x="141" y="185"/>
                </a:lnTo>
                <a:lnTo>
                  <a:pt x="142" y="181"/>
                </a:lnTo>
                <a:lnTo>
                  <a:pt x="146" y="180"/>
                </a:lnTo>
                <a:lnTo>
                  <a:pt x="149" y="178"/>
                </a:lnTo>
                <a:lnTo>
                  <a:pt x="151" y="175"/>
                </a:lnTo>
                <a:lnTo>
                  <a:pt x="154" y="173"/>
                </a:lnTo>
                <a:lnTo>
                  <a:pt x="156" y="170"/>
                </a:lnTo>
                <a:lnTo>
                  <a:pt x="161" y="165"/>
                </a:lnTo>
                <a:lnTo>
                  <a:pt x="162" y="161"/>
                </a:lnTo>
                <a:lnTo>
                  <a:pt x="164" y="160"/>
                </a:lnTo>
                <a:lnTo>
                  <a:pt x="166" y="156"/>
                </a:lnTo>
                <a:lnTo>
                  <a:pt x="167" y="153"/>
                </a:lnTo>
                <a:lnTo>
                  <a:pt x="169" y="150"/>
                </a:lnTo>
                <a:lnTo>
                  <a:pt x="171" y="146"/>
                </a:lnTo>
                <a:lnTo>
                  <a:pt x="172" y="143"/>
                </a:lnTo>
                <a:lnTo>
                  <a:pt x="174" y="140"/>
                </a:lnTo>
                <a:lnTo>
                  <a:pt x="174" y="136"/>
                </a:lnTo>
                <a:lnTo>
                  <a:pt x="176" y="133"/>
                </a:lnTo>
                <a:lnTo>
                  <a:pt x="177" y="130"/>
                </a:lnTo>
                <a:lnTo>
                  <a:pt x="177" y="126"/>
                </a:lnTo>
                <a:lnTo>
                  <a:pt x="179" y="123"/>
                </a:lnTo>
                <a:lnTo>
                  <a:pt x="179" y="116"/>
                </a:lnTo>
                <a:lnTo>
                  <a:pt x="180" y="113"/>
                </a:lnTo>
                <a:lnTo>
                  <a:pt x="180" y="92"/>
                </a:lnTo>
                <a:lnTo>
                  <a:pt x="179" y="87"/>
                </a:lnTo>
                <a:lnTo>
                  <a:pt x="179" y="82"/>
                </a:lnTo>
                <a:lnTo>
                  <a:pt x="177" y="77"/>
                </a:lnTo>
                <a:lnTo>
                  <a:pt x="176" y="72"/>
                </a:lnTo>
                <a:lnTo>
                  <a:pt x="174" y="67"/>
                </a:lnTo>
                <a:lnTo>
                  <a:pt x="172" y="62"/>
                </a:lnTo>
                <a:lnTo>
                  <a:pt x="171" y="57"/>
                </a:lnTo>
                <a:lnTo>
                  <a:pt x="169" y="53"/>
                </a:lnTo>
                <a:lnTo>
                  <a:pt x="167" y="48"/>
                </a:lnTo>
                <a:lnTo>
                  <a:pt x="164" y="45"/>
                </a:lnTo>
                <a:lnTo>
                  <a:pt x="162" y="40"/>
                </a:lnTo>
                <a:lnTo>
                  <a:pt x="139" y="17"/>
                </a:lnTo>
                <a:lnTo>
                  <a:pt x="134" y="15"/>
                </a:lnTo>
                <a:lnTo>
                  <a:pt x="131" y="12"/>
                </a:lnTo>
                <a:lnTo>
                  <a:pt x="127" y="10"/>
                </a:lnTo>
                <a:lnTo>
                  <a:pt x="122" y="9"/>
                </a:lnTo>
                <a:lnTo>
                  <a:pt x="117" y="7"/>
                </a:lnTo>
                <a:lnTo>
                  <a:pt x="114" y="5"/>
                </a:lnTo>
                <a:lnTo>
                  <a:pt x="109" y="4"/>
                </a:lnTo>
                <a:lnTo>
                  <a:pt x="104" y="2"/>
                </a:lnTo>
                <a:lnTo>
                  <a:pt x="101" y="2"/>
                </a:lnTo>
                <a:lnTo>
                  <a:pt x="96" y="0"/>
                </a:lnTo>
                <a:lnTo>
                  <a:pt x="73" y="0"/>
                </a:lnTo>
                <a:lnTo>
                  <a:pt x="73" y="2"/>
                </a:lnTo>
                <a:lnTo>
                  <a:pt x="64" y="2"/>
                </a:lnTo>
                <a:lnTo>
                  <a:pt x="64" y="4"/>
                </a:lnTo>
                <a:lnTo>
                  <a:pt x="59" y="4"/>
                </a:lnTo>
                <a:lnTo>
                  <a:pt x="58" y="5"/>
                </a:lnTo>
                <a:lnTo>
                  <a:pt x="54" y="5"/>
                </a:lnTo>
                <a:lnTo>
                  <a:pt x="54" y="7"/>
                </a:lnTo>
                <a:lnTo>
                  <a:pt x="53" y="7"/>
                </a:lnTo>
                <a:lnTo>
                  <a:pt x="56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4006800" y="4759200"/>
            <a:ext cx="453960" cy="103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10" y="3"/>
                </a:lnTo>
                <a:lnTo>
                  <a:pt x="18" y="5"/>
                </a:lnTo>
                <a:lnTo>
                  <a:pt x="18" y="7"/>
                </a:lnTo>
                <a:lnTo>
                  <a:pt x="22" y="7"/>
                </a:lnTo>
                <a:lnTo>
                  <a:pt x="22" y="8"/>
                </a:lnTo>
                <a:lnTo>
                  <a:pt x="28" y="8"/>
                </a:lnTo>
                <a:lnTo>
                  <a:pt x="30" y="12"/>
                </a:lnTo>
                <a:lnTo>
                  <a:pt x="33" y="12"/>
                </a:lnTo>
                <a:lnTo>
                  <a:pt x="35" y="15"/>
                </a:lnTo>
                <a:lnTo>
                  <a:pt x="40" y="15"/>
                </a:lnTo>
                <a:lnTo>
                  <a:pt x="55" y="31"/>
                </a:lnTo>
                <a:lnTo>
                  <a:pt x="62" y="30"/>
                </a:lnTo>
                <a:lnTo>
                  <a:pt x="62" y="28"/>
                </a:lnTo>
                <a:lnTo>
                  <a:pt x="68" y="26"/>
                </a:lnTo>
                <a:lnTo>
                  <a:pt x="68" y="25"/>
                </a:lnTo>
                <a:lnTo>
                  <a:pt x="75" y="23"/>
                </a:lnTo>
                <a:lnTo>
                  <a:pt x="75" y="21"/>
                </a:lnTo>
                <a:lnTo>
                  <a:pt x="81" y="20"/>
                </a:lnTo>
                <a:lnTo>
                  <a:pt x="81" y="18"/>
                </a:lnTo>
                <a:lnTo>
                  <a:pt x="86" y="18"/>
                </a:lnTo>
                <a:lnTo>
                  <a:pt x="86" y="16"/>
                </a:lnTo>
                <a:lnTo>
                  <a:pt x="93" y="15"/>
                </a:lnTo>
                <a:lnTo>
                  <a:pt x="93" y="13"/>
                </a:lnTo>
                <a:lnTo>
                  <a:pt x="100" y="12"/>
                </a:lnTo>
                <a:lnTo>
                  <a:pt x="100" y="10"/>
                </a:lnTo>
                <a:lnTo>
                  <a:pt x="106" y="8"/>
                </a:lnTo>
                <a:lnTo>
                  <a:pt x="106" y="7"/>
                </a:lnTo>
                <a:lnTo>
                  <a:pt x="110" y="7"/>
                </a:lnTo>
                <a:lnTo>
                  <a:pt x="110" y="5"/>
                </a:lnTo>
                <a:lnTo>
                  <a:pt x="115" y="5"/>
                </a:lnTo>
                <a:lnTo>
                  <a:pt x="115" y="3"/>
                </a:lnTo>
                <a:lnTo>
                  <a:pt x="121" y="2"/>
                </a:lnTo>
                <a:lnTo>
                  <a:pt x="121" y="0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4106880" y="4498920"/>
            <a:ext cx="1582560" cy="906480"/>
          </a:xfrm>
          <a:custGeom>
            <a:avLst/>
            <a:gdLst/>
            <a:ahLst/>
            <a:rect l="l" t="t" r="r" b="b"/>
            <a:pathLst>
              <a:path w="421" h="272">
                <a:moveTo>
                  <a:pt x="420" y="0"/>
                </a:moveTo>
                <a:lnTo>
                  <a:pt x="420" y="1"/>
                </a:lnTo>
                <a:lnTo>
                  <a:pt x="413" y="3"/>
                </a:lnTo>
                <a:lnTo>
                  <a:pt x="413" y="5"/>
                </a:lnTo>
                <a:lnTo>
                  <a:pt x="406" y="6"/>
                </a:lnTo>
                <a:lnTo>
                  <a:pt x="406" y="8"/>
                </a:lnTo>
                <a:lnTo>
                  <a:pt x="401" y="8"/>
                </a:lnTo>
                <a:lnTo>
                  <a:pt x="401" y="10"/>
                </a:lnTo>
                <a:lnTo>
                  <a:pt x="395" y="11"/>
                </a:lnTo>
                <a:lnTo>
                  <a:pt x="395" y="13"/>
                </a:lnTo>
                <a:lnTo>
                  <a:pt x="388" y="15"/>
                </a:lnTo>
                <a:lnTo>
                  <a:pt x="388" y="16"/>
                </a:lnTo>
                <a:lnTo>
                  <a:pt x="381" y="18"/>
                </a:lnTo>
                <a:lnTo>
                  <a:pt x="381" y="20"/>
                </a:lnTo>
                <a:lnTo>
                  <a:pt x="378" y="20"/>
                </a:lnTo>
                <a:lnTo>
                  <a:pt x="378" y="21"/>
                </a:lnTo>
                <a:lnTo>
                  <a:pt x="373" y="21"/>
                </a:lnTo>
                <a:lnTo>
                  <a:pt x="373" y="23"/>
                </a:lnTo>
                <a:lnTo>
                  <a:pt x="367" y="25"/>
                </a:lnTo>
                <a:lnTo>
                  <a:pt x="367" y="26"/>
                </a:lnTo>
                <a:lnTo>
                  <a:pt x="360" y="28"/>
                </a:lnTo>
                <a:lnTo>
                  <a:pt x="360" y="30"/>
                </a:lnTo>
                <a:lnTo>
                  <a:pt x="353" y="31"/>
                </a:lnTo>
                <a:lnTo>
                  <a:pt x="353" y="33"/>
                </a:lnTo>
                <a:lnTo>
                  <a:pt x="350" y="33"/>
                </a:lnTo>
                <a:lnTo>
                  <a:pt x="350" y="35"/>
                </a:lnTo>
                <a:lnTo>
                  <a:pt x="345" y="35"/>
                </a:lnTo>
                <a:lnTo>
                  <a:pt x="345" y="36"/>
                </a:lnTo>
                <a:lnTo>
                  <a:pt x="338" y="38"/>
                </a:lnTo>
                <a:lnTo>
                  <a:pt x="338" y="40"/>
                </a:lnTo>
                <a:lnTo>
                  <a:pt x="332" y="41"/>
                </a:lnTo>
                <a:lnTo>
                  <a:pt x="332" y="43"/>
                </a:lnTo>
                <a:lnTo>
                  <a:pt x="325" y="45"/>
                </a:lnTo>
                <a:lnTo>
                  <a:pt x="325" y="46"/>
                </a:lnTo>
                <a:lnTo>
                  <a:pt x="322" y="46"/>
                </a:lnTo>
                <a:lnTo>
                  <a:pt x="322" y="48"/>
                </a:lnTo>
                <a:lnTo>
                  <a:pt x="317" y="48"/>
                </a:lnTo>
                <a:lnTo>
                  <a:pt x="317" y="50"/>
                </a:lnTo>
                <a:lnTo>
                  <a:pt x="310" y="51"/>
                </a:lnTo>
                <a:lnTo>
                  <a:pt x="310" y="53"/>
                </a:lnTo>
                <a:lnTo>
                  <a:pt x="303" y="55"/>
                </a:lnTo>
                <a:lnTo>
                  <a:pt x="303" y="56"/>
                </a:lnTo>
                <a:lnTo>
                  <a:pt x="297" y="58"/>
                </a:lnTo>
                <a:lnTo>
                  <a:pt x="297" y="60"/>
                </a:lnTo>
                <a:lnTo>
                  <a:pt x="290" y="61"/>
                </a:lnTo>
                <a:lnTo>
                  <a:pt x="290" y="63"/>
                </a:lnTo>
                <a:lnTo>
                  <a:pt x="285" y="63"/>
                </a:lnTo>
                <a:lnTo>
                  <a:pt x="285" y="65"/>
                </a:lnTo>
                <a:lnTo>
                  <a:pt x="279" y="66"/>
                </a:lnTo>
                <a:lnTo>
                  <a:pt x="279" y="68"/>
                </a:lnTo>
                <a:lnTo>
                  <a:pt x="272" y="70"/>
                </a:lnTo>
                <a:lnTo>
                  <a:pt x="272" y="71"/>
                </a:lnTo>
                <a:lnTo>
                  <a:pt x="265" y="73"/>
                </a:lnTo>
                <a:lnTo>
                  <a:pt x="265" y="75"/>
                </a:lnTo>
                <a:lnTo>
                  <a:pt x="262" y="75"/>
                </a:lnTo>
                <a:lnTo>
                  <a:pt x="262" y="76"/>
                </a:lnTo>
                <a:lnTo>
                  <a:pt x="257" y="76"/>
                </a:lnTo>
                <a:lnTo>
                  <a:pt x="257" y="78"/>
                </a:lnTo>
                <a:lnTo>
                  <a:pt x="250" y="80"/>
                </a:lnTo>
                <a:lnTo>
                  <a:pt x="250" y="81"/>
                </a:lnTo>
                <a:lnTo>
                  <a:pt x="244" y="83"/>
                </a:lnTo>
                <a:lnTo>
                  <a:pt x="244" y="85"/>
                </a:lnTo>
                <a:lnTo>
                  <a:pt x="237" y="86"/>
                </a:lnTo>
                <a:lnTo>
                  <a:pt x="237" y="88"/>
                </a:lnTo>
                <a:lnTo>
                  <a:pt x="234" y="88"/>
                </a:lnTo>
                <a:lnTo>
                  <a:pt x="234" y="90"/>
                </a:lnTo>
                <a:lnTo>
                  <a:pt x="229" y="90"/>
                </a:lnTo>
                <a:lnTo>
                  <a:pt x="229" y="91"/>
                </a:lnTo>
                <a:lnTo>
                  <a:pt x="222" y="93"/>
                </a:lnTo>
                <a:lnTo>
                  <a:pt x="222" y="94"/>
                </a:lnTo>
                <a:lnTo>
                  <a:pt x="215" y="96"/>
                </a:lnTo>
                <a:lnTo>
                  <a:pt x="215" y="98"/>
                </a:lnTo>
                <a:lnTo>
                  <a:pt x="209" y="99"/>
                </a:lnTo>
                <a:lnTo>
                  <a:pt x="209" y="101"/>
                </a:lnTo>
                <a:lnTo>
                  <a:pt x="206" y="101"/>
                </a:lnTo>
                <a:lnTo>
                  <a:pt x="206" y="103"/>
                </a:lnTo>
                <a:lnTo>
                  <a:pt x="201" y="103"/>
                </a:lnTo>
                <a:lnTo>
                  <a:pt x="201" y="104"/>
                </a:lnTo>
                <a:lnTo>
                  <a:pt x="194" y="106"/>
                </a:lnTo>
                <a:lnTo>
                  <a:pt x="194" y="108"/>
                </a:lnTo>
                <a:lnTo>
                  <a:pt x="187" y="109"/>
                </a:lnTo>
                <a:lnTo>
                  <a:pt x="187" y="111"/>
                </a:lnTo>
                <a:lnTo>
                  <a:pt x="181" y="113"/>
                </a:lnTo>
                <a:lnTo>
                  <a:pt x="181" y="114"/>
                </a:lnTo>
                <a:lnTo>
                  <a:pt x="174" y="116"/>
                </a:lnTo>
                <a:lnTo>
                  <a:pt x="174" y="118"/>
                </a:lnTo>
                <a:lnTo>
                  <a:pt x="169" y="118"/>
                </a:lnTo>
                <a:lnTo>
                  <a:pt x="169" y="119"/>
                </a:lnTo>
                <a:lnTo>
                  <a:pt x="162" y="121"/>
                </a:lnTo>
                <a:lnTo>
                  <a:pt x="162" y="123"/>
                </a:lnTo>
                <a:lnTo>
                  <a:pt x="156" y="124"/>
                </a:lnTo>
                <a:lnTo>
                  <a:pt x="156" y="126"/>
                </a:lnTo>
                <a:lnTo>
                  <a:pt x="149" y="128"/>
                </a:lnTo>
                <a:lnTo>
                  <a:pt x="149" y="129"/>
                </a:lnTo>
                <a:lnTo>
                  <a:pt x="146" y="129"/>
                </a:lnTo>
                <a:lnTo>
                  <a:pt x="146" y="131"/>
                </a:lnTo>
                <a:lnTo>
                  <a:pt x="141" y="131"/>
                </a:lnTo>
                <a:lnTo>
                  <a:pt x="141" y="133"/>
                </a:lnTo>
                <a:lnTo>
                  <a:pt x="134" y="134"/>
                </a:lnTo>
                <a:lnTo>
                  <a:pt x="134" y="136"/>
                </a:lnTo>
                <a:lnTo>
                  <a:pt x="128" y="138"/>
                </a:lnTo>
                <a:lnTo>
                  <a:pt x="128" y="139"/>
                </a:lnTo>
                <a:lnTo>
                  <a:pt x="121" y="141"/>
                </a:lnTo>
                <a:lnTo>
                  <a:pt x="121" y="143"/>
                </a:lnTo>
                <a:lnTo>
                  <a:pt x="118" y="143"/>
                </a:lnTo>
                <a:lnTo>
                  <a:pt x="118" y="144"/>
                </a:lnTo>
                <a:lnTo>
                  <a:pt x="113" y="144"/>
                </a:lnTo>
                <a:lnTo>
                  <a:pt x="113" y="146"/>
                </a:lnTo>
                <a:lnTo>
                  <a:pt x="106" y="148"/>
                </a:lnTo>
                <a:lnTo>
                  <a:pt x="106" y="149"/>
                </a:lnTo>
                <a:lnTo>
                  <a:pt x="99" y="151"/>
                </a:lnTo>
                <a:lnTo>
                  <a:pt x="99" y="153"/>
                </a:lnTo>
                <a:lnTo>
                  <a:pt x="93" y="154"/>
                </a:lnTo>
                <a:lnTo>
                  <a:pt x="93" y="156"/>
                </a:lnTo>
                <a:lnTo>
                  <a:pt x="89" y="156"/>
                </a:lnTo>
                <a:lnTo>
                  <a:pt x="89" y="158"/>
                </a:lnTo>
                <a:lnTo>
                  <a:pt x="84" y="158"/>
                </a:lnTo>
                <a:lnTo>
                  <a:pt x="84" y="159"/>
                </a:lnTo>
                <a:lnTo>
                  <a:pt x="78" y="161"/>
                </a:lnTo>
                <a:lnTo>
                  <a:pt x="78" y="163"/>
                </a:lnTo>
                <a:lnTo>
                  <a:pt x="71" y="164"/>
                </a:lnTo>
                <a:lnTo>
                  <a:pt x="71" y="166"/>
                </a:lnTo>
                <a:lnTo>
                  <a:pt x="64" y="168"/>
                </a:lnTo>
                <a:lnTo>
                  <a:pt x="64" y="169"/>
                </a:lnTo>
                <a:lnTo>
                  <a:pt x="58" y="171"/>
                </a:lnTo>
                <a:lnTo>
                  <a:pt x="58" y="173"/>
                </a:lnTo>
                <a:lnTo>
                  <a:pt x="54" y="173"/>
                </a:lnTo>
                <a:lnTo>
                  <a:pt x="54" y="192"/>
                </a:lnTo>
                <a:lnTo>
                  <a:pt x="53" y="192"/>
                </a:lnTo>
                <a:lnTo>
                  <a:pt x="53" y="202"/>
                </a:lnTo>
                <a:lnTo>
                  <a:pt x="51" y="202"/>
                </a:lnTo>
                <a:lnTo>
                  <a:pt x="51" y="209"/>
                </a:lnTo>
                <a:lnTo>
                  <a:pt x="50" y="209"/>
                </a:lnTo>
                <a:lnTo>
                  <a:pt x="50" y="212"/>
                </a:lnTo>
                <a:lnTo>
                  <a:pt x="48" y="212"/>
                </a:lnTo>
                <a:lnTo>
                  <a:pt x="48" y="219"/>
                </a:lnTo>
                <a:lnTo>
                  <a:pt x="46" y="219"/>
                </a:lnTo>
                <a:lnTo>
                  <a:pt x="46" y="222"/>
                </a:lnTo>
                <a:lnTo>
                  <a:pt x="45" y="222"/>
                </a:lnTo>
                <a:lnTo>
                  <a:pt x="45" y="226"/>
                </a:lnTo>
                <a:lnTo>
                  <a:pt x="43" y="226"/>
                </a:lnTo>
                <a:lnTo>
                  <a:pt x="43" y="229"/>
                </a:lnTo>
                <a:lnTo>
                  <a:pt x="41" y="229"/>
                </a:lnTo>
                <a:lnTo>
                  <a:pt x="41" y="232"/>
                </a:lnTo>
                <a:lnTo>
                  <a:pt x="40" y="232"/>
                </a:lnTo>
                <a:lnTo>
                  <a:pt x="40" y="236"/>
                </a:lnTo>
                <a:lnTo>
                  <a:pt x="36" y="237"/>
                </a:lnTo>
                <a:lnTo>
                  <a:pt x="36" y="241"/>
                </a:lnTo>
                <a:lnTo>
                  <a:pt x="30" y="246"/>
                </a:lnTo>
                <a:lnTo>
                  <a:pt x="30" y="249"/>
                </a:lnTo>
                <a:lnTo>
                  <a:pt x="25" y="251"/>
                </a:lnTo>
                <a:lnTo>
                  <a:pt x="25" y="254"/>
                </a:lnTo>
                <a:lnTo>
                  <a:pt x="16" y="257"/>
                </a:lnTo>
                <a:lnTo>
                  <a:pt x="16" y="261"/>
                </a:lnTo>
                <a:lnTo>
                  <a:pt x="6" y="266"/>
                </a:lnTo>
                <a:lnTo>
                  <a:pt x="6" y="267"/>
                </a:lnTo>
                <a:lnTo>
                  <a:pt x="0" y="269"/>
                </a:lnTo>
                <a:lnTo>
                  <a:pt x="0" y="271"/>
                </a:lnTo>
                <a:lnTo>
                  <a:pt x="8" y="272"/>
                </a:lnTo>
                <a:lnTo>
                  <a:pt x="8" y="271"/>
                </a:lnTo>
                <a:lnTo>
                  <a:pt x="15" y="269"/>
                </a:lnTo>
                <a:lnTo>
                  <a:pt x="15" y="267"/>
                </a:lnTo>
                <a:lnTo>
                  <a:pt x="21" y="266"/>
                </a:lnTo>
                <a:lnTo>
                  <a:pt x="21" y="264"/>
                </a:lnTo>
                <a:lnTo>
                  <a:pt x="28" y="262"/>
                </a:lnTo>
                <a:lnTo>
                  <a:pt x="28" y="261"/>
                </a:lnTo>
                <a:lnTo>
                  <a:pt x="35" y="259"/>
                </a:lnTo>
                <a:lnTo>
                  <a:pt x="35" y="257"/>
                </a:lnTo>
                <a:lnTo>
                  <a:pt x="41" y="256"/>
                </a:lnTo>
                <a:lnTo>
                  <a:pt x="41" y="254"/>
                </a:lnTo>
                <a:lnTo>
                  <a:pt x="48" y="252"/>
                </a:lnTo>
                <a:lnTo>
                  <a:pt x="48" y="251"/>
                </a:lnTo>
                <a:lnTo>
                  <a:pt x="54" y="249"/>
                </a:lnTo>
                <a:lnTo>
                  <a:pt x="54" y="247"/>
                </a:lnTo>
                <a:lnTo>
                  <a:pt x="61" y="246"/>
                </a:lnTo>
                <a:lnTo>
                  <a:pt x="61" y="244"/>
                </a:lnTo>
                <a:lnTo>
                  <a:pt x="68" y="242"/>
                </a:lnTo>
                <a:lnTo>
                  <a:pt x="68" y="241"/>
                </a:lnTo>
                <a:lnTo>
                  <a:pt x="74" y="239"/>
                </a:lnTo>
                <a:lnTo>
                  <a:pt x="74" y="237"/>
                </a:lnTo>
                <a:lnTo>
                  <a:pt x="81" y="236"/>
                </a:lnTo>
                <a:lnTo>
                  <a:pt x="81" y="234"/>
                </a:lnTo>
                <a:lnTo>
                  <a:pt x="88" y="232"/>
                </a:lnTo>
                <a:lnTo>
                  <a:pt x="88" y="231"/>
                </a:lnTo>
                <a:lnTo>
                  <a:pt x="94" y="229"/>
                </a:lnTo>
                <a:lnTo>
                  <a:pt x="94" y="227"/>
                </a:lnTo>
                <a:lnTo>
                  <a:pt x="101" y="226"/>
                </a:lnTo>
                <a:lnTo>
                  <a:pt x="101" y="224"/>
                </a:lnTo>
                <a:lnTo>
                  <a:pt x="108" y="222"/>
                </a:lnTo>
                <a:lnTo>
                  <a:pt x="108" y="221"/>
                </a:lnTo>
                <a:lnTo>
                  <a:pt x="114" y="219"/>
                </a:lnTo>
                <a:lnTo>
                  <a:pt x="114" y="217"/>
                </a:lnTo>
                <a:lnTo>
                  <a:pt x="121" y="216"/>
                </a:lnTo>
                <a:lnTo>
                  <a:pt x="121" y="214"/>
                </a:lnTo>
                <a:lnTo>
                  <a:pt x="128" y="212"/>
                </a:lnTo>
                <a:lnTo>
                  <a:pt x="128" y="211"/>
                </a:lnTo>
                <a:lnTo>
                  <a:pt x="134" y="209"/>
                </a:lnTo>
                <a:lnTo>
                  <a:pt x="134" y="207"/>
                </a:lnTo>
                <a:lnTo>
                  <a:pt x="141" y="206"/>
                </a:lnTo>
                <a:lnTo>
                  <a:pt x="141" y="204"/>
                </a:lnTo>
                <a:lnTo>
                  <a:pt x="147" y="202"/>
                </a:lnTo>
                <a:lnTo>
                  <a:pt x="147" y="201"/>
                </a:lnTo>
                <a:lnTo>
                  <a:pt x="154" y="199"/>
                </a:lnTo>
                <a:lnTo>
                  <a:pt x="154" y="197"/>
                </a:lnTo>
                <a:lnTo>
                  <a:pt x="161" y="196"/>
                </a:lnTo>
                <a:lnTo>
                  <a:pt x="161" y="194"/>
                </a:lnTo>
                <a:lnTo>
                  <a:pt x="167" y="192"/>
                </a:lnTo>
                <a:lnTo>
                  <a:pt x="167" y="191"/>
                </a:lnTo>
                <a:lnTo>
                  <a:pt x="174" y="189"/>
                </a:lnTo>
                <a:lnTo>
                  <a:pt x="174" y="187"/>
                </a:lnTo>
                <a:lnTo>
                  <a:pt x="181" y="186"/>
                </a:lnTo>
                <a:lnTo>
                  <a:pt x="181" y="184"/>
                </a:lnTo>
                <a:lnTo>
                  <a:pt x="184" y="184"/>
                </a:lnTo>
                <a:lnTo>
                  <a:pt x="184" y="183"/>
                </a:lnTo>
                <a:lnTo>
                  <a:pt x="363" y="93"/>
                </a:lnTo>
                <a:lnTo>
                  <a:pt x="363" y="91"/>
                </a:lnTo>
                <a:lnTo>
                  <a:pt x="370" y="88"/>
                </a:lnTo>
                <a:lnTo>
                  <a:pt x="370" y="86"/>
                </a:lnTo>
                <a:lnTo>
                  <a:pt x="373" y="86"/>
                </a:lnTo>
                <a:lnTo>
                  <a:pt x="373" y="85"/>
                </a:lnTo>
                <a:lnTo>
                  <a:pt x="380" y="81"/>
                </a:lnTo>
                <a:lnTo>
                  <a:pt x="380" y="80"/>
                </a:lnTo>
                <a:lnTo>
                  <a:pt x="383" y="80"/>
                </a:lnTo>
                <a:lnTo>
                  <a:pt x="383" y="78"/>
                </a:lnTo>
                <a:lnTo>
                  <a:pt x="405" y="58"/>
                </a:lnTo>
                <a:lnTo>
                  <a:pt x="405" y="55"/>
                </a:lnTo>
                <a:lnTo>
                  <a:pt x="406" y="55"/>
                </a:lnTo>
                <a:lnTo>
                  <a:pt x="406" y="51"/>
                </a:lnTo>
                <a:lnTo>
                  <a:pt x="408" y="51"/>
                </a:lnTo>
                <a:lnTo>
                  <a:pt x="408" y="48"/>
                </a:lnTo>
                <a:lnTo>
                  <a:pt x="410" y="48"/>
                </a:lnTo>
                <a:lnTo>
                  <a:pt x="410" y="45"/>
                </a:lnTo>
                <a:lnTo>
                  <a:pt x="411" y="45"/>
                </a:lnTo>
                <a:lnTo>
                  <a:pt x="411" y="41"/>
                </a:lnTo>
                <a:lnTo>
                  <a:pt x="413" y="41"/>
                </a:lnTo>
                <a:lnTo>
                  <a:pt x="413" y="38"/>
                </a:lnTo>
                <a:lnTo>
                  <a:pt x="415" y="38"/>
                </a:lnTo>
                <a:lnTo>
                  <a:pt x="415" y="35"/>
                </a:lnTo>
                <a:lnTo>
                  <a:pt x="416" y="35"/>
                </a:lnTo>
                <a:lnTo>
                  <a:pt x="416" y="28"/>
                </a:lnTo>
                <a:lnTo>
                  <a:pt x="418" y="28"/>
                </a:lnTo>
                <a:lnTo>
                  <a:pt x="418" y="23"/>
                </a:lnTo>
                <a:lnTo>
                  <a:pt x="420" y="23"/>
                </a:lnTo>
                <a:lnTo>
                  <a:pt x="420" y="11"/>
                </a:lnTo>
                <a:lnTo>
                  <a:pt x="421" y="11"/>
                </a:lnTo>
                <a:lnTo>
                  <a:pt x="421" y="0"/>
                </a:lnTo>
                <a:lnTo>
                  <a:pt x="42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3833640" y="4175280"/>
            <a:ext cx="1852920" cy="1225440"/>
          </a:xfrm>
          <a:custGeom>
            <a:avLst/>
            <a:gdLst/>
            <a:ahLst/>
            <a:rect l="l" t="t" r="r" b="b"/>
            <a:pathLst>
              <a:path w="493" h="369">
                <a:moveTo>
                  <a:pt x="363" y="7"/>
                </a:moveTo>
                <a:lnTo>
                  <a:pt x="381" y="2"/>
                </a:lnTo>
                <a:lnTo>
                  <a:pt x="398" y="0"/>
                </a:lnTo>
                <a:lnTo>
                  <a:pt x="416" y="2"/>
                </a:lnTo>
                <a:lnTo>
                  <a:pt x="435" y="8"/>
                </a:lnTo>
                <a:lnTo>
                  <a:pt x="451" y="16"/>
                </a:lnTo>
                <a:lnTo>
                  <a:pt x="464" y="30"/>
                </a:lnTo>
                <a:lnTo>
                  <a:pt x="476" y="45"/>
                </a:lnTo>
                <a:lnTo>
                  <a:pt x="484" y="61"/>
                </a:lnTo>
                <a:lnTo>
                  <a:pt x="491" y="81"/>
                </a:lnTo>
                <a:lnTo>
                  <a:pt x="493" y="101"/>
                </a:lnTo>
                <a:lnTo>
                  <a:pt x="491" y="116"/>
                </a:lnTo>
                <a:lnTo>
                  <a:pt x="488" y="129"/>
                </a:lnTo>
                <a:lnTo>
                  <a:pt x="476" y="154"/>
                </a:lnTo>
                <a:lnTo>
                  <a:pt x="456" y="174"/>
                </a:lnTo>
                <a:lnTo>
                  <a:pt x="433" y="189"/>
                </a:lnTo>
                <a:lnTo>
                  <a:pt x="435" y="189"/>
                </a:lnTo>
                <a:lnTo>
                  <a:pt x="78" y="369"/>
                </a:lnTo>
                <a:lnTo>
                  <a:pt x="73" y="367"/>
                </a:lnTo>
                <a:lnTo>
                  <a:pt x="76" y="365"/>
                </a:lnTo>
                <a:lnTo>
                  <a:pt x="79" y="364"/>
                </a:lnTo>
                <a:lnTo>
                  <a:pt x="81" y="362"/>
                </a:lnTo>
                <a:lnTo>
                  <a:pt x="84" y="360"/>
                </a:lnTo>
                <a:lnTo>
                  <a:pt x="88" y="359"/>
                </a:lnTo>
                <a:lnTo>
                  <a:pt x="89" y="355"/>
                </a:lnTo>
                <a:lnTo>
                  <a:pt x="93" y="354"/>
                </a:lnTo>
                <a:lnTo>
                  <a:pt x="96" y="352"/>
                </a:lnTo>
                <a:lnTo>
                  <a:pt x="98" y="349"/>
                </a:lnTo>
                <a:lnTo>
                  <a:pt x="101" y="347"/>
                </a:lnTo>
                <a:lnTo>
                  <a:pt x="103" y="344"/>
                </a:lnTo>
                <a:lnTo>
                  <a:pt x="108" y="339"/>
                </a:lnTo>
                <a:lnTo>
                  <a:pt x="109" y="335"/>
                </a:lnTo>
                <a:lnTo>
                  <a:pt x="111" y="334"/>
                </a:lnTo>
                <a:lnTo>
                  <a:pt x="113" y="330"/>
                </a:lnTo>
                <a:lnTo>
                  <a:pt x="114" y="327"/>
                </a:lnTo>
                <a:lnTo>
                  <a:pt x="116" y="324"/>
                </a:lnTo>
                <a:lnTo>
                  <a:pt x="118" y="320"/>
                </a:lnTo>
                <a:lnTo>
                  <a:pt x="119" y="317"/>
                </a:lnTo>
                <a:lnTo>
                  <a:pt x="121" y="314"/>
                </a:lnTo>
                <a:lnTo>
                  <a:pt x="121" y="310"/>
                </a:lnTo>
                <a:lnTo>
                  <a:pt x="123" y="307"/>
                </a:lnTo>
                <a:lnTo>
                  <a:pt x="124" y="304"/>
                </a:lnTo>
                <a:lnTo>
                  <a:pt x="124" y="300"/>
                </a:lnTo>
                <a:lnTo>
                  <a:pt x="126" y="297"/>
                </a:lnTo>
                <a:lnTo>
                  <a:pt x="126" y="290"/>
                </a:lnTo>
                <a:lnTo>
                  <a:pt x="127" y="287"/>
                </a:lnTo>
                <a:lnTo>
                  <a:pt x="127" y="266"/>
                </a:lnTo>
                <a:lnTo>
                  <a:pt x="126" y="261"/>
                </a:lnTo>
                <a:lnTo>
                  <a:pt x="126" y="256"/>
                </a:lnTo>
                <a:lnTo>
                  <a:pt x="124" y="251"/>
                </a:lnTo>
                <a:lnTo>
                  <a:pt x="123" y="246"/>
                </a:lnTo>
                <a:lnTo>
                  <a:pt x="121" y="241"/>
                </a:lnTo>
                <a:lnTo>
                  <a:pt x="119" y="236"/>
                </a:lnTo>
                <a:lnTo>
                  <a:pt x="118" y="231"/>
                </a:lnTo>
                <a:lnTo>
                  <a:pt x="116" y="227"/>
                </a:lnTo>
                <a:lnTo>
                  <a:pt x="114" y="222"/>
                </a:lnTo>
                <a:lnTo>
                  <a:pt x="111" y="219"/>
                </a:lnTo>
                <a:lnTo>
                  <a:pt x="109" y="214"/>
                </a:lnTo>
                <a:lnTo>
                  <a:pt x="86" y="191"/>
                </a:lnTo>
                <a:lnTo>
                  <a:pt x="81" y="189"/>
                </a:lnTo>
                <a:lnTo>
                  <a:pt x="78" y="186"/>
                </a:lnTo>
                <a:lnTo>
                  <a:pt x="74" y="184"/>
                </a:lnTo>
                <a:lnTo>
                  <a:pt x="69" y="183"/>
                </a:lnTo>
                <a:lnTo>
                  <a:pt x="64" y="181"/>
                </a:lnTo>
                <a:lnTo>
                  <a:pt x="61" y="179"/>
                </a:lnTo>
                <a:lnTo>
                  <a:pt x="56" y="178"/>
                </a:lnTo>
                <a:lnTo>
                  <a:pt x="51" y="176"/>
                </a:lnTo>
                <a:lnTo>
                  <a:pt x="48" y="176"/>
                </a:lnTo>
                <a:lnTo>
                  <a:pt x="43" y="174"/>
                </a:lnTo>
                <a:lnTo>
                  <a:pt x="20" y="174"/>
                </a:lnTo>
                <a:lnTo>
                  <a:pt x="20" y="176"/>
                </a:lnTo>
                <a:lnTo>
                  <a:pt x="11" y="176"/>
                </a:lnTo>
                <a:lnTo>
                  <a:pt x="11" y="178"/>
                </a:lnTo>
                <a:lnTo>
                  <a:pt x="6" y="178"/>
                </a:lnTo>
                <a:lnTo>
                  <a:pt x="5" y="179"/>
                </a:lnTo>
                <a:lnTo>
                  <a:pt x="1" y="179"/>
                </a:lnTo>
                <a:lnTo>
                  <a:pt x="1" y="181"/>
                </a:lnTo>
                <a:lnTo>
                  <a:pt x="0" y="181"/>
                </a:lnTo>
                <a:lnTo>
                  <a:pt x="11" y="174"/>
                </a:lnTo>
                <a:lnTo>
                  <a:pt x="376" y="0"/>
                </a:lnTo>
                <a:lnTo>
                  <a:pt x="363" y="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2871720" y="5041800"/>
            <a:ext cx="754200" cy="789120"/>
          </a:xfrm>
          <a:custGeom>
            <a:avLst/>
            <a:gdLst/>
            <a:ahLst/>
            <a:rect l="l" t="t" r="r" b="b"/>
            <a:pathLst>
              <a:path w="201" h="237">
                <a:moveTo>
                  <a:pt x="8" y="63"/>
                </a:moveTo>
                <a:lnTo>
                  <a:pt x="58" y="34"/>
                </a:lnTo>
                <a:lnTo>
                  <a:pt x="37" y="0"/>
                </a:lnTo>
                <a:lnTo>
                  <a:pt x="201" y="66"/>
                </a:lnTo>
                <a:lnTo>
                  <a:pt x="174" y="237"/>
                </a:lnTo>
                <a:lnTo>
                  <a:pt x="154" y="201"/>
                </a:lnTo>
                <a:lnTo>
                  <a:pt x="96" y="235"/>
                </a:lnTo>
                <a:lnTo>
                  <a:pt x="0" y="68"/>
                </a:lnTo>
                <a:lnTo>
                  <a:pt x="8" y="6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3117960" y="53881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4291920" y="5497560"/>
            <a:ext cx="154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 In = Data Ou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4292280" y="5700600"/>
            <a:ext cx="181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mprove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2825640" y="3349800"/>
            <a:ext cx="755640" cy="79056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0" y="64"/>
                </a:moveTo>
                <a:lnTo>
                  <a:pt x="59" y="35"/>
                </a:lnTo>
                <a:lnTo>
                  <a:pt x="39" y="0"/>
                </a:lnTo>
                <a:lnTo>
                  <a:pt x="201" y="67"/>
                </a:lnTo>
                <a:lnTo>
                  <a:pt x="175" y="238"/>
                </a:lnTo>
                <a:lnTo>
                  <a:pt x="155" y="201"/>
                </a:lnTo>
                <a:lnTo>
                  <a:pt x="97" y="235"/>
                </a:lnTo>
                <a:lnTo>
                  <a:pt x="0" y="69"/>
                </a:lnTo>
                <a:lnTo>
                  <a:pt x="10" y="6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5516640" y="3772080"/>
            <a:ext cx="755640" cy="787320"/>
          </a:xfrm>
          <a:custGeom>
            <a:avLst/>
            <a:gdLst/>
            <a:ahLst/>
            <a:rect l="l" t="t" r="r" b="b"/>
            <a:pathLst>
              <a:path w="201" h="237">
                <a:moveTo>
                  <a:pt x="8" y="64"/>
                </a:moveTo>
                <a:lnTo>
                  <a:pt x="58" y="36"/>
                </a:lnTo>
                <a:lnTo>
                  <a:pt x="36" y="0"/>
                </a:lnTo>
                <a:lnTo>
                  <a:pt x="201" y="66"/>
                </a:lnTo>
                <a:lnTo>
                  <a:pt x="174" y="237"/>
                </a:lnTo>
                <a:lnTo>
                  <a:pt x="154" y="202"/>
                </a:lnTo>
                <a:lnTo>
                  <a:pt x="96" y="235"/>
                </a:lnTo>
                <a:lnTo>
                  <a:pt x="0" y="69"/>
                </a:lnTo>
                <a:lnTo>
                  <a:pt x="8" y="6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5751720" y="403704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3065760" y="36720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4243320" y="3483000"/>
            <a:ext cx="1011240" cy="893880"/>
          </a:xfrm>
          <a:custGeom>
            <a:avLst/>
            <a:gdLst/>
            <a:ahLst/>
            <a:rect l="l" t="t" r="r" b="b"/>
            <a:pathLst>
              <a:path w="269" h="269">
                <a:moveTo>
                  <a:pt x="0" y="24"/>
                </a:moveTo>
                <a:lnTo>
                  <a:pt x="5" y="27"/>
                </a:lnTo>
                <a:lnTo>
                  <a:pt x="10" y="30"/>
                </a:lnTo>
                <a:lnTo>
                  <a:pt x="14" y="33"/>
                </a:lnTo>
                <a:lnTo>
                  <a:pt x="18" y="37"/>
                </a:lnTo>
                <a:lnTo>
                  <a:pt x="23" y="40"/>
                </a:lnTo>
                <a:lnTo>
                  <a:pt x="27" y="43"/>
                </a:lnTo>
                <a:lnTo>
                  <a:pt x="32" y="47"/>
                </a:lnTo>
                <a:lnTo>
                  <a:pt x="37" y="50"/>
                </a:lnTo>
                <a:lnTo>
                  <a:pt x="43" y="57"/>
                </a:lnTo>
                <a:lnTo>
                  <a:pt x="48" y="60"/>
                </a:lnTo>
                <a:lnTo>
                  <a:pt x="52" y="63"/>
                </a:lnTo>
                <a:lnTo>
                  <a:pt x="57" y="67"/>
                </a:lnTo>
                <a:lnTo>
                  <a:pt x="67" y="77"/>
                </a:lnTo>
                <a:lnTo>
                  <a:pt x="72" y="78"/>
                </a:lnTo>
                <a:lnTo>
                  <a:pt x="88" y="95"/>
                </a:lnTo>
                <a:lnTo>
                  <a:pt x="92" y="97"/>
                </a:lnTo>
                <a:lnTo>
                  <a:pt x="95" y="100"/>
                </a:lnTo>
                <a:lnTo>
                  <a:pt x="96" y="103"/>
                </a:lnTo>
                <a:lnTo>
                  <a:pt x="100" y="107"/>
                </a:lnTo>
                <a:lnTo>
                  <a:pt x="103" y="108"/>
                </a:lnTo>
                <a:lnTo>
                  <a:pt x="106" y="112"/>
                </a:lnTo>
                <a:lnTo>
                  <a:pt x="108" y="115"/>
                </a:lnTo>
                <a:lnTo>
                  <a:pt x="116" y="123"/>
                </a:lnTo>
                <a:lnTo>
                  <a:pt x="118" y="126"/>
                </a:lnTo>
                <a:lnTo>
                  <a:pt x="121" y="128"/>
                </a:lnTo>
                <a:lnTo>
                  <a:pt x="123" y="131"/>
                </a:lnTo>
                <a:lnTo>
                  <a:pt x="128" y="136"/>
                </a:lnTo>
                <a:lnTo>
                  <a:pt x="130" y="140"/>
                </a:lnTo>
                <a:lnTo>
                  <a:pt x="133" y="141"/>
                </a:lnTo>
                <a:lnTo>
                  <a:pt x="135" y="145"/>
                </a:lnTo>
                <a:lnTo>
                  <a:pt x="136" y="148"/>
                </a:lnTo>
                <a:lnTo>
                  <a:pt x="138" y="150"/>
                </a:lnTo>
                <a:lnTo>
                  <a:pt x="140" y="153"/>
                </a:lnTo>
                <a:lnTo>
                  <a:pt x="141" y="155"/>
                </a:lnTo>
                <a:lnTo>
                  <a:pt x="143" y="158"/>
                </a:lnTo>
                <a:lnTo>
                  <a:pt x="145" y="160"/>
                </a:lnTo>
                <a:lnTo>
                  <a:pt x="146" y="163"/>
                </a:lnTo>
                <a:lnTo>
                  <a:pt x="148" y="165"/>
                </a:lnTo>
                <a:lnTo>
                  <a:pt x="150" y="168"/>
                </a:lnTo>
                <a:lnTo>
                  <a:pt x="150" y="170"/>
                </a:lnTo>
                <a:lnTo>
                  <a:pt x="151" y="171"/>
                </a:lnTo>
                <a:lnTo>
                  <a:pt x="153" y="175"/>
                </a:lnTo>
                <a:lnTo>
                  <a:pt x="155" y="176"/>
                </a:lnTo>
                <a:lnTo>
                  <a:pt x="155" y="180"/>
                </a:lnTo>
                <a:lnTo>
                  <a:pt x="156" y="181"/>
                </a:lnTo>
                <a:lnTo>
                  <a:pt x="156" y="183"/>
                </a:lnTo>
                <a:lnTo>
                  <a:pt x="158" y="186"/>
                </a:lnTo>
                <a:lnTo>
                  <a:pt x="158" y="188"/>
                </a:lnTo>
                <a:lnTo>
                  <a:pt x="160" y="191"/>
                </a:lnTo>
                <a:lnTo>
                  <a:pt x="160" y="195"/>
                </a:lnTo>
                <a:lnTo>
                  <a:pt x="161" y="196"/>
                </a:lnTo>
                <a:lnTo>
                  <a:pt x="161" y="201"/>
                </a:lnTo>
                <a:lnTo>
                  <a:pt x="123" y="211"/>
                </a:lnTo>
                <a:lnTo>
                  <a:pt x="213" y="269"/>
                </a:lnTo>
                <a:lnTo>
                  <a:pt x="269" y="173"/>
                </a:lnTo>
                <a:lnTo>
                  <a:pt x="231" y="183"/>
                </a:lnTo>
                <a:lnTo>
                  <a:pt x="231" y="173"/>
                </a:lnTo>
                <a:lnTo>
                  <a:pt x="229" y="171"/>
                </a:lnTo>
                <a:lnTo>
                  <a:pt x="229" y="165"/>
                </a:lnTo>
                <a:lnTo>
                  <a:pt x="228" y="163"/>
                </a:lnTo>
                <a:lnTo>
                  <a:pt x="228" y="158"/>
                </a:lnTo>
                <a:lnTo>
                  <a:pt x="226" y="156"/>
                </a:lnTo>
                <a:lnTo>
                  <a:pt x="226" y="155"/>
                </a:lnTo>
                <a:lnTo>
                  <a:pt x="224" y="151"/>
                </a:lnTo>
                <a:lnTo>
                  <a:pt x="224" y="150"/>
                </a:lnTo>
                <a:lnTo>
                  <a:pt x="223" y="148"/>
                </a:lnTo>
                <a:lnTo>
                  <a:pt x="223" y="145"/>
                </a:lnTo>
                <a:lnTo>
                  <a:pt x="221" y="143"/>
                </a:lnTo>
                <a:lnTo>
                  <a:pt x="219" y="140"/>
                </a:lnTo>
                <a:lnTo>
                  <a:pt x="219" y="138"/>
                </a:lnTo>
                <a:lnTo>
                  <a:pt x="218" y="135"/>
                </a:lnTo>
                <a:lnTo>
                  <a:pt x="216" y="133"/>
                </a:lnTo>
                <a:lnTo>
                  <a:pt x="216" y="130"/>
                </a:lnTo>
                <a:lnTo>
                  <a:pt x="214" y="128"/>
                </a:lnTo>
                <a:lnTo>
                  <a:pt x="213" y="125"/>
                </a:lnTo>
                <a:lnTo>
                  <a:pt x="211" y="122"/>
                </a:lnTo>
                <a:lnTo>
                  <a:pt x="209" y="120"/>
                </a:lnTo>
                <a:lnTo>
                  <a:pt x="208" y="117"/>
                </a:lnTo>
                <a:lnTo>
                  <a:pt x="206" y="113"/>
                </a:lnTo>
                <a:lnTo>
                  <a:pt x="204" y="112"/>
                </a:lnTo>
                <a:lnTo>
                  <a:pt x="203" y="108"/>
                </a:lnTo>
                <a:lnTo>
                  <a:pt x="201" y="105"/>
                </a:lnTo>
                <a:lnTo>
                  <a:pt x="199" y="103"/>
                </a:lnTo>
                <a:lnTo>
                  <a:pt x="198" y="100"/>
                </a:lnTo>
                <a:lnTo>
                  <a:pt x="194" y="97"/>
                </a:lnTo>
                <a:lnTo>
                  <a:pt x="193" y="93"/>
                </a:lnTo>
                <a:lnTo>
                  <a:pt x="191" y="90"/>
                </a:lnTo>
                <a:lnTo>
                  <a:pt x="189" y="87"/>
                </a:lnTo>
                <a:lnTo>
                  <a:pt x="186" y="85"/>
                </a:lnTo>
                <a:lnTo>
                  <a:pt x="184" y="82"/>
                </a:lnTo>
                <a:lnTo>
                  <a:pt x="183" y="78"/>
                </a:lnTo>
                <a:lnTo>
                  <a:pt x="179" y="75"/>
                </a:lnTo>
                <a:lnTo>
                  <a:pt x="178" y="72"/>
                </a:lnTo>
                <a:lnTo>
                  <a:pt x="175" y="68"/>
                </a:lnTo>
                <a:lnTo>
                  <a:pt x="173" y="65"/>
                </a:lnTo>
                <a:lnTo>
                  <a:pt x="166" y="58"/>
                </a:lnTo>
                <a:lnTo>
                  <a:pt x="165" y="55"/>
                </a:lnTo>
                <a:lnTo>
                  <a:pt x="158" y="48"/>
                </a:lnTo>
                <a:lnTo>
                  <a:pt x="156" y="45"/>
                </a:lnTo>
                <a:lnTo>
                  <a:pt x="153" y="42"/>
                </a:lnTo>
                <a:lnTo>
                  <a:pt x="150" y="37"/>
                </a:lnTo>
                <a:lnTo>
                  <a:pt x="136" y="24"/>
                </a:lnTo>
                <a:lnTo>
                  <a:pt x="133" y="19"/>
                </a:lnTo>
                <a:lnTo>
                  <a:pt x="123" y="9"/>
                </a:lnTo>
                <a:lnTo>
                  <a:pt x="120" y="4"/>
                </a:lnTo>
                <a:lnTo>
                  <a:pt x="116" y="0"/>
                </a:lnTo>
                <a:lnTo>
                  <a:pt x="103" y="45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4356000" y="2720880"/>
            <a:ext cx="685800" cy="668520"/>
          </a:xfrm>
          <a:custGeom>
            <a:avLst/>
            <a:gdLst/>
            <a:ahLst/>
            <a:rect l="l" t="t" r="r" b="b"/>
            <a:pathLst>
              <a:path w="183" h="201">
                <a:moveTo>
                  <a:pt x="57" y="8"/>
                </a:moveTo>
                <a:lnTo>
                  <a:pt x="53" y="10"/>
                </a:lnTo>
                <a:lnTo>
                  <a:pt x="50" y="12"/>
                </a:lnTo>
                <a:lnTo>
                  <a:pt x="47" y="13"/>
                </a:lnTo>
                <a:lnTo>
                  <a:pt x="45" y="15"/>
                </a:lnTo>
                <a:lnTo>
                  <a:pt x="42" y="17"/>
                </a:lnTo>
                <a:lnTo>
                  <a:pt x="38" y="20"/>
                </a:lnTo>
                <a:lnTo>
                  <a:pt x="35" y="22"/>
                </a:lnTo>
                <a:lnTo>
                  <a:pt x="23" y="33"/>
                </a:lnTo>
                <a:lnTo>
                  <a:pt x="22" y="37"/>
                </a:lnTo>
                <a:lnTo>
                  <a:pt x="17" y="42"/>
                </a:lnTo>
                <a:lnTo>
                  <a:pt x="15" y="45"/>
                </a:lnTo>
                <a:lnTo>
                  <a:pt x="13" y="48"/>
                </a:lnTo>
                <a:lnTo>
                  <a:pt x="12" y="52"/>
                </a:lnTo>
                <a:lnTo>
                  <a:pt x="10" y="55"/>
                </a:lnTo>
                <a:lnTo>
                  <a:pt x="8" y="58"/>
                </a:lnTo>
                <a:lnTo>
                  <a:pt x="7" y="62"/>
                </a:lnTo>
                <a:lnTo>
                  <a:pt x="7" y="65"/>
                </a:lnTo>
                <a:lnTo>
                  <a:pt x="5" y="68"/>
                </a:lnTo>
                <a:lnTo>
                  <a:pt x="3" y="72"/>
                </a:lnTo>
                <a:lnTo>
                  <a:pt x="3" y="75"/>
                </a:lnTo>
                <a:lnTo>
                  <a:pt x="2" y="78"/>
                </a:lnTo>
                <a:lnTo>
                  <a:pt x="2" y="85"/>
                </a:lnTo>
                <a:lnTo>
                  <a:pt x="0" y="88"/>
                </a:lnTo>
                <a:lnTo>
                  <a:pt x="0" y="110"/>
                </a:lnTo>
                <a:lnTo>
                  <a:pt x="2" y="115"/>
                </a:lnTo>
                <a:lnTo>
                  <a:pt x="2" y="120"/>
                </a:lnTo>
                <a:lnTo>
                  <a:pt x="3" y="125"/>
                </a:lnTo>
                <a:lnTo>
                  <a:pt x="5" y="130"/>
                </a:lnTo>
                <a:lnTo>
                  <a:pt x="7" y="135"/>
                </a:lnTo>
                <a:lnTo>
                  <a:pt x="8" y="140"/>
                </a:lnTo>
                <a:lnTo>
                  <a:pt x="10" y="145"/>
                </a:lnTo>
                <a:lnTo>
                  <a:pt x="12" y="148"/>
                </a:lnTo>
                <a:lnTo>
                  <a:pt x="13" y="153"/>
                </a:lnTo>
                <a:lnTo>
                  <a:pt x="17" y="156"/>
                </a:lnTo>
                <a:lnTo>
                  <a:pt x="20" y="161"/>
                </a:lnTo>
                <a:lnTo>
                  <a:pt x="22" y="165"/>
                </a:lnTo>
                <a:lnTo>
                  <a:pt x="38" y="181"/>
                </a:lnTo>
                <a:lnTo>
                  <a:pt x="43" y="184"/>
                </a:lnTo>
                <a:lnTo>
                  <a:pt x="47" y="186"/>
                </a:lnTo>
                <a:lnTo>
                  <a:pt x="50" y="189"/>
                </a:lnTo>
                <a:lnTo>
                  <a:pt x="55" y="191"/>
                </a:lnTo>
                <a:lnTo>
                  <a:pt x="58" y="193"/>
                </a:lnTo>
                <a:lnTo>
                  <a:pt x="63" y="194"/>
                </a:lnTo>
                <a:lnTo>
                  <a:pt x="68" y="196"/>
                </a:lnTo>
                <a:lnTo>
                  <a:pt x="73" y="198"/>
                </a:lnTo>
                <a:lnTo>
                  <a:pt x="76" y="199"/>
                </a:lnTo>
                <a:lnTo>
                  <a:pt x="81" y="199"/>
                </a:lnTo>
                <a:lnTo>
                  <a:pt x="86" y="201"/>
                </a:lnTo>
                <a:lnTo>
                  <a:pt x="110" y="201"/>
                </a:lnTo>
                <a:lnTo>
                  <a:pt x="111" y="199"/>
                </a:lnTo>
                <a:lnTo>
                  <a:pt x="118" y="199"/>
                </a:lnTo>
                <a:lnTo>
                  <a:pt x="120" y="198"/>
                </a:lnTo>
                <a:lnTo>
                  <a:pt x="123" y="198"/>
                </a:lnTo>
                <a:lnTo>
                  <a:pt x="125" y="196"/>
                </a:lnTo>
                <a:lnTo>
                  <a:pt x="130" y="196"/>
                </a:lnTo>
                <a:lnTo>
                  <a:pt x="130" y="194"/>
                </a:lnTo>
                <a:lnTo>
                  <a:pt x="131" y="194"/>
                </a:lnTo>
                <a:lnTo>
                  <a:pt x="126" y="193"/>
                </a:lnTo>
                <a:lnTo>
                  <a:pt x="130" y="191"/>
                </a:lnTo>
                <a:lnTo>
                  <a:pt x="133" y="189"/>
                </a:lnTo>
                <a:lnTo>
                  <a:pt x="136" y="188"/>
                </a:lnTo>
                <a:lnTo>
                  <a:pt x="138" y="186"/>
                </a:lnTo>
                <a:lnTo>
                  <a:pt x="141" y="184"/>
                </a:lnTo>
                <a:lnTo>
                  <a:pt x="145" y="181"/>
                </a:lnTo>
                <a:lnTo>
                  <a:pt x="148" y="179"/>
                </a:lnTo>
                <a:lnTo>
                  <a:pt x="159" y="168"/>
                </a:lnTo>
                <a:lnTo>
                  <a:pt x="161" y="165"/>
                </a:lnTo>
                <a:lnTo>
                  <a:pt x="166" y="160"/>
                </a:lnTo>
                <a:lnTo>
                  <a:pt x="168" y="156"/>
                </a:lnTo>
                <a:lnTo>
                  <a:pt x="169" y="153"/>
                </a:lnTo>
                <a:lnTo>
                  <a:pt x="171" y="150"/>
                </a:lnTo>
                <a:lnTo>
                  <a:pt x="173" y="146"/>
                </a:lnTo>
                <a:lnTo>
                  <a:pt x="174" y="143"/>
                </a:lnTo>
                <a:lnTo>
                  <a:pt x="176" y="140"/>
                </a:lnTo>
                <a:lnTo>
                  <a:pt x="176" y="136"/>
                </a:lnTo>
                <a:lnTo>
                  <a:pt x="178" y="133"/>
                </a:lnTo>
                <a:lnTo>
                  <a:pt x="179" y="130"/>
                </a:lnTo>
                <a:lnTo>
                  <a:pt x="179" y="126"/>
                </a:lnTo>
                <a:lnTo>
                  <a:pt x="181" y="123"/>
                </a:lnTo>
                <a:lnTo>
                  <a:pt x="181" y="116"/>
                </a:lnTo>
                <a:lnTo>
                  <a:pt x="183" y="113"/>
                </a:lnTo>
                <a:lnTo>
                  <a:pt x="183" y="91"/>
                </a:lnTo>
                <a:lnTo>
                  <a:pt x="181" y="86"/>
                </a:lnTo>
                <a:lnTo>
                  <a:pt x="181" y="81"/>
                </a:lnTo>
                <a:lnTo>
                  <a:pt x="179" y="77"/>
                </a:lnTo>
                <a:lnTo>
                  <a:pt x="178" y="72"/>
                </a:lnTo>
                <a:lnTo>
                  <a:pt x="176" y="67"/>
                </a:lnTo>
                <a:lnTo>
                  <a:pt x="174" y="62"/>
                </a:lnTo>
                <a:lnTo>
                  <a:pt x="173" y="57"/>
                </a:lnTo>
                <a:lnTo>
                  <a:pt x="171" y="53"/>
                </a:lnTo>
                <a:lnTo>
                  <a:pt x="169" y="48"/>
                </a:lnTo>
                <a:lnTo>
                  <a:pt x="166" y="45"/>
                </a:lnTo>
                <a:lnTo>
                  <a:pt x="163" y="40"/>
                </a:lnTo>
                <a:lnTo>
                  <a:pt x="161" y="37"/>
                </a:lnTo>
                <a:lnTo>
                  <a:pt x="145" y="20"/>
                </a:lnTo>
                <a:lnTo>
                  <a:pt x="140" y="17"/>
                </a:lnTo>
                <a:lnTo>
                  <a:pt x="136" y="15"/>
                </a:lnTo>
                <a:lnTo>
                  <a:pt x="133" y="12"/>
                </a:lnTo>
                <a:lnTo>
                  <a:pt x="128" y="10"/>
                </a:lnTo>
                <a:lnTo>
                  <a:pt x="125" y="8"/>
                </a:lnTo>
                <a:lnTo>
                  <a:pt x="120" y="7"/>
                </a:lnTo>
                <a:lnTo>
                  <a:pt x="115" y="5"/>
                </a:lnTo>
                <a:lnTo>
                  <a:pt x="110" y="3"/>
                </a:lnTo>
                <a:lnTo>
                  <a:pt x="106" y="2"/>
                </a:lnTo>
                <a:lnTo>
                  <a:pt x="101" y="2"/>
                </a:lnTo>
                <a:lnTo>
                  <a:pt x="96" y="0"/>
                </a:lnTo>
                <a:lnTo>
                  <a:pt x="73" y="0"/>
                </a:lnTo>
                <a:lnTo>
                  <a:pt x="73" y="2"/>
                </a:lnTo>
                <a:lnTo>
                  <a:pt x="65" y="2"/>
                </a:lnTo>
                <a:lnTo>
                  <a:pt x="65" y="3"/>
                </a:lnTo>
                <a:lnTo>
                  <a:pt x="60" y="3"/>
                </a:lnTo>
                <a:lnTo>
                  <a:pt x="58" y="5"/>
                </a:lnTo>
                <a:lnTo>
                  <a:pt x="55" y="5"/>
                </a:lnTo>
                <a:lnTo>
                  <a:pt x="55" y="7"/>
                </a:lnTo>
                <a:lnTo>
                  <a:pt x="53" y="7"/>
                </a:lnTo>
                <a:lnTo>
                  <a:pt x="57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4618080" y="2451240"/>
            <a:ext cx="984240" cy="377640"/>
          </a:xfrm>
          <a:custGeom>
            <a:avLst/>
            <a:gdLst/>
            <a:ahLst/>
            <a:rect l="l" t="t" r="r" b="b"/>
            <a:pathLst>
              <a:path w="262" h="114">
                <a:moveTo>
                  <a:pt x="186" y="0"/>
                </a:moveTo>
                <a:lnTo>
                  <a:pt x="186" y="1"/>
                </a:lnTo>
                <a:lnTo>
                  <a:pt x="172" y="1"/>
                </a:lnTo>
                <a:lnTo>
                  <a:pt x="172" y="3"/>
                </a:lnTo>
                <a:lnTo>
                  <a:pt x="167" y="3"/>
                </a:lnTo>
                <a:lnTo>
                  <a:pt x="167" y="5"/>
                </a:lnTo>
                <a:lnTo>
                  <a:pt x="164" y="5"/>
                </a:lnTo>
                <a:lnTo>
                  <a:pt x="164" y="3"/>
                </a:lnTo>
                <a:lnTo>
                  <a:pt x="158" y="5"/>
                </a:lnTo>
                <a:lnTo>
                  <a:pt x="158" y="6"/>
                </a:lnTo>
                <a:lnTo>
                  <a:pt x="151" y="8"/>
                </a:lnTo>
                <a:lnTo>
                  <a:pt x="151" y="10"/>
                </a:lnTo>
                <a:lnTo>
                  <a:pt x="144" y="11"/>
                </a:lnTo>
                <a:lnTo>
                  <a:pt x="144" y="13"/>
                </a:lnTo>
                <a:lnTo>
                  <a:pt x="138" y="15"/>
                </a:lnTo>
                <a:lnTo>
                  <a:pt x="138" y="16"/>
                </a:lnTo>
                <a:lnTo>
                  <a:pt x="131" y="18"/>
                </a:lnTo>
                <a:lnTo>
                  <a:pt x="131" y="20"/>
                </a:lnTo>
                <a:lnTo>
                  <a:pt x="124" y="21"/>
                </a:lnTo>
                <a:lnTo>
                  <a:pt x="124" y="23"/>
                </a:lnTo>
                <a:lnTo>
                  <a:pt x="118" y="25"/>
                </a:lnTo>
                <a:lnTo>
                  <a:pt x="118" y="26"/>
                </a:lnTo>
                <a:lnTo>
                  <a:pt x="114" y="26"/>
                </a:lnTo>
                <a:lnTo>
                  <a:pt x="114" y="28"/>
                </a:lnTo>
                <a:lnTo>
                  <a:pt x="109" y="28"/>
                </a:lnTo>
                <a:lnTo>
                  <a:pt x="109" y="30"/>
                </a:lnTo>
                <a:lnTo>
                  <a:pt x="103" y="31"/>
                </a:lnTo>
                <a:lnTo>
                  <a:pt x="103" y="33"/>
                </a:lnTo>
                <a:lnTo>
                  <a:pt x="96" y="35"/>
                </a:lnTo>
                <a:lnTo>
                  <a:pt x="96" y="36"/>
                </a:lnTo>
                <a:lnTo>
                  <a:pt x="89" y="38"/>
                </a:lnTo>
                <a:lnTo>
                  <a:pt x="89" y="40"/>
                </a:lnTo>
                <a:lnTo>
                  <a:pt x="83" y="41"/>
                </a:lnTo>
                <a:lnTo>
                  <a:pt x="83" y="43"/>
                </a:lnTo>
                <a:lnTo>
                  <a:pt x="76" y="45"/>
                </a:lnTo>
                <a:lnTo>
                  <a:pt x="76" y="46"/>
                </a:lnTo>
                <a:lnTo>
                  <a:pt x="70" y="48"/>
                </a:lnTo>
                <a:lnTo>
                  <a:pt x="70" y="50"/>
                </a:lnTo>
                <a:lnTo>
                  <a:pt x="63" y="51"/>
                </a:lnTo>
                <a:lnTo>
                  <a:pt x="63" y="53"/>
                </a:lnTo>
                <a:lnTo>
                  <a:pt x="60" y="53"/>
                </a:lnTo>
                <a:lnTo>
                  <a:pt x="60" y="55"/>
                </a:lnTo>
                <a:lnTo>
                  <a:pt x="55" y="55"/>
                </a:lnTo>
                <a:lnTo>
                  <a:pt x="55" y="56"/>
                </a:lnTo>
                <a:lnTo>
                  <a:pt x="48" y="58"/>
                </a:lnTo>
                <a:lnTo>
                  <a:pt x="48" y="60"/>
                </a:lnTo>
                <a:lnTo>
                  <a:pt x="41" y="61"/>
                </a:lnTo>
                <a:lnTo>
                  <a:pt x="41" y="63"/>
                </a:lnTo>
                <a:lnTo>
                  <a:pt x="35" y="65"/>
                </a:lnTo>
                <a:lnTo>
                  <a:pt x="35" y="66"/>
                </a:lnTo>
                <a:lnTo>
                  <a:pt x="28" y="68"/>
                </a:lnTo>
                <a:lnTo>
                  <a:pt x="28" y="69"/>
                </a:lnTo>
                <a:lnTo>
                  <a:pt x="21" y="71"/>
                </a:lnTo>
                <a:lnTo>
                  <a:pt x="21" y="73"/>
                </a:lnTo>
                <a:lnTo>
                  <a:pt x="15" y="74"/>
                </a:lnTo>
                <a:lnTo>
                  <a:pt x="15" y="76"/>
                </a:lnTo>
                <a:lnTo>
                  <a:pt x="8" y="78"/>
                </a:lnTo>
                <a:lnTo>
                  <a:pt x="8" y="79"/>
                </a:lnTo>
                <a:lnTo>
                  <a:pt x="5" y="79"/>
                </a:lnTo>
                <a:lnTo>
                  <a:pt x="5" y="81"/>
                </a:lnTo>
                <a:lnTo>
                  <a:pt x="0" y="81"/>
                </a:lnTo>
                <a:lnTo>
                  <a:pt x="0" y="83"/>
                </a:lnTo>
                <a:lnTo>
                  <a:pt x="36" y="83"/>
                </a:lnTo>
                <a:lnTo>
                  <a:pt x="36" y="84"/>
                </a:lnTo>
                <a:lnTo>
                  <a:pt x="43" y="84"/>
                </a:lnTo>
                <a:lnTo>
                  <a:pt x="43" y="86"/>
                </a:lnTo>
                <a:lnTo>
                  <a:pt x="50" y="86"/>
                </a:lnTo>
                <a:lnTo>
                  <a:pt x="51" y="89"/>
                </a:lnTo>
                <a:lnTo>
                  <a:pt x="58" y="89"/>
                </a:lnTo>
                <a:lnTo>
                  <a:pt x="58" y="91"/>
                </a:lnTo>
                <a:lnTo>
                  <a:pt x="61" y="91"/>
                </a:lnTo>
                <a:lnTo>
                  <a:pt x="61" y="93"/>
                </a:lnTo>
                <a:lnTo>
                  <a:pt x="65" y="93"/>
                </a:lnTo>
                <a:lnTo>
                  <a:pt x="66" y="96"/>
                </a:lnTo>
                <a:lnTo>
                  <a:pt x="70" y="96"/>
                </a:lnTo>
                <a:lnTo>
                  <a:pt x="71" y="99"/>
                </a:lnTo>
                <a:lnTo>
                  <a:pt x="75" y="99"/>
                </a:lnTo>
                <a:lnTo>
                  <a:pt x="76" y="103"/>
                </a:lnTo>
                <a:lnTo>
                  <a:pt x="79" y="103"/>
                </a:lnTo>
                <a:lnTo>
                  <a:pt x="89" y="114"/>
                </a:lnTo>
                <a:lnTo>
                  <a:pt x="96" y="113"/>
                </a:lnTo>
                <a:lnTo>
                  <a:pt x="96" y="111"/>
                </a:lnTo>
                <a:lnTo>
                  <a:pt x="99" y="111"/>
                </a:lnTo>
                <a:lnTo>
                  <a:pt x="99" y="109"/>
                </a:lnTo>
                <a:lnTo>
                  <a:pt x="104" y="109"/>
                </a:lnTo>
                <a:lnTo>
                  <a:pt x="104" y="108"/>
                </a:lnTo>
                <a:lnTo>
                  <a:pt x="111" y="106"/>
                </a:lnTo>
                <a:lnTo>
                  <a:pt x="111" y="104"/>
                </a:lnTo>
                <a:lnTo>
                  <a:pt x="118" y="103"/>
                </a:lnTo>
                <a:lnTo>
                  <a:pt x="118" y="101"/>
                </a:lnTo>
                <a:lnTo>
                  <a:pt x="124" y="99"/>
                </a:lnTo>
                <a:lnTo>
                  <a:pt x="124" y="98"/>
                </a:lnTo>
                <a:lnTo>
                  <a:pt x="131" y="96"/>
                </a:lnTo>
                <a:lnTo>
                  <a:pt x="131" y="94"/>
                </a:lnTo>
                <a:lnTo>
                  <a:pt x="134" y="94"/>
                </a:lnTo>
                <a:lnTo>
                  <a:pt x="134" y="93"/>
                </a:lnTo>
                <a:lnTo>
                  <a:pt x="139" y="93"/>
                </a:lnTo>
                <a:lnTo>
                  <a:pt x="139" y="91"/>
                </a:lnTo>
                <a:lnTo>
                  <a:pt x="146" y="89"/>
                </a:lnTo>
                <a:lnTo>
                  <a:pt x="146" y="88"/>
                </a:lnTo>
                <a:lnTo>
                  <a:pt x="153" y="86"/>
                </a:lnTo>
                <a:lnTo>
                  <a:pt x="153" y="84"/>
                </a:lnTo>
                <a:lnTo>
                  <a:pt x="159" y="83"/>
                </a:lnTo>
                <a:lnTo>
                  <a:pt x="159" y="81"/>
                </a:lnTo>
                <a:lnTo>
                  <a:pt x="166" y="79"/>
                </a:lnTo>
                <a:lnTo>
                  <a:pt x="166" y="78"/>
                </a:lnTo>
                <a:lnTo>
                  <a:pt x="171" y="78"/>
                </a:lnTo>
                <a:lnTo>
                  <a:pt x="171" y="76"/>
                </a:lnTo>
                <a:lnTo>
                  <a:pt x="177" y="74"/>
                </a:lnTo>
                <a:lnTo>
                  <a:pt x="177" y="73"/>
                </a:lnTo>
                <a:lnTo>
                  <a:pt x="184" y="71"/>
                </a:lnTo>
                <a:lnTo>
                  <a:pt x="184" y="69"/>
                </a:lnTo>
                <a:lnTo>
                  <a:pt x="191" y="68"/>
                </a:lnTo>
                <a:lnTo>
                  <a:pt x="191" y="66"/>
                </a:lnTo>
                <a:lnTo>
                  <a:pt x="197" y="65"/>
                </a:lnTo>
                <a:lnTo>
                  <a:pt x="197" y="63"/>
                </a:lnTo>
                <a:lnTo>
                  <a:pt x="201" y="63"/>
                </a:lnTo>
                <a:lnTo>
                  <a:pt x="201" y="61"/>
                </a:lnTo>
                <a:lnTo>
                  <a:pt x="206" y="61"/>
                </a:lnTo>
                <a:lnTo>
                  <a:pt x="206" y="60"/>
                </a:lnTo>
                <a:lnTo>
                  <a:pt x="212" y="58"/>
                </a:lnTo>
                <a:lnTo>
                  <a:pt x="212" y="56"/>
                </a:lnTo>
                <a:lnTo>
                  <a:pt x="219" y="55"/>
                </a:lnTo>
                <a:lnTo>
                  <a:pt x="219" y="53"/>
                </a:lnTo>
                <a:lnTo>
                  <a:pt x="226" y="51"/>
                </a:lnTo>
                <a:lnTo>
                  <a:pt x="226" y="50"/>
                </a:lnTo>
                <a:lnTo>
                  <a:pt x="232" y="48"/>
                </a:lnTo>
                <a:lnTo>
                  <a:pt x="232" y="46"/>
                </a:lnTo>
                <a:lnTo>
                  <a:pt x="236" y="46"/>
                </a:lnTo>
                <a:lnTo>
                  <a:pt x="236" y="45"/>
                </a:lnTo>
                <a:lnTo>
                  <a:pt x="241" y="45"/>
                </a:lnTo>
                <a:lnTo>
                  <a:pt x="241" y="43"/>
                </a:lnTo>
                <a:lnTo>
                  <a:pt x="247" y="41"/>
                </a:lnTo>
                <a:lnTo>
                  <a:pt x="247" y="40"/>
                </a:lnTo>
                <a:lnTo>
                  <a:pt x="254" y="38"/>
                </a:lnTo>
                <a:lnTo>
                  <a:pt x="254" y="36"/>
                </a:lnTo>
                <a:lnTo>
                  <a:pt x="260" y="35"/>
                </a:lnTo>
                <a:lnTo>
                  <a:pt x="260" y="33"/>
                </a:lnTo>
                <a:lnTo>
                  <a:pt x="262" y="33"/>
                </a:lnTo>
                <a:lnTo>
                  <a:pt x="260" y="30"/>
                </a:lnTo>
                <a:lnTo>
                  <a:pt x="257" y="30"/>
                </a:lnTo>
                <a:lnTo>
                  <a:pt x="245" y="16"/>
                </a:lnTo>
                <a:lnTo>
                  <a:pt x="242" y="16"/>
                </a:lnTo>
                <a:lnTo>
                  <a:pt x="242" y="15"/>
                </a:lnTo>
                <a:lnTo>
                  <a:pt x="239" y="15"/>
                </a:lnTo>
                <a:lnTo>
                  <a:pt x="237" y="11"/>
                </a:lnTo>
                <a:lnTo>
                  <a:pt x="234" y="11"/>
                </a:lnTo>
                <a:lnTo>
                  <a:pt x="234" y="10"/>
                </a:lnTo>
                <a:lnTo>
                  <a:pt x="226" y="8"/>
                </a:lnTo>
                <a:lnTo>
                  <a:pt x="226" y="6"/>
                </a:lnTo>
                <a:lnTo>
                  <a:pt x="217" y="5"/>
                </a:lnTo>
                <a:lnTo>
                  <a:pt x="217" y="3"/>
                </a:lnTo>
                <a:lnTo>
                  <a:pt x="212" y="3"/>
                </a:lnTo>
                <a:lnTo>
                  <a:pt x="212" y="1"/>
                </a:lnTo>
                <a:lnTo>
                  <a:pt x="202" y="1"/>
                </a:lnTo>
                <a:lnTo>
                  <a:pt x="202" y="0"/>
                </a:lnTo>
                <a:lnTo>
                  <a:pt x="18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4573440" y="2727360"/>
            <a:ext cx="82800" cy="20520"/>
          </a:xfrm>
          <a:custGeom>
            <a:avLst/>
            <a:gdLst/>
            <a:ahLst/>
            <a:rect l="l" t="t" r="r" b="b"/>
            <a:pathLst>
              <a:path w="22" h="6">
                <a:moveTo>
                  <a:pt x="8" y="0"/>
                </a:moveTo>
                <a:lnTo>
                  <a:pt x="8" y="1"/>
                </a:lnTo>
                <a:lnTo>
                  <a:pt x="0" y="5"/>
                </a:lnTo>
                <a:lnTo>
                  <a:pt x="0" y="6"/>
                </a:lnTo>
                <a:lnTo>
                  <a:pt x="7" y="5"/>
                </a:lnTo>
                <a:lnTo>
                  <a:pt x="7" y="3"/>
                </a:lnTo>
                <a:lnTo>
                  <a:pt x="13" y="3"/>
                </a:lnTo>
                <a:lnTo>
                  <a:pt x="13" y="1"/>
                </a:lnTo>
                <a:lnTo>
                  <a:pt x="22" y="1"/>
                </a:lnTo>
                <a:lnTo>
                  <a:pt x="22" y="0"/>
                </a:lnTo>
                <a:lnTo>
                  <a:pt x="8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4952880" y="2554200"/>
            <a:ext cx="743040" cy="492120"/>
          </a:xfrm>
          <a:custGeom>
            <a:avLst/>
            <a:gdLst/>
            <a:ahLst/>
            <a:rect l="l" t="t" r="r" b="b"/>
            <a:pathLst>
              <a:path w="198" h="148">
                <a:moveTo>
                  <a:pt x="171" y="0"/>
                </a:moveTo>
                <a:lnTo>
                  <a:pt x="171" y="2"/>
                </a:lnTo>
                <a:lnTo>
                  <a:pt x="165" y="4"/>
                </a:lnTo>
                <a:lnTo>
                  <a:pt x="165" y="5"/>
                </a:lnTo>
                <a:lnTo>
                  <a:pt x="158" y="7"/>
                </a:lnTo>
                <a:lnTo>
                  <a:pt x="158" y="9"/>
                </a:lnTo>
                <a:lnTo>
                  <a:pt x="152" y="10"/>
                </a:lnTo>
                <a:lnTo>
                  <a:pt x="152" y="12"/>
                </a:lnTo>
                <a:lnTo>
                  <a:pt x="147" y="12"/>
                </a:lnTo>
                <a:lnTo>
                  <a:pt x="147" y="14"/>
                </a:lnTo>
                <a:lnTo>
                  <a:pt x="140" y="15"/>
                </a:lnTo>
                <a:lnTo>
                  <a:pt x="140" y="17"/>
                </a:lnTo>
                <a:lnTo>
                  <a:pt x="133" y="19"/>
                </a:lnTo>
                <a:lnTo>
                  <a:pt x="133" y="20"/>
                </a:lnTo>
                <a:lnTo>
                  <a:pt x="127" y="22"/>
                </a:lnTo>
                <a:lnTo>
                  <a:pt x="127" y="24"/>
                </a:lnTo>
                <a:lnTo>
                  <a:pt x="120" y="25"/>
                </a:lnTo>
                <a:lnTo>
                  <a:pt x="120" y="27"/>
                </a:lnTo>
                <a:lnTo>
                  <a:pt x="117" y="27"/>
                </a:lnTo>
                <a:lnTo>
                  <a:pt x="117" y="29"/>
                </a:lnTo>
                <a:lnTo>
                  <a:pt x="112" y="29"/>
                </a:lnTo>
                <a:lnTo>
                  <a:pt x="112" y="30"/>
                </a:lnTo>
                <a:lnTo>
                  <a:pt x="105" y="32"/>
                </a:lnTo>
                <a:lnTo>
                  <a:pt x="105" y="34"/>
                </a:lnTo>
                <a:lnTo>
                  <a:pt x="98" y="35"/>
                </a:lnTo>
                <a:lnTo>
                  <a:pt x="98" y="37"/>
                </a:lnTo>
                <a:lnTo>
                  <a:pt x="92" y="38"/>
                </a:lnTo>
                <a:lnTo>
                  <a:pt x="92" y="40"/>
                </a:lnTo>
                <a:lnTo>
                  <a:pt x="85" y="42"/>
                </a:lnTo>
                <a:lnTo>
                  <a:pt x="85" y="43"/>
                </a:lnTo>
                <a:lnTo>
                  <a:pt x="82" y="43"/>
                </a:lnTo>
                <a:lnTo>
                  <a:pt x="82" y="45"/>
                </a:lnTo>
                <a:lnTo>
                  <a:pt x="77" y="45"/>
                </a:lnTo>
                <a:lnTo>
                  <a:pt x="77" y="47"/>
                </a:lnTo>
                <a:lnTo>
                  <a:pt x="70" y="48"/>
                </a:lnTo>
                <a:lnTo>
                  <a:pt x="70" y="50"/>
                </a:lnTo>
                <a:lnTo>
                  <a:pt x="64" y="52"/>
                </a:lnTo>
                <a:lnTo>
                  <a:pt x="64" y="53"/>
                </a:lnTo>
                <a:lnTo>
                  <a:pt x="57" y="55"/>
                </a:lnTo>
                <a:lnTo>
                  <a:pt x="57" y="57"/>
                </a:lnTo>
                <a:lnTo>
                  <a:pt x="50" y="58"/>
                </a:lnTo>
                <a:lnTo>
                  <a:pt x="50" y="60"/>
                </a:lnTo>
                <a:lnTo>
                  <a:pt x="45" y="60"/>
                </a:lnTo>
                <a:lnTo>
                  <a:pt x="45" y="62"/>
                </a:lnTo>
                <a:lnTo>
                  <a:pt x="39" y="63"/>
                </a:lnTo>
                <a:lnTo>
                  <a:pt x="39" y="65"/>
                </a:lnTo>
                <a:lnTo>
                  <a:pt x="32" y="67"/>
                </a:lnTo>
                <a:lnTo>
                  <a:pt x="32" y="68"/>
                </a:lnTo>
                <a:lnTo>
                  <a:pt x="25" y="70"/>
                </a:lnTo>
                <a:lnTo>
                  <a:pt x="25" y="72"/>
                </a:lnTo>
                <a:lnTo>
                  <a:pt x="19" y="73"/>
                </a:lnTo>
                <a:lnTo>
                  <a:pt x="19" y="75"/>
                </a:lnTo>
                <a:lnTo>
                  <a:pt x="15" y="75"/>
                </a:lnTo>
                <a:lnTo>
                  <a:pt x="15" y="77"/>
                </a:lnTo>
                <a:lnTo>
                  <a:pt x="10" y="77"/>
                </a:lnTo>
                <a:lnTo>
                  <a:pt x="10" y="78"/>
                </a:lnTo>
                <a:lnTo>
                  <a:pt x="4" y="80"/>
                </a:lnTo>
                <a:lnTo>
                  <a:pt x="4" y="82"/>
                </a:lnTo>
                <a:lnTo>
                  <a:pt x="0" y="82"/>
                </a:lnTo>
                <a:lnTo>
                  <a:pt x="12" y="98"/>
                </a:lnTo>
                <a:lnTo>
                  <a:pt x="14" y="98"/>
                </a:lnTo>
                <a:lnTo>
                  <a:pt x="14" y="103"/>
                </a:lnTo>
                <a:lnTo>
                  <a:pt x="15" y="103"/>
                </a:lnTo>
                <a:lnTo>
                  <a:pt x="15" y="107"/>
                </a:lnTo>
                <a:lnTo>
                  <a:pt x="17" y="107"/>
                </a:lnTo>
                <a:lnTo>
                  <a:pt x="19" y="117"/>
                </a:lnTo>
                <a:lnTo>
                  <a:pt x="20" y="117"/>
                </a:lnTo>
                <a:lnTo>
                  <a:pt x="22" y="127"/>
                </a:lnTo>
                <a:lnTo>
                  <a:pt x="24" y="127"/>
                </a:lnTo>
                <a:lnTo>
                  <a:pt x="24" y="131"/>
                </a:lnTo>
                <a:lnTo>
                  <a:pt x="25" y="131"/>
                </a:lnTo>
                <a:lnTo>
                  <a:pt x="25" y="141"/>
                </a:lnTo>
                <a:lnTo>
                  <a:pt x="27" y="141"/>
                </a:lnTo>
                <a:lnTo>
                  <a:pt x="27" y="148"/>
                </a:lnTo>
                <a:lnTo>
                  <a:pt x="34" y="146"/>
                </a:lnTo>
                <a:lnTo>
                  <a:pt x="34" y="145"/>
                </a:lnTo>
                <a:lnTo>
                  <a:pt x="40" y="143"/>
                </a:lnTo>
                <a:lnTo>
                  <a:pt x="40" y="141"/>
                </a:lnTo>
                <a:lnTo>
                  <a:pt x="45" y="141"/>
                </a:lnTo>
                <a:lnTo>
                  <a:pt x="45" y="140"/>
                </a:lnTo>
                <a:lnTo>
                  <a:pt x="52" y="138"/>
                </a:lnTo>
                <a:lnTo>
                  <a:pt x="52" y="136"/>
                </a:lnTo>
                <a:lnTo>
                  <a:pt x="59" y="135"/>
                </a:lnTo>
                <a:lnTo>
                  <a:pt x="59" y="133"/>
                </a:lnTo>
                <a:lnTo>
                  <a:pt x="65" y="131"/>
                </a:lnTo>
                <a:lnTo>
                  <a:pt x="65" y="130"/>
                </a:lnTo>
                <a:lnTo>
                  <a:pt x="72" y="128"/>
                </a:lnTo>
                <a:lnTo>
                  <a:pt x="72" y="127"/>
                </a:lnTo>
                <a:lnTo>
                  <a:pt x="75" y="127"/>
                </a:lnTo>
                <a:lnTo>
                  <a:pt x="75" y="125"/>
                </a:lnTo>
                <a:lnTo>
                  <a:pt x="80" y="125"/>
                </a:lnTo>
                <a:lnTo>
                  <a:pt x="80" y="123"/>
                </a:lnTo>
                <a:lnTo>
                  <a:pt x="87" y="122"/>
                </a:lnTo>
                <a:lnTo>
                  <a:pt x="87" y="120"/>
                </a:lnTo>
                <a:lnTo>
                  <a:pt x="93" y="118"/>
                </a:lnTo>
                <a:lnTo>
                  <a:pt x="93" y="117"/>
                </a:lnTo>
                <a:lnTo>
                  <a:pt x="100" y="115"/>
                </a:lnTo>
                <a:lnTo>
                  <a:pt x="100" y="113"/>
                </a:lnTo>
                <a:lnTo>
                  <a:pt x="107" y="112"/>
                </a:lnTo>
                <a:lnTo>
                  <a:pt x="107" y="110"/>
                </a:lnTo>
                <a:lnTo>
                  <a:pt x="112" y="110"/>
                </a:lnTo>
                <a:lnTo>
                  <a:pt x="112" y="108"/>
                </a:lnTo>
                <a:lnTo>
                  <a:pt x="118" y="107"/>
                </a:lnTo>
                <a:lnTo>
                  <a:pt x="118" y="105"/>
                </a:lnTo>
                <a:lnTo>
                  <a:pt x="125" y="103"/>
                </a:lnTo>
                <a:lnTo>
                  <a:pt x="125" y="102"/>
                </a:lnTo>
                <a:lnTo>
                  <a:pt x="132" y="100"/>
                </a:lnTo>
                <a:lnTo>
                  <a:pt x="132" y="98"/>
                </a:lnTo>
                <a:lnTo>
                  <a:pt x="138" y="97"/>
                </a:lnTo>
                <a:lnTo>
                  <a:pt x="138" y="95"/>
                </a:lnTo>
                <a:lnTo>
                  <a:pt x="142" y="95"/>
                </a:lnTo>
                <a:lnTo>
                  <a:pt x="142" y="93"/>
                </a:lnTo>
                <a:lnTo>
                  <a:pt x="147" y="93"/>
                </a:lnTo>
                <a:lnTo>
                  <a:pt x="147" y="92"/>
                </a:lnTo>
                <a:lnTo>
                  <a:pt x="153" y="90"/>
                </a:lnTo>
                <a:lnTo>
                  <a:pt x="153" y="88"/>
                </a:lnTo>
                <a:lnTo>
                  <a:pt x="160" y="87"/>
                </a:lnTo>
                <a:lnTo>
                  <a:pt x="160" y="85"/>
                </a:lnTo>
                <a:lnTo>
                  <a:pt x="166" y="83"/>
                </a:lnTo>
                <a:lnTo>
                  <a:pt x="166" y="82"/>
                </a:lnTo>
                <a:lnTo>
                  <a:pt x="173" y="80"/>
                </a:lnTo>
                <a:lnTo>
                  <a:pt x="173" y="78"/>
                </a:lnTo>
                <a:lnTo>
                  <a:pt x="176" y="78"/>
                </a:lnTo>
                <a:lnTo>
                  <a:pt x="176" y="77"/>
                </a:lnTo>
                <a:lnTo>
                  <a:pt x="181" y="77"/>
                </a:lnTo>
                <a:lnTo>
                  <a:pt x="181" y="75"/>
                </a:lnTo>
                <a:lnTo>
                  <a:pt x="188" y="73"/>
                </a:lnTo>
                <a:lnTo>
                  <a:pt x="188" y="72"/>
                </a:lnTo>
                <a:lnTo>
                  <a:pt x="195" y="70"/>
                </a:lnTo>
                <a:lnTo>
                  <a:pt x="195" y="68"/>
                </a:lnTo>
                <a:lnTo>
                  <a:pt x="198" y="68"/>
                </a:lnTo>
                <a:lnTo>
                  <a:pt x="198" y="60"/>
                </a:lnTo>
                <a:lnTo>
                  <a:pt x="196" y="60"/>
                </a:lnTo>
                <a:lnTo>
                  <a:pt x="196" y="45"/>
                </a:lnTo>
                <a:lnTo>
                  <a:pt x="195" y="45"/>
                </a:lnTo>
                <a:lnTo>
                  <a:pt x="193" y="35"/>
                </a:lnTo>
                <a:lnTo>
                  <a:pt x="191" y="35"/>
                </a:lnTo>
                <a:lnTo>
                  <a:pt x="191" y="29"/>
                </a:lnTo>
                <a:lnTo>
                  <a:pt x="190" y="29"/>
                </a:lnTo>
                <a:lnTo>
                  <a:pt x="190" y="25"/>
                </a:lnTo>
                <a:lnTo>
                  <a:pt x="188" y="25"/>
                </a:lnTo>
                <a:lnTo>
                  <a:pt x="185" y="19"/>
                </a:lnTo>
                <a:lnTo>
                  <a:pt x="183" y="19"/>
                </a:lnTo>
                <a:lnTo>
                  <a:pt x="181" y="12"/>
                </a:lnTo>
                <a:lnTo>
                  <a:pt x="180" y="12"/>
                </a:lnTo>
                <a:lnTo>
                  <a:pt x="176" y="5"/>
                </a:lnTo>
                <a:lnTo>
                  <a:pt x="175" y="5"/>
                </a:lnTo>
                <a:lnTo>
                  <a:pt x="175" y="2"/>
                </a:lnTo>
                <a:lnTo>
                  <a:pt x="173" y="2"/>
                </a:lnTo>
                <a:lnTo>
                  <a:pt x="173" y="0"/>
                </a:lnTo>
                <a:lnTo>
                  <a:pt x="1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4848120" y="2776680"/>
            <a:ext cx="847800" cy="601560"/>
          </a:xfrm>
          <a:custGeom>
            <a:avLst/>
            <a:gdLst/>
            <a:ahLst/>
            <a:rect l="l" t="t" r="r" b="b"/>
            <a:pathLst>
              <a:path w="226" h="181">
                <a:moveTo>
                  <a:pt x="223" y="0"/>
                </a:moveTo>
                <a:lnTo>
                  <a:pt x="223" y="1"/>
                </a:lnTo>
                <a:lnTo>
                  <a:pt x="216" y="3"/>
                </a:lnTo>
                <a:lnTo>
                  <a:pt x="216" y="5"/>
                </a:lnTo>
                <a:lnTo>
                  <a:pt x="209" y="6"/>
                </a:lnTo>
                <a:lnTo>
                  <a:pt x="209" y="8"/>
                </a:lnTo>
                <a:lnTo>
                  <a:pt x="204" y="8"/>
                </a:lnTo>
                <a:lnTo>
                  <a:pt x="204" y="10"/>
                </a:lnTo>
                <a:lnTo>
                  <a:pt x="198" y="11"/>
                </a:lnTo>
                <a:lnTo>
                  <a:pt x="198" y="13"/>
                </a:lnTo>
                <a:lnTo>
                  <a:pt x="191" y="15"/>
                </a:lnTo>
                <a:lnTo>
                  <a:pt x="191" y="16"/>
                </a:lnTo>
                <a:lnTo>
                  <a:pt x="184" y="18"/>
                </a:lnTo>
                <a:lnTo>
                  <a:pt x="184" y="20"/>
                </a:lnTo>
                <a:lnTo>
                  <a:pt x="178" y="21"/>
                </a:lnTo>
                <a:lnTo>
                  <a:pt x="178" y="23"/>
                </a:lnTo>
                <a:lnTo>
                  <a:pt x="175" y="23"/>
                </a:lnTo>
                <a:lnTo>
                  <a:pt x="175" y="25"/>
                </a:lnTo>
                <a:lnTo>
                  <a:pt x="170" y="25"/>
                </a:lnTo>
                <a:lnTo>
                  <a:pt x="170" y="26"/>
                </a:lnTo>
                <a:lnTo>
                  <a:pt x="163" y="28"/>
                </a:lnTo>
                <a:lnTo>
                  <a:pt x="163" y="30"/>
                </a:lnTo>
                <a:lnTo>
                  <a:pt x="156" y="31"/>
                </a:lnTo>
                <a:lnTo>
                  <a:pt x="156" y="33"/>
                </a:lnTo>
                <a:lnTo>
                  <a:pt x="150" y="35"/>
                </a:lnTo>
                <a:lnTo>
                  <a:pt x="150" y="36"/>
                </a:lnTo>
                <a:lnTo>
                  <a:pt x="143" y="38"/>
                </a:lnTo>
                <a:lnTo>
                  <a:pt x="143" y="40"/>
                </a:lnTo>
                <a:lnTo>
                  <a:pt x="140" y="40"/>
                </a:lnTo>
                <a:lnTo>
                  <a:pt x="140" y="41"/>
                </a:lnTo>
                <a:lnTo>
                  <a:pt x="135" y="41"/>
                </a:lnTo>
                <a:lnTo>
                  <a:pt x="135" y="43"/>
                </a:lnTo>
                <a:lnTo>
                  <a:pt x="128" y="45"/>
                </a:lnTo>
                <a:lnTo>
                  <a:pt x="128" y="46"/>
                </a:lnTo>
                <a:lnTo>
                  <a:pt x="121" y="48"/>
                </a:lnTo>
                <a:lnTo>
                  <a:pt x="121" y="50"/>
                </a:lnTo>
                <a:lnTo>
                  <a:pt x="115" y="51"/>
                </a:lnTo>
                <a:lnTo>
                  <a:pt x="115" y="53"/>
                </a:lnTo>
                <a:lnTo>
                  <a:pt x="108" y="55"/>
                </a:lnTo>
                <a:lnTo>
                  <a:pt x="108" y="56"/>
                </a:lnTo>
                <a:lnTo>
                  <a:pt x="103" y="56"/>
                </a:lnTo>
                <a:lnTo>
                  <a:pt x="103" y="58"/>
                </a:lnTo>
                <a:lnTo>
                  <a:pt x="97" y="60"/>
                </a:lnTo>
                <a:lnTo>
                  <a:pt x="97" y="61"/>
                </a:lnTo>
                <a:lnTo>
                  <a:pt x="90" y="63"/>
                </a:lnTo>
                <a:lnTo>
                  <a:pt x="90" y="64"/>
                </a:lnTo>
                <a:lnTo>
                  <a:pt x="83" y="66"/>
                </a:lnTo>
                <a:lnTo>
                  <a:pt x="83" y="68"/>
                </a:lnTo>
                <a:lnTo>
                  <a:pt x="77" y="69"/>
                </a:lnTo>
                <a:lnTo>
                  <a:pt x="77" y="71"/>
                </a:lnTo>
                <a:lnTo>
                  <a:pt x="73" y="71"/>
                </a:lnTo>
                <a:lnTo>
                  <a:pt x="73" y="73"/>
                </a:lnTo>
                <a:lnTo>
                  <a:pt x="68" y="73"/>
                </a:lnTo>
                <a:lnTo>
                  <a:pt x="68" y="74"/>
                </a:lnTo>
                <a:lnTo>
                  <a:pt x="62" y="76"/>
                </a:lnTo>
                <a:lnTo>
                  <a:pt x="62" y="78"/>
                </a:lnTo>
                <a:lnTo>
                  <a:pt x="55" y="79"/>
                </a:lnTo>
                <a:lnTo>
                  <a:pt x="55" y="101"/>
                </a:lnTo>
                <a:lnTo>
                  <a:pt x="53" y="101"/>
                </a:lnTo>
                <a:lnTo>
                  <a:pt x="53" y="111"/>
                </a:lnTo>
                <a:lnTo>
                  <a:pt x="52" y="111"/>
                </a:lnTo>
                <a:lnTo>
                  <a:pt x="52" y="118"/>
                </a:lnTo>
                <a:lnTo>
                  <a:pt x="50" y="118"/>
                </a:lnTo>
                <a:lnTo>
                  <a:pt x="48" y="129"/>
                </a:lnTo>
                <a:lnTo>
                  <a:pt x="47" y="129"/>
                </a:lnTo>
                <a:lnTo>
                  <a:pt x="47" y="133"/>
                </a:lnTo>
                <a:lnTo>
                  <a:pt x="45" y="133"/>
                </a:lnTo>
                <a:lnTo>
                  <a:pt x="45" y="136"/>
                </a:lnTo>
                <a:lnTo>
                  <a:pt x="42" y="138"/>
                </a:lnTo>
                <a:lnTo>
                  <a:pt x="42" y="141"/>
                </a:lnTo>
                <a:lnTo>
                  <a:pt x="40" y="141"/>
                </a:lnTo>
                <a:lnTo>
                  <a:pt x="40" y="144"/>
                </a:lnTo>
                <a:lnTo>
                  <a:pt x="38" y="144"/>
                </a:lnTo>
                <a:lnTo>
                  <a:pt x="38" y="148"/>
                </a:lnTo>
                <a:lnTo>
                  <a:pt x="37" y="148"/>
                </a:lnTo>
                <a:lnTo>
                  <a:pt x="37" y="151"/>
                </a:lnTo>
                <a:lnTo>
                  <a:pt x="32" y="152"/>
                </a:lnTo>
                <a:lnTo>
                  <a:pt x="32" y="156"/>
                </a:lnTo>
                <a:lnTo>
                  <a:pt x="18" y="167"/>
                </a:lnTo>
                <a:lnTo>
                  <a:pt x="12" y="174"/>
                </a:lnTo>
                <a:lnTo>
                  <a:pt x="9" y="174"/>
                </a:lnTo>
                <a:lnTo>
                  <a:pt x="9" y="176"/>
                </a:lnTo>
                <a:lnTo>
                  <a:pt x="0" y="179"/>
                </a:lnTo>
                <a:lnTo>
                  <a:pt x="0" y="181"/>
                </a:lnTo>
                <a:lnTo>
                  <a:pt x="4" y="181"/>
                </a:lnTo>
                <a:lnTo>
                  <a:pt x="4" y="179"/>
                </a:lnTo>
                <a:lnTo>
                  <a:pt x="9" y="179"/>
                </a:lnTo>
                <a:lnTo>
                  <a:pt x="9" y="177"/>
                </a:lnTo>
                <a:lnTo>
                  <a:pt x="15" y="176"/>
                </a:lnTo>
                <a:lnTo>
                  <a:pt x="15" y="174"/>
                </a:lnTo>
                <a:lnTo>
                  <a:pt x="22" y="172"/>
                </a:lnTo>
                <a:lnTo>
                  <a:pt x="22" y="171"/>
                </a:lnTo>
                <a:lnTo>
                  <a:pt x="28" y="169"/>
                </a:lnTo>
                <a:lnTo>
                  <a:pt x="28" y="167"/>
                </a:lnTo>
                <a:lnTo>
                  <a:pt x="35" y="166"/>
                </a:lnTo>
                <a:lnTo>
                  <a:pt x="35" y="164"/>
                </a:lnTo>
                <a:lnTo>
                  <a:pt x="42" y="162"/>
                </a:lnTo>
                <a:lnTo>
                  <a:pt x="42" y="161"/>
                </a:lnTo>
                <a:lnTo>
                  <a:pt x="48" y="159"/>
                </a:lnTo>
                <a:lnTo>
                  <a:pt x="48" y="157"/>
                </a:lnTo>
                <a:lnTo>
                  <a:pt x="55" y="156"/>
                </a:lnTo>
                <a:lnTo>
                  <a:pt x="55" y="154"/>
                </a:lnTo>
                <a:lnTo>
                  <a:pt x="62" y="152"/>
                </a:lnTo>
                <a:lnTo>
                  <a:pt x="62" y="151"/>
                </a:lnTo>
                <a:lnTo>
                  <a:pt x="68" y="149"/>
                </a:lnTo>
                <a:lnTo>
                  <a:pt x="68" y="148"/>
                </a:lnTo>
                <a:lnTo>
                  <a:pt x="75" y="146"/>
                </a:lnTo>
                <a:lnTo>
                  <a:pt x="75" y="144"/>
                </a:lnTo>
                <a:lnTo>
                  <a:pt x="82" y="143"/>
                </a:lnTo>
                <a:lnTo>
                  <a:pt x="82" y="141"/>
                </a:lnTo>
                <a:lnTo>
                  <a:pt x="88" y="139"/>
                </a:lnTo>
                <a:lnTo>
                  <a:pt x="88" y="138"/>
                </a:lnTo>
                <a:lnTo>
                  <a:pt x="95" y="136"/>
                </a:lnTo>
                <a:lnTo>
                  <a:pt x="95" y="134"/>
                </a:lnTo>
                <a:lnTo>
                  <a:pt x="101" y="133"/>
                </a:lnTo>
                <a:lnTo>
                  <a:pt x="101" y="131"/>
                </a:lnTo>
                <a:lnTo>
                  <a:pt x="108" y="129"/>
                </a:lnTo>
                <a:lnTo>
                  <a:pt x="108" y="128"/>
                </a:lnTo>
                <a:lnTo>
                  <a:pt x="115" y="126"/>
                </a:lnTo>
                <a:lnTo>
                  <a:pt x="115" y="124"/>
                </a:lnTo>
                <a:lnTo>
                  <a:pt x="121" y="123"/>
                </a:lnTo>
                <a:lnTo>
                  <a:pt x="121" y="121"/>
                </a:lnTo>
                <a:lnTo>
                  <a:pt x="128" y="119"/>
                </a:lnTo>
                <a:lnTo>
                  <a:pt x="128" y="118"/>
                </a:lnTo>
                <a:lnTo>
                  <a:pt x="135" y="116"/>
                </a:lnTo>
                <a:lnTo>
                  <a:pt x="135" y="114"/>
                </a:lnTo>
                <a:lnTo>
                  <a:pt x="141" y="113"/>
                </a:lnTo>
                <a:lnTo>
                  <a:pt x="141" y="111"/>
                </a:lnTo>
                <a:lnTo>
                  <a:pt x="148" y="109"/>
                </a:lnTo>
                <a:lnTo>
                  <a:pt x="148" y="108"/>
                </a:lnTo>
                <a:lnTo>
                  <a:pt x="155" y="106"/>
                </a:lnTo>
                <a:lnTo>
                  <a:pt x="155" y="104"/>
                </a:lnTo>
                <a:lnTo>
                  <a:pt x="168" y="93"/>
                </a:lnTo>
                <a:lnTo>
                  <a:pt x="171" y="89"/>
                </a:lnTo>
                <a:lnTo>
                  <a:pt x="175" y="89"/>
                </a:lnTo>
                <a:lnTo>
                  <a:pt x="175" y="88"/>
                </a:lnTo>
                <a:lnTo>
                  <a:pt x="181" y="84"/>
                </a:lnTo>
                <a:lnTo>
                  <a:pt x="181" y="83"/>
                </a:lnTo>
                <a:lnTo>
                  <a:pt x="184" y="83"/>
                </a:lnTo>
                <a:lnTo>
                  <a:pt x="184" y="81"/>
                </a:lnTo>
                <a:lnTo>
                  <a:pt x="194" y="74"/>
                </a:lnTo>
                <a:lnTo>
                  <a:pt x="194" y="73"/>
                </a:lnTo>
                <a:lnTo>
                  <a:pt x="209" y="60"/>
                </a:lnTo>
                <a:lnTo>
                  <a:pt x="209" y="55"/>
                </a:lnTo>
                <a:lnTo>
                  <a:pt x="211" y="55"/>
                </a:lnTo>
                <a:lnTo>
                  <a:pt x="211" y="51"/>
                </a:lnTo>
                <a:lnTo>
                  <a:pt x="213" y="51"/>
                </a:lnTo>
                <a:lnTo>
                  <a:pt x="213" y="48"/>
                </a:lnTo>
                <a:lnTo>
                  <a:pt x="214" y="48"/>
                </a:lnTo>
                <a:lnTo>
                  <a:pt x="214" y="45"/>
                </a:lnTo>
                <a:lnTo>
                  <a:pt x="216" y="45"/>
                </a:lnTo>
                <a:lnTo>
                  <a:pt x="216" y="41"/>
                </a:lnTo>
                <a:lnTo>
                  <a:pt x="218" y="41"/>
                </a:lnTo>
                <a:lnTo>
                  <a:pt x="218" y="38"/>
                </a:lnTo>
                <a:lnTo>
                  <a:pt x="219" y="38"/>
                </a:lnTo>
                <a:lnTo>
                  <a:pt x="219" y="35"/>
                </a:lnTo>
                <a:lnTo>
                  <a:pt x="221" y="35"/>
                </a:lnTo>
                <a:lnTo>
                  <a:pt x="221" y="28"/>
                </a:lnTo>
                <a:lnTo>
                  <a:pt x="223" y="28"/>
                </a:lnTo>
                <a:lnTo>
                  <a:pt x="223" y="23"/>
                </a:lnTo>
                <a:lnTo>
                  <a:pt x="224" y="23"/>
                </a:lnTo>
                <a:lnTo>
                  <a:pt x="224" y="11"/>
                </a:lnTo>
                <a:lnTo>
                  <a:pt x="226" y="11"/>
                </a:lnTo>
                <a:lnTo>
                  <a:pt x="226" y="0"/>
                </a:lnTo>
                <a:lnTo>
                  <a:pt x="223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4573440" y="2451240"/>
            <a:ext cx="1116000" cy="920520"/>
          </a:xfrm>
          <a:custGeom>
            <a:avLst/>
            <a:gdLst/>
            <a:ahLst/>
            <a:rect l="l" t="t" r="r" b="b"/>
            <a:pathLst>
              <a:path w="297" h="277">
                <a:moveTo>
                  <a:pt x="224" y="202"/>
                </a:moveTo>
                <a:lnTo>
                  <a:pt x="78" y="275"/>
                </a:lnTo>
                <a:lnTo>
                  <a:pt x="73" y="277"/>
                </a:lnTo>
                <a:lnTo>
                  <a:pt x="77" y="275"/>
                </a:lnTo>
                <a:lnTo>
                  <a:pt x="80" y="274"/>
                </a:lnTo>
                <a:lnTo>
                  <a:pt x="82" y="272"/>
                </a:lnTo>
                <a:lnTo>
                  <a:pt x="85" y="270"/>
                </a:lnTo>
                <a:lnTo>
                  <a:pt x="90" y="265"/>
                </a:lnTo>
                <a:lnTo>
                  <a:pt x="93" y="264"/>
                </a:lnTo>
                <a:lnTo>
                  <a:pt x="103" y="254"/>
                </a:lnTo>
                <a:lnTo>
                  <a:pt x="105" y="250"/>
                </a:lnTo>
                <a:lnTo>
                  <a:pt x="108" y="249"/>
                </a:lnTo>
                <a:lnTo>
                  <a:pt x="110" y="246"/>
                </a:lnTo>
                <a:lnTo>
                  <a:pt x="111" y="242"/>
                </a:lnTo>
                <a:lnTo>
                  <a:pt x="113" y="239"/>
                </a:lnTo>
                <a:lnTo>
                  <a:pt x="115" y="236"/>
                </a:lnTo>
                <a:lnTo>
                  <a:pt x="116" y="234"/>
                </a:lnTo>
                <a:lnTo>
                  <a:pt x="118" y="231"/>
                </a:lnTo>
                <a:lnTo>
                  <a:pt x="120" y="227"/>
                </a:lnTo>
                <a:lnTo>
                  <a:pt x="121" y="224"/>
                </a:lnTo>
                <a:lnTo>
                  <a:pt x="121" y="221"/>
                </a:lnTo>
                <a:lnTo>
                  <a:pt x="123" y="217"/>
                </a:lnTo>
                <a:lnTo>
                  <a:pt x="125" y="212"/>
                </a:lnTo>
                <a:lnTo>
                  <a:pt x="125" y="209"/>
                </a:lnTo>
                <a:lnTo>
                  <a:pt x="126" y="206"/>
                </a:lnTo>
                <a:lnTo>
                  <a:pt x="126" y="199"/>
                </a:lnTo>
                <a:lnTo>
                  <a:pt x="128" y="196"/>
                </a:lnTo>
                <a:lnTo>
                  <a:pt x="128" y="174"/>
                </a:lnTo>
                <a:lnTo>
                  <a:pt x="126" y="169"/>
                </a:lnTo>
                <a:lnTo>
                  <a:pt x="126" y="164"/>
                </a:lnTo>
                <a:lnTo>
                  <a:pt x="125" y="159"/>
                </a:lnTo>
                <a:lnTo>
                  <a:pt x="123" y="154"/>
                </a:lnTo>
                <a:lnTo>
                  <a:pt x="121" y="149"/>
                </a:lnTo>
                <a:lnTo>
                  <a:pt x="120" y="144"/>
                </a:lnTo>
                <a:lnTo>
                  <a:pt x="118" y="139"/>
                </a:lnTo>
                <a:lnTo>
                  <a:pt x="116" y="136"/>
                </a:lnTo>
                <a:lnTo>
                  <a:pt x="115" y="131"/>
                </a:lnTo>
                <a:lnTo>
                  <a:pt x="111" y="126"/>
                </a:lnTo>
                <a:lnTo>
                  <a:pt x="110" y="123"/>
                </a:lnTo>
                <a:lnTo>
                  <a:pt x="106" y="119"/>
                </a:lnTo>
                <a:lnTo>
                  <a:pt x="103" y="114"/>
                </a:lnTo>
                <a:lnTo>
                  <a:pt x="90" y="101"/>
                </a:lnTo>
                <a:lnTo>
                  <a:pt x="87" y="99"/>
                </a:lnTo>
                <a:lnTo>
                  <a:pt x="82" y="96"/>
                </a:lnTo>
                <a:lnTo>
                  <a:pt x="78" y="94"/>
                </a:lnTo>
                <a:lnTo>
                  <a:pt x="75" y="91"/>
                </a:lnTo>
                <a:lnTo>
                  <a:pt x="70" y="89"/>
                </a:lnTo>
                <a:lnTo>
                  <a:pt x="65" y="88"/>
                </a:lnTo>
                <a:lnTo>
                  <a:pt x="62" y="86"/>
                </a:lnTo>
                <a:lnTo>
                  <a:pt x="57" y="84"/>
                </a:lnTo>
                <a:lnTo>
                  <a:pt x="52" y="83"/>
                </a:lnTo>
                <a:lnTo>
                  <a:pt x="48" y="83"/>
                </a:lnTo>
                <a:lnTo>
                  <a:pt x="43" y="81"/>
                </a:lnTo>
                <a:lnTo>
                  <a:pt x="20" y="81"/>
                </a:lnTo>
                <a:lnTo>
                  <a:pt x="20" y="83"/>
                </a:lnTo>
                <a:lnTo>
                  <a:pt x="12" y="83"/>
                </a:lnTo>
                <a:lnTo>
                  <a:pt x="12" y="84"/>
                </a:lnTo>
                <a:lnTo>
                  <a:pt x="7" y="84"/>
                </a:lnTo>
                <a:lnTo>
                  <a:pt x="5" y="86"/>
                </a:lnTo>
                <a:lnTo>
                  <a:pt x="2" y="86"/>
                </a:lnTo>
                <a:lnTo>
                  <a:pt x="2" y="88"/>
                </a:lnTo>
                <a:lnTo>
                  <a:pt x="0" y="88"/>
                </a:lnTo>
                <a:lnTo>
                  <a:pt x="12" y="81"/>
                </a:lnTo>
                <a:lnTo>
                  <a:pt x="174" y="3"/>
                </a:lnTo>
                <a:lnTo>
                  <a:pt x="170" y="6"/>
                </a:lnTo>
                <a:lnTo>
                  <a:pt x="188" y="1"/>
                </a:lnTo>
                <a:lnTo>
                  <a:pt x="204" y="0"/>
                </a:lnTo>
                <a:lnTo>
                  <a:pt x="223" y="1"/>
                </a:lnTo>
                <a:lnTo>
                  <a:pt x="241" y="8"/>
                </a:lnTo>
                <a:lnTo>
                  <a:pt x="256" y="16"/>
                </a:lnTo>
                <a:lnTo>
                  <a:pt x="271" y="30"/>
                </a:lnTo>
                <a:lnTo>
                  <a:pt x="281" y="45"/>
                </a:lnTo>
                <a:lnTo>
                  <a:pt x="291" y="61"/>
                </a:lnTo>
                <a:lnTo>
                  <a:pt x="296" y="81"/>
                </a:lnTo>
                <a:lnTo>
                  <a:pt x="297" y="101"/>
                </a:lnTo>
                <a:lnTo>
                  <a:pt x="296" y="116"/>
                </a:lnTo>
                <a:lnTo>
                  <a:pt x="292" y="129"/>
                </a:lnTo>
                <a:lnTo>
                  <a:pt x="281" y="154"/>
                </a:lnTo>
                <a:lnTo>
                  <a:pt x="262" y="174"/>
                </a:lnTo>
                <a:lnTo>
                  <a:pt x="239" y="189"/>
                </a:lnTo>
                <a:lnTo>
                  <a:pt x="224" y="20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3559320" y="3103560"/>
            <a:ext cx="671400" cy="668520"/>
          </a:xfrm>
          <a:custGeom>
            <a:avLst/>
            <a:gdLst/>
            <a:ahLst/>
            <a:rect l="l" t="t" r="r" b="b"/>
            <a:pathLst>
              <a:path w="179" h="201">
                <a:moveTo>
                  <a:pt x="54" y="8"/>
                </a:moveTo>
                <a:lnTo>
                  <a:pt x="51" y="10"/>
                </a:lnTo>
                <a:lnTo>
                  <a:pt x="48" y="11"/>
                </a:lnTo>
                <a:lnTo>
                  <a:pt x="46" y="13"/>
                </a:lnTo>
                <a:lnTo>
                  <a:pt x="43" y="15"/>
                </a:lnTo>
                <a:lnTo>
                  <a:pt x="39" y="16"/>
                </a:lnTo>
                <a:lnTo>
                  <a:pt x="38" y="20"/>
                </a:lnTo>
                <a:lnTo>
                  <a:pt x="34" y="21"/>
                </a:lnTo>
                <a:lnTo>
                  <a:pt x="31" y="23"/>
                </a:lnTo>
                <a:lnTo>
                  <a:pt x="30" y="26"/>
                </a:lnTo>
                <a:lnTo>
                  <a:pt x="26" y="28"/>
                </a:lnTo>
                <a:lnTo>
                  <a:pt x="25" y="31"/>
                </a:lnTo>
                <a:lnTo>
                  <a:pt x="20" y="36"/>
                </a:lnTo>
                <a:lnTo>
                  <a:pt x="18" y="40"/>
                </a:lnTo>
                <a:lnTo>
                  <a:pt x="16" y="41"/>
                </a:lnTo>
                <a:lnTo>
                  <a:pt x="15" y="45"/>
                </a:lnTo>
                <a:lnTo>
                  <a:pt x="13" y="48"/>
                </a:lnTo>
                <a:lnTo>
                  <a:pt x="11" y="51"/>
                </a:lnTo>
                <a:lnTo>
                  <a:pt x="10" y="54"/>
                </a:lnTo>
                <a:lnTo>
                  <a:pt x="8" y="58"/>
                </a:lnTo>
                <a:lnTo>
                  <a:pt x="6" y="61"/>
                </a:lnTo>
                <a:lnTo>
                  <a:pt x="6" y="64"/>
                </a:lnTo>
                <a:lnTo>
                  <a:pt x="5" y="68"/>
                </a:lnTo>
                <a:lnTo>
                  <a:pt x="3" y="71"/>
                </a:lnTo>
                <a:lnTo>
                  <a:pt x="3" y="74"/>
                </a:lnTo>
                <a:lnTo>
                  <a:pt x="1" y="78"/>
                </a:lnTo>
                <a:lnTo>
                  <a:pt x="1" y="84"/>
                </a:lnTo>
                <a:lnTo>
                  <a:pt x="0" y="88"/>
                </a:lnTo>
                <a:lnTo>
                  <a:pt x="0" y="109"/>
                </a:lnTo>
                <a:lnTo>
                  <a:pt x="1" y="114"/>
                </a:lnTo>
                <a:lnTo>
                  <a:pt x="1" y="119"/>
                </a:lnTo>
                <a:lnTo>
                  <a:pt x="3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10" y="144"/>
                </a:lnTo>
                <a:lnTo>
                  <a:pt x="11" y="147"/>
                </a:lnTo>
                <a:lnTo>
                  <a:pt x="13" y="152"/>
                </a:lnTo>
                <a:lnTo>
                  <a:pt x="16" y="156"/>
                </a:lnTo>
                <a:lnTo>
                  <a:pt x="18" y="161"/>
                </a:lnTo>
                <a:lnTo>
                  <a:pt x="41" y="184"/>
                </a:lnTo>
                <a:lnTo>
                  <a:pt x="46" y="186"/>
                </a:lnTo>
                <a:lnTo>
                  <a:pt x="49" y="189"/>
                </a:lnTo>
                <a:lnTo>
                  <a:pt x="53" y="191"/>
                </a:lnTo>
                <a:lnTo>
                  <a:pt x="58" y="192"/>
                </a:lnTo>
                <a:lnTo>
                  <a:pt x="63" y="194"/>
                </a:lnTo>
                <a:lnTo>
                  <a:pt x="66" y="196"/>
                </a:lnTo>
                <a:lnTo>
                  <a:pt x="71" y="197"/>
                </a:lnTo>
                <a:lnTo>
                  <a:pt x="76" y="199"/>
                </a:lnTo>
                <a:lnTo>
                  <a:pt x="79" y="199"/>
                </a:lnTo>
                <a:lnTo>
                  <a:pt x="84" y="201"/>
                </a:lnTo>
                <a:lnTo>
                  <a:pt x="108" y="201"/>
                </a:lnTo>
                <a:lnTo>
                  <a:pt x="108" y="199"/>
                </a:lnTo>
                <a:lnTo>
                  <a:pt x="116" y="199"/>
                </a:lnTo>
                <a:lnTo>
                  <a:pt x="116" y="197"/>
                </a:lnTo>
                <a:lnTo>
                  <a:pt x="121" y="197"/>
                </a:lnTo>
                <a:lnTo>
                  <a:pt x="122" y="196"/>
                </a:lnTo>
                <a:lnTo>
                  <a:pt x="126" y="196"/>
                </a:lnTo>
                <a:lnTo>
                  <a:pt x="126" y="194"/>
                </a:lnTo>
                <a:lnTo>
                  <a:pt x="127" y="194"/>
                </a:lnTo>
                <a:lnTo>
                  <a:pt x="124" y="192"/>
                </a:lnTo>
                <a:lnTo>
                  <a:pt x="127" y="191"/>
                </a:lnTo>
                <a:lnTo>
                  <a:pt x="131" y="189"/>
                </a:lnTo>
                <a:lnTo>
                  <a:pt x="132" y="187"/>
                </a:lnTo>
                <a:lnTo>
                  <a:pt x="136" y="186"/>
                </a:lnTo>
                <a:lnTo>
                  <a:pt x="139" y="184"/>
                </a:lnTo>
                <a:lnTo>
                  <a:pt x="141" y="181"/>
                </a:lnTo>
                <a:lnTo>
                  <a:pt x="144" y="179"/>
                </a:lnTo>
                <a:lnTo>
                  <a:pt x="147" y="177"/>
                </a:lnTo>
                <a:lnTo>
                  <a:pt x="149" y="174"/>
                </a:lnTo>
                <a:lnTo>
                  <a:pt x="152" y="172"/>
                </a:lnTo>
                <a:lnTo>
                  <a:pt x="154" y="169"/>
                </a:lnTo>
                <a:lnTo>
                  <a:pt x="159" y="164"/>
                </a:lnTo>
                <a:lnTo>
                  <a:pt x="161" y="161"/>
                </a:lnTo>
                <a:lnTo>
                  <a:pt x="162" y="159"/>
                </a:lnTo>
                <a:lnTo>
                  <a:pt x="164" y="156"/>
                </a:lnTo>
                <a:lnTo>
                  <a:pt x="166" y="152"/>
                </a:lnTo>
                <a:lnTo>
                  <a:pt x="167" y="149"/>
                </a:lnTo>
                <a:lnTo>
                  <a:pt x="169" y="146"/>
                </a:lnTo>
                <a:lnTo>
                  <a:pt x="171" y="143"/>
                </a:lnTo>
                <a:lnTo>
                  <a:pt x="172" y="139"/>
                </a:lnTo>
                <a:lnTo>
                  <a:pt x="172" y="136"/>
                </a:lnTo>
                <a:lnTo>
                  <a:pt x="174" y="133"/>
                </a:lnTo>
                <a:lnTo>
                  <a:pt x="176" y="129"/>
                </a:lnTo>
                <a:lnTo>
                  <a:pt x="176" y="126"/>
                </a:lnTo>
                <a:lnTo>
                  <a:pt x="177" y="123"/>
                </a:lnTo>
                <a:lnTo>
                  <a:pt x="177" y="116"/>
                </a:lnTo>
                <a:lnTo>
                  <a:pt x="179" y="113"/>
                </a:lnTo>
                <a:lnTo>
                  <a:pt x="179" y="91"/>
                </a:lnTo>
                <a:lnTo>
                  <a:pt x="177" y="86"/>
                </a:lnTo>
                <a:lnTo>
                  <a:pt x="177" y="81"/>
                </a:lnTo>
                <a:lnTo>
                  <a:pt x="176" y="76"/>
                </a:lnTo>
                <a:lnTo>
                  <a:pt x="174" y="71"/>
                </a:lnTo>
                <a:lnTo>
                  <a:pt x="172" y="66"/>
                </a:lnTo>
                <a:lnTo>
                  <a:pt x="171" y="61"/>
                </a:lnTo>
                <a:lnTo>
                  <a:pt x="169" y="56"/>
                </a:lnTo>
                <a:lnTo>
                  <a:pt x="167" y="53"/>
                </a:lnTo>
                <a:lnTo>
                  <a:pt x="166" y="48"/>
                </a:lnTo>
                <a:lnTo>
                  <a:pt x="162" y="45"/>
                </a:lnTo>
                <a:lnTo>
                  <a:pt x="161" y="40"/>
                </a:lnTo>
                <a:lnTo>
                  <a:pt x="137" y="16"/>
                </a:lnTo>
                <a:lnTo>
                  <a:pt x="132" y="15"/>
                </a:lnTo>
                <a:lnTo>
                  <a:pt x="129" y="11"/>
                </a:lnTo>
                <a:lnTo>
                  <a:pt x="126" y="10"/>
                </a:lnTo>
                <a:lnTo>
                  <a:pt x="121" y="8"/>
                </a:lnTo>
                <a:lnTo>
                  <a:pt x="116" y="6"/>
                </a:lnTo>
                <a:lnTo>
                  <a:pt x="113" y="5"/>
                </a:lnTo>
                <a:lnTo>
                  <a:pt x="108" y="3"/>
                </a:lnTo>
                <a:lnTo>
                  <a:pt x="103" y="1"/>
                </a:lnTo>
                <a:lnTo>
                  <a:pt x="99" y="1"/>
                </a:lnTo>
                <a:lnTo>
                  <a:pt x="94" y="0"/>
                </a:lnTo>
                <a:lnTo>
                  <a:pt x="71" y="0"/>
                </a:lnTo>
                <a:lnTo>
                  <a:pt x="69" y="1"/>
                </a:lnTo>
                <a:lnTo>
                  <a:pt x="63" y="1"/>
                </a:lnTo>
                <a:lnTo>
                  <a:pt x="61" y="3"/>
                </a:lnTo>
                <a:lnTo>
                  <a:pt x="58" y="3"/>
                </a:lnTo>
                <a:lnTo>
                  <a:pt x="56" y="5"/>
                </a:lnTo>
                <a:lnTo>
                  <a:pt x="51" y="5"/>
                </a:lnTo>
                <a:lnTo>
                  <a:pt x="51" y="6"/>
                </a:lnTo>
                <a:lnTo>
                  <a:pt x="49" y="6"/>
                </a:lnTo>
                <a:lnTo>
                  <a:pt x="54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3795840" y="2827440"/>
            <a:ext cx="992160" cy="377640"/>
          </a:xfrm>
          <a:custGeom>
            <a:avLst/>
            <a:gdLst/>
            <a:ahLst/>
            <a:rect l="l" t="t" r="r" b="b"/>
            <a:pathLst>
              <a:path w="264" h="114">
                <a:moveTo>
                  <a:pt x="186" y="0"/>
                </a:moveTo>
                <a:lnTo>
                  <a:pt x="186" y="1"/>
                </a:lnTo>
                <a:lnTo>
                  <a:pt x="174" y="1"/>
                </a:lnTo>
                <a:lnTo>
                  <a:pt x="174" y="3"/>
                </a:lnTo>
                <a:lnTo>
                  <a:pt x="169" y="3"/>
                </a:lnTo>
                <a:lnTo>
                  <a:pt x="169" y="5"/>
                </a:lnTo>
                <a:lnTo>
                  <a:pt x="162" y="5"/>
                </a:lnTo>
                <a:lnTo>
                  <a:pt x="162" y="6"/>
                </a:lnTo>
                <a:lnTo>
                  <a:pt x="156" y="8"/>
                </a:lnTo>
                <a:lnTo>
                  <a:pt x="156" y="10"/>
                </a:lnTo>
                <a:lnTo>
                  <a:pt x="149" y="11"/>
                </a:lnTo>
                <a:lnTo>
                  <a:pt x="149" y="13"/>
                </a:lnTo>
                <a:lnTo>
                  <a:pt x="142" y="15"/>
                </a:lnTo>
                <a:lnTo>
                  <a:pt x="142" y="16"/>
                </a:lnTo>
                <a:lnTo>
                  <a:pt x="136" y="18"/>
                </a:lnTo>
                <a:lnTo>
                  <a:pt x="136" y="20"/>
                </a:lnTo>
                <a:lnTo>
                  <a:pt x="129" y="21"/>
                </a:lnTo>
                <a:lnTo>
                  <a:pt x="129" y="23"/>
                </a:lnTo>
                <a:lnTo>
                  <a:pt x="124" y="23"/>
                </a:lnTo>
                <a:lnTo>
                  <a:pt x="124" y="25"/>
                </a:lnTo>
                <a:lnTo>
                  <a:pt x="118" y="26"/>
                </a:lnTo>
                <a:lnTo>
                  <a:pt x="118" y="28"/>
                </a:lnTo>
                <a:lnTo>
                  <a:pt x="111" y="30"/>
                </a:lnTo>
                <a:lnTo>
                  <a:pt x="111" y="31"/>
                </a:lnTo>
                <a:lnTo>
                  <a:pt x="104" y="33"/>
                </a:lnTo>
                <a:lnTo>
                  <a:pt x="104" y="35"/>
                </a:lnTo>
                <a:lnTo>
                  <a:pt x="98" y="36"/>
                </a:lnTo>
                <a:lnTo>
                  <a:pt x="98" y="38"/>
                </a:lnTo>
                <a:lnTo>
                  <a:pt x="91" y="40"/>
                </a:lnTo>
                <a:lnTo>
                  <a:pt x="91" y="41"/>
                </a:lnTo>
                <a:lnTo>
                  <a:pt x="88" y="41"/>
                </a:lnTo>
                <a:lnTo>
                  <a:pt x="88" y="43"/>
                </a:lnTo>
                <a:lnTo>
                  <a:pt x="83" y="43"/>
                </a:lnTo>
                <a:lnTo>
                  <a:pt x="83" y="45"/>
                </a:lnTo>
                <a:lnTo>
                  <a:pt x="76" y="46"/>
                </a:lnTo>
                <a:lnTo>
                  <a:pt x="76" y="48"/>
                </a:lnTo>
                <a:lnTo>
                  <a:pt x="69" y="49"/>
                </a:lnTo>
                <a:lnTo>
                  <a:pt x="69" y="51"/>
                </a:lnTo>
                <a:lnTo>
                  <a:pt x="63" y="53"/>
                </a:lnTo>
                <a:lnTo>
                  <a:pt x="63" y="54"/>
                </a:lnTo>
                <a:lnTo>
                  <a:pt x="56" y="56"/>
                </a:lnTo>
                <a:lnTo>
                  <a:pt x="56" y="58"/>
                </a:lnTo>
                <a:lnTo>
                  <a:pt x="50" y="59"/>
                </a:lnTo>
                <a:lnTo>
                  <a:pt x="50" y="61"/>
                </a:lnTo>
                <a:lnTo>
                  <a:pt x="46" y="61"/>
                </a:lnTo>
                <a:lnTo>
                  <a:pt x="46" y="63"/>
                </a:lnTo>
                <a:lnTo>
                  <a:pt x="41" y="63"/>
                </a:lnTo>
                <a:lnTo>
                  <a:pt x="41" y="64"/>
                </a:lnTo>
                <a:lnTo>
                  <a:pt x="35" y="66"/>
                </a:lnTo>
                <a:lnTo>
                  <a:pt x="35" y="68"/>
                </a:lnTo>
                <a:lnTo>
                  <a:pt x="28" y="69"/>
                </a:lnTo>
                <a:lnTo>
                  <a:pt x="28" y="71"/>
                </a:lnTo>
                <a:lnTo>
                  <a:pt x="21" y="73"/>
                </a:lnTo>
                <a:lnTo>
                  <a:pt x="21" y="74"/>
                </a:lnTo>
                <a:lnTo>
                  <a:pt x="15" y="76"/>
                </a:lnTo>
                <a:lnTo>
                  <a:pt x="15" y="78"/>
                </a:lnTo>
                <a:lnTo>
                  <a:pt x="8" y="79"/>
                </a:lnTo>
                <a:lnTo>
                  <a:pt x="8" y="81"/>
                </a:lnTo>
                <a:lnTo>
                  <a:pt x="5" y="81"/>
                </a:lnTo>
                <a:lnTo>
                  <a:pt x="5" y="83"/>
                </a:lnTo>
                <a:lnTo>
                  <a:pt x="0" y="83"/>
                </a:lnTo>
                <a:lnTo>
                  <a:pt x="0" y="84"/>
                </a:lnTo>
                <a:lnTo>
                  <a:pt x="36" y="84"/>
                </a:lnTo>
                <a:lnTo>
                  <a:pt x="36" y="86"/>
                </a:lnTo>
                <a:lnTo>
                  <a:pt x="43" y="86"/>
                </a:lnTo>
                <a:lnTo>
                  <a:pt x="43" y="88"/>
                </a:lnTo>
                <a:lnTo>
                  <a:pt x="50" y="88"/>
                </a:lnTo>
                <a:lnTo>
                  <a:pt x="50" y="89"/>
                </a:lnTo>
                <a:lnTo>
                  <a:pt x="53" y="89"/>
                </a:lnTo>
                <a:lnTo>
                  <a:pt x="53" y="91"/>
                </a:lnTo>
                <a:lnTo>
                  <a:pt x="59" y="91"/>
                </a:lnTo>
                <a:lnTo>
                  <a:pt x="61" y="94"/>
                </a:lnTo>
                <a:lnTo>
                  <a:pt x="68" y="94"/>
                </a:lnTo>
                <a:lnTo>
                  <a:pt x="73" y="101"/>
                </a:lnTo>
                <a:lnTo>
                  <a:pt x="76" y="101"/>
                </a:lnTo>
                <a:lnTo>
                  <a:pt x="78" y="104"/>
                </a:lnTo>
                <a:lnTo>
                  <a:pt x="81" y="104"/>
                </a:lnTo>
                <a:lnTo>
                  <a:pt x="89" y="114"/>
                </a:lnTo>
                <a:lnTo>
                  <a:pt x="94" y="114"/>
                </a:lnTo>
                <a:lnTo>
                  <a:pt x="94" y="113"/>
                </a:lnTo>
                <a:lnTo>
                  <a:pt x="101" y="111"/>
                </a:lnTo>
                <a:lnTo>
                  <a:pt x="101" y="109"/>
                </a:lnTo>
                <a:lnTo>
                  <a:pt x="104" y="109"/>
                </a:lnTo>
                <a:lnTo>
                  <a:pt x="104" y="108"/>
                </a:lnTo>
                <a:lnTo>
                  <a:pt x="109" y="108"/>
                </a:lnTo>
                <a:lnTo>
                  <a:pt x="109" y="106"/>
                </a:lnTo>
                <a:lnTo>
                  <a:pt x="116" y="104"/>
                </a:lnTo>
                <a:lnTo>
                  <a:pt x="116" y="103"/>
                </a:lnTo>
                <a:lnTo>
                  <a:pt x="123" y="101"/>
                </a:lnTo>
                <a:lnTo>
                  <a:pt x="123" y="99"/>
                </a:lnTo>
                <a:lnTo>
                  <a:pt x="129" y="98"/>
                </a:lnTo>
                <a:lnTo>
                  <a:pt x="129" y="96"/>
                </a:lnTo>
                <a:lnTo>
                  <a:pt x="133" y="96"/>
                </a:lnTo>
                <a:lnTo>
                  <a:pt x="133" y="94"/>
                </a:lnTo>
                <a:lnTo>
                  <a:pt x="137" y="94"/>
                </a:lnTo>
                <a:lnTo>
                  <a:pt x="137" y="93"/>
                </a:lnTo>
                <a:lnTo>
                  <a:pt x="144" y="91"/>
                </a:lnTo>
                <a:lnTo>
                  <a:pt x="144" y="89"/>
                </a:lnTo>
                <a:lnTo>
                  <a:pt x="151" y="88"/>
                </a:lnTo>
                <a:lnTo>
                  <a:pt x="151" y="86"/>
                </a:lnTo>
                <a:lnTo>
                  <a:pt x="157" y="84"/>
                </a:lnTo>
                <a:lnTo>
                  <a:pt x="157" y="83"/>
                </a:lnTo>
                <a:lnTo>
                  <a:pt x="161" y="83"/>
                </a:lnTo>
                <a:lnTo>
                  <a:pt x="161" y="81"/>
                </a:lnTo>
                <a:lnTo>
                  <a:pt x="166" y="81"/>
                </a:lnTo>
                <a:lnTo>
                  <a:pt x="166" y="79"/>
                </a:lnTo>
                <a:lnTo>
                  <a:pt x="172" y="78"/>
                </a:lnTo>
                <a:lnTo>
                  <a:pt x="172" y="76"/>
                </a:lnTo>
                <a:lnTo>
                  <a:pt x="179" y="74"/>
                </a:lnTo>
                <a:lnTo>
                  <a:pt x="179" y="73"/>
                </a:lnTo>
                <a:lnTo>
                  <a:pt x="186" y="71"/>
                </a:lnTo>
                <a:lnTo>
                  <a:pt x="186" y="69"/>
                </a:lnTo>
                <a:lnTo>
                  <a:pt x="191" y="69"/>
                </a:lnTo>
                <a:lnTo>
                  <a:pt x="191" y="68"/>
                </a:lnTo>
                <a:lnTo>
                  <a:pt x="197" y="66"/>
                </a:lnTo>
                <a:lnTo>
                  <a:pt x="197" y="64"/>
                </a:lnTo>
                <a:lnTo>
                  <a:pt x="204" y="63"/>
                </a:lnTo>
                <a:lnTo>
                  <a:pt x="204" y="61"/>
                </a:lnTo>
                <a:lnTo>
                  <a:pt x="211" y="59"/>
                </a:lnTo>
                <a:lnTo>
                  <a:pt x="211" y="58"/>
                </a:lnTo>
                <a:lnTo>
                  <a:pt x="214" y="58"/>
                </a:lnTo>
                <a:lnTo>
                  <a:pt x="214" y="56"/>
                </a:lnTo>
                <a:lnTo>
                  <a:pt x="219" y="56"/>
                </a:lnTo>
                <a:lnTo>
                  <a:pt x="219" y="54"/>
                </a:lnTo>
                <a:lnTo>
                  <a:pt x="225" y="53"/>
                </a:lnTo>
                <a:lnTo>
                  <a:pt x="225" y="51"/>
                </a:lnTo>
                <a:lnTo>
                  <a:pt x="232" y="49"/>
                </a:lnTo>
                <a:lnTo>
                  <a:pt x="232" y="48"/>
                </a:lnTo>
                <a:lnTo>
                  <a:pt x="239" y="46"/>
                </a:lnTo>
                <a:lnTo>
                  <a:pt x="239" y="45"/>
                </a:lnTo>
                <a:lnTo>
                  <a:pt x="242" y="45"/>
                </a:lnTo>
                <a:lnTo>
                  <a:pt x="242" y="43"/>
                </a:lnTo>
                <a:lnTo>
                  <a:pt x="247" y="43"/>
                </a:lnTo>
                <a:lnTo>
                  <a:pt x="247" y="41"/>
                </a:lnTo>
                <a:lnTo>
                  <a:pt x="254" y="40"/>
                </a:lnTo>
                <a:lnTo>
                  <a:pt x="254" y="38"/>
                </a:lnTo>
                <a:lnTo>
                  <a:pt x="260" y="36"/>
                </a:lnTo>
                <a:lnTo>
                  <a:pt x="260" y="35"/>
                </a:lnTo>
                <a:lnTo>
                  <a:pt x="264" y="35"/>
                </a:lnTo>
                <a:lnTo>
                  <a:pt x="264" y="31"/>
                </a:lnTo>
                <a:lnTo>
                  <a:pt x="259" y="30"/>
                </a:lnTo>
                <a:lnTo>
                  <a:pt x="254" y="23"/>
                </a:lnTo>
                <a:lnTo>
                  <a:pt x="250" y="23"/>
                </a:lnTo>
                <a:lnTo>
                  <a:pt x="247" y="18"/>
                </a:lnTo>
                <a:lnTo>
                  <a:pt x="244" y="18"/>
                </a:lnTo>
                <a:lnTo>
                  <a:pt x="244" y="16"/>
                </a:lnTo>
                <a:lnTo>
                  <a:pt x="240" y="16"/>
                </a:lnTo>
                <a:lnTo>
                  <a:pt x="239" y="13"/>
                </a:lnTo>
                <a:lnTo>
                  <a:pt x="235" y="13"/>
                </a:lnTo>
                <a:lnTo>
                  <a:pt x="234" y="10"/>
                </a:lnTo>
                <a:lnTo>
                  <a:pt x="225" y="8"/>
                </a:lnTo>
                <a:lnTo>
                  <a:pt x="225" y="6"/>
                </a:lnTo>
                <a:lnTo>
                  <a:pt x="222" y="6"/>
                </a:lnTo>
                <a:lnTo>
                  <a:pt x="222" y="5"/>
                </a:lnTo>
                <a:lnTo>
                  <a:pt x="219" y="5"/>
                </a:lnTo>
                <a:lnTo>
                  <a:pt x="219" y="3"/>
                </a:lnTo>
                <a:lnTo>
                  <a:pt x="215" y="3"/>
                </a:lnTo>
                <a:lnTo>
                  <a:pt x="215" y="1"/>
                </a:lnTo>
                <a:lnTo>
                  <a:pt x="202" y="1"/>
                </a:lnTo>
                <a:lnTo>
                  <a:pt x="202" y="0"/>
                </a:lnTo>
                <a:lnTo>
                  <a:pt x="18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3749760" y="3106800"/>
            <a:ext cx="83880" cy="23760"/>
          </a:xfrm>
          <a:custGeom>
            <a:avLst/>
            <a:gdLst/>
            <a:ahLst/>
            <a:rect l="l" t="t" r="r" b="b"/>
            <a:pathLst>
              <a:path w="22" h="7">
                <a:moveTo>
                  <a:pt x="8" y="0"/>
                </a:moveTo>
                <a:lnTo>
                  <a:pt x="8" y="2"/>
                </a:lnTo>
                <a:lnTo>
                  <a:pt x="0" y="5"/>
                </a:lnTo>
                <a:lnTo>
                  <a:pt x="0" y="7"/>
                </a:lnTo>
                <a:lnTo>
                  <a:pt x="7" y="5"/>
                </a:lnTo>
                <a:lnTo>
                  <a:pt x="7" y="4"/>
                </a:lnTo>
                <a:lnTo>
                  <a:pt x="13" y="4"/>
                </a:lnTo>
                <a:lnTo>
                  <a:pt x="13" y="2"/>
                </a:lnTo>
                <a:lnTo>
                  <a:pt x="22" y="2"/>
                </a:lnTo>
                <a:lnTo>
                  <a:pt x="22" y="0"/>
                </a:lnTo>
                <a:lnTo>
                  <a:pt x="8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4137120" y="2936880"/>
            <a:ext cx="744480" cy="485640"/>
          </a:xfrm>
          <a:custGeom>
            <a:avLst/>
            <a:gdLst/>
            <a:ahLst/>
            <a:rect l="l" t="t" r="r" b="b"/>
            <a:pathLst>
              <a:path w="198" h="146">
                <a:moveTo>
                  <a:pt x="169" y="0"/>
                </a:moveTo>
                <a:lnTo>
                  <a:pt x="169" y="2"/>
                </a:lnTo>
                <a:lnTo>
                  <a:pt x="163" y="3"/>
                </a:lnTo>
                <a:lnTo>
                  <a:pt x="163" y="5"/>
                </a:lnTo>
                <a:lnTo>
                  <a:pt x="156" y="7"/>
                </a:lnTo>
                <a:lnTo>
                  <a:pt x="156" y="8"/>
                </a:lnTo>
                <a:lnTo>
                  <a:pt x="151" y="8"/>
                </a:lnTo>
                <a:lnTo>
                  <a:pt x="151" y="10"/>
                </a:lnTo>
                <a:lnTo>
                  <a:pt x="144" y="12"/>
                </a:lnTo>
                <a:lnTo>
                  <a:pt x="144" y="13"/>
                </a:lnTo>
                <a:lnTo>
                  <a:pt x="138" y="15"/>
                </a:lnTo>
                <a:lnTo>
                  <a:pt x="138" y="16"/>
                </a:lnTo>
                <a:lnTo>
                  <a:pt x="131" y="18"/>
                </a:lnTo>
                <a:lnTo>
                  <a:pt x="131" y="20"/>
                </a:lnTo>
                <a:lnTo>
                  <a:pt x="128" y="20"/>
                </a:lnTo>
                <a:lnTo>
                  <a:pt x="128" y="21"/>
                </a:lnTo>
                <a:lnTo>
                  <a:pt x="123" y="21"/>
                </a:lnTo>
                <a:lnTo>
                  <a:pt x="123" y="23"/>
                </a:lnTo>
                <a:lnTo>
                  <a:pt x="116" y="25"/>
                </a:lnTo>
                <a:lnTo>
                  <a:pt x="116" y="26"/>
                </a:lnTo>
                <a:lnTo>
                  <a:pt x="110" y="28"/>
                </a:lnTo>
                <a:lnTo>
                  <a:pt x="110" y="30"/>
                </a:lnTo>
                <a:lnTo>
                  <a:pt x="103" y="31"/>
                </a:lnTo>
                <a:lnTo>
                  <a:pt x="103" y="33"/>
                </a:lnTo>
                <a:lnTo>
                  <a:pt x="100" y="33"/>
                </a:lnTo>
                <a:lnTo>
                  <a:pt x="100" y="35"/>
                </a:lnTo>
                <a:lnTo>
                  <a:pt x="95" y="35"/>
                </a:lnTo>
                <a:lnTo>
                  <a:pt x="95" y="36"/>
                </a:lnTo>
                <a:lnTo>
                  <a:pt x="88" y="38"/>
                </a:lnTo>
                <a:lnTo>
                  <a:pt x="88" y="40"/>
                </a:lnTo>
                <a:lnTo>
                  <a:pt x="81" y="41"/>
                </a:lnTo>
                <a:lnTo>
                  <a:pt x="81" y="43"/>
                </a:lnTo>
                <a:lnTo>
                  <a:pt x="75" y="45"/>
                </a:lnTo>
                <a:lnTo>
                  <a:pt x="75" y="46"/>
                </a:lnTo>
                <a:lnTo>
                  <a:pt x="70" y="46"/>
                </a:lnTo>
                <a:lnTo>
                  <a:pt x="70" y="48"/>
                </a:lnTo>
                <a:lnTo>
                  <a:pt x="63" y="50"/>
                </a:lnTo>
                <a:lnTo>
                  <a:pt x="63" y="51"/>
                </a:lnTo>
                <a:lnTo>
                  <a:pt x="56" y="53"/>
                </a:lnTo>
                <a:lnTo>
                  <a:pt x="56" y="55"/>
                </a:lnTo>
                <a:lnTo>
                  <a:pt x="50" y="56"/>
                </a:lnTo>
                <a:lnTo>
                  <a:pt x="50" y="58"/>
                </a:lnTo>
                <a:lnTo>
                  <a:pt x="46" y="58"/>
                </a:lnTo>
                <a:lnTo>
                  <a:pt x="46" y="60"/>
                </a:lnTo>
                <a:lnTo>
                  <a:pt x="42" y="60"/>
                </a:lnTo>
                <a:lnTo>
                  <a:pt x="42" y="61"/>
                </a:lnTo>
                <a:lnTo>
                  <a:pt x="35" y="63"/>
                </a:lnTo>
                <a:lnTo>
                  <a:pt x="35" y="65"/>
                </a:lnTo>
                <a:lnTo>
                  <a:pt x="28" y="66"/>
                </a:lnTo>
                <a:lnTo>
                  <a:pt x="28" y="68"/>
                </a:lnTo>
                <a:lnTo>
                  <a:pt x="22" y="70"/>
                </a:lnTo>
                <a:lnTo>
                  <a:pt x="22" y="71"/>
                </a:lnTo>
                <a:lnTo>
                  <a:pt x="18" y="71"/>
                </a:lnTo>
                <a:lnTo>
                  <a:pt x="18" y="73"/>
                </a:lnTo>
                <a:lnTo>
                  <a:pt x="13" y="73"/>
                </a:lnTo>
                <a:lnTo>
                  <a:pt x="13" y="75"/>
                </a:lnTo>
                <a:lnTo>
                  <a:pt x="7" y="76"/>
                </a:lnTo>
                <a:lnTo>
                  <a:pt x="7" y="78"/>
                </a:lnTo>
                <a:lnTo>
                  <a:pt x="0" y="80"/>
                </a:lnTo>
                <a:lnTo>
                  <a:pt x="0" y="83"/>
                </a:lnTo>
                <a:lnTo>
                  <a:pt x="2" y="83"/>
                </a:lnTo>
                <a:lnTo>
                  <a:pt x="8" y="93"/>
                </a:lnTo>
                <a:lnTo>
                  <a:pt x="10" y="93"/>
                </a:lnTo>
                <a:lnTo>
                  <a:pt x="10" y="96"/>
                </a:lnTo>
                <a:lnTo>
                  <a:pt x="12" y="96"/>
                </a:lnTo>
                <a:lnTo>
                  <a:pt x="17" y="106"/>
                </a:lnTo>
                <a:lnTo>
                  <a:pt x="17" y="109"/>
                </a:lnTo>
                <a:lnTo>
                  <a:pt x="18" y="109"/>
                </a:lnTo>
                <a:lnTo>
                  <a:pt x="20" y="119"/>
                </a:lnTo>
                <a:lnTo>
                  <a:pt x="22" y="119"/>
                </a:lnTo>
                <a:lnTo>
                  <a:pt x="23" y="129"/>
                </a:lnTo>
                <a:lnTo>
                  <a:pt x="25" y="129"/>
                </a:lnTo>
                <a:lnTo>
                  <a:pt x="25" y="139"/>
                </a:lnTo>
                <a:lnTo>
                  <a:pt x="27" y="139"/>
                </a:lnTo>
                <a:lnTo>
                  <a:pt x="27" y="146"/>
                </a:lnTo>
                <a:lnTo>
                  <a:pt x="33" y="144"/>
                </a:lnTo>
                <a:lnTo>
                  <a:pt x="33" y="143"/>
                </a:lnTo>
                <a:lnTo>
                  <a:pt x="40" y="141"/>
                </a:lnTo>
                <a:lnTo>
                  <a:pt x="40" y="139"/>
                </a:lnTo>
                <a:lnTo>
                  <a:pt x="43" y="139"/>
                </a:lnTo>
                <a:lnTo>
                  <a:pt x="43" y="138"/>
                </a:lnTo>
                <a:lnTo>
                  <a:pt x="48" y="138"/>
                </a:lnTo>
                <a:lnTo>
                  <a:pt x="48" y="136"/>
                </a:lnTo>
                <a:lnTo>
                  <a:pt x="55" y="134"/>
                </a:lnTo>
                <a:lnTo>
                  <a:pt x="55" y="133"/>
                </a:lnTo>
                <a:lnTo>
                  <a:pt x="61" y="131"/>
                </a:lnTo>
                <a:lnTo>
                  <a:pt x="61" y="129"/>
                </a:lnTo>
                <a:lnTo>
                  <a:pt x="68" y="128"/>
                </a:lnTo>
                <a:lnTo>
                  <a:pt x="68" y="126"/>
                </a:lnTo>
                <a:lnTo>
                  <a:pt x="71" y="126"/>
                </a:lnTo>
                <a:lnTo>
                  <a:pt x="71" y="124"/>
                </a:lnTo>
                <a:lnTo>
                  <a:pt x="76" y="124"/>
                </a:lnTo>
                <a:lnTo>
                  <a:pt x="76" y="123"/>
                </a:lnTo>
                <a:lnTo>
                  <a:pt x="83" y="121"/>
                </a:lnTo>
                <a:lnTo>
                  <a:pt x="83" y="119"/>
                </a:lnTo>
                <a:lnTo>
                  <a:pt x="90" y="118"/>
                </a:lnTo>
                <a:lnTo>
                  <a:pt x="90" y="116"/>
                </a:lnTo>
                <a:lnTo>
                  <a:pt x="96" y="114"/>
                </a:lnTo>
                <a:lnTo>
                  <a:pt x="96" y="113"/>
                </a:lnTo>
                <a:lnTo>
                  <a:pt x="100" y="113"/>
                </a:lnTo>
                <a:lnTo>
                  <a:pt x="100" y="111"/>
                </a:lnTo>
                <a:lnTo>
                  <a:pt x="105" y="111"/>
                </a:lnTo>
                <a:lnTo>
                  <a:pt x="105" y="109"/>
                </a:lnTo>
                <a:lnTo>
                  <a:pt x="111" y="108"/>
                </a:lnTo>
                <a:lnTo>
                  <a:pt x="111" y="106"/>
                </a:lnTo>
                <a:lnTo>
                  <a:pt x="118" y="104"/>
                </a:lnTo>
                <a:lnTo>
                  <a:pt x="118" y="103"/>
                </a:lnTo>
                <a:lnTo>
                  <a:pt x="124" y="101"/>
                </a:lnTo>
                <a:lnTo>
                  <a:pt x="124" y="100"/>
                </a:lnTo>
                <a:lnTo>
                  <a:pt x="129" y="100"/>
                </a:lnTo>
                <a:lnTo>
                  <a:pt x="129" y="98"/>
                </a:lnTo>
                <a:lnTo>
                  <a:pt x="136" y="96"/>
                </a:lnTo>
                <a:lnTo>
                  <a:pt x="136" y="95"/>
                </a:lnTo>
                <a:lnTo>
                  <a:pt x="143" y="93"/>
                </a:lnTo>
                <a:lnTo>
                  <a:pt x="143" y="91"/>
                </a:lnTo>
                <a:lnTo>
                  <a:pt x="149" y="90"/>
                </a:lnTo>
                <a:lnTo>
                  <a:pt x="149" y="88"/>
                </a:lnTo>
                <a:lnTo>
                  <a:pt x="153" y="88"/>
                </a:lnTo>
                <a:lnTo>
                  <a:pt x="153" y="86"/>
                </a:lnTo>
                <a:lnTo>
                  <a:pt x="158" y="86"/>
                </a:lnTo>
                <a:lnTo>
                  <a:pt x="158" y="85"/>
                </a:lnTo>
                <a:lnTo>
                  <a:pt x="164" y="83"/>
                </a:lnTo>
                <a:lnTo>
                  <a:pt x="164" y="81"/>
                </a:lnTo>
                <a:lnTo>
                  <a:pt x="171" y="80"/>
                </a:lnTo>
                <a:lnTo>
                  <a:pt x="171" y="78"/>
                </a:lnTo>
                <a:lnTo>
                  <a:pt x="178" y="76"/>
                </a:lnTo>
                <a:lnTo>
                  <a:pt x="178" y="75"/>
                </a:lnTo>
                <a:lnTo>
                  <a:pt x="181" y="75"/>
                </a:lnTo>
                <a:lnTo>
                  <a:pt x="181" y="73"/>
                </a:lnTo>
                <a:lnTo>
                  <a:pt x="186" y="73"/>
                </a:lnTo>
                <a:lnTo>
                  <a:pt x="186" y="71"/>
                </a:lnTo>
                <a:lnTo>
                  <a:pt x="193" y="70"/>
                </a:lnTo>
                <a:lnTo>
                  <a:pt x="193" y="68"/>
                </a:lnTo>
                <a:lnTo>
                  <a:pt x="196" y="68"/>
                </a:lnTo>
                <a:lnTo>
                  <a:pt x="196" y="66"/>
                </a:lnTo>
                <a:lnTo>
                  <a:pt x="198" y="66"/>
                </a:lnTo>
                <a:lnTo>
                  <a:pt x="198" y="60"/>
                </a:lnTo>
                <a:lnTo>
                  <a:pt x="196" y="60"/>
                </a:lnTo>
                <a:lnTo>
                  <a:pt x="196" y="45"/>
                </a:lnTo>
                <a:lnTo>
                  <a:pt x="194" y="45"/>
                </a:lnTo>
                <a:lnTo>
                  <a:pt x="193" y="35"/>
                </a:lnTo>
                <a:lnTo>
                  <a:pt x="191" y="35"/>
                </a:lnTo>
                <a:lnTo>
                  <a:pt x="191" y="28"/>
                </a:lnTo>
                <a:lnTo>
                  <a:pt x="189" y="28"/>
                </a:lnTo>
                <a:lnTo>
                  <a:pt x="188" y="21"/>
                </a:lnTo>
                <a:lnTo>
                  <a:pt x="186" y="21"/>
                </a:lnTo>
                <a:lnTo>
                  <a:pt x="179" y="8"/>
                </a:lnTo>
                <a:lnTo>
                  <a:pt x="178" y="8"/>
                </a:lnTo>
                <a:lnTo>
                  <a:pt x="178" y="5"/>
                </a:lnTo>
                <a:lnTo>
                  <a:pt x="176" y="5"/>
                </a:lnTo>
                <a:lnTo>
                  <a:pt x="174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4024440" y="3152880"/>
            <a:ext cx="857160" cy="601560"/>
          </a:xfrm>
          <a:custGeom>
            <a:avLst/>
            <a:gdLst/>
            <a:ahLst/>
            <a:rect l="l" t="t" r="r" b="b"/>
            <a:pathLst>
              <a:path w="228" h="181">
                <a:moveTo>
                  <a:pt x="226" y="0"/>
                </a:moveTo>
                <a:lnTo>
                  <a:pt x="226" y="1"/>
                </a:lnTo>
                <a:lnTo>
                  <a:pt x="219" y="3"/>
                </a:lnTo>
                <a:lnTo>
                  <a:pt x="219" y="5"/>
                </a:lnTo>
                <a:lnTo>
                  <a:pt x="216" y="5"/>
                </a:lnTo>
                <a:lnTo>
                  <a:pt x="216" y="6"/>
                </a:lnTo>
                <a:lnTo>
                  <a:pt x="211" y="6"/>
                </a:lnTo>
                <a:lnTo>
                  <a:pt x="211" y="8"/>
                </a:lnTo>
                <a:lnTo>
                  <a:pt x="204" y="10"/>
                </a:lnTo>
                <a:lnTo>
                  <a:pt x="204" y="11"/>
                </a:lnTo>
                <a:lnTo>
                  <a:pt x="198" y="13"/>
                </a:lnTo>
                <a:lnTo>
                  <a:pt x="198" y="15"/>
                </a:lnTo>
                <a:lnTo>
                  <a:pt x="191" y="16"/>
                </a:lnTo>
                <a:lnTo>
                  <a:pt x="191" y="18"/>
                </a:lnTo>
                <a:lnTo>
                  <a:pt x="188" y="18"/>
                </a:lnTo>
                <a:lnTo>
                  <a:pt x="188" y="20"/>
                </a:lnTo>
                <a:lnTo>
                  <a:pt x="183" y="20"/>
                </a:lnTo>
                <a:lnTo>
                  <a:pt x="183" y="21"/>
                </a:lnTo>
                <a:lnTo>
                  <a:pt x="176" y="23"/>
                </a:lnTo>
                <a:lnTo>
                  <a:pt x="176" y="25"/>
                </a:lnTo>
                <a:lnTo>
                  <a:pt x="169" y="26"/>
                </a:lnTo>
                <a:lnTo>
                  <a:pt x="169" y="28"/>
                </a:lnTo>
                <a:lnTo>
                  <a:pt x="163" y="30"/>
                </a:lnTo>
                <a:lnTo>
                  <a:pt x="163" y="31"/>
                </a:lnTo>
                <a:lnTo>
                  <a:pt x="159" y="31"/>
                </a:lnTo>
                <a:lnTo>
                  <a:pt x="159" y="33"/>
                </a:lnTo>
                <a:lnTo>
                  <a:pt x="154" y="33"/>
                </a:lnTo>
                <a:lnTo>
                  <a:pt x="154" y="35"/>
                </a:lnTo>
                <a:lnTo>
                  <a:pt x="148" y="36"/>
                </a:lnTo>
                <a:lnTo>
                  <a:pt x="148" y="38"/>
                </a:lnTo>
                <a:lnTo>
                  <a:pt x="141" y="39"/>
                </a:lnTo>
                <a:lnTo>
                  <a:pt x="141" y="41"/>
                </a:lnTo>
                <a:lnTo>
                  <a:pt x="135" y="43"/>
                </a:lnTo>
                <a:lnTo>
                  <a:pt x="135" y="44"/>
                </a:lnTo>
                <a:lnTo>
                  <a:pt x="130" y="44"/>
                </a:lnTo>
                <a:lnTo>
                  <a:pt x="130" y="46"/>
                </a:lnTo>
                <a:lnTo>
                  <a:pt x="123" y="48"/>
                </a:lnTo>
                <a:lnTo>
                  <a:pt x="123" y="49"/>
                </a:lnTo>
                <a:lnTo>
                  <a:pt x="116" y="51"/>
                </a:lnTo>
                <a:lnTo>
                  <a:pt x="116" y="53"/>
                </a:lnTo>
                <a:lnTo>
                  <a:pt x="110" y="54"/>
                </a:lnTo>
                <a:lnTo>
                  <a:pt x="110" y="56"/>
                </a:lnTo>
                <a:lnTo>
                  <a:pt x="106" y="56"/>
                </a:lnTo>
                <a:lnTo>
                  <a:pt x="106" y="58"/>
                </a:lnTo>
                <a:lnTo>
                  <a:pt x="101" y="58"/>
                </a:lnTo>
                <a:lnTo>
                  <a:pt x="101" y="59"/>
                </a:lnTo>
                <a:lnTo>
                  <a:pt x="95" y="61"/>
                </a:lnTo>
                <a:lnTo>
                  <a:pt x="95" y="63"/>
                </a:lnTo>
                <a:lnTo>
                  <a:pt x="88" y="64"/>
                </a:lnTo>
                <a:lnTo>
                  <a:pt x="88" y="66"/>
                </a:lnTo>
                <a:lnTo>
                  <a:pt x="81" y="68"/>
                </a:lnTo>
                <a:lnTo>
                  <a:pt x="81" y="69"/>
                </a:lnTo>
                <a:lnTo>
                  <a:pt x="78" y="69"/>
                </a:lnTo>
                <a:lnTo>
                  <a:pt x="78" y="71"/>
                </a:lnTo>
                <a:lnTo>
                  <a:pt x="73" y="71"/>
                </a:lnTo>
                <a:lnTo>
                  <a:pt x="73" y="73"/>
                </a:lnTo>
                <a:lnTo>
                  <a:pt x="67" y="74"/>
                </a:lnTo>
                <a:lnTo>
                  <a:pt x="67" y="76"/>
                </a:lnTo>
                <a:lnTo>
                  <a:pt x="60" y="78"/>
                </a:lnTo>
                <a:lnTo>
                  <a:pt x="60" y="79"/>
                </a:lnTo>
                <a:lnTo>
                  <a:pt x="57" y="79"/>
                </a:lnTo>
                <a:lnTo>
                  <a:pt x="57" y="101"/>
                </a:lnTo>
                <a:lnTo>
                  <a:pt x="55" y="101"/>
                </a:lnTo>
                <a:lnTo>
                  <a:pt x="55" y="111"/>
                </a:lnTo>
                <a:lnTo>
                  <a:pt x="53" y="111"/>
                </a:lnTo>
                <a:lnTo>
                  <a:pt x="53" y="118"/>
                </a:lnTo>
                <a:lnTo>
                  <a:pt x="52" y="118"/>
                </a:lnTo>
                <a:lnTo>
                  <a:pt x="52" y="121"/>
                </a:lnTo>
                <a:lnTo>
                  <a:pt x="50" y="121"/>
                </a:lnTo>
                <a:lnTo>
                  <a:pt x="50" y="128"/>
                </a:lnTo>
                <a:lnTo>
                  <a:pt x="48" y="128"/>
                </a:lnTo>
                <a:lnTo>
                  <a:pt x="48" y="131"/>
                </a:lnTo>
                <a:lnTo>
                  <a:pt x="47" y="131"/>
                </a:lnTo>
                <a:lnTo>
                  <a:pt x="47" y="134"/>
                </a:lnTo>
                <a:lnTo>
                  <a:pt x="45" y="134"/>
                </a:lnTo>
                <a:lnTo>
                  <a:pt x="45" y="137"/>
                </a:lnTo>
                <a:lnTo>
                  <a:pt x="43" y="137"/>
                </a:lnTo>
                <a:lnTo>
                  <a:pt x="43" y="141"/>
                </a:lnTo>
                <a:lnTo>
                  <a:pt x="42" y="141"/>
                </a:lnTo>
                <a:lnTo>
                  <a:pt x="42" y="144"/>
                </a:lnTo>
                <a:lnTo>
                  <a:pt x="35" y="149"/>
                </a:lnTo>
                <a:lnTo>
                  <a:pt x="35" y="152"/>
                </a:lnTo>
                <a:lnTo>
                  <a:pt x="22" y="166"/>
                </a:lnTo>
                <a:lnTo>
                  <a:pt x="18" y="166"/>
                </a:lnTo>
                <a:lnTo>
                  <a:pt x="18" y="167"/>
                </a:lnTo>
                <a:lnTo>
                  <a:pt x="15" y="171"/>
                </a:lnTo>
                <a:lnTo>
                  <a:pt x="12" y="171"/>
                </a:lnTo>
                <a:lnTo>
                  <a:pt x="12" y="172"/>
                </a:lnTo>
                <a:lnTo>
                  <a:pt x="0" y="177"/>
                </a:lnTo>
                <a:lnTo>
                  <a:pt x="0" y="179"/>
                </a:lnTo>
                <a:lnTo>
                  <a:pt x="8" y="181"/>
                </a:lnTo>
                <a:lnTo>
                  <a:pt x="8" y="179"/>
                </a:lnTo>
                <a:lnTo>
                  <a:pt x="15" y="177"/>
                </a:lnTo>
                <a:lnTo>
                  <a:pt x="15" y="176"/>
                </a:lnTo>
                <a:lnTo>
                  <a:pt x="22" y="174"/>
                </a:lnTo>
                <a:lnTo>
                  <a:pt x="22" y="172"/>
                </a:lnTo>
                <a:lnTo>
                  <a:pt x="28" y="171"/>
                </a:lnTo>
                <a:lnTo>
                  <a:pt x="28" y="169"/>
                </a:lnTo>
                <a:lnTo>
                  <a:pt x="35" y="167"/>
                </a:lnTo>
                <a:lnTo>
                  <a:pt x="35" y="166"/>
                </a:lnTo>
                <a:lnTo>
                  <a:pt x="42" y="164"/>
                </a:lnTo>
                <a:lnTo>
                  <a:pt x="42" y="162"/>
                </a:lnTo>
                <a:lnTo>
                  <a:pt x="48" y="161"/>
                </a:lnTo>
                <a:lnTo>
                  <a:pt x="48" y="159"/>
                </a:lnTo>
                <a:lnTo>
                  <a:pt x="55" y="157"/>
                </a:lnTo>
                <a:lnTo>
                  <a:pt x="55" y="156"/>
                </a:lnTo>
                <a:lnTo>
                  <a:pt x="62" y="154"/>
                </a:lnTo>
                <a:lnTo>
                  <a:pt x="62" y="152"/>
                </a:lnTo>
                <a:lnTo>
                  <a:pt x="68" y="151"/>
                </a:lnTo>
                <a:lnTo>
                  <a:pt x="68" y="149"/>
                </a:lnTo>
                <a:lnTo>
                  <a:pt x="75" y="147"/>
                </a:lnTo>
                <a:lnTo>
                  <a:pt x="75" y="146"/>
                </a:lnTo>
                <a:lnTo>
                  <a:pt x="81" y="144"/>
                </a:lnTo>
                <a:lnTo>
                  <a:pt x="81" y="142"/>
                </a:lnTo>
                <a:lnTo>
                  <a:pt x="88" y="141"/>
                </a:lnTo>
                <a:lnTo>
                  <a:pt x="88" y="139"/>
                </a:lnTo>
                <a:lnTo>
                  <a:pt x="95" y="137"/>
                </a:lnTo>
                <a:lnTo>
                  <a:pt x="95" y="136"/>
                </a:lnTo>
                <a:lnTo>
                  <a:pt x="101" y="134"/>
                </a:lnTo>
                <a:lnTo>
                  <a:pt x="101" y="132"/>
                </a:lnTo>
                <a:lnTo>
                  <a:pt x="108" y="131"/>
                </a:lnTo>
                <a:lnTo>
                  <a:pt x="108" y="129"/>
                </a:lnTo>
                <a:lnTo>
                  <a:pt x="115" y="128"/>
                </a:lnTo>
                <a:lnTo>
                  <a:pt x="115" y="126"/>
                </a:lnTo>
                <a:lnTo>
                  <a:pt x="121" y="124"/>
                </a:lnTo>
                <a:lnTo>
                  <a:pt x="121" y="123"/>
                </a:lnTo>
                <a:lnTo>
                  <a:pt x="128" y="121"/>
                </a:lnTo>
                <a:lnTo>
                  <a:pt x="128" y="119"/>
                </a:lnTo>
                <a:lnTo>
                  <a:pt x="135" y="118"/>
                </a:lnTo>
                <a:lnTo>
                  <a:pt x="135" y="116"/>
                </a:lnTo>
                <a:lnTo>
                  <a:pt x="141" y="114"/>
                </a:lnTo>
                <a:lnTo>
                  <a:pt x="141" y="113"/>
                </a:lnTo>
                <a:lnTo>
                  <a:pt x="148" y="111"/>
                </a:lnTo>
                <a:lnTo>
                  <a:pt x="148" y="109"/>
                </a:lnTo>
                <a:lnTo>
                  <a:pt x="154" y="108"/>
                </a:lnTo>
                <a:lnTo>
                  <a:pt x="154" y="106"/>
                </a:lnTo>
                <a:lnTo>
                  <a:pt x="168" y="94"/>
                </a:lnTo>
                <a:lnTo>
                  <a:pt x="171" y="91"/>
                </a:lnTo>
                <a:lnTo>
                  <a:pt x="174" y="91"/>
                </a:lnTo>
                <a:lnTo>
                  <a:pt x="174" y="89"/>
                </a:lnTo>
                <a:lnTo>
                  <a:pt x="181" y="86"/>
                </a:lnTo>
                <a:lnTo>
                  <a:pt x="181" y="84"/>
                </a:lnTo>
                <a:lnTo>
                  <a:pt x="184" y="84"/>
                </a:lnTo>
                <a:lnTo>
                  <a:pt x="184" y="83"/>
                </a:lnTo>
                <a:lnTo>
                  <a:pt x="194" y="76"/>
                </a:lnTo>
                <a:lnTo>
                  <a:pt x="194" y="74"/>
                </a:lnTo>
                <a:lnTo>
                  <a:pt x="211" y="59"/>
                </a:lnTo>
                <a:lnTo>
                  <a:pt x="211" y="56"/>
                </a:lnTo>
                <a:lnTo>
                  <a:pt x="213" y="56"/>
                </a:lnTo>
                <a:lnTo>
                  <a:pt x="213" y="53"/>
                </a:lnTo>
                <a:lnTo>
                  <a:pt x="214" y="53"/>
                </a:lnTo>
                <a:lnTo>
                  <a:pt x="214" y="49"/>
                </a:lnTo>
                <a:lnTo>
                  <a:pt x="216" y="49"/>
                </a:lnTo>
                <a:lnTo>
                  <a:pt x="216" y="46"/>
                </a:lnTo>
                <a:lnTo>
                  <a:pt x="218" y="46"/>
                </a:lnTo>
                <a:lnTo>
                  <a:pt x="218" y="43"/>
                </a:lnTo>
                <a:lnTo>
                  <a:pt x="219" y="43"/>
                </a:lnTo>
                <a:lnTo>
                  <a:pt x="219" y="39"/>
                </a:lnTo>
                <a:lnTo>
                  <a:pt x="221" y="39"/>
                </a:lnTo>
                <a:lnTo>
                  <a:pt x="221" y="36"/>
                </a:lnTo>
                <a:lnTo>
                  <a:pt x="223" y="36"/>
                </a:lnTo>
                <a:lnTo>
                  <a:pt x="223" y="30"/>
                </a:lnTo>
                <a:lnTo>
                  <a:pt x="224" y="30"/>
                </a:lnTo>
                <a:lnTo>
                  <a:pt x="224" y="25"/>
                </a:lnTo>
                <a:lnTo>
                  <a:pt x="226" y="25"/>
                </a:lnTo>
                <a:lnTo>
                  <a:pt x="228" y="0"/>
                </a:lnTo>
                <a:lnTo>
                  <a:pt x="22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3749760" y="2827440"/>
            <a:ext cx="1123920" cy="920520"/>
          </a:xfrm>
          <a:custGeom>
            <a:avLst/>
            <a:gdLst/>
            <a:ahLst/>
            <a:rect l="l" t="t" r="r" b="b"/>
            <a:pathLst>
              <a:path w="299" h="277">
                <a:moveTo>
                  <a:pt x="226" y="204"/>
                </a:moveTo>
                <a:lnTo>
                  <a:pt x="78" y="277"/>
                </a:lnTo>
                <a:lnTo>
                  <a:pt x="73" y="275"/>
                </a:lnTo>
                <a:lnTo>
                  <a:pt x="76" y="274"/>
                </a:lnTo>
                <a:lnTo>
                  <a:pt x="80" y="272"/>
                </a:lnTo>
                <a:lnTo>
                  <a:pt x="83" y="270"/>
                </a:lnTo>
                <a:lnTo>
                  <a:pt x="85" y="269"/>
                </a:lnTo>
                <a:lnTo>
                  <a:pt x="88" y="267"/>
                </a:lnTo>
                <a:lnTo>
                  <a:pt x="91" y="264"/>
                </a:lnTo>
                <a:lnTo>
                  <a:pt x="95" y="262"/>
                </a:lnTo>
                <a:lnTo>
                  <a:pt x="106" y="250"/>
                </a:lnTo>
                <a:lnTo>
                  <a:pt x="108" y="247"/>
                </a:lnTo>
                <a:lnTo>
                  <a:pt x="113" y="242"/>
                </a:lnTo>
                <a:lnTo>
                  <a:pt x="115" y="239"/>
                </a:lnTo>
                <a:lnTo>
                  <a:pt x="116" y="235"/>
                </a:lnTo>
                <a:lnTo>
                  <a:pt x="118" y="232"/>
                </a:lnTo>
                <a:lnTo>
                  <a:pt x="120" y="229"/>
                </a:lnTo>
                <a:lnTo>
                  <a:pt x="121" y="226"/>
                </a:lnTo>
                <a:lnTo>
                  <a:pt x="123" y="222"/>
                </a:lnTo>
                <a:lnTo>
                  <a:pt x="123" y="219"/>
                </a:lnTo>
                <a:lnTo>
                  <a:pt x="125" y="216"/>
                </a:lnTo>
                <a:lnTo>
                  <a:pt x="126" y="212"/>
                </a:lnTo>
                <a:lnTo>
                  <a:pt x="126" y="209"/>
                </a:lnTo>
                <a:lnTo>
                  <a:pt x="128" y="206"/>
                </a:lnTo>
                <a:lnTo>
                  <a:pt x="128" y="199"/>
                </a:lnTo>
                <a:lnTo>
                  <a:pt x="130" y="196"/>
                </a:lnTo>
                <a:lnTo>
                  <a:pt x="130" y="174"/>
                </a:lnTo>
                <a:lnTo>
                  <a:pt x="128" y="169"/>
                </a:lnTo>
                <a:lnTo>
                  <a:pt x="128" y="164"/>
                </a:lnTo>
                <a:lnTo>
                  <a:pt x="126" y="159"/>
                </a:lnTo>
                <a:lnTo>
                  <a:pt x="125" y="154"/>
                </a:lnTo>
                <a:lnTo>
                  <a:pt x="123" y="149"/>
                </a:lnTo>
                <a:lnTo>
                  <a:pt x="121" y="144"/>
                </a:lnTo>
                <a:lnTo>
                  <a:pt x="120" y="139"/>
                </a:lnTo>
                <a:lnTo>
                  <a:pt x="118" y="136"/>
                </a:lnTo>
                <a:lnTo>
                  <a:pt x="116" y="131"/>
                </a:lnTo>
                <a:lnTo>
                  <a:pt x="113" y="128"/>
                </a:lnTo>
                <a:lnTo>
                  <a:pt x="110" y="123"/>
                </a:lnTo>
                <a:lnTo>
                  <a:pt x="108" y="119"/>
                </a:lnTo>
                <a:lnTo>
                  <a:pt x="91" y="103"/>
                </a:lnTo>
                <a:lnTo>
                  <a:pt x="86" y="99"/>
                </a:lnTo>
                <a:lnTo>
                  <a:pt x="83" y="98"/>
                </a:lnTo>
                <a:lnTo>
                  <a:pt x="80" y="94"/>
                </a:lnTo>
                <a:lnTo>
                  <a:pt x="75" y="93"/>
                </a:lnTo>
                <a:lnTo>
                  <a:pt x="71" y="91"/>
                </a:lnTo>
                <a:lnTo>
                  <a:pt x="66" y="89"/>
                </a:lnTo>
                <a:lnTo>
                  <a:pt x="62" y="88"/>
                </a:lnTo>
                <a:lnTo>
                  <a:pt x="57" y="86"/>
                </a:lnTo>
                <a:lnTo>
                  <a:pt x="53" y="84"/>
                </a:lnTo>
                <a:lnTo>
                  <a:pt x="48" y="84"/>
                </a:lnTo>
                <a:lnTo>
                  <a:pt x="43" y="83"/>
                </a:lnTo>
                <a:lnTo>
                  <a:pt x="20" y="83"/>
                </a:lnTo>
                <a:lnTo>
                  <a:pt x="20" y="84"/>
                </a:lnTo>
                <a:lnTo>
                  <a:pt x="12" y="84"/>
                </a:lnTo>
                <a:lnTo>
                  <a:pt x="12" y="86"/>
                </a:lnTo>
                <a:lnTo>
                  <a:pt x="7" y="86"/>
                </a:lnTo>
                <a:lnTo>
                  <a:pt x="5" y="88"/>
                </a:lnTo>
                <a:lnTo>
                  <a:pt x="2" y="88"/>
                </a:lnTo>
                <a:lnTo>
                  <a:pt x="2" y="89"/>
                </a:lnTo>
                <a:lnTo>
                  <a:pt x="0" y="89"/>
                </a:lnTo>
                <a:lnTo>
                  <a:pt x="12" y="83"/>
                </a:lnTo>
                <a:lnTo>
                  <a:pt x="176" y="5"/>
                </a:lnTo>
                <a:lnTo>
                  <a:pt x="171" y="6"/>
                </a:lnTo>
                <a:lnTo>
                  <a:pt x="188" y="1"/>
                </a:lnTo>
                <a:lnTo>
                  <a:pt x="204" y="0"/>
                </a:lnTo>
                <a:lnTo>
                  <a:pt x="224" y="1"/>
                </a:lnTo>
                <a:lnTo>
                  <a:pt x="241" y="8"/>
                </a:lnTo>
                <a:lnTo>
                  <a:pt x="257" y="18"/>
                </a:lnTo>
                <a:lnTo>
                  <a:pt x="272" y="30"/>
                </a:lnTo>
                <a:lnTo>
                  <a:pt x="282" y="45"/>
                </a:lnTo>
                <a:lnTo>
                  <a:pt x="292" y="63"/>
                </a:lnTo>
                <a:lnTo>
                  <a:pt x="297" y="83"/>
                </a:lnTo>
                <a:lnTo>
                  <a:pt x="299" y="103"/>
                </a:lnTo>
                <a:lnTo>
                  <a:pt x="297" y="118"/>
                </a:lnTo>
                <a:lnTo>
                  <a:pt x="294" y="131"/>
                </a:lnTo>
                <a:lnTo>
                  <a:pt x="282" y="156"/>
                </a:lnTo>
                <a:lnTo>
                  <a:pt x="262" y="176"/>
                </a:lnTo>
                <a:lnTo>
                  <a:pt x="239" y="191"/>
                </a:lnTo>
                <a:lnTo>
                  <a:pt x="226" y="2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4543560" y="2484360"/>
            <a:ext cx="180720" cy="185760"/>
          </a:xfrm>
          <a:custGeom>
            <a:avLst/>
            <a:gdLst/>
            <a:ahLst/>
            <a:rect l="l" t="t" r="r" b="b"/>
            <a:pathLst>
              <a:path w="48" h="56">
                <a:moveTo>
                  <a:pt x="30" y="1"/>
                </a:moveTo>
                <a:lnTo>
                  <a:pt x="41" y="10"/>
                </a:lnTo>
                <a:lnTo>
                  <a:pt x="48" y="23"/>
                </a:lnTo>
                <a:lnTo>
                  <a:pt x="48" y="35"/>
                </a:lnTo>
                <a:lnTo>
                  <a:pt x="45" y="45"/>
                </a:lnTo>
                <a:lnTo>
                  <a:pt x="38" y="51"/>
                </a:lnTo>
                <a:lnTo>
                  <a:pt x="28" y="56"/>
                </a:lnTo>
                <a:lnTo>
                  <a:pt x="18" y="55"/>
                </a:lnTo>
                <a:lnTo>
                  <a:pt x="20" y="55"/>
                </a:lnTo>
                <a:lnTo>
                  <a:pt x="7" y="46"/>
                </a:lnTo>
                <a:lnTo>
                  <a:pt x="0" y="33"/>
                </a:lnTo>
                <a:lnTo>
                  <a:pt x="0" y="21"/>
                </a:lnTo>
                <a:lnTo>
                  <a:pt x="5" y="11"/>
                </a:lnTo>
                <a:lnTo>
                  <a:pt x="12" y="5"/>
                </a:lnTo>
                <a:lnTo>
                  <a:pt x="21" y="0"/>
                </a:lnTo>
                <a:lnTo>
                  <a:pt x="31" y="1"/>
                </a:lnTo>
                <a:lnTo>
                  <a:pt x="30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145040" y="2382840"/>
            <a:ext cx="514440" cy="111240"/>
          </a:xfrm>
          <a:custGeom>
            <a:avLst/>
            <a:gdLst/>
            <a:ahLst/>
            <a:rect l="l" t="t" r="r" b="b"/>
            <a:pathLst>
              <a:path w="137" h="33">
                <a:moveTo>
                  <a:pt x="21" y="0"/>
                </a:moveTo>
                <a:lnTo>
                  <a:pt x="21" y="1"/>
                </a:lnTo>
                <a:lnTo>
                  <a:pt x="15" y="3"/>
                </a:lnTo>
                <a:lnTo>
                  <a:pt x="15" y="5"/>
                </a:lnTo>
                <a:lnTo>
                  <a:pt x="11" y="5"/>
                </a:lnTo>
                <a:lnTo>
                  <a:pt x="11" y="6"/>
                </a:lnTo>
                <a:lnTo>
                  <a:pt x="5" y="11"/>
                </a:lnTo>
                <a:lnTo>
                  <a:pt x="5" y="15"/>
                </a:lnTo>
                <a:lnTo>
                  <a:pt x="3" y="15"/>
                </a:lnTo>
                <a:lnTo>
                  <a:pt x="3" y="18"/>
                </a:lnTo>
                <a:lnTo>
                  <a:pt x="1" y="18"/>
                </a:lnTo>
                <a:lnTo>
                  <a:pt x="1" y="21"/>
                </a:lnTo>
                <a:lnTo>
                  <a:pt x="0" y="21"/>
                </a:lnTo>
                <a:lnTo>
                  <a:pt x="0" y="31"/>
                </a:lnTo>
                <a:lnTo>
                  <a:pt x="132" y="31"/>
                </a:lnTo>
                <a:lnTo>
                  <a:pt x="132" y="33"/>
                </a:lnTo>
                <a:lnTo>
                  <a:pt x="137" y="33"/>
                </a:lnTo>
                <a:lnTo>
                  <a:pt x="137" y="31"/>
                </a:lnTo>
                <a:lnTo>
                  <a:pt x="134" y="31"/>
                </a:lnTo>
                <a:lnTo>
                  <a:pt x="134" y="30"/>
                </a:lnTo>
                <a:lnTo>
                  <a:pt x="127" y="30"/>
                </a:lnTo>
                <a:lnTo>
                  <a:pt x="127" y="28"/>
                </a:lnTo>
                <a:lnTo>
                  <a:pt x="116" y="26"/>
                </a:lnTo>
                <a:lnTo>
                  <a:pt x="116" y="25"/>
                </a:lnTo>
                <a:lnTo>
                  <a:pt x="104" y="23"/>
                </a:lnTo>
                <a:lnTo>
                  <a:pt x="104" y="21"/>
                </a:lnTo>
                <a:lnTo>
                  <a:pt x="99" y="21"/>
                </a:lnTo>
                <a:lnTo>
                  <a:pt x="99" y="20"/>
                </a:lnTo>
                <a:lnTo>
                  <a:pt x="88" y="18"/>
                </a:lnTo>
                <a:lnTo>
                  <a:pt x="88" y="16"/>
                </a:lnTo>
                <a:lnTo>
                  <a:pt x="76" y="15"/>
                </a:lnTo>
                <a:lnTo>
                  <a:pt x="76" y="13"/>
                </a:lnTo>
                <a:lnTo>
                  <a:pt x="64" y="11"/>
                </a:lnTo>
                <a:lnTo>
                  <a:pt x="64" y="10"/>
                </a:lnTo>
                <a:lnTo>
                  <a:pt x="59" y="10"/>
                </a:lnTo>
                <a:lnTo>
                  <a:pt x="59" y="8"/>
                </a:lnTo>
                <a:lnTo>
                  <a:pt x="48" y="6"/>
                </a:lnTo>
                <a:lnTo>
                  <a:pt x="48" y="5"/>
                </a:lnTo>
                <a:lnTo>
                  <a:pt x="36" y="3"/>
                </a:lnTo>
                <a:lnTo>
                  <a:pt x="36" y="1"/>
                </a:lnTo>
                <a:lnTo>
                  <a:pt x="31" y="1"/>
                </a:lnTo>
                <a:lnTo>
                  <a:pt x="3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4145040" y="2487600"/>
            <a:ext cx="477720" cy="182520"/>
          </a:xfrm>
          <a:custGeom>
            <a:avLst/>
            <a:gdLst/>
            <a:ahLst/>
            <a:rect l="l" t="t" r="r" b="b"/>
            <a:pathLst>
              <a:path w="127" h="55">
                <a:moveTo>
                  <a:pt x="0" y="0"/>
                </a:moveTo>
                <a:lnTo>
                  <a:pt x="1" y="10"/>
                </a:lnTo>
                <a:lnTo>
                  <a:pt x="3" y="10"/>
                </a:lnTo>
                <a:lnTo>
                  <a:pt x="6" y="14"/>
                </a:lnTo>
                <a:lnTo>
                  <a:pt x="6" y="17"/>
                </a:lnTo>
                <a:lnTo>
                  <a:pt x="8" y="17"/>
                </a:lnTo>
                <a:lnTo>
                  <a:pt x="11" y="22"/>
                </a:lnTo>
                <a:lnTo>
                  <a:pt x="16" y="22"/>
                </a:lnTo>
                <a:lnTo>
                  <a:pt x="16" y="24"/>
                </a:lnTo>
                <a:lnTo>
                  <a:pt x="25" y="24"/>
                </a:lnTo>
                <a:lnTo>
                  <a:pt x="25" y="25"/>
                </a:lnTo>
                <a:lnTo>
                  <a:pt x="30" y="25"/>
                </a:lnTo>
                <a:lnTo>
                  <a:pt x="30" y="27"/>
                </a:lnTo>
                <a:lnTo>
                  <a:pt x="35" y="27"/>
                </a:lnTo>
                <a:lnTo>
                  <a:pt x="35" y="29"/>
                </a:lnTo>
                <a:lnTo>
                  <a:pt x="46" y="30"/>
                </a:lnTo>
                <a:lnTo>
                  <a:pt x="46" y="32"/>
                </a:lnTo>
                <a:lnTo>
                  <a:pt x="51" y="32"/>
                </a:lnTo>
                <a:lnTo>
                  <a:pt x="51" y="34"/>
                </a:lnTo>
                <a:lnTo>
                  <a:pt x="56" y="34"/>
                </a:lnTo>
                <a:lnTo>
                  <a:pt x="56" y="35"/>
                </a:lnTo>
                <a:lnTo>
                  <a:pt x="61" y="35"/>
                </a:lnTo>
                <a:lnTo>
                  <a:pt x="61" y="37"/>
                </a:lnTo>
                <a:lnTo>
                  <a:pt x="73" y="39"/>
                </a:lnTo>
                <a:lnTo>
                  <a:pt x="73" y="40"/>
                </a:lnTo>
                <a:lnTo>
                  <a:pt x="78" y="40"/>
                </a:lnTo>
                <a:lnTo>
                  <a:pt x="78" y="42"/>
                </a:lnTo>
                <a:lnTo>
                  <a:pt x="83" y="42"/>
                </a:lnTo>
                <a:lnTo>
                  <a:pt x="83" y="44"/>
                </a:lnTo>
                <a:lnTo>
                  <a:pt x="88" y="44"/>
                </a:lnTo>
                <a:lnTo>
                  <a:pt x="88" y="45"/>
                </a:lnTo>
                <a:lnTo>
                  <a:pt x="99" y="47"/>
                </a:lnTo>
                <a:lnTo>
                  <a:pt x="99" y="49"/>
                </a:lnTo>
                <a:lnTo>
                  <a:pt x="104" y="49"/>
                </a:lnTo>
                <a:lnTo>
                  <a:pt x="104" y="50"/>
                </a:lnTo>
                <a:lnTo>
                  <a:pt x="109" y="50"/>
                </a:lnTo>
                <a:lnTo>
                  <a:pt x="109" y="52"/>
                </a:lnTo>
                <a:lnTo>
                  <a:pt x="114" y="52"/>
                </a:lnTo>
                <a:lnTo>
                  <a:pt x="114" y="54"/>
                </a:lnTo>
                <a:lnTo>
                  <a:pt x="119" y="54"/>
                </a:lnTo>
                <a:lnTo>
                  <a:pt x="119" y="55"/>
                </a:lnTo>
                <a:lnTo>
                  <a:pt x="127" y="55"/>
                </a:lnTo>
                <a:lnTo>
                  <a:pt x="127" y="54"/>
                </a:lnTo>
                <a:lnTo>
                  <a:pt x="124" y="54"/>
                </a:lnTo>
                <a:lnTo>
                  <a:pt x="122" y="50"/>
                </a:lnTo>
                <a:lnTo>
                  <a:pt x="119" y="50"/>
                </a:lnTo>
                <a:lnTo>
                  <a:pt x="118" y="47"/>
                </a:lnTo>
                <a:lnTo>
                  <a:pt x="114" y="47"/>
                </a:lnTo>
                <a:lnTo>
                  <a:pt x="113" y="40"/>
                </a:lnTo>
                <a:lnTo>
                  <a:pt x="111" y="40"/>
                </a:lnTo>
                <a:lnTo>
                  <a:pt x="109" y="34"/>
                </a:lnTo>
                <a:lnTo>
                  <a:pt x="108" y="34"/>
                </a:lnTo>
                <a:lnTo>
                  <a:pt x="108" y="20"/>
                </a:lnTo>
                <a:lnTo>
                  <a:pt x="109" y="20"/>
                </a:lnTo>
                <a:lnTo>
                  <a:pt x="109" y="17"/>
                </a:lnTo>
                <a:lnTo>
                  <a:pt x="111" y="17"/>
                </a:lnTo>
                <a:lnTo>
                  <a:pt x="111" y="14"/>
                </a:lnTo>
                <a:lnTo>
                  <a:pt x="113" y="14"/>
                </a:lnTo>
                <a:lnTo>
                  <a:pt x="113" y="10"/>
                </a:lnTo>
                <a:lnTo>
                  <a:pt x="126" y="2"/>
                </a:lnTo>
                <a:lnTo>
                  <a:pt x="127" y="2"/>
                </a:lnTo>
                <a:lnTo>
                  <a:pt x="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4145040" y="2382840"/>
            <a:ext cx="511200" cy="284040"/>
          </a:xfrm>
          <a:custGeom>
            <a:avLst/>
            <a:gdLst/>
            <a:ahLst/>
            <a:rect l="l" t="t" r="r" b="b"/>
            <a:pathLst>
              <a:path w="136" h="85">
                <a:moveTo>
                  <a:pt x="30" y="1"/>
                </a:moveTo>
                <a:lnTo>
                  <a:pt x="21" y="0"/>
                </a:lnTo>
                <a:lnTo>
                  <a:pt x="11" y="5"/>
                </a:lnTo>
                <a:lnTo>
                  <a:pt x="5" y="11"/>
                </a:lnTo>
                <a:lnTo>
                  <a:pt x="0" y="21"/>
                </a:lnTo>
                <a:lnTo>
                  <a:pt x="0" y="33"/>
                </a:lnTo>
                <a:lnTo>
                  <a:pt x="1" y="40"/>
                </a:lnTo>
                <a:lnTo>
                  <a:pt x="6" y="46"/>
                </a:lnTo>
                <a:lnTo>
                  <a:pt x="13" y="51"/>
                </a:lnTo>
                <a:lnTo>
                  <a:pt x="20" y="53"/>
                </a:lnTo>
                <a:lnTo>
                  <a:pt x="124" y="85"/>
                </a:lnTo>
                <a:lnTo>
                  <a:pt x="126" y="85"/>
                </a:lnTo>
                <a:lnTo>
                  <a:pt x="113" y="76"/>
                </a:lnTo>
                <a:lnTo>
                  <a:pt x="106" y="63"/>
                </a:lnTo>
                <a:lnTo>
                  <a:pt x="106" y="51"/>
                </a:lnTo>
                <a:lnTo>
                  <a:pt x="111" y="41"/>
                </a:lnTo>
                <a:lnTo>
                  <a:pt x="118" y="35"/>
                </a:lnTo>
                <a:lnTo>
                  <a:pt x="127" y="30"/>
                </a:lnTo>
                <a:lnTo>
                  <a:pt x="136" y="31"/>
                </a:lnTo>
                <a:lnTo>
                  <a:pt x="132" y="30"/>
                </a:lnTo>
                <a:lnTo>
                  <a:pt x="26" y="0"/>
                </a:lnTo>
                <a:lnTo>
                  <a:pt x="30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4348080" y="2593800"/>
            <a:ext cx="184320" cy="182880"/>
          </a:xfrm>
          <a:custGeom>
            <a:avLst/>
            <a:gdLst/>
            <a:ahLst/>
            <a:rect l="l" t="t" r="r" b="b"/>
            <a:pathLst>
              <a:path w="49" h="55">
                <a:moveTo>
                  <a:pt x="30" y="2"/>
                </a:moveTo>
                <a:lnTo>
                  <a:pt x="37" y="5"/>
                </a:lnTo>
                <a:lnTo>
                  <a:pt x="42" y="10"/>
                </a:lnTo>
                <a:lnTo>
                  <a:pt x="49" y="23"/>
                </a:lnTo>
                <a:lnTo>
                  <a:pt x="49" y="35"/>
                </a:lnTo>
                <a:lnTo>
                  <a:pt x="45" y="45"/>
                </a:lnTo>
                <a:lnTo>
                  <a:pt x="39" y="51"/>
                </a:lnTo>
                <a:lnTo>
                  <a:pt x="29" y="55"/>
                </a:lnTo>
                <a:lnTo>
                  <a:pt x="19" y="55"/>
                </a:lnTo>
                <a:lnTo>
                  <a:pt x="7" y="46"/>
                </a:lnTo>
                <a:lnTo>
                  <a:pt x="0" y="31"/>
                </a:lnTo>
                <a:lnTo>
                  <a:pt x="0" y="22"/>
                </a:lnTo>
                <a:lnTo>
                  <a:pt x="4" y="12"/>
                </a:lnTo>
                <a:lnTo>
                  <a:pt x="10" y="5"/>
                </a:lnTo>
                <a:lnTo>
                  <a:pt x="20" y="0"/>
                </a:lnTo>
                <a:lnTo>
                  <a:pt x="30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3949560" y="2494080"/>
            <a:ext cx="511200" cy="285480"/>
          </a:xfrm>
          <a:custGeom>
            <a:avLst/>
            <a:gdLst/>
            <a:ahLst/>
            <a:rect l="l" t="t" r="r" b="b"/>
            <a:pathLst>
              <a:path w="136" h="86">
                <a:moveTo>
                  <a:pt x="20" y="0"/>
                </a:moveTo>
                <a:lnTo>
                  <a:pt x="20" y="2"/>
                </a:lnTo>
                <a:lnTo>
                  <a:pt x="13" y="3"/>
                </a:lnTo>
                <a:lnTo>
                  <a:pt x="13" y="5"/>
                </a:lnTo>
                <a:lnTo>
                  <a:pt x="10" y="5"/>
                </a:lnTo>
                <a:lnTo>
                  <a:pt x="10" y="7"/>
                </a:lnTo>
                <a:lnTo>
                  <a:pt x="4" y="12"/>
                </a:lnTo>
                <a:lnTo>
                  <a:pt x="4" y="17"/>
                </a:lnTo>
                <a:lnTo>
                  <a:pt x="2" y="17"/>
                </a:lnTo>
                <a:lnTo>
                  <a:pt x="2" y="20"/>
                </a:lnTo>
                <a:lnTo>
                  <a:pt x="0" y="20"/>
                </a:lnTo>
                <a:lnTo>
                  <a:pt x="0" y="37"/>
                </a:lnTo>
                <a:lnTo>
                  <a:pt x="2" y="37"/>
                </a:lnTo>
                <a:lnTo>
                  <a:pt x="2" y="42"/>
                </a:lnTo>
                <a:lnTo>
                  <a:pt x="4" y="42"/>
                </a:lnTo>
                <a:lnTo>
                  <a:pt x="7" y="45"/>
                </a:lnTo>
                <a:lnTo>
                  <a:pt x="7" y="48"/>
                </a:lnTo>
                <a:lnTo>
                  <a:pt x="12" y="50"/>
                </a:lnTo>
                <a:lnTo>
                  <a:pt x="12" y="52"/>
                </a:lnTo>
                <a:lnTo>
                  <a:pt x="15" y="52"/>
                </a:lnTo>
                <a:lnTo>
                  <a:pt x="15" y="53"/>
                </a:lnTo>
                <a:lnTo>
                  <a:pt x="18" y="53"/>
                </a:lnTo>
                <a:lnTo>
                  <a:pt x="18" y="55"/>
                </a:lnTo>
                <a:lnTo>
                  <a:pt x="25" y="55"/>
                </a:lnTo>
                <a:lnTo>
                  <a:pt x="25" y="56"/>
                </a:lnTo>
                <a:lnTo>
                  <a:pt x="30" y="56"/>
                </a:lnTo>
                <a:lnTo>
                  <a:pt x="30" y="58"/>
                </a:lnTo>
                <a:lnTo>
                  <a:pt x="35" y="58"/>
                </a:lnTo>
                <a:lnTo>
                  <a:pt x="35" y="60"/>
                </a:lnTo>
                <a:lnTo>
                  <a:pt x="47" y="61"/>
                </a:lnTo>
                <a:lnTo>
                  <a:pt x="47" y="63"/>
                </a:lnTo>
                <a:lnTo>
                  <a:pt x="52" y="63"/>
                </a:lnTo>
                <a:lnTo>
                  <a:pt x="52" y="65"/>
                </a:lnTo>
                <a:lnTo>
                  <a:pt x="57" y="65"/>
                </a:lnTo>
                <a:lnTo>
                  <a:pt x="57" y="66"/>
                </a:lnTo>
                <a:lnTo>
                  <a:pt x="62" y="66"/>
                </a:lnTo>
                <a:lnTo>
                  <a:pt x="62" y="68"/>
                </a:lnTo>
                <a:lnTo>
                  <a:pt x="73" y="70"/>
                </a:lnTo>
                <a:lnTo>
                  <a:pt x="73" y="71"/>
                </a:lnTo>
                <a:lnTo>
                  <a:pt x="78" y="71"/>
                </a:lnTo>
                <a:lnTo>
                  <a:pt x="78" y="73"/>
                </a:lnTo>
                <a:lnTo>
                  <a:pt x="83" y="73"/>
                </a:lnTo>
                <a:lnTo>
                  <a:pt x="83" y="75"/>
                </a:lnTo>
                <a:lnTo>
                  <a:pt x="88" y="75"/>
                </a:lnTo>
                <a:lnTo>
                  <a:pt x="88" y="76"/>
                </a:lnTo>
                <a:lnTo>
                  <a:pt x="100" y="78"/>
                </a:lnTo>
                <a:lnTo>
                  <a:pt x="100" y="80"/>
                </a:lnTo>
                <a:lnTo>
                  <a:pt x="105" y="80"/>
                </a:lnTo>
                <a:lnTo>
                  <a:pt x="105" y="81"/>
                </a:lnTo>
                <a:lnTo>
                  <a:pt x="110" y="81"/>
                </a:lnTo>
                <a:lnTo>
                  <a:pt x="110" y="83"/>
                </a:lnTo>
                <a:lnTo>
                  <a:pt x="115" y="83"/>
                </a:lnTo>
                <a:lnTo>
                  <a:pt x="115" y="85"/>
                </a:lnTo>
                <a:lnTo>
                  <a:pt x="126" y="86"/>
                </a:lnTo>
                <a:lnTo>
                  <a:pt x="126" y="85"/>
                </a:lnTo>
                <a:lnTo>
                  <a:pt x="123" y="85"/>
                </a:lnTo>
                <a:lnTo>
                  <a:pt x="120" y="80"/>
                </a:lnTo>
                <a:lnTo>
                  <a:pt x="116" y="80"/>
                </a:lnTo>
                <a:lnTo>
                  <a:pt x="108" y="63"/>
                </a:lnTo>
                <a:lnTo>
                  <a:pt x="108" y="50"/>
                </a:lnTo>
                <a:lnTo>
                  <a:pt x="110" y="50"/>
                </a:lnTo>
                <a:lnTo>
                  <a:pt x="111" y="42"/>
                </a:lnTo>
                <a:lnTo>
                  <a:pt x="125" y="33"/>
                </a:lnTo>
                <a:lnTo>
                  <a:pt x="128" y="32"/>
                </a:lnTo>
                <a:lnTo>
                  <a:pt x="136" y="32"/>
                </a:lnTo>
                <a:lnTo>
                  <a:pt x="136" y="30"/>
                </a:lnTo>
                <a:lnTo>
                  <a:pt x="128" y="30"/>
                </a:lnTo>
                <a:lnTo>
                  <a:pt x="128" y="28"/>
                </a:lnTo>
                <a:lnTo>
                  <a:pt x="116" y="27"/>
                </a:lnTo>
                <a:lnTo>
                  <a:pt x="116" y="25"/>
                </a:lnTo>
                <a:lnTo>
                  <a:pt x="105" y="23"/>
                </a:lnTo>
                <a:lnTo>
                  <a:pt x="105" y="22"/>
                </a:lnTo>
                <a:lnTo>
                  <a:pt x="100" y="22"/>
                </a:lnTo>
                <a:lnTo>
                  <a:pt x="100" y="20"/>
                </a:lnTo>
                <a:lnTo>
                  <a:pt x="88" y="18"/>
                </a:lnTo>
                <a:lnTo>
                  <a:pt x="88" y="17"/>
                </a:lnTo>
                <a:lnTo>
                  <a:pt x="77" y="15"/>
                </a:lnTo>
                <a:lnTo>
                  <a:pt x="77" y="13"/>
                </a:lnTo>
                <a:lnTo>
                  <a:pt x="65" y="12"/>
                </a:lnTo>
                <a:lnTo>
                  <a:pt x="65" y="10"/>
                </a:lnTo>
                <a:lnTo>
                  <a:pt x="60" y="10"/>
                </a:lnTo>
                <a:lnTo>
                  <a:pt x="60" y="8"/>
                </a:lnTo>
                <a:lnTo>
                  <a:pt x="48" y="7"/>
                </a:lnTo>
                <a:lnTo>
                  <a:pt x="48" y="5"/>
                </a:lnTo>
                <a:lnTo>
                  <a:pt x="37" y="3"/>
                </a:lnTo>
                <a:lnTo>
                  <a:pt x="37" y="2"/>
                </a:lnTo>
                <a:lnTo>
                  <a:pt x="32" y="2"/>
                </a:lnTo>
                <a:lnTo>
                  <a:pt x="32" y="0"/>
                </a:lnTo>
                <a:lnTo>
                  <a:pt x="27" y="0"/>
                </a:lnTo>
                <a:lnTo>
                  <a:pt x="27" y="2"/>
                </a:lnTo>
                <a:lnTo>
                  <a:pt x="25" y="2"/>
                </a:lnTo>
                <a:lnTo>
                  <a:pt x="25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3949560" y="2494080"/>
            <a:ext cx="511200" cy="282600"/>
          </a:xfrm>
          <a:custGeom>
            <a:avLst/>
            <a:gdLst/>
            <a:ahLst/>
            <a:rect l="l" t="t" r="r" b="b"/>
            <a:pathLst>
              <a:path w="136" h="85">
                <a:moveTo>
                  <a:pt x="30" y="2"/>
                </a:moveTo>
                <a:lnTo>
                  <a:pt x="20" y="0"/>
                </a:lnTo>
                <a:lnTo>
                  <a:pt x="10" y="5"/>
                </a:lnTo>
                <a:lnTo>
                  <a:pt x="4" y="12"/>
                </a:lnTo>
                <a:lnTo>
                  <a:pt x="0" y="22"/>
                </a:lnTo>
                <a:lnTo>
                  <a:pt x="0" y="33"/>
                </a:lnTo>
                <a:lnTo>
                  <a:pt x="2" y="40"/>
                </a:lnTo>
                <a:lnTo>
                  <a:pt x="7" y="47"/>
                </a:lnTo>
                <a:lnTo>
                  <a:pt x="20" y="53"/>
                </a:lnTo>
                <a:lnTo>
                  <a:pt x="125" y="85"/>
                </a:lnTo>
                <a:lnTo>
                  <a:pt x="113" y="76"/>
                </a:lnTo>
                <a:lnTo>
                  <a:pt x="106" y="61"/>
                </a:lnTo>
                <a:lnTo>
                  <a:pt x="106" y="52"/>
                </a:lnTo>
                <a:lnTo>
                  <a:pt x="110" y="42"/>
                </a:lnTo>
                <a:lnTo>
                  <a:pt x="116" y="35"/>
                </a:lnTo>
                <a:lnTo>
                  <a:pt x="126" y="30"/>
                </a:lnTo>
                <a:lnTo>
                  <a:pt x="136" y="30"/>
                </a:lnTo>
                <a:lnTo>
                  <a:pt x="133" y="30"/>
                </a:lnTo>
                <a:lnTo>
                  <a:pt x="27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4164120" y="2679840"/>
            <a:ext cx="179280" cy="190440"/>
          </a:xfrm>
          <a:custGeom>
            <a:avLst/>
            <a:gdLst/>
            <a:ahLst/>
            <a:rect l="l" t="t" r="r" b="b"/>
            <a:pathLst>
              <a:path w="48" h="57">
                <a:moveTo>
                  <a:pt x="30" y="0"/>
                </a:moveTo>
                <a:lnTo>
                  <a:pt x="41" y="10"/>
                </a:lnTo>
                <a:lnTo>
                  <a:pt x="48" y="24"/>
                </a:lnTo>
                <a:lnTo>
                  <a:pt x="48" y="35"/>
                </a:lnTo>
                <a:lnTo>
                  <a:pt x="44" y="45"/>
                </a:lnTo>
                <a:lnTo>
                  <a:pt x="38" y="52"/>
                </a:lnTo>
                <a:lnTo>
                  <a:pt x="28" y="57"/>
                </a:lnTo>
                <a:lnTo>
                  <a:pt x="18" y="55"/>
                </a:lnTo>
                <a:lnTo>
                  <a:pt x="6" y="47"/>
                </a:lnTo>
                <a:lnTo>
                  <a:pt x="0" y="34"/>
                </a:lnTo>
                <a:lnTo>
                  <a:pt x="0" y="22"/>
                </a:lnTo>
                <a:lnTo>
                  <a:pt x="3" y="12"/>
                </a:lnTo>
                <a:lnTo>
                  <a:pt x="11" y="5"/>
                </a:lnTo>
                <a:lnTo>
                  <a:pt x="21" y="0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762360" y="2577960"/>
            <a:ext cx="517680" cy="292320"/>
          </a:xfrm>
          <a:custGeom>
            <a:avLst/>
            <a:gdLst/>
            <a:ahLst/>
            <a:rect l="l" t="t" r="r" b="b"/>
            <a:pathLst>
              <a:path w="138" h="88">
                <a:moveTo>
                  <a:pt x="27" y="0"/>
                </a:moveTo>
                <a:lnTo>
                  <a:pt x="27" y="2"/>
                </a:lnTo>
                <a:lnTo>
                  <a:pt x="20" y="2"/>
                </a:lnTo>
                <a:lnTo>
                  <a:pt x="20" y="3"/>
                </a:lnTo>
                <a:lnTo>
                  <a:pt x="10" y="5"/>
                </a:lnTo>
                <a:lnTo>
                  <a:pt x="10" y="8"/>
                </a:lnTo>
                <a:lnTo>
                  <a:pt x="4" y="13"/>
                </a:lnTo>
                <a:lnTo>
                  <a:pt x="4" y="18"/>
                </a:lnTo>
                <a:lnTo>
                  <a:pt x="2" y="18"/>
                </a:lnTo>
                <a:lnTo>
                  <a:pt x="2" y="22"/>
                </a:lnTo>
                <a:lnTo>
                  <a:pt x="0" y="22"/>
                </a:lnTo>
                <a:lnTo>
                  <a:pt x="0" y="38"/>
                </a:lnTo>
                <a:lnTo>
                  <a:pt x="2" y="38"/>
                </a:lnTo>
                <a:lnTo>
                  <a:pt x="2" y="43"/>
                </a:lnTo>
                <a:lnTo>
                  <a:pt x="4" y="43"/>
                </a:lnTo>
                <a:lnTo>
                  <a:pt x="9" y="50"/>
                </a:lnTo>
                <a:lnTo>
                  <a:pt x="12" y="50"/>
                </a:lnTo>
                <a:lnTo>
                  <a:pt x="14" y="53"/>
                </a:lnTo>
                <a:lnTo>
                  <a:pt x="17" y="53"/>
                </a:lnTo>
                <a:lnTo>
                  <a:pt x="19" y="56"/>
                </a:lnTo>
                <a:lnTo>
                  <a:pt x="25" y="56"/>
                </a:lnTo>
                <a:lnTo>
                  <a:pt x="25" y="58"/>
                </a:lnTo>
                <a:lnTo>
                  <a:pt x="30" y="58"/>
                </a:lnTo>
                <a:lnTo>
                  <a:pt x="30" y="60"/>
                </a:lnTo>
                <a:lnTo>
                  <a:pt x="35" y="60"/>
                </a:lnTo>
                <a:lnTo>
                  <a:pt x="35" y="61"/>
                </a:lnTo>
                <a:lnTo>
                  <a:pt x="40" y="61"/>
                </a:lnTo>
                <a:lnTo>
                  <a:pt x="40" y="63"/>
                </a:lnTo>
                <a:lnTo>
                  <a:pt x="45" y="63"/>
                </a:lnTo>
                <a:lnTo>
                  <a:pt x="45" y="65"/>
                </a:lnTo>
                <a:lnTo>
                  <a:pt x="57" y="66"/>
                </a:lnTo>
                <a:lnTo>
                  <a:pt x="57" y="68"/>
                </a:lnTo>
                <a:lnTo>
                  <a:pt x="62" y="68"/>
                </a:lnTo>
                <a:lnTo>
                  <a:pt x="62" y="70"/>
                </a:lnTo>
                <a:lnTo>
                  <a:pt x="67" y="70"/>
                </a:lnTo>
                <a:lnTo>
                  <a:pt x="67" y="71"/>
                </a:lnTo>
                <a:lnTo>
                  <a:pt x="72" y="71"/>
                </a:lnTo>
                <a:lnTo>
                  <a:pt x="72" y="73"/>
                </a:lnTo>
                <a:lnTo>
                  <a:pt x="77" y="73"/>
                </a:lnTo>
                <a:lnTo>
                  <a:pt x="77" y="75"/>
                </a:lnTo>
                <a:lnTo>
                  <a:pt x="82" y="75"/>
                </a:lnTo>
                <a:lnTo>
                  <a:pt x="82" y="76"/>
                </a:lnTo>
                <a:lnTo>
                  <a:pt x="93" y="78"/>
                </a:lnTo>
                <a:lnTo>
                  <a:pt x="93" y="80"/>
                </a:lnTo>
                <a:lnTo>
                  <a:pt x="98" y="80"/>
                </a:lnTo>
                <a:lnTo>
                  <a:pt x="98" y="81"/>
                </a:lnTo>
                <a:lnTo>
                  <a:pt x="103" y="81"/>
                </a:lnTo>
                <a:lnTo>
                  <a:pt x="103" y="83"/>
                </a:lnTo>
                <a:lnTo>
                  <a:pt x="108" y="83"/>
                </a:lnTo>
                <a:lnTo>
                  <a:pt x="108" y="85"/>
                </a:lnTo>
                <a:lnTo>
                  <a:pt x="113" y="85"/>
                </a:lnTo>
                <a:lnTo>
                  <a:pt x="113" y="86"/>
                </a:lnTo>
                <a:lnTo>
                  <a:pt x="118" y="86"/>
                </a:lnTo>
                <a:lnTo>
                  <a:pt x="118" y="88"/>
                </a:lnTo>
                <a:lnTo>
                  <a:pt x="127" y="88"/>
                </a:lnTo>
                <a:lnTo>
                  <a:pt x="127" y="86"/>
                </a:lnTo>
                <a:lnTo>
                  <a:pt x="123" y="86"/>
                </a:lnTo>
                <a:lnTo>
                  <a:pt x="120" y="81"/>
                </a:lnTo>
                <a:lnTo>
                  <a:pt x="117" y="81"/>
                </a:lnTo>
                <a:lnTo>
                  <a:pt x="108" y="65"/>
                </a:lnTo>
                <a:lnTo>
                  <a:pt x="108" y="51"/>
                </a:lnTo>
                <a:lnTo>
                  <a:pt x="110" y="51"/>
                </a:lnTo>
                <a:lnTo>
                  <a:pt x="112" y="43"/>
                </a:lnTo>
                <a:lnTo>
                  <a:pt x="118" y="36"/>
                </a:lnTo>
                <a:lnTo>
                  <a:pt x="123" y="36"/>
                </a:lnTo>
                <a:lnTo>
                  <a:pt x="123" y="35"/>
                </a:lnTo>
                <a:lnTo>
                  <a:pt x="127" y="35"/>
                </a:lnTo>
                <a:lnTo>
                  <a:pt x="127" y="33"/>
                </a:lnTo>
                <a:lnTo>
                  <a:pt x="138" y="33"/>
                </a:lnTo>
                <a:lnTo>
                  <a:pt x="138" y="31"/>
                </a:lnTo>
                <a:lnTo>
                  <a:pt x="128" y="31"/>
                </a:lnTo>
                <a:lnTo>
                  <a:pt x="128" y="30"/>
                </a:lnTo>
                <a:lnTo>
                  <a:pt x="123" y="30"/>
                </a:lnTo>
                <a:lnTo>
                  <a:pt x="123" y="28"/>
                </a:lnTo>
                <a:lnTo>
                  <a:pt x="118" y="28"/>
                </a:lnTo>
                <a:lnTo>
                  <a:pt x="118" y="27"/>
                </a:lnTo>
                <a:lnTo>
                  <a:pt x="107" y="25"/>
                </a:lnTo>
                <a:lnTo>
                  <a:pt x="107" y="23"/>
                </a:lnTo>
                <a:lnTo>
                  <a:pt x="102" y="23"/>
                </a:lnTo>
                <a:lnTo>
                  <a:pt x="102" y="22"/>
                </a:lnTo>
                <a:lnTo>
                  <a:pt x="97" y="22"/>
                </a:lnTo>
                <a:lnTo>
                  <a:pt x="97" y="20"/>
                </a:lnTo>
                <a:lnTo>
                  <a:pt x="85" y="18"/>
                </a:lnTo>
                <a:lnTo>
                  <a:pt x="85" y="17"/>
                </a:lnTo>
                <a:lnTo>
                  <a:pt x="80" y="17"/>
                </a:lnTo>
                <a:lnTo>
                  <a:pt x="80" y="15"/>
                </a:lnTo>
                <a:lnTo>
                  <a:pt x="75" y="15"/>
                </a:lnTo>
                <a:lnTo>
                  <a:pt x="75" y="13"/>
                </a:lnTo>
                <a:lnTo>
                  <a:pt x="63" y="12"/>
                </a:lnTo>
                <a:lnTo>
                  <a:pt x="63" y="10"/>
                </a:lnTo>
                <a:lnTo>
                  <a:pt x="59" y="10"/>
                </a:lnTo>
                <a:lnTo>
                  <a:pt x="59" y="8"/>
                </a:lnTo>
                <a:lnTo>
                  <a:pt x="54" y="8"/>
                </a:lnTo>
                <a:lnTo>
                  <a:pt x="54" y="7"/>
                </a:lnTo>
                <a:lnTo>
                  <a:pt x="42" y="5"/>
                </a:lnTo>
                <a:lnTo>
                  <a:pt x="42" y="3"/>
                </a:lnTo>
                <a:lnTo>
                  <a:pt x="37" y="3"/>
                </a:lnTo>
                <a:lnTo>
                  <a:pt x="37" y="2"/>
                </a:lnTo>
                <a:lnTo>
                  <a:pt x="32" y="2"/>
                </a:lnTo>
                <a:lnTo>
                  <a:pt x="32" y="0"/>
                </a:ln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3762360" y="2577960"/>
            <a:ext cx="514440" cy="285840"/>
          </a:xfrm>
          <a:custGeom>
            <a:avLst/>
            <a:gdLst/>
            <a:ahLst/>
            <a:rect l="l" t="t" r="r" b="b"/>
            <a:pathLst>
              <a:path w="137" h="86">
                <a:moveTo>
                  <a:pt x="30" y="2"/>
                </a:moveTo>
                <a:lnTo>
                  <a:pt x="20" y="2"/>
                </a:lnTo>
                <a:lnTo>
                  <a:pt x="10" y="5"/>
                </a:lnTo>
                <a:lnTo>
                  <a:pt x="4" y="13"/>
                </a:lnTo>
                <a:lnTo>
                  <a:pt x="0" y="23"/>
                </a:lnTo>
                <a:lnTo>
                  <a:pt x="0" y="33"/>
                </a:lnTo>
                <a:lnTo>
                  <a:pt x="2" y="41"/>
                </a:lnTo>
                <a:lnTo>
                  <a:pt x="7" y="46"/>
                </a:lnTo>
                <a:lnTo>
                  <a:pt x="20" y="55"/>
                </a:lnTo>
                <a:lnTo>
                  <a:pt x="123" y="86"/>
                </a:lnTo>
                <a:lnTo>
                  <a:pt x="125" y="86"/>
                </a:lnTo>
                <a:lnTo>
                  <a:pt x="113" y="78"/>
                </a:lnTo>
                <a:lnTo>
                  <a:pt x="107" y="65"/>
                </a:lnTo>
                <a:lnTo>
                  <a:pt x="107" y="53"/>
                </a:lnTo>
                <a:lnTo>
                  <a:pt x="110" y="43"/>
                </a:lnTo>
                <a:lnTo>
                  <a:pt x="117" y="36"/>
                </a:lnTo>
                <a:lnTo>
                  <a:pt x="127" y="31"/>
                </a:lnTo>
                <a:lnTo>
                  <a:pt x="137" y="31"/>
                </a:lnTo>
                <a:lnTo>
                  <a:pt x="133" y="31"/>
                </a:lnTo>
                <a:lnTo>
                  <a:pt x="27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3359160" y="2257560"/>
            <a:ext cx="8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3273120" y="24210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2999520" y="2584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5467320" y="2117880"/>
            <a:ext cx="771480" cy="842760"/>
          </a:xfrm>
          <a:custGeom>
            <a:avLst/>
            <a:gdLst/>
            <a:ahLst/>
            <a:rect l="l" t="t" r="r" b="b"/>
            <a:pathLst>
              <a:path w="205" h="253">
                <a:moveTo>
                  <a:pt x="44" y="0"/>
                </a:moveTo>
                <a:lnTo>
                  <a:pt x="205" y="70"/>
                </a:lnTo>
                <a:lnTo>
                  <a:pt x="182" y="253"/>
                </a:lnTo>
                <a:lnTo>
                  <a:pt x="159" y="208"/>
                </a:lnTo>
                <a:lnTo>
                  <a:pt x="91" y="253"/>
                </a:lnTo>
                <a:lnTo>
                  <a:pt x="114" y="208"/>
                </a:lnTo>
                <a:lnTo>
                  <a:pt x="68" y="208"/>
                </a:lnTo>
                <a:lnTo>
                  <a:pt x="137" y="138"/>
                </a:lnTo>
                <a:lnTo>
                  <a:pt x="91" y="138"/>
                </a:lnTo>
                <a:lnTo>
                  <a:pt x="137" y="91"/>
                </a:lnTo>
                <a:lnTo>
                  <a:pt x="21" y="115"/>
                </a:lnTo>
                <a:lnTo>
                  <a:pt x="68" y="70"/>
                </a:lnTo>
                <a:lnTo>
                  <a:pt x="0" y="70"/>
                </a:lnTo>
                <a:lnTo>
                  <a:pt x="68" y="23"/>
                </a:lnTo>
                <a:lnTo>
                  <a:pt x="4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763960" y="2298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021120" y="6102360"/>
            <a:ext cx="30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less Connections Equivalent to W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2738520" y="2062080"/>
            <a:ext cx="3672720" cy="3996720"/>
            <a:chOff x="2738520" y="2062080"/>
            <a:chExt cx="3672720" cy="3996720"/>
          </a:xfrm>
        </p:grpSpPr>
        <p:sp>
          <p:nvSpPr>
            <p:cNvPr id="6346" name=""/>
            <p:cNvSpPr/>
            <p:nvPr/>
          </p:nvSpPr>
          <p:spPr>
            <a:xfrm>
              <a:off x="2856960" y="2153880"/>
              <a:ext cx="3554280" cy="3904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738520" y="2062080"/>
              <a:ext cx="3564720" cy="392652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3314520" y="4913640"/>
              <a:ext cx="956160" cy="1004400"/>
            </a:xfrm>
            <a:custGeom>
              <a:avLst/>
              <a:gdLst/>
              <a:ahLst/>
              <a:rect l="l" t="t" r="r" b="b"/>
              <a:pathLst>
                <a:path w="269" h="302">
                  <a:moveTo>
                    <a:pt x="83" y="10"/>
                  </a:moveTo>
                  <a:lnTo>
                    <a:pt x="78" y="12"/>
                  </a:lnTo>
                  <a:lnTo>
                    <a:pt x="73" y="15"/>
                  </a:lnTo>
                  <a:lnTo>
                    <a:pt x="70" y="18"/>
                  </a:lnTo>
                  <a:lnTo>
                    <a:pt x="65" y="20"/>
                  </a:lnTo>
                  <a:lnTo>
                    <a:pt x="62" y="23"/>
                  </a:lnTo>
                  <a:lnTo>
                    <a:pt x="57" y="27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2" y="53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0" y="71"/>
                  </a:lnTo>
                  <a:lnTo>
                    <a:pt x="19" y="76"/>
                  </a:lnTo>
                  <a:lnTo>
                    <a:pt x="15" y="81"/>
                  </a:lnTo>
                  <a:lnTo>
                    <a:pt x="14" y="86"/>
                  </a:lnTo>
                  <a:lnTo>
                    <a:pt x="12" y="91"/>
                  </a:lnTo>
                  <a:lnTo>
                    <a:pt x="10" y="96"/>
                  </a:lnTo>
                  <a:lnTo>
                    <a:pt x="9" y="101"/>
                  </a:lnTo>
                  <a:lnTo>
                    <a:pt x="7" y="106"/>
                  </a:lnTo>
                  <a:lnTo>
                    <a:pt x="5" y="111"/>
                  </a:lnTo>
                  <a:lnTo>
                    <a:pt x="4" y="116"/>
                  </a:lnTo>
                  <a:lnTo>
                    <a:pt x="2" y="121"/>
                  </a:lnTo>
                  <a:lnTo>
                    <a:pt x="2" y="133"/>
                  </a:lnTo>
                  <a:lnTo>
                    <a:pt x="0" y="138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4" y="181"/>
                  </a:lnTo>
                  <a:lnTo>
                    <a:pt x="5" y="188"/>
                  </a:lnTo>
                  <a:lnTo>
                    <a:pt x="7" y="194"/>
                  </a:lnTo>
                  <a:lnTo>
                    <a:pt x="9" y="203"/>
                  </a:lnTo>
                  <a:lnTo>
                    <a:pt x="12" y="209"/>
                  </a:lnTo>
                  <a:lnTo>
                    <a:pt x="15" y="216"/>
                  </a:lnTo>
                  <a:lnTo>
                    <a:pt x="17" y="223"/>
                  </a:lnTo>
                  <a:lnTo>
                    <a:pt x="22" y="229"/>
                  </a:lnTo>
                  <a:lnTo>
                    <a:pt x="25" y="236"/>
                  </a:lnTo>
                  <a:lnTo>
                    <a:pt x="28" y="241"/>
                  </a:lnTo>
                  <a:lnTo>
                    <a:pt x="33" y="248"/>
                  </a:lnTo>
                  <a:lnTo>
                    <a:pt x="38" y="252"/>
                  </a:lnTo>
                  <a:lnTo>
                    <a:pt x="42" y="257"/>
                  </a:lnTo>
                  <a:lnTo>
                    <a:pt x="47" y="262"/>
                  </a:lnTo>
                  <a:lnTo>
                    <a:pt x="53" y="267"/>
                  </a:lnTo>
                  <a:lnTo>
                    <a:pt x="58" y="272"/>
                  </a:lnTo>
                  <a:lnTo>
                    <a:pt x="63" y="276"/>
                  </a:lnTo>
                  <a:lnTo>
                    <a:pt x="70" y="281"/>
                  </a:lnTo>
                  <a:lnTo>
                    <a:pt x="75" y="284"/>
                  </a:lnTo>
                  <a:lnTo>
                    <a:pt x="82" y="287"/>
                  </a:lnTo>
                  <a:lnTo>
                    <a:pt x="88" y="291"/>
                  </a:lnTo>
                  <a:lnTo>
                    <a:pt x="95" y="292"/>
                  </a:lnTo>
                  <a:lnTo>
                    <a:pt x="102" y="296"/>
                  </a:lnTo>
                  <a:lnTo>
                    <a:pt x="108" y="297"/>
                  </a:lnTo>
                  <a:lnTo>
                    <a:pt x="115" y="299"/>
                  </a:lnTo>
                  <a:lnTo>
                    <a:pt x="121" y="301"/>
                  </a:lnTo>
                  <a:lnTo>
                    <a:pt x="128" y="302"/>
                  </a:lnTo>
                  <a:lnTo>
                    <a:pt x="161" y="302"/>
                  </a:lnTo>
                  <a:lnTo>
                    <a:pt x="163" y="301"/>
                  </a:lnTo>
                  <a:lnTo>
                    <a:pt x="171" y="301"/>
                  </a:lnTo>
                  <a:lnTo>
                    <a:pt x="173" y="299"/>
                  </a:lnTo>
                  <a:lnTo>
                    <a:pt x="178" y="299"/>
                  </a:lnTo>
                  <a:lnTo>
                    <a:pt x="180" y="297"/>
                  </a:lnTo>
                  <a:lnTo>
                    <a:pt x="181" y="297"/>
                  </a:lnTo>
                  <a:lnTo>
                    <a:pt x="183" y="296"/>
                  </a:lnTo>
                  <a:lnTo>
                    <a:pt x="186" y="296"/>
                  </a:lnTo>
                  <a:lnTo>
                    <a:pt x="189" y="294"/>
                  </a:lnTo>
                  <a:lnTo>
                    <a:pt x="191" y="294"/>
                  </a:lnTo>
                  <a:lnTo>
                    <a:pt x="193" y="292"/>
                  </a:lnTo>
                  <a:lnTo>
                    <a:pt x="194" y="292"/>
                  </a:lnTo>
                  <a:lnTo>
                    <a:pt x="188" y="291"/>
                  </a:lnTo>
                  <a:lnTo>
                    <a:pt x="193" y="289"/>
                  </a:lnTo>
                  <a:lnTo>
                    <a:pt x="196" y="286"/>
                  </a:lnTo>
                  <a:lnTo>
                    <a:pt x="201" y="282"/>
                  </a:lnTo>
                  <a:lnTo>
                    <a:pt x="206" y="281"/>
                  </a:lnTo>
                  <a:lnTo>
                    <a:pt x="209" y="277"/>
                  </a:lnTo>
                  <a:lnTo>
                    <a:pt x="214" y="274"/>
                  </a:lnTo>
                  <a:lnTo>
                    <a:pt x="221" y="267"/>
                  </a:lnTo>
                  <a:lnTo>
                    <a:pt x="226" y="264"/>
                  </a:lnTo>
                  <a:lnTo>
                    <a:pt x="229" y="259"/>
                  </a:lnTo>
                  <a:lnTo>
                    <a:pt x="236" y="252"/>
                  </a:lnTo>
                  <a:lnTo>
                    <a:pt x="239" y="248"/>
                  </a:lnTo>
                  <a:lnTo>
                    <a:pt x="241" y="244"/>
                  </a:lnTo>
                  <a:lnTo>
                    <a:pt x="244" y="239"/>
                  </a:lnTo>
                  <a:lnTo>
                    <a:pt x="248" y="234"/>
                  </a:lnTo>
                  <a:lnTo>
                    <a:pt x="249" y="231"/>
                  </a:lnTo>
                  <a:lnTo>
                    <a:pt x="253" y="226"/>
                  </a:lnTo>
                  <a:lnTo>
                    <a:pt x="254" y="221"/>
                  </a:lnTo>
                  <a:lnTo>
                    <a:pt x="256" y="216"/>
                  </a:lnTo>
                  <a:lnTo>
                    <a:pt x="259" y="211"/>
                  </a:lnTo>
                  <a:lnTo>
                    <a:pt x="261" y="206"/>
                  </a:lnTo>
                  <a:lnTo>
                    <a:pt x="263" y="201"/>
                  </a:lnTo>
                  <a:lnTo>
                    <a:pt x="264" y="196"/>
                  </a:lnTo>
                  <a:lnTo>
                    <a:pt x="264" y="191"/>
                  </a:lnTo>
                  <a:lnTo>
                    <a:pt x="266" y="186"/>
                  </a:lnTo>
                  <a:lnTo>
                    <a:pt x="267" y="181"/>
                  </a:lnTo>
                  <a:lnTo>
                    <a:pt x="267" y="174"/>
                  </a:lnTo>
                  <a:lnTo>
                    <a:pt x="269" y="169"/>
                  </a:lnTo>
                  <a:lnTo>
                    <a:pt x="269" y="138"/>
                  </a:lnTo>
                  <a:lnTo>
                    <a:pt x="267" y="130"/>
                  </a:lnTo>
                  <a:lnTo>
                    <a:pt x="266" y="121"/>
                  </a:lnTo>
                  <a:lnTo>
                    <a:pt x="264" y="115"/>
                  </a:lnTo>
                  <a:lnTo>
                    <a:pt x="263" y="108"/>
                  </a:lnTo>
                  <a:lnTo>
                    <a:pt x="261" y="100"/>
                  </a:lnTo>
                  <a:lnTo>
                    <a:pt x="258" y="93"/>
                  </a:lnTo>
                  <a:lnTo>
                    <a:pt x="256" y="86"/>
                  </a:lnTo>
                  <a:lnTo>
                    <a:pt x="253" y="80"/>
                  </a:lnTo>
                  <a:lnTo>
                    <a:pt x="249" y="73"/>
                  </a:lnTo>
                  <a:lnTo>
                    <a:pt x="244" y="67"/>
                  </a:lnTo>
                  <a:lnTo>
                    <a:pt x="241" y="62"/>
                  </a:lnTo>
                  <a:lnTo>
                    <a:pt x="238" y="55"/>
                  </a:lnTo>
                  <a:lnTo>
                    <a:pt x="213" y="30"/>
                  </a:lnTo>
                  <a:lnTo>
                    <a:pt x="208" y="27"/>
                  </a:lnTo>
                  <a:lnTo>
                    <a:pt x="201" y="22"/>
                  </a:lnTo>
                  <a:lnTo>
                    <a:pt x="196" y="18"/>
                  </a:lnTo>
                  <a:lnTo>
                    <a:pt x="189" y="15"/>
                  </a:lnTo>
                  <a:lnTo>
                    <a:pt x="183" y="12"/>
                  </a:lnTo>
                  <a:lnTo>
                    <a:pt x="176" y="10"/>
                  </a:lnTo>
                  <a:lnTo>
                    <a:pt x="170" y="7"/>
                  </a:lnTo>
                  <a:lnTo>
                    <a:pt x="163" y="5"/>
                  </a:lnTo>
                  <a:lnTo>
                    <a:pt x="156" y="3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0" y="2"/>
                  </a:lnTo>
                  <a:lnTo>
                    <a:pt x="98" y="3"/>
                  </a:lnTo>
                  <a:lnTo>
                    <a:pt x="93" y="3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8"/>
                  </a:lnTo>
                  <a:lnTo>
                    <a:pt x="80" y="8"/>
                  </a:lnTo>
                  <a:lnTo>
                    <a:pt x="78" y="10"/>
                  </a:lnTo>
                  <a:lnTo>
                    <a:pt x="77" y="10"/>
                  </a:lnTo>
                  <a:lnTo>
                    <a:pt x="83" y="1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586680" y="4920840"/>
              <a:ext cx="118440" cy="3096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15" y="0"/>
                  </a:moveTo>
                  <a:lnTo>
                    <a:pt x="15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586680" y="4043160"/>
              <a:ext cx="2620080" cy="1835640"/>
            </a:xfrm>
            <a:custGeom>
              <a:avLst/>
              <a:gdLst/>
              <a:ahLst/>
              <a:rect l="l" t="t" r="r" b="b"/>
              <a:pathLst>
                <a:path w="738" h="553">
                  <a:moveTo>
                    <a:pt x="546" y="10"/>
                  </a:moveTo>
                  <a:lnTo>
                    <a:pt x="571" y="3"/>
                  </a:lnTo>
                  <a:lnTo>
                    <a:pt x="596" y="0"/>
                  </a:lnTo>
                  <a:lnTo>
                    <a:pt x="624" y="3"/>
                  </a:lnTo>
                  <a:lnTo>
                    <a:pt x="650" y="11"/>
                  </a:lnTo>
                  <a:lnTo>
                    <a:pt x="675" y="26"/>
                  </a:lnTo>
                  <a:lnTo>
                    <a:pt x="697" y="45"/>
                  </a:lnTo>
                  <a:lnTo>
                    <a:pt x="713" y="66"/>
                  </a:lnTo>
                  <a:lnTo>
                    <a:pt x="727" y="93"/>
                  </a:lnTo>
                  <a:lnTo>
                    <a:pt x="735" y="121"/>
                  </a:lnTo>
                  <a:lnTo>
                    <a:pt x="738" y="152"/>
                  </a:lnTo>
                  <a:lnTo>
                    <a:pt x="737" y="174"/>
                  </a:lnTo>
                  <a:lnTo>
                    <a:pt x="732" y="194"/>
                  </a:lnTo>
                  <a:lnTo>
                    <a:pt x="723" y="214"/>
                  </a:lnTo>
                  <a:lnTo>
                    <a:pt x="712" y="231"/>
                  </a:lnTo>
                  <a:lnTo>
                    <a:pt x="698" y="247"/>
                  </a:lnTo>
                  <a:lnTo>
                    <a:pt x="683" y="260"/>
                  </a:lnTo>
                  <a:lnTo>
                    <a:pt x="649" y="284"/>
                  </a:lnTo>
                  <a:lnTo>
                    <a:pt x="650" y="284"/>
                  </a:lnTo>
                  <a:lnTo>
                    <a:pt x="116" y="553"/>
                  </a:lnTo>
                  <a:lnTo>
                    <a:pt x="111" y="553"/>
                  </a:lnTo>
                  <a:lnTo>
                    <a:pt x="116" y="551"/>
                  </a:lnTo>
                  <a:lnTo>
                    <a:pt x="119" y="548"/>
                  </a:lnTo>
                  <a:lnTo>
                    <a:pt x="124" y="544"/>
                  </a:lnTo>
                  <a:lnTo>
                    <a:pt x="129" y="543"/>
                  </a:lnTo>
                  <a:lnTo>
                    <a:pt x="132" y="539"/>
                  </a:lnTo>
                  <a:lnTo>
                    <a:pt x="137" y="536"/>
                  </a:lnTo>
                  <a:lnTo>
                    <a:pt x="144" y="529"/>
                  </a:lnTo>
                  <a:lnTo>
                    <a:pt x="149" y="526"/>
                  </a:lnTo>
                  <a:lnTo>
                    <a:pt x="152" y="521"/>
                  </a:lnTo>
                  <a:lnTo>
                    <a:pt x="159" y="514"/>
                  </a:lnTo>
                  <a:lnTo>
                    <a:pt x="162" y="510"/>
                  </a:lnTo>
                  <a:lnTo>
                    <a:pt x="164" y="506"/>
                  </a:lnTo>
                  <a:lnTo>
                    <a:pt x="167" y="501"/>
                  </a:lnTo>
                  <a:lnTo>
                    <a:pt x="171" y="496"/>
                  </a:lnTo>
                  <a:lnTo>
                    <a:pt x="172" y="493"/>
                  </a:lnTo>
                  <a:lnTo>
                    <a:pt x="176" y="488"/>
                  </a:lnTo>
                  <a:lnTo>
                    <a:pt x="177" y="483"/>
                  </a:lnTo>
                  <a:lnTo>
                    <a:pt x="179" y="478"/>
                  </a:lnTo>
                  <a:lnTo>
                    <a:pt x="182" y="473"/>
                  </a:lnTo>
                  <a:lnTo>
                    <a:pt x="184" y="468"/>
                  </a:lnTo>
                  <a:lnTo>
                    <a:pt x="186" y="463"/>
                  </a:lnTo>
                  <a:lnTo>
                    <a:pt x="187" y="458"/>
                  </a:lnTo>
                  <a:lnTo>
                    <a:pt x="187" y="453"/>
                  </a:lnTo>
                  <a:lnTo>
                    <a:pt x="189" y="448"/>
                  </a:lnTo>
                  <a:lnTo>
                    <a:pt x="190" y="443"/>
                  </a:lnTo>
                  <a:lnTo>
                    <a:pt x="190" y="436"/>
                  </a:lnTo>
                  <a:lnTo>
                    <a:pt x="192" y="431"/>
                  </a:lnTo>
                  <a:lnTo>
                    <a:pt x="192" y="400"/>
                  </a:lnTo>
                  <a:lnTo>
                    <a:pt x="190" y="392"/>
                  </a:lnTo>
                  <a:lnTo>
                    <a:pt x="189" y="383"/>
                  </a:lnTo>
                  <a:lnTo>
                    <a:pt x="187" y="377"/>
                  </a:lnTo>
                  <a:lnTo>
                    <a:pt x="186" y="370"/>
                  </a:lnTo>
                  <a:lnTo>
                    <a:pt x="184" y="362"/>
                  </a:lnTo>
                  <a:lnTo>
                    <a:pt x="181" y="355"/>
                  </a:lnTo>
                  <a:lnTo>
                    <a:pt x="179" y="348"/>
                  </a:lnTo>
                  <a:lnTo>
                    <a:pt x="176" y="342"/>
                  </a:lnTo>
                  <a:lnTo>
                    <a:pt x="172" y="335"/>
                  </a:lnTo>
                  <a:lnTo>
                    <a:pt x="167" y="329"/>
                  </a:lnTo>
                  <a:lnTo>
                    <a:pt x="164" y="324"/>
                  </a:lnTo>
                  <a:lnTo>
                    <a:pt x="161" y="317"/>
                  </a:lnTo>
                  <a:lnTo>
                    <a:pt x="136" y="292"/>
                  </a:lnTo>
                  <a:lnTo>
                    <a:pt x="131" y="289"/>
                  </a:lnTo>
                  <a:lnTo>
                    <a:pt x="124" y="284"/>
                  </a:lnTo>
                  <a:lnTo>
                    <a:pt x="119" y="280"/>
                  </a:lnTo>
                  <a:lnTo>
                    <a:pt x="112" y="277"/>
                  </a:lnTo>
                  <a:lnTo>
                    <a:pt x="106" y="274"/>
                  </a:lnTo>
                  <a:lnTo>
                    <a:pt x="99" y="272"/>
                  </a:lnTo>
                  <a:lnTo>
                    <a:pt x="93" y="269"/>
                  </a:lnTo>
                  <a:lnTo>
                    <a:pt x="86" y="267"/>
                  </a:lnTo>
                  <a:lnTo>
                    <a:pt x="79" y="265"/>
                  </a:lnTo>
                  <a:lnTo>
                    <a:pt x="73" y="264"/>
                  </a:lnTo>
                  <a:lnTo>
                    <a:pt x="66" y="262"/>
                  </a:lnTo>
                  <a:lnTo>
                    <a:pt x="33" y="262"/>
                  </a:lnTo>
                  <a:lnTo>
                    <a:pt x="31" y="264"/>
                  </a:lnTo>
                  <a:lnTo>
                    <a:pt x="23" y="264"/>
                  </a:lnTo>
                  <a:lnTo>
                    <a:pt x="21" y="265"/>
                  </a:lnTo>
                  <a:lnTo>
                    <a:pt x="16" y="265"/>
                  </a:lnTo>
                  <a:lnTo>
                    <a:pt x="15" y="267"/>
                  </a:lnTo>
                  <a:lnTo>
                    <a:pt x="13" y="267"/>
                  </a:lnTo>
                  <a:lnTo>
                    <a:pt x="11" y="269"/>
                  </a:lnTo>
                  <a:lnTo>
                    <a:pt x="8" y="269"/>
                  </a:lnTo>
                  <a:lnTo>
                    <a:pt x="5" y="270"/>
                  </a:lnTo>
                  <a:lnTo>
                    <a:pt x="3" y="270"/>
                  </a:lnTo>
                  <a:lnTo>
                    <a:pt x="1" y="272"/>
                  </a:lnTo>
                  <a:lnTo>
                    <a:pt x="0" y="272"/>
                  </a:lnTo>
                  <a:lnTo>
                    <a:pt x="18" y="262"/>
                  </a:lnTo>
                  <a:lnTo>
                    <a:pt x="564" y="0"/>
                  </a:lnTo>
                  <a:lnTo>
                    <a:pt x="546" y="1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056760" y="2372040"/>
              <a:ext cx="12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rrow Voice-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057120" y="257328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085920" y="3052080"/>
              <a:ext cx="572760" cy="592200"/>
            </a:xfrm>
            <a:custGeom>
              <a:avLst/>
              <a:gdLst/>
              <a:ahLst/>
              <a:rect l="l" t="t" r="r" b="b"/>
              <a:pathLst>
                <a:path w="161" h="178">
                  <a:moveTo>
                    <a:pt x="49" y="7"/>
                  </a:moveTo>
                  <a:lnTo>
                    <a:pt x="46" y="9"/>
                  </a:lnTo>
                  <a:lnTo>
                    <a:pt x="44" y="10"/>
                  </a:lnTo>
                  <a:lnTo>
                    <a:pt x="41" y="12"/>
                  </a:lnTo>
                  <a:lnTo>
                    <a:pt x="39" y="14"/>
                  </a:lnTo>
                  <a:lnTo>
                    <a:pt x="36" y="15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6" y="35"/>
                  </a:lnTo>
                  <a:lnTo>
                    <a:pt x="14" y="37"/>
                  </a:lnTo>
                  <a:lnTo>
                    <a:pt x="13" y="40"/>
                  </a:lnTo>
                  <a:lnTo>
                    <a:pt x="11" y="44"/>
                  </a:lnTo>
                  <a:lnTo>
                    <a:pt x="9" y="45"/>
                  </a:lnTo>
                  <a:lnTo>
                    <a:pt x="9" y="49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4" y="57"/>
                  </a:lnTo>
                  <a:lnTo>
                    <a:pt x="4" y="60"/>
                  </a:lnTo>
                  <a:lnTo>
                    <a:pt x="3" y="64"/>
                  </a:lnTo>
                  <a:lnTo>
                    <a:pt x="3" y="67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0" y="78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3" y="115"/>
                  </a:lnTo>
                  <a:lnTo>
                    <a:pt x="4" y="120"/>
                  </a:lnTo>
                  <a:lnTo>
                    <a:pt x="6" y="123"/>
                  </a:lnTo>
                  <a:lnTo>
                    <a:pt x="8" y="127"/>
                  </a:lnTo>
                  <a:lnTo>
                    <a:pt x="9" y="132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6" y="142"/>
                  </a:lnTo>
                  <a:lnTo>
                    <a:pt x="19" y="145"/>
                  </a:lnTo>
                  <a:lnTo>
                    <a:pt x="21" y="148"/>
                  </a:lnTo>
                  <a:lnTo>
                    <a:pt x="31" y="158"/>
                  </a:lnTo>
                  <a:lnTo>
                    <a:pt x="34" y="160"/>
                  </a:lnTo>
                  <a:lnTo>
                    <a:pt x="38" y="163"/>
                  </a:lnTo>
                  <a:lnTo>
                    <a:pt x="41" y="165"/>
                  </a:lnTo>
                  <a:lnTo>
                    <a:pt x="44" y="168"/>
                  </a:lnTo>
                  <a:lnTo>
                    <a:pt x="48" y="170"/>
                  </a:lnTo>
                  <a:lnTo>
                    <a:pt x="51" y="171"/>
                  </a:lnTo>
                  <a:lnTo>
                    <a:pt x="56" y="173"/>
                  </a:lnTo>
                  <a:lnTo>
                    <a:pt x="59" y="175"/>
                  </a:lnTo>
                  <a:lnTo>
                    <a:pt x="63" y="175"/>
                  </a:lnTo>
                  <a:lnTo>
                    <a:pt x="68" y="176"/>
                  </a:lnTo>
                  <a:lnTo>
                    <a:pt x="71" y="176"/>
                  </a:lnTo>
                  <a:lnTo>
                    <a:pt x="76" y="178"/>
                  </a:lnTo>
                  <a:lnTo>
                    <a:pt x="96" y="178"/>
                  </a:lnTo>
                  <a:lnTo>
                    <a:pt x="97" y="176"/>
                  </a:lnTo>
                  <a:lnTo>
                    <a:pt x="102" y="176"/>
                  </a:lnTo>
                  <a:lnTo>
                    <a:pt x="104" y="175"/>
                  </a:lnTo>
                  <a:lnTo>
                    <a:pt x="107" y="175"/>
                  </a:lnTo>
                  <a:lnTo>
                    <a:pt x="107" y="173"/>
                  </a:lnTo>
                  <a:lnTo>
                    <a:pt x="112" y="173"/>
                  </a:lnTo>
                  <a:lnTo>
                    <a:pt x="112" y="171"/>
                  </a:lnTo>
                  <a:lnTo>
                    <a:pt x="114" y="171"/>
                  </a:lnTo>
                  <a:lnTo>
                    <a:pt x="111" y="171"/>
                  </a:lnTo>
                  <a:lnTo>
                    <a:pt x="114" y="170"/>
                  </a:lnTo>
                  <a:lnTo>
                    <a:pt x="116" y="168"/>
                  </a:lnTo>
                  <a:lnTo>
                    <a:pt x="119" y="167"/>
                  </a:lnTo>
                  <a:lnTo>
                    <a:pt x="121" y="165"/>
                  </a:lnTo>
                  <a:lnTo>
                    <a:pt x="124" y="163"/>
                  </a:lnTo>
                  <a:lnTo>
                    <a:pt x="126" y="162"/>
                  </a:lnTo>
                  <a:lnTo>
                    <a:pt x="129" y="160"/>
                  </a:lnTo>
                  <a:lnTo>
                    <a:pt x="136" y="153"/>
                  </a:lnTo>
                  <a:lnTo>
                    <a:pt x="137" y="150"/>
                  </a:lnTo>
                  <a:lnTo>
                    <a:pt x="139" y="148"/>
                  </a:lnTo>
                  <a:lnTo>
                    <a:pt x="142" y="147"/>
                  </a:lnTo>
                  <a:lnTo>
                    <a:pt x="144" y="143"/>
                  </a:lnTo>
                  <a:lnTo>
                    <a:pt x="146" y="142"/>
                  </a:lnTo>
                  <a:lnTo>
                    <a:pt x="147" y="138"/>
                  </a:lnTo>
                  <a:lnTo>
                    <a:pt x="149" y="135"/>
                  </a:lnTo>
                  <a:lnTo>
                    <a:pt x="151" y="133"/>
                  </a:lnTo>
                  <a:lnTo>
                    <a:pt x="151" y="130"/>
                  </a:lnTo>
                  <a:lnTo>
                    <a:pt x="152" y="127"/>
                  </a:lnTo>
                  <a:lnTo>
                    <a:pt x="154" y="125"/>
                  </a:lnTo>
                  <a:lnTo>
                    <a:pt x="156" y="122"/>
                  </a:lnTo>
                  <a:lnTo>
                    <a:pt x="156" y="118"/>
                  </a:lnTo>
                  <a:lnTo>
                    <a:pt x="157" y="115"/>
                  </a:lnTo>
                  <a:lnTo>
                    <a:pt x="157" y="112"/>
                  </a:lnTo>
                  <a:lnTo>
                    <a:pt x="159" y="110"/>
                  </a:lnTo>
                  <a:lnTo>
                    <a:pt x="159" y="103"/>
                  </a:lnTo>
                  <a:lnTo>
                    <a:pt x="161" y="100"/>
                  </a:lnTo>
                  <a:lnTo>
                    <a:pt x="161" y="80"/>
                  </a:lnTo>
                  <a:lnTo>
                    <a:pt x="159" y="77"/>
                  </a:lnTo>
                  <a:lnTo>
                    <a:pt x="159" y="72"/>
                  </a:lnTo>
                  <a:lnTo>
                    <a:pt x="157" y="67"/>
                  </a:lnTo>
                  <a:lnTo>
                    <a:pt x="157" y="64"/>
                  </a:lnTo>
                  <a:lnTo>
                    <a:pt x="156" y="59"/>
                  </a:lnTo>
                  <a:lnTo>
                    <a:pt x="154" y="55"/>
                  </a:lnTo>
                  <a:lnTo>
                    <a:pt x="152" y="52"/>
                  </a:lnTo>
                  <a:lnTo>
                    <a:pt x="151" y="47"/>
                  </a:lnTo>
                  <a:lnTo>
                    <a:pt x="149" y="44"/>
                  </a:lnTo>
                  <a:lnTo>
                    <a:pt x="146" y="40"/>
                  </a:lnTo>
                  <a:lnTo>
                    <a:pt x="144" y="37"/>
                  </a:lnTo>
                  <a:lnTo>
                    <a:pt x="141" y="34"/>
                  </a:lnTo>
                  <a:lnTo>
                    <a:pt x="139" y="30"/>
                  </a:lnTo>
                  <a:lnTo>
                    <a:pt x="129" y="20"/>
                  </a:lnTo>
                  <a:lnTo>
                    <a:pt x="126" y="19"/>
                  </a:lnTo>
                  <a:lnTo>
                    <a:pt x="122" y="15"/>
                  </a:lnTo>
                  <a:lnTo>
                    <a:pt x="119" y="14"/>
                  </a:lnTo>
                  <a:lnTo>
                    <a:pt x="116" y="10"/>
                  </a:lnTo>
                  <a:lnTo>
                    <a:pt x="112" y="9"/>
                  </a:lnTo>
                  <a:lnTo>
                    <a:pt x="109" y="7"/>
                  </a:lnTo>
                  <a:lnTo>
                    <a:pt x="104" y="5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9" y="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250440" y="2541600"/>
              <a:ext cx="1474560" cy="539280"/>
            </a:xfrm>
            <a:custGeom>
              <a:avLst/>
              <a:gdLst/>
              <a:ahLst/>
              <a:rect l="l" t="t" r="r" b="b"/>
              <a:pathLst>
                <a:path w="415" h="163">
                  <a:moveTo>
                    <a:pt x="330" y="0"/>
                  </a:moveTo>
                  <a:lnTo>
                    <a:pt x="330" y="2"/>
                  </a:lnTo>
                  <a:lnTo>
                    <a:pt x="324" y="3"/>
                  </a:lnTo>
                  <a:lnTo>
                    <a:pt x="324" y="5"/>
                  </a:lnTo>
                  <a:lnTo>
                    <a:pt x="317" y="7"/>
                  </a:lnTo>
                  <a:lnTo>
                    <a:pt x="317" y="8"/>
                  </a:lnTo>
                  <a:lnTo>
                    <a:pt x="310" y="10"/>
                  </a:lnTo>
                  <a:lnTo>
                    <a:pt x="310" y="12"/>
                  </a:lnTo>
                  <a:lnTo>
                    <a:pt x="304" y="13"/>
                  </a:lnTo>
                  <a:lnTo>
                    <a:pt x="304" y="15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0" y="20"/>
                  </a:lnTo>
                  <a:lnTo>
                    <a:pt x="290" y="22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79" y="25"/>
                  </a:lnTo>
                  <a:lnTo>
                    <a:pt x="279" y="27"/>
                  </a:lnTo>
                  <a:lnTo>
                    <a:pt x="272" y="28"/>
                  </a:lnTo>
                  <a:lnTo>
                    <a:pt x="272" y="30"/>
                  </a:lnTo>
                  <a:lnTo>
                    <a:pt x="266" y="32"/>
                  </a:lnTo>
                  <a:lnTo>
                    <a:pt x="266" y="33"/>
                  </a:lnTo>
                  <a:lnTo>
                    <a:pt x="259" y="35"/>
                  </a:lnTo>
                  <a:lnTo>
                    <a:pt x="259" y="37"/>
                  </a:lnTo>
                  <a:lnTo>
                    <a:pt x="252" y="38"/>
                  </a:lnTo>
                  <a:lnTo>
                    <a:pt x="252" y="40"/>
                  </a:lnTo>
                  <a:lnTo>
                    <a:pt x="246" y="42"/>
                  </a:lnTo>
                  <a:lnTo>
                    <a:pt x="246" y="43"/>
                  </a:lnTo>
                  <a:lnTo>
                    <a:pt x="239" y="45"/>
                  </a:lnTo>
                  <a:lnTo>
                    <a:pt x="239" y="47"/>
                  </a:lnTo>
                  <a:lnTo>
                    <a:pt x="232" y="48"/>
                  </a:lnTo>
                  <a:lnTo>
                    <a:pt x="232" y="50"/>
                  </a:lnTo>
                  <a:lnTo>
                    <a:pt x="229" y="50"/>
                  </a:lnTo>
                  <a:lnTo>
                    <a:pt x="229" y="51"/>
                  </a:lnTo>
                  <a:lnTo>
                    <a:pt x="224" y="51"/>
                  </a:lnTo>
                  <a:lnTo>
                    <a:pt x="224" y="53"/>
                  </a:lnTo>
                  <a:lnTo>
                    <a:pt x="217" y="55"/>
                  </a:lnTo>
                  <a:lnTo>
                    <a:pt x="217" y="56"/>
                  </a:lnTo>
                  <a:lnTo>
                    <a:pt x="211" y="58"/>
                  </a:lnTo>
                  <a:lnTo>
                    <a:pt x="211" y="60"/>
                  </a:lnTo>
                  <a:lnTo>
                    <a:pt x="204" y="61"/>
                  </a:lnTo>
                  <a:lnTo>
                    <a:pt x="204" y="63"/>
                  </a:lnTo>
                  <a:lnTo>
                    <a:pt x="198" y="65"/>
                  </a:lnTo>
                  <a:lnTo>
                    <a:pt x="198" y="66"/>
                  </a:lnTo>
                  <a:lnTo>
                    <a:pt x="191" y="68"/>
                  </a:lnTo>
                  <a:lnTo>
                    <a:pt x="191" y="70"/>
                  </a:lnTo>
                  <a:lnTo>
                    <a:pt x="184" y="71"/>
                  </a:lnTo>
                  <a:lnTo>
                    <a:pt x="184" y="73"/>
                  </a:lnTo>
                  <a:lnTo>
                    <a:pt x="178" y="75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73" y="78"/>
                  </a:lnTo>
                  <a:lnTo>
                    <a:pt x="166" y="80"/>
                  </a:lnTo>
                  <a:lnTo>
                    <a:pt x="166" y="81"/>
                  </a:lnTo>
                  <a:lnTo>
                    <a:pt x="159" y="83"/>
                  </a:lnTo>
                  <a:lnTo>
                    <a:pt x="159" y="85"/>
                  </a:lnTo>
                  <a:lnTo>
                    <a:pt x="153" y="86"/>
                  </a:lnTo>
                  <a:lnTo>
                    <a:pt x="153" y="88"/>
                  </a:lnTo>
                  <a:lnTo>
                    <a:pt x="146" y="90"/>
                  </a:lnTo>
                  <a:lnTo>
                    <a:pt x="146" y="91"/>
                  </a:lnTo>
                  <a:lnTo>
                    <a:pt x="139" y="93"/>
                  </a:lnTo>
                  <a:lnTo>
                    <a:pt x="139" y="95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26" y="100"/>
                  </a:lnTo>
                  <a:lnTo>
                    <a:pt x="126" y="101"/>
                  </a:lnTo>
                  <a:lnTo>
                    <a:pt x="123" y="101"/>
                  </a:lnTo>
                  <a:lnTo>
                    <a:pt x="123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1" y="106"/>
                  </a:lnTo>
                  <a:lnTo>
                    <a:pt x="111" y="108"/>
                  </a:lnTo>
                  <a:lnTo>
                    <a:pt x="105" y="110"/>
                  </a:lnTo>
                  <a:lnTo>
                    <a:pt x="105" y="111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1" y="116"/>
                  </a:lnTo>
                  <a:lnTo>
                    <a:pt x="91" y="118"/>
                  </a:lnTo>
                  <a:lnTo>
                    <a:pt x="85" y="120"/>
                  </a:lnTo>
                  <a:lnTo>
                    <a:pt x="85" y="121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1" y="126"/>
                  </a:lnTo>
                  <a:lnTo>
                    <a:pt x="71" y="128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3" y="130"/>
                  </a:lnTo>
                  <a:lnTo>
                    <a:pt x="63" y="131"/>
                  </a:lnTo>
                  <a:lnTo>
                    <a:pt x="56" y="133"/>
                  </a:lnTo>
                  <a:lnTo>
                    <a:pt x="56" y="135"/>
                  </a:lnTo>
                  <a:lnTo>
                    <a:pt x="50" y="136"/>
                  </a:lnTo>
                  <a:lnTo>
                    <a:pt x="50" y="138"/>
                  </a:lnTo>
                  <a:lnTo>
                    <a:pt x="43" y="140"/>
                  </a:lnTo>
                  <a:lnTo>
                    <a:pt x="43" y="141"/>
                  </a:lnTo>
                  <a:lnTo>
                    <a:pt x="37" y="143"/>
                  </a:lnTo>
                  <a:lnTo>
                    <a:pt x="37" y="144"/>
                  </a:lnTo>
                  <a:lnTo>
                    <a:pt x="30" y="146"/>
                  </a:lnTo>
                  <a:lnTo>
                    <a:pt x="30" y="148"/>
                  </a:lnTo>
                  <a:lnTo>
                    <a:pt x="23" y="149"/>
                  </a:lnTo>
                  <a:lnTo>
                    <a:pt x="23" y="151"/>
                  </a:lnTo>
                  <a:lnTo>
                    <a:pt x="17" y="153"/>
                  </a:lnTo>
                  <a:lnTo>
                    <a:pt x="17" y="154"/>
                  </a:lnTo>
                  <a:lnTo>
                    <a:pt x="12" y="154"/>
                  </a:lnTo>
                  <a:lnTo>
                    <a:pt x="12" y="156"/>
                  </a:lnTo>
                  <a:lnTo>
                    <a:pt x="8" y="156"/>
                  </a:lnTo>
                  <a:lnTo>
                    <a:pt x="8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3" y="163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12" y="159"/>
                  </a:lnTo>
                  <a:lnTo>
                    <a:pt x="12" y="158"/>
                  </a:lnTo>
                  <a:lnTo>
                    <a:pt x="18" y="158"/>
                  </a:lnTo>
                  <a:lnTo>
                    <a:pt x="18" y="156"/>
                  </a:lnTo>
                  <a:lnTo>
                    <a:pt x="151" y="156"/>
                  </a:lnTo>
                  <a:lnTo>
                    <a:pt x="151" y="154"/>
                  </a:lnTo>
                  <a:lnTo>
                    <a:pt x="158" y="153"/>
                  </a:lnTo>
                  <a:lnTo>
                    <a:pt x="158" y="151"/>
                  </a:lnTo>
                  <a:lnTo>
                    <a:pt x="164" y="149"/>
                  </a:lnTo>
                  <a:lnTo>
                    <a:pt x="164" y="148"/>
                  </a:lnTo>
                  <a:lnTo>
                    <a:pt x="171" y="146"/>
                  </a:lnTo>
                  <a:lnTo>
                    <a:pt x="171" y="144"/>
                  </a:lnTo>
                  <a:lnTo>
                    <a:pt x="176" y="144"/>
                  </a:lnTo>
                  <a:lnTo>
                    <a:pt x="176" y="143"/>
                  </a:lnTo>
                  <a:lnTo>
                    <a:pt x="183" y="141"/>
                  </a:lnTo>
                  <a:lnTo>
                    <a:pt x="183" y="140"/>
                  </a:lnTo>
                  <a:lnTo>
                    <a:pt x="189" y="138"/>
                  </a:lnTo>
                  <a:lnTo>
                    <a:pt x="189" y="136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9" y="133"/>
                  </a:lnTo>
                  <a:lnTo>
                    <a:pt x="199" y="131"/>
                  </a:lnTo>
                  <a:lnTo>
                    <a:pt x="204" y="131"/>
                  </a:lnTo>
                  <a:lnTo>
                    <a:pt x="204" y="130"/>
                  </a:lnTo>
                  <a:lnTo>
                    <a:pt x="211" y="128"/>
                  </a:lnTo>
                  <a:lnTo>
                    <a:pt x="211" y="126"/>
                  </a:lnTo>
                  <a:lnTo>
                    <a:pt x="217" y="125"/>
                  </a:lnTo>
                  <a:lnTo>
                    <a:pt x="217" y="123"/>
                  </a:lnTo>
                  <a:lnTo>
                    <a:pt x="224" y="121"/>
                  </a:lnTo>
                  <a:lnTo>
                    <a:pt x="224" y="120"/>
                  </a:lnTo>
                  <a:lnTo>
                    <a:pt x="227" y="120"/>
                  </a:lnTo>
                  <a:lnTo>
                    <a:pt x="227" y="118"/>
                  </a:lnTo>
                  <a:lnTo>
                    <a:pt x="232" y="118"/>
                  </a:lnTo>
                  <a:lnTo>
                    <a:pt x="232" y="116"/>
                  </a:lnTo>
                  <a:lnTo>
                    <a:pt x="239" y="115"/>
                  </a:lnTo>
                  <a:lnTo>
                    <a:pt x="239" y="113"/>
                  </a:lnTo>
                  <a:lnTo>
                    <a:pt x="246" y="111"/>
                  </a:lnTo>
                  <a:lnTo>
                    <a:pt x="246" y="110"/>
                  </a:lnTo>
                  <a:lnTo>
                    <a:pt x="252" y="108"/>
                  </a:lnTo>
                  <a:lnTo>
                    <a:pt x="252" y="106"/>
                  </a:lnTo>
                  <a:lnTo>
                    <a:pt x="256" y="106"/>
                  </a:lnTo>
                  <a:lnTo>
                    <a:pt x="256" y="105"/>
                  </a:lnTo>
                  <a:lnTo>
                    <a:pt x="261" y="105"/>
                  </a:lnTo>
                  <a:lnTo>
                    <a:pt x="261" y="103"/>
                  </a:lnTo>
                  <a:lnTo>
                    <a:pt x="267" y="101"/>
                  </a:lnTo>
                  <a:lnTo>
                    <a:pt x="267" y="100"/>
                  </a:lnTo>
                  <a:lnTo>
                    <a:pt x="274" y="98"/>
                  </a:lnTo>
                  <a:lnTo>
                    <a:pt x="274" y="96"/>
                  </a:lnTo>
                  <a:lnTo>
                    <a:pt x="281" y="95"/>
                  </a:lnTo>
                  <a:lnTo>
                    <a:pt x="281" y="93"/>
                  </a:lnTo>
                  <a:lnTo>
                    <a:pt x="284" y="93"/>
                  </a:lnTo>
                  <a:lnTo>
                    <a:pt x="284" y="91"/>
                  </a:lnTo>
                  <a:lnTo>
                    <a:pt x="289" y="91"/>
                  </a:lnTo>
                  <a:lnTo>
                    <a:pt x="289" y="90"/>
                  </a:lnTo>
                  <a:lnTo>
                    <a:pt x="295" y="88"/>
                  </a:lnTo>
                  <a:lnTo>
                    <a:pt x="295" y="86"/>
                  </a:lnTo>
                  <a:lnTo>
                    <a:pt x="302" y="85"/>
                  </a:lnTo>
                  <a:lnTo>
                    <a:pt x="302" y="83"/>
                  </a:lnTo>
                  <a:lnTo>
                    <a:pt x="309" y="81"/>
                  </a:lnTo>
                  <a:lnTo>
                    <a:pt x="309" y="80"/>
                  </a:lnTo>
                  <a:lnTo>
                    <a:pt x="314" y="80"/>
                  </a:lnTo>
                  <a:lnTo>
                    <a:pt x="314" y="78"/>
                  </a:lnTo>
                  <a:lnTo>
                    <a:pt x="320" y="76"/>
                  </a:lnTo>
                  <a:lnTo>
                    <a:pt x="320" y="75"/>
                  </a:lnTo>
                  <a:lnTo>
                    <a:pt x="327" y="73"/>
                  </a:lnTo>
                  <a:lnTo>
                    <a:pt x="327" y="71"/>
                  </a:lnTo>
                  <a:lnTo>
                    <a:pt x="334" y="70"/>
                  </a:lnTo>
                  <a:lnTo>
                    <a:pt x="334" y="68"/>
                  </a:lnTo>
                  <a:lnTo>
                    <a:pt x="337" y="68"/>
                  </a:lnTo>
                  <a:lnTo>
                    <a:pt x="337" y="66"/>
                  </a:lnTo>
                  <a:lnTo>
                    <a:pt x="342" y="66"/>
                  </a:lnTo>
                  <a:lnTo>
                    <a:pt x="342" y="65"/>
                  </a:lnTo>
                  <a:lnTo>
                    <a:pt x="349" y="63"/>
                  </a:lnTo>
                  <a:lnTo>
                    <a:pt x="349" y="61"/>
                  </a:lnTo>
                  <a:lnTo>
                    <a:pt x="355" y="60"/>
                  </a:lnTo>
                  <a:lnTo>
                    <a:pt x="355" y="58"/>
                  </a:lnTo>
                  <a:lnTo>
                    <a:pt x="362" y="56"/>
                  </a:lnTo>
                  <a:lnTo>
                    <a:pt x="362" y="55"/>
                  </a:lnTo>
                  <a:lnTo>
                    <a:pt x="365" y="55"/>
                  </a:lnTo>
                  <a:lnTo>
                    <a:pt x="365" y="53"/>
                  </a:lnTo>
                  <a:lnTo>
                    <a:pt x="370" y="53"/>
                  </a:lnTo>
                  <a:lnTo>
                    <a:pt x="370" y="51"/>
                  </a:lnTo>
                  <a:lnTo>
                    <a:pt x="377" y="50"/>
                  </a:lnTo>
                  <a:lnTo>
                    <a:pt x="377" y="48"/>
                  </a:lnTo>
                  <a:lnTo>
                    <a:pt x="383" y="47"/>
                  </a:lnTo>
                  <a:lnTo>
                    <a:pt x="383" y="45"/>
                  </a:lnTo>
                  <a:lnTo>
                    <a:pt x="390" y="43"/>
                  </a:lnTo>
                  <a:lnTo>
                    <a:pt x="390" y="42"/>
                  </a:lnTo>
                  <a:lnTo>
                    <a:pt x="393" y="42"/>
                  </a:lnTo>
                  <a:lnTo>
                    <a:pt x="393" y="40"/>
                  </a:lnTo>
                  <a:lnTo>
                    <a:pt x="398" y="40"/>
                  </a:lnTo>
                  <a:lnTo>
                    <a:pt x="398" y="38"/>
                  </a:lnTo>
                  <a:lnTo>
                    <a:pt x="405" y="37"/>
                  </a:lnTo>
                  <a:lnTo>
                    <a:pt x="405" y="35"/>
                  </a:lnTo>
                  <a:lnTo>
                    <a:pt x="412" y="33"/>
                  </a:lnTo>
                  <a:lnTo>
                    <a:pt x="412" y="32"/>
                  </a:lnTo>
                  <a:lnTo>
                    <a:pt x="415" y="32"/>
                  </a:lnTo>
                  <a:lnTo>
                    <a:pt x="400" y="15"/>
                  </a:lnTo>
                  <a:lnTo>
                    <a:pt x="397" y="15"/>
                  </a:lnTo>
                  <a:lnTo>
                    <a:pt x="397" y="13"/>
                  </a:lnTo>
                  <a:lnTo>
                    <a:pt x="393" y="13"/>
                  </a:lnTo>
                  <a:lnTo>
                    <a:pt x="392" y="10"/>
                  </a:lnTo>
                  <a:lnTo>
                    <a:pt x="388" y="10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80" y="5"/>
                  </a:lnTo>
                  <a:lnTo>
                    <a:pt x="372" y="3"/>
                  </a:lnTo>
                  <a:lnTo>
                    <a:pt x="372" y="2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45" y="0"/>
                  </a:lnTo>
                  <a:lnTo>
                    <a:pt x="345" y="2"/>
                  </a:lnTo>
                  <a:lnTo>
                    <a:pt x="335" y="2"/>
                  </a:lnTo>
                  <a:lnTo>
                    <a:pt x="335" y="3"/>
                  </a:lnTo>
                  <a:lnTo>
                    <a:pt x="332" y="3"/>
                  </a:lnTo>
                  <a:lnTo>
                    <a:pt x="332" y="2"/>
                  </a:lnTo>
                  <a:lnTo>
                    <a:pt x="334" y="2"/>
                  </a:lnTo>
                  <a:lnTo>
                    <a:pt x="334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397320" y="3059280"/>
              <a:ext cx="371520" cy="8856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0" y="0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39" y="18"/>
                  </a:lnTo>
                  <a:lnTo>
                    <a:pt x="42" y="18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67" y="20"/>
                  </a:lnTo>
                  <a:lnTo>
                    <a:pt x="67" y="18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77" y="13"/>
                  </a:lnTo>
                  <a:lnTo>
                    <a:pt x="82" y="13"/>
                  </a:lnTo>
                  <a:lnTo>
                    <a:pt x="82" y="12"/>
                  </a:lnTo>
                  <a:lnTo>
                    <a:pt x="88" y="10"/>
                  </a:lnTo>
                  <a:lnTo>
                    <a:pt x="88" y="8"/>
                  </a:lnTo>
                  <a:lnTo>
                    <a:pt x="95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250440" y="2541600"/>
              <a:ext cx="1546200" cy="1077840"/>
            </a:xfrm>
            <a:custGeom>
              <a:avLst/>
              <a:gdLst/>
              <a:ahLst/>
              <a:rect l="l" t="t" r="r" b="b"/>
              <a:pathLst>
                <a:path w="435" h="325">
                  <a:moveTo>
                    <a:pt x="322" y="7"/>
                  </a:moveTo>
                  <a:lnTo>
                    <a:pt x="337" y="2"/>
                  </a:lnTo>
                  <a:lnTo>
                    <a:pt x="352" y="0"/>
                  </a:lnTo>
                  <a:lnTo>
                    <a:pt x="368" y="2"/>
                  </a:lnTo>
                  <a:lnTo>
                    <a:pt x="383" y="7"/>
                  </a:lnTo>
                  <a:lnTo>
                    <a:pt x="398" y="15"/>
                  </a:lnTo>
                  <a:lnTo>
                    <a:pt x="410" y="27"/>
                  </a:lnTo>
                  <a:lnTo>
                    <a:pt x="420" y="40"/>
                  </a:lnTo>
                  <a:lnTo>
                    <a:pt x="428" y="55"/>
                  </a:lnTo>
                  <a:lnTo>
                    <a:pt x="433" y="71"/>
                  </a:lnTo>
                  <a:lnTo>
                    <a:pt x="435" y="90"/>
                  </a:lnTo>
                  <a:lnTo>
                    <a:pt x="432" y="115"/>
                  </a:lnTo>
                  <a:lnTo>
                    <a:pt x="420" y="136"/>
                  </a:lnTo>
                  <a:lnTo>
                    <a:pt x="403" y="154"/>
                  </a:lnTo>
                  <a:lnTo>
                    <a:pt x="382" y="168"/>
                  </a:lnTo>
                  <a:lnTo>
                    <a:pt x="383" y="168"/>
                  </a:lnTo>
                  <a:lnTo>
                    <a:pt x="68" y="325"/>
                  </a:lnTo>
                  <a:lnTo>
                    <a:pt x="65" y="325"/>
                  </a:lnTo>
                  <a:lnTo>
                    <a:pt x="68" y="324"/>
                  </a:lnTo>
                  <a:lnTo>
                    <a:pt x="70" y="322"/>
                  </a:lnTo>
                  <a:lnTo>
                    <a:pt x="73" y="321"/>
                  </a:lnTo>
                  <a:lnTo>
                    <a:pt x="75" y="319"/>
                  </a:lnTo>
                  <a:lnTo>
                    <a:pt x="78" y="317"/>
                  </a:lnTo>
                  <a:lnTo>
                    <a:pt x="80" y="316"/>
                  </a:lnTo>
                  <a:lnTo>
                    <a:pt x="83" y="314"/>
                  </a:lnTo>
                  <a:lnTo>
                    <a:pt x="90" y="307"/>
                  </a:lnTo>
                  <a:lnTo>
                    <a:pt x="91" y="304"/>
                  </a:lnTo>
                  <a:lnTo>
                    <a:pt x="93" y="302"/>
                  </a:lnTo>
                  <a:lnTo>
                    <a:pt x="96" y="301"/>
                  </a:lnTo>
                  <a:lnTo>
                    <a:pt x="98" y="297"/>
                  </a:lnTo>
                  <a:lnTo>
                    <a:pt x="100" y="296"/>
                  </a:lnTo>
                  <a:lnTo>
                    <a:pt x="101" y="292"/>
                  </a:lnTo>
                  <a:lnTo>
                    <a:pt x="103" y="289"/>
                  </a:lnTo>
                  <a:lnTo>
                    <a:pt x="105" y="287"/>
                  </a:lnTo>
                  <a:lnTo>
                    <a:pt x="105" y="284"/>
                  </a:lnTo>
                  <a:lnTo>
                    <a:pt x="106" y="281"/>
                  </a:lnTo>
                  <a:lnTo>
                    <a:pt x="108" y="279"/>
                  </a:lnTo>
                  <a:lnTo>
                    <a:pt x="110" y="276"/>
                  </a:lnTo>
                  <a:lnTo>
                    <a:pt x="110" y="272"/>
                  </a:lnTo>
                  <a:lnTo>
                    <a:pt x="111" y="269"/>
                  </a:lnTo>
                  <a:lnTo>
                    <a:pt x="111" y="266"/>
                  </a:lnTo>
                  <a:lnTo>
                    <a:pt x="113" y="264"/>
                  </a:lnTo>
                  <a:lnTo>
                    <a:pt x="113" y="257"/>
                  </a:lnTo>
                  <a:lnTo>
                    <a:pt x="115" y="254"/>
                  </a:lnTo>
                  <a:lnTo>
                    <a:pt x="115" y="234"/>
                  </a:lnTo>
                  <a:lnTo>
                    <a:pt x="113" y="231"/>
                  </a:lnTo>
                  <a:lnTo>
                    <a:pt x="113" y="226"/>
                  </a:lnTo>
                  <a:lnTo>
                    <a:pt x="111" y="221"/>
                  </a:lnTo>
                  <a:lnTo>
                    <a:pt x="111" y="218"/>
                  </a:lnTo>
                  <a:lnTo>
                    <a:pt x="110" y="213"/>
                  </a:lnTo>
                  <a:lnTo>
                    <a:pt x="108" y="209"/>
                  </a:lnTo>
                  <a:lnTo>
                    <a:pt x="106" y="206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100" y="194"/>
                  </a:lnTo>
                  <a:lnTo>
                    <a:pt x="98" y="191"/>
                  </a:lnTo>
                  <a:lnTo>
                    <a:pt x="95" y="188"/>
                  </a:lnTo>
                  <a:lnTo>
                    <a:pt x="93" y="184"/>
                  </a:lnTo>
                  <a:lnTo>
                    <a:pt x="83" y="174"/>
                  </a:lnTo>
                  <a:lnTo>
                    <a:pt x="80" y="173"/>
                  </a:lnTo>
                  <a:lnTo>
                    <a:pt x="76" y="169"/>
                  </a:lnTo>
                  <a:lnTo>
                    <a:pt x="73" y="168"/>
                  </a:lnTo>
                  <a:lnTo>
                    <a:pt x="70" y="164"/>
                  </a:lnTo>
                  <a:lnTo>
                    <a:pt x="66" y="163"/>
                  </a:lnTo>
                  <a:lnTo>
                    <a:pt x="63" y="161"/>
                  </a:lnTo>
                  <a:lnTo>
                    <a:pt x="58" y="159"/>
                  </a:lnTo>
                  <a:lnTo>
                    <a:pt x="55" y="158"/>
                  </a:lnTo>
                  <a:lnTo>
                    <a:pt x="51" y="158"/>
                  </a:lnTo>
                  <a:lnTo>
                    <a:pt x="46" y="156"/>
                  </a:lnTo>
                  <a:lnTo>
                    <a:pt x="43" y="156"/>
                  </a:lnTo>
                  <a:lnTo>
                    <a:pt x="38" y="154"/>
                  </a:lnTo>
                  <a:lnTo>
                    <a:pt x="18" y="154"/>
                  </a:lnTo>
                  <a:lnTo>
                    <a:pt x="17" y="156"/>
                  </a:lnTo>
                  <a:lnTo>
                    <a:pt x="12" y="156"/>
                  </a:lnTo>
                  <a:lnTo>
                    <a:pt x="10" y="158"/>
                  </a:lnTo>
                  <a:lnTo>
                    <a:pt x="7" y="158"/>
                  </a:lnTo>
                  <a:lnTo>
                    <a:pt x="7" y="159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0" y="161"/>
                  </a:lnTo>
                  <a:lnTo>
                    <a:pt x="12" y="154"/>
                  </a:lnTo>
                  <a:lnTo>
                    <a:pt x="332" y="0"/>
                  </a:lnTo>
                  <a:lnTo>
                    <a:pt x="322" y="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4163040" y="3084120"/>
              <a:ext cx="1256400" cy="117720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0" y="30"/>
                  </a:moveTo>
                  <a:lnTo>
                    <a:pt x="7" y="35"/>
                  </a:lnTo>
                  <a:lnTo>
                    <a:pt x="12" y="39"/>
                  </a:lnTo>
                  <a:lnTo>
                    <a:pt x="19" y="44"/>
                  </a:lnTo>
                  <a:lnTo>
                    <a:pt x="25" y="49"/>
                  </a:lnTo>
                  <a:lnTo>
                    <a:pt x="30" y="52"/>
                  </a:lnTo>
                  <a:lnTo>
                    <a:pt x="37" y="57"/>
                  </a:lnTo>
                  <a:lnTo>
                    <a:pt x="42" y="62"/>
                  </a:lnTo>
                  <a:lnTo>
                    <a:pt x="47" y="65"/>
                  </a:lnTo>
                  <a:lnTo>
                    <a:pt x="53" y="70"/>
                  </a:lnTo>
                  <a:lnTo>
                    <a:pt x="58" y="75"/>
                  </a:lnTo>
                  <a:lnTo>
                    <a:pt x="63" y="78"/>
                  </a:lnTo>
                  <a:lnTo>
                    <a:pt x="68" y="83"/>
                  </a:lnTo>
                  <a:lnTo>
                    <a:pt x="73" y="87"/>
                  </a:lnTo>
                  <a:lnTo>
                    <a:pt x="78" y="92"/>
                  </a:lnTo>
                  <a:lnTo>
                    <a:pt x="83" y="95"/>
                  </a:lnTo>
                  <a:lnTo>
                    <a:pt x="88" y="100"/>
                  </a:lnTo>
                  <a:lnTo>
                    <a:pt x="93" y="103"/>
                  </a:lnTo>
                  <a:lnTo>
                    <a:pt x="102" y="112"/>
                  </a:lnTo>
                  <a:lnTo>
                    <a:pt x="107" y="115"/>
                  </a:lnTo>
                  <a:lnTo>
                    <a:pt x="115" y="123"/>
                  </a:lnTo>
                  <a:lnTo>
                    <a:pt x="120" y="127"/>
                  </a:lnTo>
                  <a:lnTo>
                    <a:pt x="123" y="132"/>
                  </a:lnTo>
                  <a:lnTo>
                    <a:pt x="128" y="135"/>
                  </a:lnTo>
                  <a:lnTo>
                    <a:pt x="131" y="138"/>
                  </a:lnTo>
                  <a:lnTo>
                    <a:pt x="135" y="143"/>
                  </a:lnTo>
                  <a:lnTo>
                    <a:pt x="140" y="147"/>
                  </a:lnTo>
                  <a:lnTo>
                    <a:pt x="143" y="150"/>
                  </a:lnTo>
                  <a:lnTo>
                    <a:pt x="146" y="155"/>
                  </a:lnTo>
                  <a:lnTo>
                    <a:pt x="160" y="168"/>
                  </a:lnTo>
                  <a:lnTo>
                    <a:pt x="163" y="173"/>
                  </a:lnTo>
                  <a:lnTo>
                    <a:pt x="166" y="176"/>
                  </a:lnTo>
                  <a:lnTo>
                    <a:pt x="168" y="180"/>
                  </a:lnTo>
                  <a:lnTo>
                    <a:pt x="175" y="186"/>
                  </a:lnTo>
                  <a:lnTo>
                    <a:pt x="176" y="190"/>
                  </a:lnTo>
                  <a:lnTo>
                    <a:pt x="180" y="193"/>
                  </a:lnTo>
                  <a:lnTo>
                    <a:pt x="181" y="196"/>
                  </a:lnTo>
                  <a:lnTo>
                    <a:pt x="185" y="200"/>
                  </a:lnTo>
                  <a:lnTo>
                    <a:pt x="186" y="203"/>
                  </a:lnTo>
                  <a:lnTo>
                    <a:pt x="188" y="206"/>
                  </a:lnTo>
                  <a:lnTo>
                    <a:pt x="191" y="210"/>
                  </a:lnTo>
                  <a:lnTo>
                    <a:pt x="193" y="213"/>
                  </a:lnTo>
                  <a:lnTo>
                    <a:pt x="194" y="216"/>
                  </a:lnTo>
                  <a:lnTo>
                    <a:pt x="196" y="220"/>
                  </a:lnTo>
                  <a:lnTo>
                    <a:pt x="198" y="223"/>
                  </a:lnTo>
                  <a:lnTo>
                    <a:pt x="199" y="226"/>
                  </a:lnTo>
                  <a:lnTo>
                    <a:pt x="201" y="230"/>
                  </a:lnTo>
                  <a:lnTo>
                    <a:pt x="203" y="233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1"/>
                  </a:lnTo>
                  <a:lnTo>
                    <a:pt x="208" y="245"/>
                  </a:lnTo>
                  <a:lnTo>
                    <a:pt x="209" y="248"/>
                  </a:lnTo>
                  <a:lnTo>
                    <a:pt x="209" y="250"/>
                  </a:lnTo>
                  <a:lnTo>
                    <a:pt x="211" y="253"/>
                  </a:lnTo>
                  <a:lnTo>
                    <a:pt x="211" y="259"/>
                  </a:lnTo>
                  <a:lnTo>
                    <a:pt x="213" y="261"/>
                  </a:lnTo>
                  <a:lnTo>
                    <a:pt x="213" y="264"/>
                  </a:lnTo>
                  <a:lnTo>
                    <a:pt x="163" y="278"/>
                  </a:lnTo>
                  <a:lnTo>
                    <a:pt x="281" y="354"/>
                  </a:lnTo>
                  <a:lnTo>
                    <a:pt x="354" y="226"/>
                  </a:lnTo>
                  <a:lnTo>
                    <a:pt x="304" y="240"/>
                  </a:lnTo>
                  <a:lnTo>
                    <a:pt x="304" y="226"/>
                  </a:lnTo>
                  <a:lnTo>
                    <a:pt x="302" y="225"/>
                  </a:lnTo>
                  <a:lnTo>
                    <a:pt x="302" y="216"/>
                  </a:lnTo>
                  <a:lnTo>
                    <a:pt x="301" y="213"/>
                  </a:lnTo>
                  <a:lnTo>
                    <a:pt x="301" y="211"/>
                  </a:lnTo>
                  <a:lnTo>
                    <a:pt x="299" y="208"/>
                  </a:lnTo>
                  <a:lnTo>
                    <a:pt x="299" y="205"/>
                  </a:lnTo>
                  <a:lnTo>
                    <a:pt x="297" y="201"/>
                  </a:lnTo>
                  <a:lnTo>
                    <a:pt x="297" y="200"/>
                  </a:lnTo>
                  <a:lnTo>
                    <a:pt x="296" y="196"/>
                  </a:lnTo>
                  <a:lnTo>
                    <a:pt x="294" y="193"/>
                  </a:lnTo>
                  <a:lnTo>
                    <a:pt x="292" y="190"/>
                  </a:lnTo>
                  <a:lnTo>
                    <a:pt x="292" y="186"/>
                  </a:lnTo>
                  <a:lnTo>
                    <a:pt x="291" y="183"/>
                  </a:lnTo>
                  <a:lnTo>
                    <a:pt x="289" y="180"/>
                  </a:lnTo>
                  <a:lnTo>
                    <a:pt x="287" y="176"/>
                  </a:lnTo>
                  <a:lnTo>
                    <a:pt x="286" y="173"/>
                  </a:lnTo>
                  <a:lnTo>
                    <a:pt x="284" y="170"/>
                  </a:lnTo>
                  <a:lnTo>
                    <a:pt x="282" y="166"/>
                  </a:lnTo>
                  <a:lnTo>
                    <a:pt x="281" y="163"/>
                  </a:lnTo>
                  <a:lnTo>
                    <a:pt x="279" y="160"/>
                  </a:lnTo>
                  <a:lnTo>
                    <a:pt x="276" y="157"/>
                  </a:lnTo>
                  <a:lnTo>
                    <a:pt x="274" y="153"/>
                  </a:lnTo>
                  <a:lnTo>
                    <a:pt x="273" y="148"/>
                  </a:lnTo>
                  <a:lnTo>
                    <a:pt x="269" y="145"/>
                  </a:lnTo>
                  <a:lnTo>
                    <a:pt x="268" y="142"/>
                  </a:lnTo>
                  <a:lnTo>
                    <a:pt x="266" y="138"/>
                  </a:lnTo>
                  <a:lnTo>
                    <a:pt x="263" y="133"/>
                  </a:lnTo>
                  <a:lnTo>
                    <a:pt x="261" y="130"/>
                  </a:lnTo>
                  <a:lnTo>
                    <a:pt x="258" y="127"/>
                  </a:lnTo>
                  <a:lnTo>
                    <a:pt x="254" y="122"/>
                  </a:lnTo>
                  <a:lnTo>
                    <a:pt x="253" y="118"/>
                  </a:lnTo>
                  <a:lnTo>
                    <a:pt x="249" y="115"/>
                  </a:lnTo>
                  <a:lnTo>
                    <a:pt x="246" y="110"/>
                  </a:lnTo>
                  <a:lnTo>
                    <a:pt x="243" y="107"/>
                  </a:lnTo>
                  <a:lnTo>
                    <a:pt x="239" y="102"/>
                  </a:lnTo>
                  <a:lnTo>
                    <a:pt x="238" y="98"/>
                  </a:lnTo>
                  <a:lnTo>
                    <a:pt x="234" y="93"/>
                  </a:lnTo>
                  <a:lnTo>
                    <a:pt x="231" y="90"/>
                  </a:lnTo>
                  <a:lnTo>
                    <a:pt x="228" y="85"/>
                  </a:lnTo>
                  <a:lnTo>
                    <a:pt x="224" y="80"/>
                  </a:lnTo>
                  <a:lnTo>
                    <a:pt x="219" y="77"/>
                  </a:lnTo>
                  <a:lnTo>
                    <a:pt x="216" y="72"/>
                  </a:lnTo>
                  <a:lnTo>
                    <a:pt x="213" y="67"/>
                  </a:lnTo>
                  <a:lnTo>
                    <a:pt x="204" y="59"/>
                  </a:lnTo>
                  <a:lnTo>
                    <a:pt x="201" y="54"/>
                  </a:lnTo>
                  <a:lnTo>
                    <a:pt x="198" y="49"/>
                  </a:lnTo>
                  <a:lnTo>
                    <a:pt x="193" y="45"/>
                  </a:lnTo>
                  <a:lnTo>
                    <a:pt x="190" y="40"/>
                  </a:lnTo>
                  <a:lnTo>
                    <a:pt x="185" y="35"/>
                  </a:lnTo>
                  <a:lnTo>
                    <a:pt x="181" y="30"/>
                  </a:lnTo>
                  <a:lnTo>
                    <a:pt x="166" y="15"/>
                  </a:lnTo>
                  <a:lnTo>
                    <a:pt x="163" y="10"/>
                  </a:lnTo>
                  <a:lnTo>
                    <a:pt x="153" y="0"/>
                  </a:lnTo>
                  <a:lnTo>
                    <a:pt x="136" y="5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5237640" y="313380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More Bits/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5237280" y="334152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in Multi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5236560" y="354204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785320" y="4159080"/>
              <a:ext cx="150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Higher Radio Frequenci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785680" y="4359600"/>
              <a:ext cx="107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der Channel B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5270760" y="534672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5270040" y="5554440"/>
              <a:ext cx="65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All-Pur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5270040" y="575604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i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6" name=""/>
          <p:cNvSpPr/>
          <p:nvPr/>
        </p:nvSpPr>
        <p:spPr>
          <a:xfrm>
            <a:off x="3157560" y="6119640"/>
            <a:ext cx="283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-Bandwidth Wireles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7" name=""/>
          <p:cNvGrpSpPr/>
          <p:nvPr/>
        </p:nvGrpSpPr>
        <p:grpSpPr>
          <a:xfrm>
            <a:off x="2720880" y="2033640"/>
            <a:ext cx="3647520" cy="3961800"/>
            <a:chOff x="2720880" y="2033640"/>
            <a:chExt cx="3647520" cy="3961800"/>
          </a:xfrm>
        </p:grpSpPr>
        <p:sp>
          <p:nvSpPr>
            <p:cNvPr id="6368" name=""/>
            <p:cNvSpPr/>
            <p:nvPr/>
          </p:nvSpPr>
          <p:spPr>
            <a:xfrm>
              <a:off x="2790360" y="2072880"/>
              <a:ext cx="3578040" cy="39225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720880" y="2033640"/>
              <a:ext cx="3568680" cy="385524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3103560" y="2938320"/>
              <a:ext cx="86292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3978720" y="2938320"/>
              <a:ext cx="85356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4835160" y="2938320"/>
              <a:ext cx="97956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3277080" y="296856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3191760" y="310932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3228840" y="325656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175280" y="294732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094640" y="309420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102920" y="32378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852080" y="297756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961520" y="312480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087880" y="327168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3994560" y="4867560"/>
              <a:ext cx="1880640" cy="561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103560" y="2430720"/>
              <a:ext cx="86292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3978720" y="2430720"/>
              <a:ext cx="85356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4835160" y="2430720"/>
              <a:ext cx="97956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3270960" y="24548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3188880" y="260208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3222360" y="274896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175280" y="24494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094640" y="259560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102920" y="274536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852080" y="249156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4961520" y="263880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5087880" y="278568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3103560" y="3430440"/>
              <a:ext cx="86292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3978720" y="3430440"/>
              <a:ext cx="85356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4835160" y="3430440"/>
              <a:ext cx="97956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286800" y="345456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204720" y="36018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244680" y="3745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4175280" y="34610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94640" y="360792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102920" y="37486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4852080" y="3491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961520" y="363852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087880" y="37854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073040" y="5008320"/>
              <a:ext cx="140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-Coverage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4444920" y="515484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847600" y="351036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942280" y="351036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847600" y="300888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942280" y="300888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847600" y="251676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942280" y="251676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847600" y="4992480"/>
              <a:ext cx="211320" cy="14400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942280" y="4992480"/>
              <a:ext cx="179640" cy="23292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3566160" y="2103480"/>
              <a:ext cx="137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ique Radio Design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3564360" y="2293560"/>
              <a:ext cx="111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ch Radio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3103560" y="4867560"/>
              <a:ext cx="862920" cy="561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206160" y="5014080"/>
              <a:ext cx="61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nd-Ag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229560" y="51609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211280" y="4084920"/>
              <a:ext cx="71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ingle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4210560" y="42714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latform 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4209840" y="445428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for Multi-Band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4211280" y="464436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Multi-Mode 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3593160" y="3745080"/>
              <a:ext cx="518760" cy="1109880"/>
            </a:xfrm>
            <a:custGeom>
              <a:avLst/>
              <a:gdLst/>
              <a:ahLst/>
              <a:rect l="l" t="t" r="r" b="b"/>
              <a:pathLst>
                <a:path w="147" h="334">
                  <a:moveTo>
                    <a:pt x="101" y="0"/>
                  </a:moveTo>
                  <a:lnTo>
                    <a:pt x="99" y="6"/>
                  </a:lnTo>
                  <a:lnTo>
                    <a:pt x="99" y="11"/>
                  </a:lnTo>
                  <a:lnTo>
                    <a:pt x="98" y="18"/>
                  </a:lnTo>
                  <a:lnTo>
                    <a:pt x="98" y="30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4" y="56"/>
                  </a:lnTo>
                  <a:lnTo>
                    <a:pt x="93" y="61"/>
                  </a:lnTo>
                  <a:lnTo>
                    <a:pt x="93" y="73"/>
                  </a:lnTo>
                  <a:lnTo>
                    <a:pt x="91" y="78"/>
                  </a:lnTo>
                  <a:lnTo>
                    <a:pt x="91" y="93"/>
                  </a:lnTo>
                  <a:lnTo>
                    <a:pt x="89" y="98"/>
                  </a:lnTo>
                  <a:lnTo>
                    <a:pt x="89" y="169"/>
                  </a:lnTo>
                  <a:lnTo>
                    <a:pt x="91" y="172"/>
                  </a:lnTo>
                  <a:lnTo>
                    <a:pt x="91" y="182"/>
                  </a:lnTo>
                  <a:lnTo>
                    <a:pt x="93" y="186"/>
                  </a:lnTo>
                  <a:lnTo>
                    <a:pt x="93" y="196"/>
                  </a:lnTo>
                  <a:lnTo>
                    <a:pt x="94" y="199"/>
                  </a:lnTo>
                  <a:lnTo>
                    <a:pt x="94" y="202"/>
                  </a:lnTo>
                  <a:lnTo>
                    <a:pt x="96" y="204"/>
                  </a:lnTo>
                  <a:lnTo>
                    <a:pt x="96" y="211"/>
                  </a:lnTo>
                  <a:lnTo>
                    <a:pt x="98" y="212"/>
                  </a:lnTo>
                  <a:lnTo>
                    <a:pt x="98" y="216"/>
                  </a:lnTo>
                  <a:lnTo>
                    <a:pt x="99" y="219"/>
                  </a:lnTo>
                  <a:lnTo>
                    <a:pt x="99" y="221"/>
                  </a:lnTo>
                  <a:lnTo>
                    <a:pt x="101" y="224"/>
                  </a:lnTo>
                  <a:lnTo>
                    <a:pt x="101" y="226"/>
                  </a:lnTo>
                  <a:lnTo>
                    <a:pt x="102" y="227"/>
                  </a:lnTo>
                  <a:lnTo>
                    <a:pt x="104" y="231"/>
                  </a:lnTo>
                  <a:lnTo>
                    <a:pt x="104" y="232"/>
                  </a:lnTo>
                  <a:lnTo>
                    <a:pt x="106" y="234"/>
                  </a:lnTo>
                  <a:lnTo>
                    <a:pt x="106" y="236"/>
                  </a:lnTo>
                  <a:lnTo>
                    <a:pt x="107" y="239"/>
                  </a:lnTo>
                  <a:lnTo>
                    <a:pt x="111" y="242"/>
                  </a:lnTo>
                  <a:lnTo>
                    <a:pt x="111" y="244"/>
                  </a:lnTo>
                  <a:lnTo>
                    <a:pt x="112" y="245"/>
                  </a:lnTo>
                  <a:lnTo>
                    <a:pt x="147" y="226"/>
                  </a:lnTo>
                  <a:lnTo>
                    <a:pt x="126" y="334"/>
                  </a:lnTo>
                  <a:lnTo>
                    <a:pt x="15" y="304"/>
                  </a:lnTo>
                  <a:lnTo>
                    <a:pt x="48" y="282"/>
                  </a:lnTo>
                  <a:lnTo>
                    <a:pt x="49" y="284"/>
                  </a:lnTo>
                  <a:lnTo>
                    <a:pt x="41" y="275"/>
                  </a:lnTo>
                  <a:lnTo>
                    <a:pt x="41" y="274"/>
                  </a:lnTo>
                  <a:lnTo>
                    <a:pt x="38" y="270"/>
                  </a:lnTo>
                  <a:lnTo>
                    <a:pt x="38" y="269"/>
                  </a:lnTo>
                  <a:lnTo>
                    <a:pt x="36" y="267"/>
                  </a:lnTo>
                  <a:lnTo>
                    <a:pt x="34" y="264"/>
                  </a:lnTo>
                  <a:lnTo>
                    <a:pt x="34" y="262"/>
                  </a:lnTo>
                  <a:lnTo>
                    <a:pt x="31" y="259"/>
                  </a:lnTo>
                  <a:lnTo>
                    <a:pt x="31" y="255"/>
                  </a:lnTo>
                  <a:lnTo>
                    <a:pt x="29" y="254"/>
                  </a:lnTo>
                  <a:lnTo>
                    <a:pt x="29" y="250"/>
                  </a:lnTo>
                  <a:lnTo>
                    <a:pt x="28" y="249"/>
                  </a:lnTo>
                  <a:lnTo>
                    <a:pt x="26" y="245"/>
                  </a:lnTo>
                  <a:lnTo>
                    <a:pt x="26" y="244"/>
                  </a:lnTo>
                  <a:lnTo>
                    <a:pt x="24" y="241"/>
                  </a:lnTo>
                  <a:lnTo>
                    <a:pt x="24" y="239"/>
                  </a:lnTo>
                  <a:lnTo>
                    <a:pt x="23" y="236"/>
                  </a:lnTo>
                  <a:lnTo>
                    <a:pt x="23" y="232"/>
                  </a:lnTo>
                  <a:lnTo>
                    <a:pt x="21" y="229"/>
                  </a:lnTo>
                  <a:lnTo>
                    <a:pt x="19" y="227"/>
                  </a:lnTo>
                  <a:lnTo>
                    <a:pt x="19" y="224"/>
                  </a:lnTo>
                  <a:lnTo>
                    <a:pt x="18" y="221"/>
                  </a:lnTo>
                  <a:lnTo>
                    <a:pt x="18" y="217"/>
                  </a:lnTo>
                  <a:lnTo>
                    <a:pt x="16" y="214"/>
                  </a:lnTo>
                  <a:lnTo>
                    <a:pt x="16" y="207"/>
                  </a:lnTo>
                  <a:lnTo>
                    <a:pt x="15" y="204"/>
                  </a:lnTo>
                  <a:lnTo>
                    <a:pt x="15" y="201"/>
                  </a:lnTo>
                  <a:lnTo>
                    <a:pt x="13" y="197"/>
                  </a:lnTo>
                  <a:lnTo>
                    <a:pt x="13" y="192"/>
                  </a:lnTo>
                  <a:lnTo>
                    <a:pt x="11" y="189"/>
                  </a:lnTo>
                  <a:lnTo>
                    <a:pt x="11" y="181"/>
                  </a:lnTo>
                  <a:lnTo>
                    <a:pt x="10" y="177"/>
                  </a:lnTo>
                  <a:lnTo>
                    <a:pt x="10" y="174"/>
                  </a:lnTo>
                  <a:lnTo>
                    <a:pt x="8" y="169"/>
                  </a:lnTo>
                  <a:lnTo>
                    <a:pt x="8" y="161"/>
                  </a:lnTo>
                  <a:lnTo>
                    <a:pt x="6" y="157"/>
                  </a:lnTo>
                  <a:lnTo>
                    <a:pt x="6" y="148"/>
                  </a:lnTo>
                  <a:lnTo>
                    <a:pt x="5" y="144"/>
                  </a:lnTo>
                  <a:lnTo>
                    <a:pt x="5" y="129"/>
                  </a:lnTo>
                  <a:lnTo>
                    <a:pt x="3" y="124"/>
                  </a:lnTo>
                  <a:lnTo>
                    <a:pt x="3" y="109"/>
                  </a:lnTo>
                  <a:lnTo>
                    <a:pt x="1" y="104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1" y="9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7" name=""/>
          <p:cNvSpPr/>
          <p:nvPr/>
        </p:nvSpPr>
        <p:spPr>
          <a:xfrm>
            <a:off x="2989800" y="6073920"/>
            <a:ext cx="30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Band, Multi-Mode Radio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3034440" y="6051600"/>
            <a:ext cx="309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-Intelligence Wireless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5" name=""/>
          <p:cNvGrpSpPr/>
          <p:nvPr/>
        </p:nvGrpSpPr>
        <p:grpSpPr>
          <a:xfrm>
            <a:off x="2773440" y="1990800"/>
            <a:ext cx="3652200" cy="3934440"/>
            <a:chOff x="2773440" y="1990800"/>
            <a:chExt cx="3652200" cy="3934440"/>
          </a:xfrm>
        </p:grpSpPr>
        <p:sp>
          <p:nvSpPr>
            <p:cNvPr id="6436" name=""/>
            <p:cNvSpPr/>
            <p:nvPr/>
          </p:nvSpPr>
          <p:spPr>
            <a:xfrm>
              <a:off x="2873160" y="2073240"/>
              <a:ext cx="3552480" cy="385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773440" y="1990800"/>
              <a:ext cx="3562920" cy="382608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3776040" y="5413320"/>
              <a:ext cx="164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Distributed Adaptive Wirel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74960" y="5613480"/>
              <a:ext cx="168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Network Processing &amp;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747960" y="2148480"/>
              <a:ext cx="115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entralized Wirel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46160" y="2348640"/>
              <a:ext cx="168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etwork Processing &amp;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4436280" y="2535120"/>
              <a:ext cx="622080" cy="964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141720" y="2355120"/>
              <a:ext cx="443520" cy="3202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603240" y="2942280"/>
              <a:ext cx="833040" cy="1479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5058720" y="2588040"/>
              <a:ext cx="829800" cy="6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5058720" y="2725920"/>
              <a:ext cx="829800" cy="92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5058720" y="2890080"/>
              <a:ext cx="829800" cy="8172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5058720" y="3053880"/>
              <a:ext cx="829800" cy="6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5058720" y="3198240"/>
              <a:ext cx="829800" cy="8172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5058720" y="3352320"/>
              <a:ext cx="811800" cy="824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5870880" y="2562120"/>
              <a:ext cx="16848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5870880" y="2709360"/>
              <a:ext cx="168480" cy="13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5870880" y="2860560"/>
              <a:ext cx="168480" cy="13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5870880" y="3024000"/>
              <a:ext cx="168480" cy="12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5870880" y="3188520"/>
              <a:ext cx="16848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5870880" y="3336120"/>
              <a:ext cx="168480" cy="12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5499360" y="4054680"/>
              <a:ext cx="279000" cy="219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0" y="7"/>
                  </a:moveTo>
                  <a:lnTo>
                    <a:pt x="71" y="67"/>
                  </a:lnTo>
                  <a:lnTo>
                    <a:pt x="78" y="6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5380920" y="4054680"/>
              <a:ext cx="164520" cy="459000"/>
            </a:xfrm>
            <a:custGeom>
              <a:avLst/>
              <a:gdLst/>
              <a:ahLst/>
              <a:rect l="l" t="t" r="r" b="b"/>
              <a:pathLst>
                <a:path w="46" h="140">
                  <a:moveTo>
                    <a:pt x="36" y="0"/>
                  </a:moveTo>
                  <a:lnTo>
                    <a:pt x="0" y="136"/>
                  </a:lnTo>
                  <a:lnTo>
                    <a:pt x="10" y="140"/>
                  </a:lnTo>
                  <a:lnTo>
                    <a:pt x="46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5402520" y="4615920"/>
              <a:ext cx="178200" cy="35388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0" y="4"/>
                  </a:moveTo>
                  <a:lnTo>
                    <a:pt x="40" y="108"/>
                  </a:lnTo>
                  <a:lnTo>
                    <a:pt x="50" y="105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5113080" y="4622400"/>
              <a:ext cx="321120" cy="45216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80" y="0"/>
                  </a:moveTo>
                  <a:lnTo>
                    <a:pt x="0" y="131"/>
                  </a:lnTo>
                  <a:lnTo>
                    <a:pt x="10" y="138"/>
                  </a:lnTo>
                  <a:lnTo>
                    <a:pt x="90" y="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5606280" y="4769640"/>
              <a:ext cx="486720" cy="226800"/>
            </a:xfrm>
            <a:custGeom>
              <a:avLst/>
              <a:gdLst/>
              <a:ahLst/>
              <a:rect l="l" t="t" r="r" b="b"/>
              <a:pathLst>
                <a:path w="136" h="69">
                  <a:moveTo>
                    <a:pt x="3" y="69"/>
                  </a:moveTo>
                  <a:lnTo>
                    <a:pt x="136" y="10"/>
                  </a:lnTo>
                  <a:lnTo>
                    <a:pt x="132" y="0"/>
                  </a:lnTo>
                  <a:lnTo>
                    <a:pt x="0" y="59"/>
                  </a:lnTo>
                  <a:lnTo>
                    <a:pt x="3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5456160" y="4566600"/>
              <a:ext cx="583200" cy="21924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10"/>
                  </a:moveTo>
                  <a:lnTo>
                    <a:pt x="160" y="67"/>
                  </a:lnTo>
                  <a:lnTo>
                    <a:pt x="163" y="57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5870880" y="4369320"/>
              <a:ext cx="257760" cy="36072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103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62" y="110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5456160" y="4366440"/>
              <a:ext cx="375480" cy="196920"/>
            </a:xfrm>
            <a:custGeom>
              <a:avLst/>
              <a:gdLst/>
              <a:ahLst/>
              <a:rect l="l" t="t" r="r" b="b"/>
              <a:pathLst>
                <a:path w="105" h="60">
                  <a:moveTo>
                    <a:pt x="4" y="60"/>
                  </a:moveTo>
                  <a:lnTo>
                    <a:pt x="105" y="10"/>
                  </a:lnTo>
                  <a:lnTo>
                    <a:pt x="101" y="0"/>
                  </a:lnTo>
                  <a:lnTo>
                    <a:pt x="0" y="5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5591880" y="4366440"/>
              <a:ext cx="257760" cy="61380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62" y="0"/>
                  </a:moveTo>
                  <a:lnTo>
                    <a:pt x="0" y="184"/>
                  </a:lnTo>
                  <a:lnTo>
                    <a:pt x="10" y="187"/>
                  </a:lnTo>
                  <a:lnTo>
                    <a:pt x="7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5238000" y="5013000"/>
              <a:ext cx="279000" cy="130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74" y="0"/>
                  </a:moveTo>
                  <a:lnTo>
                    <a:pt x="0" y="30"/>
                  </a:lnTo>
                  <a:lnTo>
                    <a:pt x="3" y="40"/>
                  </a:lnTo>
                  <a:lnTo>
                    <a:pt x="78" y="1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599280" y="4048200"/>
              <a:ext cx="183492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599280" y="4573440"/>
              <a:ext cx="174996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599280" y="5134320"/>
              <a:ext cx="148860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599280" y="4969800"/>
              <a:ext cx="195336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599280" y="4307760"/>
              <a:ext cx="2182320" cy="2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581280" y="4747320"/>
              <a:ext cx="247608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 rot="16200000">
              <a:off x="2949840" y="3986640"/>
              <a:ext cx="82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red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 rot="16200000">
              <a:off x="4558320" y="3026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962440" y="3461040"/>
              <a:ext cx="168480" cy="99108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4880160" y="3086640"/>
              <a:ext cx="990360" cy="902520"/>
            </a:xfrm>
            <a:custGeom>
              <a:avLst/>
              <a:gdLst/>
              <a:ahLst/>
              <a:rect l="l" t="t" r="r" b="b"/>
              <a:pathLst>
                <a:path w="277" h="275">
                  <a:moveTo>
                    <a:pt x="0" y="23"/>
                  </a:moveTo>
                  <a:lnTo>
                    <a:pt x="5" y="26"/>
                  </a:lnTo>
                  <a:lnTo>
                    <a:pt x="10" y="29"/>
                  </a:lnTo>
                  <a:lnTo>
                    <a:pt x="15" y="33"/>
                  </a:lnTo>
                  <a:lnTo>
                    <a:pt x="18" y="38"/>
                  </a:lnTo>
                  <a:lnTo>
                    <a:pt x="23" y="41"/>
                  </a:lnTo>
                  <a:lnTo>
                    <a:pt x="28" y="44"/>
                  </a:lnTo>
                  <a:lnTo>
                    <a:pt x="33" y="48"/>
                  </a:lnTo>
                  <a:lnTo>
                    <a:pt x="37" y="51"/>
                  </a:lnTo>
                  <a:lnTo>
                    <a:pt x="42" y="54"/>
                  </a:lnTo>
                  <a:lnTo>
                    <a:pt x="45" y="58"/>
                  </a:lnTo>
                  <a:lnTo>
                    <a:pt x="50" y="61"/>
                  </a:lnTo>
                  <a:lnTo>
                    <a:pt x="53" y="64"/>
                  </a:lnTo>
                  <a:lnTo>
                    <a:pt x="58" y="68"/>
                  </a:lnTo>
                  <a:lnTo>
                    <a:pt x="65" y="74"/>
                  </a:lnTo>
                  <a:lnTo>
                    <a:pt x="70" y="78"/>
                  </a:lnTo>
                  <a:lnTo>
                    <a:pt x="80" y="88"/>
                  </a:lnTo>
                  <a:lnTo>
                    <a:pt x="83" y="89"/>
                  </a:lnTo>
                  <a:lnTo>
                    <a:pt x="100" y="106"/>
                  </a:lnTo>
                  <a:lnTo>
                    <a:pt x="103" y="107"/>
                  </a:lnTo>
                  <a:lnTo>
                    <a:pt x="106" y="111"/>
                  </a:lnTo>
                  <a:lnTo>
                    <a:pt x="108" y="114"/>
                  </a:lnTo>
                  <a:lnTo>
                    <a:pt x="125" y="131"/>
                  </a:lnTo>
                  <a:lnTo>
                    <a:pt x="126" y="134"/>
                  </a:lnTo>
                  <a:lnTo>
                    <a:pt x="135" y="142"/>
                  </a:lnTo>
                  <a:lnTo>
                    <a:pt x="136" y="146"/>
                  </a:lnTo>
                  <a:lnTo>
                    <a:pt x="138" y="147"/>
                  </a:lnTo>
                  <a:lnTo>
                    <a:pt x="140" y="151"/>
                  </a:lnTo>
                  <a:lnTo>
                    <a:pt x="141" y="154"/>
                  </a:lnTo>
                  <a:lnTo>
                    <a:pt x="145" y="156"/>
                  </a:lnTo>
                  <a:lnTo>
                    <a:pt x="146" y="159"/>
                  </a:lnTo>
                  <a:lnTo>
                    <a:pt x="148" y="161"/>
                  </a:lnTo>
                  <a:lnTo>
                    <a:pt x="150" y="164"/>
                  </a:lnTo>
                  <a:lnTo>
                    <a:pt x="151" y="166"/>
                  </a:lnTo>
                  <a:lnTo>
                    <a:pt x="153" y="169"/>
                  </a:lnTo>
                  <a:lnTo>
                    <a:pt x="153" y="171"/>
                  </a:lnTo>
                  <a:lnTo>
                    <a:pt x="155" y="174"/>
                  </a:lnTo>
                  <a:lnTo>
                    <a:pt x="156" y="176"/>
                  </a:lnTo>
                  <a:lnTo>
                    <a:pt x="158" y="179"/>
                  </a:lnTo>
                  <a:lnTo>
                    <a:pt x="158" y="181"/>
                  </a:lnTo>
                  <a:lnTo>
                    <a:pt x="160" y="184"/>
                  </a:lnTo>
                  <a:lnTo>
                    <a:pt x="161" y="186"/>
                  </a:lnTo>
                  <a:lnTo>
                    <a:pt x="161" y="187"/>
                  </a:lnTo>
                  <a:lnTo>
                    <a:pt x="163" y="191"/>
                  </a:lnTo>
                  <a:lnTo>
                    <a:pt x="163" y="192"/>
                  </a:lnTo>
                  <a:lnTo>
                    <a:pt x="165" y="194"/>
                  </a:lnTo>
                  <a:lnTo>
                    <a:pt x="165" y="199"/>
                  </a:lnTo>
                  <a:lnTo>
                    <a:pt x="166" y="200"/>
                  </a:lnTo>
                  <a:lnTo>
                    <a:pt x="166" y="205"/>
                  </a:lnTo>
                  <a:lnTo>
                    <a:pt x="128" y="215"/>
                  </a:lnTo>
                  <a:lnTo>
                    <a:pt x="219" y="275"/>
                  </a:lnTo>
                  <a:lnTo>
                    <a:pt x="277" y="176"/>
                  </a:lnTo>
                  <a:lnTo>
                    <a:pt x="238" y="187"/>
                  </a:lnTo>
                  <a:lnTo>
                    <a:pt x="238" y="176"/>
                  </a:lnTo>
                  <a:lnTo>
                    <a:pt x="236" y="174"/>
                  </a:lnTo>
                  <a:lnTo>
                    <a:pt x="236" y="167"/>
                  </a:lnTo>
                  <a:lnTo>
                    <a:pt x="234" y="166"/>
                  </a:lnTo>
                  <a:lnTo>
                    <a:pt x="234" y="161"/>
                  </a:lnTo>
                  <a:lnTo>
                    <a:pt x="233" y="157"/>
                  </a:lnTo>
                  <a:lnTo>
                    <a:pt x="233" y="156"/>
                  </a:lnTo>
                  <a:lnTo>
                    <a:pt x="231" y="154"/>
                  </a:lnTo>
                  <a:lnTo>
                    <a:pt x="231" y="151"/>
                  </a:lnTo>
                  <a:lnTo>
                    <a:pt x="229" y="149"/>
                  </a:lnTo>
                  <a:lnTo>
                    <a:pt x="228" y="146"/>
                  </a:lnTo>
                  <a:lnTo>
                    <a:pt x="228" y="144"/>
                  </a:lnTo>
                  <a:lnTo>
                    <a:pt x="226" y="141"/>
                  </a:lnTo>
                  <a:lnTo>
                    <a:pt x="224" y="139"/>
                  </a:lnTo>
                  <a:lnTo>
                    <a:pt x="224" y="136"/>
                  </a:lnTo>
                  <a:lnTo>
                    <a:pt x="223" y="132"/>
                  </a:lnTo>
                  <a:lnTo>
                    <a:pt x="221" y="131"/>
                  </a:lnTo>
                  <a:lnTo>
                    <a:pt x="219" y="127"/>
                  </a:lnTo>
                  <a:lnTo>
                    <a:pt x="218" y="126"/>
                  </a:lnTo>
                  <a:lnTo>
                    <a:pt x="216" y="122"/>
                  </a:lnTo>
                  <a:lnTo>
                    <a:pt x="214" y="119"/>
                  </a:lnTo>
                  <a:lnTo>
                    <a:pt x="213" y="116"/>
                  </a:lnTo>
                  <a:lnTo>
                    <a:pt x="211" y="114"/>
                  </a:lnTo>
                  <a:lnTo>
                    <a:pt x="209" y="111"/>
                  </a:lnTo>
                  <a:lnTo>
                    <a:pt x="208" y="107"/>
                  </a:lnTo>
                  <a:lnTo>
                    <a:pt x="206" y="104"/>
                  </a:lnTo>
                  <a:lnTo>
                    <a:pt x="201" y="99"/>
                  </a:lnTo>
                  <a:lnTo>
                    <a:pt x="199" y="96"/>
                  </a:lnTo>
                  <a:lnTo>
                    <a:pt x="198" y="93"/>
                  </a:lnTo>
                  <a:lnTo>
                    <a:pt x="194" y="89"/>
                  </a:lnTo>
                  <a:lnTo>
                    <a:pt x="193" y="86"/>
                  </a:lnTo>
                  <a:lnTo>
                    <a:pt x="191" y="83"/>
                  </a:lnTo>
                  <a:lnTo>
                    <a:pt x="188" y="79"/>
                  </a:lnTo>
                  <a:lnTo>
                    <a:pt x="186" y="76"/>
                  </a:lnTo>
                  <a:lnTo>
                    <a:pt x="183" y="73"/>
                  </a:lnTo>
                  <a:lnTo>
                    <a:pt x="181" y="69"/>
                  </a:lnTo>
                  <a:lnTo>
                    <a:pt x="174" y="63"/>
                  </a:lnTo>
                  <a:lnTo>
                    <a:pt x="173" y="59"/>
                  </a:lnTo>
                  <a:lnTo>
                    <a:pt x="163" y="49"/>
                  </a:lnTo>
                  <a:lnTo>
                    <a:pt x="161" y="46"/>
                  </a:lnTo>
                  <a:lnTo>
                    <a:pt x="158" y="41"/>
                  </a:lnTo>
                  <a:lnTo>
                    <a:pt x="148" y="31"/>
                  </a:lnTo>
                  <a:lnTo>
                    <a:pt x="145" y="26"/>
                  </a:lnTo>
                  <a:lnTo>
                    <a:pt x="135" y="16"/>
                  </a:lnTo>
                  <a:lnTo>
                    <a:pt x="131" y="11"/>
                  </a:lnTo>
                  <a:lnTo>
                    <a:pt x="126" y="8"/>
                  </a:lnTo>
                  <a:lnTo>
                    <a:pt x="123" y="3"/>
                  </a:lnTo>
                  <a:lnTo>
                    <a:pt x="120" y="0"/>
                  </a:lnTo>
                  <a:lnTo>
                    <a:pt x="106" y="4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5416560" y="3963240"/>
              <a:ext cx="146520" cy="1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5771160" y="4261680"/>
              <a:ext cx="149760" cy="1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6039720" y="4713840"/>
              <a:ext cx="160560" cy="12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5535000" y="4960440"/>
              <a:ext cx="146520" cy="13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5069880" y="5068800"/>
              <a:ext cx="16776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5327280" y="4507920"/>
              <a:ext cx="146520" cy="1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4135320" y="3325680"/>
            <a:ext cx="5040" cy="142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303720" y="3213000"/>
            <a:ext cx="13320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2750040" y="6081840"/>
            <a:ext cx="36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acity/Quality Increases Via Adaptive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9" name=""/>
          <p:cNvGrpSpPr/>
          <p:nvPr/>
        </p:nvGrpSpPr>
        <p:grpSpPr>
          <a:xfrm>
            <a:off x="2724120" y="2046240"/>
            <a:ext cx="3671280" cy="3977280"/>
            <a:chOff x="2724120" y="2046240"/>
            <a:chExt cx="3671280" cy="3977280"/>
          </a:xfrm>
        </p:grpSpPr>
        <p:sp>
          <p:nvSpPr>
            <p:cNvPr id="6490" name=""/>
            <p:cNvSpPr/>
            <p:nvPr/>
          </p:nvSpPr>
          <p:spPr>
            <a:xfrm>
              <a:off x="2817000" y="2089800"/>
              <a:ext cx="3578400" cy="3933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724120" y="2046240"/>
              <a:ext cx="3579120" cy="386856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290040" y="2071800"/>
              <a:ext cx="621000" cy="583200"/>
            </a:xfrm>
            <a:prstGeom prst="ellipse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252960" y="2103840"/>
              <a:ext cx="705960" cy="540360"/>
            </a:xfrm>
            <a:custGeom>
              <a:avLst/>
              <a:gdLst/>
              <a:ahLst/>
              <a:rect l="l" t="t" r="r" b="b"/>
              <a:pathLst>
                <a:path w="193" h="161">
                  <a:moveTo>
                    <a:pt x="59" y="9"/>
                  </a:moveTo>
                  <a:lnTo>
                    <a:pt x="54" y="10"/>
                  </a:lnTo>
                  <a:lnTo>
                    <a:pt x="142" y="10"/>
                  </a:lnTo>
                  <a:lnTo>
                    <a:pt x="137" y="9"/>
                  </a:lnTo>
                  <a:lnTo>
                    <a:pt x="183" y="80"/>
                  </a:lnTo>
                  <a:lnTo>
                    <a:pt x="183" y="73"/>
                  </a:lnTo>
                  <a:lnTo>
                    <a:pt x="137" y="153"/>
                  </a:lnTo>
                  <a:lnTo>
                    <a:pt x="142" y="151"/>
                  </a:lnTo>
                  <a:lnTo>
                    <a:pt x="54" y="151"/>
                  </a:lnTo>
                  <a:lnTo>
                    <a:pt x="57" y="153"/>
                  </a:lnTo>
                  <a:lnTo>
                    <a:pt x="9" y="82"/>
                  </a:lnTo>
                  <a:lnTo>
                    <a:pt x="10" y="88"/>
                  </a:lnTo>
                  <a:lnTo>
                    <a:pt x="59" y="9"/>
                  </a:lnTo>
                  <a:lnTo>
                    <a:pt x="49" y="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50" y="160"/>
                  </a:lnTo>
                  <a:lnTo>
                    <a:pt x="50" y="161"/>
                  </a:lnTo>
                  <a:lnTo>
                    <a:pt x="143" y="161"/>
                  </a:lnTo>
                  <a:lnTo>
                    <a:pt x="145" y="160"/>
                  </a:lnTo>
                  <a:lnTo>
                    <a:pt x="146" y="160"/>
                  </a:lnTo>
                  <a:lnTo>
                    <a:pt x="193" y="80"/>
                  </a:lnTo>
                  <a:lnTo>
                    <a:pt x="193" y="73"/>
                  </a:lnTo>
                  <a:lnTo>
                    <a:pt x="146" y="2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755880" y="2349000"/>
              <a:ext cx="702360" cy="528840"/>
            </a:xfrm>
            <a:custGeom>
              <a:avLst/>
              <a:gdLst/>
              <a:ahLst/>
              <a:rect l="l" t="t" r="r" b="b"/>
              <a:pathLst>
                <a:path w="192" h="158">
                  <a:moveTo>
                    <a:pt x="56" y="9"/>
                  </a:moveTo>
                  <a:lnTo>
                    <a:pt x="51" y="10"/>
                  </a:lnTo>
                  <a:lnTo>
                    <a:pt x="139" y="10"/>
                  </a:lnTo>
                  <a:lnTo>
                    <a:pt x="136" y="9"/>
                  </a:lnTo>
                  <a:lnTo>
                    <a:pt x="184" y="78"/>
                  </a:lnTo>
                  <a:lnTo>
                    <a:pt x="182" y="72"/>
                  </a:lnTo>
                  <a:lnTo>
                    <a:pt x="134" y="150"/>
                  </a:lnTo>
                  <a:lnTo>
                    <a:pt x="139" y="148"/>
                  </a:lnTo>
                  <a:lnTo>
                    <a:pt x="51" y="148"/>
                  </a:lnTo>
                  <a:lnTo>
                    <a:pt x="54" y="150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141" y="15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92" y="78"/>
                  </a:lnTo>
                  <a:lnTo>
                    <a:pt x="192" y="73"/>
                  </a:lnTo>
                  <a:lnTo>
                    <a:pt x="190" y="7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49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252960" y="2611440"/>
              <a:ext cx="705960" cy="532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59" y="9"/>
                  </a:moveTo>
                  <a:lnTo>
                    <a:pt x="54" y="10"/>
                  </a:lnTo>
                  <a:lnTo>
                    <a:pt x="142" y="10"/>
                  </a:lnTo>
                  <a:lnTo>
                    <a:pt x="138" y="9"/>
                  </a:lnTo>
                  <a:lnTo>
                    <a:pt x="185" y="79"/>
                  </a:lnTo>
                  <a:lnTo>
                    <a:pt x="183" y="72"/>
                  </a:lnTo>
                  <a:lnTo>
                    <a:pt x="137" y="152"/>
                  </a:lnTo>
                  <a:lnTo>
                    <a:pt x="142" y="150"/>
                  </a:lnTo>
                  <a:lnTo>
                    <a:pt x="54" y="150"/>
                  </a:lnTo>
                  <a:lnTo>
                    <a:pt x="57" y="152"/>
                  </a:lnTo>
                  <a:lnTo>
                    <a:pt x="9" y="80"/>
                  </a:lnTo>
                  <a:lnTo>
                    <a:pt x="10" y="87"/>
                  </a:lnTo>
                  <a:lnTo>
                    <a:pt x="59" y="9"/>
                  </a:lnTo>
                  <a:lnTo>
                    <a:pt x="49" y="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87"/>
                  </a:lnTo>
                  <a:lnTo>
                    <a:pt x="50" y="158"/>
                  </a:lnTo>
                  <a:lnTo>
                    <a:pt x="50" y="160"/>
                  </a:lnTo>
                  <a:lnTo>
                    <a:pt x="143" y="160"/>
                  </a:lnTo>
                  <a:lnTo>
                    <a:pt x="145" y="158"/>
                  </a:lnTo>
                  <a:lnTo>
                    <a:pt x="146" y="158"/>
                  </a:lnTo>
                  <a:lnTo>
                    <a:pt x="193" y="79"/>
                  </a:lnTo>
                  <a:lnTo>
                    <a:pt x="193" y="74"/>
                  </a:lnTo>
                  <a:lnTo>
                    <a:pt x="191" y="72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988440" y="4254480"/>
              <a:ext cx="610200" cy="56196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4506480" y="3589560"/>
              <a:ext cx="609480" cy="55116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5585400" y="4487760"/>
              <a:ext cx="606960" cy="55440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4776480" y="4651560"/>
              <a:ext cx="1249200" cy="734040"/>
            </a:xfrm>
            <a:custGeom>
              <a:avLst/>
              <a:gdLst/>
              <a:ahLst/>
              <a:rect l="l" t="t" r="r" b="b"/>
              <a:pathLst>
                <a:path w="341" h="219">
                  <a:moveTo>
                    <a:pt x="4" y="206"/>
                  </a:moveTo>
                  <a:lnTo>
                    <a:pt x="14" y="214"/>
                  </a:lnTo>
                  <a:lnTo>
                    <a:pt x="30" y="219"/>
                  </a:lnTo>
                  <a:lnTo>
                    <a:pt x="50" y="219"/>
                  </a:lnTo>
                  <a:lnTo>
                    <a:pt x="75" y="215"/>
                  </a:lnTo>
                  <a:lnTo>
                    <a:pt x="103" y="209"/>
                  </a:lnTo>
                  <a:lnTo>
                    <a:pt x="135" y="197"/>
                  </a:lnTo>
                  <a:lnTo>
                    <a:pt x="168" y="182"/>
                  </a:lnTo>
                  <a:lnTo>
                    <a:pt x="203" y="164"/>
                  </a:lnTo>
                  <a:lnTo>
                    <a:pt x="236" y="144"/>
                  </a:lnTo>
                  <a:lnTo>
                    <a:pt x="264" y="122"/>
                  </a:lnTo>
                  <a:lnTo>
                    <a:pt x="291" y="101"/>
                  </a:lnTo>
                  <a:lnTo>
                    <a:pt x="311" y="79"/>
                  </a:lnTo>
                  <a:lnTo>
                    <a:pt x="327" y="59"/>
                  </a:lnTo>
                  <a:lnTo>
                    <a:pt x="337" y="41"/>
                  </a:lnTo>
                  <a:lnTo>
                    <a:pt x="341" y="26"/>
                  </a:lnTo>
                  <a:lnTo>
                    <a:pt x="337" y="13"/>
                  </a:lnTo>
                  <a:lnTo>
                    <a:pt x="327" y="5"/>
                  </a:lnTo>
                  <a:lnTo>
                    <a:pt x="312" y="0"/>
                  </a:lnTo>
                  <a:lnTo>
                    <a:pt x="291" y="0"/>
                  </a:lnTo>
                  <a:lnTo>
                    <a:pt x="266" y="3"/>
                  </a:lnTo>
                  <a:lnTo>
                    <a:pt x="238" y="10"/>
                  </a:lnTo>
                  <a:lnTo>
                    <a:pt x="206" y="21"/>
                  </a:lnTo>
                  <a:lnTo>
                    <a:pt x="173" y="36"/>
                  </a:lnTo>
                  <a:lnTo>
                    <a:pt x="138" y="54"/>
                  </a:lnTo>
                  <a:lnTo>
                    <a:pt x="105" y="74"/>
                  </a:lnTo>
                  <a:lnTo>
                    <a:pt x="77" y="96"/>
                  </a:lnTo>
                  <a:lnTo>
                    <a:pt x="50" y="117"/>
                  </a:lnTo>
                  <a:lnTo>
                    <a:pt x="30" y="139"/>
                  </a:lnTo>
                  <a:lnTo>
                    <a:pt x="14" y="159"/>
                  </a:lnTo>
                  <a:lnTo>
                    <a:pt x="4" y="177"/>
                  </a:lnTo>
                  <a:lnTo>
                    <a:pt x="0" y="192"/>
                  </a:lnTo>
                  <a:lnTo>
                    <a:pt x="4" y="206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5630040" y="4899960"/>
              <a:ext cx="395640" cy="45252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1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5"/>
                  </a:lnTo>
                  <a:lnTo>
                    <a:pt x="6" y="135"/>
                  </a:lnTo>
                  <a:lnTo>
                    <a:pt x="1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1" y="2"/>
                  </a:lnTo>
                  <a:lnTo>
                    <a:pt x="6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5641560" y="4889160"/>
              <a:ext cx="388080" cy="452520"/>
            </a:xfrm>
            <a:custGeom>
              <a:avLst/>
              <a:gdLst/>
              <a:ahLst/>
              <a:rect l="l" t="t" r="r" b="b"/>
              <a:pathLst>
                <a:path w="106" h="135">
                  <a:moveTo>
                    <a:pt x="100" y="0"/>
                  </a:moveTo>
                  <a:lnTo>
                    <a:pt x="105" y="2"/>
                  </a:lnTo>
                  <a:lnTo>
                    <a:pt x="106" y="7"/>
                  </a:lnTo>
                  <a:lnTo>
                    <a:pt x="106" y="128"/>
                  </a:lnTo>
                  <a:lnTo>
                    <a:pt x="105" y="133"/>
                  </a:lnTo>
                  <a:lnTo>
                    <a:pt x="100" y="135"/>
                  </a:lnTo>
                  <a:lnTo>
                    <a:pt x="5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5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5686200" y="4922280"/>
              <a:ext cx="306720" cy="33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5686200" y="4928760"/>
              <a:ext cx="302400" cy="328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5707800" y="4947120"/>
              <a:ext cx="262080" cy="160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5737320" y="4980240"/>
              <a:ext cx="48600" cy="982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5785920" y="5013360"/>
              <a:ext cx="55080" cy="65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5841360" y="5034960"/>
              <a:ext cx="47520" cy="435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5888880" y="5057280"/>
              <a:ext cx="47520" cy="21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5853240" y="49802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5888880" y="5275800"/>
              <a:ext cx="9216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5907600" y="5275800"/>
              <a:ext cx="7344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5796720" y="5275800"/>
              <a:ext cx="8100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5796720" y="5275800"/>
              <a:ext cx="8100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5678640" y="5275800"/>
              <a:ext cx="8856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5697000" y="5275800"/>
              <a:ext cx="7020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5712480" y="512604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5713200" y="51516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5712480" y="517392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5712480" y="520272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712480" y="522540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5925960" y="5112000"/>
              <a:ext cx="154800" cy="1562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34"/>
                  </a:moveTo>
                  <a:lnTo>
                    <a:pt x="7" y="40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40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30" y="19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3" y="35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5796720" y="5078880"/>
              <a:ext cx="165960" cy="1569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5" y="0"/>
                  </a:moveTo>
                  <a:lnTo>
                    <a:pt x="5" y="2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45" y="42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5944320" y="4757760"/>
              <a:ext cx="3960" cy="10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4236480" y="4418280"/>
              <a:ext cx="691560" cy="970560"/>
            </a:xfrm>
            <a:custGeom>
              <a:avLst/>
              <a:gdLst/>
              <a:ahLst/>
              <a:rect l="l" t="t" r="r" b="b"/>
              <a:pathLst>
                <a:path w="189" h="290">
                  <a:moveTo>
                    <a:pt x="11" y="3"/>
                  </a:moveTo>
                  <a:lnTo>
                    <a:pt x="3" y="11"/>
                  </a:lnTo>
                  <a:lnTo>
                    <a:pt x="0" y="25"/>
                  </a:lnTo>
                  <a:lnTo>
                    <a:pt x="0" y="43"/>
                  </a:lnTo>
                  <a:lnTo>
                    <a:pt x="3" y="63"/>
                  </a:lnTo>
                  <a:lnTo>
                    <a:pt x="10" y="88"/>
                  </a:lnTo>
                  <a:lnTo>
                    <a:pt x="20" y="114"/>
                  </a:lnTo>
                  <a:lnTo>
                    <a:pt x="31" y="143"/>
                  </a:lnTo>
                  <a:lnTo>
                    <a:pt x="48" y="173"/>
                  </a:lnTo>
                  <a:lnTo>
                    <a:pt x="64" y="201"/>
                  </a:lnTo>
                  <a:lnTo>
                    <a:pt x="83" y="226"/>
                  </a:lnTo>
                  <a:lnTo>
                    <a:pt x="101" y="247"/>
                  </a:lnTo>
                  <a:lnTo>
                    <a:pt x="119" y="266"/>
                  </a:lnTo>
                  <a:lnTo>
                    <a:pt x="136" y="279"/>
                  </a:lnTo>
                  <a:lnTo>
                    <a:pt x="151" y="287"/>
                  </a:lnTo>
                  <a:lnTo>
                    <a:pt x="164" y="290"/>
                  </a:lnTo>
                  <a:lnTo>
                    <a:pt x="176" y="287"/>
                  </a:lnTo>
                  <a:lnTo>
                    <a:pt x="184" y="279"/>
                  </a:lnTo>
                  <a:lnTo>
                    <a:pt x="187" y="266"/>
                  </a:lnTo>
                  <a:lnTo>
                    <a:pt x="189" y="247"/>
                  </a:lnTo>
                  <a:lnTo>
                    <a:pt x="186" y="226"/>
                  </a:lnTo>
                  <a:lnTo>
                    <a:pt x="179" y="202"/>
                  </a:lnTo>
                  <a:lnTo>
                    <a:pt x="169" y="176"/>
                  </a:lnTo>
                  <a:lnTo>
                    <a:pt x="157" y="148"/>
                  </a:lnTo>
                  <a:lnTo>
                    <a:pt x="141" y="118"/>
                  </a:lnTo>
                  <a:lnTo>
                    <a:pt x="124" y="90"/>
                  </a:lnTo>
                  <a:lnTo>
                    <a:pt x="106" y="65"/>
                  </a:lnTo>
                  <a:lnTo>
                    <a:pt x="88" y="43"/>
                  </a:lnTo>
                  <a:lnTo>
                    <a:pt x="69" y="26"/>
                  </a:lnTo>
                  <a:lnTo>
                    <a:pt x="53" y="11"/>
                  </a:lnTo>
                  <a:lnTo>
                    <a:pt x="36" y="3"/>
                  </a:lnTo>
                  <a:lnTo>
                    <a:pt x="23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988440" y="464076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2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2" y="135"/>
                  </a:lnTo>
                  <a:lnTo>
                    <a:pt x="7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996000" y="462996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1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4"/>
                  </a:lnTo>
                  <a:lnTo>
                    <a:pt x="7" y="134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044600" y="4669920"/>
              <a:ext cx="309960" cy="328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044600" y="4673880"/>
              <a:ext cx="302400" cy="3243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070520" y="4687920"/>
              <a:ext cx="258120" cy="15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4099680" y="4721040"/>
              <a:ext cx="47520" cy="950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4147560" y="4757760"/>
              <a:ext cx="55080" cy="58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4203000" y="4780080"/>
              <a:ext cx="51840" cy="363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4254840" y="4801320"/>
              <a:ext cx="47520" cy="14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4219200" y="47246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4266000" y="5013360"/>
              <a:ext cx="8856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4155120" y="5013360"/>
              <a:ext cx="9216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4051080" y="5013360"/>
              <a:ext cx="9288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4074480" y="486684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4075200" y="48924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4074840" y="491832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4074120" y="494064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4074480" y="496944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4291920" y="4848480"/>
              <a:ext cx="147240" cy="1569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34"/>
                  </a:moveTo>
                  <a:lnTo>
                    <a:pt x="6" y="40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29" y="47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3" y="0"/>
                  </a:lnTo>
                  <a:lnTo>
                    <a:pt x="23" y="4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9" y="19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3" y="29"/>
                  </a:lnTo>
                  <a:lnTo>
                    <a:pt x="29" y="32"/>
                  </a:lnTo>
                  <a:lnTo>
                    <a:pt x="29" y="34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4162680" y="4822920"/>
              <a:ext cx="165960" cy="14976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5" y="0"/>
                  </a:moveTo>
                  <a:lnTo>
                    <a:pt x="5" y="2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45" y="42"/>
                  </a:lnTo>
                  <a:lnTo>
                    <a:pt x="45" y="38"/>
                  </a:lnTo>
                  <a:lnTo>
                    <a:pt x="43" y="38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4310280" y="4501800"/>
              <a:ext cx="3960" cy="10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4617000" y="3713760"/>
              <a:ext cx="395640" cy="1656720"/>
            </a:xfrm>
            <a:custGeom>
              <a:avLst/>
              <a:gdLst/>
              <a:ahLst/>
              <a:rect l="l" t="t" r="r" b="b"/>
              <a:pathLst>
                <a:path w="108" h="496">
                  <a:moveTo>
                    <a:pt x="55" y="0"/>
                  </a:moveTo>
                  <a:lnTo>
                    <a:pt x="50" y="2"/>
                  </a:lnTo>
                  <a:lnTo>
                    <a:pt x="43" y="5"/>
                  </a:lnTo>
                  <a:lnTo>
                    <a:pt x="33" y="20"/>
                  </a:lnTo>
                  <a:lnTo>
                    <a:pt x="25" y="43"/>
                  </a:lnTo>
                  <a:lnTo>
                    <a:pt x="17" y="73"/>
                  </a:lnTo>
                  <a:lnTo>
                    <a:pt x="10" y="110"/>
                  </a:lnTo>
                  <a:lnTo>
                    <a:pt x="5" y="153"/>
                  </a:lnTo>
                  <a:lnTo>
                    <a:pt x="2" y="199"/>
                  </a:lnTo>
                  <a:lnTo>
                    <a:pt x="0" y="249"/>
                  </a:lnTo>
                  <a:lnTo>
                    <a:pt x="2" y="299"/>
                  </a:lnTo>
                  <a:lnTo>
                    <a:pt x="5" y="345"/>
                  </a:lnTo>
                  <a:lnTo>
                    <a:pt x="10" y="387"/>
                  </a:lnTo>
                  <a:lnTo>
                    <a:pt x="17" y="423"/>
                  </a:lnTo>
                  <a:lnTo>
                    <a:pt x="25" y="453"/>
                  </a:lnTo>
                  <a:lnTo>
                    <a:pt x="33" y="477"/>
                  </a:lnTo>
                  <a:lnTo>
                    <a:pt x="43" y="491"/>
                  </a:lnTo>
                  <a:lnTo>
                    <a:pt x="50" y="495"/>
                  </a:lnTo>
                  <a:lnTo>
                    <a:pt x="55" y="496"/>
                  </a:lnTo>
                  <a:lnTo>
                    <a:pt x="60" y="495"/>
                  </a:lnTo>
                  <a:lnTo>
                    <a:pt x="67" y="491"/>
                  </a:lnTo>
                  <a:lnTo>
                    <a:pt x="77" y="477"/>
                  </a:lnTo>
                  <a:lnTo>
                    <a:pt x="85" y="453"/>
                  </a:lnTo>
                  <a:lnTo>
                    <a:pt x="93" y="423"/>
                  </a:lnTo>
                  <a:lnTo>
                    <a:pt x="100" y="387"/>
                  </a:lnTo>
                  <a:lnTo>
                    <a:pt x="105" y="345"/>
                  </a:lnTo>
                  <a:lnTo>
                    <a:pt x="106" y="299"/>
                  </a:lnTo>
                  <a:lnTo>
                    <a:pt x="108" y="249"/>
                  </a:lnTo>
                  <a:lnTo>
                    <a:pt x="106" y="199"/>
                  </a:lnTo>
                  <a:lnTo>
                    <a:pt x="105" y="153"/>
                  </a:lnTo>
                  <a:lnTo>
                    <a:pt x="100" y="110"/>
                  </a:lnTo>
                  <a:lnTo>
                    <a:pt x="93" y="73"/>
                  </a:lnTo>
                  <a:lnTo>
                    <a:pt x="85" y="43"/>
                  </a:lnTo>
                  <a:lnTo>
                    <a:pt x="77" y="20"/>
                  </a:lnTo>
                  <a:lnTo>
                    <a:pt x="67" y="5"/>
                  </a:lnTo>
                  <a:lnTo>
                    <a:pt x="60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4488120" y="394380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2" y="0"/>
                  </a:moveTo>
                  <a:lnTo>
                    <a:pt x="107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7" y="133"/>
                  </a:lnTo>
                  <a:lnTo>
                    <a:pt x="102" y="135"/>
                  </a:lnTo>
                  <a:lnTo>
                    <a:pt x="7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4502160" y="3933360"/>
              <a:ext cx="395640" cy="4449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1" y="0"/>
                  </a:moveTo>
                  <a:lnTo>
                    <a:pt x="106" y="1"/>
                  </a:lnTo>
                  <a:lnTo>
                    <a:pt x="108" y="6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4"/>
                  </a:lnTo>
                  <a:lnTo>
                    <a:pt x="6" y="134"/>
                  </a:lnTo>
                  <a:lnTo>
                    <a:pt x="1" y="133"/>
                  </a:lnTo>
                  <a:lnTo>
                    <a:pt x="0" y="128"/>
                  </a:lnTo>
                  <a:lnTo>
                    <a:pt x="0" y="6"/>
                  </a:lnTo>
                  <a:lnTo>
                    <a:pt x="1" y="1"/>
                  </a:lnTo>
                  <a:lnTo>
                    <a:pt x="6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4543200" y="3965400"/>
              <a:ext cx="317520" cy="331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4543200" y="3976200"/>
              <a:ext cx="309960" cy="321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4577040" y="3990960"/>
              <a:ext cx="250560" cy="153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4598640" y="4020120"/>
              <a:ext cx="51840" cy="982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4650840" y="4060800"/>
              <a:ext cx="51840" cy="57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4702680" y="4082040"/>
              <a:ext cx="55080" cy="363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4758120" y="4100400"/>
              <a:ext cx="47520" cy="18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4716720" y="402768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4765680" y="4319640"/>
              <a:ext cx="7704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4765680" y="4319640"/>
              <a:ext cx="8784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4661640" y="4319640"/>
              <a:ext cx="7344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4661640" y="4319640"/>
              <a:ext cx="9216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4550760" y="4319640"/>
              <a:ext cx="8100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4550760" y="4319640"/>
              <a:ext cx="9216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4577760" y="416988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578480" y="41922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577760" y="422136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577400" y="424260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577760" y="426852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790520" y="4151880"/>
              <a:ext cx="155880" cy="1569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33"/>
                  </a:moveTo>
                  <a:lnTo>
                    <a:pt x="7" y="40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15" y="45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30" y="47"/>
                  </a:lnTo>
                  <a:lnTo>
                    <a:pt x="32" y="45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4" y="0"/>
                  </a:lnTo>
                  <a:lnTo>
                    <a:pt x="24" y="3"/>
                  </a:lnTo>
                  <a:lnTo>
                    <a:pt x="25" y="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30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30" y="33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29" y="35"/>
                  </a:lnTo>
                  <a:lnTo>
                    <a:pt x="27" y="37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19" y="35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661640" y="4125960"/>
              <a:ext cx="165960" cy="1497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5" y="0"/>
                  </a:moveTo>
                  <a:lnTo>
                    <a:pt x="5" y="1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46" y="38"/>
                  </a:lnTo>
                  <a:lnTo>
                    <a:pt x="43" y="38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805640" y="3797280"/>
              <a:ext cx="3240" cy="11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4092120" y="5677200"/>
              <a:ext cx="1267560" cy="138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4173120" y="5713560"/>
              <a:ext cx="651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tenna Process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4092120" y="5443560"/>
              <a:ext cx="23616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4365720" y="5443560"/>
              <a:ext cx="21456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4632120" y="5443560"/>
              <a:ext cx="21024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4883760" y="5443560"/>
              <a:ext cx="21348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5131080" y="5443560"/>
              <a:ext cx="22860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4081320" y="5210280"/>
              <a:ext cx="221040" cy="101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4192200" y="5210280"/>
              <a:ext cx="324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436212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1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4476960" y="5210280"/>
              <a:ext cx="324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624560" y="5210280"/>
              <a:ext cx="22212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0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473544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489060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1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500544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515376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30" y="3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526032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481920" y="2253960"/>
              <a:ext cx="229680" cy="9504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30" y="29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593520" y="2253960"/>
              <a:ext cx="3240" cy="23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869560" y="372132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Adap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868120" y="3918240"/>
              <a:ext cx="105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Array Anten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870640" y="412596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for Maximiz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869200" y="43272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Frequ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870640" y="45316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Re-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667320" y="2709720"/>
              <a:ext cx="1017000" cy="93096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0" y="24"/>
                  </a:moveTo>
                  <a:lnTo>
                    <a:pt x="5" y="27"/>
                  </a:lnTo>
                  <a:lnTo>
                    <a:pt x="10" y="30"/>
                  </a:lnTo>
                  <a:lnTo>
                    <a:pt x="15" y="34"/>
                  </a:lnTo>
                  <a:lnTo>
                    <a:pt x="19" y="39"/>
                  </a:lnTo>
                  <a:lnTo>
                    <a:pt x="24" y="42"/>
                  </a:lnTo>
                  <a:lnTo>
                    <a:pt x="29" y="45"/>
                  </a:lnTo>
                  <a:lnTo>
                    <a:pt x="33" y="49"/>
                  </a:lnTo>
                  <a:lnTo>
                    <a:pt x="37" y="52"/>
                  </a:lnTo>
                  <a:lnTo>
                    <a:pt x="42" y="55"/>
                  </a:lnTo>
                  <a:lnTo>
                    <a:pt x="45" y="58"/>
                  </a:lnTo>
                  <a:lnTo>
                    <a:pt x="50" y="62"/>
                  </a:lnTo>
                  <a:lnTo>
                    <a:pt x="53" y="65"/>
                  </a:lnTo>
                  <a:lnTo>
                    <a:pt x="58" y="68"/>
                  </a:lnTo>
                  <a:lnTo>
                    <a:pt x="65" y="75"/>
                  </a:lnTo>
                  <a:lnTo>
                    <a:pt x="70" y="78"/>
                  </a:lnTo>
                  <a:lnTo>
                    <a:pt x="80" y="88"/>
                  </a:lnTo>
                  <a:lnTo>
                    <a:pt x="83" y="90"/>
                  </a:lnTo>
                  <a:lnTo>
                    <a:pt x="100" y="107"/>
                  </a:lnTo>
                  <a:lnTo>
                    <a:pt x="103" y="108"/>
                  </a:lnTo>
                  <a:lnTo>
                    <a:pt x="107" y="112"/>
                  </a:lnTo>
                  <a:lnTo>
                    <a:pt x="108" y="115"/>
                  </a:lnTo>
                  <a:lnTo>
                    <a:pt x="125" y="132"/>
                  </a:lnTo>
                  <a:lnTo>
                    <a:pt x="126" y="135"/>
                  </a:lnTo>
                  <a:lnTo>
                    <a:pt x="135" y="143"/>
                  </a:lnTo>
                  <a:lnTo>
                    <a:pt x="136" y="146"/>
                  </a:lnTo>
                  <a:lnTo>
                    <a:pt x="138" y="148"/>
                  </a:lnTo>
                  <a:lnTo>
                    <a:pt x="140" y="151"/>
                  </a:lnTo>
                  <a:lnTo>
                    <a:pt x="141" y="155"/>
                  </a:lnTo>
                  <a:lnTo>
                    <a:pt x="145" y="156"/>
                  </a:lnTo>
                  <a:lnTo>
                    <a:pt x="146" y="160"/>
                  </a:lnTo>
                  <a:lnTo>
                    <a:pt x="148" y="161"/>
                  </a:lnTo>
                  <a:lnTo>
                    <a:pt x="150" y="165"/>
                  </a:lnTo>
                  <a:lnTo>
                    <a:pt x="151" y="166"/>
                  </a:lnTo>
                  <a:lnTo>
                    <a:pt x="153" y="170"/>
                  </a:lnTo>
                  <a:lnTo>
                    <a:pt x="153" y="171"/>
                  </a:lnTo>
                  <a:lnTo>
                    <a:pt x="155" y="175"/>
                  </a:lnTo>
                  <a:lnTo>
                    <a:pt x="156" y="176"/>
                  </a:lnTo>
                  <a:lnTo>
                    <a:pt x="158" y="180"/>
                  </a:lnTo>
                  <a:lnTo>
                    <a:pt x="158" y="181"/>
                  </a:lnTo>
                  <a:lnTo>
                    <a:pt x="160" y="185"/>
                  </a:lnTo>
                  <a:lnTo>
                    <a:pt x="161" y="186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3" y="193"/>
                  </a:lnTo>
                  <a:lnTo>
                    <a:pt x="165" y="195"/>
                  </a:lnTo>
                  <a:lnTo>
                    <a:pt x="165" y="200"/>
                  </a:lnTo>
                  <a:lnTo>
                    <a:pt x="166" y="201"/>
                  </a:lnTo>
                  <a:lnTo>
                    <a:pt x="166" y="206"/>
                  </a:lnTo>
                  <a:lnTo>
                    <a:pt x="166" y="208"/>
                  </a:lnTo>
                  <a:lnTo>
                    <a:pt x="128" y="218"/>
                  </a:lnTo>
                  <a:lnTo>
                    <a:pt x="219" y="279"/>
                  </a:lnTo>
                  <a:lnTo>
                    <a:pt x="277" y="180"/>
                  </a:lnTo>
                  <a:lnTo>
                    <a:pt x="238" y="188"/>
                  </a:lnTo>
                  <a:lnTo>
                    <a:pt x="238" y="176"/>
                  </a:lnTo>
                  <a:lnTo>
                    <a:pt x="236" y="175"/>
                  </a:lnTo>
                  <a:lnTo>
                    <a:pt x="236" y="168"/>
                  </a:lnTo>
                  <a:lnTo>
                    <a:pt x="234" y="166"/>
                  </a:lnTo>
                  <a:lnTo>
                    <a:pt x="234" y="161"/>
                  </a:lnTo>
                  <a:lnTo>
                    <a:pt x="233" y="160"/>
                  </a:lnTo>
                  <a:lnTo>
                    <a:pt x="233" y="158"/>
                  </a:lnTo>
                  <a:lnTo>
                    <a:pt x="231" y="155"/>
                  </a:lnTo>
                  <a:lnTo>
                    <a:pt x="231" y="153"/>
                  </a:lnTo>
                  <a:lnTo>
                    <a:pt x="229" y="151"/>
                  </a:lnTo>
                  <a:lnTo>
                    <a:pt x="228" y="148"/>
                  </a:lnTo>
                  <a:lnTo>
                    <a:pt x="228" y="146"/>
                  </a:lnTo>
                  <a:lnTo>
                    <a:pt x="226" y="143"/>
                  </a:lnTo>
                  <a:lnTo>
                    <a:pt x="224" y="142"/>
                  </a:lnTo>
                  <a:lnTo>
                    <a:pt x="224" y="138"/>
                  </a:lnTo>
                  <a:lnTo>
                    <a:pt x="223" y="135"/>
                  </a:lnTo>
                  <a:lnTo>
                    <a:pt x="221" y="133"/>
                  </a:lnTo>
                  <a:lnTo>
                    <a:pt x="219" y="130"/>
                  </a:lnTo>
                  <a:lnTo>
                    <a:pt x="218" y="128"/>
                  </a:lnTo>
                  <a:lnTo>
                    <a:pt x="216" y="125"/>
                  </a:lnTo>
                  <a:lnTo>
                    <a:pt x="214" y="122"/>
                  </a:lnTo>
                  <a:lnTo>
                    <a:pt x="213" y="118"/>
                  </a:lnTo>
                  <a:lnTo>
                    <a:pt x="211" y="117"/>
                  </a:lnTo>
                  <a:lnTo>
                    <a:pt x="209" y="113"/>
                  </a:lnTo>
                  <a:lnTo>
                    <a:pt x="208" y="110"/>
                  </a:lnTo>
                  <a:lnTo>
                    <a:pt x="206" y="107"/>
                  </a:lnTo>
                  <a:lnTo>
                    <a:pt x="201" y="102"/>
                  </a:lnTo>
                  <a:lnTo>
                    <a:pt x="199" y="98"/>
                  </a:lnTo>
                  <a:lnTo>
                    <a:pt x="198" y="95"/>
                  </a:lnTo>
                  <a:lnTo>
                    <a:pt x="194" y="92"/>
                  </a:lnTo>
                  <a:lnTo>
                    <a:pt x="193" y="88"/>
                  </a:lnTo>
                  <a:lnTo>
                    <a:pt x="191" y="85"/>
                  </a:lnTo>
                  <a:lnTo>
                    <a:pt x="188" y="82"/>
                  </a:lnTo>
                  <a:lnTo>
                    <a:pt x="186" y="78"/>
                  </a:lnTo>
                  <a:lnTo>
                    <a:pt x="183" y="75"/>
                  </a:lnTo>
                  <a:lnTo>
                    <a:pt x="181" y="72"/>
                  </a:lnTo>
                  <a:lnTo>
                    <a:pt x="175" y="65"/>
                  </a:lnTo>
                  <a:lnTo>
                    <a:pt x="173" y="62"/>
                  </a:lnTo>
                  <a:lnTo>
                    <a:pt x="166" y="55"/>
                  </a:lnTo>
                  <a:lnTo>
                    <a:pt x="163" y="50"/>
                  </a:lnTo>
                  <a:lnTo>
                    <a:pt x="161" y="47"/>
                  </a:lnTo>
                  <a:lnTo>
                    <a:pt x="155" y="40"/>
                  </a:lnTo>
                  <a:lnTo>
                    <a:pt x="151" y="35"/>
                  </a:lnTo>
                  <a:lnTo>
                    <a:pt x="141" y="25"/>
                  </a:lnTo>
                  <a:lnTo>
                    <a:pt x="138" y="20"/>
                  </a:lnTo>
                  <a:lnTo>
                    <a:pt x="135" y="17"/>
                  </a:lnTo>
                  <a:lnTo>
                    <a:pt x="131" y="12"/>
                  </a:lnTo>
                  <a:lnTo>
                    <a:pt x="126" y="9"/>
                  </a:lnTo>
                  <a:lnTo>
                    <a:pt x="123" y="4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08" y="4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559760" y="2261160"/>
              <a:ext cx="102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mni or Se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557960" y="2465640"/>
              <a:ext cx="8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tenna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559040" y="26733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nter or Edg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560480" y="287784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cited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248280" y="51591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"Beam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256920" y="536328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Repl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325680" y="55677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"Cell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14288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439092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464940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491904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517824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8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1" name=""/>
          <p:cNvGrpSpPr/>
          <p:nvPr/>
        </p:nvGrpSpPr>
        <p:grpSpPr>
          <a:xfrm>
            <a:off x="2738520" y="2008080"/>
            <a:ext cx="3690000" cy="4052160"/>
            <a:chOff x="2738520" y="2008080"/>
            <a:chExt cx="3690000" cy="4052160"/>
          </a:xfrm>
        </p:grpSpPr>
        <p:sp>
          <p:nvSpPr>
            <p:cNvPr id="6612" name=""/>
            <p:cNvSpPr/>
            <p:nvPr/>
          </p:nvSpPr>
          <p:spPr>
            <a:xfrm>
              <a:off x="2854800" y="2109240"/>
              <a:ext cx="3573720" cy="3951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738520" y="2008080"/>
              <a:ext cx="3599280" cy="395856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918960" y="2214360"/>
              <a:ext cx="145620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918960" y="2222280"/>
              <a:ext cx="1438200" cy="13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919960" y="4065840"/>
              <a:ext cx="298800" cy="44604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919960" y="4564800"/>
              <a:ext cx="298800" cy="43092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919960" y="5097240"/>
              <a:ext cx="298800" cy="44964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8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885840" y="4182480"/>
              <a:ext cx="1529640" cy="430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885840" y="4613400"/>
              <a:ext cx="1529640" cy="4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885840" y="5036760"/>
              <a:ext cx="1529640" cy="4197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885840" y="4174920"/>
              <a:ext cx="1519200" cy="127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002280" y="4115160"/>
              <a:ext cx="302040" cy="449640"/>
            </a:xfrm>
            <a:custGeom>
              <a:avLst/>
              <a:gdLst/>
              <a:ahLst/>
              <a:rect l="l" t="t" r="r" b="b"/>
              <a:pathLst>
                <a:path w="84" h="133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8"/>
                  </a:lnTo>
                  <a:lnTo>
                    <a:pt x="31" y="133"/>
                  </a:lnTo>
                  <a:lnTo>
                    <a:pt x="31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6002280" y="4605840"/>
              <a:ext cx="302040" cy="44280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6"/>
                  </a:lnTo>
                  <a:lnTo>
                    <a:pt x="31" y="131"/>
                  </a:lnTo>
                  <a:lnTo>
                    <a:pt x="31" y="111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6002280" y="5149800"/>
              <a:ext cx="302040" cy="4384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8"/>
                  </a:lnTo>
                  <a:lnTo>
                    <a:pt x="31" y="131"/>
                  </a:lnTo>
                  <a:lnTo>
                    <a:pt x="31" y="111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4006080" y="304668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ircuit-Switch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4016880" y="5603040"/>
              <a:ext cx="96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acket-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2909520" y="2053080"/>
              <a:ext cx="225360" cy="33732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3" y="17"/>
                  </a:moveTo>
                  <a:lnTo>
                    <a:pt x="25" y="17"/>
                  </a:lnTo>
                  <a:lnTo>
                    <a:pt x="25" y="0"/>
                  </a:lnTo>
                  <a:lnTo>
                    <a:pt x="63" y="52"/>
                  </a:lnTo>
                  <a:lnTo>
                    <a:pt x="25" y="101"/>
                  </a:lnTo>
                  <a:lnTo>
                    <a:pt x="25" y="86"/>
                  </a:lnTo>
                  <a:lnTo>
                    <a:pt x="0" y="86"/>
                  </a:lnTo>
                  <a:lnTo>
                    <a:pt x="0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899880" y="2488320"/>
              <a:ext cx="14536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899880" y="2484000"/>
              <a:ext cx="1446480" cy="13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899880" y="2780640"/>
              <a:ext cx="14536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899880" y="2780640"/>
              <a:ext cx="1446480" cy="13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909520" y="2390400"/>
              <a:ext cx="225360" cy="33732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0"/>
                  </a:lnTo>
                  <a:lnTo>
                    <a:pt x="25" y="100"/>
                  </a:lnTo>
                  <a:lnTo>
                    <a:pt x="25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2898720" y="2750040"/>
              <a:ext cx="225360" cy="33408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5994720" y="2041920"/>
              <a:ext cx="232920" cy="3330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5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5994720" y="2375280"/>
              <a:ext cx="232920" cy="3373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5" y="52"/>
                  </a:lnTo>
                  <a:lnTo>
                    <a:pt x="25" y="100"/>
                  </a:lnTo>
                  <a:lnTo>
                    <a:pt x="25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5984280" y="2738880"/>
              <a:ext cx="229320" cy="33732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3" y="15"/>
                  </a:moveTo>
                  <a:lnTo>
                    <a:pt x="24" y="15"/>
                  </a:lnTo>
                  <a:lnTo>
                    <a:pt x="24" y="0"/>
                  </a:lnTo>
                  <a:lnTo>
                    <a:pt x="64" y="50"/>
                  </a:lnTo>
                  <a:lnTo>
                    <a:pt x="24" y="100"/>
                  </a:lnTo>
                  <a:lnTo>
                    <a:pt x="24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739680" y="2248560"/>
              <a:ext cx="3708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739680" y="2555280"/>
              <a:ext cx="3708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739680" y="2863080"/>
              <a:ext cx="3708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5405040" y="2863080"/>
              <a:ext cx="3960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5405040" y="2555280"/>
              <a:ext cx="3960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5405040" y="2248560"/>
              <a:ext cx="3960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320640" y="2248560"/>
              <a:ext cx="4032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320640" y="2555280"/>
              <a:ext cx="403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320640" y="2863080"/>
              <a:ext cx="4032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5860080" y="2248560"/>
              <a:ext cx="6192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5860080" y="2555280"/>
              <a:ext cx="619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5860080" y="2863080"/>
              <a:ext cx="6192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386880" y="2289240"/>
              <a:ext cx="327960" cy="23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 flipV="1">
              <a:off x="3357000" y="2342160"/>
              <a:ext cx="331920" cy="23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648600" y="2304720"/>
              <a:ext cx="72360" cy="669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3" y="20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648600" y="2472840"/>
              <a:ext cx="65880" cy="669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2" y="16"/>
                  </a:moveTo>
                  <a:lnTo>
                    <a:pt x="18" y="20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390120" y="2885040"/>
              <a:ext cx="324360" cy="3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666960" y="2847960"/>
              <a:ext cx="54360" cy="669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2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517360" y="2274120"/>
              <a:ext cx="327960" cy="232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 flipV="1">
              <a:off x="5492520" y="2323080"/>
              <a:ext cx="331200" cy="228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769360" y="2307960"/>
              <a:ext cx="72360" cy="669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" y="7"/>
                  </a:moveTo>
                  <a:lnTo>
                    <a:pt x="13" y="20"/>
                  </a:lnTo>
                  <a:lnTo>
                    <a:pt x="2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5780160" y="2457720"/>
              <a:ext cx="72360" cy="63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" y="17"/>
                  </a:moveTo>
                  <a:lnTo>
                    <a:pt x="20" y="19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492520" y="2885040"/>
              <a:ext cx="323640" cy="3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5761800" y="2847960"/>
              <a:ext cx="61920" cy="669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12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463000" y="4763160"/>
              <a:ext cx="6192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553720" y="4778280"/>
              <a:ext cx="215280" cy="3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736240" y="4744440"/>
              <a:ext cx="61920" cy="75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0"/>
                  </a:moveTo>
                  <a:lnTo>
                    <a:pt x="17" y="12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5852880" y="4763160"/>
              <a:ext cx="4032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852880" y="4317480"/>
              <a:ext cx="40320" cy="37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852880" y="5333400"/>
              <a:ext cx="403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751200" y="4793760"/>
              <a:ext cx="57600" cy="33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flipH="1">
              <a:off x="3513600" y="4801320"/>
              <a:ext cx="211320" cy="3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480840" y="4767120"/>
              <a:ext cx="61920" cy="669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20"/>
                  </a:moveTo>
                  <a:lnTo>
                    <a:pt x="0" y="12"/>
                  </a:lnTo>
                  <a:lnTo>
                    <a:pt x="17" y="0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379320" y="4775040"/>
              <a:ext cx="43560" cy="4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379320" y="4328640"/>
              <a:ext cx="4356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379320" y="5352120"/>
              <a:ext cx="43560" cy="52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605040" y="3890160"/>
              <a:ext cx="2054520" cy="922320"/>
            </a:xfrm>
            <a:prstGeom prst="rect">
              <a:avLst/>
            </a:prstGeom>
            <a:noFill/>
            <a:ln w="0">
              <a:solidFill>
                <a:srgbClr val="ffff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511880" y="3211560"/>
              <a:ext cx="400320" cy="843120"/>
            </a:xfrm>
            <a:custGeom>
              <a:avLst/>
              <a:gdLst/>
              <a:ahLst/>
              <a:rect l="l" t="t" r="r" b="b"/>
              <a:pathLst>
                <a:path w="111" h="251">
                  <a:moveTo>
                    <a:pt x="5" y="0"/>
                  </a:moveTo>
                  <a:lnTo>
                    <a:pt x="6" y="5"/>
                  </a:lnTo>
                  <a:lnTo>
                    <a:pt x="8" y="8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19" y="45"/>
                  </a:lnTo>
                  <a:lnTo>
                    <a:pt x="19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8" y="76"/>
                  </a:lnTo>
                  <a:lnTo>
                    <a:pt x="28" y="80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3" y="106"/>
                  </a:lnTo>
                  <a:lnTo>
                    <a:pt x="34" y="109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36" y="156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3" y="168"/>
                  </a:lnTo>
                  <a:lnTo>
                    <a:pt x="33" y="171"/>
                  </a:lnTo>
                  <a:lnTo>
                    <a:pt x="31" y="173"/>
                  </a:lnTo>
                  <a:lnTo>
                    <a:pt x="31" y="176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8" y="181"/>
                  </a:lnTo>
                  <a:lnTo>
                    <a:pt x="28" y="182"/>
                  </a:lnTo>
                  <a:lnTo>
                    <a:pt x="0" y="174"/>
                  </a:lnTo>
                  <a:lnTo>
                    <a:pt x="31" y="251"/>
                  </a:lnTo>
                  <a:lnTo>
                    <a:pt x="111" y="214"/>
                  </a:lnTo>
                  <a:lnTo>
                    <a:pt x="81" y="202"/>
                  </a:lnTo>
                  <a:lnTo>
                    <a:pt x="81" y="201"/>
                  </a:lnTo>
                  <a:lnTo>
                    <a:pt x="83" y="201"/>
                  </a:lnTo>
                  <a:lnTo>
                    <a:pt x="83" y="199"/>
                  </a:lnTo>
                  <a:lnTo>
                    <a:pt x="84" y="197"/>
                  </a:lnTo>
                  <a:lnTo>
                    <a:pt x="84" y="196"/>
                  </a:lnTo>
                  <a:lnTo>
                    <a:pt x="86" y="194"/>
                  </a:lnTo>
                  <a:lnTo>
                    <a:pt x="86" y="192"/>
                  </a:lnTo>
                  <a:lnTo>
                    <a:pt x="88" y="191"/>
                  </a:lnTo>
                  <a:lnTo>
                    <a:pt x="88" y="189"/>
                  </a:lnTo>
                  <a:lnTo>
                    <a:pt x="89" y="187"/>
                  </a:lnTo>
                  <a:lnTo>
                    <a:pt x="89" y="184"/>
                  </a:lnTo>
                  <a:lnTo>
                    <a:pt x="91" y="182"/>
                  </a:lnTo>
                  <a:lnTo>
                    <a:pt x="91" y="176"/>
                  </a:lnTo>
                  <a:lnTo>
                    <a:pt x="92" y="174"/>
                  </a:lnTo>
                  <a:lnTo>
                    <a:pt x="92" y="168"/>
                  </a:lnTo>
                  <a:lnTo>
                    <a:pt x="94" y="166"/>
                  </a:lnTo>
                  <a:lnTo>
                    <a:pt x="94" y="154"/>
                  </a:lnTo>
                  <a:lnTo>
                    <a:pt x="96" y="153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4" y="76"/>
                  </a:lnTo>
                  <a:lnTo>
                    <a:pt x="92" y="71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61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6" name=""/>
          <p:cNvSpPr/>
          <p:nvPr/>
        </p:nvSpPr>
        <p:spPr>
          <a:xfrm>
            <a:off x="2537280" y="6137280"/>
            <a:ext cx="403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ed-Circuit and Packet Mode Depending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0" name=""/>
          <p:cNvGrpSpPr/>
          <p:nvPr/>
        </p:nvGrpSpPr>
        <p:grpSpPr>
          <a:xfrm>
            <a:off x="2738520" y="2008080"/>
            <a:ext cx="3690720" cy="4052880"/>
            <a:chOff x="2738520" y="2008080"/>
            <a:chExt cx="3690720" cy="4052880"/>
          </a:xfrm>
        </p:grpSpPr>
        <p:sp>
          <p:nvSpPr>
            <p:cNvPr id="6681" name=""/>
            <p:cNvSpPr/>
            <p:nvPr/>
          </p:nvSpPr>
          <p:spPr>
            <a:xfrm>
              <a:off x="2854440" y="2109960"/>
              <a:ext cx="3574800" cy="3951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2738520" y="2008080"/>
              <a:ext cx="3600360" cy="395928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5637240" y="2546280"/>
              <a:ext cx="298440" cy="43020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49720" y="2500200"/>
              <a:ext cx="298440" cy="44928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8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886200" y="4173480"/>
              <a:ext cx="1521000" cy="273240"/>
            </a:xfrm>
            <a:prstGeom prst="rect">
              <a:avLst/>
            </a:prstGeom>
            <a:solidFill>
              <a:srgbClr val="a79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 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887640" y="444492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670200" y="445284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4513320" y="3211560"/>
              <a:ext cx="399960" cy="842760"/>
            </a:xfrm>
            <a:custGeom>
              <a:avLst/>
              <a:gdLst/>
              <a:ahLst/>
              <a:rect l="l" t="t" r="r" b="b"/>
              <a:pathLst>
                <a:path w="111" h="251">
                  <a:moveTo>
                    <a:pt x="5" y="0"/>
                  </a:moveTo>
                  <a:lnTo>
                    <a:pt x="6" y="5"/>
                  </a:lnTo>
                  <a:lnTo>
                    <a:pt x="8" y="8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19" y="45"/>
                  </a:lnTo>
                  <a:lnTo>
                    <a:pt x="19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8" y="76"/>
                  </a:lnTo>
                  <a:lnTo>
                    <a:pt x="28" y="80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3" y="106"/>
                  </a:lnTo>
                  <a:lnTo>
                    <a:pt x="34" y="109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36" y="156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3" y="168"/>
                  </a:lnTo>
                  <a:lnTo>
                    <a:pt x="33" y="171"/>
                  </a:lnTo>
                  <a:lnTo>
                    <a:pt x="31" y="173"/>
                  </a:lnTo>
                  <a:lnTo>
                    <a:pt x="31" y="176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8" y="181"/>
                  </a:lnTo>
                  <a:lnTo>
                    <a:pt x="28" y="182"/>
                  </a:lnTo>
                  <a:lnTo>
                    <a:pt x="0" y="174"/>
                  </a:lnTo>
                  <a:lnTo>
                    <a:pt x="31" y="251"/>
                  </a:lnTo>
                  <a:lnTo>
                    <a:pt x="111" y="214"/>
                  </a:lnTo>
                  <a:lnTo>
                    <a:pt x="81" y="202"/>
                  </a:lnTo>
                  <a:lnTo>
                    <a:pt x="81" y="201"/>
                  </a:lnTo>
                  <a:lnTo>
                    <a:pt x="83" y="201"/>
                  </a:lnTo>
                  <a:lnTo>
                    <a:pt x="83" y="199"/>
                  </a:lnTo>
                  <a:lnTo>
                    <a:pt x="84" y="197"/>
                  </a:lnTo>
                  <a:lnTo>
                    <a:pt x="84" y="196"/>
                  </a:lnTo>
                  <a:lnTo>
                    <a:pt x="86" y="194"/>
                  </a:lnTo>
                  <a:lnTo>
                    <a:pt x="86" y="192"/>
                  </a:lnTo>
                  <a:lnTo>
                    <a:pt x="88" y="191"/>
                  </a:lnTo>
                  <a:lnTo>
                    <a:pt x="88" y="189"/>
                  </a:lnTo>
                  <a:lnTo>
                    <a:pt x="89" y="187"/>
                  </a:lnTo>
                  <a:lnTo>
                    <a:pt x="89" y="184"/>
                  </a:lnTo>
                  <a:lnTo>
                    <a:pt x="91" y="182"/>
                  </a:lnTo>
                  <a:lnTo>
                    <a:pt x="91" y="176"/>
                  </a:lnTo>
                  <a:lnTo>
                    <a:pt x="92" y="174"/>
                  </a:lnTo>
                  <a:lnTo>
                    <a:pt x="92" y="168"/>
                  </a:lnTo>
                  <a:lnTo>
                    <a:pt x="94" y="166"/>
                  </a:lnTo>
                  <a:lnTo>
                    <a:pt x="94" y="154"/>
                  </a:lnTo>
                  <a:lnTo>
                    <a:pt x="96" y="153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4" y="76"/>
                  </a:lnTo>
                  <a:lnTo>
                    <a:pt x="92" y="71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61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657600" y="2400480"/>
              <a:ext cx="1841400" cy="749160"/>
            </a:xfrm>
            <a:prstGeom prst="rect">
              <a:avLst/>
            </a:prstGeom>
            <a:solidFill>
              <a:srgbClr val="ad7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s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prie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889440" y="4635360"/>
              <a:ext cx="15159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32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889440" y="4829040"/>
              <a:ext cx="15192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887640" y="502272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EEE802.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887640" y="521640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886200" y="4175280"/>
              <a:ext cx="1519200" cy="1228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3672000" y="464832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3683160" y="484344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3686040" y="503856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3697200" y="523080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5504040" y="4410000"/>
              <a:ext cx="529920" cy="102096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0" name=""/>
          <p:cNvSpPr/>
          <p:nvPr/>
        </p:nvSpPr>
        <p:spPr>
          <a:xfrm>
            <a:off x="3480840" y="6072840"/>
            <a:ext cx="20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Interface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1" name="" descr=""/>
          <p:cNvPicPr/>
          <p:nvPr/>
        </p:nvPicPr>
        <p:blipFill>
          <a:blip r:embed="rId1"/>
          <a:stretch/>
        </p:blipFill>
        <p:spPr>
          <a:xfrm>
            <a:off x="1433520" y="1542960"/>
            <a:ext cx="6138720" cy="4525920"/>
          </a:xfrm>
          <a:prstGeom prst="rect">
            <a:avLst/>
          </a:prstGeom>
          <a:ln w="0">
            <a:noFill/>
          </a:ln>
        </p:spPr>
      </p:pic>
      <p:sp>
        <p:nvSpPr>
          <p:cNvPr id="6702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urrent Indoor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333440" y="1689120"/>
            <a:ext cx="6693120" cy="876240"/>
            <a:chOff x="1333440" y="1689120"/>
            <a:chExt cx="6693120" cy="876240"/>
          </a:xfrm>
        </p:grpSpPr>
        <p:sp>
          <p:nvSpPr>
            <p:cNvPr id="133" name=""/>
            <p:cNvSpPr/>
            <p:nvPr/>
          </p:nvSpPr>
          <p:spPr>
            <a:xfrm>
              <a:off x="1397160" y="176544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33440" y="168912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374840" y="1779480"/>
            <a:ext cx="6419880" cy="580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Congress passed the Telecommunications Act, Long distance carriers permitted local access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08240" y="2793960"/>
            <a:ext cx="6692760" cy="876240"/>
            <a:chOff x="1308240" y="2793960"/>
            <a:chExt cx="6692760" cy="876240"/>
          </a:xfrm>
        </p:grpSpPr>
        <p:sp>
          <p:nvSpPr>
            <p:cNvPr id="137" name=""/>
            <p:cNvSpPr/>
            <p:nvPr/>
          </p:nvSpPr>
          <p:spPr>
            <a:xfrm>
              <a:off x="1371600" y="287028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8240" y="2793960"/>
              <a:ext cx="662940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373040" y="2909880"/>
            <a:ext cx="6336000" cy="580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-1999 Local exchange companies block long distance carriers access to thei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82680" y="3860640"/>
            <a:ext cx="6769080" cy="876600"/>
            <a:chOff x="1282680" y="3860640"/>
            <a:chExt cx="6769080" cy="876600"/>
          </a:xfrm>
        </p:grpSpPr>
        <p:sp>
          <p:nvSpPr>
            <p:cNvPr id="141" name=""/>
            <p:cNvSpPr/>
            <p:nvPr/>
          </p:nvSpPr>
          <p:spPr>
            <a:xfrm>
              <a:off x="1422360" y="3936960"/>
              <a:ext cx="6629400" cy="800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2680" y="3860640"/>
              <a:ext cx="670572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07960" y="4047840"/>
            <a:ext cx="630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8 AT&amp;T purchased Tele-Communications Incorpor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5003640"/>
            <a:ext cx="6794640" cy="914400"/>
            <a:chOff x="1295280" y="5003640"/>
            <a:chExt cx="6794640" cy="914400"/>
          </a:xfrm>
        </p:grpSpPr>
        <p:sp>
          <p:nvSpPr>
            <p:cNvPr id="145" name=""/>
            <p:cNvSpPr/>
            <p:nvPr/>
          </p:nvSpPr>
          <p:spPr>
            <a:xfrm>
              <a:off x="1460520" y="511812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5003640"/>
              <a:ext cx="671832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19120" y="5178240"/>
            <a:ext cx="65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9 AT&amp;T purchased Medi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T&amp;T to Provide Local Broadband Ac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3" name=""/>
          <p:cNvSpPr/>
          <p:nvPr/>
        </p:nvSpPr>
        <p:spPr>
          <a:xfrm>
            <a:off x="2279880" y="1857240"/>
            <a:ext cx="2525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/Peer and Client/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Us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"Cells" and User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tiguou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Asynchronous 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er than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4" name=""/>
          <p:cNvGraphicFramePr/>
          <p:nvPr/>
        </p:nvGraphicFramePr>
        <p:xfrm>
          <a:off x="712800" y="1611360"/>
          <a:ext cx="142092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611360"/>
                    <a:ext cx="14209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6" name=""/>
          <p:cNvSpPr/>
          <p:nvPr/>
        </p:nvSpPr>
        <p:spPr>
          <a:xfrm>
            <a:off x="2099520" y="1573200"/>
            <a:ext cx="215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day’s Wireless 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7" name=""/>
          <p:cNvGrpSpPr/>
          <p:nvPr/>
        </p:nvGrpSpPr>
        <p:grpSpPr>
          <a:xfrm>
            <a:off x="486000" y="2881440"/>
            <a:ext cx="3217320" cy="2598840"/>
            <a:chOff x="486000" y="2881440"/>
            <a:chExt cx="3217320" cy="2598840"/>
          </a:xfrm>
        </p:grpSpPr>
        <p:sp>
          <p:nvSpPr>
            <p:cNvPr id="6708" name=""/>
            <p:cNvSpPr/>
            <p:nvPr/>
          </p:nvSpPr>
          <p:spPr>
            <a:xfrm rot="20394000">
              <a:off x="757080" y="2976120"/>
              <a:ext cx="858960" cy="1730520"/>
            </a:xfrm>
            <a:custGeom>
              <a:avLst/>
              <a:gdLst/>
              <a:ahLst/>
              <a:rect l="l" t="t" r="r" b="b"/>
              <a:pathLst>
                <a:path w="541" h="1090">
                  <a:moveTo>
                    <a:pt x="294" y="905"/>
                  </a:moveTo>
                  <a:lnTo>
                    <a:pt x="223" y="966"/>
                  </a:lnTo>
                  <a:lnTo>
                    <a:pt x="540" y="1089"/>
                  </a:lnTo>
                  <a:lnTo>
                    <a:pt x="507" y="718"/>
                  </a:lnTo>
                  <a:lnTo>
                    <a:pt x="406" y="822"/>
                  </a:lnTo>
                  <a:lnTo>
                    <a:pt x="395" y="814"/>
                  </a:lnTo>
                  <a:lnTo>
                    <a:pt x="387" y="808"/>
                  </a:lnTo>
                  <a:lnTo>
                    <a:pt x="377" y="801"/>
                  </a:lnTo>
                  <a:lnTo>
                    <a:pt x="369" y="793"/>
                  </a:lnTo>
                  <a:lnTo>
                    <a:pt x="361" y="787"/>
                  </a:lnTo>
                  <a:lnTo>
                    <a:pt x="352" y="780"/>
                  </a:lnTo>
                  <a:lnTo>
                    <a:pt x="344" y="773"/>
                  </a:lnTo>
                  <a:lnTo>
                    <a:pt x="336" y="764"/>
                  </a:lnTo>
                  <a:lnTo>
                    <a:pt x="323" y="751"/>
                  </a:lnTo>
                  <a:lnTo>
                    <a:pt x="315" y="742"/>
                  </a:lnTo>
                  <a:lnTo>
                    <a:pt x="309" y="735"/>
                  </a:lnTo>
                  <a:lnTo>
                    <a:pt x="302" y="726"/>
                  </a:lnTo>
                  <a:lnTo>
                    <a:pt x="297" y="719"/>
                  </a:lnTo>
                  <a:lnTo>
                    <a:pt x="292" y="711"/>
                  </a:lnTo>
                  <a:lnTo>
                    <a:pt x="285" y="702"/>
                  </a:lnTo>
                  <a:lnTo>
                    <a:pt x="280" y="695"/>
                  </a:lnTo>
                  <a:lnTo>
                    <a:pt x="276" y="686"/>
                  </a:lnTo>
                  <a:lnTo>
                    <a:pt x="271" y="678"/>
                  </a:lnTo>
                  <a:lnTo>
                    <a:pt x="266" y="669"/>
                  </a:lnTo>
                  <a:lnTo>
                    <a:pt x="263" y="661"/>
                  </a:lnTo>
                  <a:lnTo>
                    <a:pt x="259" y="651"/>
                  </a:lnTo>
                  <a:lnTo>
                    <a:pt x="255" y="643"/>
                  </a:lnTo>
                  <a:lnTo>
                    <a:pt x="252" y="634"/>
                  </a:lnTo>
                  <a:lnTo>
                    <a:pt x="249" y="626"/>
                  </a:lnTo>
                  <a:lnTo>
                    <a:pt x="247" y="615"/>
                  </a:lnTo>
                  <a:lnTo>
                    <a:pt x="244" y="607"/>
                  </a:lnTo>
                  <a:lnTo>
                    <a:pt x="242" y="598"/>
                  </a:lnTo>
                  <a:lnTo>
                    <a:pt x="240" y="588"/>
                  </a:lnTo>
                  <a:lnTo>
                    <a:pt x="238" y="579"/>
                  </a:lnTo>
                  <a:lnTo>
                    <a:pt x="238" y="570"/>
                  </a:lnTo>
                  <a:lnTo>
                    <a:pt x="236" y="559"/>
                  </a:lnTo>
                  <a:lnTo>
                    <a:pt x="236" y="549"/>
                  </a:lnTo>
                  <a:lnTo>
                    <a:pt x="235" y="540"/>
                  </a:lnTo>
                  <a:lnTo>
                    <a:pt x="235" y="519"/>
                  </a:lnTo>
                  <a:lnTo>
                    <a:pt x="236" y="511"/>
                  </a:lnTo>
                  <a:lnTo>
                    <a:pt x="236" y="500"/>
                  </a:lnTo>
                  <a:lnTo>
                    <a:pt x="238" y="490"/>
                  </a:lnTo>
                  <a:lnTo>
                    <a:pt x="238" y="480"/>
                  </a:lnTo>
                  <a:lnTo>
                    <a:pt x="240" y="469"/>
                  </a:lnTo>
                  <a:lnTo>
                    <a:pt x="242" y="459"/>
                  </a:lnTo>
                  <a:lnTo>
                    <a:pt x="244" y="448"/>
                  </a:lnTo>
                  <a:lnTo>
                    <a:pt x="247" y="437"/>
                  </a:lnTo>
                  <a:lnTo>
                    <a:pt x="249" y="427"/>
                  </a:lnTo>
                  <a:lnTo>
                    <a:pt x="252" y="416"/>
                  </a:lnTo>
                  <a:lnTo>
                    <a:pt x="255" y="406"/>
                  </a:lnTo>
                  <a:lnTo>
                    <a:pt x="259" y="393"/>
                  </a:lnTo>
                  <a:lnTo>
                    <a:pt x="263" y="383"/>
                  </a:lnTo>
                  <a:lnTo>
                    <a:pt x="266" y="371"/>
                  </a:lnTo>
                  <a:lnTo>
                    <a:pt x="271" y="360"/>
                  </a:lnTo>
                  <a:lnTo>
                    <a:pt x="276" y="348"/>
                  </a:lnTo>
                  <a:lnTo>
                    <a:pt x="280" y="337"/>
                  </a:lnTo>
                  <a:lnTo>
                    <a:pt x="285" y="325"/>
                  </a:lnTo>
                  <a:lnTo>
                    <a:pt x="290" y="314"/>
                  </a:lnTo>
                  <a:lnTo>
                    <a:pt x="297" y="301"/>
                  </a:lnTo>
                  <a:lnTo>
                    <a:pt x="302" y="289"/>
                  </a:lnTo>
                  <a:lnTo>
                    <a:pt x="309" y="279"/>
                  </a:lnTo>
                  <a:lnTo>
                    <a:pt x="315" y="266"/>
                  </a:lnTo>
                  <a:lnTo>
                    <a:pt x="323" y="254"/>
                  </a:lnTo>
                  <a:lnTo>
                    <a:pt x="330" y="243"/>
                  </a:lnTo>
                  <a:lnTo>
                    <a:pt x="336" y="228"/>
                  </a:lnTo>
                  <a:lnTo>
                    <a:pt x="344" y="216"/>
                  </a:lnTo>
                  <a:lnTo>
                    <a:pt x="352" y="204"/>
                  </a:lnTo>
                  <a:lnTo>
                    <a:pt x="180" y="318"/>
                  </a:lnTo>
                  <a:lnTo>
                    <a:pt x="199" y="0"/>
                  </a:lnTo>
                  <a:lnTo>
                    <a:pt x="172" y="27"/>
                  </a:lnTo>
                  <a:lnTo>
                    <a:pt x="159" y="41"/>
                  </a:lnTo>
                  <a:lnTo>
                    <a:pt x="147" y="55"/>
                  </a:lnTo>
                  <a:lnTo>
                    <a:pt x="135" y="69"/>
                  </a:lnTo>
                  <a:lnTo>
                    <a:pt x="125" y="82"/>
                  </a:lnTo>
                  <a:lnTo>
                    <a:pt x="112" y="97"/>
                  </a:lnTo>
                  <a:lnTo>
                    <a:pt x="104" y="111"/>
                  </a:lnTo>
                  <a:lnTo>
                    <a:pt x="94" y="124"/>
                  </a:lnTo>
                  <a:lnTo>
                    <a:pt x="83" y="138"/>
                  </a:lnTo>
                  <a:lnTo>
                    <a:pt x="75" y="152"/>
                  </a:lnTo>
                  <a:lnTo>
                    <a:pt x="66" y="166"/>
                  </a:lnTo>
                  <a:lnTo>
                    <a:pt x="60" y="180"/>
                  </a:lnTo>
                  <a:lnTo>
                    <a:pt x="52" y="193"/>
                  </a:lnTo>
                  <a:lnTo>
                    <a:pt x="46" y="208"/>
                  </a:lnTo>
                  <a:lnTo>
                    <a:pt x="39" y="222"/>
                  </a:lnTo>
                  <a:lnTo>
                    <a:pt x="32" y="235"/>
                  </a:lnTo>
                  <a:lnTo>
                    <a:pt x="27" y="249"/>
                  </a:lnTo>
                  <a:lnTo>
                    <a:pt x="21" y="264"/>
                  </a:lnTo>
                  <a:lnTo>
                    <a:pt x="19" y="279"/>
                  </a:lnTo>
                  <a:lnTo>
                    <a:pt x="13" y="293"/>
                  </a:lnTo>
                  <a:lnTo>
                    <a:pt x="10" y="306"/>
                  </a:lnTo>
                  <a:lnTo>
                    <a:pt x="8" y="320"/>
                  </a:lnTo>
                  <a:lnTo>
                    <a:pt x="4" y="335"/>
                  </a:lnTo>
                  <a:lnTo>
                    <a:pt x="3" y="348"/>
                  </a:lnTo>
                  <a:lnTo>
                    <a:pt x="1" y="362"/>
                  </a:lnTo>
                  <a:lnTo>
                    <a:pt x="0" y="376"/>
                  </a:lnTo>
                  <a:lnTo>
                    <a:pt x="0" y="433"/>
                  </a:lnTo>
                  <a:lnTo>
                    <a:pt x="1" y="447"/>
                  </a:lnTo>
                  <a:lnTo>
                    <a:pt x="3" y="461"/>
                  </a:lnTo>
                  <a:lnTo>
                    <a:pt x="4" y="475"/>
                  </a:lnTo>
                  <a:lnTo>
                    <a:pt x="8" y="488"/>
                  </a:lnTo>
                  <a:lnTo>
                    <a:pt x="11" y="504"/>
                  </a:lnTo>
                  <a:lnTo>
                    <a:pt x="15" y="519"/>
                  </a:lnTo>
                  <a:lnTo>
                    <a:pt x="19" y="532"/>
                  </a:lnTo>
                  <a:lnTo>
                    <a:pt x="23" y="546"/>
                  </a:lnTo>
                  <a:lnTo>
                    <a:pt x="29" y="559"/>
                  </a:lnTo>
                  <a:lnTo>
                    <a:pt x="34" y="575"/>
                  </a:lnTo>
                  <a:lnTo>
                    <a:pt x="40" y="590"/>
                  </a:lnTo>
                  <a:lnTo>
                    <a:pt x="46" y="603"/>
                  </a:lnTo>
                  <a:lnTo>
                    <a:pt x="52" y="617"/>
                  </a:lnTo>
                  <a:lnTo>
                    <a:pt x="61" y="632"/>
                  </a:lnTo>
                  <a:lnTo>
                    <a:pt x="68" y="646"/>
                  </a:lnTo>
                  <a:lnTo>
                    <a:pt x="77" y="661"/>
                  </a:lnTo>
                  <a:lnTo>
                    <a:pt x="85" y="674"/>
                  </a:lnTo>
                  <a:lnTo>
                    <a:pt x="96" y="690"/>
                  </a:lnTo>
                  <a:lnTo>
                    <a:pt x="106" y="703"/>
                  </a:lnTo>
                  <a:lnTo>
                    <a:pt x="116" y="718"/>
                  </a:lnTo>
                  <a:lnTo>
                    <a:pt x="127" y="732"/>
                  </a:lnTo>
                  <a:lnTo>
                    <a:pt x="137" y="747"/>
                  </a:lnTo>
                  <a:lnTo>
                    <a:pt x="149" y="761"/>
                  </a:lnTo>
                  <a:lnTo>
                    <a:pt x="161" y="774"/>
                  </a:lnTo>
                  <a:lnTo>
                    <a:pt x="174" y="789"/>
                  </a:lnTo>
                  <a:lnTo>
                    <a:pt x="187" y="804"/>
                  </a:lnTo>
                  <a:lnTo>
                    <a:pt x="201" y="818"/>
                  </a:lnTo>
                  <a:lnTo>
                    <a:pt x="216" y="832"/>
                  </a:lnTo>
                  <a:lnTo>
                    <a:pt x="230" y="847"/>
                  </a:lnTo>
                  <a:lnTo>
                    <a:pt x="245" y="862"/>
                  </a:lnTo>
                  <a:lnTo>
                    <a:pt x="261" y="875"/>
                  </a:lnTo>
                  <a:lnTo>
                    <a:pt x="276" y="891"/>
                  </a:lnTo>
                  <a:lnTo>
                    <a:pt x="294" y="905"/>
                  </a:lnTo>
                </a:path>
              </a:pathLst>
            </a:custGeom>
            <a:gradFill rotWithShape="0">
              <a:gsLst>
                <a:gs pos="0">
                  <a:srgbClr val="80c2ff"/>
                </a:gs>
                <a:gs pos="100000">
                  <a:srgbClr val="fefefe"/>
                </a:gs>
              </a:gsLst>
              <a:lin ang="13500000"/>
            </a:gra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658800" y="4840200"/>
              <a:ext cx="2275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nterNet/Intra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thernet-Compatible Spee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ultiple RF Bands to op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578520" y="4573440"/>
              <a:ext cx="3124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econd-Generation Wireless L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1" name=""/>
          <p:cNvSpPr/>
          <p:nvPr/>
        </p:nvSpPr>
        <p:spPr>
          <a:xfrm rot="19839000">
            <a:off x="3557160" y="4617720"/>
            <a:ext cx="1770120" cy="853920"/>
          </a:xfrm>
          <a:custGeom>
            <a:avLst/>
            <a:gdLst/>
            <a:ahLst/>
            <a:rect l="l" t="t" r="r" b="b"/>
            <a:pathLst>
              <a:path w="1224" h="538">
                <a:moveTo>
                  <a:pt x="913" y="435"/>
                </a:moveTo>
                <a:lnTo>
                  <a:pt x="932" y="537"/>
                </a:lnTo>
                <a:lnTo>
                  <a:pt x="1223" y="303"/>
                </a:lnTo>
                <a:lnTo>
                  <a:pt x="854" y="132"/>
                </a:lnTo>
                <a:lnTo>
                  <a:pt x="896" y="285"/>
                </a:lnTo>
                <a:lnTo>
                  <a:pt x="884" y="290"/>
                </a:lnTo>
                <a:lnTo>
                  <a:pt x="873" y="296"/>
                </a:lnTo>
                <a:lnTo>
                  <a:pt x="861" y="300"/>
                </a:lnTo>
                <a:lnTo>
                  <a:pt x="850" y="305"/>
                </a:lnTo>
                <a:lnTo>
                  <a:pt x="838" y="309"/>
                </a:lnTo>
                <a:lnTo>
                  <a:pt x="827" y="313"/>
                </a:lnTo>
                <a:lnTo>
                  <a:pt x="816" y="317"/>
                </a:lnTo>
                <a:lnTo>
                  <a:pt x="804" y="320"/>
                </a:lnTo>
                <a:lnTo>
                  <a:pt x="793" y="322"/>
                </a:lnTo>
                <a:lnTo>
                  <a:pt x="781" y="324"/>
                </a:lnTo>
                <a:lnTo>
                  <a:pt x="770" y="328"/>
                </a:lnTo>
                <a:lnTo>
                  <a:pt x="758" y="330"/>
                </a:lnTo>
                <a:lnTo>
                  <a:pt x="749" y="332"/>
                </a:lnTo>
                <a:lnTo>
                  <a:pt x="738" y="332"/>
                </a:lnTo>
                <a:lnTo>
                  <a:pt x="726" y="334"/>
                </a:lnTo>
                <a:lnTo>
                  <a:pt x="715" y="334"/>
                </a:lnTo>
                <a:lnTo>
                  <a:pt x="705" y="336"/>
                </a:lnTo>
                <a:lnTo>
                  <a:pt x="684" y="336"/>
                </a:lnTo>
                <a:lnTo>
                  <a:pt x="673" y="334"/>
                </a:lnTo>
                <a:lnTo>
                  <a:pt x="663" y="334"/>
                </a:lnTo>
                <a:lnTo>
                  <a:pt x="652" y="332"/>
                </a:lnTo>
                <a:lnTo>
                  <a:pt x="642" y="330"/>
                </a:lnTo>
                <a:lnTo>
                  <a:pt x="633" y="330"/>
                </a:lnTo>
                <a:lnTo>
                  <a:pt x="621" y="326"/>
                </a:lnTo>
                <a:lnTo>
                  <a:pt x="612" y="324"/>
                </a:lnTo>
                <a:lnTo>
                  <a:pt x="602" y="322"/>
                </a:lnTo>
                <a:lnTo>
                  <a:pt x="593" y="319"/>
                </a:lnTo>
                <a:lnTo>
                  <a:pt x="581" y="315"/>
                </a:lnTo>
                <a:lnTo>
                  <a:pt x="572" y="311"/>
                </a:lnTo>
                <a:lnTo>
                  <a:pt x="562" y="307"/>
                </a:lnTo>
                <a:lnTo>
                  <a:pt x="553" y="303"/>
                </a:lnTo>
                <a:lnTo>
                  <a:pt x="543" y="300"/>
                </a:lnTo>
                <a:lnTo>
                  <a:pt x="534" y="294"/>
                </a:lnTo>
                <a:lnTo>
                  <a:pt x="524" y="288"/>
                </a:lnTo>
                <a:lnTo>
                  <a:pt x="515" y="283"/>
                </a:lnTo>
                <a:lnTo>
                  <a:pt x="505" y="277"/>
                </a:lnTo>
                <a:lnTo>
                  <a:pt x="496" y="271"/>
                </a:lnTo>
                <a:lnTo>
                  <a:pt x="486" y="264"/>
                </a:lnTo>
                <a:lnTo>
                  <a:pt x="479" y="258"/>
                </a:lnTo>
                <a:lnTo>
                  <a:pt x="469" y="251"/>
                </a:lnTo>
                <a:lnTo>
                  <a:pt x="460" y="243"/>
                </a:lnTo>
                <a:lnTo>
                  <a:pt x="450" y="236"/>
                </a:lnTo>
                <a:lnTo>
                  <a:pt x="406" y="192"/>
                </a:lnTo>
                <a:lnTo>
                  <a:pt x="399" y="183"/>
                </a:lnTo>
                <a:lnTo>
                  <a:pt x="391" y="172"/>
                </a:lnTo>
                <a:lnTo>
                  <a:pt x="381" y="162"/>
                </a:lnTo>
                <a:lnTo>
                  <a:pt x="374" y="151"/>
                </a:lnTo>
                <a:lnTo>
                  <a:pt x="364" y="141"/>
                </a:lnTo>
                <a:lnTo>
                  <a:pt x="357" y="130"/>
                </a:lnTo>
                <a:lnTo>
                  <a:pt x="349" y="119"/>
                </a:lnTo>
                <a:lnTo>
                  <a:pt x="342" y="106"/>
                </a:lnTo>
                <a:lnTo>
                  <a:pt x="332" y="94"/>
                </a:lnTo>
                <a:lnTo>
                  <a:pt x="324" y="81"/>
                </a:lnTo>
                <a:lnTo>
                  <a:pt x="317" y="68"/>
                </a:lnTo>
                <a:lnTo>
                  <a:pt x="309" y="55"/>
                </a:lnTo>
                <a:lnTo>
                  <a:pt x="302" y="41"/>
                </a:lnTo>
                <a:lnTo>
                  <a:pt x="294" y="28"/>
                </a:lnTo>
                <a:lnTo>
                  <a:pt x="286" y="15"/>
                </a:lnTo>
                <a:lnTo>
                  <a:pt x="279" y="0"/>
                </a:lnTo>
                <a:lnTo>
                  <a:pt x="292" y="226"/>
                </a:lnTo>
                <a:lnTo>
                  <a:pt x="0" y="34"/>
                </a:lnTo>
                <a:lnTo>
                  <a:pt x="5" y="55"/>
                </a:lnTo>
                <a:lnTo>
                  <a:pt x="10" y="74"/>
                </a:lnTo>
                <a:lnTo>
                  <a:pt x="16" y="94"/>
                </a:lnTo>
                <a:lnTo>
                  <a:pt x="24" y="113"/>
                </a:lnTo>
                <a:lnTo>
                  <a:pt x="29" y="132"/>
                </a:lnTo>
                <a:lnTo>
                  <a:pt x="37" y="151"/>
                </a:lnTo>
                <a:lnTo>
                  <a:pt x="45" y="168"/>
                </a:lnTo>
                <a:lnTo>
                  <a:pt x="52" y="185"/>
                </a:lnTo>
                <a:lnTo>
                  <a:pt x="60" y="202"/>
                </a:lnTo>
                <a:lnTo>
                  <a:pt x="69" y="219"/>
                </a:lnTo>
                <a:lnTo>
                  <a:pt x="77" y="234"/>
                </a:lnTo>
                <a:lnTo>
                  <a:pt x="86" y="251"/>
                </a:lnTo>
                <a:lnTo>
                  <a:pt x="94" y="266"/>
                </a:lnTo>
                <a:lnTo>
                  <a:pt x="104" y="279"/>
                </a:lnTo>
                <a:lnTo>
                  <a:pt x="113" y="294"/>
                </a:lnTo>
                <a:lnTo>
                  <a:pt x="123" y="307"/>
                </a:lnTo>
                <a:lnTo>
                  <a:pt x="134" y="320"/>
                </a:lnTo>
                <a:lnTo>
                  <a:pt x="144" y="334"/>
                </a:lnTo>
                <a:lnTo>
                  <a:pt x="155" y="347"/>
                </a:lnTo>
                <a:lnTo>
                  <a:pt x="164" y="358"/>
                </a:lnTo>
                <a:lnTo>
                  <a:pt x="187" y="381"/>
                </a:lnTo>
                <a:lnTo>
                  <a:pt x="199" y="390"/>
                </a:lnTo>
                <a:lnTo>
                  <a:pt x="212" y="402"/>
                </a:lnTo>
                <a:lnTo>
                  <a:pt x="223" y="411"/>
                </a:lnTo>
                <a:lnTo>
                  <a:pt x="237" y="420"/>
                </a:lnTo>
                <a:lnTo>
                  <a:pt x="248" y="428"/>
                </a:lnTo>
                <a:lnTo>
                  <a:pt x="262" y="437"/>
                </a:lnTo>
                <a:lnTo>
                  <a:pt x="275" y="445"/>
                </a:lnTo>
                <a:lnTo>
                  <a:pt x="288" y="452"/>
                </a:lnTo>
                <a:lnTo>
                  <a:pt x="303" y="460"/>
                </a:lnTo>
                <a:lnTo>
                  <a:pt x="317" y="466"/>
                </a:lnTo>
                <a:lnTo>
                  <a:pt x="332" y="471"/>
                </a:lnTo>
                <a:lnTo>
                  <a:pt x="345" y="477"/>
                </a:lnTo>
                <a:lnTo>
                  <a:pt x="361" y="483"/>
                </a:lnTo>
                <a:lnTo>
                  <a:pt x="376" y="486"/>
                </a:lnTo>
                <a:lnTo>
                  <a:pt x="391" y="492"/>
                </a:lnTo>
                <a:lnTo>
                  <a:pt x="408" y="496"/>
                </a:lnTo>
                <a:lnTo>
                  <a:pt x="423" y="498"/>
                </a:lnTo>
                <a:lnTo>
                  <a:pt x="441" y="501"/>
                </a:lnTo>
                <a:lnTo>
                  <a:pt x="456" y="503"/>
                </a:lnTo>
                <a:lnTo>
                  <a:pt x="473" y="505"/>
                </a:lnTo>
                <a:lnTo>
                  <a:pt x="490" y="507"/>
                </a:lnTo>
                <a:lnTo>
                  <a:pt x="507" y="509"/>
                </a:lnTo>
                <a:lnTo>
                  <a:pt x="579" y="509"/>
                </a:lnTo>
                <a:lnTo>
                  <a:pt x="599" y="507"/>
                </a:lnTo>
                <a:lnTo>
                  <a:pt x="618" y="505"/>
                </a:lnTo>
                <a:lnTo>
                  <a:pt x="637" y="503"/>
                </a:lnTo>
                <a:lnTo>
                  <a:pt x="658" y="501"/>
                </a:lnTo>
                <a:lnTo>
                  <a:pt x="677" y="498"/>
                </a:lnTo>
                <a:lnTo>
                  <a:pt x="698" y="494"/>
                </a:lnTo>
                <a:lnTo>
                  <a:pt x="717" y="490"/>
                </a:lnTo>
                <a:lnTo>
                  <a:pt x="738" y="486"/>
                </a:lnTo>
                <a:lnTo>
                  <a:pt x="758" y="481"/>
                </a:lnTo>
                <a:lnTo>
                  <a:pt x="779" y="477"/>
                </a:lnTo>
                <a:lnTo>
                  <a:pt x="800" y="471"/>
                </a:lnTo>
                <a:lnTo>
                  <a:pt x="823" y="464"/>
                </a:lnTo>
                <a:lnTo>
                  <a:pt x="844" y="458"/>
                </a:lnTo>
                <a:lnTo>
                  <a:pt x="867" y="451"/>
                </a:lnTo>
                <a:lnTo>
                  <a:pt x="890" y="443"/>
                </a:lnTo>
                <a:lnTo>
                  <a:pt x="913" y="435"/>
                </a:lnTo>
              </a:path>
            </a:pathLst>
          </a:custGeom>
          <a:gradFill rotWithShape="0">
            <a:gsLst>
              <a:gs pos="0">
                <a:srgbClr val="80c2ff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2" name=""/>
          <p:cNvGraphicFramePr/>
          <p:nvPr/>
        </p:nvGraphicFramePr>
        <p:xfrm>
          <a:off x="5602320" y="3792600"/>
          <a:ext cx="183996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3792600"/>
                    <a:ext cx="18399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4" name=""/>
          <p:cNvSpPr/>
          <p:nvPr/>
        </p:nvSpPr>
        <p:spPr>
          <a:xfrm>
            <a:off x="5395320" y="2135160"/>
            <a:ext cx="3214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Larger Us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Full Roaming/Handoff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ontiguous Coverage in Den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Wider Area Coverage for Community 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obility (Follow-M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x of Async and Isochronous 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Higher System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Enhance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5355720" y="1246320"/>
            <a:ext cx="2413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ourth-Gener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Wireless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6" name=""/>
          <p:cNvGrpSpPr/>
          <p:nvPr/>
        </p:nvGrpSpPr>
        <p:grpSpPr>
          <a:xfrm>
            <a:off x="1477440" y="5538960"/>
            <a:ext cx="3908160" cy="866160"/>
            <a:chOff x="1477440" y="5538960"/>
            <a:chExt cx="3908160" cy="866160"/>
          </a:xfrm>
        </p:grpSpPr>
        <p:sp>
          <p:nvSpPr>
            <p:cNvPr id="6717" name=""/>
            <p:cNvSpPr/>
            <p:nvPr/>
          </p:nvSpPr>
          <p:spPr>
            <a:xfrm>
              <a:off x="1477440" y="5538960"/>
              <a:ext cx="39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Arial"/>
                </a:rPr>
                <a:t>Third-Generation Wireless Commun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1647000" y="5763600"/>
              <a:ext cx="141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Wideband C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9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door Wireless LAN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0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Enhanced IEEE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1346400" y="17578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5474880" y="17708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3" name="enhancedieee1" descr=""/>
          <p:cNvPicPr/>
          <p:nvPr/>
        </p:nvPicPr>
        <p:blipFill>
          <a:blip r:embed="rId1"/>
          <a:stretch/>
        </p:blipFill>
        <p:spPr>
          <a:xfrm>
            <a:off x="395280" y="3384720"/>
            <a:ext cx="4402080" cy="2573280"/>
          </a:xfrm>
          <a:prstGeom prst="rect">
            <a:avLst/>
          </a:prstGeom>
          <a:ln w="0">
            <a:noFill/>
          </a:ln>
        </p:spPr>
      </p:pic>
      <p:pic>
        <p:nvPicPr>
          <p:cNvPr id="6724" name="enhancedieee" descr=""/>
          <p:cNvPicPr/>
          <p:nvPr/>
        </p:nvPicPr>
        <p:blipFill>
          <a:blip r:embed="rId2"/>
          <a:stretch/>
        </p:blipFill>
        <p:spPr>
          <a:xfrm>
            <a:off x="4411800" y="2154240"/>
            <a:ext cx="433224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5" name=""/>
          <p:cNvSpPr/>
          <p:nvPr/>
        </p:nvSpPr>
        <p:spPr>
          <a:xfrm>
            <a:off x="1100160" y="1699200"/>
            <a:ext cx="732636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e past several years, AT&amp;T Labs has been evaluating and developing hardware and software platforms. These platforms evalu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d network solutions based on extensions to the IEEE 802.11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xed and simultaneous Isochronous / Asynchronous traff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Roaming/Handoff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uous Coverage in Den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r Area Coverage for Community 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ty (Follow-M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System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l while maintaining the Quality-of-Service that the AT&amp;T brand is no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Ongoing  Labs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7" name=""/>
          <p:cNvSpPr/>
          <p:nvPr/>
        </p:nvSpPr>
        <p:spPr>
          <a:xfrm>
            <a:off x="5130720" y="5138640"/>
            <a:ext cx="14472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>
            <a:off x="5130720" y="5140440"/>
            <a:ext cx="14760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5130720" y="5141880"/>
            <a:ext cx="14940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5130720" y="5143680"/>
            <a:ext cx="150840" cy="288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5129280" y="5146560"/>
            <a:ext cx="15408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5129280" y="5151600"/>
            <a:ext cx="160200" cy="288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5127480" y="5154480"/>
            <a:ext cx="16380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5127480" y="5156280"/>
            <a:ext cx="16524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5127480" y="5157720"/>
            <a:ext cx="16848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5126040" y="5164200"/>
            <a:ext cx="4284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5553000" y="48164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anaging Multimedia Content and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9" name="" descr=""/>
          <p:cNvPicPr/>
          <p:nvPr/>
        </p:nvPicPr>
        <p:blipFill>
          <a:blip r:embed="rId1"/>
          <a:stretch/>
        </p:blipFill>
        <p:spPr>
          <a:xfrm>
            <a:off x="1482840" y="1730520"/>
            <a:ext cx="5889600" cy="44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0" name=""/>
          <p:cNvSpPr/>
          <p:nvPr/>
        </p:nvSpPr>
        <p:spPr>
          <a:xfrm>
            <a:off x="2879640" y="1560600"/>
            <a:ext cx="346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rging of Wired &amp; Wire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787320" y="960480"/>
            <a:ext cx="252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Garamond BoldItalic"/>
              </a:rPr>
              <a:t>The Future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1008000" y="5634000"/>
            <a:ext cx="7153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phony, Multimedia, Paging, High Speed Internet/Intran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3" name=""/>
          <p:cNvGrpSpPr/>
          <p:nvPr/>
        </p:nvGrpSpPr>
        <p:grpSpPr>
          <a:xfrm>
            <a:off x="2679840" y="2120760"/>
            <a:ext cx="3895200" cy="3492360"/>
            <a:chOff x="2679840" y="2120760"/>
            <a:chExt cx="3895200" cy="3492360"/>
          </a:xfrm>
        </p:grpSpPr>
        <p:sp>
          <p:nvSpPr>
            <p:cNvPr id="6744" name=""/>
            <p:cNvSpPr/>
            <p:nvPr/>
          </p:nvSpPr>
          <p:spPr>
            <a:xfrm>
              <a:off x="2679840" y="2120760"/>
              <a:ext cx="3895200" cy="3492360"/>
            </a:xfrm>
            <a:prstGeom prst="rect">
              <a:avLst/>
            </a:prstGeom>
            <a:gradFill rotWithShape="0">
              <a:gsLst>
                <a:gs pos="0">
                  <a:srgbClr val="799879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2898360" y="2340000"/>
              <a:ext cx="3457800" cy="30560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6" name="" descr=""/>
            <p:cNvPicPr/>
            <p:nvPr/>
          </p:nvPicPr>
          <p:blipFill>
            <a:blip r:embed="rId1"/>
            <a:stretch/>
          </p:blipFill>
          <p:spPr>
            <a:xfrm>
              <a:off x="3043440" y="2444400"/>
              <a:ext cx="3323160" cy="29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7" name="" descr=""/>
            <p:cNvPicPr/>
            <p:nvPr/>
          </p:nvPicPr>
          <p:blipFill>
            <a:blip r:embed="rId2"/>
            <a:stretch/>
          </p:blipFill>
          <p:spPr>
            <a:xfrm>
              <a:off x="3188880" y="2567520"/>
              <a:ext cx="164376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8" name="" descr=""/>
            <p:cNvPicPr/>
            <p:nvPr/>
          </p:nvPicPr>
          <p:blipFill>
            <a:blip r:embed="rId3"/>
            <a:stretch/>
          </p:blipFill>
          <p:spPr>
            <a:xfrm>
              <a:off x="4656600" y="4252680"/>
              <a:ext cx="1684080" cy="8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9" name="" descr=""/>
            <p:cNvPicPr/>
            <p:nvPr/>
          </p:nvPicPr>
          <p:blipFill>
            <a:blip r:embed="rId4"/>
            <a:stretch/>
          </p:blipFill>
          <p:spPr>
            <a:xfrm>
              <a:off x="3460320" y="3949560"/>
              <a:ext cx="123588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0" name="" descr=""/>
            <p:cNvPicPr/>
            <p:nvPr/>
          </p:nvPicPr>
          <p:blipFill>
            <a:blip r:embed="rId5"/>
            <a:stretch/>
          </p:blipFill>
          <p:spPr>
            <a:xfrm>
              <a:off x="4951800" y="2977560"/>
              <a:ext cx="1024920" cy="803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2" name=""/>
          <p:cNvGrpSpPr/>
          <p:nvPr/>
        </p:nvGrpSpPr>
        <p:grpSpPr>
          <a:xfrm>
            <a:off x="1244520" y="1955880"/>
            <a:ext cx="6693120" cy="876240"/>
            <a:chOff x="1244520" y="1955880"/>
            <a:chExt cx="6693120" cy="876240"/>
          </a:xfrm>
        </p:grpSpPr>
        <p:sp>
          <p:nvSpPr>
            <p:cNvPr id="6753" name=""/>
            <p:cNvSpPr/>
            <p:nvPr/>
          </p:nvSpPr>
          <p:spPr>
            <a:xfrm>
              <a:off x="1308240" y="203220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1244520" y="195588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5" name=""/>
          <p:cNvGrpSpPr/>
          <p:nvPr/>
        </p:nvGrpSpPr>
        <p:grpSpPr>
          <a:xfrm>
            <a:off x="1244520" y="3187800"/>
            <a:ext cx="6693120" cy="876240"/>
            <a:chOff x="1244520" y="3187800"/>
            <a:chExt cx="6693120" cy="876240"/>
          </a:xfrm>
        </p:grpSpPr>
        <p:sp>
          <p:nvSpPr>
            <p:cNvPr id="6756" name=""/>
            <p:cNvSpPr/>
            <p:nvPr/>
          </p:nvSpPr>
          <p:spPr>
            <a:xfrm>
              <a:off x="1308240" y="326412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1244520" y="318780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8" name=""/>
          <p:cNvSpPr/>
          <p:nvPr/>
        </p:nvSpPr>
        <p:spPr>
          <a:xfrm>
            <a:off x="1639800" y="1971000"/>
            <a:ext cx="60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at AT&amp;T Labs support the IEEE 802.11 study group in their efforts to enhance the Standard with respect to adding extensions to the MAC and move the Standard to a 4th Generation Standard that includes a wireless networking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433520" y="3198240"/>
            <a:ext cx="596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encourage the Study Group / Working Group to look at enhancements that provides true network based solutions that will support simultaneous Multimedia, Telephony, Streaming Video, and High Speed Internet / Intranet access with a cellular like CAI and enhanced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0" name=""/>
          <p:cNvGrpSpPr/>
          <p:nvPr/>
        </p:nvGrpSpPr>
        <p:grpSpPr>
          <a:xfrm>
            <a:off x="1206360" y="4432320"/>
            <a:ext cx="6693120" cy="876240"/>
            <a:chOff x="1206360" y="4432320"/>
            <a:chExt cx="6693120" cy="876240"/>
          </a:xfrm>
        </p:grpSpPr>
        <p:sp>
          <p:nvSpPr>
            <p:cNvPr id="6761" name=""/>
            <p:cNvSpPr/>
            <p:nvPr/>
          </p:nvSpPr>
          <p:spPr>
            <a:xfrm>
              <a:off x="1270080" y="450864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1206360" y="443232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3" name=""/>
          <p:cNvSpPr/>
          <p:nvPr/>
        </p:nvSpPr>
        <p:spPr>
          <a:xfrm>
            <a:off x="1317600" y="4507920"/>
            <a:ext cx="624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are pleased to be a participant in the IEEE 802.11 committee and hope to continue to contribute to and support the efforts of the IEEE 802.11 Standards Committee and this Study Grou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257480" y="3860640"/>
            <a:ext cx="6692400" cy="876240"/>
            <a:chOff x="1257480" y="3860640"/>
            <a:chExt cx="6692400" cy="876240"/>
          </a:xfrm>
        </p:grpSpPr>
        <p:sp>
          <p:nvSpPr>
            <p:cNvPr id="150" name=""/>
            <p:cNvSpPr/>
            <p:nvPr/>
          </p:nvSpPr>
          <p:spPr>
            <a:xfrm>
              <a:off x="1320840" y="393696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7480" y="3860640"/>
              <a:ext cx="661644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74920" y="3983040"/>
            <a:ext cx="61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wiring the home for broadband distribution is very expensive and irritates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2819520"/>
            <a:ext cx="6692400" cy="875880"/>
            <a:chOff x="1219320" y="2819520"/>
            <a:chExt cx="6692400" cy="875880"/>
          </a:xfrm>
        </p:grpSpPr>
        <p:sp>
          <p:nvSpPr>
            <p:cNvPr id="154" name=""/>
            <p:cNvSpPr/>
            <p:nvPr/>
          </p:nvSpPr>
          <p:spPr>
            <a:xfrm>
              <a:off x="1282680" y="289548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2819520"/>
              <a:ext cx="661644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84200" y="2922480"/>
            <a:ext cx="61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having broadband pipes to the edge of the home, it is necessary to extend those pipes into and through the h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06360" y="1752480"/>
            <a:ext cx="6692760" cy="876240"/>
            <a:chOff x="1206360" y="1752480"/>
            <a:chExt cx="6692760" cy="876240"/>
          </a:xfrm>
        </p:grpSpPr>
        <p:sp>
          <p:nvSpPr>
            <p:cNvPr id="158" name=""/>
            <p:cNvSpPr/>
            <p:nvPr/>
          </p:nvSpPr>
          <p:spPr>
            <a:xfrm>
              <a:off x="1269720" y="182880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06360" y="1752480"/>
              <a:ext cx="661680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398600" y="1734120"/>
            <a:ext cx="624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these cable acquisitions and other broadband access methods, AT&amp;T anticipates being able to offer broadband service to ~2/3 of the U.S households over the next 4 - 5 yea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7480" y="4952880"/>
            <a:ext cx="6692400" cy="876240"/>
            <a:chOff x="1257480" y="4952880"/>
            <a:chExt cx="6692400" cy="876240"/>
          </a:xfrm>
        </p:grpSpPr>
        <p:sp>
          <p:nvSpPr>
            <p:cNvPr id="162" name=""/>
            <p:cNvSpPr/>
            <p:nvPr/>
          </p:nvSpPr>
          <p:spPr>
            <a:xfrm>
              <a:off x="1320840" y="502920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7480" y="4952880"/>
              <a:ext cx="661644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614600" y="505620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is an extremely attractive solution for premises broadband distrib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1240" y="105876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T&amp;T to Provide Local Broadband Ac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03200" y="1460520"/>
          <a:ext cx="61056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460520"/>
                    <a:ext cx="61056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 Wireless Access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RMinfolif3" descr=""/>
          <p:cNvPicPr/>
          <p:nvPr/>
        </p:nvPicPr>
        <p:blipFill>
          <a:blip r:embed="rId1"/>
          <a:stretch/>
        </p:blipFill>
        <p:spPr>
          <a:xfrm>
            <a:off x="746280" y="1606680"/>
            <a:ext cx="767700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95560" y="2149560"/>
            <a:ext cx="5062680" cy="4008240"/>
          </a:xfrm>
          <a:prstGeom prst="rect">
            <a:avLst/>
          </a:prstGeom>
          <a:gradFill rotWithShape="0">
            <a:gsLst>
              <a:gs pos="0">
                <a:srgbClr val="b1b18d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133720"/>
            <a:ext cx="4952880" cy="3886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6146640" cy="3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ff"/>
                </a:solidFill>
                <a:latin typeface="Times New Roman"/>
              </a:rPr>
              <a:t>Data Communications Trend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648320"/>
            <a:ext cx="2438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8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Volumes For Wide Area Communications In US By Type Of Traffic, 1994-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: IDC, AT&amp;T Labs, Geopartners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6120" y="1523880"/>
            <a:ext cx="7683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1654200"/>
                <a:tab algn="l" pos="3308400"/>
                <a:tab algn="l" pos="4962600"/>
                <a:tab algn="l" pos="6616800"/>
                <a:tab algn="l" pos="8271000"/>
                <a:tab algn="l" pos="99252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Times New Roman"/>
              </a:rPr>
              <a:t>Post Year 2000: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  “Transition from a voice focused network supporting da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6640">
              <a:lnSpc>
                <a:spcPct val="100000"/>
              </a:lnSpc>
              <a:tabLst>
                <a:tab algn="l" pos="0"/>
                <a:tab algn="l" pos="3308400"/>
                <a:tab algn="l" pos="4962600"/>
                <a:tab algn="l" pos="6616800"/>
                <a:tab algn="l" pos="8271000"/>
                <a:tab algn="l" pos="99252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to a data focused network supporting voi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13200" y="3075120"/>
            <a:ext cx="0" cy="259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7760" y="56768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7760" y="51516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7760" y="4633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7760" y="410688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7760" y="3589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760" y="30621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5676840"/>
            <a:ext cx="274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3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655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118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6656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179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64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80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6244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166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1689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15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690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6880" y="54514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3400" y="49244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400" y="44085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3400" y="38815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3400" y="33656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6480" y="28368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67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853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933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901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7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887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87640" y="3240000"/>
            <a:ext cx="3817440" cy="2468520"/>
            <a:chOff x="3887640" y="3240000"/>
            <a:chExt cx="3817440" cy="2468520"/>
          </a:xfrm>
        </p:grpSpPr>
        <p:grpSp>
          <p:nvGrpSpPr>
            <p:cNvPr id="208" name=""/>
            <p:cNvGrpSpPr/>
            <p:nvPr/>
          </p:nvGrpSpPr>
          <p:grpSpPr>
            <a:xfrm>
              <a:off x="3887640" y="3240000"/>
              <a:ext cx="2808360" cy="2468520"/>
              <a:chOff x="3887640" y="3240000"/>
              <a:chExt cx="2808360" cy="2468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13200" y="3268800"/>
                <a:ext cx="2757600" cy="2411280"/>
              </a:xfrm>
              <a:custGeom>
                <a:avLst/>
                <a:gdLst/>
                <a:ahLst/>
                <a:rect l="l" t="t" r="r" b="b"/>
                <a:pathLst>
                  <a:path w="2162" h="1583">
                    <a:moveTo>
                      <a:pt x="0" y="1582"/>
                    </a:moveTo>
                    <a:lnTo>
                      <a:pt x="198" y="1576"/>
                    </a:lnTo>
                    <a:lnTo>
                      <a:pt x="391" y="1563"/>
                    </a:lnTo>
                    <a:lnTo>
                      <a:pt x="590" y="1537"/>
                    </a:lnTo>
                    <a:lnTo>
                      <a:pt x="788" y="1511"/>
                    </a:lnTo>
                    <a:lnTo>
                      <a:pt x="981" y="1447"/>
                    </a:lnTo>
                    <a:lnTo>
                      <a:pt x="1180" y="1358"/>
                    </a:lnTo>
                    <a:lnTo>
                      <a:pt x="1372" y="1223"/>
                    </a:lnTo>
                    <a:lnTo>
                      <a:pt x="1571" y="980"/>
                    </a:lnTo>
                    <a:lnTo>
                      <a:pt x="1769" y="724"/>
                    </a:lnTo>
                    <a:lnTo>
                      <a:pt x="1962" y="378"/>
                    </a:lnTo>
                    <a:lnTo>
                      <a:pt x="216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7640" y="5648400"/>
                <a:ext cx="52560" cy="601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1800" y="563868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8" y="0"/>
                    </a:moveTo>
                    <a:lnTo>
                      <a:pt x="38" y="19"/>
                    </a:lnTo>
                    <a:lnTo>
                      <a:pt x="18" y="38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86240" y="5619600"/>
                <a:ext cx="52560" cy="604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0400" y="558000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4200" y="5541840"/>
                <a:ext cx="49320" cy="59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38640" y="544356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8"/>
                    </a:lnTo>
                    <a:lnTo>
                      <a:pt x="19" y="38"/>
                    </a:lnTo>
                    <a:lnTo>
                      <a:pt x="0" y="18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94240" y="530712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37240" y="510228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92840" y="473076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45200" y="4343400"/>
                <a:ext cx="49320" cy="58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91440" y="381636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45240" y="32400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878520" y="4152960"/>
              <a:ext cx="79056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6280" y="4351320"/>
              <a:ext cx="20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9360" y="4322880"/>
              <a:ext cx="50760" cy="586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38080" y="4162320"/>
              <a:ext cx="567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30480" y="5178600"/>
            <a:ext cx="3713760" cy="353880"/>
            <a:chOff x="3930480" y="5178600"/>
            <a:chExt cx="3713760" cy="353880"/>
          </a:xfrm>
        </p:grpSpPr>
        <p:sp>
          <p:nvSpPr>
            <p:cNvPr id="227" name=""/>
            <p:cNvSpPr/>
            <p:nvPr/>
          </p:nvSpPr>
          <p:spPr>
            <a:xfrm flipV="1">
              <a:off x="3930480" y="5433840"/>
              <a:ext cx="2729160" cy="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9920" y="5178600"/>
              <a:ext cx="2164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oiceband - Voice, Fax &amp; Mod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73680" y="2438280"/>
            <a:ext cx="1606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verage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its 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03200" y="1386000"/>
            <a:ext cx="6437520" cy="477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06480" y="1108080"/>
            <a:ext cx="78422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Serv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052640" y="1542960"/>
          <a:ext cx="655164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42960"/>
                    <a:ext cx="655164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43040" y="9428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Times New Roman"/>
              </a:rPr>
              <a:t>Future Multimedia / Wireless Technology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694480" y="2260440"/>
            <a:ext cx="28872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95920" y="2262240"/>
            <a:ext cx="2811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5920" y="2268360"/>
            <a:ext cx="2714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95920" y="2271600"/>
            <a:ext cx="2667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9160" y="2273400"/>
            <a:ext cx="2588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99160" y="2276640"/>
            <a:ext cx="2556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02400" y="2282760"/>
            <a:ext cx="2397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02400" y="2284560"/>
            <a:ext cx="23652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2400" y="2287440"/>
            <a:ext cx="2318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03840" y="2293920"/>
            <a:ext cx="2174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07080" y="2297160"/>
            <a:ext cx="2109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7080" y="2298600"/>
            <a:ext cx="20628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07080" y="2300400"/>
            <a:ext cx="2016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08520" y="2308320"/>
            <a:ext cx="1908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1760" y="2309760"/>
            <a:ext cx="18108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1760" y="2313000"/>
            <a:ext cx="1764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1760" y="2314440"/>
            <a:ext cx="1731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2319480"/>
            <a:ext cx="1634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2320920"/>
            <a:ext cx="15732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440" y="2324160"/>
            <a:ext cx="1508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6440" y="2325600"/>
            <a:ext cx="1494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9680" y="2332080"/>
            <a:ext cx="13356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22920" y="2335320"/>
            <a:ext cx="1238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2920" y="2336760"/>
            <a:ext cx="1224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2920" y="2340000"/>
            <a:ext cx="1173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24360" y="2344680"/>
            <a:ext cx="10800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7600" y="2346480"/>
            <a:ext cx="9864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7600" y="2349360"/>
            <a:ext cx="968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2351160"/>
            <a:ext cx="903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35520" y="2357280"/>
            <a:ext cx="7308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2360520"/>
            <a:ext cx="6660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40560" y="2362320"/>
            <a:ext cx="5868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40560" y="2365200"/>
            <a:ext cx="554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48480" y="2371680"/>
            <a:ext cx="3492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49920" y="2373480"/>
            <a:ext cx="2844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54600" y="2376360"/>
            <a:ext cx="2088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1080" y="2381400"/>
            <a:ext cx="648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58760" y="1441440"/>
            <a:ext cx="7210080" cy="4457520"/>
            <a:chOff x="1058760" y="1441440"/>
            <a:chExt cx="7210080" cy="4457520"/>
          </a:xfrm>
        </p:grpSpPr>
        <p:grpSp>
          <p:nvGrpSpPr>
            <p:cNvPr id="273" name=""/>
            <p:cNvGrpSpPr/>
            <p:nvPr/>
          </p:nvGrpSpPr>
          <p:grpSpPr>
            <a:xfrm>
              <a:off x="1058760" y="1441440"/>
              <a:ext cx="7210080" cy="4457520"/>
              <a:chOff x="1058760" y="1441440"/>
              <a:chExt cx="7210080" cy="4457520"/>
            </a:xfrm>
          </p:grpSpPr>
          <p:sp>
            <p:nvSpPr>
              <p:cNvPr id="274" name=""/>
              <p:cNvSpPr/>
              <p:nvPr/>
            </p:nvSpPr>
            <p:spPr>
              <a:xfrm>
                <a:off x="1063080" y="1441440"/>
                <a:ext cx="7205760" cy="1832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63080" y="1624680"/>
                <a:ext cx="7205760" cy="18072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3080" y="1805400"/>
                <a:ext cx="7205760" cy="215280"/>
              </a:xfrm>
              <a:prstGeom prst="rect">
                <a:avLst/>
              </a:prstGeom>
              <a:solidFill>
                <a:srgbClr val="adc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63080" y="2021040"/>
                <a:ext cx="7205760" cy="217080"/>
              </a:xfrm>
              <a:prstGeom prst="rect">
                <a:avLst/>
              </a:prstGeom>
              <a:solidFill>
                <a:srgbClr val="b2c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3080" y="2238480"/>
                <a:ext cx="7205760" cy="215280"/>
              </a:xfrm>
              <a:prstGeom prst="rect">
                <a:avLst/>
              </a:prstGeom>
              <a:solidFill>
                <a:srgbClr val="b5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3080" y="2453760"/>
                <a:ext cx="7205760" cy="215280"/>
              </a:xfrm>
              <a:prstGeom prst="rect">
                <a:avLst/>
              </a:prstGeom>
              <a:solidFill>
                <a:srgbClr val="b9c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3080" y="2669400"/>
                <a:ext cx="7205760" cy="215640"/>
              </a:xfrm>
              <a:prstGeom prst="rect">
                <a:avLst/>
              </a:prstGeom>
              <a:solidFill>
                <a:srgbClr val="bd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63080" y="2885400"/>
                <a:ext cx="7205760" cy="216720"/>
              </a:xfrm>
              <a:prstGeom prst="rect">
                <a:avLst/>
              </a:prstGeom>
              <a:solidFill>
                <a:srgbClr val="c1d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3080" y="3102120"/>
                <a:ext cx="7205760" cy="215280"/>
              </a:xfrm>
              <a:prstGeom prst="rect">
                <a:avLst/>
              </a:pr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63080" y="3317760"/>
                <a:ext cx="7205760" cy="215280"/>
              </a:xfrm>
              <a:prstGeom prst="rect">
                <a:avLst/>
              </a:prstGeom>
              <a:solidFill>
                <a:srgbClr val="c8d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63080" y="3533400"/>
                <a:ext cx="7205760" cy="217080"/>
              </a:xfrm>
              <a:prstGeom prst="rect">
                <a:avLst/>
              </a:prstGeom>
              <a:solidFill>
                <a:srgbClr val="cc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63080" y="3750480"/>
                <a:ext cx="7205760" cy="215280"/>
              </a:xfrm>
              <a:prstGeom prst="rect">
                <a:avLst/>
              </a:prstGeom>
              <a:solidFill>
                <a:srgbClr val="cfd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63080" y="3966120"/>
                <a:ext cx="7205760" cy="215280"/>
              </a:xfrm>
              <a:prstGeom prst="rect">
                <a:avLst/>
              </a:prstGeom>
              <a:solidFill>
                <a:srgbClr val="d3d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63080" y="4181760"/>
                <a:ext cx="7205760" cy="215640"/>
              </a:xfrm>
              <a:prstGeom prst="rect">
                <a:avLst/>
              </a:prstGeom>
              <a:solidFill>
                <a:srgbClr val="d7e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63080" y="4397760"/>
                <a:ext cx="7205760" cy="216720"/>
              </a:xfrm>
              <a:prstGeom prst="rect">
                <a:avLst/>
              </a:prstGeom>
              <a:solidFill>
                <a:srgbClr val="dbe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63080" y="4614480"/>
                <a:ext cx="7205760" cy="215280"/>
              </a:xfrm>
              <a:prstGeom prst="rect">
                <a:avLst/>
              </a:prstGeom>
              <a:solidFill>
                <a:srgbClr val="dee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63080" y="4830120"/>
                <a:ext cx="7205760" cy="215640"/>
              </a:xfrm>
              <a:prstGeom prst="rect">
                <a:avLst/>
              </a:prstGeom>
              <a:solidFill>
                <a:srgbClr val="e2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3080" y="5045760"/>
                <a:ext cx="7205760" cy="213480"/>
              </a:xfrm>
              <a:prstGeom prst="rect">
                <a:avLst/>
              </a:prstGeom>
              <a:solidFill>
                <a:srgbClr val="e6e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63080" y="5259600"/>
                <a:ext cx="7205760" cy="213840"/>
              </a:xfrm>
              <a:prstGeom prst="rect">
                <a:avLst/>
              </a:prstGeom>
              <a:solidFill>
                <a:srgbClr val="ea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3080" y="5473800"/>
                <a:ext cx="7205760" cy="213840"/>
              </a:xfrm>
              <a:prstGeom prst="rect">
                <a:avLst/>
              </a:prstGeom>
              <a:solidFill>
                <a:srgbClr val="ed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3080" y="5688000"/>
                <a:ext cx="7205760" cy="2109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51200" y="1725120"/>
                <a:ext cx="3600360" cy="82080"/>
              </a:xfrm>
              <a:custGeom>
                <a:avLst/>
                <a:gdLst/>
                <a:ahLst/>
                <a:rect l="l" t="t" r="r" b="b"/>
                <a:pathLst>
                  <a:path w="2324" h="54">
                    <a:moveTo>
                      <a:pt x="2320" y="54"/>
                    </a:moveTo>
                    <a:lnTo>
                      <a:pt x="2322" y="54"/>
                    </a:lnTo>
                    <a:lnTo>
                      <a:pt x="2322" y="53"/>
                    </a:lnTo>
                    <a:lnTo>
                      <a:pt x="2324" y="53"/>
                    </a:lnTo>
                    <a:lnTo>
                      <a:pt x="2324" y="50"/>
                    </a:lnTo>
                    <a:lnTo>
                      <a:pt x="2322" y="50"/>
                    </a:lnTo>
                    <a:lnTo>
                      <a:pt x="2322" y="49"/>
                    </a:lnTo>
                    <a:lnTo>
                      <a:pt x="2320" y="49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51200" y="1725120"/>
                <a:ext cx="3600360" cy="303480"/>
              </a:xfrm>
              <a:custGeom>
                <a:avLst/>
                <a:gdLst/>
                <a:ahLst/>
                <a:rect l="l" t="t" r="r" b="b"/>
                <a:pathLst>
                  <a:path w="2324" h="200">
                    <a:moveTo>
                      <a:pt x="2320" y="200"/>
                    </a:moveTo>
                    <a:lnTo>
                      <a:pt x="2322" y="200"/>
                    </a:lnTo>
                    <a:lnTo>
                      <a:pt x="2324" y="198"/>
                    </a:lnTo>
                    <a:lnTo>
                      <a:pt x="2324" y="195"/>
                    </a:lnTo>
                    <a:lnTo>
                      <a:pt x="2322" y="194"/>
                    </a:lnTo>
                    <a:lnTo>
                      <a:pt x="2320" y="194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51200" y="1725120"/>
                <a:ext cx="3600360" cy="669600"/>
              </a:xfrm>
              <a:custGeom>
                <a:avLst/>
                <a:gdLst/>
                <a:ahLst/>
                <a:rect l="l" t="t" r="r" b="b"/>
                <a:pathLst>
                  <a:path w="2324" h="441">
                    <a:moveTo>
                      <a:pt x="2320" y="441"/>
                    </a:moveTo>
                    <a:lnTo>
                      <a:pt x="2322" y="441"/>
                    </a:lnTo>
                    <a:lnTo>
                      <a:pt x="2322" y="440"/>
                    </a:lnTo>
                    <a:lnTo>
                      <a:pt x="2324" y="440"/>
                    </a:lnTo>
                    <a:lnTo>
                      <a:pt x="2324" y="437"/>
                    </a:lnTo>
                    <a:lnTo>
                      <a:pt x="2322" y="437"/>
                    </a:lnTo>
                    <a:lnTo>
                      <a:pt x="2322" y="435"/>
                    </a:lnTo>
                    <a:lnTo>
                      <a:pt x="2320" y="435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51200" y="1725120"/>
                <a:ext cx="3600360" cy="1182960"/>
              </a:xfrm>
              <a:custGeom>
                <a:avLst/>
                <a:gdLst/>
                <a:ahLst/>
                <a:rect l="l" t="t" r="r" b="b"/>
                <a:pathLst>
                  <a:path w="2324" h="779">
                    <a:moveTo>
                      <a:pt x="2319" y="779"/>
                    </a:moveTo>
                    <a:lnTo>
                      <a:pt x="2322" y="779"/>
                    </a:lnTo>
                    <a:lnTo>
                      <a:pt x="2324" y="777"/>
                    </a:lnTo>
                    <a:lnTo>
                      <a:pt x="2324" y="774"/>
                    </a:lnTo>
                    <a:lnTo>
                      <a:pt x="2322" y="773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319" y="7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51200" y="1725120"/>
                <a:ext cx="3600360" cy="1843200"/>
              </a:xfrm>
              <a:custGeom>
                <a:avLst/>
                <a:gdLst/>
                <a:ahLst/>
                <a:rect l="l" t="t" r="r" b="b"/>
                <a:pathLst>
                  <a:path w="2324" h="1214">
                    <a:moveTo>
                      <a:pt x="2319" y="1214"/>
                    </a:moveTo>
                    <a:lnTo>
                      <a:pt x="2322" y="1214"/>
                    </a:lnTo>
                    <a:lnTo>
                      <a:pt x="2322" y="1213"/>
                    </a:lnTo>
                    <a:lnTo>
                      <a:pt x="2324" y="1213"/>
                    </a:lnTo>
                    <a:lnTo>
                      <a:pt x="2324" y="1210"/>
                    </a:lnTo>
                    <a:lnTo>
                      <a:pt x="2322" y="1210"/>
                    </a:lnTo>
                    <a:lnTo>
                      <a:pt x="2322" y="1208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319" y="1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51200" y="1725120"/>
                <a:ext cx="3600360" cy="2651040"/>
              </a:xfrm>
              <a:custGeom>
                <a:avLst/>
                <a:gdLst/>
                <a:ahLst/>
                <a:rect l="l" t="t" r="r" b="b"/>
                <a:pathLst>
                  <a:path w="2324" h="1746">
                    <a:moveTo>
                      <a:pt x="2319" y="1746"/>
                    </a:moveTo>
                    <a:lnTo>
                      <a:pt x="2322" y="1746"/>
                    </a:lnTo>
                    <a:lnTo>
                      <a:pt x="2324" y="1745"/>
                    </a:lnTo>
                    <a:lnTo>
                      <a:pt x="2324" y="1742"/>
                    </a:lnTo>
                    <a:lnTo>
                      <a:pt x="2322" y="174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319" y="17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51200" y="1725120"/>
                <a:ext cx="3327840" cy="3750120"/>
              </a:xfrm>
              <a:custGeom>
                <a:avLst/>
                <a:gdLst/>
                <a:ahLst/>
                <a:rect l="l" t="t" r="r" b="b"/>
                <a:pathLst>
                  <a:path w="2148" h="2470">
                    <a:moveTo>
                      <a:pt x="2142" y="2469"/>
                    </a:moveTo>
                    <a:lnTo>
                      <a:pt x="2143" y="2470"/>
                    </a:lnTo>
                    <a:lnTo>
                      <a:pt x="2147" y="2470"/>
                    </a:lnTo>
                    <a:lnTo>
                      <a:pt x="2148" y="2469"/>
                    </a:lnTo>
                    <a:lnTo>
                      <a:pt x="2148" y="2466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142" y="2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51200" y="1725120"/>
                <a:ext cx="1507320" cy="3750120"/>
              </a:xfrm>
              <a:custGeom>
                <a:avLst/>
                <a:gdLst/>
                <a:ahLst/>
                <a:rect l="l" t="t" r="r" b="b"/>
                <a:pathLst>
                  <a:path w="973" h="2470">
                    <a:moveTo>
                      <a:pt x="967" y="2469"/>
                    </a:moveTo>
                    <a:lnTo>
                      <a:pt x="969" y="2470"/>
                    </a:lnTo>
                    <a:lnTo>
                      <a:pt x="972" y="2470"/>
                    </a:lnTo>
                    <a:lnTo>
                      <a:pt x="973" y="2469"/>
                    </a:lnTo>
                    <a:lnTo>
                      <a:pt x="973" y="2466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967" y="2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51200" y="1725120"/>
                <a:ext cx="9000" cy="3750120"/>
              </a:xfrm>
              <a:custGeom>
                <a:avLst/>
                <a:gdLst/>
                <a:ahLst/>
                <a:rect l="l" t="t" r="r" b="b"/>
                <a:pathLst>
                  <a:path w="6" h="2470">
                    <a:moveTo>
                      <a:pt x="0" y="2467"/>
                    </a:moveTo>
                    <a:lnTo>
                      <a:pt x="0" y="2469"/>
                    </a:lnTo>
                    <a:lnTo>
                      <a:pt x="1" y="2469"/>
                    </a:lnTo>
                    <a:lnTo>
                      <a:pt x="1" y="2470"/>
                    </a:lnTo>
                    <a:lnTo>
                      <a:pt x="5" y="2470"/>
                    </a:lnTo>
                    <a:lnTo>
                      <a:pt x="5" y="2469"/>
                    </a:lnTo>
                    <a:lnTo>
                      <a:pt x="6" y="2469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58760" y="1725120"/>
                <a:ext cx="3601800" cy="82080"/>
              </a:xfrm>
              <a:custGeom>
                <a:avLst/>
                <a:gdLst/>
                <a:ahLst/>
                <a:rect l="l" t="t" r="r" b="b"/>
                <a:pathLst>
                  <a:path w="2325" h="54">
                    <a:moveTo>
                      <a:pt x="3" y="49"/>
                    </a:moveTo>
                    <a:lnTo>
                      <a:pt x="2" y="49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58760" y="1725120"/>
                <a:ext cx="3601800" cy="303480"/>
              </a:xfrm>
              <a:custGeom>
                <a:avLst/>
                <a:gdLst/>
                <a:ahLst/>
                <a:rect l="l" t="t" r="r" b="b"/>
                <a:pathLst>
                  <a:path w="2325" h="200">
                    <a:moveTo>
                      <a:pt x="3" y="194"/>
                    </a:moveTo>
                    <a:lnTo>
                      <a:pt x="2" y="194"/>
                    </a:lnTo>
                    <a:lnTo>
                      <a:pt x="0" y="195"/>
                    </a:lnTo>
                    <a:lnTo>
                      <a:pt x="0" y="198"/>
                    </a:lnTo>
                    <a:lnTo>
                      <a:pt x="2" y="200"/>
                    </a:lnTo>
                    <a:lnTo>
                      <a:pt x="3" y="200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58760" y="1725120"/>
                <a:ext cx="3601800" cy="669600"/>
              </a:xfrm>
              <a:custGeom>
                <a:avLst/>
                <a:gdLst/>
                <a:ahLst/>
                <a:rect l="l" t="t" r="r" b="b"/>
                <a:pathLst>
                  <a:path w="2325" h="441">
                    <a:moveTo>
                      <a:pt x="3" y="435"/>
                    </a:moveTo>
                    <a:lnTo>
                      <a:pt x="2" y="435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40"/>
                    </a:lnTo>
                    <a:lnTo>
                      <a:pt x="2" y="440"/>
                    </a:lnTo>
                    <a:lnTo>
                      <a:pt x="2" y="441"/>
                    </a:lnTo>
                    <a:lnTo>
                      <a:pt x="3" y="441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58760" y="1725120"/>
                <a:ext cx="3601800" cy="1182960"/>
              </a:xfrm>
              <a:custGeom>
                <a:avLst/>
                <a:gdLst/>
                <a:ahLst/>
                <a:rect l="l" t="t" r="r" b="b"/>
                <a:pathLst>
                  <a:path w="2325" h="779">
                    <a:moveTo>
                      <a:pt x="2" y="773"/>
                    </a:moveTo>
                    <a:lnTo>
                      <a:pt x="0" y="774"/>
                    </a:lnTo>
                    <a:lnTo>
                      <a:pt x="0" y="777"/>
                    </a:lnTo>
                    <a:lnTo>
                      <a:pt x="2" y="779"/>
                    </a:lnTo>
                    <a:lnTo>
                      <a:pt x="5" y="779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7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58760" y="1725120"/>
                <a:ext cx="3601800" cy="1843200"/>
              </a:xfrm>
              <a:custGeom>
                <a:avLst/>
                <a:gdLst/>
                <a:ahLst/>
                <a:rect l="l" t="t" r="r" b="b"/>
                <a:pathLst>
                  <a:path w="2325" h="1214">
                    <a:moveTo>
                      <a:pt x="2" y="1208"/>
                    </a:moveTo>
                    <a:lnTo>
                      <a:pt x="2" y="1210"/>
                    </a:lnTo>
                    <a:lnTo>
                      <a:pt x="0" y="1210"/>
                    </a:lnTo>
                    <a:lnTo>
                      <a:pt x="0" y="1213"/>
                    </a:lnTo>
                    <a:lnTo>
                      <a:pt x="2" y="1213"/>
                    </a:lnTo>
                    <a:lnTo>
                      <a:pt x="2" y="1214"/>
                    </a:lnTo>
                    <a:lnTo>
                      <a:pt x="5" y="1214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1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8760" y="1725120"/>
                <a:ext cx="3601800" cy="2651040"/>
              </a:xfrm>
              <a:custGeom>
                <a:avLst/>
                <a:gdLst/>
                <a:ahLst/>
                <a:rect l="l" t="t" r="r" b="b"/>
                <a:pathLst>
                  <a:path w="2325" h="1746">
                    <a:moveTo>
                      <a:pt x="2" y="1740"/>
                    </a:moveTo>
                    <a:lnTo>
                      <a:pt x="0" y="1742"/>
                    </a:lnTo>
                    <a:lnTo>
                      <a:pt x="0" y="1745"/>
                    </a:lnTo>
                    <a:lnTo>
                      <a:pt x="2" y="1746"/>
                    </a:lnTo>
                    <a:lnTo>
                      <a:pt x="5" y="1746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17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22720" y="1725120"/>
                <a:ext cx="3237840" cy="3675600"/>
              </a:xfrm>
              <a:custGeom>
                <a:avLst/>
                <a:gdLst/>
                <a:ahLst/>
                <a:rect l="l" t="t" r="r" b="b"/>
                <a:pathLst>
                  <a:path w="2090" h="2421">
                    <a:moveTo>
                      <a:pt x="0" y="2417"/>
                    </a:moveTo>
                    <a:lnTo>
                      <a:pt x="0" y="2420"/>
                    </a:lnTo>
                    <a:lnTo>
                      <a:pt x="2" y="2421"/>
                    </a:lnTo>
                    <a:lnTo>
                      <a:pt x="5" y="2421"/>
                    </a:lnTo>
                    <a:lnTo>
                      <a:pt x="6" y="2420"/>
                    </a:lnTo>
                    <a:lnTo>
                      <a:pt x="2090" y="4"/>
                    </a:lnTo>
                    <a:lnTo>
                      <a:pt x="2090" y="1"/>
                    </a:lnTo>
                    <a:lnTo>
                      <a:pt x="2089" y="0"/>
                    </a:lnTo>
                    <a:lnTo>
                      <a:pt x="2085" y="0"/>
                    </a:lnTo>
                    <a:lnTo>
                      <a:pt x="2084" y="1"/>
                    </a:lnTo>
                    <a:lnTo>
                      <a:pt x="0" y="2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05000" y="1725120"/>
                <a:ext cx="1555200" cy="3750120"/>
              </a:xfrm>
              <a:custGeom>
                <a:avLst/>
                <a:gdLst/>
                <a:ahLst/>
                <a:rect l="l" t="t" r="r" b="b"/>
                <a:pathLst>
                  <a:path w="1004" h="2470">
                    <a:moveTo>
                      <a:pt x="0" y="2466"/>
                    </a:moveTo>
                    <a:lnTo>
                      <a:pt x="0" y="2469"/>
                    </a:lnTo>
                    <a:lnTo>
                      <a:pt x="2" y="2470"/>
                    </a:lnTo>
                    <a:lnTo>
                      <a:pt x="5" y="2470"/>
                    </a:lnTo>
                    <a:lnTo>
                      <a:pt x="7" y="2469"/>
                    </a:lnTo>
                    <a:lnTo>
                      <a:pt x="1004" y="4"/>
                    </a:lnTo>
                    <a:lnTo>
                      <a:pt x="1004" y="1"/>
                    </a:lnTo>
                    <a:lnTo>
                      <a:pt x="1003" y="0"/>
                    </a:lnTo>
                    <a:lnTo>
                      <a:pt x="999" y="0"/>
                    </a:lnTo>
                    <a:lnTo>
                      <a:pt x="998" y="1"/>
                    </a:lnTo>
                    <a:lnTo>
                      <a:pt x="0" y="2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058760" y="465984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58760" y="4001400"/>
                <a:ext cx="7193160" cy="864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58760" y="341352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5"/>
                    </a:lnTo>
                    <a:lnTo>
                      <a:pt x="4643" y="5"/>
                    </a:lnTo>
                    <a:lnTo>
                      <a:pt x="4643" y="2"/>
                    </a:lnTo>
                    <a:lnTo>
                      <a:pt x="4641" y="2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58760" y="289872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58760" y="2460240"/>
                <a:ext cx="7193160" cy="864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2"/>
                    </a:lnTo>
                    <a:lnTo>
                      <a:pt x="4641" y="2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058760" y="209412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58760" y="187416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4639" y="5"/>
                    </a:move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63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58760" y="179964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5320" y="2539080"/>
                <a:ext cx="40111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69600" y="3132720"/>
                <a:ext cx="48088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20480" y="3891600"/>
                <a:ext cx="5365080" cy="29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120" y="3507480"/>
                <a:ext cx="1082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ransport Network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40760" y="361404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d Interfa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2880" y="2772720"/>
                <a:ext cx="38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um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50880" y="2879280"/>
                <a:ext cx="543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nterfa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35800" y="4699440"/>
                <a:ext cx="6045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5920" y="197100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4120" y="197424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21240" y="1978920"/>
                <a:ext cx="138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19440" y="1980000"/>
                <a:ext cx="1407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19440" y="198180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16560" y="1985040"/>
                <a:ext cx="14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13680" y="1986480"/>
                <a:ext cx="142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11880" y="199080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08640" y="199404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8640" y="1995120"/>
                <a:ext cx="142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07200" y="199692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3960" y="200016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3960" y="2001600"/>
                <a:ext cx="142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01080" y="2004480"/>
                <a:ext cx="145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9640" y="2005920"/>
                <a:ext cx="144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0" y="2010600"/>
                <a:ext cx="1440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93160" y="201348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93160" y="2015280"/>
                <a:ext cx="145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1720" y="201672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8840" y="201960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88840" y="2021040"/>
                <a:ext cx="145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87400" y="2024280"/>
                <a:ext cx="1465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84160" y="202608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80920" y="203040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9480" y="2031840"/>
                <a:ext cx="14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79480" y="2034720"/>
                <a:ext cx="146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76240" y="2036160"/>
                <a:ext cx="149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74440" y="2039400"/>
                <a:ext cx="148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71560" y="2044080"/>
                <a:ext cx="150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8680" y="2045520"/>
                <a:ext cx="149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66880" y="2049840"/>
                <a:ext cx="1486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63640" y="2051640"/>
                <a:ext cx="1519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63640" y="2054520"/>
                <a:ext cx="150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62200" y="205632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59320" y="205920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56080" y="206064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56080" y="2063880"/>
                <a:ext cx="151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54640" y="2065320"/>
                <a:ext cx="15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51400" y="2066760"/>
                <a:ext cx="154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51400" y="2069640"/>
                <a:ext cx="151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9960" y="2071440"/>
                <a:ext cx="153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46720" y="2074320"/>
                <a:ext cx="154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43840" y="20790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42400" y="208044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42400" y="2083320"/>
                <a:ext cx="1530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39160" y="208512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35920" y="2086560"/>
                <a:ext cx="158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34480" y="209088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31240" y="2094120"/>
                <a:ext cx="158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29800" y="2098440"/>
                <a:ext cx="156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26920" y="210024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26920" y="210168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23680" y="210492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21880" y="2106000"/>
                <a:ext cx="1598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19000" y="2111040"/>
                <a:ext cx="1594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17200" y="2113560"/>
                <a:ext cx="159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14320" y="2118600"/>
                <a:ext cx="159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11080" y="2120040"/>
                <a:ext cx="16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1080" y="2121120"/>
                <a:ext cx="159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09640" y="2124360"/>
                <a:ext cx="160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06400" y="2126160"/>
                <a:ext cx="162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04960" y="2130480"/>
                <a:ext cx="160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1720" y="2133720"/>
                <a:ext cx="16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01720" y="2135160"/>
                <a:ext cx="162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98840" y="2136960"/>
                <a:ext cx="162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97400" y="2139480"/>
                <a:ext cx="163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97400" y="2141280"/>
                <a:ext cx="160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4160" y="2144520"/>
                <a:ext cx="16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90920" y="2145600"/>
                <a:ext cx="165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89480" y="2150280"/>
                <a:ext cx="16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86600" y="21531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6600" y="2154600"/>
                <a:ext cx="163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85160" y="2156400"/>
                <a:ext cx="165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81920" y="215964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81920" y="2160720"/>
                <a:ext cx="16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78680" y="21639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76880" y="2165400"/>
                <a:ext cx="1674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74000" y="217008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72200" y="2171520"/>
                <a:ext cx="1688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72200" y="2174760"/>
                <a:ext cx="1656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69320" y="2176200"/>
                <a:ext cx="1688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66440" y="2179080"/>
                <a:ext cx="1702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64640" y="2183760"/>
                <a:ext cx="1688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361400" y="2185200"/>
                <a:ext cx="1702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59960" y="2189880"/>
                <a:ext cx="168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57080" y="2191320"/>
                <a:ext cx="1720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57080" y="2194200"/>
                <a:ext cx="168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53840" y="2195640"/>
                <a:ext cx="1720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52400" y="2198880"/>
                <a:ext cx="17172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9160" y="2203560"/>
                <a:ext cx="172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47720" y="2205000"/>
                <a:ext cx="1735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47720" y="2206440"/>
                <a:ext cx="1717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4480" y="2209320"/>
                <a:ext cx="1717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41600" y="2211120"/>
                <a:ext cx="17496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41600" y="2214000"/>
                <a:ext cx="1720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40160" y="2215800"/>
                <a:ext cx="1735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6920" y="2218680"/>
                <a:ext cx="17496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33680" y="2223360"/>
                <a:ext cx="1749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32240" y="2224440"/>
                <a:ext cx="1760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29000" y="2226240"/>
                <a:ext cx="1778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27560" y="2230920"/>
                <a:ext cx="1764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24680" y="2233800"/>
                <a:ext cx="1760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21440" y="2238480"/>
                <a:ext cx="177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19640" y="2239560"/>
                <a:ext cx="1796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19640" y="2241360"/>
                <a:ext cx="1764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16400" y="2244600"/>
                <a:ext cx="1796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14960" y="2246040"/>
                <a:ext cx="1778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12080" y="225036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08840" y="2253600"/>
                <a:ext cx="1828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308840" y="2255040"/>
                <a:ext cx="1796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07400" y="225648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04160" y="2259720"/>
                <a:ext cx="1828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04160" y="226116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02720" y="2264040"/>
                <a:ext cx="181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299480" y="2265480"/>
                <a:ext cx="18108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96600" y="2270520"/>
                <a:ext cx="1828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95160" y="2273040"/>
                <a:ext cx="1843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95160" y="2274840"/>
                <a:ext cx="181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91920" y="2276280"/>
                <a:ext cx="1843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90480" y="2279160"/>
                <a:ext cx="1839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90480" y="2280600"/>
                <a:ext cx="1807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87240" y="2283840"/>
                <a:ext cx="1839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284360" y="2285640"/>
                <a:ext cx="18432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82560" y="2289960"/>
                <a:ext cx="1843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79680" y="2291400"/>
                <a:ext cx="1872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79680" y="2294640"/>
                <a:ext cx="1839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6440" y="2296080"/>
                <a:ext cx="18720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74640" y="2298960"/>
                <a:ext cx="18756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71760" y="2303640"/>
                <a:ext cx="1872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69960" y="2305080"/>
                <a:ext cx="18576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67080" y="2309760"/>
                <a:ext cx="1875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64200" y="2311200"/>
                <a:ext cx="1900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64200" y="2314080"/>
                <a:ext cx="18720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2400" y="2315880"/>
                <a:ext cx="1890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59160" y="2318760"/>
                <a:ext cx="1904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57720" y="2323440"/>
                <a:ext cx="1890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54840" y="23248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4840" y="2326680"/>
                <a:ext cx="1890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51600" y="2329560"/>
                <a:ext cx="1904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50160" y="233100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50160" y="2334240"/>
                <a:ext cx="1890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46920" y="233532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45480" y="2338560"/>
                <a:ext cx="1900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2240" y="23428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39360" y="2344680"/>
                <a:ext cx="1951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39360" y="234612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856680" y="2349360"/>
              <a:ext cx="574200" cy="507960"/>
              <a:chOff x="3856680" y="2349360"/>
              <a:chExt cx="574200" cy="507960"/>
            </a:xfrm>
          </p:grpSpPr>
          <p:sp>
            <p:nvSpPr>
              <p:cNvPr id="475" name=""/>
              <p:cNvSpPr/>
              <p:nvPr/>
            </p:nvSpPr>
            <p:spPr>
              <a:xfrm>
                <a:off x="4237560" y="2349360"/>
                <a:ext cx="1933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34320" y="2350440"/>
                <a:ext cx="19476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34320" y="23536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32520" y="2355480"/>
                <a:ext cx="1936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30000" y="2358000"/>
                <a:ext cx="1933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26760" y="2361240"/>
                <a:ext cx="19476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4960" y="2364480"/>
                <a:ext cx="1965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24960" y="2365560"/>
                <a:ext cx="1936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21720" y="2368800"/>
                <a:ext cx="1969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218840" y="2370600"/>
                <a:ext cx="19800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18840" y="2373120"/>
                <a:ext cx="1947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17040" y="237492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14160" y="2378160"/>
                <a:ext cx="19656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12720" y="238068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09480" y="2383920"/>
                <a:ext cx="199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09480" y="238572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06240" y="2388600"/>
                <a:ext cx="1998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04800" y="2390040"/>
                <a:ext cx="199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01560" y="239328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01560" y="2394720"/>
                <a:ext cx="199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00480" y="2396160"/>
                <a:ext cx="1980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97240" y="2399040"/>
                <a:ext cx="2008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97240" y="2400840"/>
                <a:ext cx="199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94000" y="240408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92560" y="2405160"/>
                <a:ext cx="20088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89320" y="2409840"/>
                <a:ext cx="2008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87520" y="241272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87520" y="2414160"/>
                <a:ext cx="2012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85000" y="2415960"/>
                <a:ext cx="2041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81760" y="241920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81760" y="2420280"/>
                <a:ext cx="2026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79960" y="2423520"/>
                <a:ext cx="2044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77080" y="2424960"/>
                <a:ext cx="20412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73840" y="242964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2400" y="2431080"/>
                <a:ext cx="2059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72400" y="243432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69520" y="2435400"/>
                <a:ext cx="2070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67720" y="2438640"/>
                <a:ext cx="20592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64480" y="2442960"/>
                <a:ext cx="2073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61600" y="2444760"/>
                <a:ext cx="20700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59800" y="2449440"/>
                <a:ext cx="2059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56920" y="2450880"/>
                <a:ext cx="2091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56920" y="2453760"/>
                <a:ext cx="2073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55480" y="2455560"/>
                <a:ext cx="2088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52240" y="2458440"/>
                <a:ext cx="20880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49000" y="2463120"/>
                <a:ext cx="2106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47560" y="24645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47560" y="2466000"/>
                <a:ext cx="208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44320" y="2468880"/>
                <a:ext cx="208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43240" y="2470680"/>
                <a:ext cx="21024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43240" y="2473560"/>
                <a:ext cx="208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40000" y="2475000"/>
                <a:ext cx="2120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36760" y="2478240"/>
                <a:ext cx="2120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35320" y="24825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2080" y="2484000"/>
                <a:ext cx="2152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32080" y="2485800"/>
                <a:ext cx="2120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30280" y="2489040"/>
                <a:ext cx="2138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27760" y="2490120"/>
                <a:ext cx="2134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27760" y="24933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24520" y="2494800"/>
                <a:ext cx="2152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2720" y="2498040"/>
                <a:ext cx="213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19480" y="2500920"/>
                <a:ext cx="213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116600" y="2504160"/>
                <a:ext cx="21636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16600" y="2505600"/>
                <a:ext cx="2152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15160" y="2508480"/>
                <a:ext cx="2167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11920" y="2509920"/>
                <a:ext cx="21672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10480" y="2514600"/>
                <a:ext cx="21636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07240" y="2517480"/>
                <a:ext cx="2167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04000" y="2520720"/>
                <a:ext cx="2167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02560" y="2523600"/>
                <a:ext cx="21816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02560" y="2525040"/>
                <a:ext cx="2163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99680" y="2528280"/>
                <a:ext cx="2196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98240" y="2529720"/>
                <a:ext cx="21780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95000" y="2534400"/>
                <a:ext cx="2196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91760" y="2535840"/>
                <a:ext cx="222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91760" y="2538720"/>
                <a:ext cx="2196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90320" y="2540520"/>
                <a:ext cx="2178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87080" y="2543400"/>
                <a:ext cx="2210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87080" y="2544840"/>
                <a:ext cx="2196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85640" y="2548080"/>
                <a:ext cx="2214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82760" y="2549520"/>
                <a:ext cx="2210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79520" y="2553840"/>
                <a:ext cx="2228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77720" y="2555640"/>
                <a:ext cx="22464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74840" y="2558520"/>
                <a:ext cx="22428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73040" y="2563200"/>
                <a:ext cx="2228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70160" y="2564640"/>
                <a:ext cx="2246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67280" y="2568960"/>
                <a:ext cx="2242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65480" y="2570760"/>
                <a:ext cx="2260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65480" y="2574000"/>
                <a:ext cx="2246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062240" y="2575440"/>
                <a:ext cx="227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59000" y="2578320"/>
                <a:ext cx="22788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057560" y="258300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54680" y="258408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054680" y="2587320"/>
                <a:ext cx="2275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53240" y="258912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50000" y="259056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50000" y="259344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46760" y="259488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45320" y="2598120"/>
                <a:ext cx="2289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42440" y="2602440"/>
                <a:ext cx="2293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41000" y="2604240"/>
                <a:ext cx="2304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41000" y="2605680"/>
                <a:ext cx="2289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37760" y="2608560"/>
                <a:ext cx="2318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4520" y="2610000"/>
                <a:ext cx="2318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034520" y="2613240"/>
                <a:ext cx="2293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3080" y="2615040"/>
                <a:ext cx="23040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29840" y="2617560"/>
                <a:ext cx="23184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028400" y="2622600"/>
                <a:ext cx="2304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25160" y="2623680"/>
                <a:ext cx="2336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25160" y="2625120"/>
                <a:ext cx="2322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22280" y="2628360"/>
                <a:ext cx="2350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020480" y="2630160"/>
                <a:ext cx="23364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17240" y="2634480"/>
                <a:ext cx="2336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15800" y="2637720"/>
                <a:ext cx="2336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12920" y="2640600"/>
                <a:ext cx="23364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09680" y="2643480"/>
                <a:ext cx="2368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09680" y="2645280"/>
                <a:ext cx="2354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008240" y="2648160"/>
                <a:ext cx="236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2649600"/>
                <a:ext cx="23688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01760" y="265428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000320" y="265716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97440" y="266040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96000" y="2663280"/>
                <a:ext cx="2383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96000" y="2664720"/>
                <a:ext cx="2365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92760" y="2667960"/>
                <a:ext cx="2397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89520" y="2669400"/>
                <a:ext cx="24012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88080" y="2674080"/>
                <a:ext cx="2383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5200" y="2675520"/>
                <a:ext cx="2415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85200" y="2678400"/>
                <a:ext cx="2397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983400" y="2679840"/>
                <a:ext cx="238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80520" y="2683080"/>
                <a:ext cx="2412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80520" y="2684520"/>
                <a:ext cx="238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77280" y="2687400"/>
                <a:ext cx="2415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75480" y="2689200"/>
                <a:ext cx="2415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72600" y="2693520"/>
                <a:ext cx="2412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2694960"/>
                <a:ext cx="243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71160" y="2698200"/>
                <a:ext cx="2415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67920" y="2700000"/>
                <a:ext cx="24444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64680" y="270252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964680" y="2704320"/>
                <a:ext cx="2415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963240" y="2707560"/>
                <a:ext cx="2430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60000" y="2709000"/>
                <a:ext cx="24444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957120" y="271332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55680" y="2715120"/>
                <a:ext cx="24588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955680" y="271764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952440" y="2719440"/>
                <a:ext cx="2476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1000" y="2722680"/>
                <a:ext cx="245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47760" y="27241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47760" y="2725200"/>
                <a:ext cx="245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44520" y="2728440"/>
                <a:ext cx="2476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943080" y="273024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943080" y="2733120"/>
                <a:ext cx="245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40200" y="273456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38760" y="2737800"/>
                <a:ext cx="2487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935520" y="27421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32280" y="2743560"/>
                <a:ext cx="2523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32280" y="274536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30480" y="2748240"/>
                <a:ext cx="2509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27960" y="2749680"/>
                <a:ext cx="252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27960" y="27529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6160" y="275436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22920" y="275724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20040" y="2760480"/>
                <a:ext cx="252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18240" y="2763720"/>
                <a:ext cx="2538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18240" y="276480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15000" y="2768040"/>
                <a:ext cx="2541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13920" y="2769480"/>
                <a:ext cx="25380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10680" y="2774160"/>
                <a:ext cx="25380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07440" y="2777040"/>
                <a:ext cx="2541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6000" y="2779920"/>
                <a:ext cx="2538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902760" y="278316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02760" y="2784600"/>
                <a:ext cx="2538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99520" y="2787480"/>
                <a:ext cx="2570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98440" y="2789280"/>
                <a:ext cx="25704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95200" y="279396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93760" y="279540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93760" y="2798280"/>
                <a:ext cx="2552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90520" y="2800080"/>
                <a:ext cx="25704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87280" y="2802960"/>
                <a:ext cx="2599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7280" y="2804400"/>
                <a:ext cx="2570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85840" y="2807640"/>
                <a:ext cx="2584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2960" y="2809080"/>
                <a:ext cx="25992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81160" y="2813400"/>
                <a:ext cx="25848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78280" y="2818080"/>
                <a:ext cx="258480" cy="46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75040" y="2822760"/>
                <a:ext cx="2599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75040" y="2824200"/>
                <a:ext cx="2570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73240" y="2827080"/>
                <a:ext cx="2584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73240" y="2828520"/>
                <a:ext cx="2570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70360" y="283032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70360" y="2833560"/>
                <a:ext cx="2574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68920" y="28346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68920" y="2837880"/>
                <a:ext cx="255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65680" y="283932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865680" y="284220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2440" y="284364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61000" y="2846880"/>
                <a:ext cx="2584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61000" y="2848680"/>
                <a:ext cx="255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857760" y="285012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57760" y="285300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56680" y="28544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391920" y="2857680"/>
              <a:ext cx="719640" cy="455040"/>
              <a:chOff x="3391920" y="2857680"/>
              <a:chExt cx="719640" cy="455040"/>
            </a:xfrm>
          </p:grpSpPr>
          <p:sp>
            <p:nvSpPr>
              <p:cNvPr id="676" name=""/>
              <p:cNvSpPr/>
              <p:nvPr/>
            </p:nvSpPr>
            <p:spPr>
              <a:xfrm>
                <a:off x="3856320" y="2857680"/>
                <a:ext cx="2552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53080" y="2859120"/>
                <a:ext cx="25848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850200" y="286200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848760" y="28652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845520" y="2868120"/>
                <a:ext cx="26136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42280" y="2869560"/>
                <a:ext cx="2613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42280" y="2872800"/>
                <a:ext cx="2599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40840" y="2874240"/>
                <a:ext cx="26136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37960" y="2877120"/>
                <a:ext cx="261360" cy="46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36160" y="2881800"/>
                <a:ext cx="2617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33280" y="2883240"/>
                <a:ext cx="2646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3280" y="2885040"/>
                <a:ext cx="26136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30040" y="2887920"/>
                <a:ext cx="2646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28240" y="2889360"/>
                <a:ext cx="2631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25360" y="2892600"/>
                <a:ext cx="266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825360" y="2894040"/>
                <a:ext cx="2646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23920" y="2896920"/>
                <a:ext cx="26316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20680" y="2898360"/>
                <a:ext cx="2664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20680" y="2900160"/>
                <a:ext cx="26460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817800" y="2903040"/>
                <a:ext cx="2674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16000" y="2904480"/>
                <a:ext cx="26640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12760" y="2909160"/>
                <a:ext cx="2664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811320" y="2912400"/>
                <a:ext cx="2678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08440" y="291348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08440" y="2916720"/>
                <a:ext cx="2664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805200" y="2918520"/>
                <a:ext cx="2696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803760" y="291996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00520" y="2922840"/>
                <a:ext cx="2725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00520" y="292428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9080" y="2927520"/>
                <a:ext cx="2707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5840" y="2928600"/>
                <a:ext cx="2710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792960" y="2931840"/>
                <a:ext cx="27396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91520" y="2933640"/>
                <a:ext cx="273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88280" y="2935080"/>
                <a:ext cx="2768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788280" y="2937960"/>
                <a:ext cx="273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85040" y="2939400"/>
                <a:ext cx="2736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83600" y="2942640"/>
                <a:ext cx="275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80720" y="2944080"/>
                <a:ext cx="2768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78920" y="2946960"/>
                <a:ext cx="2786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778920" y="2948760"/>
                <a:ext cx="2754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75680" y="2951640"/>
                <a:ext cx="2786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72800" y="2953080"/>
                <a:ext cx="2800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71000" y="2954520"/>
                <a:ext cx="2818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67760" y="2957760"/>
                <a:ext cx="28188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66320" y="2962080"/>
                <a:ext cx="2800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63440" y="2963880"/>
                <a:ext cx="2818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60200" y="2967120"/>
                <a:ext cx="2851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758760" y="2968200"/>
                <a:ext cx="2833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755520" y="2969640"/>
                <a:ext cx="2865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5520" y="2972880"/>
                <a:ext cx="2851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54080" y="2974680"/>
                <a:ext cx="2865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751200" y="2977560"/>
                <a:ext cx="286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747960" y="2979000"/>
                <a:ext cx="2894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746520" y="2982240"/>
                <a:ext cx="2880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43280" y="2983320"/>
                <a:ext cx="2908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40040" y="2986560"/>
                <a:ext cx="2926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740040" y="2988000"/>
                <a:ext cx="2894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738600" y="2989800"/>
                <a:ext cx="2908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5720" y="2992680"/>
                <a:ext cx="292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733920" y="2994120"/>
                <a:ext cx="294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731040" y="2997360"/>
                <a:ext cx="2937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27800" y="2998800"/>
                <a:ext cx="2970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726000" y="3001680"/>
                <a:ext cx="2959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23120" y="3003120"/>
                <a:ext cx="298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21680" y="3004920"/>
                <a:ext cx="29880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18440" y="3009240"/>
                <a:ext cx="298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715560" y="3012480"/>
                <a:ext cx="3002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713760" y="3013920"/>
                <a:ext cx="3020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710520" y="3016800"/>
                <a:ext cx="3020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709080" y="3018600"/>
                <a:ext cx="30312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06200" y="3021480"/>
                <a:ext cx="30312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702960" y="3022920"/>
                <a:ext cx="3063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01520" y="3024360"/>
                <a:ext cx="30636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698280" y="3029040"/>
                <a:ext cx="3063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96840" y="3031920"/>
                <a:ext cx="307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693960" y="3033720"/>
                <a:ext cx="30780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690720" y="3036600"/>
                <a:ext cx="3096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689280" y="3038400"/>
                <a:ext cx="3110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86040" y="3039480"/>
                <a:ext cx="3110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82800" y="3042720"/>
                <a:ext cx="3142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681360" y="3044520"/>
                <a:ext cx="31428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678480" y="3047040"/>
                <a:ext cx="3171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6680" y="3048840"/>
                <a:ext cx="31608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3053520"/>
                <a:ext cx="3160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670560" y="3056400"/>
                <a:ext cx="3186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68760" y="3057840"/>
                <a:ext cx="3189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65520" y="3059640"/>
                <a:ext cx="31896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664440" y="3062160"/>
                <a:ext cx="3204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61200" y="3063960"/>
                <a:ext cx="3218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657960" y="3067200"/>
                <a:ext cx="3250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656520" y="3068640"/>
                <a:ext cx="3236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653280" y="3071520"/>
                <a:ext cx="3268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51840" y="3072960"/>
                <a:ext cx="3250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48960" y="3074760"/>
                <a:ext cx="3283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45720" y="3077640"/>
                <a:ext cx="3297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44280" y="3079080"/>
                <a:ext cx="3312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644280" y="3082320"/>
                <a:ext cx="328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41040" y="3083760"/>
                <a:ext cx="3297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39240" y="3086640"/>
                <a:ext cx="3312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36720" y="3088080"/>
                <a:ext cx="3312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33480" y="3089880"/>
                <a:ext cx="3340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31680" y="3093120"/>
                <a:ext cx="3326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28800" y="3094200"/>
                <a:ext cx="3355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25560" y="3097440"/>
                <a:ext cx="337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23760" y="3098880"/>
                <a:ext cx="339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21240" y="3101760"/>
                <a:ext cx="3387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19440" y="3103560"/>
                <a:ext cx="34056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616200" y="3106440"/>
                <a:ext cx="3405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12960" y="3108240"/>
                <a:ext cx="34236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611520" y="3112560"/>
                <a:ext cx="340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608280" y="3114000"/>
                <a:ext cx="343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07200" y="3116880"/>
                <a:ext cx="343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603960" y="3118680"/>
                <a:ext cx="34668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600720" y="3121560"/>
                <a:ext cx="3466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599280" y="3123360"/>
                <a:ext cx="3481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96040" y="3124800"/>
                <a:ext cx="348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594600" y="3127680"/>
                <a:ext cx="349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91720" y="3129120"/>
                <a:ext cx="3513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588480" y="3132360"/>
                <a:ext cx="3513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87040" y="3133800"/>
                <a:ext cx="352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3800" y="3137040"/>
                <a:ext cx="35460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582000" y="3141360"/>
                <a:ext cx="3531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79120" y="3142800"/>
                <a:ext cx="3564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76240" y="3144600"/>
                <a:ext cx="35604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574440" y="3147480"/>
                <a:ext cx="3578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71200" y="3148920"/>
                <a:ext cx="3592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68320" y="3152160"/>
                <a:ext cx="3618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566520" y="3153600"/>
                <a:ext cx="3607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563640" y="3156480"/>
                <a:ext cx="3621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62200" y="3157920"/>
                <a:ext cx="3636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58960" y="3159720"/>
                <a:ext cx="36360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55720" y="3162600"/>
                <a:ext cx="3668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554280" y="3164040"/>
                <a:ext cx="3654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551040" y="3167280"/>
                <a:ext cx="3686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549960" y="3168720"/>
                <a:ext cx="3682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546720" y="3171960"/>
                <a:ext cx="3715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43480" y="3173040"/>
                <a:ext cx="3715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42040" y="3176280"/>
                <a:ext cx="3715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538800" y="3178080"/>
                <a:ext cx="3744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537000" y="3179520"/>
                <a:ext cx="3733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34480" y="3182400"/>
                <a:ext cx="375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31240" y="3183840"/>
                <a:ext cx="3758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9440" y="3187080"/>
                <a:ext cx="3776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526560" y="3188160"/>
                <a:ext cx="379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23320" y="3191400"/>
                <a:ext cx="3823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21520" y="3193200"/>
                <a:ext cx="3808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18640" y="3194640"/>
                <a:ext cx="384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517200" y="3197520"/>
                <a:ext cx="382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13960" y="3198960"/>
                <a:ext cx="384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510720" y="3202200"/>
                <a:ext cx="3873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509280" y="3203640"/>
                <a:ext cx="38556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06400" y="3206520"/>
                <a:ext cx="3888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504960" y="3208320"/>
                <a:ext cx="3888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501720" y="3211200"/>
                <a:ext cx="3916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98480" y="3212640"/>
                <a:ext cx="391680" cy="43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97040" y="3217320"/>
                <a:ext cx="385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85840" y="3217320"/>
                <a:ext cx="108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493800" y="3219120"/>
                <a:ext cx="3931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492720" y="3221640"/>
                <a:ext cx="3884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489480" y="3223440"/>
                <a:ext cx="393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86240" y="3226680"/>
                <a:ext cx="3916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484440" y="3227760"/>
                <a:ext cx="3963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481560" y="3229560"/>
                <a:ext cx="3931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479760" y="3232440"/>
                <a:ext cx="3981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476880" y="3234240"/>
                <a:ext cx="39636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76880" y="3237120"/>
                <a:ext cx="3981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474000" y="3238560"/>
                <a:ext cx="3960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72200" y="3241800"/>
                <a:ext cx="4010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68960" y="3242880"/>
                <a:ext cx="399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66080" y="3246120"/>
                <a:ext cx="4035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464280" y="3247560"/>
                <a:ext cx="4010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461400" y="3249360"/>
                <a:ext cx="40716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459960" y="3252240"/>
                <a:ext cx="4024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456720" y="3253680"/>
                <a:ext cx="408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453480" y="3256920"/>
                <a:ext cx="4071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452040" y="3258360"/>
                <a:ext cx="410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449160" y="3261240"/>
                <a:ext cx="4086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47720" y="3263040"/>
                <a:ext cx="4132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444480" y="3264480"/>
                <a:ext cx="4118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441240" y="3267360"/>
                <a:ext cx="4165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439800" y="3268800"/>
                <a:ext cx="4132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436560" y="3272040"/>
                <a:ext cx="4165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435120" y="3273480"/>
                <a:ext cx="415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432240" y="3276360"/>
                <a:ext cx="4176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429000" y="3278160"/>
                <a:ext cx="41940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427200" y="3281040"/>
                <a:ext cx="4212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423960" y="3282480"/>
                <a:ext cx="4212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422520" y="3283920"/>
                <a:ext cx="4226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419640" y="3287160"/>
                <a:ext cx="4258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16400" y="3288600"/>
                <a:ext cx="425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414960" y="3291480"/>
                <a:ext cx="4273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411720" y="3293280"/>
                <a:ext cx="429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408480" y="3296520"/>
                <a:ext cx="4291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407040" y="3297600"/>
                <a:ext cx="4287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404160" y="3299040"/>
                <a:ext cx="4320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402720" y="3302280"/>
                <a:ext cx="430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99480" y="3304080"/>
                <a:ext cx="43344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96240" y="3306600"/>
                <a:ext cx="4334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94800" y="3308400"/>
                <a:ext cx="433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391920" y="3311640"/>
                <a:ext cx="436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831040" y="3313440"/>
              <a:ext cx="993960" cy="436680"/>
              <a:chOff x="2831040" y="3313440"/>
              <a:chExt cx="993960" cy="436680"/>
            </a:xfrm>
          </p:grpSpPr>
          <p:sp>
            <p:nvSpPr>
              <p:cNvPr id="877" name=""/>
              <p:cNvSpPr/>
              <p:nvPr/>
            </p:nvSpPr>
            <p:spPr>
              <a:xfrm>
                <a:off x="3389760" y="3313440"/>
                <a:ext cx="4352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386880" y="3316320"/>
                <a:ext cx="436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383640" y="3317760"/>
                <a:ext cx="439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381840" y="3319560"/>
                <a:ext cx="438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78960" y="3322440"/>
                <a:ext cx="4410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377520" y="3323880"/>
                <a:ext cx="4399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71400" y="3327120"/>
                <a:ext cx="4442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369600" y="3328560"/>
                <a:ext cx="446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366360" y="3331440"/>
                <a:ext cx="4460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64920" y="3332880"/>
                <a:ext cx="4471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2040" y="3334680"/>
                <a:ext cx="4489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58800" y="3337560"/>
                <a:ext cx="4489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54120" y="3339000"/>
                <a:ext cx="453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350880" y="3342240"/>
                <a:ext cx="4536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49800" y="3343680"/>
                <a:ext cx="453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46560" y="3346560"/>
                <a:ext cx="4536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345120" y="3348000"/>
                <a:ext cx="455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41880" y="3351240"/>
                <a:ext cx="4568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38640" y="3352680"/>
                <a:ext cx="456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34320" y="3354120"/>
                <a:ext cx="4582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332520" y="3357360"/>
                <a:ext cx="4600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329280" y="3358800"/>
                <a:ext cx="4615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326400" y="3361680"/>
                <a:ext cx="4611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24600" y="3363480"/>
                <a:ext cx="46008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21360" y="3366360"/>
                <a:ext cx="4629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317040" y="3367800"/>
                <a:ext cx="4662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313800" y="3369240"/>
                <a:ext cx="4662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312360" y="3372480"/>
                <a:ext cx="465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09120" y="3373920"/>
                <a:ext cx="469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306240" y="3376800"/>
                <a:ext cx="4690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301560" y="3378600"/>
                <a:ext cx="47088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300120" y="3381480"/>
                <a:ext cx="4705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96880" y="3383280"/>
                <a:ext cx="473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92200" y="3386160"/>
                <a:ext cx="4752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387600"/>
                <a:ext cx="4766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87520" y="3389400"/>
                <a:ext cx="4755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281400" y="3391920"/>
                <a:ext cx="4813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79600" y="3393720"/>
                <a:ext cx="479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77080" y="3396960"/>
                <a:ext cx="4813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72040" y="3398400"/>
                <a:ext cx="4831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269160" y="3401280"/>
                <a:ext cx="484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67360" y="3402720"/>
                <a:ext cx="4863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264120" y="3404520"/>
                <a:ext cx="4863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259800" y="3407040"/>
                <a:ext cx="4878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56560" y="3408840"/>
                <a:ext cx="489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55120" y="3412080"/>
                <a:ext cx="487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249000" y="3413520"/>
                <a:ext cx="4906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247560" y="3416400"/>
                <a:ext cx="4906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244320" y="3417840"/>
                <a:ext cx="493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239640" y="3421080"/>
                <a:ext cx="4953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36400" y="3422520"/>
                <a:ext cx="496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34960" y="3423960"/>
                <a:ext cx="495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30280" y="3427200"/>
                <a:ext cx="497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27040" y="3428640"/>
                <a:ext cx="498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224160" y="3431520"/>
                <a:ext cx="4986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19480" y="3432960"/>
                <a:ext cx="503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18040" y="3436200"/>
                <a:ext cx="5032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214800" y="3438000"/>
                <a:ext cx="5032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0120" y="3439080"/>
                <a:ext cx="5047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06880" y="3442320"/>
                <a:ext cx="506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05800" y="3443760"/>
                <a:ext cx="504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199320" y="3446640"/>
                <a:ext cx="5094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97880" y="3448440"/>
                <a:ext cx="51084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191400" y="3451320"/>
                <a:ext cx="5140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190320" y="3453120"/>
                <a:ext cx="5122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85280" y="3456000"/>
                <a:ext cx="515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182400" y="3457440"/>
                <a:ext cx="5155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77360" y="3458880"/>
                <a:ext cx="518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74840" y="3461760"/>
                <a:ext cx="518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169800" y="3463560"/>
                <a:ext cx="5202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66560" y="3466440"/>
                <a:ext cx="5220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62240" y="3468240"/>
                <a:ext cx="5234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0800" y="3471120"/>
                <a:ext cx="52164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4320" y="3472560"/>
                <a:ext cx="5266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52880" y="3474000"/>
                <a:ext cx="524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48200" y="3477240"/>
                <a:ext cx="527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45320" y="3478680"/>
                <a:ext cx="527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40640" y="3481920"/>
                <a:ext cx="529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134160" y="3483360"/>
                <a:ext cx="533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132720" y="3486240"/>
                <a:ext cx="532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128040" y="3487680"/>
                <a:ext cx="5328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124800" y="3489480"/>
                <a:ext cx="5328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20120" y="3492360"/>
                <a:ext cx="5356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115800" y="3493800"/>
                <a:ext cx="5371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12560" y="3497040"/>
                <a:ext cx="5389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107880" y="3498480"/>
                <a:ext cx="540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103560" y="3501360"/>
                <a:ext cx="541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95640" y="3502800"/>
                <a:ext cx="547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089520" y="3506040"/>
                <a:ext cx="551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84840" y="3507480"/>
                <a:ext cx="5540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080160" y="3508920"/>
                <a:ext cx="5558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072240" y="3512160"/>
                <a:ext cx="560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67560" y="3513600"/>
                <a:ext cx="5634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62880" y="3516480"/>
                <a:ext cx="5652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58560" y="3517920"/>
                <a:ext cx="566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50640" y="3521160"/>
                <a:ext cx="572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46320" y="3522960"/>
                <a:ext cx="574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038040" y="3524040"/>
                <a:ext cx="5806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32280" y="3527280"/>
                <a:ext cx="5803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25800" y="3528720"/>
                <a:ext cx="585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019680" y="3531960"/>
                <a:ext cx="58824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010320" y="3533040"/>
                <a:ext cx="5961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998080" y="3536280"/>
                <a:ext cx="6051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988720" y="3538080"/>
                <a:ext cx="611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977560" y="3540960"/>
                <a:ext cx="6210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968560" y="3542400"/>
                <a:ext cx="6271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956320" y="3543840"/>
                <a:ext cx="637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45520" y="3547080"/>
                <a:ext cx="6458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932920" y="3548520"/>
                <a:ext cx="6534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23560" y="3551400"/>
                <a:ext cx="6598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1320" y="3553200"/>
                <a:ext cx="6703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00520" y="3556080"/>
                <a:ext cx="677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892600" y="3557520"/>
                <a:ext cx="6829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886480" y="3558960"/>
                <a:ext cx="687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78560" y="3562200"/>
                <a:ext cx="6919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71000" y="3563640"/>
                <a:ext cx="6969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59840" y="3566520"/>
                <a:ext cx="7063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854080" y="3568320"/>
                <a:ext cx="7088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846160" y="3571200"/>
                <a:ext cx="7120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38600" y="3572640"/>
                <a:ext cx="716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31040" y="3575880"/>
                <a:ext cx="722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831040" y="3577320"/>
                <a:ext cx="7200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31040" y="3578760"/>
                <a:ext cx="718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831040" y="3582000"/>
                <a:ext cx="715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831040" y="3583440"/>
                <a:ext cx="712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831040" y="3586680"/>
                <a:ext cx="707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831040" y="3587760"/>
                <a:ext cx="7059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31040" y="3591000"/>
                <a:ext cx="7030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31040" y="3592440"/>
                <a:ext cx="699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31040" y="3594240"/>
                <a:ext cx="6980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31040" y="3597120"/>
                <a:ext cx="6919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1040" y="3598560"/>
                <a:ext cx="6904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31040" y="3601800"/>
                <a:ext cx="687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31040" y="3602880"/>
                <a:ext cx="685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31040" y="3606120"/>
                <a:ext cx="679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31040" y="3607920"/>
                <a:ext cx="6778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31040" y="3610440"/>
                <a:ext cx="6750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31040" y="3612240"/>
                <a:ext cx="6735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31040" y="3613680"/>
                <a:ext cx="6703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831040" y="3616920"/>
                <a:ext cx="6656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831040" y="3618000"/>
                <a:ext cx="6627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31040" y="3621240"/>
                <a:ext cx="661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831040" y="3623040"/>
                <a:ext cx="6580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31040" y="3625560"/>
                <a:ext cx="654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31040" y="3627360"/>
                <a:ext cx="6501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31040" y="3628800"/>
                <a:ext cx="648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31040" y="3632040"/>
                <a:ext cx="6454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31040" y="3633480"/>
                <a:ext cx="64260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831040" y="3636360"/>
                <a:ext cx="6375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831040" y="3638160"/>
                <a:ext cx="634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831040" y="3641400"/>
                <a:ext cx="633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31040" y="3642480"/>
                <a:ext cx="6300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31040" y="3645720"/>
                <a:ext cx="625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31040" y="3647160"/>
                <a:ext cx="622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31040" y="3648960"/>
                <a:ext cx="62064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31040" y="3651480"/>
                <a:ext cx="616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831040" y="3653280"/>
                <a:ext cx="613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31040" y="3656520"/>
                <a:ext cx="6098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31040" y="3657600"/>
                <a:ext cx="6051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31040" y="3660840"/>
                <a:ext cx="6037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31040" y="3662280"/>
                <a:ext cx="600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831040" y="3664080"/>
                <a:ext cx="595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31040" y="3666960"/>
                <a:ext cx="5925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31040" y="3668400"/>
                <a:ext cx="5911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31040" y="3671640"/>
                <a:ext cx="588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831040" y="3672720"/>
                <a:ext cx="583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831040" y="3675960"/>
                <a:ext cx="580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831040" y="3677400"/>
                <a:ext cx="577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31040" y="3680280"/>
                <a:ext cx="5727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31040" y="3682080"/>
                <a:ext cx="571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831040" y="3683520"/>
                <a:ext cx="568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831040" y="3686760"/>
                <a:ext cx="563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831040" y="3688200"/>
                <a:ext cx="5605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31040" y="3691080"/>
                <a:ext cx="5587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31040" y="3692520"/>
                <a:ext cx="5526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31040" y="3695760"/>
                <a:ext cx="5508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33560" y="3697200"/>
                <a:ext cx="545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833560" y="3698640"/>
                <a:ext cx="540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835360" y="3701880"/>
                <a:ext cx="5356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38600" y="3703320"/>
                <a:ext cx="5277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41480" y="3706200"/>
                <a:ext cx="5234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41480" y="3708000"/>
                <a:ext cx="51732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43280" y="3710880"/>
                <a:ext cx="514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46160" y="3712320"/>
                <a:ext cx="504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46160" y="3715560"/>
                <a:ext cx="5032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47600" y="3717000"/>
                <a:ext cx="4971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50840" y="3718440"/>
                <a:ext cx="490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854080" y="3721320"/>
                <a:ext cx="4845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4080" y="3723120"/>
                <a:ext cx="4798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55520" y="3726000"/>
                <a:ext cx="4766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58760" y="3727440"/>
                <a:ext cx="4676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8760" y="3730680"/>
                <a:ext cx="4658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59840" y="3732120"/>
                <a:ext cx="460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63080" y="3733920"/>
                <a:ext cx="45360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66320" y="3736440"/>
                <a:ext cx="4460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6320" y="3738240"/>
                <a:ext cx="442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67760" y="3741480"/>
                <a:ext cx="4366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71000" y="3742920"/>
                <a:ext cx="430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71000" y="3745800"/>
                <a:ext cx="4258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72800" y="3747240"/>
                <a:ext cx="4208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831040" y="1971000"/>
              <a:ext cx="1971360" cy="2005560"/>
              <a:chOff x="2831040" y="1971000"/>
              <a:chExt cx="1971360" cy="2005560"/>
            </a:xfrm>
          </p:grpSpPr>
          <p:sp>
            <p:nvSpPr>
              <p:cNvPr id="1078" name=""/>
              <p:cNvSpPr/>
              <p:nvPr/>
            </p:nvSpPr>
            <p:spPr>
              <a:xfrm>
                <a:off x="2875320" y="3750120"/>
                <a:ext cx="4136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78560" y="3751560"/>
                <a:ext cx="4086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78560" y="3753360"/>
                <a:ext cx="4028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0360" y="3756240"/>
                <a:ext cx="3963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3240" y="3757680"/>
                <a:ext cx="391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3240" y="3760920"/>
                <a:ext cx="3859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6480" y="3762360"/>
                <a:ext cx="3808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8280" y="3765240"/>
                <a:ext cx="3747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91160" y="3767040"/>
                <a:ext cx="365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91160" y="3768480"/>
                <a:ext cx="3636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92600" y="3771360"/>
                <a:ext cx="356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95840" y="3772800"/>
                <a:ext cx="351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95840" y="3776040"/>
                <a:ext cx="347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99080" y="3777480"/>
                <a:ext cx="3373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900520" y="3780360"/>
                <a:ext cx="3344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03400" y="3782160"/>
                <a:ext cx="32652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03400" y="3785040"/>
                <a:ext cx="3232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04840" y="3786840"/>
                <a:ext cx="3175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08080" y="3787920"/>
                <a:ext cx="30960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08080" y="3791160"/>
                <a:ext cx="3034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911320" y="3792960"/>
                <a:ext cx="29556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12760" y="3795480"/>
                <a:ext cx="28980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916000" y="3797280"/>
                <a:ext cx="2818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916000" y="3800520"/>
                <a:ext cx="2754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917800" y="3801960"/>
                <a:ext cx="2692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920320" y="3803040"/>
                <a:ext cx="2617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20320" y="3806280"/>
                <a:ext cx="2588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23560" y="3808080"/>
                <a:ext cx="25092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925360" y="3810960"/>
                <a:ext cx="2444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928240" y="3812400"/>
                <a:ext cx="2368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928240" y="3815640"/>
                <a:ext cx="2322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31480" y="3817080"/>
                <a:ext cx="2228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932920" y="3819960"/>
                <a:ext cx="2167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932920" y="3821400"/>
                <a:ext cx="2120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3823200"/>
                <a:ext cx="2044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37600" y="3826440"/>
                <a:ext cx="1965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940840" y="3827520"/>
                <a:ext cx="1886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40840" y="3830760"/>
                <a:ext cx="1839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43720" y="3832200"/>
                <a:ext cx="1735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45520" y="3835080"/>
                <a:ext cx="1670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945520" y="3836520"/>
                <a:ext cx="1623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48400" y="3838320"/>
                <a:ext cx="15480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949840" y="3841560"/>
                <a:ext cx="1468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949840" y="3842640"/>
                <a:ext cx="14256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53080" y="3845880"/>
                <a:ext cx="1346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956320" y="3847320"/>
                <a:ext cx="1267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57760" y="3850560"/>
                <a:ext cx="1173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957760" y="3852000"/>
                <a:ext cx="11304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961000" y="3854880"/>
                <a:ext cx="10332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962080" y="3856680"/>
                <a:ext cx="975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965320" y="3861000"/>
                <a:ext cx="943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968560" y="3862440"/>
                <a:ext cx="910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970000" y="3865680"/>
                <a:ext cx="8964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973240" y="3870000"/>
                <a:ext cx="867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975040" y="3871800"/>
                <a:ext cx="849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977560" y="3876120"/>
                <a:ext cx="820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980800" y="3877560"/>
                <a:ext cx="788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982600" y="3880800"/>
                <a:ext cx="7704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985840" y="3885480"/>
                <a:ext cx="738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988720" y="3886920"/>
                <a:ext cx="712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990520" y="3891240"/>
                <a:ext cx="694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993400" y="3893040"/>
                <a:ext cx="6624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994840" y="3895920"/>
                <a:ext cx="648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998080" y="3900600"/>
                <a:ext cx="615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01320" y="3902040"/>
                <a:ext cx="5832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002760" y="3906360"/>
                <a:ext cx="572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005640" y="3908160"/>
                <a:ext cx="5400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07080" y="3911040"/>
                <a:ext cx="5256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10320" y="3915720"/>
                <a:ext cx="493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13560" y="3917160"/>
                <a:ext cx="460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015000" y="3921480"/>
                <a:ext cx="446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018240" y="3923280"/>
                <a:ext cx="4176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019680" y="3926520"/>
                <a:ext cx="399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022560" y="3930840"/>
                <a:ext cx="370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025800" y="3932280"/>
                <a:ext cx="3384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027600" y="3936960"/>
                <a:ext cx="320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30480" y="3939840"/>
                <a:ext cx="291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032280" y="3941640"/>
                <a:ext cx="2772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035160" y="3945960"/>
                <a:ext cx="244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038040" y="3947400"/>
                <a:ext cx="216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039840" y="3952440"/>
                <a:ext cx="1980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43080" y="3954960"/>
                <a:ext cx="165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046320" y="3956760"/>
                <a:ext cx="136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047760" y="3961080"/>
                <a:ext cx="122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0640" y="3962520"/>
                <a:ext cx="90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052080" y="3967560"/>
                <a:ext cx="756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055320" y="3970080"/>
                <a:ext cx="432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058560" y="3971880"/>
                <a:ext cx="10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870000" y="3242880"/>
                <a:ext cx="2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73240" y="3238560"/>
                <a:ext cx="14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3234240"/>
                <a:ext cx="2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77920" y="3229560"/>
                <a:ext cx="25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80800" y="3226320"/>
                <a:ext cx="14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2600" y="3221640"/>
                <a:ext cx="288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31040" y="1971000"/>
                <a:ext cx="1835280" cy="2005560"/>
              </a:xfrm>
              <a:custGeom>
                <a:avLst/>
                <a:gdLst/>
                <a:ahLst/>
                <a:rect l="l" t="t" r="r" b="b"/>
                <a:pathLst>
                  <a:path w="1185" h="1321">
                    <a:moveTo>
                      <a:pt x="0" y="1057"/>
                    </a:moveTo>
                    <a:lnTo>
                      <a:pt x="148" y="1242"/>
                    </a:lnTo>
                    <a:lnTo>
                      <a:pt x="148" y="1321"/>
                    </a:lnTo>
                    <a:lnTo>
                      <a:pt x="0" y="1136"/>
                    </a:lnTo>
                    <a:lnTo>
                      <a:pt x="0" y="1057"/>
                    </a:lnTo>
                    <a:close/>
                    <a:moveTo>
                      <a:pt x="148" y="1242"/>
                    </a:moveTo>
                    <a:lnTo>
                      <a:pt x="200" y="1220"/>
                    </a:lnTo>
                    <a:lnTo>
                      <a:pt x="253" y="1196"/>
                    </a:lnTo>
                    <a:lnTo>
                      <a:pt x="304" y="1167"/>
                    </a:lnTo>
                    <a:lnTo>
                      <a:pt x="356" y="1136"/>
                    </a:lnTo>
                    <a:lnTo>
                      <a:pt x="409" y="1100"/>
                    </a:lnTo>
                    <a:lnTo>
                      <a:pt x="464" y="1059"/>
                    </a:lnTo>
                    <a:lnTo>
                      <a:pt x="515" y="1018"/>
                    </a:lnTo>
                    <a:lnTo>
                      <a:pt x="562" y="978"/>
                    </a:lnTo>
                    <a:lnTo>
                      <a:pt x="600" y="937"/>
                    </a:lnTo>
                    <a:lnTo>
                      <a:pt x="633" y="898"/>
                    </a:lnTo>
                    <a:lnTo>
                      <a:pt x="660" y="858"/>
                    </a:lnTo>
                    <a:lnTo>
                      <a:pt x="681" y="819"/>
                    </a:lnTo>
                    <a:lnTo>
                      <a:pt x="652" y="871"/>
                    </a:lnTo>
                    <a:lnTo>
                      <a:pt x="1185" y="0"/>
                    </a:lnTo>
                    <a:lnTo>
                      <a:pt x="1094" y="0"/>
                    </a:lnTo>
                    <a:lnTo>
                      <a:pt x="681" y="551"/>
                    </a:lnTo>
                    <a:lnTo>
                      <a:pt x="671" y="568"/>
                    </a:lnTo>
                    <a:lnTo>
                      <a:pt x="660" y="585"/>
                    </a:lnTo>
                    <a:lnTo>
                      <a:pt x="629" y="624"/>
                    </a:lnTo>
                    <a:lnTo>
                      <a:pt x="594" y="663"/>
                    </a:lnTo>
                    <a:lnTo>
                      <a:pt x="555" y="702"/>
                    </a:lnTo>
                    <a:lnTo>
                      <a:pt x="515" y="740"/>
                    </a:lnTo>
                    <a:lnTo>
                      <a:pt x="476" y="778"/>
                    </a:lnTo>
                    <a:lnTo>
                      <a:pt x="439" y="811"/>
                    </a:lnTo>
                    <a:lnTo>
                      <a:pt x="409" y="841"/>
                    </a:lnTo>
                    <a:lnTo>
                      <a:pt x="357" y="887"/>
                    </a:lnTo>
                    <a:lnTo>
                      <a:pt x="309" y="924"/>
                    </a:lnTo>
                    <a:lnTo>
                      <a:pt x="262" y="956"/>
                    </a:lnTo>
                    <a:lnTo>
                      <a:pt x="237" y="973"/>
                    </a:lnTo>
                    <a:lnTo>
                      <a:pt x="208" y="990"/>
                    </a:lnTo>
                    <a:lnTo>
                      <a:pt x="179" y="1006"/>
                    </a:lnTo>
                    <a:lnTo>
                      <a:pt x="150" y="1018"/>
                    </a:lnTo>
                    <a:lnTo>
                      <a:pt x="122" y="1028"/>
                    </a:lnTo>
                    <a:lnTo>
                      <a:pt x="95" y="1034"/>
                    </a:lnTo>
                    <a:lnTo>
                      <a:pt x="45" y="1044"/>
                    </a:lnTo>
                    <a:lnTo>
                      <a:pt x="0" y="1057"/>
                    </a:lnTo>
                    <a:lnTo>
                      <a:pt x="148" y="1242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666320" y="197100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63080" y="1973880"/>
                <a:ext cx="139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63080" y="197532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59840" y="1978560"/>
                <a:ext cx="139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659840" y="1979640"/>
                <a:ext cx="137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658400" y="198144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58400" y="1984680"/>
                <a:ext cx="136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55520" y="198612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655520" y="1989000"/>
                <a:ext cx="137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652280" y="1990440"/>
                <a:ext cx="141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50840" y="199368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647600" y="199656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46160" y="200124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43280" y="2005560"/>
                <a:ext cx="139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40040" y="2010240"/>
                <a:ext cx="140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638600" y="2014920"/>
                <a:ext cx="142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635360" y="2016360"/>
                <a:ext cx="142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33560" y="2020680"/>
                <a:ext cx="141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630680" y="2025720"/>
                <a:ext cx="142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627800" y="2030040"/>
                <a:ext cx="142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626000" y="2034360"/>
                <a:ext cx="141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23120" y="203580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623120" y="2039040"/>
                <a:ext cx="1422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621320" y="204084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21320" y="2043720"/>
                <a:ext cx="1407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618080" y="204516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18080" y="2048400"/>
                <a:ext cx="14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615200" y="2049840"/>
                <a:ext cx="145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613760" y="2054160"/>
                <a:ext cx="144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610520" y="205884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607640" y="2060280"/>
                <a:ext cx="146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607640" y="2063520"/>
                <a:ext cx="145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05840" y="206496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605840" y="2066400"/>
                <a:ext cx="1440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602600" y="206928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602600" y="2071080"/>
                <a:ext cx="145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601160" y="207396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601160" y="207540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598280" y="207864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95040" y="2080080"/>
                <a:ext cx="1468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593600" y="208476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90360" y="208944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88920" y="2093760"/>
                <a:ext cx="148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88920" y="209520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5680" y="2098080"/>
                <a:ext cx="150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82800" y="2099880"/>
                <a:ext cx="150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81360" y="2104560"/>
                <a:ext cx="148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578120" y="2108880"/>
                <a:ext cx="149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576320" y="2113200"/>
                <a:ext cx="148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573440" y="2118240"/>
                <a:ext cx="1497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70560" y="2120760"/>
                <a:ext cx="149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568760" y="2124000"/>
                <a:ext cx="151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568760" y="2125800"/>
                <a:ext cx="1486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65520" y="2128680"/>
                <a:ext cx="1519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564080" y="213336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560840" y="2136600"/>
                <a:ext cx="151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557600" y="2140920"/>
                <a:ext cx="151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556520" y="2144160"/>
                <a:ext cx="153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556520" y="214524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53280" y="214848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53280" y="214992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50040" y="21528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50040" y="2154240"/>
                <a:ext cx="15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48600" y="215604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548600" y="215928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545360" y="216036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545360" y="216360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543920" y="2165040"/>
                <a:ext cx="153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541040" y="216828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537800" y="2171160"/>
                <a:ext cx="158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37800" y="21744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536360" y="217584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536360" y="217872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533120" y="2180160"/>
                <a:ext cx="158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33120" y="2183400"/>
                <a:ext cx="154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31320" y="2184840"/>
                <a:ext cx="156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28440" y="2187720"/>
                <a:ext cx="1562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528440" y="2189520"/>
                <a:ext cx="1562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25560" y="2190960"/>
                <a:ext cx="1580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523760" y="2195280"/>
                <a:ext cx="15660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520880" y="2199960"/>
                <a:ext cx="1576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519080" y="2204640"/>
                <a:ext cx="156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15840" y="2206080"/>
                <a:ext cx="15948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512960" y="221076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511520" y="221544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508280" y="221976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506840" y="2224080"/>
                <a:ext cx="15948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03600" y="222912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500360" y="223056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500360" y="223344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98920" y="2234880"/>
                <a:ext cx="1605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98920" y="223812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496040" y="2239200"/>
                <a:ext cx="16236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496040" y="2241000"/>
                <a:ext cx="159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492800" y="2244240"/>
                <a:ext cx="1623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92800" y="2245680"/>
                <a:ext cx="159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491360" y="2248560"/>
                <a:ext cx="1605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488120" y="2250000"/>
                <a:ext cx="1638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88120" y="2253240"/>
                <a:ext cx="1623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486680" y="225468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486680" y="2256120"/>
                <a:ext cx="1605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483800" y="2259360"/>
                <a:ext cx="1638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483800" y="226080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480560" y="2263680"/>
                <a:ext cx="165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480560" y="226512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4119840" y="2268720"/>
              <a:ext cx="523440" cy="570240"/>
              <a:chOff x="4119840" y="2268720"/>
              <a:chExt cx="523440" cy="570240"/>
            </a:xfrm>
          </p:grpSpPr>
          <p:sp>
            <p:nvSpPr>
              <p:cNvPr id="1279" name=""/>
              <p:cNvSpPr/>
              <p:nvPr/>
            </p:nvSpPr>
            <p:spPr>
              <a:xfrm>
                <a:off x="4479480" y="226872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479480" y="2270160"/>
                <a:ext cx="16056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76240" y="227304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74440" y="2274840"/>
                <a:ext cx="1641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471200" y="2279160"/>
                <a:ext cx="1641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468680" y="2283840"/>
                <a:ext cx="1652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466880" y="2288160"/>
                <a:ext cx="16704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466880" y="2289960"/>
                <a:ext cx="1641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63640" y="2291400"/>
                <a:ext cx="1674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462200" y="2294280"/>
                <a:ext cx="1656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458960" y="2298960"/>
                <a:ext cx="16704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455720" y="2303640"/>
                <a:ext cx="1674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454640" y="2307960"/>
                <a:ext cx="16704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451400" y="2311200"/>
                <a:ext cx="16704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449960" y="2314080"/>
                <a:ext cx="1684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449960" y="2315520"/>
                <a:ext cx="1656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446720" y="2318760"/>
                <a:ext cx="1688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446720" y="2320200"/>
                <a:ext cx="16704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443480" y="2323440"/>
                <a:ext cx="1702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443480" y="2324520"/>
                <a:ext cx="16704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442040" y="2326320"/>
                <a:ext cx="168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439160" y="2331000"/>
                <a:ext cx="1688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435920" y="2335320"/>
                <a:ext cx="1702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434480" y="2338560"/>
                <a:ext cx="17172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434480" y="2339640"/>
                <a:ext cx="168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431240" y="2342880"/>
                <a:ext cx="17172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431240" y="2344680"/>
                <a:ext cx="1702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429440" y="2346120"/>
                <a:ext cx="1720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429440" y="2349000"/>
                <a:ext cx="1688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426560" y="2350440"/>
                <a:ext cx="17172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426560" y="2353680"/>
                <a:ext cx="1684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423680" y="2355120"/>
                <a:ext cx="17172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421880" y="2358000"/>
                <a:ext cx="1720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419000" y="2361240"/>
                <a:ext cx="17172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417200" y="2365560"/>
                <a:ext cx="17352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417200" y="2368800"/>
                <a:ext cx="1720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13960" y="2370240"/>
                <a:ext cx="17496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13960" y="2373120"/>
                <a:ext cx="1720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410720" y="2374920"/>
                <a:ext cx="1749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10720" y="2378160"/>
                <a:ext cx="1720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09640" y="2379240"/>
                <a:ext cx="17352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406400" y="2380680"/>
                <a:ext cx="17496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04960" y="2385720"/>
                <a:ext cx="17352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401720" y="2390040"/>
                <a:ext cx="1746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398480" y="2394360"/>
                <a:ext cx="1749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397040" y="2399040"/>
                <a:ext cx="17352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394160" y="2400840"/>
                <a:ext cx="1764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94160" y="2403720"/>
                <a:ext cx="174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90920" y="2405160"/>
                <a:ext cx="1778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389480" y="2409480"/>
                <a:ext cx="1760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386240" y="2414160"/>
                <a:ext cx="17784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384800" y="2418840"/>
                <a:ext cx="1760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381920" y="2420280"/>
                <a:ext cx="1792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81920" y="2423520"/>
                <a:ext cx="1760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378680" y="2424960"/>
                <a:ext cx="1792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378680" y="2427840"/>
                <a:ext cx="17784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376880" y="2429640"/>
                <a:ext cx="1796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376880" y="2431080"/>
                <a:ext cx="1764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4000" y="2433960"/>
                <a:ext cx="1792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374000" y="2435400"/>
                <a:ext cx="1760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372200" y="2438640"/>
                <a:ext cx="1778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372200" y="2440080"/>
                <a:ext cx="1764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368960" y="2442960"/>
                <a:ext cx="17964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366440" y="2444760"/>
                <a:ext cx="1825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66440" y="2448000"/>
                <a:ext cx="1792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364640" y="2449080"/>
                <a:ext cx="1810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364640" y="2450520"/>
                <a:ext cx="1796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361400" y="2453760"/>
                <a:ext cx="1828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361400" y="2455560"/>
                <a:ext cx="17964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359960" y="2458080"/>
                <a:ext cx="1810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359960" y="2459880"/>
                <a:ext cx="1778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56720" y="2463120"/>
                <a:ext cx="1810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53480" y="2464200"/>
                <a:ext cx="182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352400" y="2468880"/>
                <a:ext cx="1810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349160" y="2473200"/>
                <a:ext cx="1825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347720" y="2478240"/>
                <a:ext cx="1810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344480" y="2482560"/>
                <a:ext cx="1810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341240" y="248580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39800" y="2488680"/>
                <a:ext cx="1839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336920" y="2493360"/>
                <a:ext cx="18432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333680" y="2497680"/>
                <a:ext cx="1857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332240" y="2500920"/>
                <a:ext cx="1839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329000" y="250524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327200" y="2508480"/>
                <a:ext cx="18612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327200" y="250992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24320" y="2512800"/>
                <a:ext cx="1872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24320" y="2514600"/>
                <a:ext cx="1839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21440" y="2517480"/>
                <a:ext cx="1872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21440" y="2518920"/>
                <a:ext cx="1857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19640" y="2520360"/>
                <a:ext cx="1875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16400" y="2525040"/>
                <a:ext cx="1875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14960" y="2527920"/>
                <a:ext cx="1890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14960" y="2529720"/>
                <a:ext cx="1857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11720" y="2532600"/>
                <a:ext cx="1890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11720" y="2534400"/>
                <a:ext cx="1875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08840" y="2535480"/>
                <a:ext cx="1904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08840" y="2538720"/>
                <a:ext cx="18756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7400" y="2540520"/>
                <a:ext cx="18900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07400" y="2543040"/>
                <a:ext cx="18576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04160" y="254484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4160" y="2548080"/>
                <a:ext cx="1875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302720" y="254952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99480" y="255240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96240" y="2555640"/>
                <a:ext cx="1904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94800" y="2559960"/>
                <a:ext cx="18900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91920" y="2564640"/>
                <a:ext cx="1918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91920" y="2567520"/>
                <a:ext cx="18900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90480" y="2568960"/>
                <a:ext cx="1900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87240" y="257076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000" y="257508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2200" y="257976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79680" y="2584080"/>
                <a:ext cx="1915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76440" y="258912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274640" y="2593440"/>
                <a:ext cx="1918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271760" y="2594880"/>
                <a:ext cx="1947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271760" y="2597760"/>
                <a:ext cx="19152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69960" y="2599200"/>
                <a:ext cx="1933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266720" y="2604240"/>
                <a:ext cx="19512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264200" y="2608560"/>
                <a:ext cx="1947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262400" y="2612880"/>
                <a:ext cx="19332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259160" y="2614680"/>
                <a:ext cx="1965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259160" y="2617560"/>
                <a:ext cx="19512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57720" y="2619360"/>
                <a:ext cx="1965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257720" y="2622240"/>
                <a:ext cx="1933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254480" y="2623680"/>
                <a:ext cx="19656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254480" y="2625120"/>
                <a:ext cx="195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251240" y="2628360"/>
                <a:ext cx="19836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251240" y="2629800"/>
                <a:ext cx="19512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250160" y="2632680"/>
                <a:ext cx="19656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46920" y="2634480"/>
                <a:ext cx="1965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245480" y="2638800"/>
                <a:ext cx="1965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242240" y="2643480"/>
                <a:ext cx="19980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242240" y="264492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239000" y="2648160"/>
                <a:ext cx="199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239000" y="264960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237560" y="2652480"/>
                <a:ext cx="1980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237560" y="265392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234680" y="2657160"/>
                <a:ext cx="199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232880" y="2658600"/>
                <a:ext cx="19836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230000" y="2663280"/>
                <a:ext cx="1994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226760" y="2667600"/>
                <a:ext cx="1998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224960" y="2672280"/>
                <a:ext cx="198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221720" y="2675160"/>
                <a:ext cx="1998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219200" y="2678400"/>
                <a:ext cx="20268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217400" y="2683080"/>
                <a:ext cx="2016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214160" y="2687400"/>
                <a:ext cx="203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212720" y="2690640"/>
                <a:ext cx="2012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209480" y="2694960"/>
                <a:ext cx="201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206600" y="2699640"/>
                <a:ext cx="20304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205160" y="2702520"/>
                <a:ext cx="20412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05160" y="2704320"/>
                <a:ext cx="2012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01920" y="270720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01920" y="2708640"/>
                <a:ext cx="203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200480" y="2710080"/>
                <a:ext cx="204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200480" y="2713320"/>
                <a:ext cx="20124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197240" y="2714760"/>
                <a:ext cx="20412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197240" y="2717640"/>
                <a:ext cx="20124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194000" y="2719440"/>
                <a:ext cx="204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192560" y="2722320"/>
                <a:ext cx="20556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192560" y="272376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189680" y="2725200"/>
                <a:ext cx="207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89680" y="2728440"/>
                <a:ext cx="20412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187880" y="2729880"/>
                <a:ext cx="2059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187880" y="2733120"/>
                <a:ext cx="203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85000" y="2734560"/>
                <a:ext cx="205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185000" y="273780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181760" y="2738880"/>
                <a:ext cx="207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79960" y="2742120"/>
                <a:ext cx="2059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177440" y="2745360"/>
                <a:ext cx="2073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74200" y="2749680"/>
                <a:ext cx="2073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72400" y="2754000"/>
                <a:ext cx="20592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69520" y="275904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169520" y="2760480"/>
                <a:ext cx="2070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167720" y="276336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164480" y="2764800"/>
                <a:ext cx="2091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161960" y="2769120"/>
                <a:ext cx="210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160160" y="2774160"/>
                <a:ext cx="2088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56920" y="2778480"/>
                <a:ext cx="2091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155480" y="278316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152240" y="278460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152240" y="2787480"/>
                <a:ext cx="20880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149000" y="278928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149000" y="2792520"/>
                <a:ext cx="2106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147920" y="279360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147920" y="2795040"/>
                <a:ext cx="2088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144680" y="2798280"/>
                <a:ext cx="2120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143240" y="2802600"/>
                <a:ext cx="210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140000" y="280764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136760" y="2808720"/>
                <a:ext cx="21528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136760" y="281196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135320" y="2813400"/>
                <a:ext cx="21348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135320" y="2815200"/>
                <a:ext cx="21204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132440" y="2817720"/>
                <a:ext cx="21528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132440" y="281952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130640" y="2822760"/>
                <a:ext cx="2138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130640" y="2823840"/>
                <a:ext cx="2106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127760" y="2827080"/>
                <a:ext cx="21348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124520" y="2828520"/>
                <a:ext cx="21528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22720" y="2833200"/>
                <a:ext cx="2138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119840" y="2837880"/>
                <a:ext cx="21708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3766680" y="2839680"/>
              <a:ext cx="566640" cy="562680"/>
              <a:chOff x="3766680" y="2839680"/>
              <a:chExt cx="566640" cy="562680"/>
            </a:xfrm>
          </p:grpSpPr>
          <p:sp>
            <p:nvSpPr>
              <p:cNvPr id="1480" name=""/>
              <p:cNvSpPr/>
              <p:nvPr/>
            </p:nvSpPr>
            <p:spPr>
              <a:xfrm>
                <a:off x="4119480" y="2839680"/>
                <a:ext cx="2138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116600" y="2842560"/>
                <a:ext cx="2167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116600" y="2844000"/>
                <a:ext cx="2152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115160" y="2847240"/>
                <a:ext cx="21708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111920" y="2848680"/>
                <a:ext cx="217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110480" y="2853360"/>
                <a:ext cx="216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107240" y="2857680"/>
                <a:ext cx="217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04000" y="2862360"/>
                <a:ext cx="2170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102560" y="2865240"/>
                <a:ext cx="216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099680" y="2869920"/>
                <a:ext cx="2167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98240" y="2872800"/>
                <a:ext cx="2181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098240" y="2874600"/>
                <a:ext cx="21672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5000" y="2877480"/>
                <a:ext cx="21960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91760" y="2882160"/>
                <a:ext cx="2196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90320" y="2885400"/>
                <a:ext cx="2181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087080" y="2889720"/>
                <a:ext cx="2196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85640" y="289296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085640" y="2894400"/>
                <a:ext cx="2181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082760" y="2897280"/>
                <a:ext cx="2210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082760" y="2898720"/>
                <a:ext cx="2196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079520" y="2900520"/>
                <a:ext cx="22284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520" y="2903040"/>
                <a:ext cx="2196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077720" y="2904840"/>
                <a:ext cx="2214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077720" y="2908080"/>
                <a:ext cx="2181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74840" y="2909520"/>
                <a:ext cx="2210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074840" y="2912400"/>
                <a:ext cx="2196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073040" y="2913840"/>
                <a:ext cx="2214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070160" y="2917080"/>
                <a:ext cx="22464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70160" y="291852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7280" y="2919960"/>
                <a:ext cx="2242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7280" y="2923200"/>
                <a:ext cx="2228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5480" y="2924640"/>
                <a:ext cx="224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5480" y="292752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2240" y="2928960"/>
                <a:ext cx="224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62240" y="2932200"/>
                <a:ext cx="2214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9000" y="2933640"/>
                <a:ext cx="224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2935080"/>
                <a:ext cx="2242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4680" y="2939760"/>
                <a:ext cx="22464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3240" y="2944080"/>
                <a:ext cx="22284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0000" y="2949120"/>
                <a:ext cx="2242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46760" y="2953440"/>
                <a:ext cx="224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45320" y="2954880"/>
                <a:ext cx="22608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42440" y="2959560"/>
                <a:ext cx="2275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41000" y="2964240"/>
                <a:ext cx="225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37760" y="2968560"/>
                <a:ext cx="226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34520" y="2972880"/>
                <a:ext cx="22752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33080" y="2977920"/>
                <a:ext cx="2257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29840" y="2979360"/>
                <a:ext cx="2289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29840" y="2982240"/>
                <a:ext cx="2275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28400" y="298368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28400" y="2986920"/>
                <a:ext cx="22608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25160" y="2988000"/>
                <a:ext cx="22932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25160" y="2989800"/>
                <a:ext cx="2260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22280" y="2993040"/>
                <a:ext cx="2289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20480" y="2997360"/>
                <a:ext cx="2293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17240" y="2998800"/>
                <a:ext cx="2325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17240" y="3002040"/>
                <a:ext cx="2293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15800" y="3003480"/>
                <a:ext cx="2307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15800" y="300492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12920" y="3008160"/>
                <a:ext cx="2325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12920" y="300960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9680" y="3012480"/>
                <a:ext cx="2325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09680" y="301392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08240" y="3017160"/>
                <a:ext cx="2307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08240" y="3018960"/>
                <a:ext cx="22932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05000" y="3021480"/>
                <a:ext cx="2325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01760" y="3023280"/>
                <a:ext cx="2325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00320" y="3027600"/>
                <a:ext cx="23220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3032280"/>
                <a:ext cx="2325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996000" y="3036600"/>
                <a:ext cx="23364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996000" y="3038400"/>
                <a:ext cx="2307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92760" y="3039840"/>
                <a:ext cx="233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89520" y="3043080"/>
                <a:ext cx="235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988080" y="3047400"/>
                <a:ext cx="23328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984840" y="3052080"/>
                <a:ext cx="233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984840" y="305352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983400" y="305676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980520" y="3059640"/>
                <a:ext cx="23328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977280" y="3062520"/>
                <a:ext cx="2365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977280" y="3064320"/>
                <a:ext cx="2350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975480" y="306720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75480" y="306864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72600" y="3071880"/>
                <a:ext cx="2365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72600" y="3073320"/>
                <a:ext cx="2332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70800" y="3074760"/>
                <a:ext cx="23508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67920" y="3079440"/>
                <a:ext cx="23688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64680" y="3083760"/>
                <a:ext cx="2368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63240" y="3087000"/>
                <a:ext cx="2383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63240" y="3088440"/>
                <a:ext cx="2368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60000" y="3089880"/>
                <a:ext cx="240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60000" y="309312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56760" y="3094560"/>
                <a:ext cx="240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56760" y="309780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55680" y="3098880"/>
                <a:ext cx="2383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55680" y="3102120"/>
                <a:ext cx="2368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52440" y="3103920"/>
                <a:ext cx="24012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51000" y="3106440"/>
                <a:ext cx="2383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47760" y="3109680"/>
                <a:ext cx="2397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44520" y="3114000"/>
                <a:ext cx="2430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44520" y="3117240"/>
                <a:ext cx="240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43080" y="3119040"/>
                <a:ext cx="24156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43080" y="3121560"/>
                <a:ext cx="2383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40200" y="3123360"/>
                <a:ext cx="241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40200" y="3124800"/>
                <a:ext cx="2397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38760" y="3128040"/>
                <a:ext cx="2412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35520" y="3129120"/>
                <a:ext cx="24156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32280" y="313416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30480" y="313848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27600" y="314316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26160" y="3147480"/>
                <a:ext cx="24156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22920" y="314928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22920" y="3152520"/>
                <a:ext cx="241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20040" y="3153600"/>
                <a:ext cx="24444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18240" y="3158280"/>
                <a:ext cx="2433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15000" y="3162600"/>
                <a:ext cx="24480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13560" y="3167640"/>
                <a:ext cx="2430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10680" y="3168720"/>
                <a:ext cx="2462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10680" y="3171960"/>
                <a:ext cx="2448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07440" y="317340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07440" y="3176280"/>
                <a:ext cx="24480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06000" y="3178080"/>
                <a:ext cx="24624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06000" y="3179520"/>
                <a:ext cx="2430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02760" y="3182760"/>
                <a:ext cx="24624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02760" y="318384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899520" y="3187080"/>
                <a:ext cx="2476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899520" y="318852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898080" y="3191760"/>
                <a:ext cx="24624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895200" y="319320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895200" y="319464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893760" y="319788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893760" y="3199320"/>
                <a:ext cx="2462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890520" y="3202200"/>
                <a:ext cx="249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90520" y="3204000"/>
                <a:ext cx="24624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887280" y="3206880"/>
                <a:ext cx="249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887280" y="320832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85840" y="321156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882960" y="321300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881160" y="321732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878280" y="3222000"/>
                <a:ext cx="24912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875040" y="3226680"/>
                <a:ext cx="249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873240" y="322992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70000" y="323424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868560" y="3237480"/>
                <a:ext cx="250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865680" y="3241800"/>
                <a:ext cx="2509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862440" y="324648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861000" y="3249360"/>
                <a:ext cx="250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857760" y="325404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856320" y="3256920"/>
                <a:ext cx="2538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856320" y="3258360"/>
                <a:ext cx="2505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853440" y="3261600"/>
                <a:ext cx="25380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853440" y="3263040"/>
                <a:ext cx="250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50200" y="3264480"/>
                <a:ext cx="253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850200" y="3267720"/>
                <a:ext cx="2523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848760" y="3269160"/>
                <a:ext cx="2538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45520" y="3273480"/>
                <a:ext cx="2538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2280" y="3276720"/>
                <a:ext cx="2570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42280" y="3278160"/>
                <a:ext cx="2556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840840" y="3281040"/>
                <a:ext cx="2570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840840" y="328284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837960" y="3284280"/>
                <a:ext cx="257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837960" y="328716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836160" y="3288600"/>
                <a:ext cx="2556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36160" y="3291840"/>
                <a:ext cx="254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33280" y="3293280"/>
                <a:ext cx="257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33280" y="329652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830040" y="3297960"/>
                <a:ext cx="25704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28240" y="3299400"/>
                <a:ext cx="2570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25360" y="3304080"/>
                <a:ext cx="2570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823920" y="3308760"/>
                <a:ext cx="2556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820680" y="3313080"/>
                <a:ext cx="2588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20680" y="3316320"/>
                <a:ext cx="25704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817800" y="3317400"/>
                <a:ext cx="2599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16000" y="3319200"/>
                <a:ext cx="2588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812760" y="3323880"/>
                <a:ext cx="260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811320" y="3328200"/>
                <a:ext cx="2584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808440" y="3332520"/>
                <a:ext cx="2588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805200" y="3337560"/>
                <a:ext cx="260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803760" y="3341880"/>
                <a:ext cx="2584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800520" y="334332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800520" y="3346560"/>
                <a:ext cx="2584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99080" y="3348000"/>
                <a:ext cx="25992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95840" y="3352680"/>
                <a:ext cx="26172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92960" y="3357000"/>
                <a:ext cx="26172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91520" y="3361680"/>
                <a:ext cx="2617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88280" y="3363480"/>
                <a:ext cx="2646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88280" y="3366000"/>
                <a:ext cx="2617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5040" y="3367800"/>
                <a:ext cx="2646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85040" y="336924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83600" y="3372120"/>
                <a:ext cx="262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83600" y="337356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80720" y="3376800"/>
                <a:ext cx="26460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80720" y="3378600"/>
                <a:ext cx="26172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778920" y="3381120"/>
                <a:ext cx="263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75680" y="3382920"/>
                <a:ext cx="26496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772800" y="3387240"/>
                <a:ext cx="2646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771000" y="3391920"/>
                <a:ext cx="26640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771000" y="3393720"/>
                <a:ext cx="2631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767760" y="3396600"/>
                <a:ext cx="2664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767760" y="3398040"/>
                <a:ext cx="264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766680" y="3401280"/>
                <a:ext cx="2664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3382200" y="3402720"/>
              <a:ext cx="647280" cy="537120"/>
              <a:chOff x="3382200" y="3402720"/>
              <a:chExt cx="647280" cy="537120"/>
            </a:xfrm>
          </p:grpSpPr>
          <p:sp>
            <p:nvSpPr>
              <p:cNvPr id="1681" name=""/>
              <p:cNvSpPr/>
              <p:nvPr/>
            </p:nvSpPr>
            <p:spPr>
              <a:xfrm>
                <a:off x="3766320" y="3402720"/>
                <a:ext cx="263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763080" y="3404160"/>
                <a:ext cx="2664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759840" y="3407040"/>
                <a:ext cx="2678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758400" y="3411720"/>
                <a:ext cx="2660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55520" y="3416400"/>
                <a:ext cx="2664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54080" y="3420720"/>
                <a:ext cx="266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750840" y="3423960"/>
                <a:ext cx="266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747600" y="342684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746160" y="343152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742920" y="3435840"/>
                <a:ext cx="26928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740040" y="343908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738600" y="3443400"/>
                <a:ext cx="26928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735360" y="3448440"/>
                <a:ext cx="26928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733560" y="3450960"/>
                <a:ext cx="2710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733560" y="3452760"/>
                <a:ext cx="2678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730680" y="3456000"/>
                <a:ext cx="27072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730680" y="3457440"/>
                <a:ext cx="2692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727800" y="3458520"/>
                <a:ext cx="2725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727800" y="3461760"/>
                <a:ext cx="2692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726000" y="3463560"/>
                <a:ext cx="27108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726000" y="3466080"/>
                <a:ext cx="2696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723120" y="3467880"/>
                <a:ext cx="2725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721320" y="3471120"/>
                <a:ext cx="27396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721320" y="3472560"/>
                <a:ext cx="2710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718080" y="3473640"/>
                <a:ext cx="273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718080" y="3476880"/>
                <a:ext cx="2710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715200" y="3478680"/>
                <a:ext cx="2736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715200" y="3481560"/>
                <a:ext cx="27252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713400" y="3483000"/>
                <a:ext cx="273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713400" y="3486240"/>
                <a:ext cx="2710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710520" y="3487680"/>
                <a:ext cx="27396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709080" y="3489480"/>
                <a:ext cx="27360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705840" y="3493800"/>
                <a:ext cx="2739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702600" y="3498120"/>
                <a:ext cx="2739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701160" y="3502800"/>
                <a:ext cx="27360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98280" y="3507120"/>
                <a:ext cx="2768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98280" y="3508920"/>
                <a:ext cx="2739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6840" y="3512160"/>
                <a:ext cx="2754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93600" y="3513240"/>
                <a:ext cx="2768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90360" y="3517920"/>
                <a:ext cx="27684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88920" y="3522600"/>
                <a:ext cx="2750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85680" y="3527280"/>
                <a:ext cx="2768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82800" y="3531600"/>
                <a:ext cx="2768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81360" y="3533040"/>
                <a:ext cx="2782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81360" y="3536280"/>
                <a:ext cx="2750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78120" y="3537720"/>
                <a:ext cx="2782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78120" y="3540960"/>
                <a:ext cx="2768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76320" y="3542400"/>
                <a:ext cx="2786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76320" y="3543840"/>
                <a:ext cx="2754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73080" y="3546720"/>
                <a:ext cx="2786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70200" y="3551400"/>
                <a:ext cx="28008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68760" y="3556080"/>
                <a:ext cx="2786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65520" y="355752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65520" y="3558960"/>
                <a:ext cx="2786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64080" y="3561840"/>
                <a:ext cx="2800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64080" y="3563640"/>
                <a:ext cx="27864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60840" y="3566520"/>
                <a:ext cx="2818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60840" y="3568320"/>
                <a:ext cx="2786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57600" y="357120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57600" y="3572640"/>
                <a:ext cx="2804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56160" y="357588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53280" y="3576960"/>
                <a:ext cx="28188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51840" y="3582000"/>
                <a:ext cx="28008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48600" y="358632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48600" y="3587760"/>
                <a:ext cx="2815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45360" y="3591000"/>
                <a:ext cx="28476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45360" y="3592440"/>
                <a:ext cx="2818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3920" y="359388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3920" y="3597120"/>
                <a:ext cx="2815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1040" y="3598560"/>
                <a:ext cx="2847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1040" y="3601440"/>
                <a:ext cx="2815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39240" y="360288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39240" y="3606120"/>
                <a:ext cx="2804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36360" y="3607920"/>
                <a:ext cx="28332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36360" y="3610440"/>
                <a:ext cx="28152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33120" y="3612240"/>
                <a:ext cx="28476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33120" y="3613680"/>
                <a:ext cx="2815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1320" y="361656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31320" y="3618000"/>
                <a:ext cx="2818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28440" y="3621240"/>
                <a:ext cx="28476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28440" y="3623040"/>
                <a:ext cx="28152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25560" y="3625560"/>
                <a:ext cx="2847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23760" y="3628800"/>
                <a:ext cx="28332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20880" y="3633480"/>
                <a:ext cx="2847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19080" y="3638160"/>
                <a:ext cx="2833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15840" y="3642480"/>
                <a:ext cx="2833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12600" y="3647160"/>
                <a:ext cx="2851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11520" y="3651480"/>
                <a:ext cx="28332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08280" y="3656160"/>
                <a:ext cx="2851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06840" y="366084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03600" y="366372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03600" y="366696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00360" y="366840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00360" y="3671640"/>
                <a:ext cx="2851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598920" y="367272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596040" y="3675960"/>
                <a:ext cx="2865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594600" y="3680280"/>
                <a:ext cx="2862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591360" y="3683520"/>
                <a:ext cx="2865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588120" y="368784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586680" y="3691080"/>
                <a:ext cx="2880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586680" y="3692520"/>
                <a:ext cx="2862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583800" y="3695400"/>
                <a:ext cx="2890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83800" y="3697200"/>
                <a:ext cx="2862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582000" y="3698640"/>
                <a:ext cx="2880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578760" y="3701880"/>
                <a:ext cx="28944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575880" y="3706200"/>
                <a:ext cx="2923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75880" y="3708000"/>
                <a:ext cx="28908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574080" y="3710880"/>
                <a:ext cx="2908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574080" y="3712320"/>
                <a:ext cx="2880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570840" y="3715560"/>
                <a:ext cx="2908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568320" y="3717000"/>
                <a:ext cx="29232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566520" y="3721320"/>
                <a:ext cx="29088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563280" y="3726000"/>
                <a:ext cx="2926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561840" y="3727440"/>
                <a:ext cx="29412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561840" y="3730680"/>
                <a:ext cx="2908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558600" y="3732120"/>
                <a:ext cx="294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558600" y="3733920"/>
                <a:ext cx="29088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555360" y="3736440"/>
                <a:ext cx="294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555360" y="3738240"/>
                <a:ext cx="2926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554280" y="3741480"/>
                <a:ext cx="2941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551040" y="3742560"/>
                <a:ext cx="2973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551040" y="3745800"/>
                <a:ext cx="2941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549600" y="3747240"/>
                <a:ext cx="2955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549600" y="3750480"/>
                <a:ext cx="2923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546360" y="3751560"/>
                <a:ext cx="2955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543120" y="3753360"/>
                <a:ext cx="2973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541680" y="3758040"/>
                <a:ext cx="2955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538800" y="3762360"/>
                <a:ext cx="29700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537000" y="3767040"/>
                <a:ext cx="2959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534120" y="3768480"/>
                <a:ext cx="298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534120" y="3771720"/>
                <a:ext cx="2955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530880" y="3773160"/>
                <a:ext cx="298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529080" y="3776040"/>
                <a:ext cx="2988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526200" y="3777480"/>
                <a:ext cx="3016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526200" y="3780720"/>
                <a:ext cx="29880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523320" y="3782160"/>
                <a:ext cx="30204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521520" y="3785040"/>
                <a:ext cx="3034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18280" y="3786840"/>
                <a:ext cx="30492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516840" y="3791160"/>
                <a:ext cx="303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513600" y="3792960"/>
                <a:ext cx="30636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510720" y="3795840"/>
                <a:ext cx="30672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509280" y="3800520"/>
                <a:ext cx="3063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506040" y="3801960"/>
                <a:ext cx="309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504600" y="3803400"/>
                <a:ext cx="30780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501360" y="3808080"/>
                <a:ext cx="30960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98120" y="3810960"/>
                <a:ext cx="3128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497040" y="3812760"/>
                <a:ext cx="31104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493800" y="3817080"/>
                <a:ext cx="3110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492360" y="3820320"/>
                <a:ext cx="3124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489120" y="3821760"/>
                <a:ext cx="3157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489120" y="3823200"/>
                <a:ext cx="3142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485880" y="3826440"/>
                <a:ext cx="3171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484080" y="3827880"/>
                <a:ext cx="3160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481560" y="3830760"/>
                <a:ext cx="318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481560" y="3832200"/>
                <a:ext cx="3171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479760" y="3835440"/>
                <a:ext cx="3189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476520" y="3836880"/>
                <a:ext cx="3189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473640" y="3838320"/>
                <a:ext cx="3218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73640" y="3841560"/>
                <a:ext cx="318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71840" y="3843000"/>
                <a:ext cx="3204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68600" y="3845880"/>
                <a:ext cx="3222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66080" y="3847320"/>
                <a:ext cx="3250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66080" y="3850560"/>
                <a:ext cx="3218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464280" y="3852360"/>
                <a:ext cx="32364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461040" y="3854880"/>
                <a:ext cx="3236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459600" y="3856680"/>
                <a:ext cx="325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456360" y="3858120"/>
                <a:ext cx="32688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453480" y="3862440"/>
                <a:ext cx="33012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52040" y="3865680"/>
                <a:ext cx="3283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448800" y="3867480"/>
                <a:ext cx="33120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447360" y="3870000"/>
                <a:ext cx="33120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444120" y="3871800"/>
                <a:ext cx="334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44120" y="3873240"/>
                <a:ext cx="3312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40880" y="3876480"/>
                <a:ext cx="334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439800" y="3877560"/>
                <a:ext cx="3326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436560" y="3880800"/>
                <a:ext cx="3358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434760" y="3882600"/>
                <a:ext cx="3358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431880" y="3885480"/>
                <a:ext cx="3387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428640" y="3886920"/>
                <a:ext cx="3387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426840" y="3891600"/>
                <a:ext cx="339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423960" y="3893040"/>
                <a:ext cx="34236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422520" y="3895920"/>
                <a:ext cx="3405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419280" y="3897720"/>
                <a:ext cx="343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416040" y="3900960"/>
                <a:ext cx="3466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416040" y="3902040"/>
                <a:ext cx="343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414600" y="3905280"/>
                <a:ext cx="34524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411360" y="3906720"/>
                <a:ext cx="3466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408480" y="3908520"/>
                <a:ext cx="34992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407040" y="3911040"/>
                <a:ext cx="348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403800" y="3912840"/>
                <a:ext cx="3513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402360" y="3916080"/>
                <a:ext cx="3513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02360" y="3917160"/>
                <a:ext cx="3513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399120" y="3920400"/>
                <a:ext cx="351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396240" y="3921840"/>
                <a:ext cx="354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394800" y="3923640"/>
                <a:ext cx="3528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391560" y="3926520"/>
                <a:ext cx="3560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389760" y="3927960"/>
                <a:ext cx="356400" cy="43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386880" y="3932640"/>
                <a:ext cx="356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83640" y="3935520"/>
                <a:ext cx="359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382200" y="3936960"/>
                <a:ext cx="357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2655720" y="3940200"/>
              <a:ext cx="1083960" cy="435240"/>
              <a:chOff x="2655720" y="3940200"/>
              <a:chExt cx="1083960" cy="435240"/>
            </a:xfrm>
          </p:grpSpPr>
          <p:sp>
            <p:nvSpPr>
              <p:cNvPr id="1882" name=""/>
              <p:cNvSpPr/>
              <p:nvPr/>
            </p:nvSpPr>
            <p:spPr>
              <a:xfrm>
                <a:off x="3378960" y="3940200"/>
                <a:ext cx="3607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77520" y="3941640"/>
                <a:ext cx="3621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74280" y="3943080"/>
                <a:ext cx="3639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371400" y="3946320"/>
                <a:ext cx="366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369600" y="3947760"/>
                <a:ext cx="3654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366360" y="3950640"/>
                <a:ext cx="3686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364920" y="3952440"/>
                <a:ext cx="36828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62040" y="3955320"/>
                <a:ext cx="3715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357360" y="3956760"/>
                <a:ext cx="3733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354120" y="3958200"/>
                <a:ext cx="3762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350880" y="3961440"/>
                <a:ext cx="3762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349800" y="3962880"/>
                <a:ext cx="377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346560" y="3965760"/>
                <a:ext cx="3790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345120" y="3967560"/>
                <a:ext cx="38052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341880" y="3970440"/>
                <a:ext cx="3808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338640" y="3971880"/>
                <a:ext cx="384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337200" y="3975120"/>
                <a:ext cx="3837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334320" y="3976560"/>
                <a:ext cx="3870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332520" y="3978360"/>
                <a:ext cx="38880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29280" y="3980880"/>
                <a:ext cx="3888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26400" y="3982680"/>
                <a:ext cx="3913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24600" y="3985920"/>
                <a:ext cx="3902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20280" y="3987000"/>
                <a:ext cx="3949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317040" y="3990240"/>
                <a:ext cx="396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13800" y="3991680"/>
                <a:ext cx="399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312360" y="3993480"/>
                <a:ext cx="39780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309120" y="3996000"/>
                <a:ext cx="401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306240" y="3997800"/>
                <a:ext cx="402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304800" y="4001040"/>
                <a:ext cx="404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301560" y="4002480"/>
                <a:ext cx="40428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300120" y="4005360"/>
                <a:ext cx="405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293640" y="4006800"/>
                <a:ext cx="408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292200" y="4010040"/>
                <a:ext cx="410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289320" y="4011480"/>
                <a:ext cx="411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287520" y="4012920"/>
                <a:ext cx="413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284640" y="4016160"/>
                <a:ext cx="413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281400" y="4017600"/>
                <a:ext cx="416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277080" y="4020480"/>
                <a:ext cx="420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275280" y="4021920"/>
                <a:ext cx="4212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272040" y="4025160"/>
                <a:ext cx="4244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269160" y="4026600"/>
                <a:ext cx="4240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264120" y="4028040"/>
                <a:ext cx="429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263040" y="4031280"/>
                <a:ext cx="4273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259800" y="4032720"/>
                <a:ext cx="4305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256560" y="4035600"/>
                <a:ext cx="432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251880" y="4037040"/>
                <a:ext cx="43668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248640" y="4040280"/>
                <a:ext cx="4366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247560" y="4041720"/>
                <a:ext cx="438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244320" y="4044960"/>
                <a:ext cx="438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239640" y="4046400"/>
                <a:ext cx="4460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236400" y="4047840"/>
                <a:ext cx="444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234960" y="4050720"/>
                <a:ext cx="4474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230280" y="4052520"/>
                <a:ext cx="44784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227040" y="4055400"/>
                <a:ext cx="4539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224160" y="4056840"/>
                <a:ext cx="453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222360" y="4060080"/>
                <a:ext cx="4554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218040" y="4061520"/>
                <a:ext cx="458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214800" y="4062960"/>
                <a:ext cx="461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211560" y="4065840"/>
                <a:ext cx="4615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210120" y="4067640"/>
                <a:ext cx="462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205440" y="4070880"/>
                <a:ext cx="4644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202560" y="4072320"/>
                <a:ext cx="467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199320" y="4075200"/>
                <a:ext cx="4690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197880" y="4076640"/>
                <a:ext cx="470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191400" y="4079880"/>
                <a:ext cx="4737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190320" y="4080960"/>
                <a:ext cx="4752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187080" y="4082760"/>
                <a:ext cx="4770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185280" y="4086000"/>
                <a:ext cx="4784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179160" y="4087440"/>
                <a:ext cx="4813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177360" y="4090320"/>
                <a:ext cx="483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174840" y="4091760"/>
                <a:ext cx="4827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169800" y="4095000"/>
                <a:ext cx="486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166560" y="4096080"/>
                <a:ext cx="489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161880" y="4097880"/>
                <a:ext cx="491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160800" y="4101120"/>
                <a:ext cx="492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54320" y="4102560"/>
                <a:ext cx="4971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152880" y="4105440"/>
                <a:ext cx="4986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148200" y="4106880"/>
                <a:ext cx="500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145320" y="4110120"/>
                <a:ext cx="500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40640" y="4111560"/>
                <a:ext cx="50472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137400" y="4114440"/>
                <a:ext cx="5061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132720" y="4116240"/>
                <a:ext cx="5112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29840" y="4117680"/>
                <a:ext cx="510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124800" y="4120560"/>
                <a:ext cx="5158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121920" y="4122000"/>
                <a:ext cx="5169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20120" y="4125240"/>
                <a:ext cx="5158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15800" y="4127040"/>
                <a:ext cx="52056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112560" y="4129560"/>
                <a:ext cx="5205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107880" y="4131360"/>
                <a:ext cx="5248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104640" y="4132800"/>
                <a:ext cx="526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100320" y="4135680"/>
                <a:ext cx="531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97080" y="4137480"/>
                <a:ext cx="53136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092400" y="4140360"/>
                <a:ext cx="5328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089520" y="4142160"/>
                <a:ext cx="5356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084840" y="4145040"/>
                <a:ext cx="5385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083040" y="4146480"/>
                <a:ext cx="5374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076920" y="4149720"/>
                <a:ext cx="54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075120" y="4150800"/>
                <a:ext cx="543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070800" y="4152600"/>
                <a:ext cx="5450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067560" y="4155480"/>
                <a:ext cx="5450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064320" y="4157280"/>
                <a:ext cx="546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060000" y="4160160"/>
                <a:ext cx="5511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058560" y="4161600"/>
                <a:ext cx="549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55320" y="4164840"/>
                <a:ext cx="5511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050640" y="4165920"/>
                <a:ext cx="552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047400" y="4167720"/>
                <a:ext cx="555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45960" y="4170960"/>
                <a:ext cx="554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39840" y="4172400"/>
                <a:ext cx="559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38040" y="4175280"/>
                <a:ext cx="5576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035160" y="4176720"/>
                <a:ext cx="5605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030480" y="4179960"/>
                <a:ext cx="5637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027600" y="4181400"/>
                <a:ext cx="5637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025800" y="4184280"/>
                <a:ext cx="5623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019680" y="4186080"/>
                <a:ext cx="568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017880" y="4187520"/>
                <a:ext cx="5684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013560" y="4190400"/>
                <a:ext cx="569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010320" y="4191840"/>
                <a:ext cx="571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005640" y="4195080"/>
                <a:ext cx="576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002760" y="4196880"/>
                <a:ext cx="57600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998080" y="4199400"/>
                <a:ext cx="5778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94840" y="4201200"/>
                <a:ext cx="578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990160" y="4202640"/>
                <a:ext cx="580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988360" y="4205520"/>
                <a:ext cx="582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2600" y="4206960"/>
                <a:ext cx="585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980800" y="4210200"/>
                <a:ext cx="5853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4680" y="4212000"/>
                <a:ext cx="5882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973240" y="4214520"/>
                <a:ext cx="588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968560" y="4216320"/>
                <a:ext cx="5900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962080" y="4219560"/>
                <a:ext cx="5929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960640" y="4220640"/>
                <a:ext cx="5943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956320" y="4222080"/>
                <a:ext cx="597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953080" y="4225320"/>
                <a:ext cx="597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948400" y="4227120"/>
                <a:ext cx="600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45160" y="4230000"/>
                <a:ext cx="6008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940840" y="4231440"/>
                <a:ext cx="6022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937600" y="4234680"/>
                <a:ext cx="604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932920" y="4235760"/>
                <a:ext cx="6084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931120" y="4237560"/>
                <a:ext cx="60732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925360" y="4240440"/>
                <a:ext cx="6112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923560" y="4242240"/>
                <a:ext cx="6102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917440" y="4245120"/>
                <a:ext cx="613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916000" y="4246560"/>
                <a:ext cx="613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911320" y="4249800"/>
                <a:ext cx="614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908080" y="4251240"/>
                <a:ext cx="618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903400" y="4254120"/>
                <a:ext cx="6195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520" y="4255560"/>
                <a:ext cx="621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895840" y="4257360"/>
                <a:ext cx="622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892600" y="4260240"/>
                <a:ext cx="623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887920" y="4261680"/>
                <a:ext cx="625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886480" y="4264920"/>
                <a:ext cx="623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880360" y="4266360"/>
                <a:ext cx="6285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878560" y="4269240"/>
                <a:ext cx="6271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872440" y="4271040"/>
                <a:ext cx="63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71000" y="4272480"/>
                <a:ext cx="630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866320" y="4275360"/>
                <a:ext cx="63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859840" y="4276800"/>
                <a:ext cx="6364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858400" y="4280040"/>
                <a:ext cx="635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54080" y="4281480"/>
                <a:ext cx="6379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7600" y="4284360"/>
                <a:ext cx="6411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846160" y="4286160"/>
                <a:ext cx="6393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41480" y="4287600"/>
                <a:ext cx="642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35360" y="4290480"/>
                <a:ext cx="644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33560" y="4291920"/>
                <a:ext cx="642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29240" y="4295160"/>
                <a:ext cx="6444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826000" y="4296960"/>
                <a:ext cx="6458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821320" y="4299480"/>
                <a:ext cx="6472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814840" y="4301280"/>
                <a:ext cx="6505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813760" y="4304520"/>
                <a:ext cx="6505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809080" y="4305960"/>
                <a:ext cx="6516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802600" y="4307040"/>
                <a:ext cx="6566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801160" y="4310280"/>
                <a:ext cx="6548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96840" y="4312080"/>
                <a:ext cx="65628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790360" y="4314600"/>
                <a:ext cx="6613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785680" y="4316400"/>
                <a:ext cx="6627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84240" y="4319640"/>
                <a:ext cx="663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778120" y="4321080"/>
                <a:ext cx="6656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773080" y="4322520"/>
                <a:ext cx="6674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768760" y="4325400"/>
                <a:ext cx="6706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764080" y="4327200"/>
                <a:ext cx="672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757600" y="4330080"/>
                <a:ext cx="6739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56520" y="4331520"/>
                <a:ext cx="672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51840" y="4334760"/>
                <a:ext cx="6750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45360" y="4336200"/>
                <a:ext cx="6782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741040" y="4339080"/>
                <a:ext cx="681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36360" y="4340520"/>
                <a:ext cx="6825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731320" y="4342320"/>
                <a:ext cx="684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28440" y="4345200"/>
                <a:ext cx="685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23760" y="4346640"/>
                <a:ext cx="687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19080" y="4349880"/>
                <a:ext cx="6890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14400" y="4351320"/>
                <a:ext cx="689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08280" y="4354200"/>
                <a:ext cx="694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00360" y="4356000"/>
                <a:ext cx="6984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696040" y="4357440"/>
                <a:ext cx="6998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691360" y="4360320"/>
                <a:ext cx="7030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686320" y="4361760"/>
                <a:ext cx="7048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678760" y="4365000"/>
                <a:ext cx="7106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674080" y="4366440"/>
                <a:ext cx="7124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669760" y="4369320"/>
                <a:ext cx="7138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63280" y="4371120"/>
                <a:ext cx="7185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55720" y="4374000"/>
                <a:ext cx="7218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1937160" y="1971000"/>
              <a:ext cx="4682160" cy="3705480"/>
              <a:chOff x="1937160" y="1971000"/>
              <a:chExt cx="4682160" cy="3705480"/>
            </a:xfrm>
          </p:grpSpPr>
          <p:sp>
            <p:nvSpPr>
              <p:cNvPr id="2083" name=""/>
              <p:cNvSpPr/>
              <p:nvPr/>
            </p:nvSpPr>
            <p:spPr>
              <a:xfrm>
                <a:off x="2651040" y="4375800"/>
                <a:ext cx="7232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46360" y="4377240"/>
                <a:ext cx="725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46360" y="4380480"/>
                <a:ext cx="7232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6360" y="4381560"/>
                <a:ext cx="720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46360" y="4384800"/>
                <a:ext cx="7185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46360" y="4386600"/>
                <a:ext cx="7153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46360" y="4389480"/>
                <a:ext cx="7110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46360" y="4390920"/>
                <a:ext cx="707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646360" y="4392360"/>
                <a:ext cx="704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646360" y="4395600"/>
                <a:ext cx="703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646360" y="4397040"/>
                <a:ext cx="6987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646360" y="4399920"/>
                <a:ext cx="6955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646360" y="4401720"/>
                <a:ext cx="692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46360" y="4404600"/>
                <a:ext cx="690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646360" y="4406040"/>
                <a:ext cx="6858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46360" y="4409280"/>
                <a:ext cx="6829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46360" y="4410720"/>
                <a:ext cx="680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646360" y="4412160"/>
                <a:ext cx="678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646360" y="4415400"/>
                <a:ext cx="673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646360" y="4416840"/>
                <a:ext cx="6703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646360" y="4419720"/>
                <a:ext cx="6674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646360" y="4421160"/>
                <a:ext cx="666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646360" y="4424400"/>
                <a:ext cx="6595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46360" y="4425840"/>
                <a:ext cx="658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646360" y="4427640"/>
                <a:ext cx="6552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646360" y="4430520"/>
                <a:ext cx="653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646360" y="4431960"/>
                <a:ext cx="647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46360" y="4435200"/>
                <a:ext cx="645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646360" y="4436280"/>
                <a:ext cx="6426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46360" y="4439520"/>
                <a:ext cx="6411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46360" y="4440960"/>
                <a:ext cx="635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646360" y="4443840"/>
                <a:ext cx="6332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646360" y="4445640"/>
                <a:ext cx="6303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646360" y="4447080"/>
                <a:ext cx="6256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646360" y="4450320"/>
                <a:ext cx="6228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646360" y="4451400"/>
                <a:ext cx="621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646360" y="4454640"/>
                <a:ext cx="6163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646360" y="4456440"/>
                <a:ext cx="61308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46360" y="4459320"/>
                <a:ext cx="6102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646360" y="4460760"/>
                <a:ext cx="6055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646360" y="4462200"/>
                <a:ext cx="602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646360" y="4465440"/>
                <a:ext cx="600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646360" y="4466880"/>
                <a:ext cx="596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46360" y="4469760"/>
                <a:ext cx="5932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46360" y="4471560"/>
                <a:ext cx="59004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46360" y="4474440"/>
                <a:ext cx="5886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46360" y="4475880"/>
                <a:ext cx="5835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46360" y="4479120"/>
                <a:ext cx="5806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646360" y="4480560"/>
                <a:ext cx="5778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646360" y="4482360"/>
                <a:ext cx="5727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646360" y="4484880"/>
                <a:ext cx="5713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646360" y="4486680"/>
                <a:ext cx="5684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646360" y="4489920"/>
                <a:ext cx="563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646360" y="4491000"/>
                <a:ext cx="560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646360" y="4494240"/>
                <a:ext cx="5590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646360" y="4495680"/>
                <a:ext cx="5529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646360" y="4497480"/>
                <a:ext cx="55152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649600" y="4500000"/>
                <a:ext cx="545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649600" y="4501800"/>
                <a:ext cx="5403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651040" y="4505040"/>
                <a:ext cx="5360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653920" y="4506480"/>
                <a:ext cx="5281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655360" y="4509360"/>
                <a:ext cx="5238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655360" y="4510800"/>
                <a:ext cx="5191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658600" y="4514040"/>
                <a:ext cx="514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661840" y="4515480"/>
                <a:ext cx="5047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661840" y="4516920"/>
                <a:ext cx="503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663280" y="4520160"/>
                <a:ext cx="4971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666520" y="4521600"/>
                <a:ext cx="491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669400" y="4524480"/>
                <a:ext cx="484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669400" y="4525920"/>
                <a:ext cx="480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670840" y="4529160"/>
                <a:ext cx="4773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674080" y="4530600"/>
                <a:ext cx="4676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674080" y="4532040"/>
                <a:ext cx="4662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675880" y="4535280"/>
                <a:ext cx="4582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678760" y="4536720"/>
                <a:ext cx="4536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681640" y="4539600"/>
                <a:ext cx="446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681640" y="4541400"/>
                <a:ext cx="44280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683440" y="4544280"/>
                <a:ext cx="4366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686320" y="4546080"/>
                <a:ext cx="4305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686320" y="4548960"/>
                <a:ext cx="4258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688120" y="4550400"/>
                <a:ext cx="4212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691360" y="4551840"/>
                <a:ext cx="413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694600" y="4554720"/>
                <a:ext cx="4086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694600" y="4556520"/>
                <a:ext cx="40248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696040" y="4559400"/>
                <a:ext cx="3963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698920" y="4561200"/>
                <a:ext cx="390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698920" y="4564080"/>
                <a:ext cx="385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700360" y="4565520"/>
                <a:ext cx="382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703600" y="4566960"/>
                <a:ext cx="3733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706840" y="4569840"/>
                <a:ext cx="365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706840" y="4571640"/>
                <a:ext cx="3639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708280" y="4574880"/>
                <a:ext cx="356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11160" y="4576320"/>
                <a:ext cx="3513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711160" y="4579200"/>
                <a:ext cx="347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14400" y="4580640"/>
                <a:ext cx="3373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715840" y="4583880"/>
                <a:ext cx="33480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719080" y="4585320"/>
                <a:ext cx="326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719080" y="4586760"/>
                <a:ext cx="3236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720520" y="4590000"/>
                <a:ext cx="3175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723760" y="4591440"/>
                <a:ext cx="3081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723760" y="4594320"/>
                <a:ext cx="3038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726640" y="4595760"/>
                <a:ext cx="295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28440" y="4599000"/>
                <a:ext cx="2894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731320" y="4600440"/>
                <a:ext cx="281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731320" y="4601880"/>
                <a:ext cx="2757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733120" y="4605120"/>
                <a:ext cx="2692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736360" y="4606560"/>
                <a:ext cx="2617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736360" y="4609440"/>
                <a:ext cx="258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739240" y="4610880"/>
                <a:ext cx="2509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740680" y="4614120"/>
                <a:ext cx="24480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743920" y="4615920"/>
                <a:ext cx="23652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743920" y="4618440"/>
                <a:ext cx="2307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745360" y="4620240"/>
                <a:ext cx="2242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748600" y="4621680"/>
                <a:ext cx="2167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748600" y="4624920"/>
                <a:ext cx="212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751840" y="4626000"/>
                <a:ext cx="2041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753280" y="4629240"/>
                <a:ext cx="1965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756160" y="4631040"/>
                <a:ext cx="1890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756160" y="4633920"/>
                <a:ext cx="184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757600" y="4635360"/>
                <a:ext cx="17496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760840" y="4636800"/>
                <a:ext cx="1670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760840" y="4640040"/>
                <a:ext cx="1623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764080" y="4641480"/>
                <a:ext cx="15336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765520" y="4644360"/>
                <a:ext cx="146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65520" y="4646160"/>
                <a:ext cx="142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68760" y="4649040"/>
                <a:ext cx="1346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71640" y="4650480"/>
                <a:ext cx="1270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773080" y="4653720"/>
                <a:ext cx="117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773080" y="4655160"/>
                <a:ext cx="113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776320" y="4656960"/>
                <a:ext cx="10368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778120" y="4659480"/>
                <a:ext cx="9720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781000" y="4664520"/>
                <a:ext cx="94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783880" y="4665600"/>
                <a:ext cx="910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785680" y="4668840"/>
                <a:ext cx="892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788920" y="4672080"/>
                <a:ext cx="864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790360" y="4674960"/>
                <a:ext cx="8496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793600" y="4679640"/>
                <a:ext cx="81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796840" y="4680720"/>
                <a:ext cx="784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798280" y="4683960"/>
                <a:ext cx="770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801160" y="4687200"/>
                <a:ext cx="738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802600" y="4690080"/>
                <a:ext cx="727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805840" y="4694760"/>
                <a:ext cx="69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809080" y="4696200"/>
                <a:ext cx="662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810520" y="4699080"/>
                <a:ext cx="648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813400" y="4703760"/>
                <a:ext cx="615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814840" y="4705200"/>
                <a:ext cx="601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818080" y="4709880"/>
                <a:ext cx="572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821320" y="4711320"/>
                <a:ext cx="540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823120" y="4714200"/>
                <a:ext cx="522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826000" y="4718880"/>
                <a:ext cx="4932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828880" y="4720320"/>
                <a:ext cx="4608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830680" y="4725000"/>
                <a:ext cx="442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833560" y="4726800"/>
                <a:ext cx="4176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835360" y="4729320"/>
                <a:ext cx="3996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38600" y="4734360"/>
                <a:ext cx="36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841480" y="4735800"/>
                <a:ext cx="3384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842920" y="4740120"/>
                <a:ext cx="32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846160" y="4741920"/>
                <a:ext cx="2880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847600" y="4744440"/>
                <a:ext cx="2772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850840" y="4749480"/>
                <a:ext cx="24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854080" y="4750920"/>
                <a:ext cx="2124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855520" y="4755240"/>
                <a:ext cx="1980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858400" y="4757040"/>
                <a:ext cx="16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859840" y="4759920"/>
                <a:ext cx="151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863080" y="4764600"/>
                <a:ext cx="122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866320" y="4766040"/>
                <a:ext cx="90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867760" y="4770360"/>
                <a:ext cx="7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871000" y="4773600"/>
                <a:ext cx="432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872440" y="4775400"/>
                <a:ext cx="25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646360" y="1971000"/>
                <a:ext cx="2156400" cy="2808720"/>
              </a:xfrm>
              <a:custGeom>
                <a:avLst/>
                <a:gdLst/>
                <a:ahLst/>
                <a:rect l="l" t="t" r="r" b="b"/>
                <a:pathLst>
                  <a:path w="1392" h="1850">
                    <a:moveTo>
                      <a:pt x="0" y="1585"/>
                    </a:moveTo>
                    <a:lnTo>
                      <a:pt x="148" y="1771"/>
                    </a:lnTo>
                    <a:lnTo>
                      <a:pt x="148" y="1850"/>
                    </a:lnTo>
                    <a:lnTo>
                      <a:pt x="0" y="1664"/>
                    </a:lnTo>
                    <a:lnTo>
                      <a:pt x="0" y="1585"/>
                    </a:lnTo>
                    <a:close/>
                    <a:moveTo>
                      <a:pt x="148" y="1771"/>
                    </a:moveTo>
                    <a:lnTo>
                      <a:pt x="200" y="1749"/>
                    </a:lnTo>
                    <a:lnTo>
                      <a:pt x="253" y="1725"/>
                    </a:lnTo>
                    <a:lnTo>
                      <a:pt x="304" y="1696"/>
                    </a:lnTo>
                    <a:lnTo>
                      <a:pt x="356" y="1664"/>
                    </a:lnTo>
                    <a:lnTo>
                      <a:pt x="409" y="1629"/>
                    </a:lnTo>
                    <a:lnTo>
                      <a:pt x="465" y="1588"/>
                    </a:lnTo>
                    <a:lnTo>
                      <a:pt x="517" y="1547"/>
                    </a:lnTo>
                    <a:lnTo>
                      <a:pt x="563" y="1506"/>
                    </a:lnTo>
                    <a:lnTo>
                      <a:pt x="602" y="1466"/>
                    </a:lnTo>
                    <a:lnTo>
                      <a:pt x="634" y="1427"/>
                    </a:lnTo>
                    <a:lnTo>
                      <a:pt x="660" y="1387"/>
                    </a:lnTo>
                    <a:lnTo>
                      <a:pt x="681" y="1347"/>
                    </a:lnTo>
                    <a:lnTo>
                      <a:pt x="652" y="1400"/>
                    </a:lnTo>
                    <a:lnTo>
                      <a:pt x="1392" y="0"/>
                    </a:lnTo>
                    <a:lnTo>
                      <a:pt x="1304" y="0"/>
                    </a:lnTo>
                    <a:lnTo>
                      <a:pt x="652" y="1057"/>
                    </a:lnTo>
                    <a:lnTo>
                      <a:pt x="615" y="1121"/>
                    </a:lnTo>
                    <a:lnTo>
                      <a:pt x="575" y="1183"/>
                    </a:lnTo>
                    <a:lnTo>
                      <a:pt x="528" y="1239"/>
                    </a:lnTo>
                    <a:lnTo>
                      <a:pt x="475" y="1295"/>
                    </a:lnTo>
                    <a:lnTo>
                      <a:pt x="444" y="1321"/>
                    </a:lnTo>
                    <a:lnTo>
                      <a:pt x="412" y="1347"/>
                    </a:lnTo>
                    <a:lnTo>
                      <a:pt x="343" y="1396"/>
                    </a:lnTo>
                    <a:lnTo>
                      <a:pt x="307" y="1417"/>
                    </a:lnTo>
                    <a:lnTo>
                      <a:pt x="272" y="1439"/>
                    </a:lnTo>
                    <a:lnTo>
                      <a:pt x="240" y="1460"/>
                    </a:lnTo>
                    <a:lnTo>
                      <a:pt x="208" y="1479"/>
                    </a:lnTo>
                    <a:lnTo>
                      <a:pt x="150" y="1514"/>
                    </a:lnTo>
                    <a:lnTo>
                      <a:pt x="97" y="1542"/>
                    </a:lnTo>
                    <a:lnTo>
                      <a:pt x="47" y="1567"/>
                    </a:lnTo>
                    <a:lnTo>
                      <a:pt x="0" y="1585"/>
                    </a:lnTo>
                    <a:lnTo>
                      <a:pt x="148" y="1771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875320" y="4016160"/>
                <a:ext cx="825840" cy="763560"/>
              </a:xfrm>
              <a:custGeom>
                <a:avLst/>
                <a:gdLst/>
                <a:ahLst/>
                <a:rect l="l" t="t" r="r" b="b"/>
                <a:pathLst>
                  <a:path w="533" h="503">
                    <a:moveTo>
                      <a:pt x="533" y="80"/>
                    </a:moveTo>
                    <a:lnTo>
                      <a:pt x="531" y="85"/>
                    </a:lnTo>
                    <a:lnTo>
                      <a:pt x="528" y="90"/>
                    </a:lnTo>
                    <a:lnTo>
                      <a:pt x="526" y="95"/>
                    </a:lnTo>
                    <a:lnTo>
                      <a:pt x="523" y="100"/>
                    </a:lnTo>
                    <a:lnTo>
                      <a:pt x="520" y="105"/>
                    </a:lnTo>
                    <a:lnTo>
                      <a:pt x="518" y="111"/>
                    </a:lnTo>
                    <a:lnTo>
                      <a:pt x="515" y="115"/>
                    </a:lnTo>
                    <a:lnTo>
                      <a:pt x="512" y="121"/>
                    </a:lnTo>
                    <a:lnTo>
                      <a:pt x="509" y="125"/>
                    </a:lnTo>
                    <a:lnTo>
                      <a:pt x="505" y="129"/>
                    </a:lnTo>
                    <a:lnTo>
                      <a:pt x="502" y="135"/>
                    </a:lnTo>
                    <a:lnTo>
                      <a:pt x="499" y="139"/>
                    </a:lnTo>
                    <a:lnTo>
                      <a:pt x="496" y="145"/>
                    </a:lnTo>
                    <a:lnTo>
                      <a:pt x="493" y="149"/>
                    </a:lnTo>
                    <a:lnTo>
                      <a:pt x="489" y="155"/>
                    </a:lnTo>
                    <a:lnTo>
                      <a:pt x="486" y="159"/>
                    </a:lnTo>
                    <a:lnTo>
                      <a:pt x="481" y="164"/>
                    </a:lnTo>
                    <a:lnTo>
                      <a:pt x="478" y="169"/>
                    </a:lnTo>
                    <a:lnTo>
                      <a:pt x="473" y="174"/>
                    </a:lnTo>
                    <a:lnTo>
                      <a:pt x="470" y="179"/>
                    </a:lnTo>
                    <a:lnTo>
                      <a:pt x="465" y="184"/>
                    </a:lnTo>
                    <a:lnTo>
                      <a:pt x="462" y="190"/>
                    </a:lnTo>
                    <a:lnTo>
                      <a:pt x="457" y="194"/>
                    </a:lnTo>
                    <a:lnTo>
                      <a:pt x="454" y="200"/>
                    </a:lnTo>
                    <a:lnTo>
                      <a:pt x="444" y="208"/>
                    </a:lnTo>
                    <a:lnTo>
                      <a:pt x="439" y="214"/>
                    </a:lnTo>
                    <a:lnTo>
                      <a:pt x="435" y="218"/>
                    </a:lnTo>
                    <a:lnTo>
                      <a:pt x="430" y="224"/>
                    </a:lnTo>
                    <a:lnTo>
                      <a:pt x="425" y="228"/>
                    </a:lnTo>
                    <a:lnTo>
                      <a:pt x="420" y="234"/>
                    </a:lnTo>
                    <a:lnTo>
                      <a:pt x="415" y="238"/>
                    </a:lnTo>
                    <a:lnTo>
                      <a:pt x="409" y="243"/>
                    </a:lnTo>
                    <a:lnTo>
                      <a:pt x="404" y="247"/>
                    </a:lnTo>
                    <a:lnTo>
                      <a:pt x="399" y="253"/>
                    </a:lnTo>
                    <a:lnTo>
                      <a:pt x="393" y="257"/>
                    </a:lnTo>
                    <a:lnTo>
                      <a:pt x="386" y="263"/>
                    </a:lnTo>
                    <a:lnTo>
                      <a:pt x="381" y="269"/>
                    </a:lnTo>
                    <a:lnTo>
                      <a:pt x="375" y="273"/>
                    </a:lnTo>
                    <a:lnTo>
                      <a:pt x="369" y="279"/>
                    </a:lnTo>
                    <a:lnTo>
                      <a:pt x="362" y="283"/>
                    </a:lnTo>
                    <a:lnTo>
                      <a:pt x="349" y="294"/>
                    </a:lnTo>
                    <a:lnTo>
                      <a:pt x="343" y="299"/>
                    </a:lnTo>
                    <a:lnTo>
                      <a:pt x="330" y="310"/>
                    </a:lnTo>
                    <a:lnTo>
                      <a:pt x="324" y="315"/>
                    </a:lnTo>
                    <a:lnTo>
                      <a:pt x="317" y="320"/>
                    </a:lnTo>
                    <a:lnTo>
                      <a:pt x="309" y="325"/>
                    </a:lnTo>
                    <a:lnTo>
                      <a:pt x="303" y="330"/>
                    </a:lnTo>
                    <a:lnTo>
                      <a:pt x="296" y="335"/>
                    </a:lnTo>
                    <a:lnTo>
                      <a:pt x="288" y="340"/>
                    </a:lnTo>
                    <a:lnTo>
                      <a:pt x="282" y="345"/>
                    </a:lnTo>
                    <a:lnTo>
                      <a:pt x="275" y="351"/>
                    </a:lnTo>
                    <a:lnTo>
                      <a:pt x="267" y="355"/>
                    </a:lnTo>
                    <a:lnTo>
                      <a:pt x="261" y="361"/>
                    </a:lnTo>
                    <a:lnTo>
                      <a:pt x="254" y="365"/>
                    </a:lnTo>
                    <a:lnTo>
                      <a:pt x="246" y="369"/>
                    </a:lnTo>
                    <a:lnTo>
                      <a:pt x="240" y="374"/>
                    </a:lnTo>
                    <a:lnTo>
                      <a:pt x="233" y="378"/>
                    </a:lnTo>
                    <a:lnTo>
                      <a:pt x="227" y="384"/>
                    </a:lnTo>
                    <a:lnTo>
                      <a:pt x="221" y="388"/>
                    </a:lnTo>
                    <a:lnTo>
                      <a:pt x="214" y="392"/>
                    </a:lnTo>
                    <a:lnTo>
                      <a:pt x="208" y="397"/>
                    </a:lnTo>
                    <a:lnTo>
                      <a:pt x="201" y="401"/>
                    </a:lnTo>
                    <a:lnTo>
                      <a:pt x="195" y="405"/>
                    </a:lnTo>
                    <a:lnTo>
                      <a:pt x="188" y="408"/>
                    </a:lnTo>
                    <a:lnTo>
                      <a:pt x="182" y="412"/>
                    </a:lnTo>
                    <a:lnTo>
                      <a:pt x="176" y="417"/>
                    </a:lnTo>
                    <a:lnTo>
                      <a:pt x="169" y="421"/>
                    </a:lnTo>
                    <a:lnTo>
                      <a:pt x="163" y="424"/>
                    </a:lnTo>
                    <a:lnTo>
                      <a:pt x="156" y="428"/>
                    </a:lnTo>
                    <a:lnTo>
                      <a:pt x="150" y="431"/>
                    </a:lnTo>
                    <a:lnTo>
                      <a:pt x="143" y="435"/>
                    </a:lnTo>
                    <a:lnTo>
                      <a:pt x="137" y="438"/>
                    </a:lnTo>
                    <a:lnTo>
                      <a:pt x="130" y="442"/>
                    </a:lnTo>
                    <a:lnTo>
                      <a:pt x="124" y="445"/>
                    </a:lnTo>
                    <a:lnTo>
                      <a:pt x="118" y="450"/>
                    </a:lnTo>
                    <a:lnTo>
                      <a:pt x="111" y="453"/>
                    </a:lnTo>
                    <a:lnTo>
                      <a:pt x="105" y="457"/>
                    </a:lnTo>
                    <a:lnTo>
                      <a:pt x="97" y="460"/>
                    </a:lnTo>
                    <a:lnTo>
                      <a:pt x="90" y="463"/>
                    </a:lnTo>
                    <a:lnTo>
                      <a:pt x="84" y="465"/>
                    </a:lnTo>
                    <a:lnTo>
                      <a:pt x="77" y="468"/>
                    </a:lnTo>
                    <a:lnTo>
                      <a:pt x="71" y="473"/>
                    </a:lnTo>
                    <a:lnTo>
                      <a:pt x="64" y="476"/>
                    </a:lnTo>
                    <a:lnTo>
                      <a:pt x="58" y="478"/>
                    </a:lnTo>
                    <a:lnTo>
                      <a:pt x="52" y="481"/>
                    </a:lnTo>
                    <a:lnTo>
                      <a:pt x="45" y="484"/>
                    </a:lnTo>
                    <a:lnTo>
                      <a:pt x="39" y="487"/>
                    </a:lnTo>
                    <a:lnTo>
                      <a:pt x="32" y="490"/>
                    </a:lnTo>
                    <a:lnTo>
                      <a:pt x="26" y="493"/>
                    </a:lnTo>
                    <a:lnTo>
                      <a:pt x="19" y="496"/>
                    </a:lnTo>
                    <a:lnTo>
                      <a:pt x="13" y="497"/>
                    </a:lnTo>
                    <a:lnTo>
                      <a:pt x="7" y="500"/>
                    </a:lnTo>
                    <a:lnTo>
                      <a:pt x="0" y="503"/>
                    </a:lnTo>
                    <a:lnTo>
                      <a:pt x="0" y="424"/>
                    </a:lnTo>
                    <a:lnTo>
                      <a:pt x="7" y="421"/>
                    </a:lnTo>
                    <a:lnTo>
                      <a:pt x="13" y="418"/>
                    </a:lnTo>
                    <a:lnTo>
                      <a:pt x="19" y="417"/>
                    </a:lnTo>
                    <a:lnTo>
                      <a:pt x="26" y="414"/>
                    </a:lnTo>
                    <a:lnTo>
                      <a:pt x="32" y="411"/>
                    </a:lnTo>
                    <a:lnTo>
                      <a:pt x="39" y="408"/>
                    </a:lnTo>
                    <a:lnTo>
                      <a:pt x="45" y="405"/>
                    </a:lnTo>
                    <a:lnTo>
                      <a:pt x="52" y="402"/>
                    </a:lnTo>
                    <a:lnTo>
                      <a:pt x="58" y="399"/>
                    </a:lnTo>
                    <a:lnTo>
                      <a:pt x="64" y="397"/>
                    </a:lnTo>
                    <a:lnTo>
                      <a:pt x="71" y="394"/>
                    </a:lnTo>
                    <a:lnTo>
                      <a:pt x="77" y="389"/>
                    </a:lnTo>
                    <a:lnTo>
                      <a:pt x="84" y="386"/>
                    </a:lnTo>
                    <a:lnTo>
                      <a:pt x="90" y="384"/>
                    </a:lnTo>
                    <a:lnTo>
                      <a:pt x="97" y="381"/>
                    </a:lnTo>
                    <a:lnTo>
                      <a:pt x="105" y="378"/>
                    </a:lnTo>
                    <a:lnTo>
                      <a:pt x="111" y="374"/>
                    </a:lnTo>
                    <a:lnTo>
                      <a:pt x="118" y="371"/>
                    </a:lnTo>
                    <a:lnTo>
                      <a:pt x="124" y="366"/>
                    </a:lnTo>
                    <a:lnTo>
                      <a:pt x="130" y="363"/>
                    </a:lnTo>
                    <a:lnTo>
                      <a:pt x="137" y="359"/>
                    </a:lnTo>
                    <a:lnTo>
                      <a:pt x="143" y="356"/>
                    </a:lnTo>
                    <a:lnTo>
                      <a:pt x="150" y="352"/>
                    </a:lnTo>
                    <a:lnTo>
                      <a:pt x="156" y="349"/>
                    </a:lnTo>
                    <a:lnTo>
                      <a:pt x="163" y="345"/>
                    </a:lnTo>
                    <a:lnTo>
                      <a:pt x="169" y="342"/>
                    </a:lnTo>
                    <a:lnTo>
                      <a:pt x="176" y="338"/>
                    </a:lnTo>
                    <a:lnTo>
                      <a:pt x="182" y="333"/>
                    </a:lnTo>
                    <a:lnTo>
                      <a:pt x="188" y="329"/>
                    </a:lnTo>
                    <a:lnTo>
                      <a:pt x="195" y="326"/>
                    </a:lnTo>
                    <a:lnTo>
                      <a:pt x="201" y="322"/>
                    </a:lnTo>
                    <a:lnTo>
                      <a:pt x="208" y="317"/>
                    </a:lnTo>
                    <a:lnTo>
                      <a:pt x="214" y="313"/>
                    </a:lnTo>
                    <a:lnTo>
                      <a:pt x="221" y="309"/>
                    </a:lnTo>
                    <a:lnTo>
                      <a:pt x="227" y="305"/>
                    </a:lnTo>
                    <a:lnTo>
                      <a:pt x="233" y="299"/>
                    </a:lnTo>
                    <a:lnTo>
                      <a:pt x="240" y="294"/>
                    </a:lnTo>
                    <a:lnTo>
                      <a:pt x="246" y="290"/>
                    </a:lnTo>
                    <a:lnTo>
                      <a:pt x="254" y="286"/>
                    </a:lnTo>
                    <a:lnTo>
                      <a:pt x="261" y="282"/>
                    </a:lnTo>
                    <a:lnTo>
                      <a:pt x="267" y="276"/>
                    </a:lnTo>
                    <a:lnTo>
                      <a:pt x="275" y="271"/>
                    </a:lnTo>
                    <a:lnTo>
                      <a:pt x="282" y="266"/>
                    </a:lnTo>
                    <a:lnTo>
                      <a:pt x="288" y="261"/>
                    </a:lnTo>
                    <a:lnTo>
                      <a:pt x="296" y="256"/>
                    </a:lnTo>
                    <a:lnTo>
                      <a:pt x="303" y="251"/>
                    </a:lnTo>
                    <a:lnTo>
                      <a:pt x="309" y="246"/>
                    </a:lnTo>
                    <a:lnTo>
                      <a:pt x="317" y="241"/>
                    </a:lnTo>
                    <a:lnTo>
                      <a:pt x="324" y="236"/>
                    </a:lnTo>
                    <a:lnTo>
                      <a:pt x="330" y="231"/>
                    </a:lnTo>
                    <a:lnTo>
                      <a:pt x="343" y="220"/>
                    </a:lnTo>
                    <a:lnTo>
                      <a:pt x="349" y="215"/>
                    </a:lnTo>
                    <a:lnTo>
                      <a:pt x="356" y="210"/>
                    </a:lnTo>
                    <a:lnTo>
                      <a:pt x="362" y="205"/>
                    </a:lnTo>
                    <a:lnTo>
                      <a:pt x="375" y="194"/>
                    </a:lnTo>
                    <a:lnTo>
                      <a:pt x="381" y="190"/>
                    </a:lnTo>
                    <a:lnTo>
                      <a:pt x="386" y="184"/>
                    </a:lnTo>
                    <a:lnTo>
                      <a:pt x="393" y="179"/>
                    </a:lnTo>
                    <a:lnTo>
                      <a:pt x="399" y="174"/>
                    </a:lnTo>
                    <a:lnTo>
                      <a:pt x="404" y="168"/>
                    </a:lnTo>
                    <a:lnTo>
                      <a:pt x="409" y="164"/>
                    </a:lnTo>
                    <a:lnTo>
                      <a:pt x="415" y="159"/>
                    </a:lnTo>
                    <a:lnTo>
                      <a:pt x="420" y="155"/>
                    </a:lnTo>
                    <a:lnTo>
                      <a:pt x="425" y="149"/>
                    </a:lnTo>
                    <a:lnTo>
                      <a:pt x="430" y="145"/>
                    </a:lnTo>
                    <a:lnTo>
                      <a:pt x="435" y="139"/>
                    </a:lnTo>
                    <a:lnTo>
                      <a:pt x="439" y="135"/>
                    </a:lnTo>
                    <a:lnTo>
                      <a:pt x="444" y="129"/>
                    </a:lnTo>
                    <a:lnTo>
                      <a:pt x="449" y="125"/>
                    </a:lnTo>
                    <a:lnTo>
                      <a:pt x="454" y="119"/>
                    </a:lnTo>
                    <a:lnTo>
                      <a:pt x="457" y="115"/>
                    </a:lnTo>
                    <a:lnTo>
                      <a:pt x="462" y="109"/>
                    </a:lnTo>
                    <a:lnTo>
                      <a:pt x="465" y="105"/>
                    </a:lnTo>
                    <a:lnTo>
                      <a:pt x="470" y="99"/>
                    </a:lnTo>
                    <a:lnTo>
                      <a:pt x="473" y="95"/>
                    </a:lnTo>
                    <a:lnTo>
                      <a:pt x="478" y="90"/>
                    </a:lnTo>
                    <a:lnTo>
                      <a:pt x="481" y="85"/>
                    </a:lnTo>
                    <a:lnTo>
                      <a:pt x="486" y="80"/>
                    </a:lnTo>
                    <a:lnTo>
                      <a:pt x="489" y="75"/>
                    </a:lnTo>
                    <a:lnTo>
                      <a:pt x="493" y="70"/>
                    </a:lnTo>
                    <a:lnTo>
                      <a:pt x="496" y="65"/>
                    </a:lnTo>
                    <a:lnTo>
                      <a:pt x="499" y="60"/>
                    </a:lnTo>
                    <a:lnTo>
                      <a:pt x="502" y="54"/>
                    </a:lnTo>
                    <a:lnTo>
                      <a:pt x="505" y="50"/>
                    </a:lnTo>
                    <a:lnTo>
                      <a:pt x="509" y="44"/>
                    </a:lnTo>
                    <a:lnTo>
                      <a:pt x="512" y="40"/>
                    </a:lnTo>
                    <a:lnTo>
                      <a:pt x="515" y="34"/>
                    </a:lnTo>
                    <a:lnTo>
                      <a:pt x="518" y="30"/>
                    </a:lnTo>
                    <a:lnTo>
                      <a:pt x="520" y="24"/>
                    </a:lnTo>
                    <a:lnTo>
                      <a:pt x="523" y="20"/>
                    </a:lnTo>
                    <a:lnTo>
                      <a:pt x="526" y="14"/>
                    </a:lnTo>
                    <a:lnTo>
                      <a:pt x="528" y="10"/>
                    </a:lnTo>
                    <a:lnTo>
                      <a:pt x="531" y="4"/>
                    </a:lnTo>
                    <a:lnTo>
                      <a:pt x="533" y="0"/>
                    </a:lnTo>
                    <a:lnTo>
                      <a:pt x="533" y="80"/>
                    </a:lnTo>
                    <a:close/>
                  </a:path>
                </a:pathLst>
              </a:custGeom>
              <a:solidFill>
                <a:srgbClr val="800099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075760" y="4305960"/>
                <a:ext cx="40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937160" y="4435200"/>
                <a:ext cx="535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di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509920" y="2008800"/>
                <a:ext cx="357696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015000" y="5303520"/>
                <a:ext cx="17380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280320" y="5407920"/>
                <a:ext cx="111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HF/UHF/Microwa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277800" y="5538960"/>
                <a:ext cx="1027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adio Subsyste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489280" y="2787480"/>
                <a:ext cx="413280" cy="721080"/>
              </a:xfrm>
              <a:custGeom>
                <a:avLst/>
                <a:gdLst/>
                <a:ahLst/>
                <a:rect l="l" t="t" r="r" b="b"/>
                <a:pathLst>
                  <a:path w="267" h="475">
                    <a:moveTo>
                      <a:pt x="1" y="184"/>
                    </a:moveTo>
                    <a:lnTo>
                      <a:pt x="0" y="189"/>
                    </a:lnTo>
                    <a:lnTo>
                      <a:pt x="0" y="198"/>
                    </a:lnTo>
                    <a:lnTo>
                      <a:pt x="1" y="208"/>
                    </a:lnTo>
                    <a:lnTo>
                      <a:pt x="4" y="220"/>
                    </a:lnTo>
                    <a:lnTo>
                      <a:pt x="14" y="247"/>
                    </a:lnTo>
                    <a:lnTo>
                      <a:pt x="30" y="277"/>
                    </a:lnTo>
                    <a:lnTo>
                      <a:pt x="46" y="303"/>
                    </a:lnTo>
                    <a:lnTo>
                      <a:pt x="62" y="327"/>
                    </a:lnTo>
                    <a:lnTo>
                      <a:pt x="82" y="352"/>
                    </a:lnTo>
                    <a:lnTo>
                      <a:pt x="94" y="365"/>
                    </a:lnTo>
                    <a:lnTo>
                      <a:pt x="109" y="378"/>
                    </a:lnTo>
                    <a:lnTo>
                      <a:pt x="125" y="392"/>
                    </a:lnTo>
                    <a:lnTo>
                      <a:pt x="144" y="408"/>
                    </a:lnTo>
                    <a:lnTo>
                      <a:pt x="188" y="440"/>
                    </a:lnTo>
                    <a:lnTo>
                      <a:pt x="209" y="452"/>
                    </a:lnTo>
                    <a:lnTo>
                      <a:pt x="231" y="464"/>
                    </a:lnTo>
                    <a:lnTo>
                      <a:pt x="251" y="473"/>
                    </a:lnTo>
                    <a:lnTo>
                      <a:pt x="267" y="475"/>
                    </a:lnTo>
                    <a:lnTo>
                      <a:pt x="267" y="395"/>
                    </a:lnTo>
                    <a:lnTo>
                      <a:pt x="244" y="389"/>
                    </a:lnTo>
                    <a:lnTo>
                      <a:pt x="223" y="379"/>
                    </a:lnTo>
                    <a:lnTo>
                      <a:pt x="201" y="363"/>
                    </a:lnTo>
                    <a:lnTo>
                      <a:pt x="178" y="343"/>
                    </a:lnTo>
                    <a:lnTo>
                      <a:pt x="152" y="317"/>
                    </a:lnTo>
                    <a:lnTo>
                      <a:pt x="123" y="286"/>
                    </a:lnTo>
                    <a:lnTo>
                      <a:pt x="98" y="251"/>
                    </a:lnTo>
                    <a:lnTo>
                      <a:pt x="74" y="211"/>
                    </a:lnTo>
                    <a:lnTo>
                      <a:pt x="59" y="165"/>
                    </a:lnTo>
                    <a:lnTo>
                      <a:pt x="48" y="115"/>
                    </a:lnTo>
                    <a:lnTo>
                      <a:pt x="40" y="60"/>
                    </a:lnTo>
                    <a:lnTo>
                      <a:pt x="30" y="0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00480" y="4330440"/>
                <a:ext cx="35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git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9760" y="4436280"/>
                <a:ext cx="619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28800" y="1971000"/>
                <a:ext cx="910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425560" y="1979640"/>
                <a:ext cx="9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425560" y="1981440"/>
                <a:ext cx="9252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423760" y="199476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423760" y="1999800"/>
                <a:ext cx="914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21240" y="2010240"/>
                <a:ext cx="943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421240" y="2019240"/>
                <a:ext cx="925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418000" y="2028240"/>
                <a:ext cx="957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418000" y="2035800"/>
                <a:ext cx="925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16200" y="2043720"/>
                <a:ext cx="943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416200" y="2055960"/>
                <a:ext cx="91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413320" y="205884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11520" y="207396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408280" y="2089440"/>
                <a:ext cx="9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408280" y="209052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405760" y="2105640"/>
                <a:ext cx="972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05760" y="2110680"/>
                <a:ext cx="957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403960" y="2120760"/>
                <a:ext cx="975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403960" y="212868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400720" y="2136600"/>
                <a:ext cx="975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5154840" y="2148840"/>
              <a:ext cx="340200" cy="1659240"/>
              <a:chOff x="5154840" y="2148840"/>
              <a:chExt cx="340200" cy="1659240"/>
            </a:xfrm>
          </p:grpSpPr>
          <p:sp>
            <p:nvSpPr>
              <p:cNvPr id="2284" name=""/>
              <p:cNvSpPr/>
              <p:nvPr/>
            </p:nvSpPr>
            <p:spPr>
              <a:xfrm>
                <a:off x="5400720" y="2148840"/>
                <a:ext cx="9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399280" y="2153160"/>
                <a:ext cx="957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399280" y="2165040"/>
                <a:ext cx="94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396040" y="2168280"/>
                <a:ext cx="9756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393160" y="2183400"/>
                <a:ext cx="100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393160" y="2185200"/>
                <a:ext cx="97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393160" y="2189520"/>
                <a:ext cx="9756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391720" y="2200320"/>
                <a:ext cx="9900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391720" y="2203560"/>
                <a:ext cx="97560" cy="11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388480" y="2215440"/>
                <a:ext cx="100440" cy="756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388480" y="2223000"/>
                <a:ext cx="97560" cy="756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387040" y="2230560"/>
                <a:ext cx="99000" cy="86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387040" y="2239560"/>
                <a:ext cx="95760" cy="6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383800" y="2245680"/>
                <a:ext cx="9900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383800" y="2256480"/>
                <a:ext cx="9756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380920" y="2260800"/>
                <a:ext cx="10044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380920" y="2275920"/>
                <a:ext cx="9756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79480" y="2279160"/>
                <a:ext cx="9900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376240" y="2294280"/>
                <a:ext cx="9900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374440" y="2309400"/>
                <a:ext cx="10044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374440" y="2314080"/>
                <a:ext cx="9936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371560" y="2324520"/>
                <a:ext cx="101880" cy="6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71560" y="2330640"/>
                <a:ext cx="99000" cy="86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368320" y="2339640"/>
                <a:ext cx="10188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368320" y="2350440"/>
                <a:ext cx="100080" cy="46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366880" y="2355120"/>
                <a:ext cx="101880" cy="13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366880" y="2368800"/>
                <a:ext cx="9936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363640" y="2373120"/>
                <a:ext cx="102240" cy="154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360760" y="2388600"/>
                <a:ext cx="10188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58960" y="2403720"/>
                <a:ext cx="103680" cy="10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358960" y="2405160"/>
                <a:ext cx="10188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358960" y="2408400"/>
                <a:ext cx="10188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55720" y="2418840"/>
                <a:ext cx="10512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355720" y="2423520"/>
                <a:ext cx="10188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54280" y="2433960"/>
                <a:ext cx="103320" cy="86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354280" y="2442960"/>
                <a:ext cx="101880" cy="756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351400" y="2450520"/>
                <a:ext cx="105120" cy="900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351400" y="2459880"/>
                <a:ext cx="101880" cy="576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348160" y="2465640"/>
                <a:ext cx="105120" cy="136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348160" y="2479680"/>
                <a:ext cx="101880" cy="28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346720" y="2482560"/>
                <a:ext cx="1033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343480" y="2497680"/>
                <a:ext cx="1051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342040" y="2512800"/>
                <a:ext cx="10656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342040" y="2517480"/>
                <a:ext cx="10332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339160" y="2527920"/>
                <a:ext cx="106560" cy="6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339160" y="2534400"/>
                <a:ext cx="10512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335920" y="2544840"/>
                <a:ext cx="108360" cy="86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335920" y="2553840"/>
                <a:ext cx="105120" cy="6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334480" y="2559960"/>
                <a:ext cx="10656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334480" y="2570760"/>
                <a:ext cx="10332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331240" y="2575440"/>
                <a:ext cx="106560" cy="136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331240" y="2589120"/>
                <a:ext cx="105120" cy="10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329440" y="2590560"/>
                <a:ext cx="1069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326560" y="2605680"/>
                <a:ext cx="109800" cy="28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326560" y="2608560"/>
                <a:ext cx="10656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323680" y="2623680"/>
                <a:ext cx="109800" cy="10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323680" y="2625120"/>
                <a:ext cx="10800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321880" y="2638800"/>
                <a:ext cx="109800" cy="61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321880" y="2645280"/>
                <a:ext cx="106920" cy="86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319000" y="2654280"/>
                <a:ext cx="109800" cy="900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319000" y="2663280"/>
                <a:ext cx="106560" cy="57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315760" y="2669400"/>
                <a:ext cx="10980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315760" y="2683080"/>
                <a:ext cx="10800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313960" y="2684520"/>
                <a:ext cx="109800" cy="154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311080" y="2700000"/>
                <a:ext cx="109800" cy="176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309640" y="2717640"/>
                <a:ext cx="111600" cy="1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309640" y="2719440"/>
                <a:ext cx="10836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306400" y="2733480"/>
                <a:ext cx="111600" cy="43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306400" y="2737800"/>
                <a:ext cx="109800" cy="10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303160" y="2748600"/>
                <a:ext cx="113040" cy="57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303160" y="2754360"/>
                <a:ext cx="110160" cy="900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301720" y="2763720"/>
                <a:ext cx="111600" cy="10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301720" y="2774160"/>
                <a:ext cx="109800" cy="43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98480" y="2778840"/>
                <a:ext cx="11304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98480" y="2792520"/>
                <a:ext cx="109800" cy="25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297040" y="2795400"/>
                <a:ext cx="111240" cy="165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294160" y="2812320"/>
                <a:ext cx="111600" cy="151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290920" y="2827440"/>
                <a:ext cx="11448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290920" y="2828520"/>
                <a:ext cx="11304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289480" y="2842560"/>
                <a:ext cx="11412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289480" y="2844000"/>
                <a:ext cx="114120" cy="46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289480" y="2848680"/>
                <a:ext cx="111240" cy="86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286240" y="2857680"/>
                <a:ext cx="11412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286240" y="2865240"/>
                <a:ext cx="11304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284800" y="2872800"/>
                <a:ext cx="11412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284800" y="2885040"/>
                <a:ext cx="11124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281920" y="2889720"/>
                <a:ext cx="114120" cy="13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281920" y="2903040"/>
                <a:ext cx="111240" cy="1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278680" y="2904840"/>
                <a:ext cx="1141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277240" y="2919960"/>
                <a:ext cx="1141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274000" y="2935080"/>
                <a:ext cx="11736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274000" y="2939400"/>
                <a:ext cx="11412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72200" y="2952000"/>
                <a:ext cx="115920" cy="57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272200" y="2957760"/>
                <a:ext cx="114480" cy="10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268960" y="2968560"/>
                <a:ext cx="117720" cy="900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268960" y="2977920"/>
                <a:ext cx="114480" cy="57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266440" y="2983680"/>
                <a:ext cx="117360" cy="10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266440" y="2994480"/>
                <a:ext cx="11412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264640" y="2998800"/>
                <a:ext cx="1159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261400" y="3013920"/>
                <a:ext cx="1177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258520" y="3029040"/>
                <a:ext cx="120600" cy="28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258520" y="3032280"/>
                <a:ext cx="11736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256720" y="3044520"/>
                <a:ext cx="11916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256720" y="3052080"/>
                <a:ext cx="117360" cy="100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253840" y="3062520"/>
                <a:ext cx="120600" cy="6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253840" y="3068640"/>
                <a:ext cx="117720" cy="900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252400" y="3078000"/>
                <a:ext cx="119160" cy="86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52400" y="3087000"/>
                <a:ext cx="115920" cy="6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49160" y="3093120"/>
                <a:ext cx="119160" cy="133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49160" y="3106440"/>
                <a:ext cx="117360" cy="14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45920" y="3108240"/>
                <a:ext cx="12060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44480" y="3123360"/>
                <a:ext cx="118800" cy="1800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241240" y="3141720"/>
                <a:ext cx="122040" cy="10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241240" y="3143160"/>
                <a:ext cx="119160" cy="136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239800" y="3156840"/>
                <a:ext cx="120600" cy="2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239800" y="3160080"/>
                <a:ext cx="118800" cy="11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236920" y="3171960"/>
                <a:ext cx="12204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236920" y="3179520"/>
                <a:ext cx="11880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233680" y="3187080"/>
                <a:ext cx="122040" cy="104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233680" y="3197880"/>
                <a:ext cx="120600" cy="43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232240" y="3202200"/>
                <a:ext cx="12204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229000" y="3217320"/>
                <a:ext cx="122040" cy="16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227200" y="3234240"/>
                <a:ext cx="12060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24680" y="3249360"/>
                <a:ext cx="123480" cy="2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224680" y="3252600"/>
                <a:ext cx="122040" cy="11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221440" y="3264480"/>
                <a:ext cx="12528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221440" y="3272040"/>
                <a:ext cx="122040" cy="86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219640" y="3281040"/>
                <a:ext cx="12384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19640" y="3288600"/>
                <a:ext cx="12240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16760" y="3296520"/>
                <a:ext cx="12528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16760" y="3308760"/>
                <a:ext cx="122040" cy="43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214960" y="3313080"/>
                <a:ext cx="123840" cy="136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214960" y="3326760"/>
                <a:ext cx="120600" cy="10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211720" y="3328200"/>
                <a:ext cx="12384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08840" y="3343320"/>
                <a:ext cx="127080" cy="2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208840" y="3346560"/>
                <a:ext cx="12564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207400" y="3358440"/>
                <a:ext cx="127080" cy="46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207400" y="3363480"/>
                <a:ext cx="123840" cy="100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204160" y="3373920"/>
                <a:ext cx="12708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04160" y="3381480"/>
                <a:ext cx="12528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00920" y="3389400"/>
                <a:ext cx="128160" cy="864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00920" y="3398040"/>
                <a:ext cx="125640" cy="864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99480" y="3407040"/>
                <a:ext cx="127080" cy="9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99480" y="3416400"/>
                <a:ext cx="123840" cy="6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96600" y="3422520"/>
                <a:ext cx="12708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95160" y="3437640"/>
                <a:ext cx="128160" cy="57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95160" y="3443760"/>
                <a:ext cx="126720" cy="9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191920" y="3452760"/>
                <a:ext cx="12960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188680" y="3468240"/>
                <a:ext cx="132840" cy="18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187240" y="3486240"/>
                <a:ext cx="13140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187240" y="3498480"/>
                <a:ext cx="13140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184000" y="3501360"/>
                <a:ext cx="13464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182920" y="3516480"/>
                <a:ext cx="13608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182920" y="3524040"/>
                <a:ext cx="13896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179680" y="3531960"/>
                <a:ext cx="14184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176440" y="3547080"/>
                <a:ext cx="14508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174640" y="3562200"/>
                <a:ext cx="146880" cy="1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174640" y="3563640"/>
                <a:ext cx="14868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171760" y="3579120"/>
                <a:ext cx="151560" cy="13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71760" y="3592440"/>
                <a:ext cx="154800" cy="1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169960" y="3594240"/>
                <a:ext cx="156240" cy="11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69960" y="3606120"/>
                <a:ext cx="159120" cy="4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167080" y="3610800"/>
                <a:ext cx="162360" cy="10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67080" y="3621240"/>
                <a:ext cx="164160" cy="4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164200" y="3625920"/>
                <a:ext cx="167040" cy="10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164200" y="3636360"/>
                <a:ext cx="170280" cy="46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162400" y="3641400"/>
                <a:ext cx="17172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162400" y="3648960"/>
                <a:ext cx="173160" cy="86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159160" y="3657960"/>
                <a:ext cx="17640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159160" y="3660840"/>
                <a:ext cx="17964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159160" y="3666960"/>
                <a:ext cx="18288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157720" y="3673080"/>
                <a:ext cx="18432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157720" y="3675960"/>
                <a:ext cx="18540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57720" y="3682080"/>
                <a:ext cx="18864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54840" y="3688200"/>
                <a:ext cx="193320" cy="900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154840" y="3697560"/>
                <a:ext cx="19656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154840" y="3703320"/>
                <a:ext cx="19944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154840" y="3710880"/>
                <a:ext cx="20088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154840" y="3717000"/>
                <a:ext cx="2008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154840" y="3718440"/>
                <a:ext cx="204120" cy="756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154840" y="3726000"/>
                <a:ext cx="20592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154840" y="3730680"/>
                <a:ext cx="2088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154840" y="3733920"/>
                <a:ext cx="212040" cy="756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154840" y="3741480"/>
                <a:ext cx="21348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154840" y="3745800"/>
                <a:ext cx="2167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154840" y="3750480"/>
                <a:ext cx="219600" cy="61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154840" y="3756600"/>
                <a:ext cx="2214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154840" y="3761280"/>
                <a:ext cx="2246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54840" y="3765600"/>
                <a:ext cx="226080" cy="61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54840" y="3771720"/>
                <a:ext cx="2289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54840" y="3776400"/>
                <a:ext cx="2322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4840" y="3780720"/>
                <a:ext cx="2336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154840" y="3785040"/>
                <a:ext cx="236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157720" y="3786840"/>
                <a:ext cx="23364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157720" y="3788280"/>
                <a:ext cx="23508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157720" y="3792960"/>
                <a:ext cx="2383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157720" y="3797640"/>
                <a:ext cx="2412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157720" y="3800880"/>
                <a:ext cx="24264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57720" y="3803400"/>
                <a:ext cx="24588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59160" y="3806640"/>
                <a:ext cx="24444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4" name=""/>
            <p:cNvGrpSpPr/>
            <p:nvPr/>
          </p:nvGrpSpPr>
          <p:grpSpPr>
            <a:xfrm>
              <a:off x="5159520" y="3808440"/>
              <a:ext cx="821160" cy="518760"/>
              <a:chOff x="5159520" y="3808440"/>
              <a:chExt cx="821160" cy="518760"/>
            </a:xfrm>
          </p:grpSpPr>
          <p:sp>
            <p:nvSpPr>
              <p:cNvPr id="2485" name=""/>
              <p:cNvSpPr/>
              <p:nvPr/>
            </p:nvSpPr>
            <p:spPr>
              <a:xfrm>
                <a:off x="5159520" y="3808440"/>
                <a:ext cx="24624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159520" y="3810960"/>
                <a:ext cx="24912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159520" y="3816000"/>
                <a:ext cx="2523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159520" y="3820320"/>
                <a:ext cx="254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162400" y="3823560"/>
                <a:ext cx="2538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62400" y="3826440"/>
                <a:ext cx="2556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162400" y="3831120"/>
                <a:ext cx="2588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162400" y="3835440"/>
                <a:ext cx="2613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162400" y="3838680"/>
                <a:ext cx="263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164200" y="3841560"/>
                <a:ext cx="2646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164200" y="3846240"/>
                <a:ext cx="2674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164200" y="3847680"/>
                <a:ext cx="26928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5164200" y="3850560"/>
                <a:ext cx="2725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164200" y="3855240"/>
                <a:ext cx="27360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167080" y="3856680"/>
                <a:ext cx="27396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167080" y="3858120"/>
                <a:ext cx="2772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167080" y="3862800"/>
                <a:ext cx="27864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167080" y="3865680"/>
                <a:ext cx="281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167080" y="3867480"/>
                <a:ext cx="2833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167080" y="3871800"/>
                <a:ext cx="28656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170320" y="3873240"/>
                <a:ext cx="2865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70320" y="3877920"/>
                <a:ext cx="2880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170320" y="3880800"/>
                <a:ext cx="290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170320" y="3882600"/>
                <a:ext cx="29268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170320" y="3886920"/>
                <a:ext cx="2959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172120" y="3888360"/>
                <a:ext cx="2970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72120" y="3891600"/>
                <a:ext cx="2988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72120" y="3895920"/>
                <a:ext cx="30204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172120" y="3897720"/>
                <a:ext cx="30312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172120" y="3900960"/>
                <a:ext cx="3063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174640" y="3905280"/>
                <a:ext cx="3067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174640" y="3906720"/>
                <a:ext cx="30816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74640" y="3908520"/>
                <a:ext cx="31140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174640" y="3911040"/>
                <a:ext cx="31464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174640" y="3916080"/>
                <a:ext cx="3160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76440" y="3917520"/>
                <a:ext cx="317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176440" y="3920400"/>
                <a:ext cx="31860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176440" y="3921840"/>
                <a:ext cx="32184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76440" y="3926520"/>
                <a:ext cx="3250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176440" y="3927960"/>
                <a:ext cx="32652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79680" y="3931200"/>
                <a:ext cx="3265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79680" y="3932640"/>
                <a:ext cx="3283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79680" y="3936960"/>
                <a:ext cx="3312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179680" y="3940200"/>
                <a:ext cx="3340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79680" y="3942000"/>
                <a:ext cx="335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182920" y="3943080"/>
                <a:ext cx="3355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182920" y="3947760"/>
                <a:ext cx="3373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82920" y="3950640"/>
                <a:ext cx="3405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82920" y="3952440"/>
                <a:ext cx="34344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82920" y="3955320"/>
                <a:ext cx="3452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84360" y="3957120"/>
                <a:ext cx="346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84360" y="3958200"/>
                <a:ext cx="3481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4360" y="3962880"/>
                <a:ext cx="351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84360" y="3965760"/>
                <a:ext cx="3546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87600" y="3967560"/>
                <a:ext cx="35280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187600" y="3970440"/>
                <a:ext cx="356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87600" y="3972240"/>
                <a:ext cx="359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187600" y="3975120"/>
                <a:ext cx="360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188680" y="3976560"/>
                <a:ext cx="36216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188680" y="3981240"/>
                <a:ext cx="3636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188680" y="3982680"/>
                <a:ext cx="3668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191920" y="3985920"/>
                <a:ext cx="3668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191920" y="3987360"/>
                <a:ext cx="368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191920" y="3990240"/>
                <a:ext cx="3715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191920" y="3991680"/>
                <a:ext cx="3733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195160" y="3993480"/>
                <a:ext cx="3733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95160" y="3997800"/>
                <a:ext cx="3758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195160" y="4001040"/>
                <a:ext cx="3776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196600" y="4002480"/>
                <a:ext cx="3794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196600" y="4005360"/>
                <a:ext cx="380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196600" y="4006800"/>
                <a:ext cx="3841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196600" y="4010040"/>
                <a:ext cx="3873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199840" y="4011840"/>
                <a:ext cx="3855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199840" y="4012920"/>
                <a:ext cx="3888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199840" y="4016160"/>
                <a:ext cx="391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199840" y="4017600"/>
                <a:ext cx="396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201280" y="4020840"/>
                <a:ext cx="396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201280" y="4021920"/>
                <a:ext cx="399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201280" y="4025160"/>
                <a:ext cx="4028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201280" y="4026960"/>
                <a:ext cx="4039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204160" y="4028400"/>
                <a:ext cx="4039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204160" y="4031280"/>
                <a:ext cx="4057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204160" y="4032720"/>
                <a:ext cx="408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207400" y="4035960"/>
                <a:ext cx="4086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207400" y="4037040"/>
                <a:ext cx="4104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207400" y="4040280"/>
                <a:ext cx="4132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207400" y="4042080"/>
                <a:ext cx="415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208840" y="4044960"/>
                <a:ext cx="4197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5208840" y="4046400"/>
                <a:ext cx="4212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208840" y="4047840"/>
                <a:ext cx="4244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212080" y="4051080"/>
                <a:ext cx="4226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212080" y="4052520"/>
                <a:ext cx="42588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212080" y="4055400"/>
                <a:ext cx="4291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215320" y="4057200"/>
                <a:ext cx="4273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215320" y="4060080"/>
                <a:ext cx="4334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215320" y="4061520"/>
                <a:ext cx="434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215320" y="4062960"/>
                <a:ext cx="4381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217120" y="4066200"/>
                <a:ext cx="4410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217120" y="4068000"/>
                <a:ext cx="4442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217120" y="4070880"/>
                <a:ext cx="4460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219640" y="4072320"/>
                <a:ext cx="4474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219640" y="4075560"/>
                <a:ext cx="4507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221440" y="4076640"/>
                <a:ext cx="4518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221440" y="4079880"/>
                <a:ext cx="4536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221440" y="4081320"/>
                <a:ext cx="4582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224680" y="4083120"/>
                <a:ext cx="458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224680" y="4086000"/>
                <a:ext cx="4611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227560" y="4087440"/>
                <a:ext cx="4629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227560" y="4090680"/>
                <a:ext cx="4644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227560" y="4091760"/>
                <a:ext cx="4676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229360" y="4095000"/>
                <a:ext cx="4705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229360" y="4096440"/>
                <a:ext cx="4737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229360" y="4098240"/>
                <a:ext cx="478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232240" y="4101120"/>
                <a:ext cx="4780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232240" y="4102560"/>
                <a:ext cx="4827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233680" y="4105800"/>
                <a:ext cx="486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233680" y="4107240"/>
                <a:ext cx="4906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233680" y="4110120"/>
                <a:ext cx="4939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236920" y="4111920"/>
                <a:ext cx="49536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236920" y="4114800"/>
                <a:ext cx="500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240160" y="4116240"/>
                <a:ext cx="5032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240160" y="4117680"/>
                <a:ext cx="504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240160" y="4120920"/>
                <a:ext cx="5090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241600" y="4122360"/>
                <a:ext cx="514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241600" y="4125240"/>
                <a:ext cx="5187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244840" y="4127040"/>
                <a:ext cx="51876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244840" y="4129920"/>
                <a:ext cx="5230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245920" y="4131360"/>
                <a:ext cx="526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245920" y="4132800"/>
                <a:ext cx="5342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249160" y="4136040"/>
                <a:ext cx="5356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249160" y="4137840"/>
                <a:ext cx="54360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52400" y="4140360"/>
                <a:ext cx="545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5252400" y="4142160"/>
                <a:ext cx="552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253840" y="4145400"/>
                <a:ext cx="5558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253840" y="4146840"/>
                <a:ext cx="5637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257080" y="4149720"/>
                <a:ext cx="5652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257080" y="4151160"/>
                <a:ext cx="5731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257080" y="4152960"/>
                <a:ext cx="57744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258880" y="4155480"/>
                <a:ext cx="5868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258880" y="4157280"/>
                <a:ext cx="5958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261400" y="4160520"/>
                <a:ext cx="604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261400" y="4161960"/>
                <a:ext cx="6163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264640" y="4164840"/>
                <a:ext cx="62244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264640" y="4166280"/>
                <a:ext cx="6318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266440" y="4168080"/>
                <a:ext cx="6408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266440" y="4170960"/>
                <a:ext cx="658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269320" y="4172400"/>
                <a:ext cx="6753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69320" y="4175640"/>
                <a:ext cx="6922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272560" y="4177080"/>
                <a:ext cx="7077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274360" y="4181400"/>
                <a:ext cx="705960" cy="61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277240" y="4187520"/>
                <a:ext cx="70308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278680" y="4192200"/>
                <a:ext cx="70164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281920" y="4196880"/>
                <a:ext cx="69840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285160" y="4201560"/>
                <a:ext cx="6951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286600" y="4205880"/>
                <a:ext cx="69372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289480" y="4210200"/>
                <a:ext cx="69084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290920" y="4214880"/>
                <a:ext cx="68940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294160" y="4219560"/>
                <a:ext cx="68616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297400" y="4222440"/>
                <a:ext cx="6829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298840" y="4225320"/>
                <a:ext cx="68148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5302080" y="4230360"/>
                <a:ext cx="67824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03520" y="4231800"/>
                <a:ext cx="6771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06400" y="4236120"/>
                <a:ext cx="67392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309640" y="4240800"/>
                <a:ext cx="6706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311440" y="4242240"/>
                <a:ext cx="66888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314320" y="4246920"/>
                <a:ext cx="6660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316120" y="4249800"/>
                <a:ext cx="66420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319000" y="4254480"/>
                <a:ext cx="6613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321880" y="4255920"/>
                <a:ext cx="65844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323680" y="4257360"/>
                <a:ext cx="65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326920" y="4260600"/>
                <a:ext cx="653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329800" y="4262040"/>
                <a:ext cx="6505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331600" y="4264920"/>
                <a:ext cx="6487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334480" y="4266360"/>
                <a:ext cx="64584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335920" y="4271400"/>
                <a:ext cx="644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339160" y="4272480"/>
                <a:ext cx="641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342400" y="4275720"/>
                <a:ext cx="6379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343840" y="4277160"/>
                <a:ext cx="63648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346720" y="4280400"/>
                <a:ext cx="6336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348160" y="4281480"/>
                <a:ext cx="632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351400" y="4284720"/>
                <a:ext cx="6289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354640" y="4286520"/>
                <a:ext cx="6256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356080" y="4287960"/>
                <a:ext cx="6242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359320" y="4290840"/>
                <a:ext cx="6210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363640" y="4292280"/>
                <a:ext cx="61668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366880" y="4295520"/>
                <a:ext cx="61344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368680" y="4296960"/>
                <a:ext cx="61164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371920" y="4299840"/>
                <a:ext cx="6084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374800" y="4301640"/>
                <a:ext cx="6055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376240" y="4304520"/>
                <a:ext cx="604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380920" y="4305960"/>
                <a:ext cx="599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384160" y="4307400"/>
                <a:ext cx="596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387400" y="4310640"/>
                <a:ext cx="5929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388840" y="4312080"/>
                <a:ext cx="59148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393160" y="4314960"/>
                <a:ext cx="58716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396400" y="4316760"/>
                <a:ext cx="5839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399640" y="4320000"/>
                <a:ext cx="5806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404320" y="4321080"/>
                <a:ext cx="57636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05760" y="4322880"/>
                <a:ext cx="57456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408640" y="4325760"/>
                <a:ext cx="5716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5" name=""/>
            <p:cNvGrpSpPr/>
            <p:nvPr/>
          </p:nvGrpSpPr>
          <p:grpSpPr>
            <a:xfrm>
              <a:off x="5154840" y="1971000"/>
              <a:ext cx="891720" cy="2608200"/>
              <a:chOff x="5154840" y="1971000"/>
              <a:chExt cx="891720" cy="2608200"/>
            </a:xfrm>
          </p:grpSpPr>
          <p:sp>
            <p:nvSpPr>
              <p:cNvPr id="2686" name=""/>
              <p:cNvSpPr/>
              <p:nvPr/>
            </p:nvSpPr>
            <p:spPr>
              <a:xfrm>
                <a:off x="5413680" y="4327200"/>
                <a:ext cx="56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416200" y="4330080"/>
                <a:ext cx="5637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418000" y="4331520"/>
                <a:ext cx="5619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421240" y="4334760"/>
                <a:ext cx="559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425920" y="4335840"/>
                <a:ext cx="5544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428800" y="4339080"/>
                <a:ext cx="5511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433480" y="4340520"/>
                <a:ext cx="5436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5436720" y="4342320"/>
                <a:ext cx="5371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441400" y="4345200"/>
                <a:ext cx="5281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444280" y="4346640"/>
                <a:ext cx="521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448960" y="4349880"/>
                <a:ext cx="5155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450400" y="4350960"/>
                <a:ext cx="5112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456880" y="4354200"/>
                <a:ext cx="5032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461200" y="4356000"/>
                <a:ext cx="4953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463000" y="4357440"/>
                <a:ext cx="4892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469120" y="4360320"/>
                <a:ext cx="4798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470920" y="4361760"/>
                <a:ext cx="47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475240" y="4365000"/>
                <a:ext cx="469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481720" y="4366440"/>
                <a:ext cx="4597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5486040" y="4369320"/>
                <a:ext cx="453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490720" y="4371120"/>
                <a:ext cx="44460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495400" y="4374000"/>
                <a:ext cx="4366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501520" y="4375440"/>
                <a:ext cx="427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506200" y="4376880"/>
                <a:ext cx="4212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510880" y="4380120"/>
                <a:ext cx="413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515560" y="4381560"/>
                <a:ext cx="4068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520240" y="4384440"/>
                <a:ext cx="39636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526360" y="4386240"/>
                <a:ext cx="388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531040" y="4389480"/>
                <a:ext cx="3808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538960" y="4390560"/>
                <a:ext cx="370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47960" y="4392000"/>
                <a:ext cx="3592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55880" y="4395240"/>
                <a:ext cx="348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565240" y="4397040"/>
                <a:ext cx="33408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572800" y="4399560"/>
                <a:ext cx="3232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583960" y="4401360"/>
                <a:ext cx="3110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591520" y="4404600"/>
                <a:ext cx="3002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600880" y="4406040"/>
                <a:ext cx="289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613120" y="4408920"/>
                <a:ext cx="271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22480" y="4410360"/>
                <a:ext cx="2599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634720" y="4412160"/>
                <a:ext cx="244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645520" y="4415040"/>
                <a:ext cx="231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658120" y="4416480"/>
                <a:ext cx="2167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658120" y="4419720"/>
                <a:ext cx="213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658120" y="4421160"/>
                <a:ext cx="2091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658120" y="4424040"/>
                <a:ext cx="2073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658120" y="4425480"/>
                <a:ext cx="204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658120" y="4427280"/>
                <a:ext cx="2012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658120" y="4430160"/>
                <a:ext cx="1998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658120" y="4431600"/>
                <a:ext cx="1965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658120" y="4434840"/>
                <a:ext cx="1918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658120" y="4436280"/>
                <a:ext cx="188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658120" y="4439160"/>
                <a:ext cx="1872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658120" y="4440600"/>
                <a:ext cx="1843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658120" y="4443840"/>
                <a:ext cx="1810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58120" y="4445280"/>
                <a:ext cx="179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658120" y="4446720"/>
                <a:ext cx="1749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658120" y="4449960"/>
                <a:ext cx="172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658120" y="4451400"/>
                <a:ext cx="168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658120" y="4454280"/>
                <a:ext cx="167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658120" y="4456080"/>
                <a:ext cx="1641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658120" y="4458960"/>
                <a:ext cx="1594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658120" y="4460760"/>
                <a:ext cx="1566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658120" y="4461840"/>
                <a:ext cx="1548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658120" y="4465080"/>
                <a:ext cx="1515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658120" y="4466520"/>
                <a:ext cx="1501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658120" y="4469400"/>
                <a:ext cx="1468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658120" y="4471200"/>
                <a:ext cx="1425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658120" y="4474080"/>
                <a:ext cx="1393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658120" y="4475880"/>
                <a:ext cx="1360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658120" y="4478760"/>
                <a:ext cx="134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658120" y="4480200"/>
                <a:ext cx="131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658120" y="4482000"/>
                <a:ext cx="1299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658120" y="4484880"/>
                <a:ext cx="12384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658120" y="4486320"/>
                <a:ext cx="1224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58120" y="4489560"/>
                <a:ext cx="119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58120" y="4491000"/>
                <a:ext cx="117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658120" y="4493880"/>
                <a:ext cx="114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658120" y="4495320"/>
                <a:ext cx="111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58120" y="4497120"/>
                <a:ext cx="10692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58120" y="4500000"/>
                <a:ext cx="105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58120" y="4501440"/>
                <a:ext cx="1018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58120" y="4504680"/>
                <a:ext cx="993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658120" y="4506120"/>
                <a:ext cx="975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658120" y="4509000"/>
                <a:ext cx="94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658120" y="4510440"/>
                <a:ext cx="89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658120" y="4513680"/>
                <a:ext cx="86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658120" y="4515480"/>
                <a:ext cx="85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658120" y="4516560"/>
                <a:ext cx="820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658120" y="4519800"/>
                <a:ext cx="78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658120" y="4521240"/>
                <a:ext cx="741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658120" y="4524120"/>
                <a:ext cx="727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658120" y="4525560"/>
                <a:ext cx="69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658120" y="4528800"/>
                <a:ext cx="66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658120" y="4530600"/>
                <a:ext cx="65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658120" y="4532040"/>
                <a:ext cx="619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658120" y="4534920"/>
                <a:ext cx="572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658120" y="4536360"/>
                <a:ext cx="54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8120" y="4539600"/>
                <a:ext cx="5256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658120" y="4541040"/>
                <a:ext cx="4932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658120" y="4543920"/>
                <a:ext cx="478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658120" y="4545720"/>
                <a:ext cx="44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658120" y="4548600"/>
                <a:ext cx="40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658120" y="4550040"/>
                <a:ext cx="37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658120" y="4551480"/>
                <a:ext cx="33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658120" y="4554720"/>
                <a:ext cx="32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658120" y="4556160"/>
                <a:ext cx="291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658120" y="4559040"/>
                <a:ext cx="280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8120" y="4560840"/>
                <a:ext cx="216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658120" y="4563720"/>
                <a:ext cx="20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658120" y="4565160"/>
                <a:ext cx="169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658120" y="4566600"/>
                <a:ext cx="151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58120" y="4569840"/>
                <a:ext cx="12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58120" y="4571640"/>
                <a:ext cx="9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658120" y="4574520"/>
                <a:ext cx="46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658120" y="4575960"/>
                <a:ext cx="28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154840" y="1971000"/>
                <a:ext cx="825480" cy="2608200"/>
              </a:xfrm>
              <a:custGeom>
                <a:avLst/>
                <a:gdLst/>
                <a:ahLst/>
                <a:rect l="l" t="t" r="r" b="b"/>
                <a:pathLst>
                  <a:path w="533" h="1718">
                    <a:moveTo>
                      <a:pt x="325" y="1611"/>
                    </a:moveTo>
                    <a:lnTo>
                      <a:pt x="533" y="1453"/>
                    </a:lnTo>
                    <a:lnTo>
                      <a:pt x="533" y="1560"/>
                    </a:lnTo>
                    <a:lnTo>
                      <a:pt x="325" y="1718"/>
                    </a:lnTo>
                    <a:lnTo>
                      <a:pt x="325" y="1611"/>
                    </a:lnTo>
                    <a:close/>
                    <a:moveTo>
                      <a:pt x="533" y="1453"/>
                    </a:moveTo>
                    <a:lnTo>
                      <a:pt x="486" y="1447"/>
                    </a:lnTo>
                    <a:lnTo>
                      <a:pt x="439" y="1437"/>
                    </a:lnTo>
                    <a:lnTo>
                      <a:pt x="396" y="1422"/>
                    </a:lnTo>
                    <a:lnTo>
                      <a:pt x="354" y="1400"/>
                    </a:lnTo>
                    <a:lnTo>
                      <a:pt x="314" y="1373"/>
                    </a:lnTo>
                    <a:lnTo>
                      <a:pt x="273" y="1340"/>
                    </a:lnTo>
                    <a:lnTo>
                      <a:pt x="238" y="1304"/>
                    </a:lnTo>
                    <a:lnTo>
                      <a:pt x="206" y="1268"/>
                    </a:lnTo>
                    <a:lnTo>
                      <a:pt x="175" y="1230"/>
                    </a:lnTo>
                    <a:lnTo>
                      <a:pt x="151" y="1193"/>
                    </a:lnTo>
                    <a:lnTo>
                      <a:pt x="132" y="1153"/>
                    </a:lnTo>
                    <a:lnTo>
                      <a:pt x="117" y="1110"/>
                    </a:lnTo>
                    <a:lnTo>
                      <a:pt x="109" y="1062"/>
                    </a:lnTo>
                    <a:lnTo>
                      <a:pt x="106" y="1011"/>
                    </a:lnTo>
                    <a:lnTo>
                      <a:pt x="109" y="956"/>
                    </a:lnTo>
                    <a:lnTo>
                      <a:pt x="117" y="898"/>
                    </a:lnTo>
                    <a:lnTo>
                      <a:pt x="236" y="0"/>
                    </a:lnTo>
                    <a:lnTo>
                      <a:pt x="177" y="0"/>
                    </a:lnTo>
                    <a:lnTo>
                      <a:pt x="0" y="1136"/>
                    </a:lnTo>
                    <a:lnTo>
                      <a:pt x="0" y="1189"/>
                    </a:lnTo>
                    <a:lnTo>
                      <a:pt x="5" y="1226"/>
                    </a:lnTo>
                    <a:lnTo>
                      <a:pt x="11" y="1268"/>
                    </a:lnTo>
                    <a:lnTo>
                      <a:pt x="19" y="1311"/>
                    </a:lnTo>
                    <a:lnTo>
                      <a:pt x="29" y="1347"/>
                    </a:lnTo>
                    <a:lnTo>
                      <a:pt x="40" y="1381"/>
                    </a:lnTo>
                    <a:lnTo>
                      <a:pt x="55" y="1414"/>
                    </a:lnTo>
                    <a:lnTo>
                      <a:pt x="88" y="1479"/>
                    </a:lnTo>
                    <a:lnTo>
                      <a:pt x="106" y="1504"/>
                    </a:lnTo>
                    <a:lnTo>
                      <a:pt x="127" y="1524"/>
                    </a:lnTo>
                    <a:lnTo>
                      <a:pt x="150" y="1541"/>
                    </a:lnTo>
                    <a:lnTo>
                      <a:pt x="162" y="1549"/>
                    </a:lnTo>
                    <a:lnTo>
                      <a:pt x="177" y="1560"/>
                    </a:lnTo>
                    <a:lnTo>
                      <a:pt x="207" y="1577"/>
                    </a:lnTo>
                    <a:lnTo>
                      <a:pt x="243" y="1593"/>
                    </a:lnTo>
                    <a:lnTo>
                      <a:pt x="282" y="1603"/>
                    </a:lnTo>
                    <a:lnTo>
                      <a:pt x="325" y="1611"/>
                    </a:lnTo>
                    <a:lnTo>
                      <a:pt x="533" y="1453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311440" y="3207960"/>
                <a:ext cx="416520" cy="722520"/>
              </a:xfrm>
              <a:custGeom>
                <a:avLst/>
                <a:gdLst/>
                <a:ahLst/>
                <a:rect l="l" t="t" r="r" b="b"/>
                <a:pathLst>
                  <a:path w="269" h="476">
                    <a:moveTo>
                      <a:pt x="2" y="184"/>
                    </a:moveTo>
                    <a:lnTo>
                      <a:pt x="0" y="191"/>
                    </a:lnTo>
                    <a:lnTo>
                      <a:pt x="0" y="198"/>
                    </a:lnTo>
                    <a:lnTo>
                      <a:pt x="5" y="221"/>
                    </a:lnTo>
                    <a:lnTo>
                      <a:pt x="15" y="247"/>
                    </a:lnTo>
                    <a:lnTo>
                      <a:pt x="31" y="277"/>
                    </a:lnTo>
                    <a:lnTo>
                      <a:pt x="41" y="290"/>
                    </a:lnTo>
                    <a:lnTo>
                      <a:pt x="49" y="303"/>
                    </a:lnTo>
                    <a:lnTo>
                      <a:pt x="65" y="328"/>
                    </a:lnTo>
                    <a:lnTo>
                      <a:pt x="84" y="352"/>
                    </a:lnTo>
                    <a:lnTo>
                      <a:pt x="110" y="378"/>
                    </a:lnTo>
                    <a:lnTo>
                      <a:pt x="126" y="392"/>
                    </a:lnTo>
                    <a:lnTo>
                      <a:pt x="147" y="408"/>
                    </a:lnTo>
                    <a:lnTo>
                      <a:pt x="190" y="440"/>
                    </a:lnTo>
                    <a:lnTo>
                      <a:pt x="211" y="453"/>
                    </a:lnTo>
                    <a:lnTo>
                      <a:pt x="234" y="464"/>
                    </a:lnTo>
                    <a:lnTo>
                      <a:pt x="253" y="473"/>
                    </a:lnTo>
                    <a:lnTo>
                      <a:pt x="269" y="476"/>
                    </a:lnTo>
                    <a:lnTo>
                      <a:pt x="269" y="395"/>
                    </a:lnTo>
                    <a:lnTo>
                      <a:pt x="246" y="390"/>
                    </a:lnTo>
                    <a:lnTo>
                      <a:pt x="224" y="380"/>
                    </a:lnTo>
                    <a:lnTo>
                      <a:pt x="201" y="364"/>
                    </a:lnTo>
                    <a:lnTo>
                      <a:pt x="179" y="344"/>
                    </a:lnTo>
                    <a:lnTo>
                      <a:pt x="153" y="318"/>
                    </a:lnTo>
                    <a:lnTo>
                      <a:pt x="126" y="288"/>
                    </a:lnTo>
                    <a:lnTo>
                      <a:pt x="98" y="252"/>
                    </a:lnTo>
                    <a:lnTo>
                      <a:pt x="76" y="211"/>
                    </a:lnTo>
                    <a:lnTo>
                      <a:pt x="61" y="165"/>
                    </a:lnTo>
                    <a:lnTo>
                      <a:pt x="50" y="115"/>
                    </a:lnTo>
                    <a:lnTo>
                      <a:pt x="41" y="60"/>
                    </a:lnTo>
                    <a:lnTo>
                      <a:pt x="31" y="0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727960" y="3648600"/>
                <a:ext cx="318600" cy="282240"/>
              </a:xfrm>
              <a:custGeom>
                <a:avLst/>
                <a:gdLst/>
                <a:ahLst/>
                <a:rect l="l" t="t" r="r" b="b"/>
                <a:pathLst>
                  <a:path w="206" h="186">
                    <a:moveTo>
                      <a:pt x="0" y="105"/>
                    </a:moveTo>
                    <a:lnTo>
                      <a:pt x="206" y="0"/>
                    </a:lnTo>
                    <a:lnTo>
                      <a:pt x="206" y="79"/>
                    </a:lnTo>
                    <a:lnTo>
                      <a:pt x="0" y="186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514120" y="1971000"/>
                <a:ext cx="896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510880" y="1981440"/>
                <a:ext cx="92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510880" y="1984680"/>
                <a:ext cx="8964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508000" y="2004120"/>
                <a:ext cx="92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508000" y="2010240"/>
                <a:ext cx="892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506200" y="2023920"/>
                <a:ext cx="9108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506200" y="2034360"/>
                <a:ext cx="896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502960" y="2045160"/>
                <a:ext cx="92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502960" y="2058840"/>
                <a:ext cx="8964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501520" y="2064960"/>
                <a:ext cx="9108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498640" y="2084760"/>
                <a:ext cx="92880" cy="2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495400" y="2105640"/>
                <a:ext cx="96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495400" y="2108880"/>
                <a:ext cx="92880" cy="1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493960" y="2125800"/>
                <a:ext cx="943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493960" y="2134800"/>
                <a:ext cx="910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490720" y="2148480"/>
                <a:ext cx="943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490720" y="2159280"/>
                <a:ext cx="92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489280" y="216792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489280" y="2175840"/>
                <a:ext cx="9432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489280" y="2183400"/>
                <a:ext cx="91080" cy="6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486040" y="2189520"/>
                <a:ext cx="94320" cy="194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483160" y="2208960"/>
                <a:ext cx="94320" cy="198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481720" y="2229120"/>
                <a:ext cx="95760" cy="4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81720" y="2233440"/>
                <a:ext cx="94320" cy="162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478480" y="2250000"/>
                <a:ext cx="97560" cy="6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478480" y="2256120"/>
                <a:ext cx="94320" cy="136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475240" y="2270160"/>
                <a:ext cx="97560" cy="13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475240" y="2283480"/>
                <a:ext cx="9576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473800" y="2291040"/>
                <a:ext cx="97200" cy="16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473800" y="2307960"/>
                <a:ext cx="94320" cy="28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470920" y="2310840"/>
                <a:ext cx="97560" cy="226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469120" y="2333520"/>
                <a:ext cx="96120" cy="194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466240" y="2353320"/>
                <a:ext cx="99000" cy="4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466240" y="2357640"/>
                <a:ext cx="97200" cy="15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463000" y="2372760"/>
                <a:ext cx="10044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463000" y="2380680"/>
                <a:ext cx="972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461200" y="2394360"/>
                <a:ext cx="990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461200" y="2408040"/>
                <a:ext cx="97560" cy="57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457960" y="2413800"/>
                <a:ext cx="100440" cy="16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457960" y="2430720"/>
                <a:ext cx="9756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56880" y="2435400"/>
                <a:ext cx="99000" cy="198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53640" y="2455200"/>
                <a:ext cx="101880" cy="25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53640" y="2458080"/>
                <a:ext cx="99000" cy="198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450400" y="2477880"/>
                <a:ext cx="10188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50400" y="2482560"/>
                <a:ext cx="10044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48960" y="2497680"/>
                <a:ext cx="101880" cy="7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48960" y="2505240"/>
                <a:ext cx="990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445720" y="2518920"/>
                <a:ext cx="101880" cy="13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445720" y="2532240"/>
                <a:ext cx="100440" cy="6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444280" y="2538360"/>
                <a:ext cx="101880" cy="16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444280" y="2555280"/>
                <a:ext cx="99000" cy="25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441400" y="2558160"/>
                <a:ext cx="101880" cy="2124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438160" y="2579400"/>
                <a:ext cx="105120" cy="28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438160" y="2582640"/>
                <a:ext cx="10188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438160" y="2586960"/>
                <a:ext cx="101880" cy="1188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436720" y="2599200"/>
                <a:ext cx="10332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436720" y="2605320"/>
                <a:ext cx="101880" cy="16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433480" y="2622240"/>
                <a:ext cx="105120" cy="7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433480" y="2629800"/>
                <a:ext cx="10188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431680" y="2640600"/>
                <a:ext cx="103680" cy="1620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31680" y="2656800"/>
                <a:ext cx="10044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428800" y="2663280"/>
                <a:ext cx="103320" cy="1620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428800" y="2679840"/>
                <a:ext cx="101880" cy="288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425920" y="2682720"/>
                <a:ext cx="105120" cy="19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424120" y="2702520"/>
                <a:ext cx="106920" cy="1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424120" y="2703960"/>
                <a:ext cx="103680" cy="19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421240" y="2723760"/>
                <a:ext cx="10656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421240" y="2729880"/>
                <a:ext cx="104760" cy="133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418000" y="2743200"/>
                <a:ext cx="10800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418000" y="2754000"/>
                <a:ext cx="10512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416200" y="2764800"/>
                <a:ext cx="106920" cy="15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416200" y="2779920"/>
                <a:ext cx="103680" cy="43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413680" y="2784240"/>
                <a:ext cx="106560" cy="7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413680" y="2792160"/>
                <a:ext cx="106560" cy="118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413680" y="2804400"/>
                <a:ext cx="104760" cy="28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411880" y="2807280"/>
                <a:ext cx="10656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408640" y="2827080"/>
                <a:ext cx="109800" cy="10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408640" y="2828520"/>
                <a:ext cx="106920" cy="1980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405760" y="2848320"/>
                <a:ext cx="109800" cy="576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405760" y="2854080"/>
                <a:ext cx="108000" cy="136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403960" y="2868120"/>
                <a:ext cx="10980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400720" y="2887560"/>
                <a:ext cx="113040" cy="212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6" name=""/>
            <p:cNvGrpSpPr/>
            <p:nvPr/>
          </p:nvGrpSpPr>
          <p:grpSpPr>
            <a:xfrm>
              <a:off x="5359320" y="2909520"/>
              <a:ext cx="687240" cy="752400"/>
              <a:chOff x="5359320" y="2909520"/>
              <a:chExt cx="687240" cy="752400"/>
            </a:xfrm>
          </p:grpSpPr>
          <p:sp>
            <p:nvSpPr>
              <p:cNvPr id="2887" name=""/>
              <p:cNvSpPr/>
              <p:nvPr/>
            </p:nvSpPr>
            <p:spPr>
              <a:xfrm>
                <a:off x="5399640" y="2909520"/>
                <a:ext cx="11448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396400" y="2928960"/>
                <a:ext cx="117360" cy="230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393160" y="2952000"/>
                <a:ext cx="120600" cy="176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391720" y="2970000"/>
                <a:ext cx="122040" cy="230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388480" y="2993040"/>
                <a:ext cx="125280" cy="432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388480" y="2997360"/>
                <a:ext cx="12528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388480" y="2998800"/>
                <a:ext cx="127080" cy="13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387400" y="3012480"/>
                <a:ext cx="12852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387400" y="3023280"/>
                <a:ext cx="13104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84160" y="3032280"/>
                <a:ext cx="13428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384160" y="3042720"/>
                <a:ext cx="13608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380920" y="3053520"/>
                <a:ext cx="13932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80920" y="3058200"/>
                <a:ext cx="142560" cy="13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80920" y="3071880"/>
                <a:ext cx="14508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379480" y="3073320"/>
                <a:ext cx="14652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379480" y="3083760"/>
                <a:ext cx="14832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379480" y="3093120"/>
                <a:ext cx="15156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376240" y="3094560"/>
                <a:ext cx="15480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376240" y="3102120"/>
                <a:ext cx="15624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376240" y="3109680"/>
                <a:ext cx="15912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374440" y="3114000"/>
                <a:ext cx="160920" cy="4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374440" y="3119040"/>
                <a:ext cx="16416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374440" y="3128040"/>
                <a:ext cx="16560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71920" y="3137040"/>
                <a:ext cx="17172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371920" y="3144600"/>
                <a:ext cx="17460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371920" y="3153600"/>
                <a:ext cx="176040" cy="28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368680" y="3156840"/>
                <a:ext cx="179280" cy="57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368680" y="3162600"/>
                <a:ext cx="18252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368680" y="3171960"/>
                <a:ext cx="18396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366880" y="3176280"/>
                <a:ext cx="185760" cy="28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366880" y="3179520"/>
                <a:ext cx="18864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366880" y="3188520"/>
                <a:ext cx="19188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363640" y="3197880"/>
                <a:ext cx="19656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363640" y="3202200"/>
                <a:ext cx="1965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363640" y="3204000"/>
                <a:ext cx="199800" cy="86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363640" y="3213000"/>
                <a:ext cx="2012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360760" y="3217320"/>
                <a:ext cx="204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360760" y="3222000"/>
                <a:ext cx="20736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360760" y="3229920"/>
                <a:ext cx="210240" cy="86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359320" y="3238920"/>
                <a:ext cx="21384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359320" y="3246480"/>
                <a:ext cx="21672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360760" y="3247560"/>
                <a:ext cx="21492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360760" y="3252600"/>
                <a:ext cx="2163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360760" y="3256920"/>
                <a:ext cx="219600" cy="61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360760" y="3263040"/>
                <a:ext cx="222840" cy="57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360760" y="3269160"/>
                <a:ext cx="22428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360760" y="3273480"/>
                <a:ext cx="22752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360760" y="3281040"/>
                <a:ext cx="23040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360760" y="3284280"/>
                <a:ext cx="2318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360760" y="3288600"/>
                <a:ext cx="23508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360760" y="3293640"/>
                <a:ext cx="2365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363640" y="3297960"/>
                <a:ext cx="23688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363640" y="3302280"/>
                <a:ext cx="240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363640" y="3306960"/>
                <a:ext cx="24156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363640" y="3311640"/>
                <a:ext cx="2444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366880" y="3316320"/>
                <a:ext cx="24336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66880" y="3319200"/>
                <a:ext cx="2458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366880" y="3322440"/>
                <a:ext cx="249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366880" y="3326760"/>
                <a:ext cx="25092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366880" y="3328200"/>
                <a:ext cx="25380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368680" y="3332880"/>
                <a:ext cx="253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368680" y="3334320"/>
                <a:ext cx="2570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368680" y="3339000"/>
                <a:ext cx="25992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368680" y="3341880"/>
                <a:ext cx="2613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368680" y="3346560"/>
                <a:ext cx="26460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368680" y="3348000"/>
                <a:ext cx="26604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371920" y="3350880"/>
                <a:ext cx="262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371920" y="3352680"/>
                <a:ext cx="26604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371920" y="3354120"/>
                <a:ext cx="2692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371920" y="3357000"/>
                <a:ext cx="2707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371920" y="3361680"/>
                <a:ext cx="2736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371920" y="3363480"/>
                <a:ext cx="276840" cy="25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374440" y="3366000"/>
                <a:ext cx="2739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374440" y="3367800"/>
                <a:ext cx="27540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74440" y="3369240"/>
                <a:ext cx="2786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374440" y="3373560"/>
                <a:ext cx="2800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376240" y="3376800"/>
                <a:ext cx="2815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76240" y="3381120"/>
                <a:ext cx="2847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76240" y="3382920"/>
                <a:ext cx="2865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79480" y="3387600"/>
                <a:ext cx="2862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79480" y="3389040"/>
                <a:ext cx="287640" cy="25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379480" y="3391920"/>
                <a:ext cx="29088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379480" y="3396600"/>
                <a:ext cx="29376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379480" y="3398040"/>
                <a:ext cx="29556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380920" y="3401280"/>
                <a:ext cx="29736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380920" y="3402720"/>
                <a:ext cx="298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380920" y="3404160"/>
                <a:ext cx="30168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380920" y="3408840"/>
                <a:ext cx="304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384160" y="3411720"/>
                <a:ext cx="3031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384160" y="3413160"/>
                <a:ext cx="306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384160" y="3416400"/>
                <a:ext cx="30780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384160" y="3420720"/>
                <a:ext cx="3110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387400" y="3422520"/>
                <a:ext cx="311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387400" y="3423960"/>
                <a:ext cx="3124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387400" y="3427200"/>
                <a:ext cx="3153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387400" y="3428280"/>
                <a:ext cx="3186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88480" y="3431520"/>
                <a:ext cx="3171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388480" y="3432960"/>
                <a:ext cx="3186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388480" y="3435840"/>
                <a:ext cx="3218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388480" y="3437640"/>
                <a:ext cx="3236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391720" y="3439080"/>
                <a:ext cx="323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391720" y="3442320"/>
                <a:ext cx="32652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393160" y="3446640"/>
                <a:ext cx="3268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393160" y="3448440"/>
                <a:ext cx="3297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393160" y="3450960"/>
                <a:ext cx="331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393160" y="3452760"/>
                <a:ext cx="3344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96400" y="3456000"/>
                <a:ext cx="3344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96400" y="3457440"/>
                <a:ext cx="3358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96400" y="3458520"/>
                <a:ext cx="3391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99640" y="3461760"/>
                <a:ext cx="3373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399640" y="3463560"/>
                <a:ext cx="3405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399640" y="3466440"/>
                <a:ext cx="3438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399640" y="3467880"/>
                <a:ext cx="3448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401080" y="3471120"/>
                <a:ext cx="3466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401080" y="3472560"/>
                <a:ext cx="3481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401080" y="3474000"/>
                <a:ext cx="351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403960" y="3476880"/>
                <a:ext cx="3513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403960" y="3478680"/>
                <a:ext cx="3531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403960" y="3481920"/>
                <a:ext cx="356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403960" y="3483000"/>
                <a:ext cx="358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405760" y="3486240"/>
                <a:ext cx="358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405760" y="3489480"/>
                <a:ext cx="36180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408640" y="3492000"/>
                <a:ext cx="3607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408640" y="3493800"/>
                <a:ext cx="3639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408640" y="3497040"/>
                <a:ext cx="3668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411880" y="3498120"/>
                <a:ext cx="3654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411880" y="3501360"/>
                <a:ext cx="3686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413680" y="3502800"/>
                <a:ext cx="368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413680" y="3505680"/>
                <a:ext cx="3715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413680" y="3507120"/>
                <a:ext cx="3744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416560" y="3508920"/>
                <a:ext cx="3729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416560" y="3512160"/>
                <a:ext cx="3762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416560" y="3513240"/>
                <a:ext cx="3776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418000" y="3516480"/>
                <a:ext cx="3790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418000" y="3517920"/>
                <a:ext cx="3823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421240" y="3521160"/>
                <a:ext cx="3805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421240" y="3522600"/>
                <a:ext cx="3837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421240" y="3524040"/>
                <a:ext cx="3866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424120" y="3527280"/>
                <a:ext cx="3855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424120" y="3528720"/>
                <a:ext cx="3902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424120" y="3531600"/>
                <a:ext cx="3934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425920" y="3533040"/>
                <a:ext cx="3945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425920" y="3536280"/>
                <a:ext cx="3963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429160" y="3537720"/>
                <a:ext cx="3978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429160" y="3540960"/>
                <a:ext cx="401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429160" y="3542400"/>
                <a:ext cx="4039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431680" y="3543840"/>
                <a:ext cx="4057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431680" y="3546720"/>
                <a:ext cx="4071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433480" y="3548520"/>
                <a:ext cx="41184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433480" y="3551400"/>
                <a:ext cx="4132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436720" y="3552840"/>
                <a:ext cx="4150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436720" y="3556080"/>
                <a:ext cx="4176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438160" y="3557520"/>
                <a:ext cx="4212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438160" y="3558960"/>
                <a:ext cx="4240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441400" y="3561840"/>
                <a:ext cx="4258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441400" y="3563640"/>
                <a:ext cx="4287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444640" y="3566520"/>
                <a:ext cx="430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444640" y="3568320"/>
                <a:ext cx="4348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445720" y="3571200"/>
                <a:ext cx="4366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448960" y="3572640"/>
                <a:ext cx="4381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448960" y="3575880"/>
                <a:ext cx="4413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450400" y="3576960"/>
                <a:ext cx="4442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450400" y="3578760"/>
                <a:ext cx="4456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453640" y="3582000"/>
                <a:ext cx="4489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453640" y="3583440"/>
                <a:ext cx="450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456880" y="3586320"/>
                <a:ext cx="4521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456880" y="3587760"/>
                <a:ext cx="458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458320" y="3591000"/>
                <a:ext cx="4615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458320" y="3592080"/>
                <a:ext cx="466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461200" y="3593880"/>
                <a:ext cx="4662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461200" y="3597120"/>
                <a:ext cx="4708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463000" y="3598560"/>
                <a:ext cx="4734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466240" y="3601440"/>
                <a:ext cx="4748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466240" y="3602880"/>
                <a:ext cx="4813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69120" y="3606120"/>
                <a:ext cx="4831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70920" y="3607560"/>
                <a:ext cx="4860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73800" y="3610440"/>
                <a:ext cx="4874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73800" y="3612240"/>
                <a:ext cx="490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75240" y="3613680"/>
                <a:ext cx="493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78480" y="3616560"/>
                <a:ext cx="495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81720" y="3618000"/>
                <a:ext cx="4986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81720" y="3621240"/>
                <a:ext cx="502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83160" y="3623040"/>
                <a:ext cx="5061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486400" y="3625560"/>
                <a:ext cx="5076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486400" y="3627360"/>
                <a:ext cx="5122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489280" y="3628800"/>
                <a:ext cx="5155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490720" y="3631680"/>
                <a:ext cx="5184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493960" y="3633480"/>
                <a:ext cx="5169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493960" y="3636360"/>
                <a:ext cx="5230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495400" y="3638160"/>
                <a:ext cx="526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498640" y="3641040"/>
                <a:ext cx="528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501880" y="3642480"/>
                <a:ext cx="5295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01880" y="3645720"/>
                <a:ext cx="5356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502960" y="3646800"/>
                <a:ext cx="53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506200" y="3648600"/>
                <a:ext cx="5403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508000" y="3651480"/>
                <a:ext cx="5338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510880" y="3653280"/>
                <a:ext cx="526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510880" y="3656160"/>
                <a:ext cx="5234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514120" y="3657600"/>
                <a:ext cx="5158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515920" y="3660840"/>
                <a:ext cx="5090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5359320" y="1971000"/>
              <a:ext cx="687600" cy="1837080"/>
              <a:chOff x="5359320" y="1971000"/>
              <a:chExt cx="687600" cy="1837080"/>
            </a:xfrm>
          </p:grpSpPr>
          <p:sp>
            <p:nvSpPr>
              <p:cNvPr id="3088" name=""/>
              <p:cNvSpPr/>
              <p:nvPr/>
            </p:nvSpPr>
            <p:spPr>
              <a:xfrm>
                <a:off x="5518440" y="3661920"/>
                <a:ext cx="5004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520240" y="3663720"/>
                <a:ext cx="4968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523480" y="3666600"/>
                <a:ext cx="4874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523480" y="3668040"/>
                <a:ext cx="4827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526360" y="3671280"/>
                <a:ext cx="4752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528160" y="3672720"/>
                <a:ext cx="4705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531040" y="3675600"/>
                <a:ext cx="4626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532480" y="3677040"/>
                <a:ext cx="456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535720" y="3680280"/>
                <a:ext cx="44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535720" y="3682080"/>
                <a:ext cx="4456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538960" y="3683160"/>
                <a:ext cx="4381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540400" y="3686400"/>
                <a:ext cx="4316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543640" y="3687840"/>
                <a:ext cx="4226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546520" y="3690720"/>
                <a:ext cx="4176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547960" y="3692160"/>
                <a:ext cx="411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551200" y="3695400"/>
                <a:ext cx="4024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552640" y="3697200"/>
                <a:ext cx="396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555880" y="3698280"/>
                <a:ext cx="391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559120" y="3701520"/>
                <a:ext cx="382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560200" y="3702960"/>
                <a:ext cx="3762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563440" y="3705840"/>
                <a:ext cx="3686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563440" y="3707640"/>
                <a:ext cx="3654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565240" y="3710520"/>
                <a:ext cx="35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568480" y="3712320"/>
                <a:ext cx="3513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571360" y="3715200"/>
                <a:ext cx="3438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573160" y="3716640"/>
                <a:ext cx="339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576040" y="3718080"/>
                <a:ext cx="330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577480" y="3721320"/>
                <a:ext cx="3250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580720" y="3722760"/>
                <a:ext cx="3153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583960" y="3725640"/>
                <a:ext cx="3110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585400" y="3727440"/>
                <a:ext cx="304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588640" y="3730320"/>
                <a:ext cx="2955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592960" y="3731760"/>
                <a:ext cx="2865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596200" y="3733560"/>
                <a:ext cx="28152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597640" y="3736440"/>
                <a:ext cx="2739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600880" y="3737880"/>
                <a:ext cx="2664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603760" y="3741120"/>
                <a:ext cx="258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08440" y="3742560"/>
                <a:ext cx="250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610240" y="3745440"/>
                <a:ext cx="2440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613120" y="3746880"/>
                <a:ext cx="2368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616360" y="3750120"/>
                <a:ext cx="229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5617800" y="3751560"/>
                <a:ext cx="2242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5622480" y="3753000"/>
                <a:ext cx="214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625720" y="3756240"/>
                <a:ext cx="207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628960" y="3757680"/>
                <a:ext cx="1980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633280" y="3760920"/>
                <a:ext cx="1918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634720" y="3762000"/>
                <a:ext cx="1857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641200" y="3765240"/>
                <a:ext cx="1731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642640" y="3767040"/>
                <a:ext cx="1670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5648760" y="3768480"/>
                <a:ext cx="1591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5650200" y="3771360"/>
                <a:ext cx="1515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5654880" y="3772800"/>
                <a:ext cx="1425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658120" y="3776040"/>
                <a:ext cx="1346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662800" y="3777120"/>
                <a:ext cx="1267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665680" y="3780360"/>
                <a:ext cx="1191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670720" y="3782160"/>
                <a:ext cx="1098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673600" y="3784680"/>
                <a:ext cx="1018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5678280" y="3786480"/>
                <a:ext cx="94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682960" y="3787920"/>
                <a:ext cx="849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687640" y="3791160"/>
                <a:ext cx="756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691960" y="3792600"/>
                <a:ext cx="651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698440" y="3795480"/>
                <a:ext cx="572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703120" y="3797280"/>
                <a:ext cx="460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707440" y="3800520"/>
                <a:ext cx="370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712480" y="3801600"/>
                <a:ext cx="277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718240" y="3803040"/>
                <a:ext cx="183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723280" y="3806280"/>
                <a:ext cx="90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59320" y="1971000"/>
                <a:ext cx="687600" cy="1837080"/>
              </a:xfrm>
              <a:custGeom>
                <a:avLst/>
                <a:gdLst/>
                <a:ahLst/>
                <a:rect l="l" t="t" r="r" b="b"/>
                <a:pathLst>
                  <a:path w="444" h="1210">
                    <a:moveTo>
                      <a:pt x="238" y="1210"/>
                    </a:moveTo>
                    <a:lnTo>
                      <a:pt x="206" y="1196"/>
                    </a:lnTo>
                    <a:lnTo>
                      <a:pt x="174" y="1177"/>
                    </a:lnTo>
                    <a:lnTo>
                      <a:pt x="145" y="1156"/>
                    </a:lnTo>
                    <a:lnTo>
                      <a:pt x="119" y="1131"/>
                    </a:lnTo>
                    <a:lnTo>
                      <a:pt x="93" y="1104"/>
                    </a:lnTo>
                    <a:lnTo>
                      <a:pt x="67" y="1072"/>
                    </a:lnTo>
                    <a:lnTo>
                      <a:pt x="47" y="1038"/>
                    </a:lnTo>
                    <a:lnTo>
                      <a:pt x="30" y="999"/>
                    </a:lnTo>
                    <a:lnTo>
                      <a:pt x="18" y="959"/>
                    </a:lnTo>
                    <a:lnTo>
                      <a:pt x="8" y="914"/>
                    </a:lnTo>
                    <a:lnTo>
                      <a:pt x="1" y="867"/>
                    </a:lnTo>
                    <a:lnTo>
                      <a:pt x="0" y="815"/>
                    </a:lnTo>
                    <a:lnTo>
                      <a:pt x="0" y="841"/>
                    </a:lnTo>
                    <a:lnTo>
                      <a:pt x="100" y="0"/>
                    </a:lnTo>
                    <a:lnTo>
                      <a:pt x="158" y="0"/>
                    </a:lnTo>
                    <a:lnTo>
                      <a:pt x="100" y="589"/>
                    </a:lnTo>
                    <a:lnTo>
                      <a:pt x="100" y="669"/>
                    </a:lnTo>
                    <a:lnTo>
                      <a:pt x="103" y="700"/>
                    </a:lnTo>
                    <a:lnTo>
                      <a:pt x="108" y="729"/>
                    </a:lnTo>
                    <a:lnTo>
                      <a:pt x="122" y="782"/>
                    </a:lnTo>
                    <a:lnTo>
                      <a:pt x="130" y="809"/>
                    </a:lnTo>
                    <a:lnTo>
                      <a:pt x="138" y="837"/>
                    </a:lnTo>
                    <a:lnTo>
                      <a:pt x="150" y="864"/>
                    </a:lnTo>
                    <a:lnTo>
                      <a:pt x="164" y="888"/>
                    </a:lnTo>
                    <a:lnTo>
                      <a:pt x="198" y="933"/>
                    </a:lnTo>
                    <a:lnTo>
                      <a:pt x="235" y="973"/>
                    </a:lnTo>
                    <a:lnTo>
                      <a:pt x="254" y="990"/>
                    </a:lnTo>
                    <a:lnTo>
                      <a:pt x="272" y="1008"/>
                    </a:lnTo>
                    <a:lnTo>
                      <a:pt x="290" y="1023"/>
                    </a:lnTo>
                    <a:lnTo>
                      <a:pt x="310" y="1038"/>
                    </a:lnTo>
                    <a:lnTo>
                      <a:pt x="355" y="1064"/>
                    </a:lnTo>
                    <a:lnTo>
                      <a:pt x="401" y="1085"/>
                    </a:lnTo>
                    <a:lnTo>
                      <a:pt x="444" y="1105"/>
                    </a:lnTo>
                    <a:lnTo>
                      <a:pt x="238" y="121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597640" y="1971000"/>
                <a:ext cx="1051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596200" y="1981440"/>
                <a:ext cx="1065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596200" y="1989000"/>
                <a:ext cx="10332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592960" y="2008800"/>
                <a:ext cx="1065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592960" y="2019240"/>
                <a:ext cx="1051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591520" y="2031480"/>
                <a:ext cx="10656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591520" y="2051280"/>
                <a:ext cx="103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588640" y="2058840"/>
                <a:ext cx="10656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588640" y="2082960"/>
                <a:ext cx="103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585400" y="2084760"/>
                <a:ext cx="10656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583960" y="2108880"/>
                <a:ext cx="108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583960" y="2115000"/>
                <a:ext cx="1065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580720" y="2134800"/>
                <a:ext cx="1098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580720" y="2145240"/>
                <a:ext cx="1065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77480" y="2159280"/>
                <a:ext cx="10980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77480" y="2171160"/>
                <a:ext cx="109800" cy="7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577480" y="2178720"/>
                <a:ext cx="108360" cy="61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576040" y="2184840"/>
                <a:ext cx="109800" cy="237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573160" y="2208960"/>
                <a:ext cx="109800" cy="25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571360" y="2234880"/>
                <a:ext cx="111600" cy="4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571360" y="2239200"/>
                <a:ext cx="108360" cy="198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568480" y="2259360"/>
                <a:ext cx="111240" cy="13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568480" y="2272680"/>
                <a:ext cx="109800" cy="1224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565240" y="2285280"/>
                <a:ext cx="113040" cy="180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565240" y="2303280"/>
                <a:ext cx="109800" cy="7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563440" y="2310840"/>
                <a:ext cx="111600" cy="237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560200" y="2334960"/>
                <a:ext cx="113040" cy="25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559120" y="2360880"/>
                <a:ext cx="114480" cy="4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559120" y="2365200"/>
                <a:ext cx="111600" cy="90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559120" y="2374560"/>
                <a:ext cx="111600" cy="1044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555880" y="2385360"/>
                <a:ext cx="114480" cy="133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555880" y="2398680"/>
                <a:ext cx="111600" cy="136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52640" y="2412360"/>
                <a:ext cx="114480" cy="165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52640" y="2429280"/>
                <a:ext cx="113040" cy="57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551200" y="2435400"/>
                <a:ext cx="114480" cy="273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547960" y="2462760"/>
                <a:ext cx="117360" cy="226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546520" y="2485440"/>
                <a:ext cx="118800" cy="2700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43640" y="2512800"/>
                <a:ext cx="122040" cy="255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540400" y="2538720"/>
                <a:ext cx="125280" cy="241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538960" y="2562840"/>
                <a:ext cx="126720" cy="151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538960" y="2577960"/>
                <a:ext cx="12852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535720" y="2588760"/>
                <a:ext cx="131400" cy="1332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535720" y="2602080"/>
                <a:ext cx="13464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532480" y="2612880"/>
                <a:ext cx="13788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532480" y="2622240"/>
                <a:ext cx="140760" cy="1512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532480" y="2637360"/>
                <a:ext cx="142560" cy="10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531040" y="2638800"/>
                <a:ext cx="14364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531040" y="2649240"/>
                <a:ext cx="146880" cy="136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528160" y="2663280"/>
                <a:ext cx="15156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528160" y="2672280"/>
                <a:ext cx="154800" cy="75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528160" y="2679840"/>
                <a:ext cx="15768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526360" y="2688840"/>
                <a:ext cx="16092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526360" y="2697840"/>
                <a:ext cx="16416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526360" y="2707200"/>
                <a:ext cx="16560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523480" y="2712960"/>
                <a:ext cx="168480" cy="1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523480" y="2714760"/>
                <a:ext cx="17172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523480" y="2723760"/>
                <a:ext cx="17460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523480" y="2733120"/>
                <a:ext cx="17604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520240" y="2738880"/>
                <a:ext cx="17928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520240" y="2742120"/>
                <a:ext cx="182520" cy="75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520240" y="2749680"/>
                <a:ext cx="18576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520240" y="2759040"/>
                <a:ext cx="18684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518440" y="2764800"/>
                <a:ext cx="18864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518440" y="2767680"/>
                <a:ext cx="19188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518440" y="2776680"/>
                <a:ext cx="19368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518440" y="2779920"/>
                <a:ext cx="19368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518440" y="2783160"/>
                <a:ext cx="19656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515920" y="2789280"/>
                <a:ext cx="202320" cy="57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515920" y="2795040"/>
                <a:ext cx="204120" cy="900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515920" y="2804400"/>
                <a:ext cx="207360" cy="75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515920" y="2811960"/>
                <a:ext cx="2088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514120" y="2814840"/>
                <a:ext cx="21060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514120" y="2817720"/>
                <a:ext cx="21384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514120" y="2823840"/>
                <a:ext cx="2167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515920" y="2827080"/>
                <a:ext cx="2149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515920" y="2830320"/>
                <a:ext cx="216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515920" y="2834640"/>
                <a:ext cx="219600" cy="75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515920" y="2842200"/>
                <a:ext cx="22104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515920" y="2848320"/>
                <a:ext cx="2242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15920" y="2853000"/>
                <a:ext cx="22752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15920" y="2859120"/>
                <a:ext cx="228960" cy="57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15920" y="2864880"/>
                <a:ext cx="2318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515920" y="2869560"/>
                <a:ext cx="23328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515920" y="2874240"/>
                <a:ext cx="23652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518440" y="2877120"/>
                <a:ext cx="23364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18440" y="2878560"/>
                <a:ext cx="2368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18440" y="2883240"/>
                <a:ext cx="2386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518440" y="2887560"/>
                <a:ext cx="24156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518440" y="2892600"/>
                <a:ext cx="2444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18440" y="2896920"/>
                <a:ext cx="24624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20240" y="2900160"/>
                <a:ext cx="24732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20240" y="2904480"/>
                <a:ext cx="2491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520240" y="2907720"/>
                <a:ext cx="252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520240" y="2912040"/>
                <a:ext cx="25524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520240" y="2913480"/>
                <a:ext cx="25704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520240" y="2918160"/>
                <a:ext cx="25992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520240" y="2919600"/>
                <a:ext cx="261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520240" y="2924280"/>
                <a:ext cx="2646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523480" y="2927160"/>
                <a:ext cx="26460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523480" y="2931840"/>
                <a:ext cx="26604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523480" y="2933280"/>
                <a:ext cx="2692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523480" y="2934720"/>
                <a:ext cx="27072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23480" y="2939400"/>
                <a:ext cx="2736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523480" y="2942280"/>
                <a:ext cx="27684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26360" y="2943720"/>
                <a:ext cx="27396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6360" y="2946960"/>
                <a:ext cx="27540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26360" y="2948760"/>
                <a:ext cx="2786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26360" y="2953080"/>
                <a:ext cx="2818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528160" y="2954520"/>
                <a:ext cx="28152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528160" y="2959200"/>
                <a:ext cx="28476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528160" y="2962080"/>
                <a:ext cx="28656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531040" y="2966760"/>
                <a:ext cx="28656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531040" y="2968200"/>
                <a:ext cx="2890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531040" y="2969640"/>
                <a:ext cx="29088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531040" y="2974320"/>
                <a:ext cx="2941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532480" y="2977560"/>
                <a:ext cx="29412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532480" y="2979000"/>
                <a:ext cx="29736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532480" y="2981880"/>
                <a:ext cx="30060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532480" y="2983320"/>
                <a:ext cx="30168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535720" y="2988000"/>
                <a:ext cx="3016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535720" y="2989440"/>
                <a:ext cx="303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535720" y="2992680"/>
                <a:ext cx="306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535720" y="2994120"/>
                <a:ext cx="30960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538960" y="2998440"/>
                <a:ext cx="307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538960" y="3001680"/>
                <a:ext cx="3110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538960" y="3003120"/>
                <a:ext cx="312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538960" y="3004560"/>
                <a:ext cx="3153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540400" y="3007800"/>
                <a:ext cx="31716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540400" y="3012120"/>
                <a:ext cx="3189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5540400" y="3013560"/>
                <a:ext cx="3218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543640" y="3016800"/>
                <a:ext cx="321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543640" y="3018600"/>
                <a:ext cx="3236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3342240" y="1969560"/>
              <a:ext cx="3202200" cy="3576240"/>
              <a:chOff x="3342240" y="1969560"/>
              <a:chExt cx="3202200" cy="3576240"/>
            </a:xfrm>
          </p:grpSpPr>
          <p:sp>
            <p:nvSpPr>
              <p:cNvPr id="3289" name=""/>
              <p:cNvSpPr/>
              <p:nvPr/>
            </p:nvSpPr>
            <p:spPr>
              <a:xfrm>
                <a:off x="5543280" y="3021480"/>
                <a:ext cx="3265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546520" y="3024720"/>
                <a:ext cx="3250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546520" y="3027600"/>
                <a:ext cx="328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546520" y="3029040"/>
                <a:ext cx="331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547960" y="3032280"/>
                <a:ext cx="331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547960" y="3034080"/>
                <a:ext cx="3344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547960" y="3036600"/>
                <a:ext cx="335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547960" y="3038400"/>
                <a:ext cx="3391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551200" y="3039840"/>
                <a:ext cx="339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551200" y="3043080"/>
                <a:ext cx="340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551200" y="3044520"/>
                <a:ext cx="3438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552640" y="3047400"/>
                <a:ext cx="3438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552640" y="3049200"/>
                <a:ext cx="347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52640" y="3052080"/>
                <a:ext cx="3499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552640" y="3053520"/>
                <a:ext cx="3513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555520" y="3056760"/>
                <a:ext cx="351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555520" y="3058200"/>
                <a:ext cx="3531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555520" y="3059640"/>
                <a:ext cx="3564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555520" y="3062520"/>
                <a:ext cx="3592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558760" y="3064320"/>
                <a:ext cx="35784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558760" y="3068640"/>
                <a:ext cx="3610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560200" y="3071880"/>
                <a:ext cx="3625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560200" y="3073320"/>
                <a:ext cx="3639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563440" y="3074760"/>
                <a:ext cx="3639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563440" y="3078000"/>
                <a:ext cx="3654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563440" y="3079440"/>
                <a:ext cx="3686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565240" y="3082320"/>
                <a:ext cx="3700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565240" y="3083760"/>
                <a:ext cx="3715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568120" y="3087000"/>
                <a:ext cx="3715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568120" y="3088440"/>
                <a:ext cx="3729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568120" y="3090240"/>
                <a:ext cx="376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571000" y="3093120"/>
                <a:ext cx="3765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571000" y="3094560"/>
                <a:ext cx="3780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572800" y="3097800"/>
                <a:ext cx="3790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572800" y="3098880"/>
                <a:ext cx="3808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576040" y="3102120"/>
                <a:ext cx="38052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576040" y="3103920"/>
                <a:ext cx="38376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576040" y="3106440"/>
                <a:ext cx="385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577480" y="3108240"/>
                <a:ext cx="3888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577480" y="3109680"/>
                <a:ext cx="392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580720" y="3112920"/>
                <a:ext cx="3916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580720" y="3114000"/>
                <a:ext cx="393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580720" y="3117240"/>
                <a:ext cx="3996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583600" y="3119040"/>
                <a:ext cx="3978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583600" y="3121920"/>
                <a:ext cx="4010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585040" y="3123360"/>
                <a:ext cx="4042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585040" y="3124800"/>
                <a:ext cx="4071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588280" y="3128040"/>
                <a:ext cx="4086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588280" y="3129480"/>
                <a:ext cx="410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591520" y="3132360"/>
                <a:ext cx="4132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591520" y="3134160"/>
                <a:ext cx="4147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5592960" y="3137400"/>
                <a:ext cx="418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592960" y="3138480"/>
                <a:ext cx="4215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596200" y="3141720"/>
                <a:ext cx="4226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596200" y="3143160"/>
                <a:ext cx="425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597280" y="3144960"/>
                <a:ext cx="42912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597280" y="3147480"/>
                <a:ext cx="4338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600520" y="3149280"/>
                <a:ext cx="433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603760" y="3152520"/>
                <a:ext cx="4352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603760" y="3153600"/>
                <a:ext cx="438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605200" y="3156840"/>
                <a:ext cx="441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605200" y="3158280"/>
                <a:ext cx="4446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608440" y="3160080"/>
                <a:ext cx="4460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608440" y="3162600"/>
                <a:ext cx="447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610240" y="3164400"/>
                <a:ext cx="451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610240" y="3167640"/>
                <a:ext cx="4564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612760" y="3169080"/>
                <a:ext cx="4586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612760" y="3171960"/>
                <a:ext cx="463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616000" y="3173400"/>
                <a:ext cx="466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616000" y="3176640"/>
                <a:ext cx="470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617800" y="3178080"/>
                <a:ext cx="4737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620680" y="3179520"/>
                <a:ext cx="4755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620680" y="3182760"/>
                <a:ext cx="4788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622480" y="3184200"/>
                <a:ext cx="4813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625720" y="3187080"/>
                <a:ext cx="4831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625720" y="3188520"/>
                <a:ext cx="487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628600" y="3191760"/>
                <a:ext cx="4906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630040" y="3193200"/>
                <a:ext cx="494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630040" y="3194640"/>
                <a:ext cx="4986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633280" y="3197880"/>
                <a:ext cx="500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634720" y="3199320"/>
                <a:ext cx="5050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637960" y="3202200"/>
                <a:ext cx="5065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637960" y="3204000"/>
                <a:ext cx="5108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640840" y="3206880"/>
                <a:ext cx="5122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642280" y="3208680"/>
                <a:ext cx="515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642280" y="3211560"/>
                <a:ext cx="5220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645520" y="3213000"/>
                <a:ext cx="5205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648760" y="3214440"/>
                <a:ext cx="5220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648760" y="3217320"/>
                <a:ext cx="5281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650200" y="3219120"/>
                <a:ext cx="53136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653440" y="3222000"/>
                <a:ext cx="532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653440" y="3223800"/>
                <a:ext cx="5374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654880" y="3226680"/>
                <a:ext cx="5421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657760" y="3228120"/>
                <a:ext cx="5436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661000" y="3229920"/>
                <a:ext cx="5360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662800" y="3232440"/>
                <a:ext cx="5277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662800" y="3234240"/>
                <a:ext cx="5263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665680" y="3237480"/>
                <a:ext cx="5173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667480" y="3238920"/>
                <a:ext cx="5108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670360" y="3241800"/>
                <a:ext cx="503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673240" y="3243240"/>
                <a:ext cx="497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675040" y="3246480"/>
                <a:ext cx="491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675040" y="3247920"/>
                <a:ext cx="4860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678280" y="3249360"/>
                <a:ext cx="4784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679720" y="3252600"/>
                <a:ext cx="4737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682960" y="3254040"/>
                <a:ext cx="4658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685840" y="3256920"/>
                <a:ext cx="458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687280" y="3258360"/>
                <a:ext cx="452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687280" y="3261600"/>
                <a:ext cx="446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690520" y="3263400"/>
                <a:ext cx="4413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691960" y="3264480"/>
                <a:ext cx="433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695200" y="3267720"/>
                <a:ext cx="4258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698440" y="3269160"/>
                <a:ext cx="4183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699520" y="3272040"/>
                <a:ext cx="4136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702760" y="3273480"/>
                <a:ext cx="4060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706000" y="3276720"/>
                <a:ext cx="397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707440" y="3278520"/>
                <a:ext cx="3920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710680" y="3281040"/>
                <a:ext cx="3855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712480" y="3282840"/>
                <a:ext cx="3790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15000" y="3284280"/>
                <a:ext cx="371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18240" y="3287520"/>
                <a:ext cx="3639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20040" y="3288600"/>
                <a:ext cx="3592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23280" y="3291840"/>
                <a:ext cx="3513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24720" y="3293640"/>
                <a:ext cx="343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727960" y="3296520"/>
                <a:ext cx="3358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30840" y="3297960"/>
                <a:ext cx="3279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732280" y="3299400"/>
                <a:ext cx="3236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35520" y="3302640"/>
                <a:ext cx="3157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36960" y="3304080"/>
                <a:ext cx="30960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40200" y="3306960"/>
                <a:ext cx="302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43080" y="3308760"/>
                <a:ext cx="2955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747760" y="3311640"/>
                <a:ext cx="2865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49200" y="3313080"/>
                <a:ext cx="2804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752440" y="3316320"/>
                <a:ext cx="2725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55680" y="3317760"/>
                <a:ext cx="2664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757120" y="3319200"/>
                <a:ext cx="2599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763240" y="3322440"/>
                <a:ext cx="2476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765040" y="3323880"/>
                <a:ext cx="2412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767920" y="3327120"/>
                <a:ext cx="2336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769720" y="3328200"/>
                <a:ext cx="2289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772600" y="3331440"/>
                <a:ext cx="221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777280" y="3332880"/>
                <a:ext cx="212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780520" y="3334680"/>
                <a:ext cx="2041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781960" y="3337560"/>
                <a:ext cx="1998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785200" y="3339000"/>
                <a:ext cx="191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789520" y="3342240"/>
                <a:ext cx="1825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792760" y="3343320"/>
                <a:ext cx="1735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797440" y="3346560"/>
                <a:ext cx="167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800680" y="3348000"/>
                <a:ext cx="1594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805000" y="3350880"/>
                <a:ext cx="1486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808240" y="3352680"/>
                <a:ext cx="1407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812920" y="3354120"/>
                <a:ext cx="1346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814720" y="3357360"/>
                <a:ext cx="1267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820480" y="3358800"/>
                <a:ext cx="1162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822280" y="3361680"/>
                <a:ext cx="109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826960" y="3363480"/>
                <a:ext cx="10080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829840" y="3366360"/>
                <a:ext cx="943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834520" y="3367800"/>
                <a:ext cx="853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839200" y="3369240"/>
                <a:ext cx="756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845320" y="3372480"/>
                <a:ext cx="633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850000" y="3373920"/>
                <a:ext cx="572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854680" y="3376800"/>
                <a:ext cx="478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859360" y="3378600"/>
                <a:ext cx="3672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65480" y="3381480"/>
                <a:ext cx="262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70160" y="3382920"/>
                <a:ext cx="20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874840" y="3386160"/>
                <a:ext cx="90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513760" y="1969560"/>
                <a:ext cx="687600" cy="1418040"/>
              </a:xfrm>
              <a:custGeom>
                <a:avLst/>
                <a:gdLst/>
                <a:ahLst/>
                <a:rect l="l" t="t" r="r" b="b"/>
                <a:pathLst>
                  <a:path w="444" h="934">
                    <a:moveTo>
                      <a:pt x="236" y="934"/>
                    </a:moveTo>
                    <a:lnTo>
                      <a:pt x="204" y="920"/>
                    </a:lnTo>
                    <a:lnTo>
                      <a:pt x="173" y="901"/>
                    </a:lnTo>
                    <a:lnTo>
                      <a:pt x="144" y="879"/>
                    </a:lnTo>
                    <a:lnTo>
                      <a:pt x="117" y="855"/>
                    </a:lnTo>
                    <a:lnTo>
                      <a:pt x="91" y="828"/>
                    </a:lnTo>
                    <a:lnTo>
                      <a:pt x="67" y="796"/>
                    </a:lnTo>
                    <a:lnTo>
                      <a:pt x="46" y="761"/>
                    </a:lnTo>
                    <a:lnTo>
                      <a:pt x="29" y="723"/>
                    </a:lnTo>
                    <a:lnTo>
                      <a:pt x="16" y="681"/>
                    </a:lnTo>
                    <a:lnTo>
                      <a:pt x="6" y="638"/>
                    </a:lnTo>
                    <a:lnTo>
                      <a:pt x="1" y="589"/>
                    </a:lnTo>
                    <a:lnTo>
                      <a:pt x="0" y="539"/>
                    </a:lnTo>
                    <a:lnTo>
                      <a:pt x="0" y="565"/>
                    </a:lnTo>
                    <a:lnTo>
                      <a:pt x="54" y="0"/>
                    </a:lnTo>
                    <a:lnTo>
                      <a:pt x="122" y="1"/>
                    </a:lnTo>
                    <a:lnTo>
                      <a:pt x="98" y="313"/>
                    </a:lnTo>
                    <a:lnTo>
                      <a:pt x="98" y="392"/>
                    </a:lnTo>
                    <a:lnTo>
                      <a:pt x="101" y="424"/>
                    </a:lnTo>
                    <a:lnTo>
                      <a:pt x="106" y="453"/>
                    </a:lnTo>
                    <a:lnTo>
                      <a:pt x="120" y="506"/>
                    </a:lnTo>
                    <a:lnTo>
                      <a:pt x="128" y="533"/>
                    </a:lnTo>
                    <a:lnTo>
                      <a:pt x="138" y="560"/>
                    </a:lnTo>
                    <a:lnTo>
                      <a:pt x="149" y="588"/>
                    </a:lnTo>
                    <a:lnTo>
                      <a:pt x="162" y="612"/>
                    </a:lnTo>
                    <a:lnTo>
                      <a:pt x="196" y="657"/>
                    </a:lnTo>
                    <a:lnTo>
                      <a:pt x="233" y="697"/>
                    </a:lnTo>
                    <a:lnTo>
                      <a:pt x="252" y="714"/>
                    </a:lnTo>
                    <a:lnTo>
                      <a:pt x="270" y="731"/>
                    </a:lnTo>
                    <a:lnTo>
                      <a:pt x="288" y="747"/>
                    </a:lnTo>
                    <a:lnTo>
                      <a:pt x="309" y="761"/>
                    </a:lnTo>
                    <a:lnTo>
                      <a:pt x="354" y="787"/>
                    </a:lnTo>
                    <a:lnTo>
                      <a:pt x="400" y="809"/>
                    </a:lnTo>
                    <a:lnTo>
                      <a:pt x="444" y="829"/>
                    </a:lnTo>
                    <a:lnTo>
                      <a:pt x="236" y="934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957640" y="3528720"/>
                <a:ext cx="38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956920" y="3636360"/>
                <a:ext cx="473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yste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895000" y="3234240"/>
                <a:ext cx="295560" cy="274680"/>
              </a:xfrm>
              <a:custGeom>
                <a:avLst/>
                <a:gdLst/>
                <a:ahLst/>
                <a:rect l="l" t="t" r="r" b="b"/>
                <a:pathLst>
                  <a:path w="191" h="181">
                    <a:moveTo>
                      <a:pt x="0" y="101"/>
                    </a:moveTo>
                    <a:lnTo>
                      <a:pt x="191" y="0"/>
                    </a:lnTo>
                    <a:lnTo>
                      <a:pt x="191" y="71"/>
                    </a:lnTo>
                    <a:lnTo>
                      <a:pt x="0" y="18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006600" y="3256920"/>
                <a:ext cx="523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enna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708520" y="5194440"/>
                <a:ext cx="835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miconduc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709960" y="5300640"/>
                <a:ext cx="802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&amp; Freq Contr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709240" y="5408280"/>
                <a:ext cx="43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evi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342240" y="2812320"/>
                <a:ext cx="540360" cy="421920"/>
              </a:xfrm>
              <a:custGeom>
                <a:avLst/>
                <a:gdLst/>
                <a:ahLst/>
                <a:rect l="l" t="t" r="r" b="b"/>
                <a:pathLst>
                  <a:path w="349" h="278">
                    <a:moveTo>
                      <a:pt x="209" y="158"/>
                    </a:moveTo>
                    <a:lnTo>
                      <a:pt x="105" y="225"/>
                    </a:lnTo>
                    <a:lnTo>
                      <a:pt x="52" y="254"/>
                    </a:lnTo>
                    <a:lnTo>
                      <a:pt x="0" y="278"/>
                    </a:lnTo>
                    <a:lnTo>
                      <a:pt x="0" y="199"/>
                    </a:lnTo>
                    <a:lnTo>
                      <a:pt x="52" y="178"/>
                    </a:lnTo>
                    <a:lnTo>
                      <a:pt x="105" y="153"/>
                    </a:lnTo>
                    <a:lnTo>
                      <a:pt x="156" y="125"/>
                    </a:lnTo>
                    <a:lnTo>
                      <a:pt x="208" y="93"/>
                    </a:lnTo>
                    <a:lnTo>
                      <a:pt x="232" y="79"/>
                    </a:lnTo>
                    <a:lnTo>
                      <a:pt x="251" y="67"/>
                    </a:lnTo>
                    <a:lnTo>
                      <a:pt x="283" y="50"/>
                    </a:lnTo>
                    <a:lnTo>
                      <a:pt x="314" y="30"/>
                    </a:lnTo>
                    <a:lnTo>
                      <a:pt x="330" y="17"/>
                    </a:lnTo>
                    <a:lnTo>
                      <a:pt x="349" y="0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364280" y="1971000"/>
                <a:ext cx="164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361040" y="1974240"/>
                <a:ext cx="167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359960" y="1975680"/>
                <a:ext cx="165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356720" y="19785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353480" y="1980000"/>
                <a:ext cx="170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352040" y="1981800"/>
                <a:ext cx="168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348800" y="1985040"/>
                <a:ext cx="170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347360" y="1986120"/>
                <a:ext cx="17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344480" y="198936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341240" y="1990800"/>
                <a:ext cx="172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4339800" y="1995120"/>
                <a:ext cx="171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4336560" y="1996920"/>
                <a:ext cx="17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333320" y="2000160"/>
                <a:ext cx="174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333320" y="2001240"/>
                <a:ext cx="173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331880" y="200448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4329000" y="2005920"/>
                <a:ext cx="174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327200" y="2008800"/>
                <a:ext cx="1735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324320" y="2010600"/>
                <a:ext cx="174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321080" y="2013480"/>
                <a:ext cx="177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321080" y="2015280"/>
                <a:ext cx="174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319280" y="2016720"/>
                <a:ext cx="173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316400" y="2019600"/>
                <a:ext cx="176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14960" y="2021040"/>
                <a:ext cx="176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311720" y="2024280"/>
                <a:ext cx="1764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308480" y="2025720"/>
                <a:ext cx="178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9" name=""/>
            <p:cNvGrpSpPr/>
            <p:nvPr/>
          </p:nvGrpSpPr>
          <p:grpSpPr>
            <a:xfrm>
              <a:off x="3848760" y="2030400"/>
              <a:ext cx="634680" cy="451800"/>
              <a:chOff x="3848760" y="2030400"/>
              <a:chExt cx="634680" cy="451800"/>
            </a:xfrm>
          </p:grpSpPr>
          <p:sp>
            <p:nvSpPr>
              <p:cNvPr id="3490" name=""/>
              <p:cNvSpPr/>
              <p:nvPr/>
            </p:nvSpPr>
            <p:spPr>
              <a:xfrm>
                <a:off x="4307040" y="2030400"/>
                <a:ext cx="176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303800" y="2031480"/>
                <a:ext cx="176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302360" y="2034720"/>
                <a:ext cx="177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299120" y="2036160"/>
                <a:ext cx="179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296240" y="2039040"/>
                <a:ext cx="179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94800" y="2040840"/>
                <a:ext cx="181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291560" y="2044080"/>
                <a:ext cx="18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290120" y="2045520"/>
                <a:ext cx="180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286880" y="2048400"/>
                <a:ext cx="183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283640" y="2049840"/>
                <a:ext cx="18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281840" y="2051640"/>
                <a:ext cx="1843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279320" y="2054160"/>
                <a:ext cx="1872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276080" y="2055960"/>
                <a:ext cx="1872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274280" y="2059200"/>
                <a:ext cx="18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271400" y="2060640"/>
                <a:ext cx="190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269600" y="2063520"/>
                <a:ext cx="18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266720" y="2064960"/>
                <a:ext cx="188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263840" y="2066760"/>
                <a:ext cx="1915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262040" y="2069280"/>
                <a:ext cx="19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262040" y="2071080"/>
                <a:ext cx="188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258800" y="2074320"/>
                <a:ext cx="191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257360" y="2075760"/>
                <a:ext cx="191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254120" y="2078640"/>
                <a:ext cx="191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251240" y="2080080"/>
                <a:ext cx="195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249800" y="2083320"/>
                <a:ext cx="193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246560" y="2084760"/>
                <a:ext cx="195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245120" y="2086200"/>
                <a:ext cx="196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245120" y="2089440"/>
                <a:ext cx="193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241880" y="2090880"/>
                <a:ext cx="193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238640" y="2093760"/>
                <a:ext cx="196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4237560" y="2095200"/>
                <a:ext cx="196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4234320" y="2098440"/>
                <a:ext cx="196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4232520" y="2100240"/>
                <a:ext cx="19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4229640" y="2101320"/>
                <a:ext cx="199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4226400" y="2104560"/>
                <a:ext cx="199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4224600" y="2108880"/>
                <a:ext cx="198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221720" y="2110680"/>
                <a:ext cx="199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218840" y="2113560"/>
                <a:ext cx="202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217040" y="2115360"/>
                <a:ext cx="201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213800" y="2118240"/>
                <a:ext cx="2026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4212360" y="2119680"/>
                <a:ext cx="204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209480" y="2121120"/>
                <a:ext cx="204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206240" y="212400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4206240" y="2125800"/>
                <a:ext cx="2026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204800" y="212868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4201560" y="2130480"/>
                <a:ext cx="204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4200120" y="2133360"/>
                <a:ext cx="204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196880" y="2134800"/>
                <a:ext cx="207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194000" y="2136600"/>
                <a:ext cx="207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192560" y="2139480"/>
                <a:ext cx="205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189320" y="2140920"/>
                <a:ext cx="208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189320" y="2144160"/>
                <a:ext cx="207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187520" y="2145600"/>
                <a:ext cx="205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184640" y="2148480"/>
                <a:ext cx="208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181400" y="2149920"/>
                <a:ext cx="208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179960" y="2153160"/>
                <a:ext cx="209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177080" y="2154600"/>
                <a:ext cx="212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173840" y="2156040"/>
                <a:ext cx="212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172040" y="2159280"/>
                <a:ext cx="212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4169160" y="2160720"/>
                <a:ext cx="215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169160" y="2163600"/>
                <a:ext cx="212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167360" y="2165040"/>
                <a:ext cx="210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164480" y="2168280"/>
                <a:ext cx="213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4161600" y="2170080"/>
                <a:ext cx="214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159800" y="2171160"/>
                <a:ext cx="213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4156560" y="2174400"/>
                <a:ext cx="216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155120" y="2175840"/>
                <a:ext cx="216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151880" y="2178720"/>
                <a:ext cx="216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149000" y="2180160"/>
                <a:ext cx="219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4149000" y="2183400"/>
                <a:ext cx="2167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147560" y="2185200"/>
                <a:ext cx="21636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144320" y="2187720"/>
                <a:ext cx="2196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142880" y="2189520"/>
                <a:ext cx="217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139640" y="2190960"/>
                <a:ext cx="219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136760" y="2194200"/>
                <a:ext cx="222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135320" y="2195280"/>
                <a:ext cx="221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132080" y="2198520"/>
                <a:ext cx="221040" cy="4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130280" y="2203200"/>
                <a:ext cx="2214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127400" y="2204640"/>
                <a:ext cx="2210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124160" y="2206080"/>
                <a:ext cx="2242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122720" y="2209320"/>
                <a:ext cx="2246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119480" y="2210760"/>
                <a:ext cx="22464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116600" y="2213640"/>
                <a:ext cx="2275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114800" y="2215440"/>
                <a:ext cx="2260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114800" y="2218320"/>
                <a:ext cx="2246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11560" y="2219760"/>
                <a:ext cx="227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110120" y="2223000"/>
                <a:ext cx="2260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107240" y="2224440"/>
                <a:ext cx="22608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104000" y="2225880"/>
                <a:ext cx="227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102560" y="2229120"/>
                <a:ext cx="229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099320" y="2230560"/>
                <a:ext cx="2293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097880" y="2233440"/>
                <a:ext cx="2289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094640" y="2234880"/>
                <a:ext cx="2318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094640" y="2238120"/>
                <a:ext cx="229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091760" y="2239560"/>
                <a:ext cx="2293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90320" y="2241000"/>
                <a:ext cx="2307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087080" y="2244240"/>
                <a:ext cx="231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085280" y="2245680"/>
                <a:ext cx="2307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082400" y="2248560"/>
                <a:ext cx="2332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079520" y="2250000"/>
                <a:ext cx="2350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077720" y="2253240"/>
                <a:ext cx="2336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074840" y="2256480"/>
                <a:ext cx="2332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4073040" y="2259360"/>
                <a:ext cx="2336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4069800" y="2260800"/>
                <a:ext cx="236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4066920" y="2264040"/>
                <a:ext cx="2365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4065120" y="2265120"/>
                <a:ext cx="236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4062240" y="2268360"/>
                <a:ext cx="2401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059000" y="2270160"/>
                <a:ext cx="24012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4059000" y="2272680"/>
                <a:ext cx="23688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057560" y="2274480"/>
                <a:ext cx="238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054320" y="2275920"/>
                <a:ext cx="2401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052880" y="2279160"/>
                <a:ext cx="238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050000" y="2280240"/>
                <a:ext cx="2415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046760" y="2283480"/>
                <a:ext cx="2433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045320" y="2285280"/>
                <a:ext cx="24156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042080" y="2287800"/>
                <a:ext cx="2448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040640" y="2289600"/>
                <a:ext cx="2430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4040640" y="2291040"/>
                <a:ext cx="2412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4037400" y="2294280"/>
                <a:ext cx="2444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034520" y="2295720"/>
                <a:ext cx="24480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033080" y="2298600"/>
                <a:ext cx="2430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4029840" y="2300400"/>
                <a:ext cx="245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4028040" y="2303280"/>
                <a:ext cx="2458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4024800" y="2304720"/>
                <a:ext cx="2462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021920" y="2307960"/>
                <a:ext cx="2491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021920" y="2309400"/>
                <a:ext cx="2473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020480" y="2311200"/>
                <a:ext cx="24588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017240" y="2313720"/>
                <a:ext cx="2491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015800" y="2315520"/>
                <a:ext cx="2476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012560" y="2318760"/>
                <a:ext cx="2491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009320" y="2319840"/>
                <a:ext cx="2523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007880" y="2323080"/>
                <a:ext cx="2505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4005000" y="2324520"/>
                <a:ext cx="2523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4005000" y="2326320"/>
                <a:ext cx="2491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001760" y="2329200"/>
                <a:ext cx="2523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4000320" y="2330640"/>
                <a:ext cx="2505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997080" y="2333880"/>
                <a:ext cx="2523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3995640" y="2334960"/>
                <a:ext cx="2538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3992760" y="2338200"/>
                <a:ext cx="253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989520" y="2339640"/>
                <a:ext cx="255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3988080" y="2342520"/>
                <a:ext cx="2570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3984840" y="2344320"/>
                <a:ext cx="2570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3983040" y="2345760"/>
                <a:ext cx="255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3980160" y="2349000"/>
                <a:ext cx="2584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977280" y="2350080"/>
                <a:ext cx="2599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975480" y="2353320"/>
                <a:ext cx="258840" cy="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972600" y="2358000"/>
                <a:ext cx="2599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970800" y="2359440"/>
                <a:ext cx="258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967560" y="2360880"/>
                <a:ext cx="2617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964320" y="2364120"/>
                <a:ext cx="2617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63240" y="2365560"/>
                <a:ext cx="2613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960000" y="2368440"/>
                <a:ext cx="2646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956760" y="2370240"/>
                <a:ext cx="26460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955320" y="2373120"/>
                <a:ext cx="2631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952080" y="2374560"/>
                <a:ext cx="2664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952080" y="2377800"/>
                <a:ext cx="2646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950640" y="2379240"/>
                <a:ext cx="262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947760" y="238068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944520" y="2383560"/>
                <a:ext cx="2678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943080" y="238536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939840" y="2388600"/>
                <a:ext cx="2692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939840" y="238968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938400" y="2392920"/>
                <a:ext cx="266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935160" y="2394360"/>
                <a:ext cx="26928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932280" y="2396160"/>
                <a:ext cx="2692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930480" y="2398680"/>
                <a:ext cx="269640" cy="46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27600" y="2403720"/>
                <a:ext cx="2692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25800" y="2404800"/>
                <a:ext cx="2678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22560" y="2408040"/>
                <a:ext cx="2710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920040" y="2409480"/>
                <a:ext cx="272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918240" y="2412360"/>
                <a:ext cx="2710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3915000" y="2413800"/>
                <a:ext cx="2743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3913560" y="2415600"/>
                <a:ext cx="27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910320" y="2418840"/>
                <a:ext cx="274320" cy="43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907080" y="2423160"/>
                <a:ext cx="2743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906000" y="2424600"/>
                <a:ext cx="27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902760" y="2427840"/>
                <a:ext cx="2743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899520" y="2429280"/>
                <a:ext cx="2772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898080" y="2430720"/>
                <a:ext cx="2754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894840" y="2433960"/>
                <a:ext cx="2768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893400" y="2435400"/>
                <a:ext cx="278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890520" y="2438280"/>
                <a:ext cx="27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887280" y="2439720"/>
                <a:ext cx="2800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885840" y="2442960"/>
                <a:ext cx="281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882600" y="2444400"/>
                <a:ext cx="281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882600" y="2447640"/>
                <a:ext cx="27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880800" y="2449080"/>
                <a:ext cx="2804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877920" y="2450520"/>
                <a:ext cx="281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875040" y="2453400"/>
                <a:ext cx="281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873240" y="2455200"/>
                <a:ext cx="28332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870000" y="2458080"/>
                <a:ext cx="285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68560" y="2459520"/>
                <a:ext cx="283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865320" y="2462760"/>
                <a:ext cx="286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862440" y="2464200"/>
                <a:ext cx="286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861000" y="2465640"/>
                <a:ext cx="286560" cy="46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857760" y="2470320"/>
                <a:ext cx="28656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856320" y="2473200"/>
                <a:ext cx="2880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853080" y="2475000"/>
                <a:ext cx="2894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849840" y="2477880"/>
                <a:ext cx="2926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848760" y="2479320"/>
                <a:ext cx="2908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0" name=""/>
            <p:cNvGrpSpPr/>
            <p:nvPr/>
          </p:nvGrpSpPr>
          <p:grpSpPr>
            <a:xfrm>
              <a:off x="3112920" y="2482920"/>
              <a:ext cx="1026720" cy="435240"/>
              <a:chOff x="3112920" y="2482920"/>
              <a:chExt cx="1026720" cy="435240"/>
            </a:xfrm>
          </p:grpSpPr>
          <p:sp>
            <p:nvSpPr>
              <p:cNvPr id="3691" name=""/>
              <p:cNvSpPr/>
              <p:nvPr/>
            </p:nvSpPr>
            <p:spPr>
              <a:xfrm>
                <a:off x="3845520" y="2482920"/>
                <a:ext cx="2941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842280" y="2484000"/>
                <a:ext cx="294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840840" y="2485800"/>
                <a:ext cx="2955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837600" y="2489040"/>
                <a:ext cx="2973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836160" y="2490480"/>
                <a:ext cx="2991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833280" y="2493360"/>
                <a:ext cx="2988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830040" y="2494800"/>
                <a:ext cx="3020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828240" y="2498040"/>
                <a:ext cx="302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825360" y="2499120"/>
                <a:ext cx="30456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823560" y="2500920"/>
                <a:ext cx="3038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820680" y="2504160"/>
                <a:ext cx="3067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817800" y="2505600"/>
                <a:ext cx="3063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816000" y="2508480"/>
                <a:ext cx="3063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812760" y="2509920"/>
                <a:ext cx="3096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811320" y="2513160"/>
                <a:ext cx="3078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808080" y="2514600"/>
                <a:ext cx="31104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805200" y="2517480"/>
                <a:ext cx="3114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803760" y="2519280"/>
                <a:ext cx="3128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800520" y="2520720"/>
                <a:ext cx="314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799080" y="2523600"/>
                <a:ext cx="3124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795840" y="2525040"/>
                <a:ext cx="3157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791520" y="2528280"/>
                <a:ext cx="3186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788280" y="2529720"/>
                <a:ext cx="32184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785040" y="2532600"/>
                <a:ext cx="3218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783600" y="2534400"/>
                <a:ext cx="320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780360" y="2535840"/>
                <a:ext cx="323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778560" y="2538720"/>
                <a:ext cx="3236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775680" y="2540520"/>
                <a:ext cx="3268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772800" y="2543400"/>
                <a:ext cx="326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771000" y="2545200"/>
                <a:ext cx="328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767760" y="2548080"/>
                <a:ext cx="3301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766320" y="2549520"/>
                <a:ext cx="328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763440" y="2552760"/>
                <a:ext cx="331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758760" y="2553840"/>
                <a:ext cx="3326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755520" y="2555640"/>
                <a:ext cx="3358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750840" y="2558520"/>
                <a:ext cx="339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747960" y="2560320"/>
                <a:ext cx="3391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743280" y="2563200"/>
                <a:ext cx="3438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738600" y="2564640"/>
                <a:ext cx="3466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735360" y="2567880"/>
                <a:ext cx="347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731040" y="2568960"/>
                <a:ext cx="35136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726000" y="2570760"/>
                <a:ext cx="3531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723120" y="2574000"/>
                <a:ext cx="356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718440" y="2575440"/>
                <a:ext cx="359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715560" y="2578320"/>
                <a:ext cx="3592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10520" y="2579760"/>
                <a:ext cx="36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09080" y="2583000"/>
                <a:ext cx="3636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706200" y="2584080"/>
                <a:ext cx="3636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702960" y="2587320"/>
                <a:ext cx="3668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698280" y="2589120"/>
                <a:ext cx="36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696840" y="2590560"/>
                <a:ext cx="3700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690720" y="2593440"/>
                <a:ext cx="3747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689280" y="2594880"/>
                <a:ext cx="372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686040" y="2598120"/>
                <a:ext cx="3762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681360" y="2599560"/>
                <a:ext cx="377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678120" y="2602440"/>
                <a:ext cx="37908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673440" y="2604240"/>
                <a:ext cx="3841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670560" y="2605680"/>
                <a:ext cx="3837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665520" y="2608560"/>
                <a:ext cx="387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664080" y="2610000"/>
                <a:ext cx="385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657960" y="2613240"/>
                <a:ext cx="3916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56520" y="2615040"/>
                <a:ext cx="3902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51840" y="2617560"/>
                <a:ext cx="3931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48600" y="2619360"/>
                <a:ext cx="3963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45720" y="2622600"/>
                <a:ext cx="396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41040" y="2623680"/>
                <a:ext cx="3996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39240" y="2625120"/>
                <a:ext cx="4014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3480" y="2628360"/>
                <a:ext cx="4042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31680" y="2630160"/>
                <a:ext cx="4028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25560" y="2632680"/>
                <a:ext cx="4071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23760" y="2634480"/>
                <a:ext cx="4089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19080" y="2637720"/>
                <a:ext cx="4104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12960" y="2638800"/>
                <a:ext cx="4150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08280" y="2640600"/>
                <a:ext cx="4194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03960" y="2643480"/>
                <a:ext cx="420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599280" y="2645280"/>
                <a:ext cx="4226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594600" y="2648160"/>
                <a:ext cx="4255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588480" y="2649600"/>
                <a:ext cx="4320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583800" y="2652840"/>
                <a:ext cx="433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582000" y="2653920"/>
                <a:ext cx="433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575880" y="2657160"/>
                <a:ext cx="4363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571200" y="2658600"/>
                <a:ext cx="441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566520" y="2660400"/>
                <a:ext cx="442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561840" y="2663280"/>
                <a:ext cx="4460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558960" y="2664720"/>
                <a:ext cx="4460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554280" y="2667960"/>
                <a:ext cx="450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549600" y="2669400"/>
                <a:ext cx="451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543480" y="2672280"/>
                <a:ext cx="456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538800" y="2674080"/>
                <a:ext cx="458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537000" y="2675520"/>
                <a:ext cx="4586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531240" y="2678400"/>
                <a:ext cx="4644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526560" y="2679840"/>
                <a:ext cx="4658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521520" y="2683080"/>
                <a:ext cx="4676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517200" y="2684520"/>
                <a:ext cx="470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509280" y="2687400"/>
                <a:ext cx="4784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504600" y="2689200"/>
                <a:ext cx="4798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498480" y="2690640"/>
                <a:ext cx="484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493800" y="2693520"/>
                <a:ext cx="486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486240" y="2694960"/>
                <a:ext cx="4939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481560" y="2698200"/>
                <a:ext cx="495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476520" y="2700000"/>
                <a:ext cx="4986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472200" y="2702520"/>
                <a:ext cx="50040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466080" y="2704320"/>
                <a:ext cx="506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459960" y="2707560"/>
                <a:ext cx="5108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53480" y="2708640"/>
                <a:ext cx="5140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448800" y="2710080"/>
                <a:ext cx="515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444480" y="2713320"/>
                <a:ext cx="5187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436560" y="2715120"/>
                <a:ext cx="52632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431880" y="2717640"/>
                <a:ext cx="5277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427200" y="2719440"/>
                <a:ext cx="529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422520" y="2722680"/>
                <a:ext cx="5328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414960" y="2724120"/>
                <a:ext cx="540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408480" y="2725200"/>
                <a:ext cx="5436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403800" y="2728440"/>
                <a:ext cx="546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396240" y="2730240"/>
                <a:ext cx="551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391560" y="2733120"/>
                <a:ext cx="5558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387240" y="2734560"/>
                <a:ext cx="5572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382200" y="2737800"/>
                <a:ext cx="5608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374280" y="2739240"/>
                <a:ext cx="5652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369960" y="2742120"/>
                <a:ext cx="568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365280" y="2743560"/>
                <a:ext cx="5731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357720" y="2745360"/>
                <a:ext cx="577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351240" y="2748240"/>
                <a:ext cx="5806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345120" y="2749680"/>
                <a:ext cx="5850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339000" y="2752920"/>
                <a:ext cx="5886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332520" y="2754360"/>
                <a:ext cx="5947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326760" y="2757240"/>
                <a:ext cx="5990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320280" y="2759040"/>
                <a:ext cx="602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314160" y="2760480"/>
                <a:ext cx="605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306240" y="2763360"/>
                <a:ext cx="613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301560" y="2764800"/>
                <a:ext cx="6163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294000" y="2768040"/>
                <a:ext cx="6210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289320" y="2769480"/>
                <a:ext cx="623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285000" y="2772360"/>
                <a:ext cx="6253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277080" y="2774160"/>
                <a:ext cx="6332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272040" y="2777040"/>
                <a:ext cx="6350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264480" y="2778480"/>
                <a:ext cx="6411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259800" y="2779920"/>
                <a:ext cx="6426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252240" y="2783160"/>
                <a:ext cx="647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247560" y="2784600"/>
                <a:ext cx="650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242880" y="2787480"/>
                <a:ext cx="654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235320" y="2789280"/>
                <a:ext cx="659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230280" y="2792520"/>
                <a:ext cx="6631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222720" y="2793960"/>
                <a:ext cx="667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218040" y="2795040"/>
                <a:ext cx="668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210480" y="2798280"/>
                <a:ext cx="675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205800" y="2800080"/>
                <a:ext cx="6768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198240" y="2802600"/>
                <a:ext cx="6825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191760" y="2804400"/>
                <a:ext cx="6890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185280" y="2807640"/>
                <a:ext cx="6926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3179520" y="2809080"/>
                <a:ext cx="695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174840" y="2811960"/>
                <a:ext cx="6980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166920" y="2813400"/>
                <a:ext cx="7030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3162240" y="2815200"/>
                <a:ext cx="70632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157560" y="2817720"/>
                <a:ext cx="707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150000" y="2819520"/>
                <a:ext cx="712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145320" y="2822760"/>
                <a:ext cx="715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137760" y="2824200"/>
                <a:ext cx="7200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132720" y="2827080"/>
                <a:ext cx="7232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3125160" y="2828520"/>
                <a:ext cx="7279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120480" y="2830320"/>
                <a:ext cx="729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112920" y="2833200"/>
                <a:ext cx="735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112920" y="2834640"/>
                <a:ext cx="732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3112920" y="2837880"/>
                <a:ext cx="7293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112920" y="2839320"/>
                <a:ext cx="7279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112920" y="2842200"/>
                <a:ext cx="7246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112920" y="2843640"/>
                <a:ext cx="7232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112920" y="2846880"/>
                <a:ext cx="720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3112920" y="2848680"/>
                <a:ext cx="717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3112920" y="2849760"/>
                <a:ext cx="712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3112920" y="2853000"/>
                <a:ext cx="7106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3112920" y="2854440"/>
                <a:ext cx="7077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3112920" y="2857320"/>
                <a:ext cx="7048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112920" y="2859120"/>
                <a:ext cx="70308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112920" y="2862000"/>
                <a:ext cx="6998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112920" y="2863800"/>
                <a:ext cx="6984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112920" y="2864880"/>
                <a:ext cx="6922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112920" y="2868120"/>
                <a:ext cx="690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112920" y="2869560"/>
                <a:ext cx="687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112920" y="2872440"/>
                <a:ext cx="6861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3112920" y="2874240"/>
                <a:ext cx="6800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3112920" y="2877120"/>
                <a:ext cx="67860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3112920" y="2878920"/>
                <a:ext cx="675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3112920" y="2881800"/>
                <a:ext cx="672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112920" y="2883240"/>
                <a:ext cx="6674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3112920" y="2885040"/>
                <a:ext cx="6656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3112920" y="2887560"/>
                <a:ext cx="662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112920" y="2889360"/>
                <a:ext cx="658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3112920" y="2892600"/>
                <a:ext cx="654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3112920" y="2894040"/>
                <a:ext cx="6505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3112920" y="2896920"/>
                <a:ext cx="647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3112920" y="2898360"/>
                <a:ext cx="64260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3112920" y="2900160"/>
                <a:ext cx="64116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112920" y="2903040"/>
                <a:ext cx="6350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3112920" y="2904480"/>
                <a:ext cx="630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3112920" y="2907720"/>
                <a:ext cx="627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3112920" y="2909160"/>
                <a:ext cx="622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3112920" y="2912040"/>
                <a:ext cx="6210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112920" y="2913480"/>
                <a:ext cx="6148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3112920" y="2916720"/>
                <a:ext cx="6130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1" name=""/>
            <p:cNvGrpSpPr/>
            <p:nvPr/>
          </p:nvGrpSpPr>
          <p:grpSpPr>
            <a:xfrm>
              <a:off x="3060000" y="1969560"/>
              <a:ext cx="2383920" cy="3413160"/>
              <a:chOff x="3060000" y="1969560"/>
              <a:chExt cx="2383920" cy="3413160"/>
            </a:xfrm>
          </p:grpSpPr>
          <p:sp>
            <p:nvSpPr>
              <p:cNvPr id="3892" name=""/>
              <p:cNvSpPr/>
              <p:nvPr/>
            </p:nvSpPr>
            <p:spPr>
              <a:xfrm>
                <a:off x="3112560" y="2918520"/>
                <a:ext cx="6087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112560" y="2919960"/>
                <a:ext cx="6055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3112560" y="2923200"/>
                <a:ext cx="600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3112560" y="2924640"/>
                <a:ext cx="597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3112560" y="2927520"/>
                <a:ext cx="593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3112560" y="2928960"/>
                <a:ext cx="590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3112560" y="2932200"/>
                <a:ext cx="585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3112560" y="2933640"/>
                <a:ext cx="5839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3112560" y="2935080"/>
                <a:ext cx="581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112560" y="2938320"/>
                <a:ext cx="5763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112560" y="2939760"/>
                <a:ext cx="5731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3112560" y="2942640"/>
                <a:ext cx="5698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3112560" y="2944080"/>
                <a:ext cx="5655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112560" y="2947320"/>
                <a:ext cx="563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112560" y="2949120"/>
                <a:ext cx="5576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112560" y="2952000"/>
                <a:ext cx="555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3112560" y="2953440"/>
                <a:ext cx="5515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3115800" y="2954880"/>
                <a:ext cx="545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115800" y="2957760"/>
                <a:ext cx="540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117240" y="2959560"/>
                <a:ext cx="5360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3120120" y="2962440"/>
                <a:ext cx="5281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3121920" y="2964240"/>
                <a:ext cx="523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121920" y="2967120"/>
                <a:ext cx="5187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3124800" y="2968560"/>
                <a:ext cx="5140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3128040" y="2970000"/>
                <a:ext cx="505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3128040" y="2972880"/>
                <a:ext cx="5032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3129840" y="2974680"/>
                <a:ext cx="495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3132360" y="2977920"/>
                <a:ext cx="4910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134160" y="2979360"/>
                <a:ext cx="486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3134160" y="2982240"/>
                <a:ext cx="481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3137400" y="2983680"/>
                <a:ext cx="4752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3140640" y="2986920"/>
                <a:ext cx="467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3140640" y="2988360"/>
                <a:ext cx="4658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3142080" y="2989800"/>
                <a:ext cx="4582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3145320" y="2993040"/>
                <a:ext cx="4536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3148200" y="2994480"/>
                <a:ext cx="446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3148200" y="2997360"/>
                <a:ext cx="4428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149640" y="2998800"/>
                <a:ext cx="4366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3152880" y="3002040"/>
                <a:ext cx="4305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3152880" y="3003480"/>
                <a:ext cx="4255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3154320" y="3004920"/>
                <a:ext cx="4215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157560" y="3008160"/>
                <a:ext cx="413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160800" y="3009600"/>
                <a:ext cx="4071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3160800" y="3012480"/>
                <a:ext cx="4024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3161880" y="3013920"/>
                <a:ext cx="396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3165120" y="3017160"/>
                <a:ext cx="3902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165120" y="3018960"/>
                <a:ext cx="38556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166560" y="3021480"/>
                <a:ext cx="3826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169800" y="3023280"/>
                <a:ext cx="373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173040" y="3024720"/>
                <a:ext cx="3654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73040" y="3027960"/>
                <a:ext cx="3636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74840" y="3029040"/>
                <a:ext cx="3560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77360" y="3032280"/>
                <a:ext cx="3513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77360" y="3034080"/>
                <a:ext cx="34560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179160" y="3036600"/>
                <a:ext cx="338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3182400" y="3038400"/>
                <a:ext cx="3340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185280" y="3039840"/>
                <a:ext cx="325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185280" y="3043080"/>
                <a:ext cx="32364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87080" y="3044520"/>
                <a:ext cx="31752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90320" y="3047400"/>
                <a:ext cx="30780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90320" y="3049200"/>
                <a:ext cx="3034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3191400" y="3052080"/>
                <a:ext cx="297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3194640" y="3053520"/>
                <a:ext cx="2894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3197880" y="3056760"/>
                <a:ext cx="2815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3197880" y="3058200"/>
                <a:ext cx="275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3199320" y="3060000"/>
                <a:ext cx="26928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3202560" y="3062520"/>
                <a:ext cx="2617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3202560" y="3064320"/>
                <a:ext cx="2584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3205440" y="3067560"/>
                <a:ext cx="2505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3206880" y="3068640"/>
                <a:ext cx="2448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3210120" y="3071880"/>
                <a:ext cx="2368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3210120" y="3073320"/>
                <a:ext cx="230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3211560" y="3075120"/>
                <a:ext cx="224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3214800" y="3078000"/>
                <a:ext cx="2170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3214800" y="3079440"/>
                <a:ext cx="2120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218040" y="3082680"/>
                <a:ext cx="2041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3219480" y="3083760"/>
                <a:ext cx="19656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22360" y="3087000"/>
                <a:ext cx="1890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3222360" y="3088440"/>
                <a:ext cx="1843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224160" y="3090240"/>
                <a:ext cx="1746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27040" y="3093120"/>
                <a:ext cx="1674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27040" y="3094560"/>
                <a:ext cx="16236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230280" y="3097800"/>
                <a:ext cx="153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232080" y="3099240"/>
                <a:ext cx="1468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232080" y="3102120"/>
                <a:ext cx="14220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234960" y="3103920"/>
                <a:ext cx="13428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236400" y="3106800"/>
                <a:ext cx="1285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239640" y="3108240"/>
                <a:ext cx="117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239640" y="3109680"/>
                <a:ext cx="1112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242880" y="3112920"/>
                <a:ext cx="1033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244320" y="3114360"/>
                <a:ext cx="9756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47560" y="3119040"/>
                <a:ext cx="9432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249000" y="3121920"/>
                <a:ext cx="9288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251880" y="3123360"/>
                <a:ext cx="8964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255120" y="3128040"/>
                <a:ext cx="867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256560" y="3129480"/>
                <a:ext cx="8532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259800" y="3134160"/>
                <a:ext cx="82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263040" y="3137400"/>
                <a:ext cx="7884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264120" y="3138840"/>
                <a:ext cx="7740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267360" y="3143160"/>
                <a:ext cx="741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269160" y="3144960"/>
                <a:ext cx="7236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272040" y="3149280"/>
                <a:ext cx="698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275280" y="3152520"/>
                <a:ext cx="666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277080" y="3153960"/>
                <a:ext cx="6480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279600" y="3158280"/>
                <a:ext cx="619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281400" y="3160080"/>
                <a:ext cx="6012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284640" y="3164400"/>
                <a:ext cx="572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287520" y="3167640"/>
                <a:ext cx="54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289320" y="3169080"/>
                <a:ext cx="5256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292560" y="3173400"/>
                <a:ext cx="4932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293640" y="3176640"/>
                <a:ext cx="478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296880" y="3179520"/>
                <a:ext cx="44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00120" y="3182760"/>
                <a:ext cx="417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01560" y="3184200"/>
                <a:ext cx="4032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304800" y="3188520"/>
                <a:ext cx="37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306240" y="3191760"/>
                <a:ext cx="35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09120" y="3194640"/>
                <a:ext cx="324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312360" y="3197880"/>
                <a:ext cx="291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313800" y="3199320"/>
                <a:ext cx="2808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317040" y="3204000"/>
                <a:ext cx="2484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20280" y="3206880"/>
                <a:ext cx="2160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321720" y="3211560"/>
                <a:ext cx="201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324600" y="3213000"/>
                <a:ext cx="169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326400" y="3214440"/>
                <a:ext cx="1512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329280" y="3219120"/>
                <a:ext cx="1260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332520" y="3222000"/>
                <a:ext cx="936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334320" y="3226680"/>
                <a:ext cx="75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337200" y="3228120"/>
                <a:ext cx="43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338640" y="3229920"/>
                <a:ext cx="288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12560" y="1969560"/>
                <a:ext cx="1418760" cy="1264680"/>
              </a:xfrm>
              <a:custGeom>
                <a:avLst/>
                <a:gdLst/>
                <a:ahLst/>
                <a:rect l="l" t="t" r="r" b="b"/>
                <a:pathLst>
                  <a:path w="916" h="833">
                    <a:moveTo>
                      <a:pt x="0" y="569"/>
                    </a:moveTo>
                    <a:lnTo>
                      <a:pt x="148" y="754"/>
                    </a:lnTo>
                    <a:lnTo>
                      <a:pt x="148" y="833"/>
                    </a:lnTo>
                    <a:lnTo>
                      <a:pt x="0" y="648"/>
                    </a:lnTo>
                    <a:lnTo>
                      <a:pt x="0" y="569"/>
                    </a:lnTo>
                    <a:close/>
                    <a:moveTo>
                      <a:pt x="148" y="754"/>
                    </a:moveTo>
                    <a:lnTo>
                      <a:pt x="200" y="733"/>
                    </a:lnTo>
                    <a:lnTo>
                      <a:pt x="253" y="708"/>
                    </a:lnTo>
                    <a:lnTo>
                      <a:pt x="304" y="680"/>
                    </a:lnTo>
                    <a:lnTo>
                      <a:pt x="356" y="648"/>
                    </a:lnTo>
                    <a:lnTo>
                      <a:pt x="368" y="641"/>
                    </a:lnTo>
                    <a:lnTo>
                      <a:pt x="378" y="634"/>
                    </a:lnTo>
                    <a:lnTo>
                      <a:pt x="397" y="622"/>
                    </a:lnTo>
                    <a:lnTo>
                      <a:pt x="428" y="605"/>
                    </a:lnTo>
                    <a:lnTo>
                      <a:pt x="454" y="586"/>
                    </a:lnTo>
                    <a:lnTo>
                      <a:pt x="470" y="573"/>
                    </a:lnTo>
                    <a:lnTo>
                      <a:pt x="489" y="556"/>
                    </a:lnTo>
                    <a:lnTo>
                      <a:pt x="512" y="533"/>
                    </a:lnTo>
                    <a:lnTo>
                      <a:pt x="536" y="506"/>
                    </a:lnTo>
                    <a:lnTo>
                      <a:pt x="589" y="444"/>
                    </a:lnTo>
                    <a:lnTo>
                      <a:pt x="615" y="411"/>
                    </a:lnTo>
                    <a:lnTo>
                      <a:pt x="636" y="381"/>
                    </a:lnTo>
                    <a:lnTo>
                      <a:pt x="653" y="353"/>
                    </a:lnTo>
                    <a:lnTo>
                      <a:pt x="666" y="330"/>
                    </a:lnTo>
                    <a:lnTo>
                      <a:pt x="916" y="0"/>
                    </a:lnTo>
                    <a:lnTo>
                      <a:pt x="808" y="1"/>
                    </a:lnTo>
                    <a:lnTo>
                      <a:pt x="797" y="11"/>
                    </a:lnTo>
                    <a:lnTo>
                      <a:pt x="785" y="24"/>
                    </a:lnTo>
                    <a:lnTo>
                      <a:pt x="769" y="41"/>
                    </a:lnTo>
                    <a:lnTo>
                      <a:pt x="748" y="60"/>
                    </a:lnTo>
                    <a:lnTo>
                      <a:pt x="726" y="83"/>
                    </a:lnTo>
                    <a:lnTo>
                      <a:pt x="676" y="133"/>
                    </a:lnTo>
                    <a:lnTo>
                      <a:pt x="570" y="241"/>
                    </a:lnTo>
                    <a:lnTo>
                      <a:pt x="545" y="264"/>
                    </a:lnTo>
                    <a:lnTo>
                      <a:pt x="525" y="287"/>
                    </a:lnTo>
                    <a:lnTo>
                      <a:pt x="505" y="306"/>
                    </a:lnTo>
                    <a:lnTo>
                      <a:pt x="489" y="322"/>
                    </a:lnTo>
                    <a:lnTo>
                      <a:pt x="476" y="335"/>
                    </a:lnTo>
                    <a:lnTo>
                      <a:pt x="446" y="362"/>
                    </a:lnTo>
                    <a:lnTo>
                      <a:pt x="431" y="373"/>
                    </a:lnTo>
                    <a:lnTo>
                      <a:pt x="420" y="384"/>
                    </a:lnTo>
                    <a:lnTo>
                      <a:pt x="407" y="391"/>
                    </a:lnTo>
                    <a:lnTo>
                      <a:pt x="391" y="399"/>
                    </a:lnTo>
                    <a:lnTo>
                      <a:pt x="383" y="405"/>
                    </a:lnTo>
                    <a:lnTo>
                      <a:pt x="372" y="412"/>
                    </a:lnTo>
                    <a:lnTo>
                      <a:pt x="360" y="419"/>
                    </a:lnTo>
                    <a:lnTo>
                      <a:pt x="346" y="428"/>
                    </a:lnTo>
                    <a:lnTo>
                      <a:pt x="330" y="438"/>
                    </a:lnTo>
                    <a:lnTo>
                      <a:pt x="311" y="447"/>
                    </a:lnTo>
                    <a:lnTo>
                      <a:pt x="267" y="468"/>
                    </a:lnTo>
                    <a:lnTo>
                      <a:pt x="217" y="488"/>
                    </a:lnTo>
                    <a:lnTo>
                      <a:pt x="166" y="509"/>
                    </a:lnTo>
                    <a:lnTo>
                      <a:pt x="114" y="527"/>
                    </a:lnTo>
                    <a:lnTo>
                      <a:pt x="68" y="544"/>
                    </a:lnTo>
                    <a:lnTo>
                      <a:pt x="47" y="552"/>
                    </a:lnTo>
                    <a:lnTo>
                      <a:pt x="29" y="559"/>
                    </a:lnTo>
                    <a:lnTo>
                      <a:pt x="13" y="565"/>
                    </a:lnTo>
                    <a:lnTo>
                      <a:pt x="0" y="569"/>
                    </a:lnTo>
                    <a:lnTo>
                      <a:pt x="148" y="754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892400" y="4199760"/>
                <a:ext cx="551520" cy="1182960"/>
              </a:xfrm>
              <a:custGeom>
                <a:avLst/>
                <a:gdLst/>
                <a:ahLst/>
                <a:rect l="l" t="t" r="r" b="b"/>
                <a:pathLst>
                  <a:path w="356" h="779">
                    <a:moveTo>
                      <a:pt x="31" y="0"/>
                    </a:moveTo>
                    <a:lnTo>
                      <a:pt x="31" y="93"/>
                    </a:lnTo>
                    <a:lnTo>
                      <a:pt x="39" y="188"/>
                    </a:lnTo>
                    <a:lnTo>
                      <a:pt x="45" y="234"/>
                    </a:lnTo>
                    <a:lnTo>
                      <a:pt x="53" y="278"/>
                    </a:lnTo>
                    <a:lnTo>
                      <a:pt x="61" y="320"/>
                    </a:lnTo>
                    <a:lnTo>
                      <a:pt x="69" y="359"/>
                    </a:lnTo>
                    <a:lnTo>
                      <a:pt x="77" y="392"/>
                    </a:lnTo>
                    <a:lnTo>
                      <a:pt x="82" y="408"/>
                    </a:lnTo>
                    <a:lnTo>
                      <a:pt x="85" y="422"/>
                    </a:lnTo>
                    <a:lnTo>
                      <a:pt x="92" y="448"/>
                    </a:lnTo>
                    <a:lnTo>
                      <a:pt x="98" y="472"/>
                    </a:lnTo>
                    <a:lnTo>
                      <a:pt x="106" y="494"/>
                    </a:lnTo>
                    <a:lnTo>
                      <a:pt x="117" y="516"/>
                    </a:lnTo>
                    <a:lnTo>
                      <a:pt x="130" y="537"/>
                    </a:lnTo>
                    <a:lnTo>
                      <a:pt x="148" y="560"/>
                    </a:lnTo>
                    <a:lnTo>
                      <a:pt x="167" y="582"/>
                    </a:lnTo>
                    <a:lnTo>
                      <a:pt x="191" y="602"/>
                    </a:lnTo>
                    <a:lnTo>
                      <a:pt x="245" y="642"/>
                    </a:lnTo>
                    <a:lnTo>
                      <a:pt x="272" y="659"/>
                    </a:lnTo>
                    <a:lnTo>
                      <a:pt x="301" y="672"/>
                    </a:lnTo>
                    <a:lnTo>
                      <a:pt x="328" y="684"/>
                    </a:lnTo>
                    <a:lnTo>
                      <a:pt x="356" y="691"/>
                    </a:lnTo>
                    <a:lnTo>
                      <a:pt x="356" y="779"/>
                    </a:lnTo>
                    <a:lnTo>
                      <a:pt x="317" y="766"/>
                    </a:lnTo>
                    <a:lnTo>
                      <a:pt x="280" y="748"/>
                    </a:lnTo>
                    <a:lnTo>
                      <a:pt x="243" y="725"/>
                    </a:lnTo>
                    <a:lnTo>
                      <a:pt x="208" y="699"/>
                    </a:lnTo>
                    <a:lnTo>
                      <a:pt x="174" y="672"/>
                    </a:lnTo>
                    <a:lnTo>
                      <a:pt x="143" y="643"/>
                    </a:lnTo>
                    <a:lnTo>
                      <a:pt x="114" y="616"/>
                    </a:lnTo>
                    <a:lnTo>
                      <a:pt x="90" y="589"/>
                    </a:lnTo>
                    <a:lnTo>
                      <a:pt x="71" y="560"/>
                    </a:lnTo>
                    <a:lnTo>
                      <a:pt x="53" y="527"/>
                    </a:lnTo>
                    <a:lnTo>
                      <a:pt x="40" y="491"/>
                    </a:lnTo>
                    <a:lnTo>
                      <a:pt x="31" y="452"/>
                    </a:lnTo>
                    <a:lnTo>
                      <a:pt x="14" y="367"/>
                    </a:lnTo>
                    <a:lnTo>
                      <a:pt x="8" y="324"/>
                    </a:lnTo>
                    <a:lnTo>
                      <a:pt x="0" y="28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060000" y="3358800"/>
                <a:ext cx="735840" cy="617760"/>
              </a:xfrm>
              <a:custGeom>
                <a:avLst/>
                <a:gdLst/>
                <a:ahLst/>
                <a:rect l="l" t="t" r="r" b="b"/>
                <a:pathLst>
                  <a:path w="475" h="407">
                    <a:moveTo>
                      <a:pt x="359" y="189"/>
                    </a:moveTo>
                    <a:lnTo>
                      <a:pt x="356" y="191"/>
                    </a:lnTo>
                    <a:lnTo>
                      <a:pt x="345" y="200"/>
                    </a:lnTo>
                    <a:lnTo>
                      <a:pt x="330" y="213"/>
                    </a:lnTo>
                    <a:lnTo>
                      <a:pt x="309" y="227"/>
                    </a:lnTo>
                    <a:lnTo>
                      <a:pt x="287" y="246"/>
                    </a:lnTo>
                    <a:lnTo>
                      <a:pt x="261" y="265"/>
                    </a:lnTo>
                    <a:lnTo>
                      <a:pt x="208" y="301"/>
                    </a:lnTo>
                    <a:lnTo>
                      <a:pt x="156" y="332"/>
                    </a:lnTo>
                    <a:lnTo>
                      <a:pt x="105" y="361"/>
                    </a:lnTo>
                    <a:lnTo>
                      <a:pt x="52" y="385"/>
                    </a:lnTo>
                    <a:lnTo>
                      <a:pt x="0" y="407"/>
                    </a:lnTo>
                    <a:lnTo>
                      <a:pt x="0" y="328"/>
                    </a:lnTo>
                    <a:lnTo>
                      <a:pt x="52" y="306"/>
                    </a:lnTo>
                    <a:lnTo>
                      <a:pt x="105" y="282"/>
                    </a:lnTo>
                    <a:lnTo>
                      <a:pt x="156" y="253"/>
                    </a:lnTo>
                    <a:lnTo>
                      <a:pt x="208" y="222"/>
                    </a:lnTo>
                    <a:lnTo>
                      <a:pt x="224" y="210"/>
                    </a:lnTo>
                    <a:lnTo>
                      <a:pt x="245" y="197"/>
                    </a:lnTo>
                    <a:lnTo>
                      <a:pt x="269" y="180"/>
                    </a:lnTo>
                    <a:lnTo>
                      <a:pt x="293" y="161"/>
                    </a:lnTo>
                    <a:lnTo>
                      <a:pt x="346" y="120"/>
                    </a:lnTo>
                    <a:lnTo>
                      <a:pt x="398" y="78"/>
                    </a:lnTo>
                    <a:lnTo>
                      <a:pt x="430" y="48"/>
                    </a:lnTo>
                    <a:lnTo>
                      <a:pt x="443" y="35"/>
                    </a:lnTo>
                    <a:lnTo>
                      <a:pt x="454" y="23"/>
                    </a:lnTo>
                    <a:lnTo>
                      <a:pt x="464" y="13"/>
                    </a:lnTo>
                    <a:lnTo>
                      <a:pt x="470" y="6"/>
                    </a:lnTo>
                    <a:lnTo>
                      <a:pt x="473" y="2"/>
                    </a:lnTo>
                    <a:lnTo>
                      <a:pt x="475" y="0"/>
                    </a:lnTo>
                    <a:lnTo>
                      <a:pt x="359" y="189"/>
                    </a:lnTo>
                    <a:close/>
                  </a:path>
                </a:pathLst>
              </a:custGeom>
              <a:solidFill>
                <a:srgbClr val="ffe0c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4802760" y="1971000"/>
                <a:ext cx="548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4799520" y="1975680"/>
                <a:ext cx="551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798080" y="1980000"/>
                <a:ext cx="5497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794840" y="1985040"/>
                <a:ext cx="552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793400" y="1989360"/>
                <a:ext cx="554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790160" y="1993680"/>
                <a:ext cx="555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787280" y="1996920"/>
                <a:ext cx="559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4785840" y="2001240"/>
                <a:ext cx="560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4782600" y="2005920"/>
                <a:ext cx="5605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780800" y="2013480"/>
                <a:ext cx="562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777920" y="2016720"/>
                <a:ext cx="565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775040" y="2021040"/>
                <a:ext cx="567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773240" y="2025720"/>
                <a:ext cx="5684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4770360" y="2030400"/>
                <a:ext cx="571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4767120" y="2034720"/>
                <a:ext cx="571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765320" y="2039400"/>
                <a:ext cx="573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762080" y="2044080"/>
                <a:ext cx="57636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761000" y="2049840"/>
                <a:ext cx="574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757760" y="2054520"/>
                <a:ext cx="5778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754520" y="2059200"/>
                <a:ext cx="581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753080" y="2063880"/>
                <a:ext cx="581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749840" y="2066760"/>
                <a:ext cx="583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748400" y="2071440"/>
                <a:ext cx="585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745520" y="2075760"/>
                <a:ext cx="5853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742280" y="2083320"/>
                <a:ext cx="588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740840" y="2086560"/>
                <a:ext cx="590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737600" y="2090880"/>
                <a:ext cx="5914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736160" y="2095560"/>
                <a:ext cx="5929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732920" y="2100240"/>
                <a:ext cx="596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730040" y="2104560"/>
                <a:ext cx="596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728240" y="2109240"/>
                <a:ext cx="597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725360" y="2113560"/>
                <a:ext cx="6008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723560" y="2119680"/>
                <a:ext cx="5994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720320" y="2124360"/>
                <a:ext cx="6026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717440" y="2128680"/>
                <a:ext cx="6055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716000" y="2133720"/>
                <a:ext cx="605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712760" y="2136600"/>
                <a:ext cx="608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709880" y="2141280"/>
                <a:ext cx="61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708080" y="2145600"/>
                <a:ext cx="610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704840" y="2150280"/>
                <a:ext cx="6134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703400" y="2156400"/>
                <a:ext cx="614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700520" y="2160720"/>
                <a:ext cx="614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697280" y="2165400"/>
                <a:ext cx="618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695840" y="2170080"/>
                <a:ext cx="619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692600" y="2174760"/>
                <a:ext cx="6210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691160" y="2179080"/>
                <a:ext cx="6224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691160" y="2180520"/>
                <a:ext cx="6224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688280" y="2183400"/>
                <a:ext cx="6253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685040" y="2188080"/>
                <a:ext cx="62568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683600" y="2194200"/>
                <a:ext cx="6271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680360" y="2198520"/>
                <a:ext cx="63036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678560" y="2203560"/>
                <a:ext cx="630360" cy="25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675680" y="2206440"/>
                <a:ext cx="63324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672800" y="2211120"/>
                <a:ext cx="6364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671000" y="2215440"/>
                <a:ext cx="6350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667760" y="2220120"/>
                <a:ext cx="638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666320" y="2224440"/>
                <a:ext cx="63972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4663080" y="2230560"/>
                <a:ext cx="6397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659840" y="2235240"/>
                <a:ext cx="64260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658760" y="2239560"/>
                <a:ext cx="64404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655520" y="2244600"/>
                <a:ext cx="645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652280" y="2248920"/>
                <a:ext cx="6490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650840" y="2253600"/>
                <a:ext cx="65052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647600" y="2256480"/>
                <a:ext cx="650520" cy="756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646160" y="2264040"/>
                <a:ext cx="6519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643280" y="2268720"/>
                <a:ext cx="654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640040" y="2273040"/>
                <a:ext cx="6566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638600" y="2276280"/>
                <a:ext cx="6580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2" name=""/>
            <p:cNvGrpSpPr/>
            <p:nvPr/>
          </p:nvGrpSpPr>
          <p:grpSpPr>
            <a:xfrm>
              <a:off x="4147920" y="2280600"/>
              <a:ext cx="1149120" cy="913680"/>
              <a:chOff x="4147920" y="2280600"/>
              <a:chExt cx="1149120" cy="913680"/>
            </a:xfrm>
          </p:grpSpPr>
          <p:sp>
            <p:nvSpPr>
              <p:cNvPr id="4093" name=""/>
              <p:cNvSpPr/>
              <p:nvPr/>
            </p:nvSpPr>
            <p:spPr>
              <a:xfrm>
                <a:off x="4635720" y="2280600"/>
                <a:ext cx="66132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633920" y="2285280"/>
                <a:ext cx="6598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631040" y="2289600"/>
                <a:ext cx="6627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628160" y="2294280"/>
                <a:ext cx="66600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26360" y="2300400"/>
                <a:ext cx="6645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23480" y="2304720"/>
                <a:ext cx="6674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21680" y="2309400"/>
                <a:ext cx="6692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18440" y="2313720"/>
                <a:ext cx="67068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15560" y="2318760"/>
                <a:ext cx="6735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13760" y="2323080"/>
                <a:ext cx="67536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10880" y="2326320"/>
                <a:ext cx="6753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08000" y="2330640"/>
                <a:ext cx="678240" cy="756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06200" y="2338200"/>
                <a:ext cx="6800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02960" y="2342880"/>
                <a:ext cx="6818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01520" y="2345760"/>
                <a:ext cx="683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598640" y="2350440"/>
                <a:ext cx="68616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595400" y="2355120"/>
                <a:ext cx="6861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593960" y="2359440"/>
                <a:ext cx="68760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590720" y="2364120"/>
                <a:ext cx="690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589280" y="2368440"/>
                <a:ext cx="68904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586040" y="2374920"/>
                <a:ext cx="692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583160" y="2379240"/>
                <a:ext cx="6955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581720" y="2383560"/>
                <a:ext cx="69552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578480" y="2388600"/>
                <a:ext cx="698400" cy="10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578480" y="2390040"/>
                <a:ext cx="69840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576680" y="2392920"/>
                <a:ext cx="70020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573800" y="2396160"/>
                <a:ext cx="699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570560" y="2400480"/>
                <a:ext cx="703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569120" y="2405160"/>
                <a:ext cx="704880" cy="756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565880" y="2412720"/>
                <a:ext cx="70632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564440" y="2415600"/>
                <a:ext cx="7077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561200" y="2420280"/>
                <a:ext cx="711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57960" y="2424600"/>
                <a:ext cx="71100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556520" y="2429640"/>
                <a:ext cx="7124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553640" y="2433960"/>
                <a:ext cx="7153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550400" y="2438280"/>
                <a:ext cx="71568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548960" y="2444760"/>
                <a:ext cx="7171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545720" y="2449080"/>
                <a:ext cx="7203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544280" y="2453760"/>
                <a:ext cx="720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541040" y="2458080"/>
                <a:ext cx="72324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538160" y="2462760"/>
                <a:ext cx="726480" cy="25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536720" y="2465640"/>
                <a:ext cx="72468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533480" y="2470320"/>
                <a:ext cx="7275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4531680" y="2475000"/>
                <a:ext cx="729360" cy="756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4528800" y="2482560"/>
                <a:ext cx="72936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4525920" y="2485440"/>
                <a:ext cx="7326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4524120" y="2490120"/>
                <a:ext cx="7344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4521240" y="2494440"/>
                <a:ext cx="7354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519440" y="2499120"/>
                <a:ext cx="73728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4516200" y="2503800"/>
                <a:ext cx="7405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4513320" y="2508480"/>
                <a:ext cx="7401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511520" y="2512800"/>
                <a:ext cx="74196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4508640" y="2518920"/>
                <a:ext cx="744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4507200" y="2523600"/>
                <a:ext cx="744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503960" y="2527920"/>
                <a:ext cx="748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500720" y="2532600"/>
                <a:ext cx="75132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4499280" y="2535480"/>
                <a:ext cx="74952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496400" y="2540520"/>
                <a:ext cx="7527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493160" y="2544840"/>
                <a:ext cx="756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4491720" y="2549160"/>
                <a:ext cx="75420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4488480" y="2555640"/>
                <a:ext cx="757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487040" y="2559960"/>
                <a:ext cx="7585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483800" y="2564280"/>
                <a:ext cx="7603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480920" y="2568960"/>
                <a:ext cx="76356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479480" y="2573640"/>
                <a:ext cx="765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476240" y="2578320"/>
                <a:ext cx="765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474440" y="2582640"/>
                <a:ext cx="76680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471200" y="2588760"/>
                <a:ext cx="7700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468320" y="2593440"/>
                <a:ext cx="7711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466880" y="2597760"/>
                <a:ext cx="772920" cy="10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466880" y="2599200"/>
                <a:ext cx="77292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463640" y="2602440"/>
                <a:ext cx="77616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462200" y="2605320"/>
                <a:ext cx="7743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458960" y="2610000"/>
                <a:ext cx="77760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455720" y="2614680"/>
                <a:ext cx="780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454280" y="2619360"/>
                <a:ext cx="779040" cy="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4451400" y="2625120"/>
                <a:ext cx="78228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449960" y="2629800"/>
                <a:ext cx="7837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446720" y="2634480"/>
                <a:ext cx="7855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4443480" y="2638800"/>
                <a:ext cx="7884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442040" y="2643120"/>
                <a:ext cx="7898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438800" y="2648160"/>
                <a:ext cx="789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435920" y="2652480"/>
                <a:ext cx="7930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434480" y="2657160"/>
                <a:ext cx="794520" cy="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4431240" y="2663280"/>
                <a:ext cx="7959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429440" y="2667600"/>
                <a:ext cx="7977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4426560" y="2672280"/>
                <a:ext cx="80028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4423680" y="2675160"/>
                <a:ext cx="8006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421880" y="2679840"/>
                <a:ext cx="8024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419000" y="2684160"/>
                <a:ext cx="80532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417200" y="2689200"/>
                <a:ext cx="8038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13960" y="2693520"/>
                <a:ext cx="807120" cy="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10720" y="2699640"/>
                <a:ext cx="8103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09640" y="2704320"/>
                <a:ext cx="8100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406400" y="2708640"/>
                <a:ext cx="8132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404960" y="2713320"/>
                <a:ext cx="8146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401720" y="2717640"/>
                <a:ext cx="8150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398480" y="2722320"/>
                <a:ext cx="817920" cy="2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397040" y="2725200"/>
                <a:ext cx="81936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4394160" y="2729880"/>
                <a:ext cx="820800" cy="7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390920" y="2737800"/>
                <a:ext cx="8240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4389480" y="2742120"/>
                <a:ext cx="82548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4386240" y="2745360"/>
                <a:ext cx="8254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384800" y="2749680"/>
                <a:ext cx="8269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4381560" y="2754000"/>
                <a:ext cx="82980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378680" y="2759040"/>
                <a:ext cx="8298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376880" y="2763360"/>
                <a:ext cx="831600" cy="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374000" y="2769120"/>
                <a:ext cx="83448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372200" y="2774160"/>
                <a:ext cx="834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368960" y="2778480"/>
                <a:ext cx="8380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366080" y="2783160"/>
                <a:ext cx="8409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364640" y="2787480"/>
                <a:ext cx="83952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361400" y="2792520"/>
                <a:ext cx="842760" cy="2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359960" y="2795040"/>
                <a:ext cx="8438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356720" y="2800080"/>
                <a:ext cx="843840" cy="7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353480" y="2807640"/>
                <a:ext cx="847080" cy="1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353480" y="2808720"/>
                <a:ext cx="84708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352040" y="2811960"/>
                <a:ext cx="84852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349160" y="2815200"/>
                <a:ext cx="850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347720" y="2819520"/>
                <a:ext cx="8517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344480" y="2824200"/>
                <a:ext cx="8550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4341240" y="2828520"/>
                <a:ext cx="8550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4339800" y="2833200"/>
                <a:ext cx="8564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336920" y="2837880"/>
                <a:ext cx="859320" cy="57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333680" y="2843640"/>
                <a:ext cx="86112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332240" y="2848320"/>
                <a:ext cx="8625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329000" y="2853000"/>
                <a:ext cx="8658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327200" y="2857320"/>
                <a:ext cx="864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324320" y="2862000"/>
                <a:ext cx="86724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321440" y="2864880"/>
                <a:ext cx="870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319640" y="2869560"/>
                <a:ext cx="86904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316400" y="2874240"/>
                <a:ext cx="872280" cy="75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314960" y="2881800"/>
                <a:ext cx="87336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311720" y="2885040"/>
                <a:ext cx="8751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308480" y="2889360"/>
                <a:ext cx="8784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07400" y="2894040"/>
                <a:ext cx="879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304160" y="2898360"/>
                <a:ext cx="879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302720" y="2903040"/>
                <a:ext cx="88128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299480" y="2907720"/>
                <a:ext cx="8845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296240" y="2912040"/>
                <a:ext cx="886320" cy="61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294800" y="2918520"/>
                <a:ext cx="8877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291920" y="2922840"/>
                <a:ext cx="8906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290480" y="2927160"/>
                <a:ext cx="888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287240" y="2931840"/>
                <a:ext cx="89208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284000" y="2934720"/>
                <a:ext cx="895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282200" y="2939400"/>
                <a:ext cx="8938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279320" y="2943720"/>
                <a:ext cx="896760" cy="75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276440" y="2951640"/>
                <a:ext cx="900000" cy="25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274640" y="2954520"/>
                <a:ext cx="9000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271760" y="2959200"/>
                <a:ext cx="9025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269960" y="2963880"/>
                <a:ext cx="904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266720" y="2968200"/>
                <a:ext cx="9046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264200" y="2972880"/>
                <a:ext cx="90756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262400" y="2977560"/>
                <a:ext cx="909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259160" y="2981880"/>
                <a:ext cx="910800" cy="57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4257720" y="2988000"/>
                <a:ext cx="91224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254480" y="2992680"/>
                <a:ext cx="915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4251240" y="2997360"/>
                <a:ext cx="915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4249800" y="3001680"/>
                <a:ext cx="91692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246920" y="3004920"/>
                <a:ext cx="9198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4245480" y="3009240"/>
                <a:ext cx="918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4242240" y="3013560"/>
                <a:ext cx="9216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4239000" y="3018600"/>
                <a:ext cx="92484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4237560" y="3024360"/>
                <a:ext cx="9244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4234680" y="3029040"/>
                <a:ext cx="9277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232880" y="3033720"/>
                <a:ext cx="9295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230000" y="3038040"/>
                <a:ext cx="92916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226760" y="3042720"/>
                <a:ext cx="9320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224960" y="3047040"/>
                <a:ext cx="9338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221720" y="3052080"/>
                <a:ext cx="9356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219200" y="3056400"/>
                <a:ext cx="93852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217400" y="3062160"/>
                <a:ext cx="940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214160" y="3067200"/>
                <a:ext cx="940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212720" y="3071520"/>
                <a:ext cx="94176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209480" y="3074760"/>
                <a:ext cx="945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206240" y="3079080"/>
                <a:ext cx="945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05160" y="3083760"/>
                <a:ext cx="9460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201920" y="3088080"/>
                <a:ext cx="949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200480" y="3092760"/>
                <a:ext cx="94932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197240" y="3098880"/>
                <a:ext cx="95256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194000" y="3103560"/>
                <a:ext cx="9558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192560" y="3108240"/>
                <a:ext cx="954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189680" y="3112560"/>
                <a:ext cx="9572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187880" y="3116880"/>
                <a:ext cx="9590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185000" y="3121560"/>
                <a:ext cx="95868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181760" y="3124440"/>
                <a:ext cx="961560" cy="75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179960" y="3132000"/>
                <a:ext cx="96336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177080" y="3137040"/>
                <a:ext cx="9648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174200" y="3141360"/>
                <a:ext cx="96804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172400" y="3144600"/>
                <a:ext cx="9698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169520" y="3148920"/>
                <a:ext cx="9694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167720" y="3153600"/>
                <a:ext cx="9712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164480" y="3157920"/>
                <a:ext cx="9745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161960" y="3162600"/>
                <a:ext cx="975600" cy="61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160160" y="3168720"/>
                <a:ext cx="9774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156920" y="3173040"/>
                <a:ext cx="9806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155480" y="3178080"/>
                <a:ext cx="9788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152240" y="3182400"/>
                <a:ext cx="9820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149000" y="3187080"/>
                <a:ext cx="985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147920" y="3191400"/>
                <a:ext cx="98352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3656880" y="3195000"/>
              <a:ext cx="1474200" cy="916560"/>
              <a:chOff x="3656880" y="3195000"/>
              <a:chExt cx="1474200" cy="916560"/>
            </a:xfrm>
          </p:grpSpPr>
          <p:sp>
            <p:nvSpPr>
              <p:cNvPr id="4294" name=""/>
              <p:cNvSpPr/>
              <p:nvPr/>
            </p:nvSpPr>
            <p:spPr>
              <a:xfrm>
                <a:off x="4144680" y="3195000"/>
                <a:ext cx="9864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143240" y="3199320"/>
                <a:ext cx="987840" cy="75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140000" y="3206880"/>
                <a:ext cx="9896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136760" y="3211560"/>
                <a:ext cx="992880" cy="25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135320" y="3214440"/>
                <a:ext cx="994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132440" y="3219120"/>
                <a:ext cx="994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130640" y="3223800"/>
                <a:ext cx="9961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4127760" y="3228120"/>
                <a:ext cx="9986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124520" y="3232800"/>
                <a:ext cx="100008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122720" y="3237480"/>
                <a:ext cx="1001880" cy="57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4119480" y="3243240"/>
                <a:ext cx="10051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116960" y="3247920"/>
                <a:ext cx="100512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115160" y="3252600"/>
                <a:ext cx="10069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111920" y="3257280"/>
                <a:ext cx="10101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110480" y="3261600"/>
                <a:ext cx="100836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107240" y="3264840"/>
                <a:ext cx="10116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104360" y="3269160"/>
                <a:ext cx="10144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102920" y="3273480"/>
                <a:ext cx="1014120" cy="75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4099680" y="3281040"/>
                <a:ext cx="101736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4098240" y="3284280"/>
                <a:ext cx="1018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4095000" y="3288960"/>
                <a:ext cx="101880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091760" y="3293640"/>
                <a:ext cx="10220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4090680" y="3297960"/>
                <a:ext cx="10234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4087440" y="3302640"/>
                <a:ext cx="10252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085640" y="3306960"/>
                <a:ext cx="102672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082760" y="3313080"/>
                <a:ext cx="10296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079520" y="3317760"/>
                <a:ext cx="102960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077720" y="3322440"/>
                <a:ext cx="10314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075200" y="3327120"/>
                <a:ext cx="10342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073400" y="3331440"/>
                <a:ext cx="103284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070160" y="3334680"/>
                <a:ext cx="10360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067280" y="3339000"/>
                <a:ext cx="10389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065480" y="3343680"/>
                <a:ext cx="1039320" cy="75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062240" y="3351240"/>
                <a:ext cx="104220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059360" y="3354120"/>
                <a:ext cx="10454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057920" y="3358800"/>
                <a:ext cx="104364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054680" y="3363480"/>
                <a:ext cx="10468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053240" y="3367800"/>
                <a:ext cx="10483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050000" y="3372480"/>
                <a:ext cx="10483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047120" y="3376800"/>
                <a:ext cx="10515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045680" y="3381480"/>
                <a:ext cx="105300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042440" y="3387600"/>
                <a:ext cx="1054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041000" y="3391920"/>
                <a:ext cx="105588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037760" y="3396960"/>
                <a:ext cx="10591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034520" y="3401280"/>
                <a:ext cx="105912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033080" y="3404520"/>
                <a:ext cx="10605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030200" y="3408840"/>
                <a:ext cx="1063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028400" y="3413520"/>
                <a:ext cx="10641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025160" y="3417840"/>
                <a:ext cx="106740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022280" y="3423960"/>
                <a:ext cx="10699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020480" y="3428640"/>
                <a:ext cx="10688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017600" y="3432960"/>
                <a:ext cx="107172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016160" y="3438000"/>
                <a:ext cx="10731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012920" y="3442320"/>
                <a:ext cx="10731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009680" y="3446640"/>
                <a:ext cx="107640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008240" y="3451320"/>
                <a:ext cx="107784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005000" y="3456000"/>
                <a:ext cx="1079640" cy="57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002120" y="3461760"/>
                <a:ext cx="10828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000680" y="3466440"/>
                <a:ext cx="108432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3997440" y="3471120"/>
                <a:ext cx="1084320" cy="25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3996000" y="3474000"/>
                <a:ext cx="10854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3992760" y="3478680"/>
                <a:ext cx="10886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3989520" y="3483360"/>
                <a:ext cx="10900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988440" y="3487680"/>
                <a:ext cx="1091520" cy="61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985200" y="3493800"/>
                <a:ext cx="10947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3983400" y="3498480"/>
                <a:ext cx="10936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3980520" y="3502800"/>
                <a:ext cx="10965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3977280" y="3507480"/>
                <a:ext cx="109944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3975480" y="3512160"/>
                <a:ext cx="1098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3972960" y="3516480"/>
                <a:ext cx="11008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3971160" y="3521160"/>
                <a:ext cx="110268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3967920" y="3524040"/>
                <a:ext cx="1104120" cy="75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3964680" y="3531960"/>
                <a:ext cx="1107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3963240" y="3536280"/>
                <a:ext cx="11088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3960360" y="3540960"/>
                <a:ext cx="1109160" cy="25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3957120" y="3543840"/>
                <a:ext cx="11124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3955680" y="3548520"/>
                <a:ext cx="11134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3952440" y="3553200"/>
                <a:ext cx="11149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3951000" y="3557520"/>
                <a:ext cx="1116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3947760" y="3562200"/>
                <a:ext cx="1119600" cy="61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3944880" y="3568320"/>
                <a:ext cx="111960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943440" y="3572640"/>
                <a:ext cx="11210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3940200" y="3577320"/>
                <a:ext cx="112428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3938760" y="3582000"/>
                <a:ext cx="11228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3935520" y="3586680"/>
                <a:ext cx="11260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3932280" y="3591000"/>
                <a:ext cx="112896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3930840" y="3594240"/>
                <a:ext cx="11289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3927960" y="3598560"/>
                <a:ext cx="1131840" cy="75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3926160" y="3606120"/>
                <a:ext cx="11336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3922920" y="3610440"/>
                <a:ext cx="113364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3920040" y="3613680"/>
                <a:ext cx="11365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3918240" y="3618360"/>
                <a:ext cx="113832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915360" y="3623040"/>
                <a:ext cx="11401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3913920" y="3627360"/>
                <a:ext cx="11415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3910680" y="3632040"/>
                <a:ext cx="11444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3910680" y="3636360"/>
                <a:ext cx="1141560" cy="144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907440" y="3638160"/>
                <a:ext cx="11444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3906000" y="3642480"/>
                <a:ext cx="114588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3906000" y="3645720"/>
                <a:ext cx="1145880" cy="10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3902760" y="3647160"/>
                <a:ext cx="11491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3899880" y="3651480"/>
                <a:ext cx="114912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3898440" y="3656520"/>
                <a:ext cx="11505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3895200" y="3660840"/>
                <a:ext cx="115380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3893760" y="3664080"/>
                <a:ext cx="11538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3890520" y="3668400"/>
                <a:ext cx="115668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3887640" y="3675960"/>
                <a:ext cx="11599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3886200" y="3680640"/>
                <a:ext cx="115812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3882960" y="3683520"/>
                <a:ext cx="11613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881160" y="3688200"/>
                <a:ext cx="1163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878280" y="3692520"/>
                <a:ext cx="116280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875040" y="3697200"/>
                <a:ext cx="11660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3873600" y="3701880"/>
                <a:ext cx="11678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70360" y="3706200"/>
                <a:ext cx="1169640" cy="61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3868920" y="3712320"/>
                <a:ext cx="11710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3865680" y="3717000"/>
                <a:ext cx="11739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862440" y="3721320"/>
                <a:ext cx="11739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861000" y="3726000"/>
                <a:ext cx="117540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58120" y="3730680"/>
                <a:ext cx="117864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3856680" y="3733920"/>
                <a:ext cx="11786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3853440" y="3738240"/>
                <a:ext cx="11818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850200" y="3742920"/>
                <a:ext cx="118512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3848760" y="3750480"/>
                <a:ext cx="118332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845520" y="3753360"/>
                <a:ext cx="11862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3842640" y="3758040"/>
                <a:ext cx="11894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3841200" y="3762360"/>
                <a:ext cx="118764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3837960" y="3767040"/>
                <a:ext cx="11908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3836160" y="3771720"/>
                <a:ext cx="11926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3833280" y="3776040"/>
                <a:ext cx="11941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3830400" y="3780720"/>
                <a:ext cx="1197360" cy="61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3828600" y="3786840"/>
                <a:ext cx="1199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3825720" y="3791160"/>
                <a:ext cx="11988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3823920" y="3795840"/>
                <a:ext cx="120024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820680" y="3800520"/>
                <a:ext cx="1203480" cy="25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3817800" y="3803400"/>
                <a:ext cx="120456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816000" y="3808080"/>
                <a:ext cx="12063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813120" y="3812760"/>
                <a:ext cx="120960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811680" y="3820320"/>
                <a:ext cx="120816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808440" y="3823200"/>
                <a:ext cx="12114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805200" y="3827880"/>
                <a:ext cx="12146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803760" y="3832200"/>
                <a:ext cx="12128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800880" y="3836880"/>
                <a:ext cx="121572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799440" y="3841560"/>
                <a:ext cx="1217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3796200" y="3845880"/>
                <a:ext cx="12186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3792960" y="3850560"/>
                <a:ext cx="1221840" cy="144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3792960" y="3852360"/>
                <a:ext cx="12218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3791520" y="3856680"/>
                <a:ext cx="12232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3788280" y="3861360"/>
                <a:ext cx="12232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3785400" y="3865680"/>
                <a:ext cx="12265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783960" y="3870000"/>
                <a:ext cx="122796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780720" y="3873240"/>
                <a:ext cx="12294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3778920" y="3877560"/>
                <a:ext cx="123120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3775680" y="3882600"/>
                <a:ext cx="1234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3772800" y="3886920"/>
                <a:ext cx="1234080" cy="61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771360" y="3893040"/>
                <a:ext cx="1235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3768120" y="3897720"/>
                <a:ext cx="1239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3766680" y="3902040"/>
                <a:ext cx="12373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3763440" y="3906720"/>
                <a:ext cx="12405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760200" y="3911040"/>
                <a:ext cx="12434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3758760" y="3916080"/>
                <a:ext cx="1243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755880" y="3920400"/>
                <a:ext cx="124668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754440" y="3923640"/>
                <a:ext cx="1248120" cy="75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751200" y="3931200"/>
                <a:ext cx="1248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3747960" y="3935520"/>
                <a:ext cx="12513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3746520" y="3939840"/>
                <a:ext cx="125280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3743640" y="3943080"/>
                <a:ext cx="1254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740400" y="3947400"/>
                <a:ext cx="12578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738960" y="3952440"/>
                <a:ext cx="12589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735720" y="3956760"/>
                <a:ext cx="12589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3733920" y="3961440"/>
                <a:ext cx="1260720" cy="61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3731040" y="3967560"/>
                <a:ext cx="1263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3728160" y="3971880"/>
                <a:ext cx="1263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3726360" y="3976560"/>
                <a:ext cx="12654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3723480" y="3980880"/>
                <a:ext cx="126828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721680" y="3985920"/>
                <a:ext cx="12686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3718440" y="3990240"/>
                <a:ext cx="127188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3715560" y="3993480"/>
                <a:ext cx="1274400" cy="75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714120" y="4001040"/>
                <a:ext cx="12729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3710880" y="4005360"/>
                <a:ext cx="12762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3709440" y="4010040"/>
                <a:ext cx="127764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706200" y="4012920"/>
                <a:ext cx="12776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3702960" y="4017600"/>
                <a:ext cx="1280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3701520" y="4021920"/>
                <a:ext cx="128232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698640" y="4026600"/>
                <a:ext cx="1284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3697200" y="4031280"/>
                <a:ext cx="1285560" cy="57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3693960" y="4037040"/>
                <a:ext cx="12884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3690720" y="4041720"/>
                <a:ext cx="1288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89280" y="4046400"/>
                <a:ext cx="1289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686040" y="4050720"/>
                <a:ext cx="1293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683160" y="4055400"/>
                <a:ext cx="129456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681720" y="4060080"/>
                <a:ext cx="1296000" cy="25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678480" y="4062960"/>
                <a:ext cx="129924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676680" y="4067640"/>
                <a:ext cx="129816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673440" y="4075200"/>
                <a:ext cx="13014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3670920" y="4079880"/>
                <a:ext cx="130392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3669120" y="4082760"/>
                <a:ext cx="13024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3665880" y="4087440"/>
                <a:ext cx="13057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3664440" y="4091760"/>
                <a:ext cx="13071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3661200" y="4096440"/>
                <a:ext cx="13086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3657960" y="4101120"/>
                <a:ext cx="13118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3656880" y="4105440"/>
                <a:ext cx="1313280" cy="61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4" name=""/>
            <p:cNvGrpSpPr/>
            <p:nvPr/>
          </p:nvGrpSpPr>
          <p:grpSpPr>
            <a:xfrm>
              <a:off x="3162240" y="4112280"/>
              <a:ext cx="1804680" cy="917640"/>
              <a:chOff x="3162240" y="4112280"/>
              <a:chExt cx="1804680" cy="917640"/>
            </a:xfrm>
          </p:grpSpPr>
          <p:sp>
            <p:nvSpPr>
              <p:cNvPr id="4495" name=""/>
              <p:cNvSpPr/>
              <p:nvPr/>
            </p:nvSpPr>
            <p:spPr>
              <a:xfrm>
                <a:off x="3653280" y="4112280"/>
                <a:ext cx="13136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651840" y="4116600"/>
                <a:ext cx="13150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648600" y="4120920"/>
                <a:ext cx="13183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645360" y="4125600"/>
                <a:ext cx="13197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43920" y="4129920"/>
                <a:ext cx="132120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641040" y="4133160"/>
                <a:ext cx="132444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639240" y="4137840"/>
                <a:ext cx="13230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636360" y="4142520"/>
                <a:ext cx="132552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3633120" y="4150080"/>
                <a:ext cx="132876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631320" y="4152960"/>
                <a:ext cx="13276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628440" y="4157640"/>
                <a:ext cx="13305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3625560" y="4161960"/>
                <a:ext cx="13338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623760" y="4166640"/>
                <a:ext cx="13338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620880" y="4171320"/>
                <a:ext cx="13366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619080" y="4175640"/>
                <a:ext cx="1338480" cy="57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615840" y="4181760"/>
                <a:ext cx="133848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12960" y="4186440"/>
                <a:ext cx="13413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611520" y="4190760"/>
                <a:ext cx="13428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608280" y="4195440"/>
                <a:ext cx="13446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606840" y="4199760"/>
                <a:ext cx="134604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3603600" y="4203000"/>
                <a:ext cx="1349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3600360" y="4207320"/>
                <a:ext cx="134928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598920" y="4212360"/>
                <a:ext cx="135072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596040" y="4219920"/>
                <a:ext cx="1353960" cy="25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3594600" y="4222440"/>
                <a:ext cx="135216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3591360" y="4227480"/>
                <a:ext cx="13550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3588120" y="4231800"/>
                <a:ext cx="1358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3586680" y="4236480"/>
                <a:ext cx="1358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3583800" y="4240800"/>
                <a:ext cx="136152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3582000" y="4245480"/>
                <a:ext cx="13633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3578760" y="4250160"/>
                <a:ext cx="1363320" cy="57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3575880" y="4255920"/>
                <a:ext cx="13662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3574080" y="4260960"/>
                <a:ext cx="13680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3570840" y="4265280"/>
                <a:ext cx="1369440" cy="10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3570840" y="4266720"/>
                <a:ext cx="136944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568320" y="4269600"/>
                <a:ext cx="13723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3566520" y="4272840"/>
                <a:ext cx="1374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3563280" y="4277160"/>
                <a:ext cx="1374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3561840" y="4281840"/>
                <a:ext cx="137556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3558600" y="4286520"/>
                <a:ext cx="137880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3555360" y="4292640"/>
                <a:ext cx="13788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3554280" y="4297320"/>
                <a:ext cx="13802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3551040" y="4301640"/>
                <a:ext cx="1383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3549600" y="4306320"/>
                <a:ext cx="1383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3546360" y="4310640"/>
                <a:ext cx="13863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3543120" y="4315320"/>
                <a:ext cx="13896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3541680" y="4320000"/>
                <a:ext cx="138780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3538800" y="4323240"/>
                <a:ext cx="139104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3537000" y="4330800"/>
                <a:ext cx="13928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3534120" y="4335120"/>
                <a:ext cx="13924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3530880" y="4339800"/>
                <a:ext cx="13957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3529080" y="4342680"/>
                <a:ext cx="13975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3526200" y="4347360"/>
                <a:ext cx="13986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3523320" y="4351680"/>
                <a:ext cx="140184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3521520" y="4356360"/>
                <a:ext cx="140364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3518280" y="4362480"/>
                <a:ext cx="14036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3516840" y="4366800"/>
                <a:ext cx="140508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3513600" y="4371480"/>
                <a:ext cx="14083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3510720" y="4376160"/>
                <a:ext cx="14097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3509280" y="4380480"/>
                <a:ext cx="14112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3506040" y="4385160"/>
                <a:ext cx="141408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3504600" y="4389840"/>
                <a:ext cx="1412280" cy="25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3501360" y="4392720"/>
                <a:ext cx="141552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498120" y="4400280"/>
                <a:ext cx="141876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3497040" y="4404960"/>
                <a:ext cx="14173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3493800" y="4409640"/>
                <a:ext cx="142056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3492360" y="4412520"/>
                <a:ext cx="14220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489120" y="4417200"/>
                <a:ext cx="14234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3485880" y="4421520"/>
                <a:ext cx="14266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3484080" y="4426200"/>
                <a:ext cx="142812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3481560" y="4430880"/>
                <a:ext cx="142776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3479760" y="4436640"/>
                <a:ext cx="14295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476520" y="4441320"/>
                <a:ext cx="14328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473640" y="4446000"/>
                <a:ext cx="14342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3471840" y="4450320"/>
                <a:ext cx="14360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3468600" y="4455000"/>
                <a:ext cx="14392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466080" y="4459320"/>
                <a:ext cx="14389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464280" y="4462560"/>
                <a:ext cx="14407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3461040" y="4466880"/>
                <a:ext cx="144360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3459600" y="4474440"/>
                <a:ext cx="14418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456360" y="4479480"/>
                <a:ext cx="144504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453120" y="4482360"/>
                <a:ext cx="1448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3452040" y="4487040"/>
                <a:ext cx="1448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3448800" y="4491360"/>
                <a:ext cx="14515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447360" y="4496040"/>
                <a:ext cx="14529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444120" y="4500360"/>
                <a:ext cx="14529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440880" y="4505040"/>
                <a:ext cx="145584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3439440" y="4511160"/>
                <a:ext cx="14572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436560" y="4515840"/>
                <a:ext cx="14590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434760" y="4520160"/>
                <a:ext cx="14608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431880" y="4524840"/>
                <a:ext cx="14637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428640" y="4529160"/>
                <a:ext cx="146376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426840" y="4532400"/>
                <a:ext cx="14655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423960" y="4536720"/>
                <a:ext cx="1468800" cy="75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422520" y="4544280"/>
                <a:ext cx="14670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419280" y="4549320"/>
                <a:ext cx="1470240" cy="2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3416040" y="4551840"/>
                <a:ext cx="147312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3414600" y="4556880"/>
                <a:ext cx="14731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3411360" y="4561200"/>
                <a:ext cx="14763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3408480" y="4565880"/>
                <a:ext cx="14796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3407040" y="4570200"/>
                <a:ext cx="14778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403800" y="4575240"/>
                <a:ext cx="148104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402360" y="4581000"/>
                <a:ext cx="14824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399120" y="4585320"/>
                <a:ext cx="14824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395880" y="4590360"/>
                <a:ext cx="14853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394800" y="4594680"/>
                <a:ext cx="14868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391560" y="4599000"/>
                <a:ext cx="148860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389760" y="4602240"/>
                <a:ext cx="14904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386880" y="4606560"/>
                <a:ext cx="1493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383640" y="4611240"/>
                <a:ext cx="1493280" cy="75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381840" y="4618800"/>
                <a:ext cx="149508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379320" y="4622040"/>
                <a:ext cx="14979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377520" y="4626360"/>
                <a:ext cx="14979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374280" y="4631040"/>
                <a:ext cx="150084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371400" y="4635720"/>
                <a:ext cx="15037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369600" y="4640040"/>
                <a:ext cx="150264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366360" y="4644720"/>
                <a:ext cx="15058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365280" y="4649400"/>
                <a:ext cx="150732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362040" y="4655160"/>
                <a:ext cx="15073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358800" y="4659840"/>
                <a:ext cx="15105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357360" y="4664520"/>
                <a:ext cx="15120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354120" y="4669200"/>
                <a:ext cx="151344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51240" y="4672080"/>
                <a:ext cx="15163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49800" y="4676760"/>
                <a:ext cx="15177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6560" y="4681080"/>
                <a:ext cx="15181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45120" y="4685400"/>
                <a:ext cx="151956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41880" y="4691880"/>
                <a:ext cx="1522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38640" y="4696200"/>
                <a:ext cx="15242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337200" y="4700880"/>
                <a:ext cx="15256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334320" y="4705560"/>
                <a:ext cx="15285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332520" y="4709880"/>
                <a:ext cx="15274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329280" y="4714560"/>
                <a:ext cx="15303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326400" y="4718880"/>
                <a:ext cx="153324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324600" y="4725000"/>
                <a:ext cx="1531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21720" y="4729680"/>
                <a:ext cx="15350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0280" y="4734360"/>
                <a:ext cx="15364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17040" y="4739040"/>
                <a:ext cx="15382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13800" y="4741920"/>
                <a:ext cx="15415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12360" y="4746600"/>
                <a:ext cx="15429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09120" y="4750920"/>
                <a:ext cx="15429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306240" y="4755600"/>
                <a:ext cx="154584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304800" y="4761720"/>
                <a:ext cx="15472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301560" y="4766040"/>
                <a:ext cx="15490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300120" y="4770720"/>
                <a:ext cx="155052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296880" y="4775400"/>
                <a:ext cx="15537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293640" y="4779720"/>
                <a:ext cx="15537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292560" y="4784400"/>
                <a:ext cx="15552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289320" y="4788720"/>
                <a:ext cx="15580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287520" y="4791960"/>
                <a:ext cx="1557000" cy="756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284640" y="4799520"/>
                <a:ext cx="15595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281400" y="4803840"/>
                <a:ext cx="156276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279600" y="4808880"/>
                <a:ext cx="1563120" cy="25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277080" y="4811400"/>
                <a:ext cx="156600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3275280" y="4816440"/>
                <a:ext cx="1567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3272040" y="4820760"/>
                <a:ext cx="1567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3269160" y="4825440"/>
                <a:ext cx="15706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3267360" y="4829760"/>
                <a:ext cx="157212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3264120" y="4835880"/>
                <a:ext cx="15739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3263040" y="4840560"/>
                <a:ext cx="15753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3259800" y="4844880"/>
                <a:ext cx="157860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3256560" y="4849920"/>
                <a:ext cx="15786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255120" y="4854240"/>
                <a:ext cx="158004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3251880" y="4858560"/>
                <a:ext cx="15832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3249000" y="4861800"/>
                <a:ext cx="1583280" cy="756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247560" y="4869360"/>
                <a:ext cx="15847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244320" y="4873680"/>
                <a:ext cx="15876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42880" y="4878360"/>
                <a:ext cx="158760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3239640" y="4881240"/>
                <a:ext cx="15908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3236400" y="4886280"/>
                <a:ext cx="1594080" cy="25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36400" y="4889160"/>
                <a:ext cx="1594080" cy="144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234960" y="4890600"/>
                <a:ext cx="15922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232080" y="4895280"/>
                <a:ext cx="1595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3230280" y="4899600"/>
                <a:ext cx="159732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3227040" y="4905720"/>
                <a:ext cx="15973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224160" y="4910400"/>
                <a:ext cx="16002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222360" y="4914720"/>
                <a:ext cx="160164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219480" y="4919760"/>
                <a:ext cx="1603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3218040" y="4924080"/>
                <a:ext cx="1604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3214800" y="4928400"/>
                <a:ext cx="160776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211560" y="4931640"/>
                <a:ext cx="16081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10120" y="4936320"/>
                <a:ext cx="160956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06880" y="4943880"/>
                <a:ext cx="16128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05800" y="4948200"/>
                <a:ext cx="161244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202560" y="4951440"/>
                <a:ext cx="16156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199320" y="4955760"/>
                <a:ext cx="161856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197880" y="4960440"/>
                <a:ext cx="1616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194640" y="4965120"/>
                <a:ext cx="16200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191400" y="4969440"/>
                <a:ext cx="16232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190320" y="4974120"/>
                <a:ext cx="162180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187080" y="4980240"/>
                <a:ext cx="16250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185280" y="4984560"/>
                <a:ext cx="16268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182400" y="4989240"/>
                <a:ext cx="162792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179160" y="4993920"/>
                <a:ext cx="16308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3177360" y="4998600"/>
                <a:ext cx="163260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174840" y="5001480"/>
                <a:ext cx="16322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173040" y="5006160"/>
                <a:ext cx="16340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3169800" y="5010480"/>
                <a:ext cx="163728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3166560" y="5018040"/>
                <a:ext cx="163908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165120" y="5021280"/>
                <a:ext cx="1640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162240" y="5025600"/>
                <a:ext cx="1643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3015000" y="1971000"/>
              <a:ext cx="2642760" cy="3329280"/>
              <a:chOff x="3015000" y="1971000"/>
              <a:chExt cx="2642760" cy="3329280"/>
            </a:xfrm>
          </p:grpSpPr>
          <p:sp>
            <p:nvSpPr>
              <p:cNvPr id="4696" name=""/>
              <p:cNvSpPr/>
              <p:nvPr/>
            </p:nvSpPr>
            <p:spPr>
              <a:xfrm>
                <a:off x="3160440" y="5029920"/>
                <a:ext cx="164160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3157560" y="5034600"/>
                <a:ext cx="16448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154320" y="5039280"/>
                <a:ext cx="1648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152880" y="5043600"/>
                <a:ext cx="164628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149640" y="5049720"/>
                <a:ext cx="1649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148200" y="5054400"/>
                <a:ext cx="16509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3145320" y="5058720"/>
                <a:ext cx="1652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142080" y="5063400"/>
                <a:ext cx="165564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140640" y="5068080"/>
                <a:ext cx="165708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7400" y="5071320"/>
                <a:ext cx="1657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34160" y="5075640"/>
                <a:ext cx="16603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132360" y="5079960"/>
                <a:ext cx="166212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129840" y="5087520"/>
                <a:ext cx="166356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128040" y="5090760"/>
                <a:ext cx="16653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124800" y="5095440"/>
                <a:ext cx="1668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121920" y="5099760"/>
                <a:ext cx="16682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120120" y="5104440"/>
                <a:ext cx="167004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116880" y="5109120"/>
                <a:ext cx="16729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15800" y="5113440"/>
                <a:ext cx="1671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3112560" y="5118120"/>
                <a:ext cx="167436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109320" y="5124240"/>
                <a:ext cx="1677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107880" y="5128560"/>
                <a:ext cx="1677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104640" y="5133240"/>
                <a:ext cx="16808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3103200" y="5137920"/>
                <a:ext cx="1682280" cy="2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3100320" y="5140800"/>
                <a:ext cx="168228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3097080" y="5145480"/>
                <a:ext cx="16851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095640" y="5150160"/>
                <a:ext cx="1686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3092400" y="5154480"/>
                <a:ext cx="168804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3089160" y="5160600"/>
                <a:ext cx="16912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087720" y="5165280"/>
                <a:ext cx="16927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3084840" y="5169600"/>
                <a:ext cx="16930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3083040" y="5174280"/>
                <a:ext cx="169488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3080160" y="5178960"/>
                <a:ext cx="16977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3076920" y="5183280"/>
                <a:ext cx="16977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3075120" y="5187960"/>
                <a:ext cx="169920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3072240" y="5190840"/>
                <a:ext cx="1702440" cy="7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3070800" y="5198400"/>
                <a:ext cx="17020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3067560" y="5203080"/>
                <a:ext cx="17053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064320" y="5207400"/>
                <a:ext cx="170856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062880" y="5210640"/>
                <a:ext cx="1707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059640" y="5214960"/>
                <a:ext cx="171036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3058560" y="5220000"/>
                <a:ext cx="17118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3055320" y="5224320"/>
                <a:ext cx="171180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3052080" y="5230440"/>
                <a:ext cx="17146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3050640" y="5235120"/>
                <a:ext cx="1716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047400" y="5239440"/>
                <a:ext cx="17175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3045960" y="5244120"/>
                <a:ext cx="17190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3043080" y="5248440"/>
                <a:ext cx="17222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3039840" y="5253120"/>
                <a:ext cx="172224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3038040" y="5257800"/>
                <a:ext cx="172404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5160" y="5261040"/>
                <a:ext cx="1726920" cy="7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1920" y="5268600"/>
                <a:ext cx="17283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30120" y="5272920"/>
                <a:ext cx="17301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027600" y="5277240"/>
                <a:ext cx="173304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025800" y="5280480"/>
                <a:ext cx="1731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022560" y="5284800"/>
                <a:ext cx="17348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019680" y="5289840"/>
                <a:ext cx="17377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3017880" y="5294160"/>
                <a:ext cx="17362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015000" y="5298840"/>
                <a:ext cx="1739520" cy="1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015000" y="1971000"/>
                <a:ext cx="2336040" cy="3329280"/>
              </a:xfrm>
              <a:custGeom>
                <a:avLst/>
                <a:gdLst/>
                <a:ahLst/>
                <a:rect l="l" t="t" r="r" b="b"/>
                <a:pathLst>
                  <a:path w="1508" h="2193">
                    <a:moveTo>
                      <a:pt x="0" y="2193"/>
                    </a:moveTo>
                    <a:lnTo>
                      <a:pt x="1154" y="0"/>
                    </a:lnTo>
                    <a:lnTo>
                      <a:pt x="1508" y="0"/>
                    </a:lnTo>
                    <a:lnTo>
                      <a:pt x="1123" y="2193"/>
                    </a:lnTo>
                    <a:lnTo>
                      <a:pt x="0" y="2193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5106240" y="3656160"/>
                <a:ext cx="551520" cy="923040"/>
              </a:xfrm>
              <a:custGeom>
                <a:avLst/>
                <a:gdLst/>
                <a:ahLst/>
                <a:rect l="l" t="t" r="r" b="b"/>
                <a:pathLst>
                  <a:path w="356" h="608">
                    <a:moveTo>
                      <a:pt x="31" y="0"/>
                    </a:moveTo>
                    <a:lnTo>
                      <a:pt x="29" y="64"/>
                    </a:lnTo>
                    <a:lnTo>
                      <a:pt x="34" y="125"/>
                    </a:lnTo>
                    <a:lnTo>
                      <a:pt x="44" y="182"/>
                    </a:lnTo>
                    <a:lnTo>
                      <a:pt x="60" y="237"/>
                    </a:lnTo>
                    <a:lnTo>
                      <a:pt x="82" y="290"/>
                    </a:lnTo>
                    <a:lnTo>
                      <a:pt x="110" y="339"/>
                    </a:lnTo>
                    <a:lnTo>
                      <a:pt x="142" y="383"/>
                    </a:lnTo>
                    <a:lnTo>
                      <a:pt x="179" y="422"/>
                    </a:lnTo>
                    <a:lnTo>
                      <a:pt x="218" y="451"/>
                    </a:lnTo>
                    <a:lnTo>
                      <a:pt x="259" y="475"/>
                    </a:lnTo>
                    <a:lnTo>
                      <a:pt x="304" y="491"/>
                    </a:lnTo>
                    <a:lnTo>
                      <a:pt x="330" y="497"/>
                    </a:lnTo>
                    <a:lnTo>
                      <a:pt x="356" y="501"/>
                    </a:lnTo>
                    <a:lnTo>
                      <a:pt x="356" y="608"/>
                    </a:lnTo>
                    <a:lnTo>
                      <a:pt x="319" y="600"/>
                    </a:lnTo>
                    <a:lnTo>
                      <a:pt x="285" y="590"/>
                    </a:lnTo>
                    <a:lnTo>
                      <a:pt x="253" y="579"/>
                    </a:lnTo>
                    <a:lnTo>
                      <a:pt x="222" y="567"/>
                    </a:lnTo>
                    <a:lnTo>
                      <a:pt x="195" y="553"/>
                    </a:lnTo>
                    <a:lnTo>
                      <a:pt x="168" y="537"/>
                    </a:lnTo>
                    <a:lnTo>
                      <a:pt x="119" y="501"/>
                    </a:lnTo>
                    <a:lnTo>
                      <a:pt x="98" y="480"/>
                    </a:lnTo>
                    <a:lnTo>
                      <a:pt x="79" y="458"/>
                    </a:lnTo>
                    <a:lnTo>
                      <a:pt x="61" y="434"/>
                    </a:lnTo>
                    <a:lnTo>
                      <a:pt x="45" y="409"/>
                    </a:lnTo>
                    <a:lnTo>
                      <a:pt x="31" y="382"/>
                    </a:lnTo>
                    <a:lnTo>
                      <a:pt x="20" y="353"/>
                    </a:lnTo>
                    <a:lnTo>
                      <a:pt x="8" y="323"/>
                    </a:lnTo>
                    <a:lnTo>
                      <a:pt x="0" y="29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5351040" y="1971000"/>
                <a:ext cx="92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5347800" y="1979640"/>
                <a:ext cx="92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5346360" y="1993680"/>
                <a:ext cx="94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5346360" y="1994760"/>
                <a:ext cx="910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5343120" y="2008800"/>
                <a:ext cx="9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5343120" y="2010240"/>
                <a:ext cx="928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341680" y="202068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341680" y="2025720"/>
                <a:ext cx="910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5338440" y="203580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338440" y="2040840"/>
                <a:ext cx="925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5335560" y="2049840"/>
                <a:ext cx="957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5335560" y="2055960"/>
                <a:ext cx="9288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5334120" y="206352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5334120" y="2071080"/>
                <a:ext cx="9108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5330880" y="207864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5330880" y="2086200"/>
                <a:ext cx="92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5329080" y="2090520"/>
                <a:ext cx="943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5329080" y="2101320"/>
                <a:ext cx="914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5326200" y="2105640"/>
                <a:ext cx="94320" cy="1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326200" y="2118240"/>
                <a:ext cx="91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5323320" y="2119680"/>
                <a:ext cx="9432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5323320" y="2133360"/>
                <a:ext cx="9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5321520" y="2134800"/>
                <a:ext cx="9432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5318640" y="2148480"/>
                <a:ext cx="943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5318640" y="2160360"/>
                <a:ext cx="92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5315400" y="2163600"/>
                <a:ext cx="957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5313600" y="2175840"/>
                <a:ext cx="9432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313600" y="2184840"/>
                <a:ext cx="9432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310720" y="2189520"/>
                <a:ext cx="9720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5310720" y="2190960"/>
                <a:ext cx="9432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309280" y="2204640"/>
                <a:ext cx="9612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309280" y="2206080"/>
                <a:ext cx="94320" cy="122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306040" y="2218320"/>
                <a:ext cx="9756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5306040" y="2223000"/>
                <a:ext cx="94320" cy="10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5302800" y="2233440"/>
                <a:ext cx="9756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5302800" y="2238120"/>
                <a:ext cx="9612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5301360" y="2245680"/>
                <a:ext cx="9756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5301360" y="2253240"/>
                <a:ext cx="9432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298120" y="2260800"/>
                <a:ext cx="9756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298120" y="2268360"/>
                <a:ext cx="94320" cy="6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5296680" y="2274480"/>
                <a:ext cx="9576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5296680" y="2283480"/>
                <a:ext cx="94320" cy="6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5293800" y="2289600"/>
                <a:ext cx="9756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5293800" y="2298600"/>
                <a:ext cx="94320" cy="4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290560" y="2303280"/>
                <a:ext cx="97560" cy="10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290560" y="2313720"/>
                <a:ext cx="96120" cy="1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89120" y="231552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89120" y="2329200"/>
                <a:ext cx="9432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85880" y="233064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284440" y="2344320"/>
                <a:ext cx="95760" cy="15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81200" y="2359440"/>
                <a:ext cx="97560" cy="13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78320" y="2373120"/>
                <a:ext cx="100800" cy="1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78320" y="237456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5276880" y="2388600"/>
                <a:ext cx="9900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5276880" y="2389680"/>
                <a:ext cx="9720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5276880" y="2398680"/>
                <a:ext cx="97200" cy="1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5273640" y="2400480"/>
                <a:ext cx="10044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5273640" y="2404800"/>
                <a:ext cx="9756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5271840" y="2415600"/>
                <a:ext cx="9936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5271840" y="2420280"/>
                <a:ext cx="96120" cy="900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5268600" y="2429280"/>
                <a:ext cx="99360" cy="57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5268600" y="2435400"/>
                <a:ext cx="97560" cy="900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5265720" y="2444400"/>
                <a:ext cx="100440" cy="57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5265720" y="2450520"/>
                <a:ext cx="97200" cy="75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5264280" y="2458080"/>
                <a:ext cx="99000" cy="75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264280" y="2465640"/>
                <a:ext cx="96120" cy="46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261040" y="2470320"/>
                <a:ext cx="99360" cy="11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261040" y="2482560"/>
                <a:ext cx="97560" cy="2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258160" y="2485440"/>
                <a:ext cx="100440" cy="11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258160" y="2497680"/>
                <a:ext cx="97200" cy="10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256360" y="2499120"/>
                <a:ext cx="99000" cy="136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256360" y="2512800"/>
                <a:ext cx="97560" cy="1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253120" y="2514600"/>
                <a:ext cx="100800" cy="13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251680" y="2527920"/>
                <a:ext cx="99000" cy="122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251680" y="2540160"/>
                <a:ext cx="95760" cy="25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248800" y="2543040"/>
                <a:ext cx="99000" cy="122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245560" y="2555280"/>
                <a:ext cx="100800" cy="151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5244120" y="2570400"/>
                <a:ext cx="99000" cy="13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240880" y="2584080"/>
                <a:ext cx="101880" cy="2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5240880" y="2586960"/>
                <a:ext cx="10080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5239440" y="2597760"/>
                <a:ext cx="10188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239440" y="2602080"/>
                <a:ext cx="9900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236560" y="2612880"/>
                <a:ext cx="10188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236560" y="2617560"/>
                <a:ext cx="9900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233320" y="2625120"/>
                <a:ext cx="10188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233320" y="2632680"/>
                <a:ext cx="10080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231880" y="2640600"/>
                <a:ext cx="10188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231880" y="2648160"/>
                <a:ext cx="99000" cy="57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228640" y="2653920"/>
                <a:ext cx="101880" cy="90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228640" y="2663280"/>
                <a:ext cx="100440" cy="57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226840" y="2669040"/>
                <a:ext cx="101880" cy="90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226840" y="2678400"/>
                <a:ext cx="9936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223960" y="268272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223960" y="2693520"/>
                <a:ext cx="9900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221080" y="269784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221080" y="2708640"/>
                <a:ext cx="10044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219280" y="2710080"/>
                <a:ext cx="10188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216400" y="2723760"/>
                <a:ext cx="101880" cy="151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214600" y="2738880"/>
                <a:ext cx="10080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211360" y="2752560"/>
                <a:ext cx="10368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211360" y="2754000"/>
                <a:ext cx="10188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208120" y="2767680"/>
                <a:ext cx="10512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208120" y="2769120"/>
                <a:ext cx="10224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207040" y="2779920"/>
                <a:ext cx="10368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207040" y="278424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203800" y="2795040"/>
                <a:ext cx="105120" cy="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203800" y="2799720"/>
                <a:ext cx="101880" cy="86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200560" y="2808720"/>
                <a:ext cx="105120" cy="61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200560" y="2815200"/>
                <a:ext cx="101880" cy="86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99120" y="2823840"/>
                <a:ext cx="103320" cy="2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99120" y="2827080"/>
                <a:ext cx="10332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5199120" y="2830320"/>
                <a:ext cx="10188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195880" y="2837880"/>
                <a:ext cx="1051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95880" y="2846520"/>
                <a:ext cx="10188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94440" y="2853000"/>
                <a:ext cx="1033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94440" y="286200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91560" y="286488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91560" y="2877120"/>
                <a:ext cx="101880" cy="1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88320" y="2878560"/>
                <a:ext cx="105120" cy="136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88320" y="2892600"/>
                <a:ext cx="101880" cy="10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86880" y="2894040"/>
                <a:ext cx="103320" cy="10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86880" y="290448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83640" y="290772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83640" y="291960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82200" y="2922840"/>
                <a:ext cx="1033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8960" y="2934720"/>
                <a:ext cx="105120" cy="16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295164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4280" y="2963880"/>
                <a:ext cx="10692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4280" y="2966760"/>
                <a:ext cx="10368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1400" y="2979000"/>
                <a:ext cx="10656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1400" y="2981880"/>
                <a:ext cx="105120" cy="10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69600" y="2992680"/>
                <a:ext cx="106920" cy="43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69600" y="2997000"/>
                <a:ext cx="10368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66360" y="3004560"/>
                <a:ext cx="10692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66360" y="3012480"/>
                <a:ext cx="1051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63840" y="3021120"/>
                <a:ext cx="10800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63840" y="3027600"/>
                <a:ext cx="10476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62040" y="3033720"/>
                <a:ext cx="106560" cy="57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62040" y="3039480"/>
                <a:ext cx="106560" cy="2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6" name=""/>
            <p:cNvGrpSpPr/>
            <p:nvPr/>
          </p:nvGrpSpPr>
          <p:grpSpPr>
            <a:xfrm>
              <a:off x="4941360" y="3043080"/>
              <a:ext cx="324720" cy="1485720"/>
              <a:chOff x="4941360" y="3043080"/>
              <a:chExt cx="324720" cy="1485720"/>
            </a:xfrm>
          </p:grpSpPr>
          <p:sp>
            <p:nvSpPr>
              <p:cNvPr id="4897" name=""/>
              <p:cNvSpPr/>
              <p:nvPr/>
            </p:nvSpPr>
            <p:spPr>
              <a:xfrm>
                <a:off x="5162400" y="3043080"/>
                <a:ext cx="103680" cy="61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59160" y="3049200"/>
                <a:ext cx="106920" cy="86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59160" y="3058200"/>
                <a:ext cx="10512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57720" y="3062520"/>
                <a:ext cx="106560" cy="10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57720" y="3073320"/>
                <a:ext cx="103320" cy="46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54480" y="3078000"/>
                <a:ext cx="106560" cy="100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54480" y="3088440"/>
                <a:ext cx="10368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51600" y="3090240"/>
                <a:ext cx="106920" cy="136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51600" y="3103920"/>
                <a:ext cx="105120" cy="25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50160" y="3106440"/>
                <a:ext cx="106560" cy="122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46920" y="3119040"/>
                <a:ext cx="106560" cy="13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143680" y="3132360"/>
                <a:ext cx="10980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143680" y="3134160"/>
                <a:ext cx="108360" cy="13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142240" y="3147480"/>
                <a:ext cx="10980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142240" y="3149280"/>
                <a:ext cx="106560" cy="10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139360" y="3160080"/>
                <a:ext cx="10980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139360" y="3164400"/>
                <a:ext cx="106560" cy="11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137920" y="3176640"/>
                <a:ext cx="108000" cy="2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137920" y="3179520"/>
                <a:ext cx="106560" cy="86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134680" y="3188520"/>
                <a:ext cx="109800" cy="61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134680" y="3194640"/>
                <a:ext cx="10656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131440" y="3204000"/>
                <a:ext cx="109800" cy="75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131440" y="3211560"/>
                <a:ext cx="108360" cy="57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130000" y="3217320"/>
                <a:ext cx="10980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130000" y="3226680"/>
                <a:ext cx="106560" cy="57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126760" y="3232440"/>
                <a:ext cx="10980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126760" y="3241800"/>
                <a:ext cx="10656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124960" y="3246480"/>
                <a:ext cx="108360" cy="75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124960" y="3254040"/>
                <a:ext cx="10836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124960" y="3256920"/>
                <a:ext cx="10692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122440" y="3261600"/>
                <a:ext cx="109800" cy="75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122440" y="3269160"/>
                <a:ext cx="10656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119200" y="327348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119200" y="3284280"/>
                <a:ext cx="10800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117400" y="3287160"/>
                <a:ext cx="10980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117400" y="3299400"/>
                <a:ext cx="10692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114160" y="3302280"/>
                <a:ext cx="110160" cy="136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112720" y="3316320"/>
                <a:ext cx="108360" cy="151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09840" y="3331440"/>
                <a:ext cx="10980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06600" y="3343320"/>
                <a:ext cx="11304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106600" y="3346560"/>
                <a:ext cx="11016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105160" y="3358440"/>
                <a:ext cx="11160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105160" y="336168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101920" y="3372480"/>
                <a:ext cx="11304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101920" y="337680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098680" y="3387600"/>
                <a:ext cx="11304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098680" y="3391920"/>
                <a:ext cx="10980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097240" y="3401280"/>
                <a:ext cx="111240" cy="57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097240" y="3407040"/>
                <a:ext cx="109800" cy="61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094360" y="3413160"/>
                <a:ext cx="11304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094360" y="3422520"/>
                <a:ext cx="109800" cy="57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092920" y="3428280"/>
                <a:ext cx="11124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092920" y="3437640"/>
                <a:ext cx="10800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089680" y="3442320"/>
                <a:ext cx="11124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089680" y="3452760"/>
                <a:ext cx="10980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086440" y="3457440"/>
                <a:ext cx="11304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086440" y="3467880"/>
                <a:ext cx="109800" cy="2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085000" y="3471120"/>
                <a:ext cx="11124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085000" y="3483360"/>
                <a:ext cx="109800" cy="2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082120" y="3486240"/>
                <a:ext cx="11304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080320" y="3498480"/>
                <a:ext cx="111600" cy="15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077440" y="3513600"/>
                <a:ext cx="111240" cy="13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074200" y="3527280"/>
                <a:ext cx="114120" cy="10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074200" y="3528720"/>
                <a:ext cx="113040" cy="13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072400" y="3542400"/>
                <a:ext cx="114480" cy="10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072400" y="3543840"/>
                <a:ext cx="111600" cy="122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069520" y="3556080"/>
                <a:ext cx="114120" cy="25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069520" y="3558960"/>
                <a:ext cx="113040" cy="900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068080" y="3568320"/>
                <a:ext cx="11448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068080" y="3575880"/>
                <a:ext cx="11160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064840" y="3583440"/>
                <a:ext cx="11448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064840" y="3591000"/>
                <a:ext cx="111600" cy="6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061960" y="3597120"/>
                <a:ext cx="114120" cy="86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061960" y="3606120"/>
                <a:ext cx="112680" cy="6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060160" y="3612240"/>
                <a:ext cx="114120" cy="86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060160" y="3621240"/>
                <a:ext cx="11160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056920" y="3625560"/>
                <a:ext cx="114480" cy="10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056920" y="3636360"/>
                <a:ext cx="113040" cy="4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055480" y="3641040"/>
                <a:ext cx="11412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055480" y="3648600"/>
                <a:ext cx="11124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052600" y="3653280"/>
                <a:ext cx="114120" cy="10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052600" y="3664080"/>
                <a:ext cx="11160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049360" y="3668400"/>
                <a:ext cx="11448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049360" y="3680280"/>
                <a:ext cx="113040" cy="1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047920" y="3682080"/>
                <a:ext cx="114120" cy="13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44680" y="3695760"/>
                <a:ext cx="114120" cy="15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41440" y="3710880"/>
                <a:ext cx="115920" cy="122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40360" y="3723120"/>
                <a:ext cx="117360" cy="25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0360" y="3726000"/>
                <a:ext cx="114120" cy="122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37120" y="3738240"/>
                <a:ext cx="117360" cy="28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37120" y="3741480"/>
                <a:ext cx="114120" cy="100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35680" y="3751560"/>
                <a:ext cx="115560" cy="4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35680" y="3756600"/>
                <a:ext cx="1141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032440" y="3767040"/>
                <a:ext cx="11736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032440" y="3771720"/>
                <a:ext cx="11412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029200" y="3780720"/>
                <a:ext cx="11736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029200" y="3786840"/>
                <a:ext cx="11412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27760" y="3795840"/>
                <a:ext cx="11556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27760" y="3801960"/>
                <a:ext cx="11412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4880" y="3808080"/>
                <a:ext cx="11736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24880" y="3817080"/>
                <a:ext cx="11412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23080" y="3821400"/>
                <a:ext cx="1159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23080" y="3832200"/>
                <a:ext cx="11448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20200" y="3836880"/>
                <a:ext cx="117360" cy="13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16960" y="3850560"/>
                <a:ext cx="117360" cy="15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015160" y="3865680"/>
                <a:ext cx="115920" cy="118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011920" y="3877560"/>
                <a:ext cx="119160" cy="4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011920" y="3882600"/>
                <a:ext cx="1177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010840" y="3893040"/>
                <a:ext cx="119160" cy="25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010840" y="3895920"/>
                <a:ext cx="11916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010840" y="3897720"/>
                <a:ext cx="115920" cy="86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007600" y="3906720"/>
                <a:ext cx="119160" cy="6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007600" y="3912840"/>
                <a:ext cx="117360" cy="86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004360" y="3921840"/>
                <a:ext cx="120600" cy="900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004360" y="3931200"/>
                <a:ext cx="117720" cy="43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002920" y="3935520"/>
                <a:ext cx="11916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999680" y="3950640"/>
                <a:ext cx="12240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999680" y="3952440"/>
                <a:ext cx="119160" cy="100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998240" y="3962880"/>
                <a:ext cx="12060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995360" y="3976560"/>
                <a:ext cx="12384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995360" y="3978360"/>
                <a:ext cx="122040" cy="133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992120" y="3991680"/>
                <a:ext cx="12528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990680" y="4005360"/>
                <a:ext cx="12348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987440" y="4020480"/>
                <a:ext cx="126720" cy="10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987440" y="4031280"/>
                <a:ext cx="125280" cy="10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984200" y="4032720"/>
                <a:ext cx="12816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983120" y="4047840"/>
                <a:ext cx="12960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979880" y="4061520"/>
                <a:ext cx="13284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978080" y="4076640"/>
                <a:ext cx="13464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975200" y="4090320"/>
                <a:ext cx="137520" cy="118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971960" y="4102560"/>
                <a:ext cx="140760" cy="756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971960" y="4110120"/>
                <a:ext cx="14076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970160" y="4117680"/>
                <a:ext cx="14220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967640" y="4131360"/>
                <a:ext cx="145080" cy="151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965840" y="4146480"/>
                <a:ext cx="14688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62600" y="4160160"/>
                <a:ext cx="15012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62600" y="4167720"/>
                <a:ext cx="15156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59720" y="4175280"/>
                <a:ext cx="154440" cy="118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957920" y="4187520"/>
                <a:ext cx="15588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957920" y="4201200"/>
                <a:ext cx="159120" cy="1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955040" y="4202640"/>
                <a:ext cx="16236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953600" y="4216320"/>
                <a:ext cx="16560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950360" y="4230360"/>
                <a:ext cx="168840" cy="43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950360" y="4234680"/>
                <a:ext cx="171720" cy="10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947120" y="4245480"/>
                <a:ext cx="174960" cy="1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947120" y="4246560"/>
                <a:ext cx="17784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947120" y="4255560"/>
                <a:ext cx="179640" cy="1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945680" y="4257360"/>
                <a:ext cx="18108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945680" y="4266360"/>
                <a:ext cx="183960" cy="61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942440" y="4272480"/>
                <a:ext cx="187200" cy="28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942440" y="4275720"/>
                <a:ext cx="18864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942440" y="4284720"/>
                <a:ext cx="191880" cy="1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941360" y="4286160"/>
                <a:ext cx="19332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941360" y="4295160"/>
                <a:ext cx="196560" cy="900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941360" y="4304520"/>
                <a:ext cx="198000" cy="10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941360" y="4314960"/>
                <a:ext cx="20088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941360" y="4322880"/>
                <a:ext cx="202320" cy="86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4941360" y="4331880"/>
                <a:ext cx="20556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41360" y="4339440"/>
                <a:ext cx="20880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41360" y="4345560"/>
                <a:ext cx="2102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4941360" y="4349880"/>
                <a:ext cx="21312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4941360" y="4356360"/>
                <a:ext cx="216360" cy="57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4941360" y="4362120"/>
                <a:ext cx="2178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4941360" y="4369680"/>
                <a:ext cx="22104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4941360" y="4375800"/>
                <a:ext cx="222840" cy="57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4941360" y="4381560"/>
                <a:ext cx="2257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4941360" y="4389480"/>
                <a:ext cx="228600" cy="25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4941360" y="4392360"/>
                <a:ext cx="2304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4941360" y="4399920"/>
                <a:ext cx="23328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4941360" y="4406040"/>
                <a:ext cx="23508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4941360" y="4412160"/>
                <a:ext cx="2383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4941360" y="4416840"/>
                <a:ext cx="24120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4942440" y="4419720"/>
                <a:ext cx="24012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4942440" y="4421160"/>
                <a:ext cx="24120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4942440" y="4427280"/>
                <a:ext cx="2444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4942440" y="4431960"/>
                <a:ext cx="24588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4942440" y="4436280"/>
                <a:ext cx="2491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4942440" y="4443840"/>
                <a:ext cx="25236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4945680" y="4445640"/>
                <a:ext cx="24912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4945680" y="4447080"/>
                <a:ext cx="25056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4945680" y="4451400"/>
                <a:ext cx="2538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945680" y="4458960"/>
                <a:ext cx="25488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4945680" y="4462200"/>
                <a:ext cx="25812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947120" y="4465440"/>
                <a:ext cx="25668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947120" y="4466520"/>
                <a:ext cx="2599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4947120" y="4474440"/>
                <a:ext cx="26136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4947120" y="4479120"/>
                <a:ext cx="26460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947120" y="4482000"/>
                <a:ext cx="267840" cy="25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950360" y="4484880"/>
                <a:ext cx="26460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950360" y="4486680"/>
                <a:ext cx="2664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4950360" y="4491000"/>
                <a:ext cx="2689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4950360" y="4495680"/>
                <a:ext cx="2707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4950360" y="4500000"/>
                <a:ext cx="27396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4950360" y="4505040"/>
                <a:ext cx="27684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4953600" y="4506120"/>
                <a:ext cx="2754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4953600" y="4510800"/>
                <a:ext cx="27864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4953600" y="4515480"/>
                <a:ext cx="28008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4953600" y="4520160"/>
                <a:ext cx="28296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4953600" y="4521600"/>
                <a:ext cx="2862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4953600" y="4525920"/>
                <a:ext cx="28764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7" name=""/>
            <p:cNvGrpSpPr/>
            <p:nvPr/>
          </p:nvGrpSpPr>
          <p:grpSpPr>
            <a:xfrm>
              <a:off x="4955040" y="4529520"/>
              <a:ext cx="810000" cy="568800"/>
              <a:chOff x="4955040" y="4529520"/>
              <a:chExt cx="810000" cy="568800"/>
            </a:xfrm>
          </p:grpSpPr>
          <p:sp>
            <p:nvSpPr>
              <p:cNvPr id="5098" name=""/>
              <p:cNvSpPr/>
              <p:nvPr/>
            </p:nvSpPr>
            <p:spPr>
              <a:xfrm>
                <a:off x="4955040" y="4529520"/>
                <a:ext cx="28656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955040" y="4530960"/>
                <a:ext cx="2894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4955040" y="4535640"/>
                <a:ext cx="29088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955040" y="4537080"/>
                <a:ext cx="2908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955040" y="4539960"/>
                <a:ext cx="29412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55040" y="4541760"/>
                <a:ext cx="2973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4955040" y="4546080"/>
                <a:ext cx="29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4957920" y="4550760"/>
                <a:ext cx="29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4957920" y="4555080"/>
                <a:ext cx="300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4957920" y="4559760"/>
                <a:ext cx="3034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4957920" y="4561200"/>
                <a:ext cx="3063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4957920" y="4565880"/>
                <a:ext cx="3081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4959720" y="4567320"/>
                <a:ext cx="30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4959720" y="4570200"/>
                <a:ext cx="30924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4959720" y="4575240"/>
                <a:ext cx="3124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4959720" y="4576320"/>
                <a:ext cx="3142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4959720" y="4581000"/>
                <a:ext cx="3175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4962600" y="4585320"/>
                <a:ext cx="31608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4962600" y="4590360"/>
                <a:ext cx="3189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4962600" y="4591800"/>
                <a:ext cx="3222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4962600" y="4596120"/>
                <a:ext cx="32364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962600" y="4600440"/>
                <a:ext cx="3268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4965840" y="4602240"/>
                <a:ext cx="3250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4965840" y="4606920"/>
                <a:ext cx="3283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4965840" y="4611240"/>
                <a:ext cx="33156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4965840" y="4615920"/>
                <a:ext cx="33264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965840" y="4618800"/>
                <a:ext cx="3358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4967640" y="4620600"/>
                <a:ext cx="3340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967640" y="4622040"/>
                <a:ext cx="3355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967640" y="4626360"/>
                <a:ext cx="33876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4967640" y="4631040"/>
                <a:ext cx="3420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4967640" y="4634280"/>
                <a:ext cx="34380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4970160" y="4637160"/>
                <a:ext cx="3438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4970160" y="4640040"/>
                <a:ext cx="345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970160" y="4644720"/>
                <a:ext cx="3484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970160" y="4646520"/>
                <a:ext cx="351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970160" y="4649400"/>
                <a:ext cx="3531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971960" y="4654080"/>
                <a:ext cx="354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971960" y="4655160"/>
                <a:ext cx="3574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971960" y="4659840"/>
                <a:ext cx="3592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971960" y="4661640"/>
                <a:ext cx="3621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975200" y="4665960"/>
                <a:ext cx="3607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975200" y="4669200"/>
                <a:ext cx="363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975200" y="4670280"/>
                <a:ext cx="36684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975200" y="4675320"/>
                <a:ext cx="3682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4975200" y="4676760"/>
                <a:ext cx="3715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4978080" y="4679640"/>
                <a:ext cx="36864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4978080" y="4681080"/>
                <a:ext cx="3700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4978080" y="4684320"/>
                <a:ext cx="3733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4978080" y="4687200"/>
                <a:ext cx="3762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979880" y="4690440"/>
                <a:ext cx="3762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4979880" y="4691880"/>
                <a:ext cx="3790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4979880" y="4696200"/>
                <a:ext cx="3808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4979880" y="4699440"/>
                <a:ext cx="3837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4983120" y="4703760"/>
                <a:ext cx="38376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4983120" y="4705560"/>
                <a:ext cx="3855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4983120" y="4707000"/>
                <a:ext cx="38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4983120" y="4711320"/>
                <a:ext cx="3913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984200" y="4714560"/>
                <a:ext cx="3916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4984200" y="4716360"/>
                <a:ext cx="39492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4984200" y="4718880"/>
                <a:ext cx="39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4987440" y="4722120"/>
                <a:ext cx="39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4987440" y="4725000"/>
                <a:ext cx="39960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4987440" y="4726800"/>
                <a:ext cx="40104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4987440" y="4729680"/>
                <a:ext cx="4042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4990680" y="4731480"/>
                <a:ext cx="40104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4990680" y="4734360"/>
                <a:ext cx="4024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4990680" y="4735800"/>
                <a:ext cx="405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4990680" y="4739040"/>
                <a:ext cx="408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4992120" y="4740120"/>
                <a:ext cx="408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4992120" y="4744800"/>
                <a:ext cx="41184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4992120" y="4746600"/>
                <a:ext cx="41364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4995360" y="4749480"/>
                <a:ext cx="4132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4995360" y="4750920"/>
                <a:ext cx="41652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4995360" y="4755600"/>
                <a:ext cx="4183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4998240" y="4757040"/>
                <a:ext cx="4179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4998240" y="4760280"/>
                <a:ext cx="4197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4998240" y="4761720"/>
                <a:ext cx="4226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4999680" y="4764600"/>
                <a:ext cx="42120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999680" y="4766040"/>
                <a:ext cx="4240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4999680" y="4769280"/>
                <a:ext cx="4258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4999680" y="4770720"/>
                <a:ext cx="4291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5002920" y="4773600"/>
                <a:ext cx="4287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002920" y="4775400"/>
                <a:ext cx="4305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002920" y="4776840"/>
                <a:ext cx="433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5002920" y="4779720"/>
                <a:ext cx="4348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004360" y="4781160"/>
                <a:ext cx="4366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5004360" y="4784400"/>
                <a:ext cx="43992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04360" y="4788720"/>
                <a:ext cx="4413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007600" y="4790520"/>
                <a:ext cx="441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007600" y="4791960"/>
                <a:ext cx="442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007600" y="4794840"/>
                <a:ext cx="4460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007600" y="4796280"/>
                <a:ext cx="4489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010840" y="4799520"/>
                <a:ext cx="4474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010840" y="4801320"/>
                <a:ext cx="45036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010840" y="4803840"/>
                <a:ext cx="4521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010840" y="4805640"/>
                <a:ext cx="4554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12280" y="4808880"/>
                <a:ext cx="4568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12280" y="4810320"/>
                <a:ext cx="4586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12280" y="4811400"/>
                <a:ext cx="4629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015160" y="4814640"/>
                <a:ext cx="4629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015160" y="4816440"/>
                <a:ext cx="46620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015160" y="4818960"/>
                <a:ext cx="46764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015160" y="4820760"/>
                <a:ext cx="470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016960" y="4824000"/>
                <a:ext cx="4723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016960" y="4825440"/>
                <a:ext cx="4737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016960" y="4826880"/>
                <a:ext cx="47700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016960" y="4829760"/>
                <a:ext cx="4813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020200" y="4831560"/>
                <a:ext cx="4813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020200" y="4834440"/>
                <a:ext cx="4827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020200" y="4835880"/>
                <a:ext cx="487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020200" y="4839120"/>
                <a:ext cx="4906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023080" y="4840560"/>
                <a:ext cx="4910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023080" y="4843440"/>
                <a:ext cx="495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023080" y="4844880"/>
                <a:ext cx="4971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023080" y="4846680"/>
                <a:ext cx="5004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024880" y="4849560"/>
                <a:ext cx="5014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024880" y="4851000"/>
                <a:ext cx="5065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024880" y="4854240"/>
                <a:ext cx="50760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027760" y="4855680"/>
                <a:ext cx="5076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027760" y="4858560"/>
                <a:ext cx="5122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027760" y="4860360"/>
                <a:ext cx="5155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029200" y="4861800"/>
                <a:ext cx="5173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029200" y="4864680"/>
                <a:ext cx="5216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029200" y="4866120"/>
                <a:ext cx="5230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032440" y="4869360"/>
                <a:ext cx="5263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032440" y="4870800"/>
                <a:ext cx="5310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5032440" y="4873680"/>
                <a:ext cx="5356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5035680" y="4875480"/>
                <a:ext cx="53712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5035680" y="4878360"/>
                <a:ext cx="5418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5035680" y="4880160"/>
                <a:ext cx="5482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5037120" y="4881240"/>
                <a:ext cx="5511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5037120" y="4884480"/>
                <a:ext cx="5544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5040360" y="4886280"/>
                <a:ext cx="55584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5040360" y="4888800"/>
                <a:ext cx="5605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5040360" y="4890600"/>
                <a:ext cx="564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5041800" y="4893840"/>
                <a:ext cx="5684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5041800" y="4895280"/>
                <a:ext cx="5745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5041800" y="4896360"/>
                <a:ext cx="578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5044680" y="4899600"/>
                <a:ext cx="5839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44680" y="4901400"/>
                <a:ext cx="59004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44680" y="4903920"/>
                <a:ext cx="5976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5047920" y="4905720"/>
                <a:ext cx="6022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5047920" y="4908960"/>
                <a:ext cx="6098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5047920" y="4910400"/>
                <a:ext cx="614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5049360" y="4913280"/>
                <a:ext cx="621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5049360" y="4914720"/>
                <a:ext cx="6289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5049360" y="4916520"/>
                <a:ext cx="636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5052600" y="4919400"/>
                <a:ext cx="639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5052600" y="4920840"/>
                <a:ext cx="654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5052600" y="4924080"/>
                <a:ext cx="6706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5055840" y="4925520"/>
                <a:ext cx="6800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5055840" y="4928400"/>
                <a:ext cx="6937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5055840" y="4929840"/>
                <a:ext cx="7092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5056920" y="4931640"/>
                <a:ext cx="708120" cy="756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60160" y="4939200"/>
                <a:ext cx="704880" cy="61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61960" y="4945320"/>
                <a:ext cx="703080" cy="576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5064840" y="4951080"/>
                <a:ext cx="70020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5068080" y="4955760"/>
                <a:ext cx="696960" cy="46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5068080" y="4960440"/>
                <a:ext cx="6969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5069880" y="4963320"/>
                <a:ext cx="695160" cy="61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5072400" y="4969440"/>
                <a:ext cx="692640" cy="61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5074200" y="4975560"/>
                <a:ext cx="690840" cy="756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5077440" y="4983120"/>
                <a:ext cx="687600" cy="576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5080320" y="4989240"/>
                <a:ext cx="68472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5082120" y="4993920"/>
                <a:ext cx="6829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5085000" y="4998240"/>
                <a:ext cx="6800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5086440" y="5001480"/>
                <a:ext cx="6786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5089680" y="5005800"/>
                <a:ext cx="67536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5092920" y="5010480"/>
                <a:ext cx="6721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5094360" y="5014800"/>
                <a:ext cx="67068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097600" y="5019840"/>
                <a:ext cx="66744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099040" y="5024160"/>
                <a:ext cx="6660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101920" y="5028480"/>
                <a:ext cx="6631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105160" y="5033160"/>
                <a:ext cx="659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106600" y="5036400"/>
                <a:ext cx="6584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109840" y="5039280"/>
                <a:ext cx="6552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113080" y="5043960"/>
                <a:ext cx="65196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114160" y="5045400"/>
                <a:ext cx="65088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5117400" y="5048280"/>
                <a:ext cx="64764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5119200" y="5052960"/>
                <a:ext cx="645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5122440" y="5054400"/>
                <a:ext cx="642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5125320" y="5055840"/>
                <a:ext cx="63972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5127120" y="5060520"/>
                <a:ext cx="63792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5130000" y="5063400"/>
                <a:ext cx="6350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5131440" y="5065200"/>
                <a:ext cx="631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5131440" y="5068080"/>
                <a:ext cx="6285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5134680" y="5069520"/>
                <a:ext cx="6224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5137920" y="5071320"/>
                <a:ext cx="6177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5139360" y="5074200"/>
                <a:ext cx="6163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5142600" y="5075640"/>
                <a:ext cx="609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5143680" y="5078880"/>
                <a:ext cx="6055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5143680" y="5080320"/>
                <a:ext cx="6040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5146920" y="5083200"/>
                <a:ext cx="597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5150160" y="5084640"/>
                <a:ext cx="5932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5151600" y="5087880"/>
                <a:ext cx="588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5154840" y="5089320"/>
                <a:ext cx="5821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5157720" y="5091120"/>
                <a:ext cx="578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5159160" y="5094000"/>
                <a:ext cx="5763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5162400" y="5095440"/>
                <a:ext cx="569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8" name=""/>
            <p:cNvGrpSpPr/>
            <p:nvPr/>
          </p:nvGrpSpPr>
          <p:grpSpPr>
            <a:xfrm>
              <a:off x="3792960" y="1705320"/>
              <a:ext cx="2425680" cy="3677040"/>
              <a:chOff x="3792960" y="1705320"/>
              <a:chExt cx="2425680" cy="3677040"/>
            </a:xfrm>
          </p:grpSpPr>
          <p:sp>
            <p:nvSpPr>
              <p:cNvPr id="5299" name=""/>
              <p:cNvSpPr/>
              <p:nvPr/>
            </p:nvSpPr>
            <p:spPr>
              <a:xfrm>
                <a:off x="5162040" y="5098680"/>
                <a:ext cx="5684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5163840" y="5099760"/>
                <a:ext cx="563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5166720" y="5103000"/>
                <a:ext cx="5576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5169960" y="5104800"/>
                <a:ext cx="5529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5171760" y="5106240"/>
                <a:ext cx="5482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5174280" y="5109120"/>
                <a:ext cx="543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5176080" y="5110560"/>
                <a:ext cx="541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5179320" y="5113800"/>
                <a:ext cx="53568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5182560" y="5114880"/>
                <a:ext cx="5295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5184000" y="5118120"/>
                <a:ext cx="5263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5187240" y="5119920"/>
                <a:ext cx="5202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5188320" y="5121360"/>
                <a:ext cx="5173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5191560" y="5124240"/>
                <a:ext cx="510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5194800" y="5125680"/>
                <a:ext cx="5047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96240" y="5128920"/>
                <a:ext cx="501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199480" y="5130360"/>
                <a:ext cx="4986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5200920" y="5133240"/>
                <a:ext cx="4939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5203800" y="5135040"/>
                <a:ext cx="487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207040" y="5138280"/>
                <a:ext cx="4831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208480" y="5139360"/>
                <a:ext cx="4788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5211720" y="5140800"/>
                <a:ext cx="4741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214960" y="5144040"/>
                <a:ext cx="4676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216760" y="5145840"/>
                <a:ext cx="4629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219280" y="5148360"/>
                <a:ext cx="46008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221080" y="5150160"/>
                <a:ext cx="456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224320" y="5153400"/>
                <a:ext cx="4503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229000" y="5154480"/>
                <a:ext cx="4442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231880" y="5155920"/>
                <a:ext cx="4381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233320" y="5159160"/>
                <a:ext cx="43380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236560" y="5160960"/>
                <a:ext cx="428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239800" y="5163840"/>
                <a:ext cx="4226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241240" y="5165280"/>
                <a:ext cx="419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244480" y="5168520"/>
                <a:ext cx="4165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245560" y="5169960"/>
                <a:ext cx="411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252040" y="5172840"/>
                <a:ext cx="402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253480" y="5174280"/>
                <a:ext cx="399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256720" y="5176080"/>
                <a:ext cx="393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258520" y="5178960"/>
                <a:ext cx="3902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261040" y="5180400"/>
                <a:ext cx="38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266080" y="5183640"/>
                <a:ext cx="3762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268960" y="5185080"/>
                <a:ext cx="3733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274000" y="5187960"/>
                <a:ext cx="366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278320" y="5189400"/>
                <a:ext cx="3592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281560" y="5191200"/>
                <a:ext cx="3528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286240" y="5194080"/>
                <a:ext cx="3470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290560" y="5195520"/>
                <a:ext cx="339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297040" y="5198760"/>
                <a:ext cx="3315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298480" y="5200200"/>
                <a:ext cx="3268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303160" y="5203080"/>
                <a:ext cx="319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309280" y="5204880"/>
                <a:ext cx="31284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311080" y="5207760"/>
                <a:ext cx="3092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315760" y="5209200"/>
                <a:ext cx="3020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321520" y="5210640"/>
                <a:ext cx="29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326560" y="5213880"/>
                <a:ext cx="2862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334120" y="5215320"/>
                <a:ext cx="27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338800" y="5218200"/>
                <a:ext cx="2692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343480" y="5220000"/>
                <a:ext cx="26136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347800" y="5222880"/>
                <a:ext cx="255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354280" y="5224680"/>
                <a:ext cx="2491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358960" y="5225760"/>
                <a:ext cx="241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366520" y="5229000"/>
                <a:ext cx="2307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371560" y="5230800"/>
                <a:ext cx="2242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376240" y="5233320"/>
                <a:ext cx="2167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387040" y="5235120"/>
                <a:ext cx="20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96040" y="5238360"/>
                <a:ext cx="1918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05400" y="5239800"/>
                <a:ext cx="1792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13320" y="5242680"/>
                <a:ext cx="1717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23760" y="5244120"/>
                <a:ext cx="1594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33480" y="5245920"/>
                <a:ext cx="1468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44280" y="5248800"/>
                <a:ext cx="132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44280" y="5250240"/>
                <a:ext cx="1314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44280" y="5253480"/>
                <a:ext cx="1285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4280" y="5254920"/>
                <a:ext cx="1267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44280" y="5257800"/>
                <a:ext cx="123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44280" y="5259240"/>
                <a:ext cx="120600" cy="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44280" y="5264280"/>
                <a:ext cx="1188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444280" y="5265360"/>
                <a:ext cx="1159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444280" y="5268600"/>
                <a:ext cx="114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444280" y="5270040"/>
                <a:ext cx="11124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444280" y="5272920"/>
                <a:ext cx="108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444280" y="5274360"/>
                <a:ext cx="106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444280" y="5277600"/>
                <a:ext cx="1033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444280" y="5280480"/>
                <a:ext cx="1018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444280" y="5283720"/>
                <a:ext cx="99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444280" y="5285160"/>
                <a:ext cx="9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444280" y="5288040"/>
                <a:ext cx="94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444280" y="5289840"/>
                <a:ext cx="910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444280" y="5292720"/>
                <a:ext cx="87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444280" y="5294520"/>
                <a:ext cx="867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444280" y="5295960"/>
                <a:ext cx="8352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444280" y="5300280"/>
                <a:ext cx="817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444280" y="5303520"/>
                <a:ext cx="78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444280" y="5304960"/>
                <a:ext cx="7560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444280" y="5307840"/>
                <a:ext cx="738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444280" y="5309640"/>
                <a:ext cx="712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444280" y="5312520"/>
                <a:ext cx="69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444280" y="5313960"/>
                <a:ext cx="6624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444280" y="5318640"/>
                <a:ext cx="633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444280" y="5320080"/>
                <a:ext cx="61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444280" y="5323320"/>
                <a:ext cx="583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444280" y="5324760"/>
                <a:ext cx="5724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444280" y="5327640"/>
                <a:ext cx="54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444280" y="5329080"/>
                <a:ext cx="507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444280" y="5330880"/>
                <a:ext cx="4932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444280" y="5333760"/>
                <a:ext cx="46080" cy="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5444280" y="5338440"/>
                <a:ext cx="446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5444280" y="5339880"/>
                <a:ext cx="41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5444280" y="5343120"/>
                <a:ext cx="385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5444280" y="5344200"/>
                <a:ext cx="370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5444280" y="5347440"/>
                <a:ext cx="33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5444280" y="5348880"/>
                <a:ext cx="30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5444280" y="5350680"/>
                <a:ext cx="291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444280" y="5353560"/>
                <a:ext cx="2628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5444280" y="5358240"/>
                <a:ext cx="24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5444280" y="5359320"/>
                <a:ext cx="216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5444280" y="5362560"/>
                <a:ext cx="183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5444280" y="5364360"/>
                <a:ext cx="165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5444280" y="5365800"/>
                <a:ext cx="136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5444280" y="5368680"/>
                <a:ext cx="122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5444280" y="5370120"/>
                <a:ext cx="900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5444280" y="5374800"/>
                <a:ext cx="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5444280" y="5377680"/>
                <a:ext cx="4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5444280" y="5379480"/>
                <a:ext cx="10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40640" y="1971000"/>
                <a:ext cx="824040" cy="3411360"/>
              </a:xfrm>
              <a:custGeom>
                <a:avLst/>
                <a:gdLst/>
                <a:ahLst/>
                <a:rect l="l" t="t" r="r" b="b"/>
                <a:pathLst>
                  <a:path w="532" h="2247">
                    <a:moveTo>
                      <a:pt x="325" y="2159"/>
                    </a:moveTo>
                    <a:lnTo>
                      <a:pt x="532" y="1949"/>
                    </a:lnTo>
                    <a:lnTo>
                      <a:pt x="532" y="2037"/>
                    </a:lnTo>
                    <a:lnTo>
                      <a:pt x="325" y="2247"/>
                    </a:lnTo>
                    <a:lnTo>
                      <a:pt x="325" y="2159"/>
                    </a:lnTo>
                    <a:close/>
                    <a:moveTo>
                      <a:pt x="532" y="1949"/>
                    </a:moveTo>
                    <a:lnTo>
                      <a:pt x="485" y="1942"/>
                    </a:lnTo>
                    <a:lnTo>
                      <a:pt x="439" y="1927"/>
                    </a:lnTo>
                    <a:lnTo>
                      <a:pt x="395" y="1907"/>
                    </a:lnTo>
                    <a:lnTo>
                      <a:pt x="355" y="1880"/>
                    </a:lnTo>
                    <a:lnTo>
                      <a:pt x="334" y="1863"/>
                    </a:lnTo>
                    <a:lnTo>
                      <a:pt x="313" y="1843"/>
                    </a:lnTo>
                    <a:lnTo>
                      <a:pt x="275" y="1800"/>
                    </a:lnTo>
                    <a:lnTo>
                      <a:pt x="238" y="1752"/>
                    </a:lnTo>
                    <a:lnTo>
                      <a:pt x="207" y="1705"/>
                    </a:lnTo>
                    <a:lnTo>
                      <a:pt x="177" y="1656"/>
                    </a:lnTo>
                    <a:lnTo>
                      <a:pt x="152" y="1606"/>
                    </a:lnTo>
                    <a:lnTo>
                      <a:pt x="131" y="1552"/>
                    </a:lnTo>
                    <a:lnTo>
                      <a:pt x="117" y="1495"/>
                    </a:lnTo>
                    <a:lnTo>
                      <a:pt x="112" y="1463"/>
                    </a:lnTo>
                    <a:lnTo>
                      <a:pt x="111" y="1432"/>
                    </a:lnTo>
                    <a:lnTo>
                      <a:pt x="111" y="1366"/>
                    </a:lnTo>
                    <a:lnTo>
                      <a:pt x="117" y="1295"/>
                    </a:lnTo>
                    <a:lnTo>
                      <a:pt x="128" y="1220"/>
                    </a:lnTo>
                    <a:lnTo>
                      <a:pt x="325" y="0"/>
                    </a:lnTo>
                    <a:lnTo>
                      <a:pt x="265" y="0"/>
                    </a:lnTo>
                    <a:lnTo>
                      <a:pt x="0" y="1529"/>
                    </a:lnTo>
                    <a:lnTo>
                      <a:pt x="0" y="1600"/>
                    </a:lnTo>
                    <a:lnTo>
                      <a:pt x="1" y="1623"/>
                    </a:lnTo>
                    <a:lnTo>
                      <a:pt x="4" y="1649"/>
                    </a:lnTo>
                    <a:lnTo>
                      <a:pt x="11" y="1705"/>
                    </a:lnTo>
                    <a:lnTo>
                      <a:pt x="19" y="1761"/>
                    </a:lnTo>
                    <a:lnTo>
                      <a:pt x="24" y="1787"/>
                    </a:lnTo>
                    <a:lnTo>
                      <a:pt x="28" y="1810"/>
                    </a:lnTo>
                    <a:lnTo>
                      <a:pt x="54" y="1897"/>
                    </a:lnTo>
                    <a:lnTo>
                      <a:pt x="88" y="1985"/>
                    </a:lnTo>
                    <a:lnTo>
                      <a:pt x="98" y="2002"/>
                    </a:lnTo>
                    <a:lnTo>
                      <a:pt x="106" y="2018"/>
                    </a:lnTo>
                    <a:lnTo>
                      <a:pt x="127" y="2042"/>
                    </a:lnTo>
                    <a:lnTo>
                      <a:pt x="149" y="2065"/>
                    </a:lnTo>
                    <a:lnTo>
                      <a:pt x="177" y="2090"/>
                    </a:lnTo>
                    <a:lnTo>
                      <a:pt x="207" y="2114"/>
                    </a:lnTo>
                    <a:lnTo>
                      <a:pt x="242" y="2133"/>
                    </a:lnTo>
                    <a:lnTo>
                      <a:pt x="281" y="2149"/>
                    </a:lnTo>
                    <a:lnTo>
                      <a:pt x="325" y="2159"/>
                    </a:lnTo>
                    <a:lnTo>
                      <a:pt x="532" y="1949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3792960" y="1949760"/>
                <a:ext cx="2422800" cy="4392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3795840" y="1705320"/>
                <a:ext cx="2422800" cy="241200"/>
              </a:xfrm>
              <a:custGeom>
                <a:avLst/>
                <a:gdLst/>
                <a:ahLst/>
                <a:rect l="l" t="t" r="r" b="b"/>
                <a:pathLst>
                  <a:path w="1564" h="159">
                    <a:moveTo>
                      <a:pt x="804" y="0"/>
                    </a:moveTo>
                    <a:lnTo>
                      <a:pt x="0" y="159"/>
                    </a:lnTo>
                    <a:lnTo>
                      <a:pt x="1564" y="159"/>
                    </a:lnTo>
                    <a:lnTo>
                      <a:pt x="8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3958920" y="1846440"/>
                <a:ext cx="19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ff"/>
                    </a:solidFill>
                    <a:latin typeface="Arial"/>
                  </a:rPr>
                  <a:t>Unified Broadband Communica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695200" y="1971000"/>
                <a:ext cx="601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5200" y="1986120"/>
                <a:ext cx="619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691960" y="1993680"/>
                <a:ext cx="651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1960" y="2013120"/>
                <a:ext cx="6804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690520" y="2031480"/>
                <a:ext cx="6948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690520" y="2051640"/>
                <a:ext cx="723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687280" y="2071080"/>
                <a:ext cx="7560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685840" y="2110680"/>
                <a:ext cx="770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685840" y="2128680"/>
                <a:ext cx="7884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682600" y="2153160"/>
                <a:ext cx="820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682600" y="2183400"/>
                <a:ext cx="82080" cy="6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682600" y="2189520"/>
                <a:ext cx="84960" cy="10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679720" y="2190960"/>
                <a:ext cx="87840" cy="15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679720" y="2206080"/>
                <a:ext cx="89640" cy="24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678280" y="2230560"/>
                <a:ext cx="9108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5678280" y="2233800"/>
                <a:ext cx="94320" cy="25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5678280" y="2259360"/>
                <a:ext cx="97200" cy="133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5675040" y="2273040"/>
                <a:ext cx="10044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5675040" y="2275920"/>
                <a:ext cx="101880" cy="1800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675040" y="2294280"/>
                <a:ext cx="105120" cy="16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5673240" y="2311200"/>
                <a:ext cx="108360" cy="1800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5673240" y="2329200"/>
                <a:ext cx="111600" cy="133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5673240" y="2342880"/>
                <a:ext cx="114840" cy="7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5670360" y="2350440"/>
                <a:ext cx="117360" cy="46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5670360" y="2355120"/>
                <a:ext cx="118800" cy="100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5670360" y="2365560"/>
                <a:ext cx="122040" cy="136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5670360" y="2379240"/>
                <a:ext cx="123480" cy="1044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5667120" y="2390040"/>
                <a:ext cx="12672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5667120" y="2392920"/>
                <a:ext cx="129960" cy="10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5667120" y="2403720"/>
                <a:ext cx="132840" cy="11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5667120" y="2415600"/>
                <a:ext cx="13428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5667120" y="2424600"/>
                <a:ext cx="137520" cy="61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665680" y="2431080"/>
                <a:ext cx="13932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5665680" y="2433960"/>
                <a:ext cx="14256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5665680" y="2442960"/>
                <a:ext cx="14400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5665680" y="2450520"/>
                <a:ext cx="146880" cy="900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5665680" y="2459880"/>
                <a:ext cx="148680" cy="57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5665680" y="2465640"/>
                <a:ext cx="15192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5662800" y="2473200"/>
                <a:ext cx="154800" cy="1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5662800" y="2475000"/>
                <a:ext cx="15768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62800" y="2484000"/>
                <a:ext cx="159480" cy="900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662800" y="2493360"/>
                <a:ext cx="16236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62800" y="2500920"/>
                <a:ext cx="16380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662800" y="2508480"/>
                <a:ext cx="167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662800" y="2512800"/>
                <a:ext cx="17028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662800" y="2517480"/>
                <a:ext cx="171720" cy="61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662800" y="2523600"/>
                <a:ext cx="17460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662800" y="2527920"/>
                <a:ext cx="176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662800" y="2532600"/>
                <a:ext cx="1792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662800" y="2535480"/>
                <a:ext cx="182520" cy="46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662800" y="2540520"/>
                <a:ext cx="1839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662800" y="2544840"/>
                <a:ext cx="18720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662800" y="2549520"/>
                <a:ext cx="18864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5662800" y="2552400"/>
                <a:ext cx="19152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5662800" y="2555640"/>
                <a:ext cx="1947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662800" y="2559960"/>
                <a:ext cx="1965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5662800" y="2564640"/>
                <a:ext cx="19944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5662800" y="2567520"/>
                <a:ext cx="2026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665680" y="2570760"/>
                <a:ext cx="20160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665680" y="2573640"/>
                <a:ext cx="20412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665680" y="2578320"/>
                <a:ext cx="20592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5665680" y="2579760"/>
                <a:ext cx="20916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665680" y="2582640"/>
                <a:ext cx="212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665680" y="2587320"/>
                <a:ext cx="213840" cy="1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665680" y="2589120"/>
                <a:ext cx="21708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665680" y="2593440"/>
                <a:ext cx="21816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667120" y="2594880"/>
                <a:ext cx="21960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67120" y="2597760"/>
                <a:ext cx="22284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667120" y="2599200"/>
                <a:ext cx="2242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5667120" y="2602440"/>
                <a:ext cx="2275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5667120" y="2604240"/>
                <a:ext cx="228960" cy="43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5667120" y="2608560"/>
                <a:ext cx="2322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5667120" y="2610000"/>
                <a:ext cx="2350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9" name=""/>
            <p:cNvGrpSpPr/>
            <p:nvPr/>
          </p:nvGrpSpPr>
          <p:grpSpPr>
            <a:xfrm>
              <a:off x="1132920" y="1971000"/>
              <a:ext cx="6043320" cy="2961360"/>
              <a:chOff x="1132920" y="1971000"/>
              <a:chExt cx="6043320" cy="2961360"/>
            </a:xfrm>
          </p:grpSpPr>
          <p:sp>
            <p:nvSpPr>
              <p:cNvPr id="5500" name=""/>
              <p:cNvSpPr/>
              <p:nvPr/>
            </p:nvSpPr>
            <p:spPr>
              <a:xfrm>
                <a:off x="5667120" y="2612880"/>
                <a:ext cx="2365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5670360" y="2614680"/>
                <a:ext cx="2365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5670360" y="2617560"/>
                <a:ext cx="238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5670360" y="2619000"/>
                <a:ext cx="241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5670360" y="2622240"/>
                <a:ext cx="2444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5670360" y="2623680"/>
                <a:ext cx="2462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670360" y="2625120"/>
                <a:ext cx="249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5673240" y="2628000"/>
                <a:ext cx="2491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5673240" y="2629800"/>
                <a:ext cx="2509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5673240" y="2632680"/>
                <a:ext cx="25560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5673240" y="2634120"/>
                <a:ext cx="2588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5673240" y="2637360"/>
                <a:ext cx="2620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5673240" y="2638800"/>
                <a:ext cx="2631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5675040" y="2640600"/>
                <a:ext cx="2646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5675040" y="2643120"/>
                <a:ext cx="266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5675040" y="2644920"/>
                <a:ext cx="269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5675040" y="2648160"/>
                <a:ext cx="2725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5675040" y="2649600"/>
                <a:ext cx="2739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5677920" y="2652480"/>
                <a:ext cx="2739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5677920" y="2653920"/>
                <a:ext cx="2757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5679360" y="2657160"/>
                <a:ext cx="276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5679360" y="2658240"/>
                <a:ext cx="281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5679360" y="2660040"/>
                <a:ext cx="2847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5682600" y="2663280"/>
                <a:ext cx="283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5682600" y="2664720"/>
                <a:ext cx="286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5685840" y="2667600"/>
                <a:ext cx="2862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5685840" y="2669040"/>
                <a:ext cx="2880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5685840" y="2672280"/>
                <a:ext cx="2912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687280" y="2673720"/>
                <a:ext cx="2941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687280" y="2675160"/>
                <a:ext cx="2973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5687280" y="2678400"/>
                <a:ext cx="3020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5690520" y="2679840"/>
                <a:ext cx="3020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5690520" y="2682720"/>
                <a:ext cx="3034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5690520" y="2684160"/>
                <a:ext cx="307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5690520" y="2687400"/>
                <a:ext cx="311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5691600" y="2689200"/>
                <a:ext cx="312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5691600" y="2690280"/>
                <a:ext cx="317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5691600" y="2693520"/>
                <a:ext cx="319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5694840" y="2694960"/>
                <a:ext cx="3218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5694840" y="2697840"/>
                <a:ext cx="3236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5694840" y="2699640"/>
                <a:ext cx="32688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698080" y="2702520"/>
                <a:ext cx="328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698080" y="2704320"/>
                <a:ext cx="331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699520" y="2707200"/>
                <a:ext cx="3315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5699520" y="2708640"/>
                <a:ext cx="3376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5702760" y="2710080"/>
                <a:ext cx="3358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702760" y="2712960"/>
                <a:ext cx="3405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702760" y="2714760"/>
                <a:ext cx="3438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5705640" y="2717640"/>
                <a:ext cx="3452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705640" y="2719440"/>
                <a:ext cx="3484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5707080" y="2722320"/>
                <a:ext cx="3513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707080" y="2723760"/>
                <a:ext cx="3564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710320" y="2725200"/>
                <a:ext cx="3560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710320" y="2728440"/>
                <a:ext cx="3610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5710320" y="2729880"/>
                <a:ext cx="3654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712120" y="2733120"/>
                <a:ext cx="366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712120" y="2734560"/>
                <a:ext cx="371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5715000" y="2737440"/>
                <a:ext cx="373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5715000" y="2738880"/>
                <a:ext cx="376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715000" y="2742120"/>
                <a:ext cx="3808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718240" y="2743560"/>
                <a:ext cx="382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5718240" y="2745000"/>
                <a:ext cx="385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5720040" y="2748240"/>
                <a:ext cx="3888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720040" y="2749680"/>
                <a:ext cx="393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722920" y="2752560"/>
                <a:ext cx="3931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5722920" y="2754000"/>
                <a:ext cx="397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724360" y="2757240"/>
                <a:ext cx="401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724360" y="2759040"/>
                <a:ext cx="4075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727600" y="2760480"/>
                <a:ext cx="4057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5727600" y="2763360"/>
                <a:ext cx="411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5730840" y="2764800"/>
                <a:ext cx="413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730840" y="2768040"/>
                <a:ext cx="4179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5732280" y="2769120"/>
                <a:ext cx="4212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5732280" y="2772360"/>
                <a:ext cx="425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5735160" y="2774160"/>
                <a:ext cx="4255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5735160" y="2776680"/>
                <a:ext cx="4305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5736600" y="2778480"/>
                <a:ext cx="4338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5739840" y="2779920"/>
                <a:ext cx="4366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5739840" y="2783160"/>
                <a:ext cx="4413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5743080" y="2784240"/>
                <a:ext cx="442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5743080" y="2787480"/>
                <a:ext cx="446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5744520" y="2789280"/>
                <a:ext cx="449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5744520" y="2792160"/>
                <a:ext cx="4536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5747760" y="2793600"/>
                <a:ext cx="4554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747760" y="2795040"/>
                <a:ext cx="461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749200" y="2798280"/>
                <a:ext cx="461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749200" y="2800080"/>
                <a:ext cx="4662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752080" y="2802600"/>
                <a:ext cx="4690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752080" y="2804400"/>
                <a:ext cx="474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755320" y="2807640"/>
                <a:ext cx="4755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757120" y="2808720"/>
                <a:ext cx="4770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757120" y="2811960"/>
                <a:ext cx="481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760000" y="2813400"/>
                <a:ext cx="4831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763240" y="2815200"/>
                <a:ext cx="48456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763240" y="2817720"/>
                <a:ext cx="4910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764680" y="2819520"/>
                <a:ext cx="4939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767560" y="2822760"/>
                <a:ext cx="492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5767560" y="2823840"/>
                <a:ext cx="4986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769360" y="2827080"/>
                <a:ext cx="501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5772600" y="2828520"/>
                <a:ext cx="5032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5775480" y="2830320"/>
                <a:ext cx="505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775480" y="2833200"/>
                <a:ext cx="5094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777280" y="2834640"/>
                <a:ext cx="514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5780160" y="2837880"/>
                <a:ext cx="5155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5780160" y="2839320"/>
                <a:ext cx="5202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5781600" y="2842200"/>
                <a:ext cx="5220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784840" y="2843640"/>
                <a:ext cx="5234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784840" y="2846880"/>
                <a:ext cx="5281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788080" y="2848320"/>
                <a:ext cx="529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789520" y="2849760"/>
                <a:ext cx="5342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789520" y="2853000"/>
                <a:ext cx="5389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5792760" y="2854440"/>
                <a:ext cx="540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5793840" y="2857320"/>
                <a:ext cx="543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797080" y="2859120"/>
                <a:ext cx="53604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5800320" y="2862000"/>
                <a:ext cx="5295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800320" y="2863440"/>
                <a:ext cx="524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801760" y="2864880"/>
                <a:ext cx="5191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805000" y="2868120"/>
                <a:ext cx="510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807880" y="2869560"/>
                <a:ext cx="505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809320" y="2872440"/>
                <a:ext cx="498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812560" y="2874240"/>
                <a:ext cx="49104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5812560" y="2877120"/>
                <a:ext cx="4863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5814360" y="2878920"/>
                <a:ext cx="4813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5817600" y="2881800"/>
                <a:ext cx="4737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5820480" y="2883240"/>
                <a:ext cx="4647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5821920" y="2885040"/>
                <a:ext cx="458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5825160" y="2887560"/>
                <a:ext cx="453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825160" y="2889360"/>
                <a:ext cx="4474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826600" y="2892600"/>
                <a:ext cx="4413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829840" y="2894040"/>
                <a:ext cx="4338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833080" y="2896920"/>
                <a:ext cx="427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834520" y="2898360"/>
                <a:ext cx="4212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837400" y="2900160"/>
                <a:ext cx="413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838840" y="2902680"/>
                <a:ext cx="4075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5842080" y="2904480"/>
                <a:ext cx="4010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5845320" y="2907720"/>
                <a:ext cx="3931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5846760" y="2909160"/>
                <a:ext cx="387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5850000" y="2912040"/>
                <a:ext cx="3780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851440" y="2913480"/>
                <a:ext cx="3747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854320" y="2916720"/>
                <a:ext cx="3668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857560" y="2918520"/>
                <a:ext cx="357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859360" y="2919600"/>
                <a:ext cx="351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862240" y="2922840"/>
                <a:ext cx="3470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865480" y="2924280"/>
                <a:ext cx="3376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866920" y="2927160"/>
                <a:ext cx="3312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869800" y="2928600"/>
                <a:ext cx="3236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5871600" y="2931840"/>
                <a:ext cx="3189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874840" y="2933640"/>
                <a:ext cx="3110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877720" y="2934720"/>
                <a:ext cx="303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879520" y="2937960"/>
                <a:ext cx="2973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882400" y="2939400"/>
                <a:ext cx="2912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887080" y="2942280"/>
                <a:ext cx="281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890320" y="2943720"/>
                <a:ext cx="2739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891760" y="2946960"/>
                <a:ext cx="2692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895000" y="2948760"/>
                <a:ext cx="2617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896080" y="2951640"/>
                <a:ext cx="2556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899320" y="2953080"/>
                <a:ext cx="2462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902560" y="2954520"/>
                <a:ext cx="241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904000" y="2957760"/>
                <a:ext cx="2354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909040" y="2959200"/>
                <a:ext cx="224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5911920" y="2962080"/>
                <a:ext cx="2167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5914800" y="2963880"/>
                <a:ext cx="2106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5916600" y="2966760"/>
                <a:ext cx="2041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5919840" y="2968200"/>
                <a:ext cx="196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5924160" y="2969640"/>
                <a:ext cx="1872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5927400" y="2972880"/>
                <a:ext cx="1810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5932080" y="2974320"/>
                <a:ext cx="1717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5935320" y="2977560"/>
                <a:ext cx="1638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5939640" y="2979000"/>
                <a:ext cx="1548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5944320" y="2981880"/>
                <a:ext cx="146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5947560" y="2983320"/>
                <a:ext cx="1393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5952240" y="2986560"/>
                <a:ext cx="130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953680" y="2988000"/>
                <a:ext cx="1220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5959800" y="2989440"/>
                <a:ext cx="114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961600" y="2992680"/>
                <a:ext cx="106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966280" y="2994120"/>
                <a:ext cx="97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972040" y="2997360"/>
                <a:ext cx="867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977080" y="2998440"/>
                <a:ext cx="78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980320" y="3001680"/>
                <a:ext cx="709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5984640" y="3003120"/>
                <a:ext cx="615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5989320" y="3004920"/>
                <a:ext cx="52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5994000" y="3007800"/>
                <a:ext cx="446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5998320" y="3009240"/>
                <a:ext cx="356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004800" y="3012480"/>
                <a:ext cx="24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006240" y="3013560"/>
                <a:ext cx="18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011280" y="3016800"/>
                <a:ext cx="108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5662440" y="1971000"/>
                <a:ext cx="675000" cy="1047600"/>
              </a:xfrm>
              <a:custGeom>
                <a:avLst/>
                <a:gdLst/>
                <a:ahLst/>
                <a:rect l="l" t="t" r="r" b="b"/>
                <a:pathLst>
                  <a:path w="436" h="690">
                    <a:moveTo>
                      <a:pt x="229" y="690"/>
                    </a:moveTo>
                    <a:lnTo>
                      <a:pt x="196" y="674"/>
                    </a:lnTo>
                    <a:lnTo>
                      <a:pt x="166" y="657"/>
                    </a:lnTo>
                    <a:lnTo>
                      <a:pt x="137" y="634"/>
                    </a:lnTo>
                    <a:lnTo>
                      <a:pt x="110" y="610"/>
                    </a:lnTo>
                    <a:lnTo>
                      <a:pt x="84" y="582"/>
                    </a:lnTo>
                    <a:lnTo>
                      <a:pt x="60" y="551"/>
                    </a:lnTo>
                    <a:lnTo>
                      <a:pt x="39" y="516"/>
                    </a:lnTo>
                    <a:lnTo>
                      <a:pt x="21" y="479"/>
                    </a:lnTo>
                    <a:lnTo>
                      <a:pt x="15" y="460"/>
                    </a:lnTo>
                    <a:lnTo>
                      <a:pt x="8" y="446"/>
                    </a:lnTo>
                    <a:lnTo>
                      <a:pt x="3" y="418"/>
                    </a:lnTo>
                    <a:lnTo>
                      <a:pt x="2" y="404"/>
                    </a:lnTo>
                    <a:lnTo>
                      <a:pt x="0" y="387"/>
                    </a:lnTo>
                    <a:lnTo>
                      <a:pt x="0" y="344"/>
                    </a:lnTo>
                    <a:lnTo>
                      <a:pt x="3" y="289"/>
                    </a:lnTo>
                    <a:lnTo>
                      <a:pt x="21" y="0"/>
                    </a:lnTo>
                    <a:lnTo>
                      <a:pt x="60" y="0"/>
                    </a:lnTo>
                    <a:lnTo>
                      <a:pt x="63" y="35"/>
                    </a:lnTo>
                    <a:lnTo>
                      <a:pt x="65" y="69"/>
                    </a:lnTo>
                    <a:lnTo>
                      <a:pt x="66" y="137"/>
                    </a:lnTo>
                    <a:lnTo>
                      <a:pt x="69" y="160"/>
                    </a:lnTo>
                    <a:lnTo>
                      <a:pt x="71" y="184"/>
                    </a:lnTo>
                    <a:lnTo>
                      <a:pt x="79" y="240"/>
                    </a:lnTo>
                    <a:lnTo>
                      <a:pt x="90" y="296"/>
                    </a:lnTo>
                    <a:lnTo>
                      <a:pt x="106" y="351"/>
                    </a:lnTo>
                    <a:lnTo>
                      <a:pt x="116" y="371"/>
                    </a:lnTo>
                    <a:lnTo>
                      <a:pt x="129" y="391"/>
                    </a:lnTo>
                    <a:lnTo>
                      <a:pt x="143" y="410"/>
                    </a:lnTo>
                    <a:lnTo>
                      <a:pt x="161" y="427"/>
                    </a:lnTo>
                    <a:lnTo>
                      <a:pt x="201" y="460"/>
                    </a:lnTo>
                    <a:lnTo>
                      <a:pt x="248" y="490"/>
                    </a:lnTo>
                    <a:lnTo>
                      <a:pt x="296" y="516"/>
                    </a:lnTo>
                    <a:lnTo>
                      <a:pt x="346" y="541"/>
                    </a:lnTo>
                    <a:lnTo>
                      <a:pt x="393" y="564"/>
                    </a:lnTo>
                    <a:lnTo>
                      <a:pt x="436" y="584"/>
                    </a:lnTo>
                    <a:lnTo>
                      <a:pt x="229" y="69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026400" y="2859120"/>
                <a:ext cx="306360" cy="23940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0" y="99"/>
                    </a:moveTo>
                    <a:lnTo>
                      <a:pt x="198" y="0"/>
                    </a:lnTo>
                    <a:lnTo>
                      <a:pt x="198" y="42"/>
                    </a:lnTo>
                    <a:lnTo>
                      <a:pt x="0" y="15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80c2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5662440" y="2532240"/>
                <a:ext cx="351360" cy="551160"/>
              </a:xfrm>
              <a:custGeom>
                <a:avLst/>
                <a:gdLst/>
                <a:ahLst/>
                <a:rect l="l" t="t" r="r" b="b"/>
                <a:pathLst>
                  <a:path w="227" h="363">
                    <a:moveTo>
                      <a:pt x="113" y="299"/>
                    </a:moveTo>
                    <a:lnTo>
                      <a:pt x="129" y="311"/>
                    </a:lnTo>
                    <a:lnTo>
                      <a:pt x="147" y="323"/>
                    </a:lnTo>
                    <a:lnTo>
                      <a:pt x="185" y="345"/>
                    </a:lnTo>
                    <a:lnTo>
                      <a:pt x="201" y="352"/>
                    </a:lnTo>
                    <a:lnTo>
                      <a:pt x="214" y="357"/>
                    </a:lnTo>
                    <a:lnTo>
                      <a:pt x="224" y="362"/>
                    </a:lnTo>
                    <a:lnTo>
                      <a:pt x="227" y="363"/>
                    </a:lnTo>
                    <a:lnTo>
                      <a:pt x="227" y="319"/>
                    </a:lnTo>
                    <a:lnTo>
                      <a:pt x="217" y="314"/>
                    </a:lnTo>
                    <a:lnTo>
                      <a:pt x="206" y="310"/>
                    </a:lnTo>
                    <a:lnTo>
                      <a:pt x="196" y="306"/>
                    </a:lnTo>
                    <a:lnTo>
                      <a:pt x="188" y="303"/>
                    </a:lnTo>
                    <a:lnTo>
                      <a:pt x="171" y="291"/>
                    </a:lnTo>
                    <a:lnTo>
                      <a:pt x="134" y="264"/>
                    </a:lnTo>
                    <a:lnTo>
                      <a:pt x="98" y="230"/>
                    </a:lnTo>
                    <a:lnTo>
                      <a:pt x="68" y="191"/>
                    </a:lnTo>
                    <a:lnTo>
                      <a:pt x="42" y="152"/>
                    </a:lnTo>
                    <a:lnTo>
                      <a:pt x="31" y="129"/>
                    </a:lnTo>
                    <a:lnTo>
                      <a:pt x="21" y="109"/>
                    </a:lnTo>
                    <a:lnTo>
                      <a:pt x="10" y="69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3" y="43"/>
                    </a:lnTo>
                    <a:lnTo>
                      <a:pt x="10" y="94"/>
                    </a:lnTo>
                    <a:lnTo>
                      <a:pt x="24" y="149"/>
                    </a:lnTo>
                    <a:lnTo>
                      <a:pt x="44" y="204"/>
                    </a:lnTo>
                    <a:lnTo>
                      <a:pt x="58" y="232"/>
                    </a:lnTo>
                    <a:lnTo>
                      <a:pt x="76" y="258"/>
                    </a:lnTo>
                    <a:lnTo>
                      <a:pt x="95" y="280"/>
                    </a:lnTo>
                    <a:lnTo>
                      <a:pt x="113" y="299"/>
                    </a:lnTo>
                    <a:close/>
                  </a:path>
                </a:pathLst>
              </a:custGeom>
              <a:solidFill>
                <a:srgbClr val="80c2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1320120" y="3765240"/>
                <a:ext cx="5364720" cy="11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1132920" y="4560840"/>
                <a:ext cx="6043320" cy="13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570680" y="3009240"/>
                <a:ext cx="4815000" cy="124560"/>
              </a:xfrm>
              <a:custGeom>
                <a:avLst/>
                <a:gdLst/>
                <a:ahLst/>
                <a:rect l="l" t="t" r="r" b="b"/>
                <a:pathLst>
                  <a:path w="3108" h="82">
                    <a:moveTo>
                      <a:pt x="0" y="0"/>
                    </a:moveTo>
                    <a:lnTo>
                      <a:pt x="0" y="79"/>
                    </a:lnTo>
                    <a:lnTo>
                      <a:pt x="3108" y="82"/>
                    </a:lnTo>
                    <a:lnTo>
                      <a:pt x="310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1150560" y="4580640"/>
                <a:ext cx="823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ccommod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2018880" y="4580640"/>
                <a:ext cx="34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RF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2385360" y="4580640"/>
                <a:ext cx="45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Behavi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147320" y="4687200"/>
                <a:ext cx="145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ellular Reuse Architectur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146600" y="4794840"/>
                <a:ext cx="184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Early Cellular/Cordless, T/R Phon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357200" y="3808080"/>
                <a:ext cx="669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ag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2061360" y="3808080"/>
                <a:ext cx="83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RF Behavior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353600" y="3915720"/>
                <a:ext cx="1387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eparate System Solu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0" name=""/>
            <p:cNvGrpSpPr/>
            <p:nvPr/>
          </p:nvGrpSpPr>
          <p:grpSpPr>
            <a:xfrm>
              <a:off x="1351800" y="1971000"/>
              <a:ext cx="3536280" cy="2741400"/>
              <a:chOff x="1351800" y="1971000"/>
              <a:chExt cx="3536280" cy="2741400"/>
            </a:xfrm>
          </p:grpSpPr>
          <p:sp>
            <p:nvSpPr>
              <p:cNvPr id="5701" name=""/>
              <p:cNvSpPr/>
              <p:nvPr/>
            </p:nvSpPr>
            <p:spPr>
              <a:xfrm>
                <a:off x="1351800" y="4021920"/>
                <a:ext cx="160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Analog Cellular/Cordless, ISD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592280" y="3029040"/>
                <a:ext cx="55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dap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2171880" y="30290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to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2341800" y="3029040"/>
                <a:ext cx="861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RF Environment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93720" y="313380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rge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2037600" y="3133800"/>
                <a:ext cx="34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Public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2402640" y="313380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593360" y="3241800"/>
                <a:ext cx="59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ulti-Mod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2226600" y="3241800"/>
                <a:ext cx="97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ystems,, Ethern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1591200" y="3347640"/>
                <a:ext cx="77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Digital Cellular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2401920" y="334764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Wireless LA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02320" y="457488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79-1985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100760" y="3782160"/>
                <a:ext cx="55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6-199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4260960" y="303372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93-1997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616200" y="2171160"/>
                <a:ext cx="2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616200" y="2175840"/>
                <a:ext cx="4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616200" y="2178720"/>
                <a:ext cx="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616200" y="2180160"/>
                <a:ext cx="93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616200" y="2184840"/>
                <a:ext cx="12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16200" y="2187720"/>
                <a:ext cx="15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616200" y="2189520"/>
                <a:ext cx="16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616200" y="2193840"/>
                <a:ext cx="20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616200" y="2195280"/>
                <a:ext cx="23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616200" y="2199960"/>
                <a:ext cx="24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616200" y="2203200"/>
                <a:ext cx="28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616200" y="2204640"/>
                <a:ext cx="29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616200" y="2208960"/>
                <a:ext cx="324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616200" y="2210760"/>
                <a:ext cx="356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616200" y="2215440"/>
                <a:ext cx="37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616200" y="2218320"/>
                <a:ext cx="40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616200" y="2219760"/>
                <a:ext cx="41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616200" y="2224080"/>
                <a:ext cx="44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616200" y="2225880"/>
                <a:ext cx="47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616200" y="2229120"/>
                <a:ext cx="4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616200" y="2233440"/>
                <a:ext cx="5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616200" y="2234880"/>
                <a:ext cx="54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616200" y="2239200"/>
                <a:ext cx="572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616200" y="2241000"/>
                <a:ext cx="60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616200" y="2244240"/>
                <a:ext cx="61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616200" y="2248560"/>
                <a:ext cx="65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616200" y="2250000"/>
                <a:ext cx="66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616200" y="2254680"/>
                <a:ext cx="69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616200" y="225612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619080" y="225936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620880" y="226368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623760" y="226512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625560" y="2268360"/>
                <a:ext cx="72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628800" y="227268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631680" y="227448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633120" y="227880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636360" y="228024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639240" y="228348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641040" y="228780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644280" y="2289600"/>
                <a:ext cx="71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644280" y="2291040"/>
                <a:ext cx="7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645720" y="229428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648600" y="2295720"/>
                <a:ext cx="72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651840" y="2298600"/>
                <a:ext cx="712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653280" y="230328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656520" y="2304720"/>
                <a:ext cx="71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656520" y="2307960"/>
                <a:ext cx="74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657960" y="230940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660840" y="2310840"/>
                <a:ext cx="72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664080" y="2313720"/>
                <a:ext cx="712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665520" y="231840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668760" y="2319840"/>
                <a:ext cx="71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668760" y="2323080"/>
                <a:ext cx="741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670560" y="23245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673440" y="232632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676320" y="2329200"/>
                <a:ext cx="71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676320" y="2330640"/>
                <a:ext cx="741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678120" y="233388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681360" y="233496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681360" y="2338200"/>
                <a:ext cx="73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682800" y="233964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686040" y="23425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689280" y="2344320"/>
                <a:ext cx="709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689280" y="2345760"/>
                <a:ext cx="73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0360" y="234900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693600" y="235008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693600" y="2353320"/>
                <a:ext cx="73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696840" y="2355120"/>
                <a:ext cx="7092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698280" y="235800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701520" y="2359440"/>
                <a:ext cx="71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701520" y="2360880"/>
                <a:ext cx="73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702960" y="236412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705840" y="236556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709080" y="2368440"/>
                <a:ext cx="712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709080" y="2370240"/>
                <a:ext cx="741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710520" y="23731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713760" y="2374560"/>
                <a:ext cx="712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715560" y="2379240"/>
                <a:ext cx="694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718440" y="2380680"/>
                <a:ext cx="66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721320" y="2383560"/>
                <a:ext cx="6336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723120" y="2388600"/>
                <a:ext cx="61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726000" y="2389680"/>
                <a:ext cx="586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727800" y="2394360"/>
                <a:ext cx="57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731040" y="2396160"/>
                <a:ext cx="5400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733560" y="2398680"/>
                <a:ext cx="5112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735360" y="2403720"/>
                <a:ext cx="49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738600" y="2405160"/>
                <a:ext cx="460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740040" y="2409480"/>
                <a:ext cx="44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743280" y="2412720"/>
                <a:ext cx="41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746520" y="2413800"/>
                <a:ext cx="3852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747960" y="2418840"/>
                <a:ext cx="370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750840" y="2420280"/>
                <a:ext cx="3384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754080" y="2424600"/>
                <a:ext cx="30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755520" y="2427840"/>
                <a:ext cx="2916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758760" y="2429280"/>
                <a:ext cx="262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760200" y="2433960"/>
                <a:ext cx="248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3763080" y="2435400"/>
                <a:ext cx="2160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3766320" y="2439720"/>
                <a:ext cx="183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3767760" y="2442960"/>
                <a:ext cx="169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3771000" y="2444760"/>
                <a:ext cx="1404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3772800" y="2449080"/>
                <a:ext cx="12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3775680" y="2450520"/>
                <a:ext cx="936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3778560" y="2455200"/>
                <a:ext cx="612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3780360" y="2458080"/>
                <a:ext cx="4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3783600" y="2459880"/>
                <a:ext cx="10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3616200" y="2169720"/>
                <a:ext cx="168840" cy="294120"/>
              </a:xfrm>
              <a:custGeom>
                <a:avLst/>
                <a:gdLst/>
                <a:ahLst/>
                <a:rect l="l" t="t" r="r" b="b"/>
                <a:pathLst>
                  <a:path w="109" h="194">
                    <a:moveTo>
                      <a:pt x="0" y="0"/>
                    </a:moveTo>
                    <a:lnTo>
                      <a:pt x="109" y="135"/>
                    </a:lnTo>
                    <a:lnTo>
                      <a:pt x="109" y="194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136760" y="1971000"/>
                <a:ext cx="215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135320" y="1973880"/>
                <a:ext cx="216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132080" y="1975320"/>
                <a:ext cx="216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130280" y="1978560"/>
                <a:ext cx="218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124520" y="1979640"/>
                <a:ext cx="222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122720" y="1981440"/>
                <a:ext cx="224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119480" y="1984680"/>
                <a:ext cx="224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116600" y="1986120"/>
                <a:ext cx="227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114800" y="1989000"/>
                <a:ext cx="226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11920" y="1990440"/>
                <a:ext cx="22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07240" y="1993680"/>
                <a:ext cx="23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104000" y="1994760"/>
                <a:ext cx="232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02560" y="1996560"/>
                <a:ext cx="233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099320" y="1999800"/>
                <a:ext cx="233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095000" y="2001240"/>
                <a:ext cx="23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091760" y="2004120"/>
                <a:ext cx="240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090320" y="2005560"/>
                <a:ext cx="23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085280" y="2008800"/>
                <a:ext cx="24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082760" y="2010240"/>
                <a:ext cx="24444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077720" y="2013120"/>
                <a:ext cx="246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073040" y="2014920"/>
                <a:ext cx="250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069800" y="2016360"/>
                <a:ext cx="250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065480" y="2019240"/>
                <a:ext cx="25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059000" y="2020680"/>
                <a:ext cx="257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057560" y="2023920"/>
                <a:ext cx="25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053240" y="2025720"/>
                <a:ext cx="2584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050000" y="2028240"/>
                <a:ext cx="258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045320" y="2030040"/>
                <a:ext cx="262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040640" y="2031480"/>
                <a:ext cx="266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037760" y="2034360"/>
                <a:ext cx="266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033080" y="2035800"/>
                <a:ext cx="269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028040" y="2039040"/>
                <a:ext cx="2710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020480" y="2040840"/>
                <a:ext cx="275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015800" y="2043720"/>
                <a:ext cx="27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009680" y="2045160"/>
                <a:ext cx="281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001760" y="2048400"/>
                <a:ext cx="28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3997080" y="2049840"/>
                <a:ext cx="289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3992760" y="2051280"/>
                <a:ext cx="294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3984840" y="2054160"/>
                <a:ext cx="298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3980520" y="2055960"/>
                <a:ext cx="301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3975480" y="2058840"/>
                <a:ext cx="303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3967560" y="2060280"/>
                <a:ext cx="308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3963240" y="2063520"/>
                <a:ext cx="311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955320" y="2064960"/>
                <a:ext cx="3160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3951000" y="2066400"/>
                <a:ext cx="3189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3943080" y="2069280"/>
                <a:ext cx="323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3935520" y="2071080"/>
                <a:ext cx="32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3930480" y="2073960"/>
                <a:ext cx="33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3922920" y="2075400"/>
                <a:ext cx="335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918240" y="2078640"/>
                <a:ext cx="339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3910320" y="2080080"/>
                <a:ext cx="34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3902760" y="2082960"/>
                <a:ext cx="348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3898080" y="2084760"/>
                <a:ext cx="351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3890520" y="2086200"/>
                <a:ext cx="356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3882600" y="2089440"/>
                <a:ext cx="36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3878280" y="2090520"/>
                <a:ext cx="3639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3870000" y="2093760"/>
                <a:ext cx="36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3862440" y="2095200"/>
                <a:ext cx="375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3856320" y="2098080"/>
                <a:ext cx="3780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3850200" y="2099880"/>
                <a:ext cx="382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3842280" y="2101320"/>
                <a:ext cx="387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3835800" y="2104560"/>
                <a:ext cx="390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3828240" y="2105640"/>
                <a:ext cx="396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3823560" y="2108880"/>
                <a:ext cx="397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3816000" y="2110680"/>
                <a:ext cx="40284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3808080" y="2113200"/>
                <a:ext cx="408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3799080" y="2115000"/>
                <a:ext cx="414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3791520" y="2118240"/>
                <a:ext cx="421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3783600" y="2119680"/>
                <a:ext cx="425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3772800" y="2120760"/>
                <a:ext cx="433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3766320" y="2124000"/>
                <a:ext cx="438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3758760" y="2125800"/>
                <a:ext cx="442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3747960" y="2128680"/>
                <a:ext cx="4521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740040" y="2130120"/>
                <a:ext cx="456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733560" y="2133360"/>
                <a:ext cx="463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726000" y="2134800"/>
                <a:ext cx="467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3718440" y="2136600"/>
                <a:ext cx="474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3710520" y="2139120"/>
                <a:ext cx="478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3702960" y="2140920"/>
                <a:ext cx="484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3696840" y="2144160"/>
                <a:ext cx="487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1" name=""/>
            <p:cNvGrpSpPr/>
            <p:nvPr/>
          </p:nvGrpSpPr>
          <p:grpSpPr>
            <a:xfrm>
              <a:off x="2155320" y="1969560"/>
              <a:ext cx="4011120" cy="817560"/>
              <a:chOff x="2155320" y="1969560"/>
              <a:chExt cx="4011120" cy="817560"/>
            </a:xfrm>
          </p:grpSpPr>
          <p:sp>
            <p:nvSpPr>
              <p:cNvPr id="5902" name=""/>
              <p:cNvSpPr/>
              <p:nvPr/>
            </p:nvSpPr>
            <p:spPr>
              <a:xfrm>
                <a:off x="3688920" y="2145600"/>
                <a:ext cx="4924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3681360" y="2148840"/>
                <a:ext cx="498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3673080" y="2150280"/>
                <a:ext cx="503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3665520" y="2153160"/>
                <a:ext cx="508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3660840" y="2154600"/>
                <a:ext cx="510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3653280" y="2156400"/>
                <a:ext cx="515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648600" y="2159280"/>
                <a:ext cx="5187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3641040" y="2160720"/>
                <a:ext cx="523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3636360" y="2163960"/>
                <a:ext cx="52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3628440" y="2165400"/>
                <a:ext cx="531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623760" y="2168280"/>
                <a:ext cx="532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615840" y="2170080"/>
                <a:ext cx="539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619080" y="2171520"/>
                <a:ext cx="532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619080" y="2174400"/>
                <a:ext cx="529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620880" y="2175840"/>
                <a:ext cx="5263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623760" y="2179080"/>
                <a:ext cx="520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625560" y="2180520"/>
                <a:ext cx="5173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625560" y="2183400"/>
                <a:ext cx="5140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628440" y="2185200"/>
                <a:ext cx="5079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631320" y="2188080"/>
                <a:ext cx="5036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633120" y="2189520"/>
                <a:ext cx="4986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633120" y="2190960"/>
                <a:ext cx="496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636360" y="2194200"/>
                <a:ext cx="487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639240" y="2195640"/>
                <a:ext cx="483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639240" y="2198520"/>
                <a:ext cx="480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641040" y="2200320"/>
                <a:ext cx="4737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643920" y="2203560"/>
                <a:ext cx="467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645360" y="2205000"/>
                <a:ext cx="464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645360" y="2206080"/>
                <a:ext cx="458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648600" y="2209320"/>
                <a:ext cx="4536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651840" y="2211120"/>
                <a:ext cx="4460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1840" y="2213640"/>
                <a:ext cx="442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53280" y="2215440"/>
                <a:ext cx="437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656520" y="2218680"/>
                <a:ext cx="430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657600" y="2220120"/>
                <a:ext cx="4244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657600" y="2223000"/>
                <a:ext cx="421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660840" y="2224440"/>
                <a:ext cx="4136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664080" y="2226240"/>
                <a:ext cx="408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665520" y="2229120"/>
                <a:ext cx="4014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665520" y="2230560"/>
                <a:ext cx="3963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668760" y="2233800"/>
                <a:ext cx="390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670560" y="2235240"/>
                <a:ext cx="3837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670560" y="2238120"/>
                <a:ext cx="382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673080" y="2239560"/>
                <a:ext cx="373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676320" y="2241360"/>
                <a:ext cx="368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678120" y="2244240"/>
                <a:ext cx="3625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678120" y="2245680"/>
                <a:ext cx="359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681360" y="2248920"/>
                <a:ext cx="352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682800" y="2250360"/>
                <a:ext cx="347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682800" y="2253240"/>
                <a:ext cx="345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686040" y="2254680"/>
                <a:ext cx="3358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688920" y="2256480"/>
                <a:ext cx="3312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690360" y="2259720"/>
                <a:ext cx="3265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690360" y="2260800"/>
                <a:ext cx="3218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693600" y="2264040"/>
                <a:ext cx="315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696840" y="2265480"/>
                <a:ext cx="307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698280" y="2268360"/>
                <a:ext cx="3034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698280" y="2270160"/>
                <a:ext cx="29880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701520" y="2273040"/>
                <a:ext cx="2941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702600" y="2274840"/>
                <a:ext cx="289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702600" y="2275920"/>
                <a:ext cx="285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705840" y="2279160"/>
                <a:ext cx="2786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709080" y="2280600"/>
                <a:ext cx="2710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710520" y="2283840"/>
                <a:ext cx="2664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710520" y="2285280"/>
                <a:ext cx="26208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713760" y="2288160"/>
                <a:ext cx="2570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715560" y="2289960"/>
                <a:ext cx="248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718080" y="2291400"/>
                <a:ext cx="244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718080" y="2294280"/>
                <a:ext cx="238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721320" y="2296080"/>
                <a:ext cx="2336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723120" y="2298960"/>
                <a:ext cx="2275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723120" y="2300400"/>
                <a:ext cx="224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726000" y="2303640"/>
                <a:ext cx="2170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727800" y="2305080"/>
                <a:ext cx="210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730680" y="2307960"/>
                <a:ext cx="2041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730680" y="2309400"/>
                <a:ext cx="1994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733560" y="2311200"/>
                <a:ext cx="19368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735360" y="2314080"/>
                <a:ext cx="1872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735360" y="2315520"/>
                <a:ext cx="1825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738600" y="2318760"/>
                <a:ext cx="1760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3740040" y="2320200"/>
                <a:ext cx="170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3743280" y="2323080"/>
                <a:ext cx="163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3743280" y="2324520"/>
                <a:ext cx="1594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3746160" y="2326320"/>
                <a:ext cx="1515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3747600" y="2329560"/>
                <a:ext cx="145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3750840" y="2331000"/>
                <a:ext cx="1360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3750840" y="2333880"/>
                <a:ext cx="1314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3754080" y="2335320"/>
                <a:ext cx="1238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755520" y="2338560"/>
                <a:ext cx="1173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3755520" y="2339640"/>
                <a:ext cx="113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3758760" y="2342880"/>
                <a:ext cx="103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759840" y="2344680"/>
                <a:ext cx="97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3763080" y="2346120"/>
                <a:ext cx="89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3763080" y="2349000"/>
                <a:ext cx="85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3766320" y="2350440"/>
                <a:ext cx="75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3767760" y="2353680"/>
                <a:ext cx="698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767760" y="2355120"/>
                <a:ext cx="651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3771000" y="2358000"/>
                <a:ext cx="57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3772800" y="2359800"/>
                <a:ext cx="50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775320" y="2361240"/>
                <a:ext cx="42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775320" y="2364120"/>
                <a:ext cx="356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778560" y="2365560"/>
                <a:ext cx="26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780360" y="2368800"/>
                <a:ext cx="19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83600" y="2370240"/>
                <a:ext cx="122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783600" y="2373120"/>
                <a:ext cx="756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615840" y="1971000"/>
                <a:ext cx="735840" cy="403560"/>
              </a:xfrm>
              <a:custGeom>
                <a:avLst/>
                <a:gdLst/>
                <a:ahLst/>
                <a:rect l="l" t="t" r="r" b="b"/>
                <a:pathLst>
                  <a:path w="475" h="266">
                    <a:moveTo>
                      <a:pt x="109" y="266"/>
                    </a:moveTo>
                    <a:lnTo>
                      <a:pt x="146" y="250"/>
                    </a:lnTo>
                    <a:lnTo>
                      <a:pt x="185" y="233"/>
                    </a:lnTo>
                    <a:lnTo>
                      <a:pt x="224" y="211"/>
                    </a:lnTo>
                    <a:lnTo>
                      <a:pt x="261" y="188"/>
                    </a:lnTo>
                    <a:lnTo>
                      <a:pt x="278" y="177"/>
                    </a:lnTo>
                    <a:lnTo>
                      <a:pt x="291" y="170"/>
                    </a:lnTo>
                    <a:lnTo>
                      <a:pt x="314" y="157"/>
                    </a:lnTo>
                    <a:lnTo>
                      <a:pt x="333" y="144"/>
                    </a:lnTo>
                    <a:lnTo>
                      <a:pt x="359" y="121"/>
                    </a:lnTo>
                    <a:lnTo>
                      <a:pt x="391" y="91"/>
                    </a:lnTo>
                    <a:lnTo>
                      <a:pt x="425" y="61"/>
                    </a:lnTo>
                    <a:lnTo>
                      <a:pt x="455" y="30"/>
                    </a:lnTo>
                    <a:lnTo>
                      <a:pt x="467" y="15"/>
                    </a:lnTo>
                    <a:lnTo>
                      <a:pt x="475" y="0"/>
                    </a:lnTo>
                    <a:lnTo>
                      <a:pt x="336" y="0"/>
                    </a:lnTo>
                    <a:lnTo>
                      <a:pt x="322" y="12"/>
                    </a:lnTo>
                    <a:lnTo>
                      <a:pt x="306" y="23"/>
                    </a:lnTo>
                    <a:lnTo>
                      <a:pt x="269" y="43"/>
                    </a:lnTo>
                    <a:lnTo>
                      <a:pt x="224" y="61"/>
                    </a:lnTo>
                    <a:lnTo>
                      <a:pt x="177" y="76"/>
                    </a:lnTo>
                    <a:lnTo>
                      <a:pt x="129" y="92"/>
                    </a:lnTo>
                    <a:lnTo>
                      <a:pt x="80" y="105"/>
                    </a:lnTo>
                    <a:lnTo>
                      <a:pt x="37" y="118"/>
                    </a:lnTo>
                    <a:lnTo>
                      <a:pt x="0" y="131"/>
                    </a:lnTo>
                    <a:lnTo>
                      <a:pt x="109" y="266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785040" y="2139480"/>
                <a:ext cx="396360" cy="309600"/>
              </a:xfrm>
              <a:custGeom>
                <a:avLst/>
                <a:gdLst/>
                <a:ahLst/>
                <a:rect l="l" t="t" r="r" b="b"/>
                <a:pathLst>
                  <a:path w="256" h="204">
                    <a:moveTo>
                      <a:pt x="153" y="116"/>
                    </a:moveTo>
                    <a:lnTo>
                      <a:pt x="115" y="141"/>
                    </a:lnTo>
                    <a:lnTo>
                      <a:pt x="76" y="165"/>
                    </a:lnTo>
                    <a:lnTo>
                      <a:pt x="37" y="187"/>
                    </a:lnTo>
                    <a:lnTo>
                      <a:pt x="0" y="204"/>
                    </a:lnTo>
                    <a:lnTo>
                      <a:pt x="0" y="145"/>
                    </a:lnTo>
                    <a:lnTo>
                      <a:pt x="37" y="129"/>
                    </a:lnTo>
                    <a:lnTo>
                      <a:pt x="76" y="112"/>
                    </a:lnTo>
                    <a:lnTo>
                      <a:pt x="115" y="90"/>
                    </a:lnTo>
                    <a:lnTo>
                      <a:pt x="152" y="67"/>
                    </a:lnTo>
                    <a:lnTo>
                      <a:pt x="161" y="62"/>
                    </a:lnTo>
                    <a:lnTo>
                      <a:pt x="169" y="57"/>
                    </a:lnTo>
                    <a:lnTo>
                      <a:pt x="184" y="49"/>
                    </a:lnTo>
                    <a:lnTo>
                      <a:pt x="208" y="36"/>
                    </a:lnTo>
                    <a:lnTo>
                      <a:pt x="229" y="23"/>
                    </a:lnTo>
                    <a:lnTo>
                      <a:pt x="242" y="13"/>
                    </a:lnTo>
                    <a:lnTo>
                      <a:pt x="256" y="0"/>
                    </a:lnTo>
                    <a:lnTo>
                      <a:pt x="153" y="116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2578320" y="2274840"/>
                <a:ext cx="932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acket Protoc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2155320" y="2418840"/>
                <a:ext cx="4011120" cy="1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157120" y="2435400"/>
                <a:ext cx="5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Integr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2730240" y="2435400"/>
                <a:ext cx="999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Wireless//Wire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2155680" y="2541960"/>
                <a:ext cx="1061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ervices, Multimed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2155320" y="2649600"/>
                <a:ext cx="1189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ulti-Access Termina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516200" y="243108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98-2002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5752440" y="1969560"/>
                <a:ext cx="57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5752440" y="1974240"/>
                <a:ext cx="60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5752440" y="1980000"/>
                <a:ext cx="61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5755680" y="1981800"/>
                <a:ext cx="58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5755680" y="1985040"/>
                <a:ext cx="619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755680" y="1990800"/>
                <a:ext cx="648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5755680" y="1996920"/>
                <a:ext cx="66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5755680" y="2001240"/>
                <a:ext cx="698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5755680" y="2005920"/>
                <a:ext cx="71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5757480" y="2008800"/>
                <a:ext cx="69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5757480" y="2010600"/>
                <a:ext cx="72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5757480" y="2015280"/>
                <a:ext cx="75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757480" y="2019600"/>
                <a:ext cx="7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5757480" y="2021040"/>
                <a:ext cx="80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5757480" y="2024280"/>
                <a:ext cx="81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5757480" y="2028600"/>
                <a:ext cx="84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5757480" y="2030400"/>
                <a:ext cx="87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5760000" y="2031840"/>
                <a:ext cx="86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5760000" y="2036160"/>
                <a:ext cx="89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5760000" y="2039400"/>
                <a:ext cx="9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5760000" y="2040840"/>
                <a:ext cx="9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5760000" y="2045520"/>
                <a:ext cx="97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5760000" y="2048400"/>
                <a:ext cx="99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5760000" y="2049840"/>
                <a:ext cx="10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5760000" y="2051640"/>
                <a:ext cx="105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5760000" y="2054520"/>
                <a:ext cx="106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5760000" y="2055960"/>
                <a:ext cx="109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763240" y="2059200"/>
                <a:ext cx="10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763240" y="2060640"/>
                <a:ext cx="111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763240" y="2063520"/>
                <a:ext cx="114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763240" y="2064960"/>
                <a:ext cx="116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763240" y="2066760"/>
                <a:ext cx="1191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5763240" y="2069640"/>
                <a:ext cx="120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5763240" y="2071440"/>
                <a:ext cx="123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5763240" y="2074320"/>
                <a:ext cx="127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5763240" y="2075760"/>
                <a:ext cx="128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5763240" y="2079000"/>
                <a:ext cx="132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5763240" y="208008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5765040" y="2083320"/>
                <a:ext cx="138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5765040" y="2085120"/>
                <a:ext cx="142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5765040" y="208656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5765040" y="208944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765040" y="209088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5765040" y="209412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765040" y="2095200"/>
                <a:ext cx="162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765040" y="2098440"/>
                <a:ext cx="16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65040" y="210024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65040" y="2101680"/>
                <a:ext cx="179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65040" y="2104560"/>
                <a:ext cx="183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765040" y="2106000"/>
                <a:ext cx="189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767920" y="2109240"/>
                <a:ext cx="19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767920" y="2110680"/>
                <a:ext cx="198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767920" y="211356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5767920" y="2115360"/>
                <a:ext cx="209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767920" y="2118600"/>
                <a:ext cx="213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767920" y="2119680"/>
                <a:ext cx="221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767920" y="2121120"/>
                <a:ext cx="22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767920" y="2124360"/>
                <a:ext cx="2307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767920" y="2126160"/>
                <a:ext cx="2368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67920" y="2128680"/>
                <a:ext cx="24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67920" y="2130480"/>
                <a:ext cx="249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769720" y="2133720"/>
                <a:ext cx="252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769720" y="2134800"/>
                <a:ext cx="25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769720" y="2136600"/>
                <a:ext cx="261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769720" y="2139480"/>
                <a:ext cx="26784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772600" y="2141280"/>
                <a:ext cx="2707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772600" y="2144160"/>
                <a:ext cx="27684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772600" y="2145600"/>
                <a:ext cx="2815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772600" y="2148840"/>
                <a:ext cx="2862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772600" y="2150280"/>
                <a:ext cx="2912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775480" y="2153160"/>
                <a:ext cx="29268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775480" y="2154600"/>
                <a:ext cx="29916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5775480" y="2156400"/>
                <a:ext cx="3038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5775480" y="2159280"/>
                <a:ext cx="3114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5775480" y="2160720"/>
                <a:ext cx="3160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5775480" y="2163960"/>
                <a:ext cx="32076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777280" y="2165400"/>
                <a:ext cx="3232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777280" y="2168280"/>
                <a:ext cx="31896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5777280" y="2170080"/>
                <a:ext cx="31752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5777280" y="2171520"/>
                <a:ext cx="3110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5777280" y="2174400"/>
                <a:ext cx="3096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5777280" y="2175840"/>
                <a:ext cx="3052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5780520" y="2179080"/>
                <a:ext cx="29556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5780520" y="2180520"/>
                <a:ext cx="2941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780520" y="2183400"/>
                <a:ext cx="28800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780520" y="2185200"/>
                <a:ext cx="286200" cy="252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2" name=""/>
            <p:cNvSpPr/>
            <p:nvPr/>
          </p:nvSpPr>
          <p:spPr>
            <a:xfrm>
              <a:off x="5782320" y="2191320"/>
              <a:ext cx="2725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782320" y="2194200"/>
              <a:ext cx="26784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785560" y="2205000"/>
              <a:ext cx="24480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785560" y="2206440"/>
              <a:ext cx="2415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789880" y="2215800"/>
              <a:ext cx="21960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789880" y="2218680"/>
              <a:ext cx="21672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794560" y="2229480"/>
              <a:ext cx="1918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794560" y="2230920"/>
              <a:ext cx="1875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801040" y="2241360"/>
              <a:ext cx="1609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5805360" y="2253600"/>
              <a:ext cx="1360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805360" y="2255040"/>
              <a:ext cx="134640" cy="144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5810040" y="2265480"/>
              <a:ext cx="1101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817960" y="2276280"/>
              <a:ext cx="817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820840" y="2279160"/>
              <a:ext cx="7416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5827320" y="2289960"/>
              <a:ext cx="478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830560" y="2291400"/>
              <a:ext cx="417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842800" y="2300760"/>
              <a:ext cx="1224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752800" y="1969560"/>
              <a:ext cx="348480" cy="335520"/>
            </a:xfrm>
            <a:custGeom>
              <a:avLst/>
              <a:gdLst/>
              <a:ahLst/>
              <a:rect l="l" t="t" r="r" b="b"/>
              <a:pathLst>
                <a:path w="225" h="221">
                  <a:moveTo>
                    <a:pt x="61" y="221"/>
                  </a:moveTo>
                  <a:lnTo>
                    <a:pt x="48" y="211"/>
                  </a:lnTo>
                  <a:lnTo>
                    <a:pt x="37" y="197"/>
                  </a:lnTo>
                  <a:lnTo>
                    <a:pt x="29" y="177"/>
                  </a:lnTo>
                  <a:lnTo>
                    <a:pt x="21" y="155"/>
                  </a:lnTo>
                  <a:lnTo>
                    <a:pt x="16" y="133"/>
                  </a:lnTo>
                  <a:lnTo>
                    <a:pt x="13" y="116"/>
                  </a:lnTo>
                  <a:lnTo>
                    <a:pt x="10" y="103"/>
                  </a:lnTo>
                  <a:lnTo>
                    <a:pt x="10" y="99"/>
                  </a:lnTo>
                  <a:lnTo>
                    <a:pt x="0" y="0"/>
                  </a:lnTo>
                  <a:lnTo>
                    <a:pt x="37" y="0"/>
                  </a:lnTo>
                  <a:lnTo>
                    <a:pt x="44" y="16"/>
                  </a:lnTo>
                  <a:lnTo>
                    <a:pt x="50" y="29"/>
                  </a:lnTo>
                  <a:lnTo>
                    <a:pt x="69" y="52"/>
                  </a:lnTo>
                  <a:lnTo>
                    <a:pt x="90" y="70"/>
                  </a:lnTo>
                  <a:lnTo>
                    <a:pt x="116" y="85"/>
                  </a:lnTo>
                  <a:lnTo>
                    <a:pt x="171" y="106"/>
                  </a:lnTo>
                  <a:lnTo>
                    <a:pt x="225" y="129"/>
                  </a:lnTo>
                  <a:lnTo>
                    <a:pt x="61" y="221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847120" y="2168640"/>
              <a:ext cx="249120" cy="226080"/>
            </a:xfrm>
            <a:custGeom>
              <a:avLst/>
              <a:gdLst/>
              <a:ahLst/>
              <a:rect l="l" t="t" r="r" b="b"/>
              <a:pathLst>
                <a:path w="161" h="149">
                  <a:moveTo>
                    <a:pt x="0" y="86"/>
                  </a:moveTo>
                  <a:lnTo>
                    <a:pt x="161" y="0"/>
                  </a:lnTo>
                  <a:lnTo>
                    <a:pt x="161" y="57"/>
                  </a:lnTo>
                  <a:lnTo>
                    <a:pt x="5" y="14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5757840" y="2010600"/>
              <a:ext cx="97200" cy="383760"/>
            </a:xfrm>
            <a:custGeom>
              <a:avLst/>
              <a:gdLst/>
              <a:ahLst/>
              <a:rect l="l" t="t" r="r" b="b"/>
              <a:pathLst>
                <a:path w="63" h="253">
                  <a:moveTo>
                    <a:pt x="15" y="200"/>
                  </a:moveTo>
                  <a:lnTo>
                    <a:pt x="21" y="214"/>
                  </a:lnTo>
                  <a:lnTo>
                    <a:pt x="28" y="226"/>
                  </a:lnTo>
                  <a:lnTo>
                    <a:pt x="36" y="234"/>
                  </a:lnTo>
                  <a:lnTo>
                    <a:pt x="44" y="242"/>
                  </a:lnTo>
                  <a:lnTo>
                    <a:pt x="52" y="247"/>
                  </a:lnTo>
                  <a:lnTo>
                    <a:pt x="58" y="250"/>
                  </a:lnTo>
                  <a:lnTo>
                    <a:pt x="61" y="253"/>
                  </a:lnTo>
                  <a:lnTo>
                    <a:pt x="63" y="253"/>
                  </a:lnTo>
                  <a:lnTo>
                    <a:pt x="58" y="190"/>
                  </a:lnTo>
                  <a:lnTo>
                    <a:pt x="50" y="185"/>
                  </a:lnTo>
                  <a:lnTo>
                    <a:pt x="42" y="174"/>
                  </a:lnTo>
                  <a:lnTo>
                    <a:pt x="34" y="157"/>
                  </a:lnTo>
                  <a:lnTo>
                    <a:pt x="28" y="140"/>
                  </a:lnTo>
                  <a:lnTo>
                    <a:pt x="23" y="119"/>
                  </a:lnTo>
                  <a:lnTo>
                    <a:pt x="16" y="102"/>
                  </a:lnTo>
                  <a:lnTo>
                    <a:pt x="13" y="89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2" y="53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2" y="7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88"/>
                  </a:lnTo>
                  <a:lnTo>
                    <a:pt x="8" y="117"/>
                  </a:lnTo>
                  <a:lnTo>
                    <a:pt x="8" y="17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510280" y="2009160"/>
              <a:ext cx="3564720" cy="11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665960" y="201060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2003-200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6180840" y="211356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fied Modulation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6181200" y="2241360"/>
              <a:ext cx="91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ing, Forma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544840" y="2013480"/>
              <a:ext cx="1126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Service-Transpar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544840" y="212112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Wired/Wiirel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021000" y="2578680"/>
              <a:ext cx="54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6021720" y="270468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6727320" y="2434320"/>
              <a:ext cx="1479240" cy="2694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6710400" y="2400840"/>
              <a:ext cx="1469880" cy="2712960"/>
            </a:xfrm>
            <a:prstGeom prst="rect">
              <a:avLst/>
            </a:prstGeom>
            <a:solidFill>
              <a:srgbClr val="f0f0f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783120" y="2502360"/>
              <a:ext cx="107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fied Broadb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6783840" y="2652840"/>
              <a:ext cx="115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ications f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781680" y="2800440"/>
              <a:ext cx="109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door and indo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6781320" y="2949120"/>
              <a:ext cx="121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 is a fusion of ke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6782760" y="309780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chnologies--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6783120" y="324648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me are developing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782760" y="339372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s emerg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6782400" y="369144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maturity of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6781680" y="383868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rious technologi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6783120" y="3987360"/>
              <a:ext cx="120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ctates intermedi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6782040" y="413640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utions who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6783120" y="4286880"/>
              <a:ext cx="1263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abilities satisfy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6781320" y="4435560"/>
              <a:ext cx="105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 service valu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6783840" y="4584240"/>
              <a:ext cx="1263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dgment (cost, utility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782760" y="4731480"/>
              <a:ext cx="124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 a particular point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6783120" y="488016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782400" y="5029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84312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echnology “Superhighway On-Ramps” for Communications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8:01:04Z</dcterms:created>
  <dc:creator>Harry R. Worstell</dc:creator>
  <dc:description/>
  <dc:language>en-US</dc:language>
  <cp:lastModifiedBy>Harry R. Worstell</cp:lastModifiedBy>
  <cp:lastPrinted>1999-11-05T22:29:44Z</cp:lastPrinted>
  <dcterms:modified xsi:type="dcterms:W3CDTF">1999-11-09T21:13:22Z</dcterms:modified>
  <cp:revision>80</cp:revision>
  <dc:subject/>
  <dc:title>No Slide Title</dc:title>
</cp:coreProperties>
</file>