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3033-4BB1-4BF2-8E26-367530D29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7096-3642-446C-9C97-F68A9F3A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59EA-64A0-4295-8723-98F02A156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49B1-A4CF-48AA-8140-387BAF477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CF45-48D6-42F1-A61B-D1BB2F9A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987E-CF10-4637-93DA-78B778F3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1F87-147C-40E7-82F3-3A688E3E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DB60-9A49-40E3-96AB-88366DB1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0691-8F7E-4221-AF58-CFB15F75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9AD9-5081-4562-977D-AD165962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28E4-1638-42D9-BBC0-8F1E38F5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3289-A1EE-4311-8CAC-967F9C82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0E36-07AB-48A5-B836-00A565E54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600" y="396000"/>
            <a:ext cx="1241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486400" y="6475320"/>
            <a:ext cx="312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is Kuwahara,  Boe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11516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294B573-DE3F-49C6-81B3-188B35BB0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0/26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Study Grou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ory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uai, Hawa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-11 Nov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Study Grou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ory Issu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u Delaverson    Motor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 Johnson         WLAN Consul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is Kuwahara   Boe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chard Paine        Boe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ner Mim           Prox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Murray         N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ry Worstell      AT&amp;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 Ligh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4 GHz NPRM Com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GHz World W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K - RA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F Ligh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new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 if this is 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Action at This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4 GHz NPRM Com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of NPRM Com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4 Comments, 14 with Suppor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efuting Data F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d Draft Reply -- in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K -- RA Consult Do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G feels need for coexist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mmend ETSI/IEEE coexistence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y to UK RA RF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im Carlo, Fred Lucas, Vic Ha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GHz World W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G is still in 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 Position to US SG8a/9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C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9T07:57:46Z</dcterms:created>
  <dc:creator>Standard Software Service</dc:creator>
  <dc:description/>
  <dc:language>en-US</dc:language>
  <cp:lastModifiedBy>Standard Software Service</cp:lastModifiedBy>
  <dcterms:modified xsi:type="dcterms:W3CDTF">1999-11-11T02:47:34Z</dcterms:modified>
  <cp:revision>5</cp:revision>
  <dc:subject/>
  <dc:title>802.11 Regulatory Issues  Study Group</dc:title>
</cp:coreProperties>
</file>