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576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576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28600" y="698040"/>
            <a:ext cx="46022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94204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94204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0CB8E3-E35D-4F30-B41D-562CEB98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942400"/>
            <a:ext cx="225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Jul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6560" y="8940960"/>
            <a:ext cx="540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040" y="295200"/>
            <a:ext cx="55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7A9-2F33-45A6-AA94-9274AAEC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47F-AE78-42D7-A107-052676C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EDC-AA36-4BF0-B953-2D33F4BD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04E-E649-4170-A37E-0E2A843E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936-96FF-4D7F-A831-864203E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B9B-E6AA-4CAC-BB22-B04701C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1F8-C537-4DD1-88A0-8F8C0CBF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488-526A-46C9-94B9-1644FD5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BDE-3797-4BFD-B52C-D4544994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3CA-569B-4182-A8B1-B47C2C9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601-540B-4059-97D4-0945F84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774-815B-46AD-8674-15EF6B5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73560" y="6474960"/>
            <a:ext cx="674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D4FEFC-3ECA-4555-9AEB-1D186DF1F85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3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Nov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6320" y="6477120"/>
            <a:ext cx="782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59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ssion of meetings of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EEE P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8-12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oa,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ssion starts on Monday, Nov 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ss Code: ca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tool to follow discussions: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4FA-E593-47EF-A2F7-0AE8CF5961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e Meeting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0-14 - Tel Aviv, Israel, Interim (Breeze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6-10 - Hyatt Regency, Albuquerque, NM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8-12 - Renaissance Madison Hotel, Seattle, WA (Boe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0-14 - Hyatt Regency La Jolla, San Diego, CA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ept 18-22 - Memphis, TN (FedEx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6-10 - Hyatt Regency, Tampa, 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5D2-84E5-496E-8A70-E3783C9933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1 Awards for 8802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 Brock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i Moel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hny Zwe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4A3-89F3-451C-A7B6-7EAC1C5B38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2A5-D560-4913-BE40-C51DDAAD27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text for 802.11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PAR and 5 Criteria for SG MAC Enhanc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letters to liaison groups and to regulatory agencies as needed,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2000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307-BB36-4854-9375-2623FF35D5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ic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349280"/>
          <a:ext cx="868680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49280"/>
                    <a:ext cx="868680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406-02CB-4B82-8801-9972747FA7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:3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li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a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38-0B81-4158-BBDD-38C1B6E422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ub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ubmit the draft standard 11d to WG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mpower the group to resolve LB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UK-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FCC Reply Comments on 99-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043-5520-457F-8004-C50362B0C4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group Enhanced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for SG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ubmit PAR to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.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Chair to form Sponsor Ballot Group as soon as PAR has been ap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tart WG Letter Ballot so that Sponsor Ballot can start from the March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95A-A6C2-48F0-95A9-6E89CAF1C3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 802.11b C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UK-RA re Consult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FCC re 99-2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ITU-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ension for SG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ft PAR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989-CFCF-469F-AA23-D4C2576420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 for nex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work on the PAR and 5 Cr to be ready for submission to SEC, 30 days before March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pond to Reg ulatory events and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ing dates as soon as possible, weekly uploads, as the need arises in diskette format for those that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7D4-D272-4FBE-94A8-8025E259F6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terim meeting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:0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DA8-5D69-4133-94A2-2DD394D85A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vichayes</cp:lastModifiedBy>
  <cp:lastPrinted>1999-11-08T20:44:23Z</cp:lastPrinted>
  <dcterms:modified xsi:type="dcterms:W3CDTF">1999-11-11T23:02:57Z</dcterms:modified>
  <cp:revision>65</cp:revision>
  <dc:subject/>
  <dc:title>No Slide Title</dc:title>
</cp:coreProperties>
</file>