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46EE-21EC-4D6F-A066-319C79F07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125B-CD75-46BC-8A3B-373458BD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AFDE-9B16-4DB4-96B6-DB72E016C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9FC8-D173-4006-97A0-7FFEA5227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6DE5-FCC3-4223-92A2-AD417AF6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D0FD-B7F7-424E-AD70-82701DF3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95DF-AB6A-4512-825D-A5A3968E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7999-821B-495C-98E5-00E127B4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996D-EE61-4204-94B1-493636CD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A939-99E2-4F17-A74C-90A68126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C017-F266-43B6-B205-7D2D2548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A3A1-B478-4458-81E0-43E801CC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3BA967B-A5A8-4230-B1AD-DC82C4DF3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2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828800" y="1066680"/>
            <a:ext cx="5867280" cy="2210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81080" y="167652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ed-Solomon Coding for IEEE 802.11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94960" y="3581280"/>
            <a:ext cx="6434280" cy="19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is Heegard &amp; Matthew Shoem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antro Commun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jugopal Gubb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rew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 Communications and Sharewa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09F3-CD8A-4CD4-87C2-C010428D3DD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066680" y="828720"/>
          <a:ext cx="6912000" cy="51562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828720"/>
                    <a:ext cx="6912000" cy="51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838080" y="914400"/>
            <a:ext cx="7543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 Communications and Sharewav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7877-652B-411B-94C1-37E5DA614D8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154160" y="898560"/>
          <a:ext cx="6923160" cy="51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4160" y="898560"/>
                    <a:ext cx="6923160" cy="51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838080" y="914400"/>
            <a:ext cx="7543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 Communications and Sharewav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A992-314F-44E6-99FF-48BC523491A5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219320" y="942840"/>
          <a:ext cx="6759360" cy="50421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42840"/>
                    <a:ext cx="6759360" cy="50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838080" y="914400"/>
            <a:ext cx="7543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 Communications and Sharewav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45F5-6AC3-40DF-A71F-BC3785F24976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Parameters of Reed-Solomon Codes for MPEG Video Packet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F256 (8 bit byte symb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n &lt;= 257, k = n-2*t, d = 2*t+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correct t err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PEG-2 Packets, k = 188, n = 188+2*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 Communications and Sharewa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F152-C36D-42FC-BDA7-512DC198AB0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83808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CK at 11 Mbps, Es/No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752480" y="1752480"/>
            <a:ext cx="5295960" cy="4348440"/>
            <a:chOff x="1752480" y="1752480"/>
            <a:chExt cx="5295960" cy="4348440"/>
          </a:xfrm>
        </p:grpSpPr>
        <p:pic>
          <p:nvPicPr>
            <p:cNvPr id="61" name="CCK11EsPreview" descr=""/>
            <p:cNvPicPr/>
            <p:nvPr/>
          </p:nvPicPr>
          <p:blipFill>
            <a:blip r:embed="rId1"/>
            <a:stretch/>
          </p:blipFill>
          <p:spPr>
            <a:xfrm>
              <a:off x="1752480" y="1752480"/>
              <a:ext cx="5295960" cy="43484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2" name=""/>
            <p:cNvGraphicFramePr/>
            <p:nvPr/>
          </p:nvGraphicFramePr>
          <p:xfrm>
            <a:off x="5791320" y="2857680"/>
            <a:ext cx="1170000" cy="4190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791320" y="2857680"/>
                      <a:ext cx="117000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 Communications and Sharewav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6EB1-0BDD-4F93-9671-C2F41C9BC2E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83808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BCC at 11 Mbps, Es/No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752480" y="1609560"/>
            <a:ext cx="5372280" cy="4410360"/>
            <a:chOff x="1752480" y="1609560"/>
            <a:chExt cx="5372280" cy="4410360"/>
          </a:xfrm>
        </p:grpSpPr>
        <p:pic>
          <p:nvPicPr>
            <p:cNvPr id="66" name="PBCC11EsPreview" descr=""/>
            <p:cNvPicPr/>
            <p:nvPr/>
          </p:nvPicPr>
          <p:blipFill>
            <a:blip r:embed="rId1"/>
            <a:stretch/>
          </p:blipFill>
          <p:spPr>
            <a:xfrm>
              <a:off x="1752480" y="1609560"/>
              <a:ext cx="5372280" cy="4410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7" name=""/>
            <p:cNvGraphicFramePr/>
            <p:nvPr/>
          </p:nvGraphicFramePr>
          <p:xfrm>
            <a:off x="5840280" y="2743200"/>
            <a:ext cx="1170000" cy="4190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840280" y="2743200"/>
                      <a:ext cx="117000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 Communications and Sharewav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4704-3B91-4AA0-96F8-C1C1EBC5344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83808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CK at 11 Mbps, Eb/No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905120" y="1633680"/>
            <a:ext cx="5327640" cy="4329000"/>
            <a:chOff x="1905120" y="1633680"/>
            <a:chExt cx="5327640" cy="4329000"/>
          </a:xfrm>
        </p:grpSpPr>
        <p:pic>
          <p:nvPicPr>
            <p:cNvPr id="71" name="CCK11EbPreview" descr=""/>
            <p:cNvPicPr/>
            <p:nvPr/>
          </p:nvPicPr>
          <p:blipFill>
            <a:blip r:embed="rId1"/>
            <a:stretch/>
          </p:blipFill>
          <p:spPr>
            <a:xfrm>
              <a:off x="1905120" y="1633680"/>
              <a:ext cx="5327640" cy="43290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72" name=""/>
            <p:cNvGraphicFramePr/>
            <p:nvPr/>
          </p:nvGraphicFramePr>
          <p:xfrm>
            <a:off x="5916600" y="2705040"/>
            <a:ext cx="1170000" cy="4190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916600" y="2705040"/>
                      <a:ext cx="117000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 Communications and Sharewav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8C1F-C96B-45FB-AF14-EE1693640C7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83808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BCC at 11 Mbps, Eb/No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752480" y="1519200"/>
            <a:ext cx="5632560" cy="4576680"/>
            <a:chOff x="1752480" y="1519200"/>
            <a:chExt cx="5632560" cy="4576680"/>
          </a:xfrm>
        </p:grpSpPr>
        <p:pic>
          <p:nvPicPr>
            <p:cNvPr id="76" name="PBCC11EbPreview" descr=""/>
            <p:cNvPicPr/>
            <p:nvPr/>
          </p:nvPicPr>
          <p:blipFill>
            <a:blip r:embed="rId1"/>
            <a:stretch/>
          </p:blipFill>
          <p:spPr>
            <a:xfrm>
              <a:off x="1752480" y="1519200"/>
              <a:ext cx="5632560" cy="45766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77" name=""/>
            <p:cNvGraphicFramePr/>
            <p:nvPr/>
          </p:nvGraphicFramePr>
          <p:xfrm>
            <a:off x="6068880" y="2666880"/>
            <a:ext cx="1170000" cy="419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068880" y="2666880"/>
                      <a:ext cx="1170000" cy="41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 Communications and Sharewav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8EC6-A869-4DB4-AE6A-EA6E6C945FF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5T17:06:24Z</dcterms:created>
  <dc:creator>CH</dc:creator>
  <dc:description/>
  <dc:language>en-US</dc:language>
  <cp:lastModifiedBy>Bozo T. Clown</cp:lastModifiedBy>
  <cp:lastPrinted>1999-10-15T02:12:22Z</cp:lastPrinted>
  <dcterms:modified xsi:type="dcterms:W3CDTF">1999-11-10T19:04:11Z</dcterms:modified>
  <cp:revision>109</cp:revision>
  <dc:subject/>
  <dc:title>No Slide Title</dc:title>
</cp:coreProperties>
</file>