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0AE4-24E0-40E8-8D4A-FDBF9591E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CBFD-0B44-4F63-9FB2-C32278C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4C95-DAA5-4EF8-8454-62C79CA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068C-8084-4FBB-9939-676182E43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BFB3-0C0E-4651-BC5B-CD187F7C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6D9D-35C0-419B-BD0D-18F50408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B854-0979-4B9F-B5CC-E85A3D48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CEF9-9F60-4765-A08D-B6A88003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E123-D255-4319-88AA-6FAE1E0F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EDD0-9E33-435D-8E07-89A1B058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A2E3-76E0-41AA-A48A-5BC880FC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640A-4277-4185-923A-275493D4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4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Beach, Symbol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6320" y="609480"/>
            <a:ext cx="77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248520"/>
            <a:ext cx="782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8C21-A91A-43CF-8B98-FE76350AAF4F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17E528-9F22-4EF7-B773-58FCEB562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Issues with 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2149-3E9F-43F6-BB22-9F3A2F33C8C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456A5-EC02-40AD-8053-6E1511763A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ual User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buys AP and attaches it to office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periment/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ist others in breaking into corporate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ttached, the corporate net is wide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mins are unaware of new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at corporate security has now been completely compro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1C66-B01F-4CA2-B9D9-D11413CEFE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BF075-4639-499E-85E6-496394B4D5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on of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eans to detect presence of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ministrators can detect all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disa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9914-3EF2-49B1-89AF-9693DDEACA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9C3BA-EFDA-47A3-B380-DE289307E4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uthentic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enterprise authentication solutions on the hori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2000 uses Kerb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mechanisms may support WLAN authentication and ke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authentication may interfere with such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5543-269D-42A5-9830-AAF4E84B1F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6A4E5-9244-4B08-A763-56785D1184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uthentic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vels of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r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ate, then associate model prevents limited access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 may communicate with authentication servers but nothing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Kerberos may use Network Time Protocol to obtain 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E617-E587-41E5-AE76-57CC707DB6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1C2D8-697C-4C3D-B0FF-CFB65C62DB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Impr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levels of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uthentication server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out authentication and encryp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authentication, but WEP for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4D9F-EAC1-479C-8B43-DF4F406B0F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66F9F-2B7A-45B2-A4AD-63CB6EE7CB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was designed for a generally benig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s are very tempting to hac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attached to corporat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ypes of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issues that need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just WEP key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AD8E-A362-46ED-B5D9-F39BC5040B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23244-5F74-4E2F-AACA-6FCF1A2B2E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tations of W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s available for the 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physical access to corporat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passes corporate fire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 and AP technology readily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still learning to install/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is moderately defen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354B-78A2-4A3E-B30A-921B7BD630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E793C-BA05-4381-A7FC-5315E54613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s and Attackers are Var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ing into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l data, corrup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IP addresses for other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disruptions are as bad as break-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 Ex, UPS use wireless LANs for package s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s are worldwide and orga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hief/fun, ideological, com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BAAB-7510-4FBF-AC5A-7B3310A26C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BBF0E-151A-4403-AB7B-3FF77ACB2E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ecu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relatively benig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Authorization/encry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of RF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Address Fo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of Unauthorized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802.11 authorization mechanism and other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A520-4671-45B9-BD14-D9FDDA4118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2B944-BF5A-436B-8699-74826E49AD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 of RF Protoc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of phony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ans to verify identity of s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ompletely (or partially) disrupt net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3457-BF8E-4D19-A501-9EB6FF2606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304EB-0F2D-410D-8B93-E6EE77FAE1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F Protocol Att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associate requests consume AP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ower management mod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RTS/CTS Packets waste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Disassociate requests disconnect 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beacons to consume MU battery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robe responses confuse MU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oll requests steal MU’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1389-7ACF-46E3-8AF4-F1F2F8B410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C7567-5C1C-492C-8D57-FD68564D4A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Protocol Integrity Reqm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to verify identity of s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to prevent replay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and retransmission of “good pack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2CBB-FD61-4BB0-BC75-328F6C5D16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4AFEC-70BC-432C-BCED-0A44F8A5AA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Address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dresses are subject to Forg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Vendors NIC cards can be reprogram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development kits from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endors rely on Access Control Lists for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eans to verify MAC address/MU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1A56-1DE5-4E51-B528-B42BD7967D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32E80-F5D1-41C4-B8EC-342C58790B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uthorized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in the parking lo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MAC address as real 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s Mobile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may be simple mischief  or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Disrupt operation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looks okay, but nothing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 Mobile Unit 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to MU, break in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853D-FAAA-4FF6-A79A-244FF8EB68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87BFF-00E5-4C06-BB42-1C69DF6E25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9:06:16Z</dcterms:created>
  <dc:creator>Bob Beach</dc:creator>
  <dc:description/>
  <dc:language>en-US</dc:language>
  <cp:lastModifiedBy>Bob Beach</cp:lastModifiedBy>
  <cp:lastPrinted>1999-09-29T19:25:50Z</cp:lastPrinted>
  <dcterms:modified xsi:type="dcterms:W3CDTF">1999-11-10T19:04:27Z</dcterms:modified>
  <cp:revision>28</cp:revision>
  <dc:subject/>
  <dc:title>Security Issues with IEEE 802.11</dc:title>
</cp:coreProperties>
</file>