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ts val="2999"/>
              </a:lnSpc>
              <a:buClr>
                <a:srgbClr val="0066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ts val="2999"/>
              </a:lnSpc>
              <a:buClr>
                <a:srgbClr val="0066ff"/>
              </a:buClr>
              <a:buFont typeface="Arial"/>
              <a:buChar char="~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ts val="2999"/>
              </a:lnSpc>
              <a:buClr>
                <a:srgbClr val="0066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ts val="29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ts val="29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Slide </a:t>
            </a:r>
            <a:fld id="{D4823E4F-330E-48BC-A02A-5827369FA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Dr. Rajugopal Gubbi,ShareW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094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320" y="76320"/>
            <a:ext cx="906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, 1999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doc.:IEEE P802.11-99/2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2057400"/>
            <a:ext cx="883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ff"/>
                </a:solidFill>
                <a:latin typeface="Arial"/>
              </a:rPr>
              <a:t>Streaming Support for 802.11b MA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4343400"/>
            <a:ext cx="263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r. Rajugopal Gub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Nov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0BCAF-9EF4-4B44-B41A-B0602C4F97B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Is Stream Different From (Async) Data?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or no latency restri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delivery not an iss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data frames are treated equa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5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e to latency in deliv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5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throughput is an issue as it controls how many streams can be effectively transported at any given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5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s from different streams can NOT be treated equa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86DFA-1ACD-41AF-B5E1-32F4634D8DE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What is a Stream?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 are virtual connections over the data frame based MAC/PHY servi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ream is also a set of frames from one application requiring specific services and a specific range of parameter values for the required services. Some of the examples of the services ar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ncy: How often the stream frames are transmitted independent of the network traffic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: How many stream frames are transmitted per second independent of the network traffic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: How important is this stream compared to other traffic on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protection: How much error correction or retransmission is carried out on the frames of the str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2AB1F-A0CB-4211-B382-512EF52CD06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Why Streaming?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ources of streams requiring Qos over 802.11B LANs 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le modem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L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 algn="just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media data generated inside 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 quality 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EG or other Video streams from camcorders/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 algn="just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ll these data are treated equally at 802.11B MAC, the effort of these layers to provide QoS will be undone at 802.11B M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04767-B00D-4979-8E32-5B558C4F95A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Some Delivery Requirements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678600" indent="-22608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EG needs 4-5Mbps bandwidth for reasonable quality video and can afford latency of about 3 video frames (approx. 100mse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P needs 64Kbps (or less) but has the latency requirements in the order of 10m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games could have varying bandwidth requirement depending on the information exchanged but strict latency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retransmissions of a video or voice data frame is limited due to the required large bandwidth and/or the latency involved. Hence need good channel pro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re are data frames of different types at the same STA, their transmission needs to be prioritized to provide better service to more important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AFF90-B4B8-44B7-927D-8A15D679E42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transmission requirements of different data types demand support for stre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 requires peer-peer communication during CF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ing to broadband needs preservation of Quality of service (Q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6480" algn="just">
              <a:lnSpc>
                <a:spcPts val="4000"/>
              </a:lnSpc>
              <a:buClr>
                <a:srgbClr val="0066ff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 Classes, BW reservation , Bounded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erence in the wireless channel demands better mechanisms to improve the channel through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coordinators of different BSSs in a nearby locations need to share channel in an efficient, organized m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Why is Enhancement Requi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F0F83-F334-475F-B7FF-E9434FCDAE0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-34596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support at the MAC level for streams and priority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sion free channel sharing by multiple overlapping BS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ccess mechanism for Beac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correction based on type of str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 based retransmissions based in type of str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agility to move over to a better channel from a severe chan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What are the Required Enhancem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D2A1B-17EF-4B12-BE9E-E6DF7EB1089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2680" indent="0" algn="just">
              <a:lnSpc>
                <a:spcPts val="4499"/>
              </a:lnSpc>
              <a:buNone/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. They are compatible. There is NO CHANGE to the existing DCF and PCF S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28600" algn="just">
              <a:lnSpc>
                <a:spcPts val="4499"/>
              </a:lnSpc>
              <a:buClr>
                <a:srgbClr val="0066ff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acon, CFP and NAV currently exist in 802.1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28600" algn="just">
              <a:lnSpc>
                <a:spcPts val="4499"/>
              </a:lnSpc>
              <a:buClr>
                <a:srgbClr val="0066ff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mechanism for Beacon can be overlaid over D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28600" algn="just">
              <a:lnSpc>
                <a:spcPts val="4499"/>
              </a:lnSpc>
              <a:buClr>
                <a:srgbClr val="0066ff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correction can be made available only for str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28600" algn="just">
              <a:lnSpc>
                <a:spcPts val="4499"/>
              </a:lnSpc>
              <a:buClr>
                <a:srgbClr val="0066ff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ntrol frames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in them can be defined without affecting the compatibility with the existing 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Are These Enhancements Compati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BBD53-827C-4B14-BF43-EC4F4096E62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ts val="3498"/>
              </a:lnSpc>
              <a:buNone/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ecause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ts val="3498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stream enhancements to the 802.11 are possi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ts val="3498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imple but efficient scheduling mechanism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ts val="3498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complexity error correction schemes with little bandwidth overhead are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ts val="3498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, low complexity selective retransmission mechanism is poss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ts val="3498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form of channel agility is already present in 802.11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ts val="3498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quired co-ordinations can be achieved by simple control information exchange between the devices based on the dem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Are the Enhancements Feasi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5D502-AD74-476E-B3A3-6B066D6CBCD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2T01:29:48Z</dcterms:created>
  <dc:creator>Dr. Rajugopal Gubbi, Network Architecture Manager</dc:creator>
  <dc:description/>
  <cp:keywords>wireless networks architecture whitecap home networks isochronous streams network services</cp:keywords>
  <dc:language>en-US</dc:language>
  <cp:lastModifiedBy>Harry R. Worstell</cp:lastModifiedBy>
  <cp:lastPrinted>1999-09-09T16:30:38Z</cp:lastPrinted>
  <dcterms:modified xsi:type="dcterms:W3CDTF">1999-11-10T20:15:28Z</dcterms:modified>
  <cp:revision>747</cp:revision>
  <dc:subject>Overall multimedia streaming Proposal for 802.11B</dc:subject>
  <dc:title>Overall multimedia streaming Proposal presentation to 802.11B</dc:title>
</cp:coreProperties>
</file>