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856-2339-4DE3-A346-5A67D077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943-8CA8-48F1-B57A-FC147510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3FE-1FBE-41DE-BB25-DCC6240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972-B9E1-4E54-809F-1132B9C1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FDD-010A-4587-ACCD-93E2421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42F-CB03-48A7-A26B-2A2673D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8C2-DC87-4CCA-B49F-553A0C2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022-B736-4CB7-9BA8-A69C58C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C67-F27B-46FC-BDAF-55196F2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316-6C2A-4FC1-A9D7-F9CB3D0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D77-7E9A-4358-90D9-1A4CFFA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55D-0760-4DBB-889E-DEA1BA3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F4B669-7A95-4F40-8251-96F80B10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F12-4DB1-43FF-A101-06AC69A4DB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draft for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657-D517-4D46-B4CC-7FBEDBA697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6E2-1DD0-487B-9612-EFF6AB1955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ssue TGd draft 0.2 contained in document P802.11d Draft0.2.doc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729-D5AC-4414-979D-B5B67AD85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January interim meeting to process comments on the TGd letter ballot and to issue a new draft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FE8-1E75-4CDA-9E9E-B19E2389A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28:03Z</dcterms:modified>
  <cp:revision>11</cp:revision>
  <dc:subject/>
  <dc:title>TGd Agenda</dc:title>
</cp:coreProperties>
</file>