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D8D08-FC86-4ED5-8228-19EBD68AB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B83BC-3243-40E3-A2ED-B1B88B57A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3B69C-D32F-4334-8FD3-7B367BB88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7044A-C673-4F4F-AFCC-10EC2ED76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F1AA1-3C4A-40EF-812F-1B536228C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DCD33-17B5-4DCA-9C85-AC6994794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BFE9C-66B8-417D-BC33-EE4346D01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C8CF5-391F-4B36-8267-79C2F229E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7D123-CEE7-44DC-BA52-F66159C7E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B0E52-87DA-4685-94CD-541B13D63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8646B-0B40-4BEC-B19D-B86DC0450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1FE5A-220F-46D3-8466-875B3A788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395640"/>
            <a:ext cx="82872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28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83639817-FDDA-4569-989D-3F6694C967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99/25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ad Balancin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 Criter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arten Hoeb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nowires" descr=""/>
          <p:cNvPicPr/>
          <p:nvPr/>
        </p:nvPicPr>
        <p:blipFill>
          <a:blip r:embed="rId1"/>
          <a:stretch/>
        </p:blipFill>
        <p:spPr>
          <a:xfrm>
            <a:off x="2438280" y="4568760"/>
            <a:ext cx="3886200" cy="917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. Hoeben - No Wires Need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. Broad Market Potent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urrently not part of the 802.11 MAC, but very often an important evaluation criter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garded as essential for application of 802.11 based systems in densely populated are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vendors already incorporate proprietary solutions in their produ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. Hoeben - No Wires Need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. Compatibility with IEEE Standard 80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ad balancing is just another parameter in the roaming decision made by the station based on extra information about the load of an access poi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is a pure MAC change (PHY is un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does not change the LLC interf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ad balancing aware implementations will benefit from new function, current implementations will continue to work as bef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. Hoeben - No Wires Need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. Distinct ident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 applic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’re simply adding something that improves the performance of 802.11 based systems in densely populated are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. Hoeben - No Wires Need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. Technical feasi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me extra information fields in the Beacon and Probe Response frames is enoug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ust another parameter in the roaming decision of st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 that this is more an implementation iss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simple modifications to the stand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en technolo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prietary systems already implement load balancing sche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. Hoeben - No Wires Need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. Economical feasi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aightforward implementation, backward compatibility and proven technology make load balancing economical feasi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. Hoeben - No Wires Need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7T05:07:03Z</dcterms:created>
  <dc:creator>Maarten Hoeben</dc:creator>
  <dc:description/>
  <dc:language>en-US</dc:language>
  <cp:lastModifiedBy>Maarten Hoeben</cp:lastModifiedBy>
  <dcterms:modified xsi:type="dcterms:W3CDTF">1999-11-09T08:12:13Z</dcterms:modified>
  <cp:revision>7</cp:revision>
  <dc:subject/>
  <dc:title>Load Balancing PAR Criteria</dc:title>
</cp:coreProperties>
</file>