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1B4-D9FA-4A63-A90B-1291B9B5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D9D5-3E06-46F1-AAD5-77DD02B0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0B5-1D5C-46A0-B162-9BC0B678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7D34-194F-4492-AF04-ED5E55FA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7F1-DCEA-48A5-AB02-D7E27953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EA2-D2FC-4EDC-B32B-F45475FB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550-4C06-4AC7-BF84-44FB39CF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38B3-D076-48B5-B37B-909705FC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1CE-8A80-44C2-BDC8-50004EC9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503-4CDF-4917-82A5-41F457FA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942-8B00-4B67-BB2D-D44A7AB4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A03-B598-40E8-815E-75C37D54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Chair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7CE4131-EA56-4063-88DE-F4627FA40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360" y="6446880"/>
            <a:ext cx="974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 1999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 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0EB-26E9-4CE1-B403-2C186F7B8E7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o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for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B29-10C5-432A-A34B-A21B4BBBB1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for 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O’Hara: 99/244 Communication of PHY Specific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Zegelin: 99/257 International Ro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C8C-42D0-4193-A99E-F1D13578DD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Action for Tues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into one or more small groups to draft text for the stand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nvene Wednesday morning at 10:30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FA0-E965-45A3-99FC-38EB3BA707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ion of proposed text for the draft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5F7-9052-498A-B60A-33950B8CF4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Bob O'Hara</cp:lastModifiedBy>
  <cp:lastPrinted>1998-02-10T13:28:06Z</cp:lastPrinted>
  <dcterms:modified xsi:type="dcterms:W3CDTF">1999-11-11T22:30:22Z</dcterms:modified>
  <cp:revision>11</cp:revision>
  <dc:subject/>
  <dc:title>TGd Agenda</dc:title>
</cp:coreProperties>
</file>