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AAD-4F70-4CD5-BAFF-BC313C51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126-3B35-490B-816C-910F6EB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E55-D9D8-4876-8094-3995BAD1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DBF-A1E6-4248-BDBE-B547DB10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83E-2DE5-4404-9282-58B6647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05D-B491-4F5D-83F7-3124B46A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7FE-7B18-4ABB-A3DC-F92B91AE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6CE-33F7-4044-851F-E8CF645B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029-4219-491C-BB29-17FC28F1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791-03CC-45EB-8531-9897EEC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1B8-6B9E-492C-A740-ED29733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2EC-5130-4949-AE1B-3AA140D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an Winkowski, BreezeCOM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3195C6-CD4B-47A5-A23C-9EBB5E8B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doc.: IEEE 802.11-99/2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Protocol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Winkow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 L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A39-A257-4111-932D-4384728660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New PHY’s defined lately in 802.11, while MAC remained stat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Efficiency was analyzed for different packet sizes as well as different transaction scena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Analisys was performed on a transaction 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Substantial degradation in protocol effici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76C-C82A-4E77-BD5E-DFD8AEE325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mount of Networ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, 400 and 1500 bytes Data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ransaction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C (Data-Ack and  RTS-CTS-Data-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F (CF-Poll{+Data}-CF-Ack{+Data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D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minal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Mbps, 11Mbps, 24Mbps and 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90920" y="1676520"/>
          <a:ext cx="3047760" cy="107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3047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A89-EE2B-4690-B055-94608E3C87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C Efficiency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like Collisions and Backoff were not considered, thus efficiency is actually 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600200"/>
          <a:ext cx="88390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F20-05F5-4786-BAEF-8E972C4C03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: Data-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5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8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4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7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828800"/>
          <a:ext cx="70102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0102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613-B1D5-4B2C-9E3A-2A6EE0A36B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C: RTS-CTS-Data-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1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1685880"/>
          <a:ext cx="70866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85880"/>
                    <a:ext cx="70866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266-332B-4C38-A1AC-E96A2F81DB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performance depends on protoco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simulation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length: 400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 of different trans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ata (CF-Poll) - Data (CF-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F-Poll - Data (with CF-Ack on next po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ata (CF-Poll) - CF-Ack (No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F-Poll (No Data) - P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996-EA0F-4871-9503-ADE8CBDC4B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fficiency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676520"/>
          <a:ext cx="8153280" cy="14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0" y="2971800"/>
          <a:ext cx="464832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971800"/>
                    <a:ext cx="4648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209-C571-4705-9E10-1E470B9A26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antitative efficiency degradation in all scenarios analy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sible improvements propos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frames for Data and Control information (specially in short fra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of feedback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in advance by the AP (PCF improv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09B-469A-41E3-B229-14EEFFF2F5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8:29:19Z</dcterms:created>
  <dc:creator>Alan Winkowski</dc:creator>
  <dc:description/>
  <dc:language>en-US</dc:language>
  <cp:lastModifiedBy>Alan Winkowski</cp:lastModifiedBy>
  <cp:lastPrinted>1998-02-10T13:28:06Z</cp:lastPrinted>
  <dcterms:modified xsi:type="dcterms:W3CDTF">1999-11-09T19:11:27Z</dcterms:modified>
  <cp:revision>8</cp:revision>
  <dc:subject/>
  <dc:title>Protocol Efficiency</dc:title>
</cp:coreProperties>
</file>