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480"/>
            <a:chOff x="0" y="4206960"/>
            <a:chExt cx="9166320" cy="28504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5678280" y="6553080"/>
            <a:ext cx="347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RIS ZEGELIN, Symbol Technologies In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226440" y="65530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928560" y="1522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: IEEE 802.11 99/25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150480" y="1522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3617280" y="6553080"/>
            <a:ext cx="14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602ABD6F-70B2-4C92-9A10-22650C8F3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228600" y="6553080"/>
            <a:ext cx="876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228600" y="457200"/>
            <a:ext cx="876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533520"/>
            <a:ext cx="9177480" cy="6523920"/>
            <a:chOff x="0" y="533520"/>
            <a:chExt cx="9177480" cy="6523920"/>
          </a:xfrm>
        </p:grpSpPr>
        <p:sp>
          <p:nvSpPr>
            <p:cNvPr id="74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6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8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8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3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1"/>
          </p:nvPr>
        </p:nvSpPr>
        <p:spPr>
          <a:xfrm>
            <a:off x="563832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RIS ZEGELIN, Symbol Technologie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76280" y="152280"/>
            <a:ext cx="21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: IEEE 802.11 - 99/257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800" y="640080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00" y="1522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5880" y="6400800"/>
            <a:ext cx="14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37FB8E25-672D-4351-80FE-53E481847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INTERNATIONAL ROAMING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PLE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WORLD 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6400800"/>
            <a:ext cx="868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57200"/>
            <a:ext cx="868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WHAT IS REQUIRED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MEET REGULATORY REQ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GET HELP FROM INDUSTRIES TO BRING SOME COUNTRIES IN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RABLE NOT TO REV THE M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 IT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BLE FOR ALL PH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RRENT MAC HAS SOME PHY SPECIFIC MANAGEMENT ENT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BLE FOR IB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BE CAREF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HOW IT WORK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POINTS KEEP THE COUNTRY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MUST BE CONFIG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IVE SCANNING USED ON MOBIL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XMIT TILL A VALID CHANNEL IS 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LEMENTS IN PROBE / PROB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E FOR COUNTRY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D WITH COUNTRY SPECIFIC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ONFIGURATION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A (AP?) MUST BE CONFIGURED TO CORRECT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W MIB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ENABLES INTERNATIONAL ROA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IS VARIABLE IS SET, A STA WILL DROP BACK TO PASSIVE SCANNING IF IT LOSSES SYNC WITH IT’S CURRENT 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BLE FOR WIRELESS AP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NEW ELEMENT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S COUNTRY SPECIFIC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B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 NAME STRING (NOT ABSOLUTELY REQUIRED, BUT GOOD FOR PROOF OF COMPLI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 SPECIFIC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S, CHANNEL #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H, HOP CHARACTER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FH ELEMEN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802.11, 1 = HOP DE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 - RANDOM TO INDEX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 = NUMBER OF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 THAT HOP DELTA COUNTRIES DO NOT INCLUDE THIS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DS ELEMEN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1:04:07Z</dcterms:created>
  <dc:creator>Ed Geiger</dc:creator>
  <dc:description/>
  <dc:language>en-US</dc:language>
  <cp:lastModifiedBy>Ed Geiger</cp:lastModifiedBy>
  <dcterms:modified xsi:type="dcterms:W3CDTF">1999-11-09T03:31:29Z</dcterms:modified>
  <cp:revision>4</cp:revision>
  <dc:subject/>
  <dc:title>INTERNATIONAL ROAMING</dc:title>
</cp:coreProperties>
</file>