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29E-FEDC-409A-B1E6-6C654AF6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6A9-22C8-44F6-AF21-EC4798E0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3B8-952A-4581-ADD5-AE7A6CF4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430-88AC-4115-BF3B-7DA6409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E5B-C4E7-459B-8A06-1AB709A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213-5695-4C4E-9699-56325D8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D2B-3821-4BD6-AD50-BDAD869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B9C-961E-4DE5-B224-9BCE15C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DCD-22B7-45F0-A105-5D5AD419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3BC-C28C-4594-9168-76B1338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BB9-4A54-4C45-9447-13AA2EA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98F-1A67-4234-9CCC-C0C1DA09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47AED9-13F4-4726-A2CD-CD31E942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custom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438280" y="4568760"/>
            <a:ext cx="3886200" cy="9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road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need to incorporate new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er then IEEE can standardiz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need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requires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requires mechanisms to accommodate thes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/3. Compatibility with IEEE Standard 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imply adding something improves interoperability of systems with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echn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management frames already allows frame customization through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serve element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explicit that the extension of managements frames with additional elements is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implementations require no or minor modifications to be compa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Econom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implementations are already compatible with extended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ark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5:30:38Z</dcterms:created>
  <dc:creator>Maarten Hoeben</dc:creator>
  <dc:description/>
  <dc:language>en-US</dc:language>
  <cp:lastModifiedBy>Maarten Hoeben</cp:lastModifiedBy>
  <dcterms:modified xsi:type="dcterms:W3CDTF">1999-11-09T08:12:16Z</dcterms:modified>
  <cp:revision>5</cp:revision>
  <dc:subject/>
  <dc:title>Frame customization PAR Criteria</dc:title>
</cp:coreProperties>
</file>