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ECD-D57A-4033-BA77-0617CB59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41A-C083-41CE-A7F9-9BE9D1BA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DE4-72B3-43A2-B251-ECD0B08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150-3339-4FCF-BE76-9F8A1917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6E6-84A7-40DB-A1E9-7C603ECE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639-B3A8-4D13-B931-28B0E87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824-0E9E-4E76-BF09-7E476A99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E13-D1B1-434C-A077-63151755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178-F832-406D-80CA-032A0EF8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48D-6EBE-4083-AAE6-F7EA1FB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30E-579F-4DCC-BC07-2ECE9BA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60C-9DAE-4FA3-9056-AF0254B9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Informed Technology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BEE910-5B57-48DA-A30A-2F5B6D0CA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DS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08E-D432-4160-B6F4-71ABCDF84F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lgorithm to Assig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 parameters are all that ar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band edg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guard b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bandwidt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pac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can be determined through simpl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636-BDAC-44A3-A4F3-49CA75ADAD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00200" y="2057400"/>
          <a:ext cx="5943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5943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F36-BE4C-4A31-B2C6-CFD64F3125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66680" y="2057400"/>
                <a:ext cx="2667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66680" y="2666880"/>
                <a:ext cx="4800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3200400"/>
                <a:ext cx="3429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ac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66680" y="4419720"/>
                <a:ext cx="266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66680" y="4952880"/>
                <a:ext cx="46483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BC3-C33E-4084-B638-19CF8C7555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U.S. Channe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1752480"/>
                <a:ext cx="256536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a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06F-EF3C-4B44-A690-263C98C06E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Bob O'Hara</dc:creator>
  <dc:description/>
  <dc:language>en-US</dc:language>
  <cp:lastModifiedBy>Bob O'Hara</cp:lastModifiedBy>
  <cp:lastPrinted>1998-02-10T13:28:06Z</cp:lastPrinted>
  <dcterms:modified xsi:type="dcterms:W3CDTF">1999-09-13T21:01:14Z</dcterms:modified>
  <cp:revision>2</cp:revision>
  <dc:subject/>
  <dc:title>Universal DS Channelization</dc:title>
</cp:coreProperties>
</file>