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2724-6E34-452B-9EF8-6D6501135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5052-6305-42AC-A343-4C906E987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C958-951D-4885-92B1-53906C812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E186-8C56-4133-BD98-34F164330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BEF2-C2C8-47DB-A18C-D5CAFDD3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60E7A-4502-407A-B5AE-B442CB3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FAB06-0049-403B-85DF-C958D671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E290-5B73-4E66-8B6A-A936DAB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B83DC-B0CE-4665-857D-4BE28729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E833-386E-495E-9A34-ECE0387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91693-8FD4-4396-AECA-9C262E5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73BC-CFF7-434A-A3BF-4EAE03864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B714-2CC0-4B91-9D48-B329B28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A968-1A1E-4BD5-9EB9-CBF1B28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DB0AD-1C41-4DE3-896F-D5EDC33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70D8-EF95-45EB-A855-EB15EF85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1AA4-3551-4694-AC42-7188CE5C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611D-21D2-4F28-8888-925B2260C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2ADF-393E-4018-B02F-41CC2BC5D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AE5E-DD1A-4543-B3C9-899D5B54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0C16-C8AD-41A7-BAFD-A8698BF55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95CE-AFFE-47DE-817B-E8630CFB5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4923-0768-494E-9523-FE260A239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F0EE-4ED8-429C-9A58-1B283390C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99072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6520" y="227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0600" y="3042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5176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F5FCD0-FE07-4AF3-B44F-4FB97E04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65360" y="582480"/>
            <a:ext cx="2203560" cy="173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E1AC6B-10A6-4E18-B1A7-8A02492D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6680" y="394668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66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deband FH NPRM Mo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7320" y="4083120"/>
            <a:ext cx="6457680" cy="17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en Mann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hair, HomeRF Working Grou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l Corporation &lt; ben.manny@intel.com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EEE 802.11&amp;15 Interim Meet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eptember 15, 1999 - Santa Rosa, 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3110-117D-41AE-B676-7D7F23FFDE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 Prior to 9/13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3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desires to scale performance of SWAP-CA to expand capabilities and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FCC letter in the Fall ‘98 requesting Part 15.247 waiver or rule change to permit wider channels with reduced power and dwe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waver opposition, FCC issued Part 15 NP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issued letter opposing this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verlapped channels cause “increased interfer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Faster hopping “represents a more severe interference thre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The proportional reduction in transmitted RF power will not “effectively offset the impact of wider occupied chann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Changing the 15.247 rules to allow WBFH is not necessary, since there is “already…a standard for high speed wireless networking” that will meet all of HomeRF’s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40AD-3A5F-41E3-9AE4-B11971D1E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.11 9/13 Meeting 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7123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presented and defended paper on 9/13 that addresses these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included Call to Action to re-call IEEE 802 letter based on addressing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 moved the HomeRF Call to Action discussion to 9/15 to permit time to reflect and discuss ne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rference impact papers presented to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mments and papers to FCC NPRM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ction a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need to review new interferenc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call from IEEE EMC (Electro Magnetic Compatibility)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038B-07AC-4697-8F4F-7268E14A5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986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send in a letter of support for the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igned with IEEE 802 goals of supporting regulations that permit greatest selection of best technology to meet specific market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oes not impact the performance of existing Part 15 compliant products over current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 US consumers to benefit from new wireless devices that are currently allowed in most other countries but not in the U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remai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individual companies comment on ru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quest IEEE’s EMC committee to review NPRM interference impact papers and publish a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to engage appropriate IEEE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C committee members are interested in doing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C378-9799-4695-99EE-60F7F33AF6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en Manny, HomeRF Chair</dc:creator>
  <dc:description/>
  <dc:language>en-US</dc:language>
  <cp:lastModifiedBy>Tim Godfrey</cp:lastModifiedBy>
  <cp:lastPrinted>1998-09-11T21:46:02Z</cp:lastPrinted>
  <dcterms:modified xsi:type="dcterms:W3CDTF">1999-09-15T00:32:25Z</dcterms:modified>
  <cp:revision>335</cp:revision>
  <dc:subject/>
  <dc:title>Wideband FH NPRM Motions</dc:title>
</cp:coreProperties>
</file>