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D34F8-8207-4EAB-9F78-18ACDEA8FF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53024-AC56-464D-A01D-789E927A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1B25D-C664-4854-B305-57A384F6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B245C-C953-491C-BD12-6870A852A5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58948-8990-410F-A3BE-EB0FABD5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86DAB-0068-4FEB-8A3B-AB2F7169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6E399-B85E-453A-98A4-A01EC7DB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8E873-6892-42CC-A264-C52BF7DE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52FAA-FDCE-4C4C-BE1C-F07FC20F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12B9A-80DD-4AAE-B9D1-A07C4B10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B8F2E-2EA9-493C-9DC4-1A2E40AA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F1AF4-3056-4CA9-B6E9-474863E6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27FBB64-D3BE-4E45-9F02-466F8AD84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2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94000" y="6446880"/>
            <a:ext cx="599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638680" y="6477120"/>
            <a:ext cx="292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b O’Hara, Chairman, Task Group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Tbaum@ee.rochester.edu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Group 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 13-17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ta Rosa, 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881C0-A62C-43E2-AD17-F0156934B39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 of Frequency Ho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9/195, “Algorithmically Derived Hop Sequences”, Darwin Engwer, Johnny Zwe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baum@ee.rochester.ed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dward Titleba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 of Direct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9/191, “Universal DS Channelization”, Bob O’H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DA147-52D7-4EC0-8675-F22E9D89FB6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ussion of International Mo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d a set of parameters that can describe the channel allocation for FH, DS, HRDS, and OFDM PH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d a new information element to carry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element, or extensions to this element will be necessary for support of hop sequence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911D8-064D-4212-A51B-109BC415414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nel Allocation E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ory identifier (2 octe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etime (1 octe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sub-elements (1 oct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ub-element cont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channel center (2 oct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nel spacing (1 oct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channels (2 oct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pied bandwidth per channel (1 oct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transmitted power allowed (2 oct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68C63-39D6-441C-93C6-0FDA5513C58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fe default operation until a channel allocation element is received (1 mW Tx pow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BSS operation is in safe default mode until a channel allocation element is he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SS adopts channel allocation element heard from any(?) AP or other IBSS(?), lifetime is derivitive from original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IBSS allow user to set regulatory inform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ppens if conflicting information is received in different channel allocation eleme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3E28E-3B85-4E78-B51A-66E238C3A1F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ldwide 5GHz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ed by Richard Paine, Boe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C 2000 does not have 5GHz on the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ty to get 5GHz on the WRC 2002 agenda is during 6 weeks immediately after WRC 2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 to have 802.11 send a letter to SG8 and/or W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14750-7E63-445A-AC04-CE58F6095A3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have 802.11 send a letter to the US delegation of ITU SG8 and/or WRC suppporting the global allocation of the 5GHz band for unlicensed 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ed unanim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45547-A711-4D35-AF39-48DC7125CD0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15:47:32Z</dcterms:created>
  <dc:creator>Bob O'Hara</dc:creator>
  <dc:description/>
  <cp:keywords>September 1999</cp:keywords>
  <dc:language>en-US</dc:language>
  <cp:lastModifiedBy>Bob O'Hara</cp:lastModifiedBy>
  <cp:lastPrinted>1998-02-10T13:28:06Z</cp:lastPrinted>
  <dcterms:modified xsi:type="dcterms:W3CDTF">1999-09-15T22:51:31Z</dcterms:modified>
  <cp:revision>18</cp:revision>
  <dc:subject>doc.: IEEE 802.11-99/212</dc:subject>
  <dc:title>Report from Task Group d</dc:title>
</cp:coreProperties>
</file>