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5A2E-FBEF-497A-8269-22878A3F25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72CA-1760-43FF-BB57-1E14F74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1A27-A188-4E0C-836A-82B4663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0DB3-5B77-4362-AADF-A7ED20EAEB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563B-A07B-4271-A325-27802FC0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0641-E2F0-4FE0-A599-18767DC5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597B-D6C4-4898-AF5E-7D1712E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D9C4-DAC7-4585-B6BE-C51473D0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C1B5-871F-4E2A-B128-6483ED74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DC7F-E4E4-424F-B371-622127BA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80CD-69F3-4E7A-9F8D-51AF0D00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B618-40D3-4E79-9404-3D09F0A5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09529A-27D4-4DD2-9087-B73395B30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6880" y="64468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6477120"/>
            <a:ext cx="292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Chairman, Task Group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Tbaum@ee.rochester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3-1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C901-4E96-47B6-9CE1-1E828953B8E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July meeting, document 99/1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A674-D985-4F19-B263-822E179FAE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195, “Algorithmically Derived Hop Sequences”, Darwin Engwer, Johnny Zwe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baum@ee.rochester.e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dward Titleba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xxx, “Algorithmic Determination of Hop Sequences”, Dean Kaw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191, “Universal DS Channelization”,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of MAC and MA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xxx, “Support for International Mobility”, Naftali Chayat, Dean Kaw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163B-DCC3-49B6-A1B0-8AFCF65DA6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FCF3-E089-447D-85EB-39399FAE87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5:47:32Z</dcterms:created>
  <dc:creator>Bob O'Hara</dc:creator>
  <dc:description/>
  <dc:language>en-US</dc:language>
  <cp:lastModifiedBy>Bob O'Hara</cp:lastModifiedBy>
  <cp:lastPrinted>1998-02-10T13:28:06Z</cp:lastPrinted>
  <dcterms:modified xsi:type="dcterms:W3CDTF">1999-09-15T22:53:17Z</dcterms:modified>
  <cp:revision>8</cp:revision>
  <dc:subject/>
  <dc:title>Agenda for Task Group d</dc:title>
</cp:coreProperties>
</file>