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A40-130C-411A-AC2B-B680E4B8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427-B55D-4FB9-9DA0-265AC6A6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9BD-9F63-4EF1-9F8C-F9735D8E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941-7755-45D6-888E-54086431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B34-478C-44A4-A0F0-7B5C412B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133-74CA-438F-8F2E-2E27D8F1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46B-9843-4B94-A7DF-A821EE77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CE2-FE4E-4CDD-AEE9-C89B2940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A72-1B62-4552-AB75-72513D28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FA0-CC11-4A1F-8099-5A39C51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116-9A3C-4D39-95AF-1C0216C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381-6E22-4F21-998E-F6837AC6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1CBD2E-F285-4005-BD30-0AACB89DF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ing 802.11 With Q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ory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4EA-0830-47B2-A7AD-E819CCC2F5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ly more complicated design, howe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scheduling makes it easier to meet certain service require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integrate legacy devices, because they already adhere to PCF ru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owerful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CCA-82CD-4D66-BADC-AF1D6F196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C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upstream scheduling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Queue state of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a set of services and specify a mechanism for negotiating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balance between flexibility and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complexity in Access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25C-992B-4145-9A96-21556A51E9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want to enhance 802.1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with modern LAN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performance of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/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751-4058-45F4-9988-9E2FB8F1B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? –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ing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981-554E-4C4E-BB79-69009B5AF9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drop straight into the fundamental discu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AF6-5859-426D-80A3-5B9FEDC710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the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akes wireless diffe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want to achie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echnology is available and feasi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feasible for a wireless L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want to adapt the applications as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l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461-9C30-4C40-B1DB-4651B2A45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akes wireless differ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mediu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andwid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uarante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s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2E2-0E35-4F5A-B4EA-1708F8411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we want to achie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n’t want to achieve hard – real-time guarant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ea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pplications don’t requir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maintain wireless’ unique quality: mo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bandwidth reservation may not be desi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52A-2659-4113-A309-EBAF7A3F13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real-tim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with playbac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ing video/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delivery: bitrate, loss-rate (retry and fragmentation strateg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975-90BC-4CFC-9174-64D74CD251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backoff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imp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new contention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ajor modification of the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with both approaches it is difficult to integrate legacy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935-A391-4C38-9138-6BAB8A16BF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9:45:34Z</dcterms:created>
  <dc:creator>Maarten Hoeben</dc:creator>
  <dc:description/>
  <dc:language>en-US</dc:language>
  <cp:lastModifiedBy>Maarten Hoeben</cp:lastModifiedBy>
  <dcterms:modified xsi:type="dcterms:W3CDTF">1999-09-14T15:16:27Z</dcterms:modified>
  <cp:revision>13</cp:revision>
  <dc:subject/>
  <dc:title>Enhancing 802.11 With QoS</dc:title>
</cp:coreProperties>
</file>