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731C-5016-41AB-963D-68F22DBB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C50-4100-4E2F-8693-558E5F13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A3B-318F-41FC-BD82-F62DA3F1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9C6-1818-4052-8214-373467EA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83A-7FA8-4811-AD01-D0DB2148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140-0E80-4FA8-B87D-43CBE14C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55C-A839-4C32-94EF-3BFFFD48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F91-6782-4AFA-AAA6-55349D31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14D-DA8B-4A1D-B237-002B7DDD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E91-6D0E-4BA9-9995-7E13087D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E06-C61A-4AA6-B162-F19E5650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DAA-B78B-4252-AE28-E10C7FBF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0871E3-9BB3-4AEC-BDDE-3046F61D4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14600" y="396000"/>
            <a:ext cx="594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73r0 {802.11-99/224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of IEEE 802.11 WLANs in Presence of Bluetooth Ra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im Zy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zyren@harri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 4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081080" y="1619280"/>
          <a:ext cx="696276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619280"/>
                    <a:ext cx="69627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746720" y="5484960"/>
            <a:ext cx="602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 r = 4m, only one BT piconet is close enough to cause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10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76400" y="1604880"/>
          <a:ext cx="6972120" cy="36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1604880"/>
                    <a:ext cx="697212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746360" y="5408640"/>
            <a:ext cx="61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10 m, 2 piconets are close enough to interfere with DSSS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 20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062000" y="1600200"/>
          <a:ext cx="7000920" cy="36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600200"/>
                    <a:ext cx="70009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976680" y="5408640"/>
            <a:ext cx="7201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20 m, 13 piconets are close enough to interfere with DSSS reception.  IE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02.11 Hi Rate WLAN can still provide peak THROUGHPUT (7.2 Mbps) with 7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ertainty, and 3.5 Mbps THROUGHPUT with over 99% 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Effect Over 8 Hou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066680" y="1595520"/>
          <a:ext cx="6991560" cy="36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95520"/>
                    <a:ext cx="699156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1205640" y="5408640"/>
            <a:ext cx="672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verage Effect over 8 hour working day is shown as a function of range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SSS node to DSSS A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BT/DSS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BT interference depends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propagatio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y of BT pico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piconet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 susceptibility to BT interference increases as a function of range from DSSS node to DSSS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 Hi Rate systems retain high throughput and have graceful degradation in the presence of 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se user models, DSSS Hi Rate WLANs are very reliable in the presence of significant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preliminary.  Must be verified by lab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1 FHSS vs.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between single BT transmitter and an IEEE 802.11 FHS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dBm BT Tx power, +20 dBm IEEE 802.11 tx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estimated under specific BT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idle (establish baseline IEEE 802.11 through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telephony w/HV3 packet (33% BT piconet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file transfer w/DH1 packet (100% BT piconet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in PAGE mode (worst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ce of Range and receiver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ing determines bandwidth of susceptibility to BT interference (about 3 MHz for IEEE 802.11 FHSS R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x Desense Values (2FS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89040" y="1981080"/>
          <a:ext cx="7745400" cy="36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81080"/>
                    <a:ext cx="774540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2427840" y="5697360"/>
            <a:ext cx="4714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 Vales stated in terms of interference-to-sign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 Interim values.  To be finalized within 18 mos. after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luence of Range (1 M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2880" y="3197160"/>
            <a:ext cx="787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-to-Interference Ratio depend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elative BT and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BT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approximately 50% closer to node than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99200" y="1546200"/>
            <a:ext cx="7877520" cy="1671120"/>
            <a:chOff x="799200" y="1546200"/>
            <a:chExt cx="7877520" cy="1671120"/>
          </a:xfrm>
        </p:grpSpPr>
        <p:sp>
          <p:nvSpPr>
            <p:cNvPr id="369" name=""/>
            <p:cNvSpPr/>
            <p:nvPr/>
          </p:nvSpPr>
          <p:spPr>
            <a:xfrm flipV="1">
              <a:off x="1974960" y="2439720"/>
              <a:ext cx="5844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285920" y="2406600"/>
              <a:ext cx="619200" cy="479520"/>
              <a:chOff x="1285920" y="2406600"/>
              <a:chExt cx="619200" cy="479520"/>
            </a:xfrm>
          </p:grpSpPr>
          <p:sp>
            <p:nvSpPr>
              <p:cNvPr id="371" name=""/>
              <p:cNvSpPr/>
              <p:nvPr/>
            </p:nvSpPr>
            <p:spPr>
              <a:xfrm>
                <a:off x="1285920" y="2517840"/>
                <a:ext cx="4446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736640" y="243504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1752480" y="280800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292400" y="24177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41440" y="24066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00080" y="242244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894800" y="1784520"/>
              <a:ext cx="395280" cy="666720"/>
              <a:chOff x="7894800" y="1784520"/>
              <a:chExt cx="395280" cy="666720"/>
            </a:xfrm>
          </p:grpSpPr>
          <p:sp>
            <p:nvSpPr>
              <p:cNvPr id="378" name=""/>
              <p:cNvSpPr/>
              <p:nvPr/>
            </p:nvSpPr>
            <p:spPr>
              <a:xfrm>
                <a:off x="7894800" y="2174760"/>
                <a:ext cx="395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8109000" y="187920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64360" y="178452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799200" y="2881440"/>
              <a:ext cx="145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88720" y="254808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84320" y="253224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4422600" y="1562040"/>
              <a:ext cx="395640" cy="666720"/>
              <a:chOff x="4422600" y="1562040"/>
              <a:chExt cx="395640" cy="666720"/>
            </a:xfrm>
          </p:grpSpPr>
          <p:sp>
            <p:nvSpPr>
              <p:cNvPr id="385" name=""/>
              <p:cNvSpPr/>
              <p:nvPr/>
            </p:nvSpPr>
            <p:spPr>
              <a:xfrm>
                <a:off x="4422600" y="1952640"/>
                <a:ext cx="39564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4637160" y="1657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592520" y="1562040"/>
                <a:ext cx="8892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736800" y="154620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11840" y="211788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0200" y="1782720"/>
              <a:ext cx="25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863640" y="1913040"/>
              <a:ext cx="409680" cy="768240"/>
              <a:chOff x="863640" y="1913040"/>
              <a:chExt cx="409680" cy="76824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863640" y="1913040"/>
                <a:ext cx="409680" cy="271440"/>
                <a:chOff x="863640" y="1913040"/>
                <a:chExt cx="409680" cy="2714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863640" y="1946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1049040" y="1928880"/>
                  <a:ext cx="20484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63640" y="1913040"/>
                  <a:ext cx="40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1033560" y="215280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put of WLAN Operating  @ 1Mbps (2FSK) vs BT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081080" y="1819440"/>
          <a:ext cx="696276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819440"/>
                    <a:ext cx="6962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2730600" y="554688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2FSK = 1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fluence of Range (2 Mb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0240" y="4097160"/>
            <a:ext cx="79862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within roughly same distance to node as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11360" y="1647720"/>
            <a:ext cx="7812720" cy="2041560"/>
            <a:chOff x="711360" y="1647720"/>
            <a:chExt cx="7812720" cy="2041560"/>
          </a:xfrm>
        </p:grpSpPr>
        <p:sp>
          <p:nvSpPr>
            <p:cNvPr id="404" name=""/>
            <p:cNvSpPr/>
            <p:nvPr/>
          </p:nvSpPr>
          <p:spPr>
            <a:xfrm flipV="1">
              <a:off x="1822320" y="2592000"/>
              <a:ext cx="58453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1133640" y="2576520"/>
              <a:ext cx="618840" cy="479520"/>
              <a:chOff x="1133640" y="2576520"/>
              <a:chExt cx="618840" cy="47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1133640" y="2687760"/>
                <a:ext cx="4442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1584360" y="26049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600200" y="297792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139760" y="2587680"/>
                <a:ext cx="15264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89160" y="257652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47800" y="25923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742160" y="1936800"/>
              <a:ext cx="395280" cy="666720"/>
              <a:chOff x="7742160" y="1936800"/>
              <a:chExt cx="395280" cy="666720"/>
            </a:xfrm>
          </p:grpSpPr>
          <p:sp>
            <p:nvSpPr>
              <p:cNvPr id="413" name=""/>
              <p:cNvSpPr/>
              <p:nvPr/>
            </p:nvSpPr>
            <p:spPr>
              <a:xfrm>
                <a:off x="7742160" y="2327400"/>
                <a:ext cx="395280" cy="27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956720" y="203148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12080" y="193680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924480" y="3110040"/>
              <a:ext cx="1361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cces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36080" y="270036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32040" y="268452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1328760" y="1697040"/>
              <a:ext cx="395280" cy="666720"/>
              <a:chOff x="1328760" y="1697040"/>
              <a:chExt cx="395280" cy="666720"/>
            </a:xfrm>
          </p:grpSpPr>
          <p:sp>
            <p:nvSpPr>
              <p:cNvPr id="420" name=""/>
              <p:cNvSpPr/>
              <p:nvPr/>
            </p:nvSpPr>
            <p:spPr>
              <a:xfrm>
                <a:off x="1328760" y="2087640"/>
                <a:ext cx="39528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542960" y="1792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98680" y="169704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679400" y="16477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833480" y="2270160"/>
              <a:ext cx="58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3000" y="1935000"/>
              <a:ext cx="241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11360" y="2065320"/>
              <a:ext cx="409320" cy="768240"/>
              <a:chOff x="711360" y="2065320"/>
              <a:chExt cx="409320" cy="7682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711360" y="2065320"/>
                <a:ext cx="409320" cy="271440"/>
                <a:chOff x="711360" y="2065320"/>
                <a:chExt cx="409320" cy="271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11360" y="2098800"/>
                  <a:ext cx="20448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>
                  <a:off x="896400" y="2081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11360" y="2065320"/>
                  <a:ext cx="40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80920" y="230508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ditions for Coll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collision is reduced by using a narrower occupied channel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collision is reduced by minimizing transmit time (ie transmit at higher data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cient Interferenc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erence energy can be reduc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hter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put of WLAN Operating  @ 2 Mbps (4FSK) vs BT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092240" y="1712880"/>
          <a:ext cx="6972120" cy="36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712880"/>
                    <a:ext cx="69721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2806560" y="547056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4FSK = 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FHSS/BT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channel width of FHSS systems help avoid interference in frequency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ied channel for FHSS is about 1 MHz under current FCC rules (same width for 2FSK and 4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 transmission rate requires longer transmi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chances BT will hop into channel during transmission and collide (advantage for 4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 FSK more susceptible to ACI/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FSK transmission can be jammed by a weaker BT signal (advantage 2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HSS and DSSS Power Spectral Den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77520" y="1574640"/>
            <a:ext cx="7507800" cy="1803600"/>
            <a:chOff x="677520" y="1574640"/>
            <a:chExt cx="7507800" cy="1803600"/>
          </a:xfrm>
        </p:grpSpPr>
        <p:sp>
          <p:nvSpPr>
            <p:cNvPr id="51" name=""/>
            <p:cNvSpPr/>
            <p:nvPr/>
          </p:nvSpPr>
          <p:spPr>
            <a:xfrm>
              <a:off x="717480" y="2565360"/>
              <a:ext cx="746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7088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77520" y="2808360"/>
              <a:ext cx="91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00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934000" y="1843200"/>
              <a:ext cx="153000" cy="1409400"/>
              <a:chOff x="2934000" y="1843200"/>
              <a:chExt cx="153000" cy="1409400"/>
            </a:xfrm>
          </p:grpSpPr>
          <p:sp>
            <p:nvSpPr>
              <p:cNvPr id="55" name=""/>
              <p:cNvSpPr/>
              <p:nvPr/>
            </p:nvSpPr>
            <p:spPr>
              <a:xfrm>
                <a:off x="2935440" y="18432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934000" y="1843200"/>
                <a:ext cx="15192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85300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376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080680" y="1855800"/>
              <a:ext cx="152640" cy="1409400"/>
              <a:chOff x="5080680" y="1855800"/>
              <a:chExt cx="152640" cy="1409400"/>
            </a:xfrm>
          </p:grpSpPr>
          <p:sp>
            <p:nvSpPr>
              <p:cNvPr id="60" name=""/>
              <p:cNvSpPr/>
              <p:nvPr/>
            </p:nvSpPr>
            <p:spPr>
              <a:xfrm>
                <a:off x="5081760" y="18558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80680" y="18558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999320" y="158760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375640" y="1843200"/>
              <a:ext cx="153000" cy="1409400"/>
              <a:chOff x="2375640" y="1843200"/>
              <a:chExt cx="153000" cy="1409400"/>
            </a:xfrm>
          </p:grpSpPr>
          <p:sp>
            <p:nvSpPr>
              <p:cNvPr id="64" name=""/>
              <p:cNvSpPr/>
              <p:nvPr/>
            </p:nvSpPr>
            <p:spPr>
              <a:xfrm>
                <a:off x="2376360" y="1843200"/>
                <a:ext cx="15228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375640" y="18432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29428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8560" y="3011400"/>
              <a:ext cx="370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HSS Networks are Frequency Ag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76240" y="2820960"/>
              <a:ext cx="1001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835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359360" y="4573440"/>
            <a:ext cx="1931040" cy="489240"/>
            <a:chOff x="1359360" y="4573440"/>
            <a:chExt cx="1931040" cy="489240"/>
          </a:xfrm>
        </p:grpSpPr>
        <p:sp>
          <p:nvSpPr>
            <p:cNvPr id="70" name=""/>
            <p:cNvSpPr/>
            <p:nvPr/>
          </p:nvSpPr>
          <p:spPr>
            <a:xfrm>
              <a:off x="136044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936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17480" y="485136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7088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7520" y="509436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376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39920" y="5297400"/>
            <a:ext cx="617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SSS Networks typically use 3 fixed non-overla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76240" y="5106960"/>
            <a:ext cx="10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835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493080" y="4573440"/>
            <a:ext cx="1931040" cy="489240"/>
            <a:chOff x="3493080" y="4573440"/>
            <a:chExt cx="1931040" cy="489240"/>
          </a:xfrm>
        </p:grpSpPr>
        <p:sp>
          <p:nvSpPr>
            <p:cNvPr id="79" name=""/>
            <p:cNvSpPr/>
            <p:nvPr/>
          </p:nvSpPr>
          <p:spPr>
            <a:xfrm>
              <a:off x="349416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308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26440" y="4573440"/>
            <a:ext cx="1931760" cy="489240"/>
            <a:chOff x="5626440" y="4573440"/>
            <a:chExt cx="1931760" cy="489240"/>
          </a:xfrm>
        </p:grpSpPr>
        <p:sp>
          <p:nvSpPr>
            <p:cNvPr id="82" name=""/>
            <p:cNvSpPr/>
            <p:nvPr/>
          </p:nvSpPr>
          <p:spPr>
            <a:xfrm>
              <a:off x="5627520" y="4573440"/>
              <a:ext cx="19306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2644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SSS vs.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study of impact of Bluetooth on IEEE 802.11 DSS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1 DSSS WLAN @ 1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 environment of BT pico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SSS WLAN node per 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ffic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 piconet co-located with each DSSS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dBm BT tx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0 dBm DSSS tx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erprise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44520" y="1666800"/>
            <a:ext cx="2197080" cy="2564280"/>
            <a:chOff x="1244520" y="1666800"/>
            <a:chExt cx="2197080" cy="2564280"/>
          </a:xfrm>
        </p:grpSpPr>
        <p:grpSp>
          <p:nvGrpSpPr>
            <p:cNvPr id="88" name=""/>
            <p:cNvGrpSpPr/>
            <p:nvPr/>
          </p:nvGrpSpPr>
          <p:grpSpPr>
            <a:xfrm>
              <a:off x="1244520" y="3986280"/>
              <a:ext cx="2190960" cy="244800"/>
              <a:chOff x="1244520" y="3986280"/>
              <a:chExt cx="2190960" cy="244800"/>
            </a:xfrm>
          </p:grpSpPr>
          <p:sp>
            <p:nvSpPr>
              <p:cNvPr id="89" name=""/>
              <p:cNvSpPr/>
              <p:nvPr/>
            </p:nvSpPr>
            <p:spPr>
              <a:xfrm>
                <a:off x="1257480" y="4095720"/>
                <a:ext cx="88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95520" y="4089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99160" y="3986280"/>
                <a:ext cx="465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44520" y="400068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435480" y="40068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254240" y="1666800"/>
              <a:ext cx="2187360" cy="2219400"/>
              <a:chOff x="1254240" y="1666800"/>
              <a:chExt cx="2187360" cy="2219400"/>
            </a:xfrm>
          </p:grpSpPr>
          <p:sp>
            <p:nvSpPr>
              <p:cNvPr id="95" name=""/>
              <p:cNvSpPr/>
              <p:nvPr/>
            </p:nvSpPr>
            <p:spPr>
              <a:xfrm>
                <a:off x="1254240" y="1666800"/>
                <a:ext cx="2187360" cy="2181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8120" y="2016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89080" y="1736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78080" y="248616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89320" y="2987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19280" y="345132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085840" y="2454120"/>
                <a:ext cx="533520" cy="625680"/>
                <a:chOff x="2085840" y="2454120"/>
                <a:chExt cx="533520" cy="6256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2085840" y="2593800"/>
                  <a:ext cx="57240" cy="339840"/>
                  <a:chOff x="2085840" y="2593800"/>
                  <a:chExt cx="57240" cy="33984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2085840" y="259380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89080" y="288936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>
                  <a:off x="2336760" y="245412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30280" y="303516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2562120" y="2587680"/>
                  <a:ext cx="57240" cy="339840"/>
                  <a:chOff x="2562120" y="2587680"/>
                  <a:chExt cx="57240" cy="3398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562120" y="258768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565360" y="288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2273400" y="2679840"/>
                  <a:ext cx="164880" cy="126720"/>
                </a:xfrm>
                <a:prstGeom prst="cube">
                  <a:avLst>
                    <a:gd name="adj" fmla="val 24995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340000" y="1730520"/>
                <a:ext cx="600120" cy="682560"/>
                <a:chOff x="2340000" y="1730520"/>
                <a:chExt cx="600120" cy="68256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2340000" y="1730520"/>
                  <a:ext cx="533520" cy="625320"/>
                  <a:chOff x="2340000" y="1730520"/>
                  <a:chExt cx="533520" cy="625320"/>
                </a:xfrm>
              </p:grpSpPr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2340000" y="1870200"/>
                    <a:ext cx="57240" cy="339480"/>
                    <a:chOff x="2340000" y="1870200"/>
                    <a:chExt cx="57240" cy="33948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2340000" y="18702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2343240" y="21654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" name=""/>
                  <p:cNvSpPr/>
                  <p:nvPr/>
                </p:nvSpPr>
                <p:spPr>
                  <a:xfrm>
                    <a:off x="2590920" y="17305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2581200" y="2016000"/>
                    <a:ext cx="57240" cy="339840"/>
                    <a:chOff x="2581200" y="2016000"/>
                    <a:chExt cx="57240" cy="33984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2581200" y="20160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2584440" y="23115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2816280" y="1863720"/>
                    <a:ext cx="57240" cy="339840"/>
                    <a:chOff x="2816280" y="1863720"/>
                    <a:chExt cx="57240" cy="33984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816280" y="18637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2819520" y="2158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3" name=""/>
                <p:cNvSpPr/>
                <p:nvPr/>
              </p:nvSpPr>
              <p:spPr>
                <a:xfrm>
                  <a:off x="2851200" y="18986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63800" y="218448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629080" y="17715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29080" y="205092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29080" y="23493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74920" y="2209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81400" y="1905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609560" y="1870200"/>
                <a:ext cx="600120" cy="682560"/>
                <a:chOff x="1609560" y="1870200"/>
                <a:chExt cx="600120" cy="68256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1609560" y="1870200"/>
                  <a:ext cx="533520" cy="625320"/>
                  <a:chOff x="1609560" y="1870200"/>
                  <a:chExt cx="533520" cy="62532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1609560" y="2009880"/>
                    <a:ext cx="57240" cy="339480"/>
                    <a:chOff x="1609560" y="2009880"/>
                    <a:chExt cx="57240" cy="33948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609560" y="20098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12800" y="23050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"/>
                  <p:cNvSpPr/>
                  <p:nvPr/>
                </p:nvSpPr>
                <p:spPr>
                  <a:xfrm>
                    <a:off x="1860480" y="187020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1851120" y="2155680"/>
                    <a:ext cx="56880" cy="339840"/>
                    <a:chOff x="1851120" y="2155680"/>
                    <a:chExt cx="56880" cy="33984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851120" y="215568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854360" y="2451240"/>
                      <a:ext cx="5364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2085840" y="2003400"/>
                    <a:ext cx="57240" cy="339840"/>
                    <a:chOff x="2085840" y="2003400"/>
                    <a:chExt cx="57240" cy="3398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85840" y="20034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89080" y="2298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2" name=""/>
                <p:cNvSpPr/>
                <p:nvPr/>
              </p:nvSpPr>
              <p:spPr>
                <a:xfrm>
                  <a:off x="2120760" y="20383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33720" y="232416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98640" y="19112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98640" y="21906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89864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44480" y="23493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650960" y="20448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368360" y="2612880"/>
                <a:ext cx="600120" cy="682920"/>
                <a:chOff x="1368360" y="2612880"/>
                <a:chExt cx="600120" cy="68292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1368360" y="2612880"/>
                  <a:ext cx="533520" cy="625680"/>
                  <a:chOff x="1368360" y="2612880"/>
                  <a:chExt cx="533520" cy="62568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1368360" y="2752560"/>
                    <a:ext cx="57240" cy="339840"/>
                    <a:chOff x="1368360" y="2752560"/>
                    <a:chExt cx="57240" cy="33984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1368360" y="27525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371600" y="30481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" name=""/>
                  <p:cNvSpPr/>
                  <p:nvPr/>
                </p:nvSpPr>
                <p:spPr>
                  <a:xfrm>
                    <a:off x="1619280" y="261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1609560" y="2898720"/>
                    <a:ext cx="57240" cy="339840"/>
                    <a:chOff x="1609560" y="2898720"/>
                    <a:chExt cx="57240" cy="33984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1609560" y="28987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1612800" y="3193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1844640" y="2746440"/>
                    <a:ext cx="57240" cy="339840"/>
                    <a:chOff x="1844640" y="2746440"/>
                    <a:chExt cx="57240" cy="33984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844640" y="27464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1847880" y="30416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1" name=""/>
                <p:cNvSpPr/>
                <p:nvPr/>
              </p:nvSpPr>
              <p:spPr>
                <a:xfrm>
                  <a:off x="1879560" y="27813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892160" y="30672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657440" y="26542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57440" y="293364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5744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403280" y="30924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409760" y="27874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568600" y="3057480"/>
                <a:ext cx="600120" cy="682560"/>
                <a:chOff x="2568600" y="3057480"/>
                <a:chExt cx="600120" cy="68256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2568600" y="3057480"/>
                  <a:ext cx="533520" cy="625680"/>
                  <a:chOff x="2568600" y="3057480"/>
                  <a:chExt cx="533520" cy="62568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2568600" y="3197160"/>
                    <a:ext cx="57240" cy="339840"/>
                    <a:chOff x="2568600" y="3197160"/>
                    <a:chExt cx="57240" cy="33984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2568600" y="31971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2571840" y="34923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3" name=""/>
                  <p:cNvSpPr/>
                  <p:nvPr/>
                </p:nvSpPr>
                <p:spPr>
                  <a:xfrm>
                    <a:off x="2819520" y="30574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809800" y="3343320"/>
                    <a:ext cx="57240" cy="339840"/>
                    <a:chOff x="2809800" y="3343320"/>
                    <a:chExt cx="57240" cy="3398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80980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81304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3044880" y="3191040"/>
                    <a:ext cx="57240" cy="339480"/>
                    <a:chOff x="3044880" y="3191040"/>
                    <a:chExt cx="57240" cy="33948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3044880" y="31910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3048120" y="34862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0" name=""/>
                <p:cNvSpPr/>
                <p:nvPr/>
              </p:nvSpPr>
              <p:spPr>
                <a:xfrm>
                  <a:off x="3079800" y="32259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092400" y="35114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857680" y="30988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857680" y="337824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57680" y="3676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603520" y="35370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61000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857240" y="3203640"/>
                <a:ext cx="600120" cy="682560"/>
                <a:chOff x="1857240" y="3203640"/>
                <a:chExt cx="600120" cy="68256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1857240" y="3203640"/>
                  <a:ext cx="533520" cy="625320"/>
                  <a:chOff x="1857240" y="3203640"/>
                  <a:chExt cx="533520" cy="625320"/>
                </a:xfrm>
              </p:grpSpPr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1857240" y="3343320"/>
                    <a:ext cx="57240" cy="339840"/>
                    <a:chOff x="1857240" y="3343320"/>
                    <a:chExt cx="57240" cy="33984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185724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186048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" name=""/>
                  <p:cNvSpPr/>
                  <p:nvPr/>
                </p:nvSpPr>
                <p:spPr>
                  <a:xfrm>
                    <a:off x="2108160" y="320364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2098800" y="3489480"/>
                    <a:ext cx="56880" cy="339480"/>
                    <a:chOff x="2098800" y="3489480"/>
                    <a:chExt cx="56880" cy="33948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2098800" y="34894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2101680" y="3784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2333520" y="3336840"/>
                    <a:ext cx="57240" cy="339840"/>
                    <a:chOff x="2333520" y="3336840"/>
                    <a:chExt cx="57240" cy="33984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2333520" y="33368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336760" y="36320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" name=""/>
                <p:cNvSpPr/>
                <p:nvPr/>
              </p:nvSpPr>
              <p:spPr>
                <a:xfrm>
                  <a:off x="2368440" y="33717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81400" y="365760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146320" y="3244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146320" y="35244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146320" y="38228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92160" y="36831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8640" y="33782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809800" y="2320920"/>
                <a:ext cx="600120" cy="682560"/>
                <a:chOff x="2809800" y="2320920"/>
                <a:chExt cx="600120" cy="6825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2809800" y="2320920"/>
                  <a:ext cx="533520" cy="625320"/>
                  <a:chOff x="2809800" y="2320920"/>
                  <a:chExt cx="533520" cy="625320"/>
                </a:xfrm>
              </p:grpSpPr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2809800" y="2460600"/>
                    <a:ext cx="57240" cy="339840"/>
                    <a:chOff x="2809800" y="2460600"/>
                    <a:chExt cx="57240" cy="33984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2809800" y="2460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2813040" y="27558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1" name=""/>
                  <p:cNvSpPr/>
                  <p:nvPr/>
                </p:nvSpPr>
                <p:spPr>
                  <a:xfrm>
                    <a:off x="3060720" y="23209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3051000" y="2606760"/>
                    <a:ext cx="57240" cy="339480"/>
                    <a:chOff x="3051000" y="2606760"/>
                    <a:chExt cx="57240" cy="33948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3051000" y="26067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3054240" y="29019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3286080" y="2454120"/>
                    <a:ext cx="57240" cy="339840"/>
                    <a:chOff x="3286080" y="2454120"/>
                    <a:chExt cx="57240" cy="33984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3286080" y="24541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3289320" y="2749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8" name=""/>
                <p:cNvSpPr/>
                <p:nvPr/>
              </p:nvSpPr>
              <p:spPr>
                <a:xfrm>
                  <a:off x="332100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333600" y="27748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098880" y="23623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098880" y="2641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98880" y="2940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844720" y="28004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51200" y="24955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2381400" y="247644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90920" y="263520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7040" y="2927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68440" y="308628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20760" y="293364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27240" y="263520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092400" y="20574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27240" y="1778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40080" y="3029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657440" y="349236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15880" y="25146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1644480" y="4513320"/>
            <a:ext cx="1433160" cy="708120"/>
            <a:chOff x="1644480" y="4513320"/>
            <a:chExt cx="1433160" cy="708120"/>
          </a:xfrm>
        </p:grpSpPr>
        <p:grpSp>
          <p:nvGrpSpPr>
            <p:cNvPr id="237" name=""/>
            <p:cNvGrpSpPr/>
            <p:nvPr/>
          </p:nvGrpSpPr>
          <p:grpSpPr>
            <a:xfrm>
              <a:off x="1644480" y="4513320"/>
              <a:ext cx="1355400" cy="244800"/>
              <a:chOff x="1644480" y="4513320"/>
              <a:chExt cx="1355400" cy="244800"/>
            </a:xfrm>
          </p:grpSpPr>
          <p:sp>
            <p:nvSpPr>
              <p:cNvPr id="238" name=""/>
              <p:cNvSpPr/>
              <p:nvPr/>
            </p:nvSpPr>
            <p:spPr>
              <a:xfrm>
                <a:off x="1644480" y="45594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05120" y="45133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1708200" y="4754520"/>
              <a:ext cx="1369440" cy="244800"/>
              <a:chOff x="1708200" y="4754520"/>
              <a:chExt cx="1369440" cy="244800"/>
            </a:xfrm>
          </p:grpSpPr>
          <p:sp>
            <p:nvSpPr>
              <p:cNvPr id="241" name=""/>
              <p:cNvSpPr/>
              <p:nvPr/>
            </p:nvSpPr>
            <p:spPr>
              <a:xfrm>
                <a:off x="1708200" y="4848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05120" y="47545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682640" y="4976640"/>
              <a:ext cx="1014840" cy="244800"/>
              <a:chOff x="1682640" y="4976640"/>
              <a:chExt cx="1014840" cy="244800"/>
            </a:xfrm>
          </p:grpSpPr>
          <p:sp>
            <p:nvSpPr>
              <p:cNvPr id="244" name=""/>
              <p:cNvSpPr/>
              <p:nvPr/>
            </p:nvSpPr>
            <p:spPr>
              <a:xfrm>
                <a:off x="1682640" y="50734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895040" y="49766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"/>
          <p:cNvSpPr/>
          <p:nvPr/>
        </p:nvSpPr>
        <p:spPr>
          <a:xfrm>
            <a:off x="1197000" y="5462640"/>
            <a:ext cx="219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site BT/DS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39600" y="2536920"/>
            <a:ext cx="37404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.O.S.  ,  rang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,  range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20 log (4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         r &l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58.5 + 33 log( r/8 )      r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wavelength @ 2.45 GHz (0.1224 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=  rang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13800" y="5462640"/>
            <a:ext cx="24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mplified 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f BT Interference Depends on Range from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03240" y="4632480"/>
          <a:ext cx="7315200" cy="126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4632480"/>
                    <a:ext cx="73152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2" name=""/>
          <p:cNvGrpSpPr/>
          <p:nvPr/>
        </p:nvGrpSpPr>
        <p:grpSpPr>
          <a:xfrm>
            <a:off x="2286000" y="2470320"/>
            <a:ext cx="2330280" cy="1225440"/>
            <a:chOff x="2286000" y="2470320"/>
            <a:chExt cx="2330280" cy="1225440"/>
          </a:xfrm>
        </p:grpSpPr>
        <p:sp>
          <p:nvSpPr>
            <p:cNvPr id="253" name=""/>
            <p:cNvSpPr/>
            <p:nvPr/>
          </p:nvSpPr>
          <p:spPr>
            <a:xfrm>
              <a:off x="2800440" y="2962440"/>
              <a:ext cx="54000" cy="44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3600" y="2908440"/>
              <a:ext cx="164880" cy="1267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16080" y="279396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9040" y="3079800"/>
              <a:ext cx="7596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93960" y="26668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93960" y="32446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40160" y="3105000"/>
              <a:ext cx="7596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46280" y="280044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680" y="25210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44720" y="29782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831760" y="2978280"/>
              <a:ext cx="10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0" y="2470320"/>
              <a:ext cx="1073160" cy="104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1640" y="252720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176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194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52760" y="33973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54240" y="33847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8720" y="278928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127400" y="2622600"/>
              <a:ext cx="203400" cy="203040"/>
              <a:chOff x="4127400" y="2622600"/>
              <a:chExt cx="203400" cy="203040"/>
            </a:xfrm>
          </p:grpSpPr>
          <p:sp>
            <p:nvSpPr>
              <p:cNvPr id="272" name=""/>
              <p:cNvSpPr/>
              <p:nvPr/>
            </p:nvSpPr>
            <p:spPr>
              <a:xfrm>
                <a:off x="4165560" y="2670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16320" y="2711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27400" y="2622600"/>
                <a:ext cx="203400" cy="203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241880" y="3321000"/>
              <a:ext cx="374400" cy="374760"/>
              <a:chOff x="4241880" y="3321000"/>
              <a:chExt cx="374400" cy="374760"/>
            </a:xfrm>
          </p:grpSpPr>
          <p:sp>
            <p:nvSpPr>
              <p:cNvPr id="276" name=""/>
              <p:cNvSpPr/>
              <p:nvPr/>
            </p:nvSpPr>
            <p:spPr>
              <a:xfrm>
                <a:off x="4425840" y="3375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24320" y="3517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95680" y="3409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1880" y="3321000"/>
                <a:ext cx="374400" cy="37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>
              <a:off x="3987720" y="2698920"/>
              <a:ext cx="21600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0680" y="3022560"/>
              <a:ext cx="4060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86480" y="2681280"/>
              <a:ext cx="361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0200" y="316404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530680" y="2913120"/>
            <a:ext cx="1433160" cy="708120"/>
            <a:chOff x="5530680" y="2913120"/>
            <a:chExt cx="1433160" cy="708120"/>
          </a:xfrm>
        </p:grpSpPr>
        <p:grpSp>
          <p:nvGrpSpPr>
            <p:cNvPr id="285" name=""/>
            <p:cNvGrpSpPr/>
            <p:nvPr/>
          </p:nvGrpSpPr>
          <p:grpSpPr>
            <a:xfrm>
              <a:off x="5530680" y="2913120"/>
              <a:ext cx="1355400" cy="244800"/>
              <a:chOff x="5530680" y="2913120"/>
              <a:chExt cx="1355400" cy="244800"/>
            </a:xfrm>
          </p:grpSpPr>
          <p:sp>
            <p:nvSpPr>
              <p:cNvPr id="286" name=""/>
              <p:cNvSpPr/>
              <p:nvPr/>
            </p:nvSpPr>
            <p:spPr>
              <a:xfrm>
                <a:off x="5530680" y="29592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91320" y="29131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594400" y="3154320"/>
              <a:ext cx="1369440" cy="244800"/>
              <a:chOff x="5594400" y="3154320"/>
              <a:chExt cx="1369440" cy="244800"/>
            </a:xfrm>
          </p:grpSpPr>
          <p:sp>
            <p:nvSpPr>
              <p:cNvPr id="289" name=""/>
              <p:cNvSpPr/>
              <p:nvPr/>
            </p:nvSpPr>
            <p:spPr>
              <a:xfrm>
                <a:off x="5594400" y="32479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91320" y="31543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568840" y="3376440"/>
              <a:ext cx="1014840" cy="244800"/>
              <a:chOff x="5568840" y="3376440"/>
              <a:chExt cx="1014840" cy="244800"/>
            </a:xfrm>
          </p:grpSpPr>
          <p:sp>
            <p:nvSpPr>
              <p:cNvPr id="292" name=""/>
              <p:cNvSpPr/>
              <p:nvPr/>
            </p:nvSpPr>
            <p:spPr>
              <a:xfrm>
                <a:off x="5568840" y="34732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81240" y="33764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T Piconet Us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863640" y="1371600"/>
          <a:ext cx="7367400" cy="103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71600"/>
                    <a:ext cx="73674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1062000" y="2666880"/>
          <a:ext cx="7000920" cy="32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0" y="2666880"/>
                    <a:ext cx="70009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112200" y="2284560"/>
            <a:ext cx="263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Single Piconet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0200" y="6018120"/>
            <a:ext cx="201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Composite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fer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934920" y="1805040"/>
            <a:ext cx="7205760" cy="3630600"/>
            <a:chOff x="934920" y="1805040"/>
            <a:chExt cx="7205760" cy="3630600"/>
          </a:xfrm>
        </p:grpSpPr>
        <p:sp>
          <p:nvSpPr>
            <p:cNvPr id="303" name=""/>
            <p:cNvSpPr/>
            <p:nvPr/>
          </p:nvSpPr>
          <p:spPr>
            <a:xfrm>
              <a:off x="934920" y="3463920"/>
              <a:ext cx="7140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0052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022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198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31000" y="2490840"/>
              <a:ext cx="7491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82560" y="2490840"/>
              <a:ext cx="7509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968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59228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90052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43240" y="210996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24440" y="3630600"/>
              <a:ext cx="162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94 dwell peri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9960" y="180504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37320" y="180504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24800" y="180504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14680" y="196056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05120" y="191916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70040" y="194004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98760" y="189864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0" y="0"/>
                  </a:moveTo>
                  <a:lnTo>
                    <a:pt x="51" y="26"/>
                  </a:lnTo>
                  <a:lnTo>
                    <a:pt x="60" y="52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8840" y="229860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51080" y="2257560"/>
              <a:ext cx="9684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75040" y="2320920"/>
              <a:ext cx="21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03400" y="227952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60" y="0"/>
                  </a:moveTo>
                  <a:lnTo>
                    <a:pt x="51" y="26"/>
                  </a:lnTo>
                  <a:lnTo>
                    <a:pt x="60" y="51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0920" y="218592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27920" y="218592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15400" y="218592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77760" y="543564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24120" y="4654440"/>
              <a:ext cx="2463840" cy="77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7536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73520" y="37720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68760" y="37720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90720" y="1811160"/>
              <a:ext cx="168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T Transmission sl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46440" y="2070000"/>
              <a:ext cx="255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56280" y="2057400"/>
              <a:ext cx="57132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7440" y="4059360"/>
              <a:ext cx="2379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0 byte DSSS Hi Rate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210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914720" y="4203720"/>
              <a:ext cx="67284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uput of DSSS WLAN vs. Picone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09520" y="1571760"/>
          <a:ext cx="6905880" cy="35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571760"/>
                    <a:ext cx="690588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512720" y="5332320"/>
            <a:ext cx="622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ffects shown are for a single BT Piconet operating in close proxim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IEEE 802.11 DSSS WLA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7:09Z</dcterms:created>
  <dc:creator>Jim Zyren</dc:creator>
  <dc:description>073r0</dc:description>
  <dc:language>en-US</dc:language>
  <cp:lastModifiedBy>Tim Godfrey</cp:lastModifiedBy>
  <cp:lastPrinted>1998-02-10T13:28:06Z</cp:lastPrinted>
  <dcterms:modified xsi:type="dcterms:W3CDTF">1999-09-15T03:05:42Z</dcterms:modified>
  <cp:revision>4</cp:revision>
  <dc:subject>IEEE 802.15 Tutorial</dc:subject>
  <dc:title>Reliability of IEEE 802.11 WLANs in Presence of Bluetooth Radios</dc:title>
</cp:coreProperties>
</file>