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668-50B6-489B-AD85-B20E6C27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320-4138-421D-BC9D-32A2B885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C71-2764-43A7-BE9D-A092BB31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B0E-AFD6-48FD-9CBB-956852E8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F7C-83C6-48D9-B88F-F56CAAD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73A-AFBA-41BB-9D69-451DF1A4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94E-72B8-4930-97FD-432A6E1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F8A-D44E-49B4-A85B-2987BC56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E4B-631B-48EF-93FB-6E1DDBCC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379-62A5-4C3D-87FE-F2672E53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236-AFEB-4634-B4A3-7F6A4DA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DA1-467E-492D-9578-FD9E2DF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52E516-EF83-478E-B54D-8995BE421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F86-CA68-4CA1-9024-80EF9DB429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balancing is import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stations enhances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 provisions for load balanc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ads to proprietary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solutions prevent interope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for the industry and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884-1ED6-41FE-96C6-8AC6577C79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ad balancing information to the Beac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of the Access Po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of neighbor Access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1BA-E145-4480-895D-D181E3A83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broader sens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will invent new (proprietary) features that require extensions to the Beac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es conformanc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02E-992B-4C21-A697-639E85FEFB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of the Beacon (based on elements) allows for ext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 an element that vendors can use to accommodate their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E2D-1074-4F0F-B290-D6B887200B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9:45:34Z</dcterms:created>
  <dc:creator>Maarten Hoeben</dc:creator>
  <dc:description/>
  <dc:language>en-US</dc:language>
  <cp:lastModifiedBy>Maarten Hoeben</cp:lastModifiedBy>
  <dcterms:modified xsi:type="dcterms:W3CDTF">1999-09-15T08:31:00Z</dcterms:modified>
  <cp:revision>16</cp:revision>
  <dc:subject/>
  <dc:title>Enhancing 802.11 With QoS</dc:title>
</cp:coreProperties>
</file>