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0665-68D3-4DE1-9491-F66B89D0C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84760" y="-324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868212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68212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3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2FB-41E0-466E-B5EA-F53B796E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A9C-B91B-4E0A-ACE5-D11E4B4D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418-1620-48B2-9311-FA630218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20D-E9C7-4332-8B8D-C922910A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01B-E4F8-40BD-B55E-A90AEAD4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1CE-01A7-4414-B36A-035C4543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E36-9662-46A2-B128-B12581E2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7E2-3FE3-44A3-92C4-70D4317D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269-E784-4CC7-91E4-7EE5F3FD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A74-EDAE-465B-9295-CAC9FB5B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ADF-3709-41A8-B02A-9FCBD232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57A-C67F-460D-99A4-B502B36F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6C25-4E7E-429D-AA2E-BDF0115BE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8B28-6FE7-42A8-AE71-93BF070FE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19720" y="1066680"/>
            <a:ext cx="403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63040" y="828720"/>
            <a:ext cx="125712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ntom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70600" y="981000"/>
            <a:ext cx="384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s &amp; Computing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3429000" y="5562720"/>
            <a:ext cx="2496960" cy="5364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8DE8-2AAE-46B6-AFC6-A10A8B6F9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6240" y="39600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233120" y="64753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E74D48D-B054-4D52-A2CF-A3EC92DAA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16240" y="6010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280" y="1858680"/>
            <a:ext cx="79398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rement for &gt; 40 bit W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1981080" cy="111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87624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00800" y="5181480"/>
            <a:ext cx="809640" cy="1257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924680" y="49528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562720" y="2971800"/>
            <a:ext cx="1085760" cy="117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1390680" cy="1028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80880" y="4495680"/>
            <a:ext cx="288612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05320" y="228600"/>
            <a:ext cx="563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ed for &gt;40 bit W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600200"/>
            <a:ext cx="76201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bit encryption can now be broken in less than a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5 bit just broken with major comput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requiring &gt;40 bit encryption cannot just pay for higher bit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- include several other options in addition to 40 bit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5:56:27Z</dcterms:created>
  <dc:creator>Mathematics &amp; Computing Technology</dc:creator>
  <dc:description/>
  <dc:language>en-US</dc:language>
  <cp:lastModifiedBy>Mathematics &amp; Computing Technology</cp:lastModifiedBy>
  <dcterms:modified xsi:type="dcterms:W3CDTF">1999-09-14T16:33:46Z</dcterms:modified>
  <cp:revision>2</cp:revision>
  <dc:subject/>
  <dc:title>No Slide Title</dc:title>
</cp:coreProperties>
</file>