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CAD-DDB1-4E1D-BA69-F9E9CF80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2EF-BD4E-4632-A381-62A0EEA1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B47-7322-4C04-A89A-DFB5504C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DB8-5FF0-4468-9B08-397E2E3A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61-BA05-43D7-B5BD-5284FA7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6F5-CAEA-458A-B058-84FD0DB2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FC6-1798-4424-822B-C4DAD68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97B-6C15-4FC3-A4E1-70BAB3B3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8CB-51D7-41C1-8443-23C2DFD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51C-E963-4371-8621-183575B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F97-F424-4608-B2AF-2CDFE822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E4E-9626-4512-BD32-C5C5DDF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4A19BA-E7CB-466E-8554-6E821975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396000"/>
            <a:ext cx="617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0r0 {802.11-99/221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ACD-C9D6-4F22-81FE-D92416DFF7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254-AF99-4FEA-B6FE-84EC6CC926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54E-9CDA-4D19-8A35-5F2E415ED2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3A7-107F-4D3C-A23D-EE3BAEC710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443-4900-47B0-847B-B3261A5B38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42C-A1CE-49BE-9FEC-C1E681ABFD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9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11B-5A9B-4470-9992-BA7A1A07BD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2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3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3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5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7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7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19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0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175-8A44-40FC-9D32-5879B72FB9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C84-A16C-435A-8D01-3770730441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933-3F76-4C38-BC64-D3963A87BA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6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6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7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171-012C-4F4C-8E8E-88F2D4B624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Tim Godfrey</cp:lastModifiedBy>
  <cp:lastPrinted>1998-02-10T13:28:06Z</cp:lastPrinted>
  <dcterms:modified xsi:type="dcterms:W3CDTF">1999-09-15T02:56:45Z</dcterms:modified>
  <cp:revision>3</cp:revision>
  <dc:subject>IEEE 802.15 Tutorial</dc:subject>
  <dc:title>Nokia Hardware Overview</dc:title>
</cp:coreProperties>
</file>