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A1C-9284-4C11-BC7F-67AAC6A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4AB-319D-42DD-9B80-B4F5CB99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4CC-0504-4EEB-AC7F-9FE47FDA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564-3A6A-43FD-8EF3-7E447F0D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E3E-6245-46F0-AAC0-42FE410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1BD-AEF5-410A-9BE3-C8D69B4D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1A1-E054-4B41-A9A1-799ED94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822-10D8-454F-904E-782A29B1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154-C954-4A8C-A6DC-F7A7384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34F-B172-4178-8428-F5006AA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88A-FA8D-4BED-84B0-5B8D946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E02-9CA3-4426-8671-328B9ADC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816BED-7B87-4920-8601-C49EF1F8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69r0{802.11-99/22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C7D-FC33-46B3-95D5-B310FDE8B08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C0-376F-44EA-9256-1BA25F88CF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91-91F0-4563-951D-D405B40595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210-5B47-4380-8330-D04AF5C4A0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37D-D19A-4F8A-B803-03BEABCE6E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12D-6660-47B0-86F7-C13DC82E5A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5D6-D172-41D6-91C6-96AE92980D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468-DF11-4D00-9E33-5A653B0F81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11B-BAA9-4C24-9819-22DD1721A9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407-1491-4533-9DC9-76CA4BEA0C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C60-3583-4996-BD6F-AEE0487F04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956-949F-4C51-BDBC-2AABF7B097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748-1333-4301-9F01-20A2221E26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C93-C1BC-45CF-BDA4-45AF26213F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6F3-3938-4D6B-98CC-9D97C02AB7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7A1-9778-4D75-831A-6E571BFAAB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C0-37CB-4B9D-B009-EF5C33FA21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9FF-743B-4EA0-A183-786725F1F6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6C9-7108-40C3-8D92-4051C65B9F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DEB-D99C-4F15-BD20-76CCD20284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6A1-8DCD-4005-8DFC-3CC57A56AF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45C-D4C0-4664-BBEF-9B43D61D0B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10A-5062-49BB-A6E2-332CC9499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72D-2463-44F0-AB96-7FD04C8FAE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803-4B66-417E-90CD-F5AEAD1B93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6D6-6800-4CEC-83D7-663428109C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F1-6425-4FB9-A08C-4868E86289A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4D0-06C0-47C4-AD06-06722BD41C4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5FA-300B-42DD-8664-5760D529C2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86D-3300-4D63-875D-C882A1946D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476-3D8A-420B-9701-318080E2F8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0F9-453D-484D-B008-26D68695F7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466-A0AB-4654-B96E-D5AE361E784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97B-85D2-4ABA-8207-FD8CB6D830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E62-CFB5-435F-9941-F8EB4229957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883-D3AC-4CC3-A65A-9F3FBFB991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9F9-A354-4EEA-B62B-F722481CE9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8E5-C432-4C79-A5E2-93A7224844D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057-9DC5-42E9-B339-E0F39470FC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34A-F96B-441A-B0B3-E412B1A4EC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9D1-0309-40A6-83BB-349DFBC753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A31-90C8-4BB8-ACFC-EBE056FF45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590-D8E3-49F0-8AD3-ACC7DF4F76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9DF-A44D-4A8C-B5C9-416FA1742F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71B-8543-4B82-9994-422E34A8A0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710-95A8-4AB3-85AA-4068BC16CB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Tim Godfrey</cp:lastModifiedBy>
  <cp:lastPrinted>1998-02-10T13:28:06Z</cp:lastPrinted>
  <dcterms:modified xsi:type="dcterms:W3CDTF">1999-09-15T02:54:59Z</dcterms:modified>
  <cp:revision>5</cp:revision>
  <dc:subject>Bluetooth Architecture Overview</dc:subject>
  <dc:title>Overview of the Bluetooth System</dc:title>
</cp:coreProperties>
</file>